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811-2367-49E1-831B-89267907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E0C-D3CD-41A4-862A-DB1649B6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ABB-97C2-4EBA-8D9E-4EDE3BF8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301-1F7F-43F9-98E8-E93D5F09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FBC-EAEC-42FE-97CC-94D8EDB3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AA1-F5E2-48B6-B145-6CB413B7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C17-5E1E-4FDA-A333-07BD0F57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F4C-3665-4DCD-B55E-C5829717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8BB-79ED-40A7-B772-D46BD4CD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7E0-7EBB-4471-9ACA-2B986A10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D6D-9036-4EFC-9B62-4BB7D03E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7C4-0EDF-4268-A236-9CDE698B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1C3E-1307-41D6-86A0-51EF20C128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Times New Roman"/>
              </a:rPr>
              <a:t>他得的红圈圈最多</a:t>
            </a:r>
            <a:endParaRPr b="0" lang="en-US" sz="7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63680" y="595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54f41"/>
                </a:solidFill>
                <a:latin typeface="Arial"/>
              </a:rPr>
              <a:t>苏教版语文一年级下册第四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353440" cy="511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170028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每次写字邓小平爷爷都能按先生的要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所以他得的红圈圈最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353440" cy="511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620640"/>
            <a:ext cx="498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母亲知道小平学习这样用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心里很高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177336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</a:rPr>
              <a:t>　想　一　想</a:t>
            </a:r>
            <a:br>
              <a:rPr sz="6000"/>
            </a:b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3860280"/>
            <a:ext cx="86612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</a:rPr>
              <a:t>为什么邓小平得到了表扬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184176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973440" y="274320"/>
            <a:ext cx="9659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Times New Roman"/>
              </a:rPr>
              <a:t>知　识　链　接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邓小平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　伟大的马克思主义者，无产阶级革命家、政治家、军事家、外交家，中国共产党、中国人民解放军、中华人民共和国的主要领导人之一，中国社会主义改革开放和现代化建设的总设计师，邓小平理论的创立者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四川广安人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生。原名邓先圣，学名邓希贤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入学，高小毕业后考入广安县中学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1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秋考入重庆勤工俭学留法预备学校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夏赴法国勤工俭学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2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参加中国社会主义青年团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转为中国共产党党员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2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初到苏联学习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43280" y="2421000"/>
            <a:ext cx="331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561960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2413080" y="0"/>
            <a:ext cx="12182400" cy="913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54f41"/>
                </a:solidFill>
                <a:latin typeface="Times New Roman"/>
              </a:rPr>
              <a:t>邓小平　 经常 　 受到　 当时　   功课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54f41"/>
                </a:solidFill>
                <a:latin typeface="Times New Roman"/>
              </a:rPr>
              <a:t>描字帖　用纸　  蒙着 　 这样　　练熟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54f4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54f41"/>
                </a:solidFill>
                <a:latin typeface="Times New Roman"/>
              </a:rPr>
              <a:t>照着  　按照　  要求　　红圈　　最多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27280" y="404640"/>
            <a:ext cx="3095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认一认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353440" cy="504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192840" y="692280"/>
            <a:ext cx="79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邓小平爷爷小时侯就能写一手好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经常受到先生的夸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353440" cy="619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3256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31040" y="1413000"/>
            <a:ext cx="24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当时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写毛笔字是小学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主要功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22560" y="400536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先生要孩子们先用纸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着字帖描，等练熟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再照着字帖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353440" cy="511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0" y="1413000"/>
            <a:ext cx="21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写得好的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先生就在上面画个红圈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7:20:39Z</dcterms:created>
  <dc:creator>萝卜家园</dc:creator>
  <dc:description/>
  <dc:language>en-US</dc:language>
  <cp:lastModifiedBy>zhangwei</cp:lastModifiedBy>
  <dcterms:modified xsi:type="dcterms:W3CDTF">2011-12-22T06:04:43Z</dcterms:modified>
  <cp:revision>5</cp:revision>
  <dc:subject/>
  <dc:title>他得的红圈圈最多</dc:title>
</cp:coreProperties>
</file>