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jpeg" ContentType="image/jpeg"/>
  <Override PartName="/ppt/media/image5.png" ContentType="image/png"/>
  <Override PartName="/ppt/media/image13.wmf" ContentType="image/x-wmf"/>
  <Override PartName="/ppt/media/image4.png" ContentType="image/png"/>
  <Override PartName="/ppt/media/image12.wmf" ContentType="image/x-wmf"/>
  <Override PartName="/ppt/media/image23.png" ContentType="image/png"/>
  <Override PartName="/ppt/media/image21.png" ContentType="image/pn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22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3.png" ContentType="image/pn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7C3-CADE-4242-ADBD-5BC25E70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B3C-137A-412D-B420-A5367918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3A7-8601-4604-8604-A294A2D9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BF4-6FB9-46CC-9FF3-C8591442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76C-774F-4481-89D2-D57F48C7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9C9-5C0A-465F-8E82-40EF4FB8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9B5-6504-4318-82C8-9FBB4993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CB6-3F0F-4080-AE3D-60DBC00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EFA-DDAB-4398-AD71-32935F8C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89A-96DD-4475-A531-96B7E4ED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E1F-2670-41EE-9566-C29322D9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92F-C8C6-4344-8DCD-E298FCC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757D-C243-4F11-A019-988B34CF5961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5"/>
          <p:cNvGraphicFramePr/>
          <p:nvPr/>
        </p:nvGraphicFramePr>
        <p:xfrm>
          <a:off x="2050920" y="1801800"/>
          <a:ext cx="7093080" cy="50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801800"/>
                    <a:ext cx="70930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6"/>
          <p:cNvSpPr/>
          <p:nvPr/>
        </p:nvSpPr>
        <p:spPr>
          <a:xfrm>
            <a:off x="1476360" y="83664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宋体"/>
                <a:ea typeface="宋体"/>
              </a:rPr>
              <a:t>《</a:t>
            </a:r>
            <a:r>
              <a:rPr b="1" lang="zh-CN" sz="5400" spc="-1" strike="noStrike">
                <a:solidFill>
                  <a:srgbClr val="ffff00"/>
                </a:solidFill>
                <a:latin typeface="宋体"/>
                <a:ea typeface="宋体"/>
              </a:rPr>
              <a:t>他得的红圈圈最多</a:t>
            </a:r>
            <a:r>
              <a:rPr b="1" lang="en-US" sz="5400" spc="-1" strike="noStrike">
                <a:solidFill>
                  <a:srgbClr val="ffff00"/>
                </a:solidFill>
                <a:latin typeface="宋体"/>
                <a:ea typeface="宋体"/>
              </a:rPr>
              <a:t>》</a:t>
            </a:r>
            <a:endParaRPr b="1" lang="en-US" sz="5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79280" y="33336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苏教版一年级语文下册第四单元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2179800" y="1557360"/>
            <a:ext cx="2867040" cy="1008000"/>
            <a:chOff x="2179800" y="1557360"/>
            <a:chExt cx="2867040" cy="1008000"/>
          </a:xfrm>
        </p:grpSpPr>
        <p:sp>
          <p:nvSpPr>
            <p:cNvPr id="130" name="Rectangle 3"/>
            <p:cNvSpPr/>
            <p:nvPr/>
          </p:nvSpPr>
          <p:spPr>
            <a:xfrm>
              <a:off x="2179800" y="17726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你能读好吗？ 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pic>
          <p:nvPicPr>
            <p:cNvPr id="131" name="Picture 4" descr="06"/>
            <p:cNvPicPr/>
            <p:nvPr/>
          </p:nvPicPr>
          <p:blipFill>
            <a:blip r:embed="rId3"/>
            <a:stretch/>
          </p:blipFill>
          <p:spPr>
            <a:xfrm>
              <a:off x="4211640" y="1557360"/>
              <a:ext cx="835200" cy="100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Rectangle 5"/>
          <p:cNvSpPr/>
          <p:nvPr/>
        </p:nvSpPr>
        <p:spPr>
          <a:xfrm>
            <a:off x="1763640" y="2662920"/>
            <a:ext cx="6121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先生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</a:rPr>
              <a:t>/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要孩子们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/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先用纸 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/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蒙着字帖描，等练熟了，再照着字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</a:rPr>
              <a:t>/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帖写。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4076640"/>
            <a:ext cx="61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每次写字，邓小平爷爷 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/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都能 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/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按先生的要求 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/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去做，所以，他得的红圈圈 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/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最多。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2" descr="小学语文(记叙文）03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4"/>
          <p:cNvSpPr/>
          <p:nvPr/>
        </p:nvSpPr>
        <p:spPr>
          <a:xfrm>
            <a:off x="1619280" y="2133720"/>
            <a:ext cx="6913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邓小平爷爷小时候就能写（     ）好字，（     ）受到先生的（     ）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1663560" y="170028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口头填空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7" name="Rectangle 35"/>
          <p:cNvSpPr/>
          <p:nvPr/>
        </p:nvSpPr>
        <p:spPr>
          <a:xfrm>
            <a:off x="6786720" y="218592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一手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284328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经常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9" name="Rectangle 37"/>
          <p:cNvSpPr/>
          <p:nvPr/>
        </p:nvSpPr>
        <p:spPr>
          <a:xfrm>
            <a:off x="615636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夸奖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40" name="Picture 38" descr="课文插图（1）"/>
          <p:cNvPicPr/>
          <p:nvPr/>
        </p:nvPicPr>
        <p:blipFill>
          <a:blip r:embed="rId3"/>
          <a:stretch/>
        </p:blipFill>
        <p:spPr>
          <a:xfrm>
            <a:off x="2714760" y="3500280"/>
            <a:ext cx="33717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27" descr="小学语文(记叙文）03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40"/>
          <p:cNvSpPr/>
          <p:nvPr/>
        </p:nvSpPr>
        <p:spPr>
          <a:xfrm>
            <a:off x="1116000" y="1643040"/>
            <a:ext cx="2895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想一想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43" name="Picture 1041" descr="animal03"/>
          <p:cNvPicPr/>
          <p:nvPr/>
        </p:nvPicPr>
        <p:blipFill>
          <a:blip r:embed="rId3"/>
          <a:stretch/>
        </p:blipFill>
        <p:spPr>
          <a:xfrm>
            <a:off x="6084720" y="4149720"/>
            <a:ext cx="158616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043"/>
          <p:cNvSpPr/>
          <p:nvPr/>
        </p:nvSpPr>
        <p:spPr>
          <a:xfrm>
            <a:off x="1835280" y="3072960"/>
            <a:ext cx="5903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Times New Roman"/>
              </a:rPr>
              <a:t>邓小平爷爷小时候能写一手好字，是天生的吗？为什么？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116000" y="1628640"/>
            <a:ext cx="7128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轻声朗读第二自然段，一边读一边思考：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116000" y="3156120"/>
            <a:ext cx="7050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每次写字，邓小平爷爷都能按先生的要求去做，所以，他得的红圈圈最多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08000" y="2565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哪句话写邓小平爷爷小时候认真练字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908000" y="478152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从哪些词语可以看出他练字认真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059280" y="5373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每次   都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679840" y="1955880"/>
            <a:ext cx="2684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11600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找一找，课文里先生的要求是什么？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116000" y="256536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先生要孩子们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先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用纸蒙着字贴描，等练熟了，再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照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着字贴写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55" name="Picture 7" descr="17"/>
          <p:cNvPicPr/>
          <p:nvPr/>
        </p:nvPicPr>
        <p:blipFill>
          <a:blip r:embed="rId3"/>
          <a:stretch/>
        </p:blipFill>
        <p:spPr>
          <a:xfrm>
            <a:off x="5292720" y="3860640"/>
            <a:ext cx="170496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1835280" y="18320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他按照先生的要求去做，这样做的结果如何呢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58" name="Picture 5" descr="课文插图（2）"/>
          <p:cNvPicPr/>
          <p:nvPr/>
        </p:nvPicPr>
        <p:blipFill>
          <a:blip r:embed="rId3"/>
          <a:srcRect l="0" t="0" r="0" b="14726"/>
          <a:stretch/>
        </p:blipFill>
        <p:spPr>
          <a:xfrm>
            <a:off x="2987640" y="3573360"/>
            <a:ext cx="3456000" cy="16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teacher01"/>
          <p:cNvPicPr/>
          <p:nvPr/>
        </p:nvPicPr>
        <p:blipFill>
          <a:blip r:embed="rId3">
            <a:lum bright="-2000"/>
          </a:blip>
          <a:stretch/>
        </p:blipFill>
        <p:spPr>
          <a:xfrm>
            <a:off x="6643800" y="928800"/>
            <a:ext cx="2071440" cy="55245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8"/>
          <p:cNvGrpSpPr/>
          <p:nvPr/>
        </p:nvGrpSpPr>
        <p:grpSpPr>
          <a:xfrm>
            <a:off x="1662120" y="1399320"/>
            <a:ext cx="4819320" cy="2992320"/>
            <a:chOff x="1662120" y="1399320"/>
            <a:chExt cx="4819320" cy="2992320"/>
          </a:xfrm>
        </p:grpSpPr>
        <p:sp>
          <p:nvSpPr>
            <p:cNvPr id="162" name="AutoShape 6"/>
            <p:cNvSpPr/>
            <p:nvPr/>
          </p:nvSpPr>
          <p:spPr>
            <a:xfrm rot="378600">
              <a:off x="1785960" y="1642680"/>
              <a:ext cx="4571640" cy="2504880"/>
            </a:xfrm>
            <a:prstGeom prst="cloudCallout">
              <a:avLst>
                <a:gd name="adj1" fmla="val 73083"/>
                <a:gd name="adj2" fmla="val 47476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2008800" y="2111760"/>
              <a:ext cx="38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楷体_GB2312"/>
                </a:rPr>
                <a:t>    </a:t>
              </a: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你能背诵这篇课文吗？赶快试一试吧！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2" descr="小学语文(记叙文）01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7" descr="r05"/>
          <p:cNvPicPr/>
          <p:nvPr/>
        </p:nvPicPr>
        <p:blipFill>
          <a:blip r:embed="rId3"/>
          <a:stretch/>
        </p:blipFill>
        <p:spPr>
          <a:xfrm>
            <a:off x="2556000" y="2852640"/>
            <a:ext cx="2127240" cy="35528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52"/>
          <p:cNvGrpSpPr/>
          <p:nvPr/>
        </p:nvGrpSpPr>
        <p:grpSpPr>
          <a:xfrm>
            <a:off x="4622760" y="1396800"/>
            <a:ext cx="3211560" cy="2192760"/>
            <a:chOff x="4622760" y="1396800"/>
            <a:chExt cx="3211560" cy="2192760"/>
          </a:xfrm>
        </p:grpSpPr>
        <p:sp>
          <p:nvSpPr>
            <p:cNvPr id="49" name="AutoShape 49"/>
            <p:cNvSpPr/>
            <p:nvPr/>
          </p:nvSpPr>
          <p:spPr>
            <a:xfrm rot="378600">
              <a:off x="4716000" y="1557000"/>
              <a:ext cx="3024360" cy="1871640"/>
            </a:xfrm>
            <a:prstGeom prst="cloudCallout">
              <a:avLst>
                <a:gd name="adj1" fmla="val -36254"/>
                <a:gd name="adj2" fmla="val 7590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0" name="Text Box 51"/>
            <p:cNvSpPr/>
            <p:nvPr/>
          </p:nvSpPr>
          <p:spPr>
            <a:xfrm>
              <a:off x="4937040" y="1698480"/>
              <a:ext cx="2665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楷体_GB2312"/>
                </a:rPr>
                <a:t>   </a:t>
              </a: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看到这个题目，你们想提出什么问题？ 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邓小平"/>
          <p:cNvPicPr/>
          <p:nvPr/>
        </p:nvPicPr>
        <p:blipFill>
          <a:blip r:embed="rId3"/>
          <a:stretch/>
        </p:blipFill>
        <p:spPr>
          <a:xfrm>
            <a:off x="1042920" y="1844640"/>
            <a:ext cx="431964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5724360" y="2133720"/>
            <a:ext cx="288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è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ng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邓小平，伟大的无产阶级革命家，我国改革开放的总设计师。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2484360" y="5516640"/>
            <a:ext cx="190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邓小平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327480" y="1412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Times New Roman"/>
              </a:rPr>
              <a:t>邓小平爷爷南巡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8" name="Picture 7" descr="邓小平南巡"/>
          <p:cNvPicPr/>
          <p:nvPr/>
        </p:nvPicPr>
        <p:blipFill>
          <a:blip r:embed="rId3"/>
          <a:stretch/>
        </p:blipFill>
        <p:spPr>
          <a:xfrm>
            <a:off x="1908000" y="1989000"/>
            <a:ext cx="5618160" cy="42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589360" y="2276640"/>
            <a:ext cx="10335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邓小平爷爷带头植树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1" name="Picture 6" descr="邓小平带头植树"/>
          <p:cNvPicPr/>
          <p:nvPr/>
        </p:nvPicPr>
        <p:blipFill>
          <a:blip r:embed="rId3"/>
          <a:stretch/>
        </p:blipFill>
        <p:spPr>
          <a:xfrm>
            <a:off x="2077920" y="1614600"/>
            <a:ext cx="3646440" cy="45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小学语文(记叙文）02"/>
          <p:cNvPicPr/>
          <p:nvPr/>
        </p:nvPicPr>
        <p:blipFill>
          <a:blip r:embed="rId2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1"/>
          <p:cNvSpPr/>
          <p:nvPr/>
        </p:nvSpPr>
        <p:spPr>
          <a:xfrm>
            <a:off x="1476360" y="2349360"/>
            <a:ext cx="59054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听课文朗读，用横线划出你认为不好认不好写的字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</a:rPr>
              <a:t>.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020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7362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图片1"/>
          <p:cNvPicPr/>
          <p:nvPr/>
        </p:nvPicPr>
        <p:blipFill>
          <a:blip r:embed="rId3"/>
          <a:stretch/>
        </p:blipFill>
        <p:spPr>
          <a:xfrm>
            <a:off x="179280" y="836640"/>
            <a:ext cx="2532240" cy="159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图片11"/>
          <p:cNvPicPr/>
          <p:nvPr/>
        </p:nvPicPr>
        <p:blipFill>
          <a:blip r:embed="rId4"/>
          <a:stretch/>
        </p:blipFill>
        <p:spPr>
          <a:xfrm>
            <a:off x="250920" y="3341520"/>
            <a:ext cx="1725480" cy="151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图片11"/>
          <p:cNvPicPr/>
          <p:nvPr/>
        </p:nvPicPr>
        <p:blipFill>
          <a:blip r:embed="rId5"/>
          <a:stretch/>
        </p:blipFill>
        <p:spPr>
          <a:xfrm>
            <a:off x="1982880" y="334332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图片11"/>
          <p:cNvPicPr/>
          <p:nvPr/>
        </p:nvPicPr>
        <p:blipFill>
          <a:blip r:embed="rId6"/>
          <a:stretch/>
        </p:blipFill>
        <p:spPr>
          <a:xfrm>
            <a:off x="3710160" y="334332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图片11"/>
          <p:cNvPicPr/>
          <p:nvPr/>
        </p:nvPicPr>
        <p:blipFill>
          <a:blip r:embed="rId7"/>
          <a:stretch/>
        </p:blipFill>
        <p:spPr>
          <a:xfrm>
            <a:off x="5438880" y="334332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图片11"/>
          <p:cNvPicPr/>
          <p:nvPr/>
        </p:nvPicPr>
        <p:blipFill>
          <a:blip r:embed="rId8"/>
          <a:stretch/>
        </p:blipFill>
        <p:spPr>
          <a:xfrm>
            <a:off x="7167600" y="3341520"/>
            <a:ext cx="1725480" cy="1511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250920" y="2622600"/>
            <a:ext cx="1728720" cy="718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d</a:t>
            </a:r>
            <a:r>
              <a:rPr b="0" lang="en-US" sz="4800" spc="-1" strike="noStrike">
                <a:solidFill>
                  <a:srgbClr val="800080"/>
                </a:solidFill>
                <a:latin typeface="宋体"/>
                <a:ea typeface="宋体"/>
              </a:rPr>
              <a:t>è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ng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79640" y="2622600"/>
            <a:ext cx="1728720" cy="718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píng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3708360" y="2622600"/>
            <a:ext cx="1728720" cy="718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d</a:t>
            </a:r>
            <a:r>
              <a:rPr b="1" lang="en-US" sz="4400" spc="-1" strike="noStrike">
                <a:solidFill>
                  <a:srgbClr val="800080"/>
                </a:solidFill>
                <a:latin typeface="宋体"/>
                <a:ea typeface="宋体"/>
              </a:rPr>
              <a:t>à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o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5435640" y="2622600"/>
            <a:ext cx="1728720" cy="718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ku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ā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7164360" y="2622600"/>
            <a:ext cx="1728720" cy="718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d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ā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ng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68360" y="3284640"/>
            <a:ext cx="208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邓</a:t>
            </a:r>
            <a:endParaRPr b="1" lang="en-US" sz="8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246400" y="3284640"/>
            <a:ext cx="153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平</a:t>
            </a:r>
            <a:endParaRPr b="1" lang="en-US" sz="8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3851280" y="3284640"/>
            <a:ext cx="167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到</a:t>
            </a:r>
            <a:endParaRPr b="1" lang="en-US" sz="8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5651640" y="3284640"/>
            <a:ext cx="180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夸</a:t>
            </a:r>
            <a:endParaRPr b="1" lang="en-US" sz="8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380360" y="3284640"/>
            <a:ext cx="1670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当</a:t>
            </a:r>
            <a:endParaRPr b="1" lang="en-US" sz="8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49120" y="5013360"/>
            <a:ext cx="28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姓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)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1979640" y="4971960"/>
            <a:ext cx="28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平时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)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3708360" y="4971960"/>
            <a:ext cx="28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来到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)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5435640" y="4971960"/>
            <a:ext cx="28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夸奖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)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7164360" y="4971960"/>
            <a:ext cx="28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当时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)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图片1"/>
          <p:cNvPicPr/>
          <p:nvPr/>
        </p:nvPicPr>
        <p:blipFill>
          <a:blip r:embed="rId3"/>
          <a:stretch/>
        </p:blipFill>
        <p:spPr>
          <a:xfrm>
            <a:off x="179280" y="836640"/>
            <a:ext cx="2532240" cy="1596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图片11"/>
          <p:cNvPicPr/>
          <p:nvPr/>
        </p:nvPicPr>
        <p:blipFill>
          <a:blip r:embed="rId4"/>
          <a:stretch/>
        </p:blipFill>
        <p:spPr>
          <a:xfrm>
            <a:off x="1128600" y="3359160"/>
            <a:ext cx="1725840" cy="15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图片11"/>
          <p:cNvPicPr/>
          <p:nvPr/>
        </p:nvPicPr>
        <p:blipFill>
          <a:blip r:embed="rId5"/>
          <a:stretch/>
        </p:blipFill>
        <p:spPr>
          <a:xfrm>
            <a:off x="2857680" y="335772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图片11"/>
          <p:cNvPicPr/>
          <p:nvPr/>
        </p:nvPicPr>
        <p:blipFill>
          <a:blip r:embed="rId6"/>
          <a:stretch/>
        </p:blipFill>
        <p:spPr>
          <a:xfrm>
            <a:off x="4584600" y="3359160"/>
            <a:ext cx="1725840" cy="151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图片11"/>
          <p:cNvPicPr/>
          <p:nvPr/>
        </p:nvPicPr>
        <p:blipFill>
          <a:blip r:embed="rId7"/>
          <a:stretch/>
        </p:blipFill>
        <p:spPr>
          <a:xfrm>
            <a:off x="6316560" y="335916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2857680" y="263844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kè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584600" y="263844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qiú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6313320" y="2638440"/>
            <a:ext cx="172908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zhè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1128600" y="2638440"/>
            <a:ext cx="172908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g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ō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  <a:ea typeface="宋体"/>
              </a:rPr>
              <a:t>ng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403280" y="3284640"/>
            <a:ext cx="22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功</a:t>
            </a:r>
            <a:endParaRPr b="1" lang="en-US" sz="8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059280" y="3290760"/>
            <a:ext cx="193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课</a:t>
            </a:r>
            <a:endParaRPr b="1" lang="en-US" sz="8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4805280" y="3284640"/>
            <a:ext cx="163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求</a:t>
            </a:r>
            <a:endParaRPr b="1" lang="en-US" sz="8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6435720" y="3290760"/>
            <a:ext cx="238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这</a:t>
            </a:r>
            <a:endParaRPr b="1" lang="en-US" sz="8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1116000" y="4971960"/>
            <a:ext cx="28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功课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)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2916360" y="4971960"/>
            <a:ext cx="28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课文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)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4643280" y="4971960"/>
            <a:ext cx="28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要求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)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6445080" y="4941720"/>
            <a:ext cx="28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这边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)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>
    <p:comb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图片1"/>
          <p:cNvPicPr/>
          <p:nvPr/>
        </p:nvPicPr>
        <p:blipFill>
          <a:blip r:embed="rId2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图片6"/>
          <p:cNvPicPr/>
          <p:nvPr/>
        </p:nvPicPr>
        <p:blipFill>
          <a:blip r:embed="rId3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2"/>
          <p:cNvGrpSpPr/>
          <p:nvPr/>
        </p:nvGrpSpPr>
        <p:grpSpPr>
          <a:xfrm>
            <a:off x="1116000" y="692280"/>
            <a:ext cx="2952720" cy="1322280"/>
            <a:chOff x="1116000" y="692280"/>
            <a:chExt cx="2952720" cy="1322280"/>
          </a:xfrm>
        </p:grpSpPr>
        <p:pic>
          <p:nvPicPr>
            <p:cNvPr id="108" name="Picture 9" descr="图片5"/>
            <p:cNvPicPr/>
            <p:nvPr/>
          </p:nvPicPr>
          <p:blipFill>
            <a:blip r:embed="rId4"/>
            <a:stretch/>
          </p:blipFill>
          <p:spPr>
            <a:xfrm>
              <a:off x="1116000" y="692280"/>
              <a:ext cx="180000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5"/>
            <p:cNvSpPr/>
            <p:nvPr/>
          </p:nvSpPr>
          <p:spPr>
            <a:xfrm>
              <a:off x="1332000" y="981360"/>
              <a:ext cx="273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经常</a:t>
              </a:r>
              <a:endParaRPr b="1" lang="en-US" sz="4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6084720" y="765000"/>
            <a:ext cx="3527640" cy="1322640"/>
            <a:chOff x="6084720" y="765000"/>
            <a:chExt cx="3527640" cy="1322640"/>
          </a:xfrm>
        </p:grpSpPr>
        <p:pic>
          <p:nvPicPr>
            <p:cNvPr id="111" name="Picture 10" descr="图片5"/>
            <p:cNvPicPr/>
            <p:nvPr/>
          </p:nvPicPr>
          <p:blipFill>
            <a:blip r:embed="rId5"/>
            <a:stretch/>
          </p:blipFill>
          <p:spPr>
            <a:xfrm>
              <a:off x="6084720" y="765000"/>
              <a:ext cx="180036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6"/>
            <p:cNvSpPr/>
            <p:nvPr/>
          </p:nvSpPr>
          <p:spPr>
            <a:xfrm>
              <a:off x="6199200" y="1052640"/>
              <a:ext cx="3413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夸奖</a:t>
              </a:r>
              <a:endParaRPr b="1" lang="en-US" sz="4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grpSp>
        <p:nvGrpSpPr>
          <p:cNvPr id="113" name="Group 21"/>
          <p:cNvGrpSpPr/>
          <p:nvPr/>
        </p:nvGrpSpPr>
        <p:grpSpPr>
          <a:xfrm>
            <a:off x="3274920" y="1557360"/>
            <a:ext cx="4105080" cy="1322280"/>
            <a:chOff x="3274920" y="1557360"/>
            <a:chExt cx="4105080" cy="1322280"/>
          </a:xfrm>
        </p:grpSpPr>
        <p:pic>
          <p:nvPicPr>
            <p:cNvPr id="114" name="Picture 8" descr="图片5"/>
            <p:cNvPicPr/>
            <p:nvPr/>
          </p:nvPicPr>
          <p:blipFill>
            <a:blip r:embed="rId6"/>
            <a:stretch/>
          </p:blipFill>
          <p:spPr>
            <a:xfrm>
              <a:off x="3274920" y="1557360"/>
              <a:ext cx="24494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4"/>
            <p:cNvSpPr/>
            <p:nvPr/>
          </p:nvSpPr>
          <p:spPr>
            <a:xfrm>
              <a:off x="3510000" y="1800000"/>
              <a:ext cx="387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邓小平</a:t>
              </a:r>
              <a:endParaRPr b="1" lang="en-US" sz="4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grpSp>
        <p:nvGrpSpPr>
          <p:cNvPr id="116" name="Group 28"/>
          <p:cNvGrpSpPr/>
          <p:nvPr/>
        </p:nvGrpSpPr>
        <p:grpSpPr>
          <a:xfrm>
            <a:off x="179280" y="2106720"/>
            <a:ext cx="2952720" cy="1322280"/>
            <a:chOff x="179280" y="2106720"/>
            <a:chExt cx="2952720" cy="1322280"/>
          </a:xfrm>
        </p:grpSpPr>
        <p:pic>
          <p:nvPicPr>
            <p:cNvPr id="117" name="Picture 11" descr="图片5"/>
            <p:cNvPicPr/>
            <p:nvPr/>
          </p:nvPicPr>
          <p:blipFill>
            <a:blip r:embed="rId7"/>
            <a:stretch/>
          </p:blipFill>
          <p:spPr>
            <a:xfrm>
              <a:off x="179280" y="2106720"/>
              <a:ext cx="244800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7"/>
            <p:cNvSpPr/>
            <p:nvPr/>
          </p:nvSpPr>
          <p:spPr>
            <a:xfrm>
              <a:off x="306360" y="2349360"/>
              <a:ext cx="282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红圈圈</a:t>
              </a:r>
              <a:endParaRPr b="1" lang="en-US" sz="4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1763640" y="3043080"/>
            <a:ext cx="2016360" cy="1322640"/>
            <a:chOff x="1763640" y="3043080"/>
            <a:chExt cx="2016360" cy="1322640"/>
          </a:xfrm>
        </p:grpSpPr>
        <p:pic>
          <p:nvPicPr>
            <p:cNvPr id="120" name="Picture 6" descr="图片5"/>
            <p:cNvPicPr/>
            <p:nvPr/>
          </p:nvPicPr>
          <p:blipFill>
            <a:blip r:embed="rId8"/>
            <a:stretch/>
          </p:blipFill>
          <p:spPr>
            <a:xfrm>
              <a:off x="1763640" y="3043080"/>
              <a:ext cx="180036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8"/>
            <p:cNvSpPr/>
            <p:nvPr/>
          </p:nvSpPr>
          <p:spPr>
            <a:xfrm>
              <a:off x="1957320" y="3325680"/>
              <a:ext cx="1822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母亲</a:t>
              </a:r>
              <a:endParaRPr b="1" lang="en-US" sz="4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grpSp>
        <p:nvGrpSpPr>
          <p:cNvPr id="122" name="Group 25"/>
          <p:cNvGrpSpPr/>
          <p:nvPr/>
        </p:nvGrpSpPr>
        <p:grpSpPr>
          <a:xfrm>
            <a:off x="4500720" y="3043080"/>
            <a:ext cx="3095640" cy="1322640"/>
            <a:chOff x="4500720" y="3043080"/>
            <a:chExt cx="3095640" cy="1322640"/>
          </a:xfrm>
        </p:grpSpPr>
        <p:pic>
          <p:nvPicPr>
            <p:cNvPr id="123" name="Picture 7" descr="图片5"/>
            <p:cNvPicPr/>
            <p:nvPr/>
          </p:nvPicPr>
          <p:blipFill>
            <a:blip r:embed="rId9"/>
            <a:stretch/>
          </p:blipFill>
          <p:spPr>
            <a:xfrm>
              <a:off x="4500720" y="3043080"/>
              <a:ext cx="180000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9"/>
            <p:cNvSpPr/>
            <p:nvPr/>
          </p:nvSpPr>
          <p:spPr>
            <a:xfrm>
              <a:off x="4633920" y="3397320"/>
              <a:ext cx="296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用功</a:t>
              </a:r>
              <a:endParaRPr b="1" lang="en-US" sz="4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grpSp>
        <p:nvGrpSpPr>
          <p:cNvPr id="125" name="Group 26"/>
          <p:cNvGrpSpPr/>
          <p:nvPr/>
        </p:nvGrpSpPr>
        <p:grpSpPr>
          <a:xfrm>
            <a:off x="6372360" y="2205000"/>
            <a:ext cx="3384360" cy="1322280"/>
            <a:chOff x="6372360" y="2205000"/>
            <a:chExt cx="3384360" cy="1322280"/>
          </a:xfrm>
        </p:grpSpPr>
        <p:pic>
          <p:nvPicPr>
            <p:cNvPr id="126" name="Picture 12" descr="图片5"/>
            <p:cNvPicPr/>
            <p:nvPr/>
          </p:nvPicPr>
          <p:blipFill>
            <a:blip r:embed="rId10"/>
            <a:stretch/>
          </p:blipFill>
          <p:spPr>
            <a:xfrm>
              <a:off x="6372360" y="2205000"/>
              <a:ext cx="180000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20"/>
            <p:cNvSpPr/>
            <p:nvPr/>
          </p:nvSpPr>
          <p:spPr>
            <a:xfrm>
              <a:off x="6568920" y="2460600"/>
              <a:ext cx="3187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高兴</a:t>
              </a:r>
              <a:endParaRPr b="1" lang="en-US" sz="4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1:24:29Z</dcterms:created>
  <dc:creator>雨林木风</dc:creator>
  <dc:description/>
  <dc:language>en-US</dc:language>
  <cp:lastModifiedBy>微软用户</cp:lastModifiedBy>
  <dcterms:modified xsi:type="dcterms:W3CDTF">2012-03-21T23:48:03Z</dcterms:modified>
  <cp:revision>7</cp:revision>
  <dc:subject/>
  <dc:title>幻灯片 1</dc:title>
</cp:coreProperties>
</file>