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9.gif" ContentType="image/gif"/>
  <Override PartName="/ppt/media/image8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4.gif" ContentType="image/gif"/>
  <Override PartName="/ppt/media/image3.gif" ContentType="image/gif"/>
  <Override PartName="/ppt/media/image17.gif" ContentType="image/gif"/>
  <Override PartName="/ppt/media/image25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2.jpeg" ContentType="image/jpeg"/>
  <Override PartName="/ppt/media/image23.jpeg" ContentType="image/jpeg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031B-2AD5-472D-BA06-724AD73B2F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FAF3-9034-4322-8539-30EEDCD9E6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3B4-C4C4-40A6-A6EF-03F81F06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64F-81E1-4E5C-BE30-13CA0F1D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3B5-9FB6-4A78-BCB3-3CBD92AD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762-4169-42B9-8227-90E6324A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C37-FD3F-42B8-B31D-EFFC2137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3C1-47B8-4F99-AC6B-C64D5D28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CCA-03E9-4DEE-AAC0-3E2CF7B0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B18-CF7A-4E50-83C6-002AD6FB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31E-D4B8-4738-844D-95314518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620-C8DC-482B-A4DC-6525EA9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0DC-3994-4112-A11A-6A93E88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4BC-33AE-474C-8E0D-D54B56F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E820-7A96-4CD1-9E32-B9457DC84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看成岭侧成峰，远近高低各不同”说明了同一事物在不同的观察角度下会有不同的理解和感受。由此可见，事物的正确答案并不是唯一的。这是为什么呢？带着这个疑问，我们一起来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的题目是作者要论述的观点。题目用了一个判断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俗易懂而又旗帜鲜明地表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个问题从不同的角度考虑会有不同的答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是在借此阐述创造性思维的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2292" descr="u=1870338028,2064126228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5256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罗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ā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式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取                    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ō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依赖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ài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波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壮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深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固            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孜不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i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不舍          不言而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渊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è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压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h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iā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459" descr="t0110b9a21b18e3b621"/>
          <p:cNvPicPr/>
          <p:nvPr/>
        </p:nvPicPr>
        <p:blipFill>
          <a:blip r:embed="rId1"/>
          <a:stretch/>
        </p:blipFill>
        <p:spPr>
          <a:xfrm>
            <a:off x="2771640" y="836640"/>
            <a:ext cx="141768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9460" descr="t01bd3616c9c4a3c445"/>
          <p:cNvPicPr/>
          <p:nvPr/>
        </p:nvPicPr>
        <p:blipFill>
          <a:blip r:embed="rId2"/>
          <a:stretch/>
        </p:blipFill>
        <p:spPr>
          <a:xfrm>
            <a:off x="3276720" y="4221000"/>
            <a:ext cx="120312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4035" descr="4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41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600" y="623520"/>
            <a:ext cx="912024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àn     qi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索追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创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uà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创造性的见解或意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压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ā      zh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挤出汁水或内含物。或比喻剥削或搜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深蒂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ēn    shēn    dì    g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根基牢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可动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行之有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íng    zhī   yǒu   xià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行起来有成效。多指方法或措施被实践证明有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44035" descr="4"/>
          <p:cNvPicPr/>
          <p:nvPr/>
        </p:nvPicPr>
        <p:blipFill>
          <a:blip r:embed="rId1"/>
          <a:stretch/>
        </p:blipFill>
        <p:spPr>
          <a:xfrm>
            <a:off x="1631880" y="6308640"/>
            <a:ext cx="7512120" cy="41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19080" y="-61920"/>
            <a:ext cx="9145440" cy="69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孜孜不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ī  z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ú    ju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勤奋努力，不知疲倦。孜孜：勤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持之以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í   zhī   yǐ  hé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久地坚持下去。恒，恒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言而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ù  yán   ér   y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用说就可以明白。喻，明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轻而易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īng    é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ì   j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做事毫不费劲，非常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ó   sh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某种事物的标准形式或使人可以照着做的标准样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44035" descr="4"/>
          <p:cNvPicPr/>
          <p:nvPr/>
        </p:nvPicPr>
        <p:blipFill>
          <a:blip r:embed="rId1"/>
          <a:stretch/>
        </p:blipFill>
        <p:spPr>
          <a:xfrm>
            <a:off x="-20520" y="6505560"/>
            <a:ext cx="9146880" cy="41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汲取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í   q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吸取。汲，从下往上打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事无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ī   shì     w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é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件事也没有办成。形容毫无成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灵感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íng    gǎ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种人们无法控制。创造力高度发挥的突发性心理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uī   qiā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斟酌字句，反复琢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锲而不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iè   ér   b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雕刻一件东西，一直刻下去不放手。比喻有恒心，有毅力。锲，雕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44035" descr="4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41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析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-3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论证“事物的答案不止一个。（举例论证）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4-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论述创造性思维所必需的要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9-12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论述富有创造性和缺乏创造性的区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3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 总结全文，与文章开头相呼应，点明事物的正确答案不止一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44035" descr="4"/>
          <p:cNvPicPr/>
          <p:nvPr/>
        </p:nvPicPr>
        <p:blipFill>
          <a:blip r:embed="rId1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23760" y="620640"/>
            <a:ext cx="9167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为什么说发挥创造力的关键，在于如何运用知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少教育家都说过，学习知识是为了运用知识。只有把知识和实践结合起来才能算真正获得了知识，否则，知识便一钱不值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毛泽东同志把马克思主义运用于中国革命的实践，赢得了中国革命的胜利；邓小平同志创造性地把马克思主义运用于中国社会主义的建设，赢得了我国初步小康目标的实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4035" descr="4"/>
          <p:cNvPicPr/>
          <p:nvPr/>
        </p:nvPicPr>
        <p:blipFill>
          <a:blip r:embed="rId1"/>
          <a:stretch/>
        </p:blipFill>
        <p:spPr>
          <a:xfrm>
            <a:off x="73080" y="6442200"/>
            <a:ext cx="9070920" cy="41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课文中说：“区分一个人是否拥有创造力，主要根据之一是，拥有创造力的人留意自己细小的想法。”为什么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牛顿创立了万有引力学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从苹果落地的小想法开始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瓦特发明蒸汽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从水壶里的水开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顶着壶盖的小想法开始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法国大数学家潘嘉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他关于数学的发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半是从“无意中得出的细小想法”开始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“任何人都拥有创造力”何“：“区分一个人是否拥有创造力，主要根据之一是，拥有创造力的人留意自己细小的想法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否矛盾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矛盾。作者在这里要表达的是：事实上任何人都拥有创造力，然而有的人因为不认为自己具有创造力，进行自我压制，所以便失去了创造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4035" descr="4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41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作者在本文开头通过图形设置了一个有趣的问题，请大家思考一下，这是为了告诉我们一个什么样的观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因此，不满足于一个答案，不放弃探求，这一点是最重要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43011" descr="u=2267164532,2020877069&amp;fm=21&amp;gp=0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为什么说“不满足于一个答案，不放弃探求，这一点非常重要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因为生活中解决问题的方法并非只有一个，而是多种多样。如果认为正确答案只有一个，当找到某个答案以后，就会止步不前。可以找同学举具体的事例来证明，加深对这句话的理解。如自行车的发展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44035" descr="4"/>
          <p:cNvPicPr/>
          <p:nvPr/>
        </p:nvPicPr>
        <p:blipFill>
          <a:blip r:embed="rId1"/>
          <a:stretch/>
        </p:blipFill>
        <p:spPr>
          <a:xfrm>
            <a:off x="250920" y="6308640"/>
            <a:ext cx="8893080" cy="41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3730"/>
          <p:cNvSpPr/>
          <p:nvPr/>
        </p:nvSpPr>
        <p:spPr>
          <a:xfrm>
            <a:off x="304920" y="1752480"/>
            <a:ext cx="1523880" cy="1524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73731"/>
          <p:cNvSpPr/>
          <p:nvPr/>
        </p:nvSpPr>
        <p:spPr>
          <a:xfrm>
            <a:off x="2362320" y="1600200"/>
            <a:ext cx="1447560" cy="167652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73732"/>
          <p:cNvSpPr/>
          <p:nvPr/>
        </p:nvSpPr>
        <p:spPr>
          <a:xfrm>
            <a:off x="7238880" y="2133720"/>
            <a:ext cx="16765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3733"/>
          <p:cNvSpPr/>
          <p:nvPr/>
        </p:nvSpPr>
        <p:spPr>
          <a:xfrm>
            <a:off x="7086600" y="2971800"/>
            <a:ext cx="18288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3734"/>
          <p:cNvSpPr/>
          <p:nvPr/>
        </p:nvSpPr>
        <p:spPr>
          <a:xfrm>
            <a:off x="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从下列图形中，找一个性质与其他三个不同的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73735"/>
          <p:cNvGrpSpPr/>
          <p:nvPr/>
        </p:nvGrpSpPr>
        <p:grpSpPr>
          <a:xfrm>
            <a:off x="685800" y="3962520"/>
            <a:ext cx="6019920" cy="1678680"/>
            <a:chOff x="685800" y="3962520"/>
            <a:chExt cx="6019920" cy="1678680"/>
          </a:xfrm>
        </p:grpSpPr>
        <p:sp>
          <p:nvSpPr>
            <p:cNvPr id="58" name="文本框 73736"/>
            <p:cNvSpPr/>
            <p:nvPr/>
          </p:nvSpPr>
          <p:spPr>
            <a:xfrm>
              <a:off x="685800" y="4572000"/>
              <a:ext cx="60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唯一的一个非对称图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73737"/>
            <p:cNvSpPr/>
            <p:nvPr/>
          </p:nvSpPr>
          <p:spPr>
            <a:xfrm>
              <a:off x="709560" y="396252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唯一一个仅由直线构成的图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73738"/>
            <p:cNvSpPr/>
            <p:nvPr/>
          </p:nvSpPr>
          <p:spPr>
            <a:xfrm>
              <a:off x="785880" y="51814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唯一没有角的图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73739"/>
          <p:cNvSpPr/>
          <p:nvPr/>
        </p:nvSpPr>
        <p:spPr>
          <a:xfrm>
            <a:off x="861840" y="5791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唯一 一 个由直线与曲线构成的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3740"/>
          <p:cNvSpPr/>
          <p:nvPr/>
        </p:nvSpPr>
        <p:spPr>
          <a:xfrm>
            <a:off x="14796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3741"/>
          <p:cNvSpPr/>
          <p:nvPr/>
        </p:nvSpPr>
        <p:spPr>
          <a:xfrm>
            <a:off x="13068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3742"/>
          <p:cNvSpPr/>
          <p:nvPr/>
        </p:nvSpPr>
        <p:spPr>
          <a:xfrm>
            <a:off x="20700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3743"/>
          <p:cNvSpPr/>
          <p:nvPr/>
        </p:nvSpPr>
        <p:spPr>
          <a:xfrm>
            <a:off x="207000" y="586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3744"/>
          <p:cNvSpPr/>
          <p:nvPr/>
        </p:nvSpPr>
        <p:spPr>
          <a:xfrm>
            <a:off x="762120" y="1523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3745"/>
          <p:cNvSpPr/>
          <p:nvPr/>
        </p:nvSpPr>
        <p:spPr>
          <a:xfrm>
            <a:off x="68796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3746"/>
          <p:cNvSpPr/>
          <p:nvPr/>
        </p:nvSpPr>
        <p:spPr>
          <a:xfrm>
            <a:off x="289728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73747"/>
          <p:cNvSpPr/>
          <p:nvPr/>
        </p:nvSpPr>
        <p:spPr>
          <a:xfrm rot="1671000">
            <a:off x="4354200" y="2118960"/>
            <a:ext cx="2519280" cy="13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73748"/>
          <p:cNvSpPr/>
          <p:nvPr/>
        </p:nvSpPr>
        <p:spPr>
          <a:xfrm>
            <a:off x="5257800" y="1295280"/>
            <a:ext cx="685800" cy="1905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3749"/>
          <p:cNvSpPr/>
          <p:nvPr/>
        </p:nvSpPr>
        <p:spPr>
          <a:xfrm>
            <a:off x="51836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3750"/>
          <p:cNvSpPr/>
          <p:nvPr/>
        </p:nvSpPr>
        <p:spPr>
          <a:xfrm>
            <a:off x="76222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73751" descr="u=776118282,1381018069&amp;fm=21&amp;gp=0"/>
          <p:cNvPicPr/>
          <p:nvPr/>
        </p:nvPicPr>
        <p:blipFill>
          <a:blip r:embed="rId5"/>
          <a:stretch/>
        </p:blipFill>
        <p:spPr>
          <a:xfrm>
            <a:off x="7596360" y="4437000"/>
            <a:ext cx="154764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纳“创造性的思维”有哪些“必须的要素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）有渊博的知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有探求新事物、并为此活用知识     的态度和意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持之以恒地进行各种尝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45059" descr="t011032e91af19e35e1"/>
          <p:cNvPicPr/>
          <p:nvPr/>
        </p:nvPicPr>
        <p:blipFill>
          <a:blip r:embed="rId1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课文举了约翰发明印刷机和排版术、罗兰发明交互式电子游戏的事例，有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具体有力地论证了“创造性思维必须有探求新事物、活用知识的态度和意识，并持之以恒地进行各种尝试”这一观点，增强了文章的说服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46083" descr="t0123438dbb7cddd585"/>
          <p:cNvPicPr/>
          <p:nvPr/>
        </p:nvPicPr>
        <p:blipFill>
          <a:blip r:embed="rId1"/>
          <a:stretch/>
        </p:blipFill>
        <p:spPr>
          <a:xfrm>
            <a:off x="0" y="5597640"/>
            <a:ext cx="9144000" cy="1260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区分一个人是否拥有创造力，主要根据之一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区分一个人是否拥有创造力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要根据之一是，拥有创造力的人留意自己细小的想法。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即使他们不知道将来会产生怎样的结果，但他们很清楚，小的创意会打开大的突破口，并坚信自己一定能使之变为现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7107" descr="t01a0543326f62377e9"/>
          <p:cNvPicPr/>
          <p:nvPr/>
        </p:nvPicPr>
        <p:blipFill>
          <a:blip r:embed="rId1"/>
          <a:stretch/>
        </p:blipFill>
        <p:spPr>
          <a:xfrm>
            <a:off x="0" y="6067440"/>
            <a:ext cx="9144000" cy="790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人认为创造力只是属于贝多芬、爱因斯坦、莎士比亚等少数人的，你同意这种观点吗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不同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们每个人都有无限的潜能和创造力，而这个创造力可以无止境地运用于我们生活中的每个角落。我们最需要问自己的一个问题并非我们是否有创造力，而是如何能够发现并发挥他的潜能和创造力，这也是影响自身创造力是否发挥的根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学了本文后，你觉得如何才能做一个富有创造性的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键是要经常保持好奇心，不断积累知识；不满足于一个答案，而去探求新思路，去运用所得的知识，一旦产生小的灵感，相信它的的价值，并锲而不舍地把它发展下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9155" descr="t01c146811b75d59ab5"/>
          <p:cNvPicPr/>
          <p:nvPr/>
        </p:nvPicPr>
        <p:blipFill>
          <a:blip r:embed="rId1"/>
          <a:stretch/>
        </p:blipFill>
        <p:spPr>
          <a:xfrm>
            <a:off x="0" y="5703840"/>
            <a:ext cx="9144000" cy="115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文中表现了作者什么样的观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全文紧紧围绕“事物的正确答案不止一个”这个论题，论述了“怎样才能成为一个富有创造性的人”的问题。文章最后一段集中表明了作者的观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50180" descr="t01370b5ed812257a70"/>
          <p:cNvPicPr/>
          <p:nvPr/>
        </p:nvPicPr>
        <p:blipFill>
          <a:blip r:embed="rId1"/>
          <a:stretch/>
        </p:blipFill>
        <p:spPr>
          <a:xfrm>
            <a:off x="0" y="5448240"/>
            <a:ext cx="9144000" cy="133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20" y="745920"/>
            <a:ext cx="9156600" cy="61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思考问题的角度不同，答案也会不同。你有过类似的经验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有过类似的经验。比如，对于杯子里的半杯水，从消极的角度看，已经喝掉了一半，只剩下半杯水了；而从积极的角度看，却是还有一半未喝，还剩下半杯水。思考问题的角度不同，答案也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19462" descr="t01ce14b42748697428"/>
          <p:cNvPicPr/>
          <p:nvPr/>
        </p:nvPicPr>
        <p:blipFill>
          <a:blip r:embed="rId1"/>
          <a:stretch/>
        </p:blipFill>
        <p:spPr>
          <a:xfrm>
            <a:off x="6480" y="5943600"/>
            <a:ext cx="9156600" cy="977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-19440" y="-25560"/>
            <a:ext cx="9156600" cy="69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课文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，为什么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点非常重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如果你认为正确答案只有一个的话，当你找到某个答案以后，就会止步不前。因此，不满足于一个答案，不放弃探求，这一点非常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1268" descr="t0199adfd4ee74624f3"/>
          <p:cNvPicPr/>
          <p:nvPr/>
        </p:nvPicPr>
        <p:blipFill>
          <a:blip r:embed="rId1"/>
          <a:stretch/>
        </p:blipFill>
        <p:spPr>
          <a:xfrm>
            <a:off x="-98280" y="3949560"/>
            <a:ext cx="9235800" cy="2995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-43200" y="-360"/>
            <a:ext cx="918036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知识和创造力到底有怎样的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知识是形成创意的素材，但并不意味着光凭知识就拥有了创造力。富有创造力的人总是孜孜不倦地汲取知识，使自己学识渊博。但拥有了知识，要发挥好创造力，还需要会运用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21510" descr="t01e5e4bd24de49ad29"/>
          <p:cNvPicPr/>
          <p:nvPr/>
        </p:nvPicPr>
        <p:blipFill>
          <a:blip r:embed="rId1"/>
          <a:stretch/>
        </p:blipFill>
        <p:spPr>
          <a:xfrm>
            <a:off x="-42840" y="4610160"/>
            <a:ext cx="9180360" cy="2265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7640" y="10800"/>
            <a:ext cx="8983440" cy="71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归纳全文，指出拥有创造力所需的诸多因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】坚信自己拥有创造力，而不是自我压制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】留意细小的想法，相信它的价值，并锲而不舍地把它发展下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】经常保持好奇心，孜孜不倦地汲取知识，使自己学识渊博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】不满足于一个答案，会运用知识，有探求新事物并为此活用知识的态度和意识，并能在此基础上进行各种尝试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63489" descr="ANI_025"/>
          <p:cNvPicPr/>
          <p:nvPr/>
        </p:nvPicPr>
        <p:blipFill>
          <a:blip r:embed="rId1"/>
          <a:stretch/>
        </p:blipFill>
        <p:spPr>
          <a:xfrm>
            <a:off x="0" y="4114800"/>
            <a:ext cx="236232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3490" descr="ANI_025"/>
          <p:cNvPicPr/>
          <p:nvPr/>
        </p:nvPicPr>
        <p:blipFill>
          <a:blip r:embed="rId2"/>
          <a:stretch/>
        </p:blipFill>
        <p:spPr>
          <a:xfrm>
            <a:off x="6248520" y="0"/>
            <a:ext cx="2057400" cy="2438280"/>
          </a:xfrm>
          <a:prstGeom prst="rect">
            <a:avLst/>
          </a:prstGeom>
          <a:ln w="0">
            <a:noFill/>
          </a:ln>
        </p:spPr>
      </p:pic>
      <p:sp>
        <p:nvSpPr>
          <p:cNvPr id="76" name="矩形 63491"/>
          <p:cNvSpPr txBox="1"/>
          <p:nvPr/>
        </p:nvSpPr>
        <p:spPr>
          <a:xfrm rot="3276600">
            <a:off x="2850840" y="840960"/>
            <a:ext cx="2743200" cy="424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云形标注 63492"/>
          <p:cNvSpPr/>
          <p:nvPr/>
        </p:nvSpPr>
        <p:spPr>
          <a:xfrm>
            <a:off x="822240" y="2009880"/>
            <a:ext cx="2530440" cy="654120"/>
          </a:xfrm>
          <a:prstGeom prst="cloudCallout">
            <a:avLst>
              <a:gd name="adj1" fmla="val -39458"/>
              <a:gd name="adj2" fmla="val 2936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云形标注 63493"/>
          <p:cNvSpPr/>
          <p:nvPr/>
        </p:nvSpPr>
        <p:spPr>
          <a:xfrm rot="103200">
            <a:off x="228600" y="1599840"/>
            <a:ext cx="2070000" cy="2743200"/>
          </a:xfrm>
          <a:prstGeom prst="cloudCallout">
            <a:avLst>
              <a:gd name="adj1" fmla="val -4106"/>
              <a:gd name="adj2" fmla="val 8789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是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6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云形标注 63494"/>
          <p:cNvSpPr/>
          <p:nvPr/>
        </p:nvSpPr>
        <p:spPr>
          <a:xfrm>
            <a:off x="6324480" y="1828800"/>
            <a:ext cx="2514600" cy="2057400"/>
          </a:xfrm>
          <a:prstGeom prst="cloudCallout">
            <a:avLst>
              <a:gd name="adj1" fmla="val -6250"/>
              <a:gd name="adj2" fmla="val -698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不，是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9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3495"/>
          <p:cNvSpPr txBox="1"/>
          <p:nvPr/>
        </p:nvSpPr>
        <p:spPr>
          <a:xfrm>
            <a:off x="3581280" y="54100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3333"/>
                </a:solidFill>
                <a:latin typeface="宋体"/>
              </a:rPr>
              <a:t>漫画：《谁也没有错》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宋体"/>
              <a:ea typeface="宋体"/>
            </a:endParaRPr>
          </a:p>
        </p:txBody>
      </p:sp>
    </p:spTree>
  </p:cSld>
  <p:transition spd="med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由一个选择题入手，阐述什么是创造性思维，以及怎样才能成为一个有创造性的人，号召人们坚信自己的创造力，努力保持好奇心，不断探求，成为富有创造性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70659" descr="t01067ef702662604c2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创新是一个民族进步的灵魂，是一个国家兴旺发达的的动力。随着知识经济和信息社会的到来，我们只有勇于和善于创新，才能赶上和超过世界先进水平，而这个重任就落在我们的肩上。让我们在今后的学习中培养更多的创新精神，人人都“成为一个富有创造性的人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89091" descr="t01f5bbc90a9ca449e3"/>
          <p:cNvPicPr/>
          <p:nvPr/>
        </p:nvPicPr>
        <p:blipFill>
          <a:blip r:embed="rId1"/>
          <a:stretch/>
        </p:blipFill>
        <p:spPr>
          <a:xfrm>
            <a:off x="0" y="5886360"/>
            <a:ext cx="9144000" cy="971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7200" y="364680"/>
            <a:ext cx="77374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300" spc="-1" strike="noStrike">
                <a:solidFill>
                  <a:srgbClr val="ff0000"/>
                </a:solidFill>
                <a:latin typeface="Arial"/>
              </a:rPr>
              <a:t>想一想</a:t>
            </a:r>
            <a:r>
              <a:rPr b="1" i="1" lang="en-US" sz="83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玩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点扑克牌的游戏：用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37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、四 张牌通过加减乘除的运算得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出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这个结果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每张牌只能用一次</a:t>
            </a:r>
            <a:r>
              <a:rPr b="0" lang="zh-CN" sz="3700" spc="-1" strike="noStrike">
                <a:solidFill>
                  <a:srgbClr val="99cc00"/>
                </a:solidFill>
                <a:latin typeface="Arial"/>
              </a:rPr>
              <a:t>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p:transition spd="med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2276640"/>
            <a:ext cx="2232000" cy="22320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333360"/>
            <a:ext cx="158400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考考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692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发挥想象，下面的图形会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71640" y="981000"/>
            <a:ext cx="61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硬笔楷书简体"/>
              </a:rPr>
              <a:t>关于小鸡过马路的话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2497" t="2441" r="33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378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拿破仑：不想过马路的鸡不是好鸡。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13372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方正硬笔楷书简体"/>
              </a:rPr>
              <a:t>爱因斯坦：小鸡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成功＝勇敢的穿越＋正确的方法＋少说空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04640"/>
            <a:ext cx="8532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达尔文：鸡从森林来到人家再发展到马路，这是优胜劣汰的进化法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仿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08464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阿基米德：只要给我一条马路，我就能让小鸡走过去。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75777"/>
          <p:cNvSpPr/>
          <p:nvPr/>
        </p:nvSpPr>
        <p:spPr>
          <a:xfrm>
            <a:off x="1619280" y="836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75778"/>
          <p:cNvSpPr/>
          <p:nvPr/>
        </p:nvSpPr>
        <p:spPr>
          <a:xfrm>
            <a:off x="5867280" y="11430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5779"/>
          <p:cNvSpPr/>
          <p:nvPr/>
        </p:nvSpPr>
        <p:spPr>
          <a:xfrm>
            <a:off x="1116000" y="0"/>
            <a:ext cx="70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看一看：图中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75780" descr="图片1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270828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1+1=</a:t>
            </a:r>
            <a:r>
              <a:rPr b="1" lang="zh-CN" sz="66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3789360"/>
            <a:ext cx="435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一把锯子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+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一片森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一支笔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+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一张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一个李白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+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一壶酒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89000"/>
            <a:ext cx="194292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生活实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3429000"/>
            <a:ext cx="388764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一片荒漠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一幅画、一首诗、一首歌、一个世界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诗百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55736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155736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1484280"/>
            <a:ext cx="1008360" cy="503280"/>
          </a:xfrm>
          <a:prstGeom prst="parallelogram">
            <a:avLst>
              <a:gd name="adj" fmla="val 50089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1268280"/>
            <a:ext cx="865080" cy="863640"/>
          </a:xfrm>
          <a:prstGeom prst="diamond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1413000"/>
            <a:ext cx="1008000" cy="647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2421000"/>
            <a:ext cx="1008000" cy="576360"/>
          </a:xfrm>
          <a:prstGeom prst="triangle">
            <a:avLst>
              <a:gd name="adj" fmla="val 500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356000" y="2565360"/>
            <a:ext cx="1079640" cy="43200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867280" y="2349000"/>
            <a:ext cx="720720" cy="719640"/>
            <a:chOff x="5867280" y="2349000"/>
            <a:chExt cx="720720" cy="719640"/>
          </a:xfrm>
        </p:grpSpPr>
        <p:sp>
          <p:nvSpPr>
            <p:cNvPr id="97" name=""/>
            <p:cNvSpPr/>
            <p:nvPr/>
          </p:nvSpPr>
          <p:spPr>
            <a:xfrm>
              <a:off x="5867280" y="2708280"/>
              <a:ext cx="720720" cy="360360"/>
            </a:xfrm>
            <a:prstGeom prst="triangle">
              <a:avLst>
                <a:gd name="adj" fmla="val 50000"/>
              </a:avLst>
            </a:prstGeom>
            <a:solidFill>
              <a:srgbClr val="0099ff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867280" y="2348640"/>
              <a:ext cx="720720" cy="358920"/>
            </a:xfrm>
            <a:prstGeom prst="triangle">
              <a:avLst>
                <a:gd name="adj" fmla="val 50000"/>
              </a:avLst>
            </a:prstGeom>
            <a:solidFill>
              <a:srgbClr val="0099ff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867280" y="1413000"/>
            <a:ext cx="649440" cy="647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413000"/>
            <a:ext cx="576360" cy="576000"/>
          </a:xfrm>
          <a:prstGeom prst="plus">
            <a:avLst>
              <a:gd name="adj" fmla="val 4297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11280" y="1630440"/>
            <a:ext cx="431640" cy="214200"/>
            <a:chOff x="2411280" y="1630440"/>
            <a:chExt cx="431640" cy="214200"/>
          </a:xfrm>
        </p:grpSpPr>
        <p:sp>
          <p:nvSpPr>
            <p:cNvPr id="102" name=""/>
            <p:cNvSpPr/>
            <p:nvPr/>
          </p:nvSpPr>
          <p:spPr>
            <a:xfrm>
              <a:off x="2411280" y="1630440"/>
              <a:ext cx="431640" cy="712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1280" y="1773360"/>
              <a:ext cx="431640" cy="712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74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赵本山出题：“</a:t>
            </a: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+1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在什么情况下不等于</a:t>
            </a: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”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范伟答：“</a:t>
            </a: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+1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在任何情况下都等于</a:t>
            </a: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”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0240" y="15876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启体简体"/>
              </a:rPr>
              <a:t>来看小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方正启体简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启体简体"/>
              </a:rPr>
              <a:t>卖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方正启体简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启体简体"/>
              </a:rPr>
              <a:t>中的一段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64320" y="184464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高秀敏纠正：“</a:t>
            </a:r>
            <a:r>
              <a:rPr b="1" lang="en-US" sz="28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+1</a:t>
            </a:r>
            <a:r>
              <a:rPr b="1" lang="zh-CN" sz="28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在答错的情况下不等于</a:t>
            </a:r>
            <a:r>
              <a:rPr b="1" lang="en-US" sz="28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49360"/>
            <a:ext cx="100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赵本山问：“你家养了一只小狗，为什么不生跳蚤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范伟答：“因为我们家小狗讲卫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赵本山：“错。媳妇答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6360" y="3789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启体简体"/>
              </a:rPr>
              <a:t>高秀敏答：“因为狗只能生狗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65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赵本山问：“一位</a:t>
            </a: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岁的老奶奶上了公共汽车，车上没一个人给他让座，为什么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范伟答：“因为车上的人不讲文明礼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5080" y="5877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启体简体"/>
              </a:rPr>
              <a:t>高秀敏纠正：“因为车上有的是空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3313" descr="hs8s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谈创造性思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3315"/>
          <p:cNvSpPr/>
          <p:nvPr/>
        </p:nvSpPr>
        <p:spPr>
          <a:xfrm>
            <a:off x="2195640" y="981000"/>
            <a:ext cx="5040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罗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因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3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背景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许多人在生活、学习的过程中因受传统思想的束缚，容易形成思维定式，知识学得比较死，不善于活用。另外，生活中也有一些人认为搞发明创造都是天才人物的事，与自己无缘，不相信自己有发明创造，导致创造性被自我压制，最终丧失。本文就是针对这种情况而写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6387" descr="u=425844953,2052705214&amp;fm=21&amp;gp=0"/>
          <p:cNvPicPr/>
          <p:nvPr/>
        </p:nvPicPr>
        <p:blipFill>
          <a:blip r:embed="rId1"/>
          <a:stretch/>
        </p:blipFill>
        <p:spPr>
          <a:xfrm>
            <a:off x="0" y="6327720"/>
            <a:ext cx="9144000" cy="639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40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走近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79876" descr="u=1475391628,1838844531&amp;fm=21&amp;gp=0"/>
          <p:cNvPicPr/>
          <p:nvPr/>
        </p:nvPicPr>
        <p:blipFill>
          <a:blip r:embed="rId1"/>
          <a:stretch/>
        </p:blipFill>
        <p:spPr>
          <a:xfrm>
            <a:off x="0" y="1413000"/>
            <a:ext cx="1692360" cy="54450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79877"/>
          <p:cNvSpPr/>
          <p:nvPr/>
        </p:nvSpPr>
        <p:spPr>
          <a:xfrm>
            <a:off x="2411280" y="115920"/>
            <a:ext cx="67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79878"/>
          <p:cNvSpPr/>
          <p:nvPr/>
        </p:nvSpPr>
        <p:spPr>
          <a:xfrm>
            <a:off x="1763640" y="0"/>
            <a:ext cx="738036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罗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格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生，美国实业家、学者、创造学家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“创意思考顾问公司”的创立人与总裁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曾任加利福尼亚创意顾问，曾发表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踢醒心灵之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著作。人们对罗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格的赞誉之词：“罗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格已经赢得全国读者忠心的追随与支持。”“罗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格的法则不输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易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神奇的技巧！”“展现商业才华。”“他的创意活力无限！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6:12:10Z</dcterms:created>
  <dc:creator>雨林木风</dc:creator>
  <dc:description/>
  <cp:keywords/>
  <dc:language>en-US</dc:language>
  <cp:lastModifiedBy>02</cp:lastModifiedBy>
  <dcterms:modified xsi:type="dcterms:W3CDTF">2018-10-17T07:09:57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