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9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AEC-709C-4A95-8BF5-1039C661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B4D-1A28-459F-A825-78490447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CCC-32E5-4732-9F5A-E002948E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D79-A593-45B1-BA6C-D9314947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F1C-F5DF-4ADF-B965-DEED6797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45D-9716-4428-8CE6-753643D6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359-8F83-41C9-A96F-EE5319CB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F53-AB54-4411-AF89-E2A7ACBE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47D-56DB-4006-A0E5-F17F7A19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8CB-F433-4D27-AEE0-16CD17B6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C8C-12A6-40D2-8615-FBB732A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B92-CBE6-4472-BD6C-56249A6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8C07F-9AFF-4F13-9B55-457782AD0EE5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021E-15C7-4EA7-AF29-02D25067C40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&#35782;&#23383;1 &#26391;&#35835;&#38899;&#35270;&#39057;.mp4" TargetMode="External"/><Relationship Id="rId3" Type="http://schemas.openxmlformats.org/officeDocument/2006/relationships/hyperlink" Target="&#35782;&#23383;1 &#26391;&#35835;&#38899;&#35270;&#39057;.mp4" TargetMode="External"/><Relationship Id="rId4" Type="http://schemas.openxmlformats.org/officeDocument/2006/relationships/hyperlink" Target="&#35782;&#23383;1 &#26391;&#35835;&#38899;&#35270;&#39057;.mp4" TargetMode="External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508"/>
          <p:cNvSpPr/>
          <p:nvPr/>
        </p:nvSpPr>
        <p:spPr>
          <a:xfrm>
            <a:off x="3471840" y="2625840"/>
            <a:ext cx="5110200" cy="343692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2680" y="112860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"/>
          <p:cNvPicPr/>
          <p:nvPr/>
        </p:nvPicPr>
        <p:blipFill>
          <a:blip r:embed="rId7"/>
          <a:stretch/>
        </p:blipFill>
        <p:spPr>
          <a:xfrm>
            <a:off x="3946680" y="229068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486240" y="407592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泱泱华夏三万里河山，煌煌先哲五千年文明。我们的祖国历史悠久，地大物博，在这片美丽的土地上孕育了伟大的中华民族。我们的祖国景色秀美。今大学习的这篇课文，就是向我们介绍祖国的美丽山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3"/>
          <p:cNvSpPr/>
          <p:nvPr/>
        </p:nvSpPr>
        <p:spPr>
          <a:xfrm>
            <a:off x="771480" y="2443320"/>
            <a:ext cx="7434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7" descr="花盆.png"/>
          <p:cNvPicPr/>
          <p:nvPr/>
        </p:nvPicPr>
        <p:blipFill>
          <a:blip r:embed="rId1"/>
          <a:stretch/>
        </p:blipFill>
        <p:spPr>
          <a:xfrm>
            <a:off x="771480" y="1860480"/>
            <a:ext cx="507960" cy="595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794600" y="1871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bc5e"/>
                </a:solidFill>
                <a:latin typeface="黑体"/>
                <a:ea typeface="黑体"/>
              </a:rPr>
              <a:t>读一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817560" y="2730600"/>
            <a:ext cx="759456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        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ōu     yáo                yǒng         fēng sǒng         wā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神州谣  长江涌  珠峰耸  台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é       xiá       yǔ        lù             yì nóng       qí                  fán ró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隔海峡  与大陆  情谊浓  齐奋发  繁荣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示 9" descr=""/>
          <p:cNvPicPr/>
          <p:nvPr/>
        </p:nvPicPr>
        <p:blipFill>
          <a:blip r:embed="rId2"/>
          <a:stretch/>
        </p:blipFill>
        <p:spPr>
          <a:xfrm>
            <a:off x="2795760" y="1009800"/>
            <a:ext cx="38592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1"/>
          <p:cNvSpPr/>
          <p:nvPr/>
        </p:nvSpPr>
        <p:spPr>
          <a:xfrm>
            <a:off x="5589720" y="37386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è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2151000" y="2305080"/>
            <a:ext cx="124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 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ǒ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5573880" y="421164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2444760" y="288756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4346640" y="286704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7" descr="花盆.png"/>
          <p:cNvPicPr/>
          <p:nvPr/>
        </p:nvPicPr>
        <p:blipFill>
          <a:blip r:embed="rId1"/>
          <a:stretch/>
        </p:blipFill>
        <p:spPr>
          <a:xfrm>
            <a:off x="871560" y="1655640"/>
            <a:ext cx="507960" cy="595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0"/>
          <p:cNvSpPr/>
          <p:nvPr/>
        </p:nvSpPr>
        <p:spPr>
          <a:xfrm>
            <a:off x="1740960" y="1733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c060"/>
                </a:solidFill>
                <a:latin typeface="黑体"/>
                <a:ea typeface="黑体"/>
              </a:rPr>
              <a:t>我会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3382920" y="288288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1001880" y="373392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ǔ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2"/>
          <p:cNvSpPr/>
          <p:nvPr/>
        </p:nvSpPr>
        <p:spPr>
          <a:xfrm>
            <a:off x="3622680" y="375120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ó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1949400" y="3746520"/>
            <a:ext cx="14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6664320" y="37530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868320" y="421308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8"/>
          <p:cNvSpPr/>
          <p:nvPr/>
        </p:nvSpPr>
        <p:spPr>
          <a:xfrm>
            <a:off x="1817640" y="422604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9"/>
          <p:cNvSpPr/>
          <p:nvPr/>
        </p:nvSpPr>
        <p:spPr>
          <a:xfrm>
            <a:off x="7188120" y="287964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3"/>
          <p:cNvSpPr/>
          <p:nvPr/>
        </p:nvSpPr>
        <p:spPr>
          <a:xfrm>
            <a:off x="2757600" y="420696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4"/>
          <p:cNvSpPr/>
          <p:nvPr/>
        </p:nvSpPr>
        <p:spPr>
          <a:xfrm>
            <a:off x="3693960" y="422604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46"/>
          <p:cNvSpPr/>
          <p:nvPr/>
        </p:nvSpPr>
        <p:spPr>
          <a:xfrm>
            <a:off x="3349800" y="2309760"/>
            <a:ext cx="101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47"/>
          <p:cNvSpPr/>
          <p:nvPr/>
        </p:nvSpPr>
        <p:spPr>
          <a:xfrm>
            <a:off x="5305320" y="231624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52"/>
          <p:cNvSpPr/>
          <p:nvPr/>
        </p:nvSpPr>
        <p:spPr>
          <a:xfrm>
            <a:off x="7278840" y="23209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9"/>
          <p:cNvSpPr/>
          <p:nvPr/>
        </p:nvSpPr>
        <p:spPr>
          <a:xfrm>
            <a:off x="1347840" y="2338560"/>
            <a:ext cx="12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ō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0"/>
          <p:cNvSpPr/>
          <p:nvPr/>
        </p:nvSpPr>
        <p:spPr>
          <a:xfrm>
            <a:off x="1438200" y="290340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州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1"/>
          <p:cNvSpPr/>
          <p:nvPr/>
        </p:nvSpPr>
        <p:spPr>
          <a:xfrm>
            <a:off x="6288120" y="288288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6"/>
          <p:cNvSpPr/>
          <p:nvPr/>
        </p:nvSpPr>
        <p:spPr>
          <a:xfrm>
            <a:off x="7534440" y="375912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ó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0"/>
          <p:cNvSpPr/>
          <p:nvPr/>
        </p:nvSpPr>
        <p:spPr>
          <a:xfrm>
            <a:off x="7566120" y="421020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荣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41"/>
          <p:cNvSpPr/>
          <p:nvPr/>
        </p:nvSpPr>
        <p:spPr>
          <a:xfrm>
            <a:off x="5292720" y="2870280"/>
            <a:ext cx="112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42"/>
          <p:cNvSpPr/>
          <p:nvPr/>
        </p:nvSpPr>
        <p:spPr>
          <a:xfrm>
            <a:off x="6262560" y="2320920"/>
            <a:ext cx="11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5"/>
          <p:cNvSpPr/>
          <p:nvPr/>
        </p:nvSpPr>
        <p:spPr>
          <a:xfrm>
            <a:off x="4697280" y="421308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48"/>
          <p:cNvSpPr/>
          <p:nvPr/>
        </p:nvSpPr>
        <p:spPr>
          <a:xfrm>
            <a:off x="4809960" y="374652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50"/>
          <p:cNvSpPr/>
          <p:nvPr/>
        </p:nvSpPr>
        <p:spPr>
          <a:xfrm>
            <a:off x="4329000" y="2317680"/>
            <a:ext cx="112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ǒ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1"/>
          <p:cNvSpPr/>
          <p:nvPr/>
        </p:nvSpPr>
        <p:spPr>
          <a:xfrm>
            <a:off x="6595920" y="420840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53"/>
          <p:cNvSpPr/>
          <p:nvPr/>
        </p:nvSpPr>
        <p:spPr>
          <a:xfrm>
            <a:off x="2925720" y="37386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5"/>
          <p:cNvGrpSpPr/>
          <p:nvPr/>
        </p:nvGrpSpPr>
        <p:grpSpPr>
          <a:xfrm>
            <a:off x="2824200" y="2446200"/>
            <a:ext cx="3249720" cy="1373400"/>
            <a:chOff x="2824200" y="2446200"/>
            <a:chExt cx="3249720" cy="1373400"/>
          </a:xfrm>
        </p:grpSpPr>
        <p:sp>
          <p:nvSpPr>
            <p:cNvPr id="135" name="左大括号 14"/>
            <p:cNvSpPr/>
            <p:nvPr/>
          </p:nvSpPr>
          <p:spPr>
            <a:xfrm>
              <a:off x="2824200" y="2678040"/>
              <a:ext cx="150480" cy="94968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49680"/>
                <a:gd name="textAreaBottom" fmla="*/ 946080 h 94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15"/>
            <p:cNvSpPr/>
            <p:nvPr/>
          </p:nvSpPr>
          <p:spPr>
            <a:xfrm>
              <a:off x="2906640" y="2446200"/>
              <a:ext cx="31672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ù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大陆） 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 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iù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陆拾圆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TextBox 1"/>
          <p:cNvSpPr/>
          <p:nvPr/>
        </p:nvSpPr>
        <p:spPr>
          <a:xfrm>
            <a:off x="2249640" y="29084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5"/>
          <p:cNvGrpSpPr/>
          <p:nvPr/>
        </p:nvGrpSpPr>
        <p:grpSpPr>
          <a:xfrm>
            <a:off x="2832120" y="3878280"/>
            <a:ext cx="3263760" cy="1373400"/>
            <a:chOff x="2832120" y="3878280"/>
            <a:chExt cx="3263760" cy="1373400"/>
          </a:xfrm>
        </p:grpSpPr>
        <p:sp>
          <p:nvSpPr>
            <p:cNvPr id="139" name="左大括号 11"/>
            <p:cNvSpPr/>
            <p:nvPr/>
          </p:nvSpPr>
          <p:spPr>
            <a:xfrm>
              <a:off x="2832120" y="410976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5"/>
            <p:cNvSpPr/>
            <p:nvPr/>
          </p:nvSpPr>
          <p:spPr>
            <a:xfrm>
              <a:off x="2927880" y="3878280"/>
              <a:ext cx="31680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ēn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奔跑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bèn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投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TextBox 1"/>
          <p:cNvSpPr/>
          <p:nvPr/>
        </p:nvSpPr>
        <p:spPr>
          <a:xfrm>
            <a:off x="2257560" y="4340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片 7" descr="花盆.png"/>
          <p:cNvPicPr/>
          <p:nvPr/>
        </p:nvPicPr>
        <p:blipFill>
          <a:blip r:embed="rId1"/>
          <a:stretch/>
        </p:blipFill>
        <p:spPr>
          <a:xfrm>
            <a:off x="568440" y="1606680"/>
            <a:ext cx="420480" cy="492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1195560" y="1550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c060"/>
                </a:solidFill>
                <a:latin typeface="黑体"/>
                <a:ea typeface="黑体"/>
              </a:rPr>
              <a:t>多音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32"/>
          <p:cNvSpPr/>
          <p:nvPr/>
        </p:nvSpPr>
        <p:spPr>
          <a:xfrm>
            <a:off x="1262160" y="2725560"/>
            <a:ext cx="6797520" cy="1349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pPr>
              <a:lnSpc>
                <a:spcPct val="150000"/>
              </a:lnSpc>
              <a:spcAft>
                <a:spcPts val="1400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名读课文，同学互评：字音是否正确，句子是否通顺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2"/>
          <p:cNvSpPr/>
          <p:nvPr/>
        </p:nvSpPr>
        <p:spPr>
          <a:xfrm>
            <a:off x="1492200" y="2770200"/>
            <a:ext cx="6829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本文介绍了祖国具有代表性的景色：黄河、长江、长城、珠峰和属于祖国一部分的台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C:\Users\Administrator\Desktop\图\图2\图3\写字\老师图\timg  8 - 副本.jpg"/>
          <p:cNvPicPr/>
          <p:nvPr/>
        </p:nvPicPr>
        <p:blipFill>
          <a:blip r:embed="rId1"/>
          <a:stretch/>
        </p:blipFill>
        <p:spPr>
          <a:xfrm>
            <a:off x="1062000" y="1393920"/>
            <a:ext cx="878040" cy="11905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1947960" y="1663560"/>
            <a:ext cx="57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课文主要写了什么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州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0"/>
          <p:cNvSpPr/>
          <p:nvPr/>
        </p:nvSpPr>
        <p:spPr>
          <a:xfrm>
            <a:off x="1285920" y="2027160"/>
            <a:ext cx="12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ō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15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Box 57"/>
          <p:cNvSpPr/>
          <p:nvPr/>
        </p:nvSpPr>
        <p:spPr>
          <a:xfrm>
            <a:off x="4619520" y="50148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笔竖撇，第四笔稍短，第六笔竖稍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23320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神州  九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4"/>
          <p:cNvSpPr/>
          <p:nvPr/>
        </p:nvSpPr>
        <p:spPr>
          <a:xfrm>
            <a:off x="857160" y="50148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神舟五号实现了载人航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5562360" y="2216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5594400" y="2890800"/>
            <a:ext cx="193680" cy="450720"/>
          </a:xfrm>
          <a:custGeom>
            <a:avLst/>
            <a:gdLst/>
            <a:ahLst/>
            <a:rect l="l" t="t" r="r" b="b"/>
            <a:pathLst>
              <a:path w="305" h="710">
                <a:moveTo>
                  <a:pt x="169" y="186"/>
                </a:moveTo>
                <a:lnTo>
                  <a:pt x="186" y="102"/>
                </a:lnTo>
                <a:lnTo>
                  <a:pt x="203" y="51"/>
                </a:lnTo>
                <a:lnTo>
                  <a:pt x="220" y="17"/>
                </a:lnTo>
                <a:lnTo>
                  <a:pt x="254" y="0"/>
                </a:lnTo>
                <a:lnTo>
                  <a:pt x="271" y="17"/>
                </a:lnTo>
                <a:lnTo>
                  <a:pt x="271" y="34"/>
                </a:lnTo>
                <a:lnTo>
                  <a:pt x="288" y="51"/>
                </a:lnTo>
                <a:lnTo>
                  <a:pt x="288" y="85"/>
                </a:lnTo>
                <a:lnTo>
                  <a:pt x="288" y="135"/>
                </a:lnTo>
                <a:lnTo>
                  <a:pt x="305" y="186"/>
                </a:lnTo>
                <a:lnTo>
                  <a:pt x="305" y="271"/>
                </a:lnTo>
                <a:lnTo>
                  <a:pt x="288" y="355"/>
                </a:lnTo>
                <a:lnTo>
                  <a:pt x="288" y="423"/>
                </a:lnTo>
                <a:lnTo>
                  <a:pt x="254" y="507"/>
                </a:lnTo>
                <a:lnTo>
                  <a:pt x="237" y="575"/>
                </a:lnTo>
                <a:lnTo>
                  <a:pt x="203" y="625"/>
                </a:lnTo>
                <a:lnTo>
                  <a:pt x="186" y="676"/>
                </a:lnTo>
                <a:lnTo>
                  <a:pt x="152" y="693"/>
                </a:lnTo>
                <a:lnTo>
                  <a:pt x="135" y="710"/>
                </a:lnTo>
                <a:lnTo>
                  <a:pt x="118" y="710"/>
                </a:lnTo>
                <a:lnTo>
                  <a:pt x="85" y="676"/>
                </a:lnTo>
                <a:lnTo>
                  <a:pt x="51" y="659"/>
                </a:lnTo>
                <a:lnTo>
                  <a:pt x="34" y="642"/>
                </a:lnTo>
                <a:lnTo>
                  <a:pt x="17" y="592"/>
                </a:lnTo>
                <a:lnTo>
                  <a:pt x="0" y="541"/>
                </a:lnTo>
                <a:lnTo>
                  <a:pt x="0" y="524"/>
                </a:lnTo>
                <a:lnTo>
                  <a:pt x="0" y="507"/>
                </a:lnTo>
                <a:lnTo>
                  <a:pt x="17" y="490"/>
                </a:lnTo>
                <a:lnTo>
                  <a:pt x="34" y="473"/>
                </a:lnTo>
                <a:lnTo>
                  <a:pt x="85" y="423"/>
                </a:lnTo>
                <a:lnTo>
                  <a:pt x="101" y="372"/>
                </a:lnTo>
                <a:lnTo>
                  <a:pt x="135" y="321"/>
                </a:lnTo>
                <a:lnTo>
                  <a:pt x="152" y="254"/>
                </a:lnTo>
                <a:lnTo>
                  <a:pt x="169" y="18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37"/>
          <p:cNvSpPr/>
          <p:nvPr/>
        </p:nvSpPr>
        <p:spPr>
          <a:xfrm>
            <a:off x="6348240" y="2538360"/>
            <a:ext cx="193680" cy="1147680"/>
          </a:xfrm>
          <a:custGeom>
            <a:avLst/>
            <a:gdLst/>
            <a:ahLst/>
            <a:rect l="l" t="t" r="r" b="b"/>
            <a:pathLst>
              <a:path w="305" h="1808">
                <a:moveTo>
                  <a:pt x="271" y="287"/>
                </a:moveTo>
                <a:lnTo>
                  <a:pt x="271" y="304"/>
                </a:lnTo>
                <a:lnTo>
                  <a:pt x="271" y="338"/>
                </a:lnTo>
                <a:lnTo>
                  <a:pt x="254" y="388"/>
                </a:lnTo>
                <a:lnTo>
                  <a:pt x="254" y="456"/>
                </a:lnTo>
                <a:lnTo>
                  <a:pt x="254" y="524"/>
                </a:lnTo>
                <a:lnTo>
                  <a:pt x="254" y="608"/>
                </a:lnTo>
                <a:lnTo>
                  <a:pt x="254" y="709"/>
                </a:lnTo>
                <a:lnTo>
                  <a:pt x="254" y="828"/>
                </a:lnTo>
                <a:lnTo>
                  <a:pt x="254" y="946"/>
                </a:lnTo>
                <a:lnTo>
                  <a:pt x="254" y="1047"/>
                </a:lnTo>
                <a:lnTo>
                  <a:pt x="254" y="1149"/>
                </a:lnTo>
                <a:lnTo>
                  <a:pt x="254" y="1233"/>
                </a:lnTo>
                <a:lnTo>
                  <a:pt x="254" y="1301"/>
                </a:lnTo>
                <a:lnTo>
                  <a:pt x="254" y="1385"/>
                </a:lnTo>
                <a:lnTo>
                  <a:pt x="254" y="1436"/>
                </a:lnTo>
                <a:lnTo>
                  <a:pt x="237" y="1487"/>
                </a:lnTo>
                <a:lnTo>
                  <a:pt x="237" y="1588"/>
                </a:lnTo>
                <a:lnTo>
                  <a:pt x="220" y="1656"/>
                </a:lnTo>
                <a:lnTo>
                  <a:pt x="203" y="1706"/>
                </a:lnTo>
                <a:lnTo>
                  <a:pt x="186" y="1757"/>
                </a:lnTo>
                <a:lnTo>
                  <a:pt x="169" y="1774"/>
                </a:lnTo>
                <a:lnTo>
                  <a:pt x="135" y="1808"/>
                </a:lnTo>
                <a:lnTo>
                  <a:pt x="118" y="1808"/>
                </a:lnTo>
                <a:lnTo>
                  <a:pt x="101" y="1791"/>
                </a:lnTo>
                <a:lnTo>
                  <a:pt x="101" y="1774"/>
                </a:lnTo>
                <a:lnTo>
                  <a:pt x="84" y="1740"/>
                </a:lnTo>
                <a:lnTo>
                  <a:pt x="84" y="1689"/>
                </a:lnTo>
                <a:lnTo>
                  <a:pt x="68" y="1639"/>
                </a:lnTo>
                <a:lnTo>
                  <a:pt x="68" y="1554"/>
                </a:lnTo>
                <a:lnTo>
                  <a:pt x="68" y="1470"/>
                </a:lnTo>
                <a:lnTo>
                  <a:pt x="84" y="1368"/>
                </a:lnTo>
                <a:lnTo>
                  <a:pt x="101" y="1267"/>
                </a:lnTo>
                <a:lnTo>
                  <a:pt x="101" y="1115"/>
                </a:lnTo>
                <a:lnTo>
                  <a:pt x="118" y="963"/>
                </a:lnTo>
                <a:lnTo>
                  <a:pt x="118" y="777"/>
                </a:lnTo>
                <a:lnTo>
                  <a:pt x="118" y="608"/>
                </a:lnTo>
                <a:lnTo>
                  <a:pt x="118" y="524"/>
                </a:lnTo>
                <a:lnTo>
                  <a:pt x="118" y="456"/>
                </a:lnTo>
                <a:lnTo>
                  <a:pt x="118" y="388"/>
                </a:lnTo>
                <a:lnTo>
                  <a:pt x="118" y="338"/>
                </a:lnTo>
                <a:lnTo>
                  <a:pt x="101" y="287"/>
                </a:lnTo>
                <a:lnTo>
                  <a:pt x="101" y="236"/>
                </a:lnTo>
                <a:lnTo>
                  <a:pt x="84" y="169"/>
                </a:lnTo>
                <a:lnTo>
                  <a:pt x="68" y="135"/>
                </a:lnTo>
                <a:lnTo>
                  <a:pt x="51" y="84"/>
                </a:lnTo>
                <a:lnTo>
                  <a:pt x="34" y="67"/>
                </a:lnTo>
                <a:lnTo>
                  <a:pt x="17" y="50"/>
                </a:lnTo>
                <a:lnTo>
                  <a:pt x="0" y="34"/>
                </a:lnTo>
                <a:lnTo>
                  <a:pt x="17" y="17"/>
                </a:lnTo>
                <a:lnTo>
                  <a:pt x="34" y="0"/>
                </a:lnTo>
                <a:lnTo>
                  <a:pt x="51" y="0"/>
                </a:lnTo>
                <a:lnTo>
                  <a:pt x="84" y="0"/>
                </a:lnTo>
                <a:lnTo>
                  <a:pt x="152" y="17"/>
                </a:lnTo>
                <a:lnTo>
                  <a:pt x="203" y="34"/>
                </a:lnTo>
                <a:lnTo>
                  <a:pt x="237" y="50"/>
                </a:lnTo>
                <a:lnTo>
                  <a:pt x="271" y="67"/>
                </a:lnTo>
                <a:lnTo>
                  <a:pt x="305" y="101"/>
                </a:lnTo>
                <a:lnTo>
                  <a:pt x="305" y="118"/>
                </a:lnTo>
                <a:lnTo>
                  <a:pt x="305" y="152"/>
                </a:lnTo>
                <a:lnTo>
                  <a:pt x="288" y="203"/>
                </a:lnTo>
                <a:lnTo>
                  <a:pt x="288" y="236"/>
                </a:lnTo>
                <a:lnTo>
                  <a:pt x="271" y="28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38"/>
          <p:cNvSpPr/>
          <p:nvPr/>
        </p:nvSpPr>
        <p:spPr>
          <a:xfrm>
            <a:off x="6616800" y="2881440"/>
            <a:ext cx="204840" cy="279360"/>
          </a:xfrm>
          <a:custGeom>
            <a:avLst/>
            <a:gdLst/>
            <a:ahLst/>
            <a:rect l="l" t="t" r="r" b="b"/>
            <a:pathLst>
              <a:path w="322" h="440">
                <a:moveTo>
                  <a:pt x="0" y="0"/>
                </a:moveTo>
                <a:lnTo>
                  <a:pt x="0" y="0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53" y="34"/>
                </a:lnTo>
                <a:lnTo>
                  <a:pt x="221" y="85"/>
                </a:lnTo>
                <a:lnTo>
                  <a:pt x="271" y="136"/>
                </a:lnTo>
                <a:lnTo>
                  <a:pt x="305" y="186"/>
                </a:lnTo>
                <a:lnTo>
                  <a:pt x="305" y="220"/>
                </a:lnTo>
                <a:lnTo>
                  <a:pt x="322" y="305"/>
                </a:lnTo>
                <a:lnTo>
                  <a:pt x="305" y="338"/>
                </a:lnTo>
                <a:lnTo>
                  <a:pt x="305" y="372"/>
                </a:lnTo>
                <a:lnTo>
                  <a:pt x="271" y="389"/>
                </a:lnTo>
                <a:lnTo>
                  <a:pt x="254" y="423"/>
                </a:lnTo>
                <a:lnTo>
                  <a:pt x="238" y="423"/>
                </a:lnTo>
                <a:lnTo>
                  <a:pt x="238" y="440"/>
                </a:lnTo>
                <a:lnTo>
                  <a:pt x="221" y="423"/>
                </a:lnTo>
                <a:lnTo>
                  <a:pt x="204" y="389"/>
                </a:lnTo>
                <a:lnTo>
                  <a:pt x="170" y="355"/>
                </a:lnTo>
                <a:lnTo>
                  <a:pt x="136" y="305"/>
                </a:lnTo>
                <a:lnTo>
                  <a:pt x="68" y="186"/>
                </a:lnTo>
                <a:lnTo>
                  <a:pt x="34" y="136"/>
                </a:lnTo>
                <a:lnTo>
                  <a:pt x="34" y="85"/>
                </a:lnTo>
                <a:lnTo>
                  <a:pt x="17" y="34"/>
                </a:lnTo>
                <a:lnTo>
                  <a:pt x="0" y="1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39"/>
          <p:cNvSpPr/>
          <p:nvPr/>
        </p:nvSpPr>
        <p:spPr>
          <a:xfrm>
            <a:off x="6853320" y="2344680"/>
            <a:ext cx="193680" cy="1704960"/>
          </a:xfrm>
          <a:custGeom>
            <a:avLst/>
            <a:gdLst/>
            <a:ahLst/>
            <a:rect l="l" t="t" r="r" b="b"/>
            <a:pathLst>
              <a:path w="305" h="2686">
                <a:moveTo>
                  <a:pt x="288" y="1182"/>
                </a:moveTo>
                <a:lnTo>
                  <a:pt x="288" y="1385"/>
                </a:lnTo>
                <a:lnTo>
                  <a:pt x="288" y="1571"/>
                </a:lnTo>
                <a:lnTo>
                  <a:pt x="288" y="1723"/>
                </a:lnTo>
                <a:lnTo>
                  <a:pt x="288" y="1858"/>
                </a:lnTo>
                <a:lnTo>
                  <a:pt x="288" y="1976"/>
                </a:lnTo>
                <a:lnTo>
                  <a:pt x="288" y="2078"/>
                </a:lnTo>
                <a:lnTo>
                  <a:pt x="288" y="2145"/>
                </a:lnTo>
                <a:lnTo>
                  <a:pt x="305" y="2196"/>
                </a:lnTo>
                <a:lnTo>
                  <a:pt x="305" y="2281"/>
                </a:lnTo>
                <a:lnTo>
                  <a:pt x="305" y="2365"/>
                </a:lnTo>
                <a:lnTo>
                  <a:pt x="271" y="2534"/>
                </a:lnTo>
                <a:lnTo>
                  <a:pt x="254" y="2585"/>
                </a:lnTo>
                <a:lnTo>
                  <a:pt x="237" y="2635"/>
                </a:lnTo>
                <a:lnTo>
                  <a:pt x="220" y="2669"/>
                </a:lnTo>
                <a:lnTo>
                  <a:pt x="203" y="2686"/>
                </a:lnTo>
                <a:lnTo>
                  <a:pt x="186" y="2669"/>
                </a:lnTo>
                <a:lnTo>
                  <a:pt x="169" y="2652"/>
                </a:lnTo>
                <a:lnTo>
                  <a:pt x="153" y="2618"/>
                </a:lnTo>
                <a:lnTo>
                  <a:pt x="136" y="2568"/>
                </a:lnTo>
                <a:lnTo>
                  <a:pt x="119" y="2517"/>
                </a:lnTo>
                <a:lnTo>
                  <a:pt x="102" y="2466"/>
                </a:lnTo>
                <a:lnTo>
                  <a:pt x="85" y="2382"/>
                </a:lnTo>
                <a:lnTo>
                  <a:pt x="102" y="2348"/>
                </a:lnTo>
                <a:lnTo>
                  <a:pt x="102" y="2297"/>
                </a:lnTo>
                <a:lnTo>
                  <a:pt x="102" y="2213"/>
                </a:lnTo>
                <a:lnTo>
                  <a:pt x="119" y="2128"/>
                </a:lnTo>
                <a:lnTo>
                  <a:pt x="119" y="2078"/>
                </a:lnTo>
                <a:lnTo>
                  <a:pt x="136" y="2010"/>
                </a:lnTo>
                <a:lnTo>
                  <a:pt x="136" y="1926"/>
                </a:lnTo>
                <a:lnTo>
                  <a:pt x="136" y="1841"/>
                </a:lnTo>
                <a:lnTo>
                  <a:pt x="136" y="1740"/>
                </a:lnTo>
                <a:lnTo>
                  <a:pt x="136" y="1622"/>
                </a:lnTo>
                <a:lnTo>
                  <a:pt x="136" y="1503"/>
                </a:lnTo>
                <a:lnTo>
                  <a:pt x="136" y="1368"/>
                </a:lnTo>
                <a:lnTo>
                  <a:pt x="136" y="1098"/>
                </a:lnTo>
                <a:lnTo>
                  <a:pt x="136" y="844"/>
                </a:lnTo>
                <a:lnTo>
                  <a:pt x="136" y="642"/>
                </a:lnTo>
                <a:lnTo>
                  <a:pt x="136" y="456"/>
                </a:lnTo>
                <a:lnTo>
                  <a:pt x="119" y="371"/>
                </a:lnTo>
                <a:lnTo>
                  <a:pt x="119" y="304"/>
                </a:lnTo>
                <a:lnTo>
                  <a:pt x="102" y="236"/>
                </a:lnTo>
                <a:lnTo>
                  <a:pt x="102" y="185"/>
                </a:lnTo>
                <a:lnTo>
                  <a:pt x="85" y="135"/>
                </a:lnTo>
                <a:lnTo>
                  <a:pt x="68" y="101"/>
                </a:lnTo>
                <a:lnTo>
                  <a:pt x="51" y="84"/>
                </a:lnTo>
                <a:lnTo>
                  <a:pt x="34" y="67"/>
                </a:lnTo>
                <a:lnTo>
                  <a:pt x="17" y="50"/>
                </a:lnTo>
                <a:lnTo>
                  <a:pt x="0" y="33"/>
                </a:lnTo>
                <a:lnTo>
                  <a:pt x="0" y="17"/>
                </a:lnTo>
                <a:lnTo>
                  <a:pt x="34" y="0"/>
                </a:lnTo>
                <a:lnTo>
                  <a:pt x="51" y="0"/>
                </a:lnTo>
                <a:lnTo>
                  <a:pt x="85" y="0"/>
                </a:lnTo>
                <a:lnTo>
                  <a:pt x="119" y="17"/>
                </a:lnTo>
                <a:lnTo>
                  <a:pt x="169" y="33"/>
                </a:lnTo>
                <a:lnTo>
                  <a:pt x="220" y="50"/>
                </a:lnTo>
                <a:lnTo>
                  <a:pt x="254" y="67"/>
                </a:lnTo>
                <a:lnTo>
                  <a:pt x="271" y="84"/>
                </a:lnTo>
                <a:lnTo>
                  <a:pt x="288" y="101"/>
                </a:lnTo>
                <a:lnTo>
                  <a:pt x="305" y="152"/>
                </a:lnTo>
                <a:lnTo>
                  <a:pt x="305" y="185"/>
                </a:lnTo>
                <a:lnTo>
                  <a:pt x="305" y="236"/>
                </a:lnTo>
                <a:lnTo>
                  <a:pt x="288" y="270"/>
                </a:lnTo>
                <a:lnTo>
                  <a:pt x="288" y="321"/>
                </a:lnTo>
                <a:lnTo>
                  <a:pt x="288" y="405"/>
                </a:lnTo>
                <a:lnTo>
                  <a:pt x="288" y="507"/>
                </a:lnTo>
                <a:lnTo>
                  <a:pt x="288" y="642"/>
                </a:lnTo>
                <a:lnTo>
                  <a:pt x="288" y="794"/>
                </a:lnTo>
                <a:lnTo>
                  <a:pt x="288" y="980"/>
                </a:lnTo>
                <a:lnTo>
                  <a:pt x="288" y="118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40"/>
          <p:cNvSpPr/>
          <p:nvPr/>
        </p:nvSpPr>
        <p:spPr>
          <a:xfrm>
            <a:off x="6165720" y="2881440"/>
            <a:ext cx="139680" cy="342720"/>
          </a:xfrm>
          <a:custGeom>
            <a:avLst/>
            <a:gdLst/>
            <a:ahLst/>
            <a:rect l="l" t="t" r="r" b="b"/>
            <a:pathLst>
              <a:path w="220" h="541">
                <a:moveTo>
                  <a:pt x="0" y="152"/>
                </a:moveTo>
                <a:lnTo>
                  <a:pt x="0" y="102"/>
                </a:lnTo>
                <a:lnTo>
                  <a:pt x="0" y="51"/>
                </a:lnTo>
                <a:lnTo>
                  <a:pt x="17" y="17"/>
                </a:lnTo>
                <a:lnTo>
                  <a:pt x="17" y="0"/>
                </a:lnTo>
                <a:lnTo>
                  <a:pt x="34" y="17"/>
                </a:lnTo>
                <a:lnTo>
                  <a:pt x="51" y="17"/>
                </a:lnTo>
                <a:lnTo>
                  <a:pt x="84" y="51"/>
                </a:lnTo>
                <a:lnTo>
                  <a:pt x="118" y="85"/>
                </a:lnTo>
                <a:lnTo>
                  <a:pt x="152" y="119"/>
                </a:lnTo>
                <a:lnTo>
                  <a:pt x="186" y="169"/>
                </a:lnTo>
                <a:lnTo>
                  <a:pt x="203" y="220"/>
                </a:lnTo>
                <a:lnTo>
                  <a:pt x="203" y="271"/>
                </a:lnTo>
                <a:lnTo>
                  <a:pt x="220" y="338"/>
                </a:lnTo>
                <a:lnTo>
                  <a:pt x="220" y="389"/>
                </a:lnTo>
                <a:lnTo>
                  <a:pt x="186" y="474"/>
                </a:lnTo>
                <a:lnTo>
                  <a:pt x="152" y="507"/>
                </a:lnTo>
                <a:lnTo>
                  <a:pt x="135" y="524"/>
                </a:lnTo>
                <a:lnTo>
                  <a:pt x="135" y="541"/>
                </a:lnTo>
                <a:lnTo>
                  <a:pt x="118" y="541"/>
                </a:lnTo>
                <a:lnTo>
                  <a:pt x="101" y="524"/>
                </a:lnTo>
                <a:lnTo>
                  <a:pt x="101" y="507"/>
                </a:lnTo>
                <a:lnTo>
                  <a:pt x="84" y="457"/>
                </a:lnTo>
                <a:lnTo>
                  <a:pt x="68" y="406"/>
                </a:lnTo>
                <a:lnTo>
                  <a:pt x="34" y="288"/>
                </a:lnTo>
                <a:lnTo>
                  <a:pt x="0" y="1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41"/>
          <p:cNvSpPr/>
          <p:nvPr/>
        </p:nvSpPr>
        <p:spPr>
          <a:xfrm>
            <a:off x="5573880" y="2538360"/>
            <a:ext cx="515880" cy="1416240"/>
          </a:xfrm>
          <a:custGeom>
            <a:avLst/>
            <a:gdLst/>
            <a:ahLst/>
            <a:rect l="l" t="t" r="r" b="b"/>
            <a:pathLst>
              <a:path w="813" h="2230">
                <a:moveTo>
                  <a:pt x="525" y="67"/>
                </a:moveTo>
                <a:lnTo>
                  <a:pt x="491" y="34"/>
                </a:lnTo>
                <a:lnTo>
                  <a:pt x="491" y="17"/>
                </a:lnTo>
                <a:lnTo>
                  <a:pt x="491" y="0"/>
                </a:lnTo>
                <a:lnTo>
                  <a:pt x="508" y="0"/>
                </a:lnTo>
                <a:lnTo>
                  <a:pt x="542" y="0"/>
                </a:lnTo>
                <a:lnTo>
                  <a:pt x="576" y="0"/>
                </a:lnTo>
                <a:lnTo>
                  <a:pt x="627" y="0"/>
                </a:lnTo>
                <a:lnTo>
                  <a:pt x="712" y="34"/>
                </a:lnTo>
                <a:lnTo>
                  <a:pt x="779" y="67"/>
                </a:lnTo>
                <a:lnTo>
                  <a:pt x="813" y="118"/>
                </a:lnTo>
                <a:lnTo>
                  <a:pt x="813" y="152"/>
                </a:lnTo>
                <a:lnTo>
                  <a:pt x="813" y="169"/>
                </a:lnTo>
                <a:lnTo>
                  <a:pt x="796" y="186"/>
                </a:lnTo>
                <a:lnTo>
                  <a:pt x="796" y="219"/>
                </a:lnTo>
                <a:lnTo>
                  <a:pt x="796" y="270"/>
                </a:lnTo>
                <a:lnTo>
                  <a:pt x="796" y="321"/>
                </a:lnTo>
                <a:lnTo>
                  <a:pt x="779" y="388"/>
                </a:lnTo>
                <a:lnTo>
                  <a:pt x="779" y="473"/>
                </a:lnTo>
                <a:lnTo>
                  <a:pt x="779" y="574"/>
                </a:lnTo>
                <a:lnTo>
                  <a:pt x="762" y="676"/>
                </a:lnTo>
                <a:lnTo>
                  <a:pt x="762" y="895"/>
                </a:lnTo>
                <a:lnTo>
                  <a:pt x="745" y="1081"/>
                </a:lnTo>
                <a:lnTo>
                  <a:pt x="728" y="1166"/>
                </a:lnTo>
                <a:lnTo>
                  <a:pt x="712" y="1250"/>
                </a:lnTo>
                <a:lnTo>
                  <a:pt x="712" y="1318"/>
                </a:lnTo>
                <a:lnTo>
                  <a:pt x="695" y="1385"/>
                </a:lnTo>
                <a:lnTo>
                  <a:pt x="644" y="1503"/>
                </a:lnTo>
                <a:lnTo>
                  <a:pt x="593" y="1622"/>
                </a:lnTo>
                <a:lnTo>
                  <a:pt x="525" y="1723"/>
                </a:lnTo>
                <a:lnTo>
                  <a:pt x="457" y="1841"/>
                </a:lnTo>
                <a:lnTo>
                  <a:pt x="390" y="1926"/>
                </a:lnTo>
                <a:lnTo>
                  <a:pt x="305" y="2010"/>
                </a:lnTo>
                <a:lnTo>
                  <a:pt x="237" y="2078"/>
                </a:lnTo>
                <a:lnTo>
                  <a:pt x="152" y="2146"/>
                </a:lnTo>
                <a:lnTo>
                  <a:pt x="85" y="2179"/>
                </a:lnTo>
                <a:lnTo>
                  <a:pt x="34" y="2213"/>
                </a:lnTo>
                <a:lnTo>
                  <a:pt x="0" y="2230"/>
                </a:lnTo>
                <a:lnTo>
                  <a:pt x="0" y="2213"/>
                </a:lnTo>
                <a:lnTo>
                  <a:pt x="0" y="2196"/>
                </a:lnTo>
                <a:lnTo>
                  <a:pt x="17" y="2179"/>
                </a:lnTo>
                <a:lnTo>
                  <a:pt x="51" y="2146"/>
                </a:lnTo>
                <a:lnTo>
                  <a:pt x="85" y="2095"/>
                </a:lnTo>
                <a:lnTo>
                  <a:pt x="119" y="2044"/>
                </a:lnTo>
                <a:lnTo>
                  <a:pt x="169" y="1993"/>
                </a:lnTo>
                <a:lnTo>
                  <a:pt x="220" y="1926"/>
                </a:lnTo>
                <a:lnTo>
                  <a:pt x="322" y="1791"/>
                </a:lnTo>
                <a:lnTo>
                  <a:pt x="407" y="1639"/>
                </a:lnTo>
                <a:lnTo>
                  <a:pt x="474" y="1470"/>
                </a:lnTo>
                <a:lnTo>
                  <a:pt x="525" y="1284"/>
                </a:lnTo>
                <a:lnTo>
                  <a:pt x="559" y="1098"/>
                </a:lnTo>
                <a:lnTo>
                  <a:pt x="593" y="895"/>
                </a:lnTo>
                <a:lnTo>
                  <a:pt x="610" y="709"/>
                </a:lnTo>
                <a:lnTo>
                  <a:pt x="610" y="490"/>
                </a:lnTo>
                <a:lnTo>
                  <a:pt x="593" y="405"/>
                </a:lnTo>
                <a:lnTo>
                  <a:pt x="593" y="321"/>
                </a:lnTo>
                <a:lnTo>
                  <a:pt x="576" y="253"/>
                </a:lnTo>
                <a:lnTo>
                  <a:pt x="576" y="186"/>
                </a:lnTo>
                <a:lnTo>
                  <a:pt x="559" y="135"/>
                </a:lnTo>
                <a:lnTo>
                  <a:pt x="559" y="101"/>
                </a:lnTo>
                <a:lnTo>
                  <a:pt x="542" y="84"/>
                </a:lnTo>
                <a:lnTo>
                  <a:pt x="525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75" name="圆角矩形 2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30"/>
          <p:cNvSpPr/>
          <p:nvPr/>
        </p:nvSpPr>
        <p:spPr>
          <a:xfrm>
            <a:off x="5695920" y="2422440"/>
            <a:ext cx="236520" cy="214560"/>
          </a:xfrm>
          <a:custGeom>
            <a:avLst/>
            <a:gdLst/>
            <a:ahLst/>
            <a:rect l="l" t="t" r="r" b="b"/>
            <a:pathLst>
              <a:path w="373" h="338">
                <a:moveTo>
                  <a:pt x="322" y="338"/>
                </a:moveTo>
                <a:lnTo>
                  <a:pt x="305" y="321"/>
                </a:lnTo>
                <a:lnTo>
                  <a:pt x="254" y="304"/>
                </a:lnTo>
                <a:lnTo>
                  <a:pt x="203" y="253"/>
                </a:lnTo>
                <a:lnTo>
                  <a:pt x="135" y="203"/>
                </a:lnTo>
                <a:lnTo>
                  <a:pt x="68" y="135"/>
                </a:lnTo>
                <a:lnTo>
                  <a:pt x="34" y="84"/>
                </a:lnTo>
                <a:lnTo>
                  <a:pt x="0" y="50"/>
                </a:lnTo>
                <a:lnTo>
                  <a:pt x="0" y="17"/>
                </a:lnTo>
                <a:lnTo>
                  <a:pt x="17" y="0"/>
                </a:lnTo>
                <a:lnTo>
                  <a:pt x="51" y="0"/>
                </a:lnTo>
                <a:lnTo>
                  <a:pt x="102" y="0"/>
                </a:lnTo>
                <a:lnTo>
                  <a:pt x="152" y="0"/>
                </a:lnTo>
                <a:lnTo>
                  <a:pt x="203" y="17"/>
                </a:lnTo>
                <a:lnTo>
                  <a:pt x="254" y="34"/>
                </a:lnTo>
                <a:lnTo>
                  <a:pt x="305" y="50"/>
                </a:lnTo>
                <a:lnTo>
                  <a:pt x="339" y="84"/>
                </a:lnTo>
                <a:lnTo>
                  <a:pt x="373" y="135"/>
                </a:lnTo>
                <a:lnTo>
                  <a:pt x="373" y="169"/>
                </a:lnTo>
                <a:lnTo>
                  <a:pt x="373" y="219"/>
                </a:lnTo>
                <a:lnTo>
                  <a:pt x="373" y="270"/>
                </a:lnTo>
                <a:lnTo>
                  <a:pt x="356" y="304"/>
                </a:lnTo>
                <a:lnTo>
                  <a:pt x="339" y="321"/>
                </a:lnTo>
                <a:lnTo>
                  <a:pt x="322" y="3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0"/>
          <p:cNvSpPr/>
          <p:nvPr/>
        </p:nvSpPr>
        <p:spPr>
          <a:xfrm>
            <a:off x="117324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ā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183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TextBox 57"/>
          <p:cNvSpPr/>
          <p:nvPr/>
        </p:nvSpPr>
        <p:spPr>
          <a:xfrm>
            <a:off x="4619520" y="49500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右部笔画紧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23320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台湾  海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34"/>
          <p:cNvSpPr/>
          <p:nvPr/>
        </p:nvSpPr>
        <p:spPr>
          <a:xfrm>
            <a:off x="857160" y="49500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台湾是我国不可分割的一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5490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31"/>
          <p:cNvSpPr/>
          <p:nvPr/>
        </p:nvSpPr>
        <p:spPr>
          <a:xfrm>
            <a:off x="6383160" y="2197080"/>
            <a:ext cx="247680" cy="236520"/>
          </a:xfrm>
          <a:custGeom>
            <a:avLst/>
            <a:gdLst/>
            <a:ahLst/>
            <a:rect l="l" t="t" r="r" b="b"/>
            <a:pathLst>
              <a:path w="390" h="372">
                <a:moveTo>
                  <a:pt x="0" y="34"/>
                </a:moveTo>
                <a:lnTo>
                  <a:pt x="17" y="17"/>
                </a:lnTo>
                <a:lnTo>
                  <a:pt x="34" y="0"/>
                </a:lnTo>
                <a:lnTo>
                  <a:pt x="51" y="0"/>
                </a:lnTo>
                <a:lnTo>
                  <a:pt x="119" y="17"/>
                </a:lnTo>
                <a:lnTo>
                  <a:pt x="204" y="34"/>
                </a:lnTo>
                <a:lnTo>
                  <a:pt x="288" y="84"/>
                </a:lnTo>
                <a:lnTo>
                  <a:pt x="322" y="118"/>
                </a:lnTo>
                <a:lnTo>
                  <a:pt x="356" y="152"/>
                </a:lnTo>
                <a:lnTo>
                  <a:pt x="373" y="203"/>
                </a:lnTo>
                <a:lnTo>
                  <a:pt x="390" y="237"/>
                </a:lnTo>
                <a:lnTo>
                  <a:pt x="390" y="270"/>
                </a:lnTo>
                <a:lnTo>
                  <a:pt x="373" y="304"/>
                </a:lnTo>
                <a:lnTo>
                  <a:pt x="356" y="338"/>
                </a:lnTo>
                <a:lnTo>
                  <a:pt x="339" y="355"/>
                </a:lnTo>
                <a:lnTo>
                  <a:pt x="322" y="372"/>
                </a:lnTo>
                <a:lnTo>
                  <a:pt x="288" y="355"/>
                </a:lnTo>
                <a:lnTo>
                  <a:pt x="254" y="355"/>
                </a:lnTo>
                <a:lnTo>
                  <a:pt x="220" y="321"/>
                </a:lnTo>
                <a:lnTo>
                  <a:pt x="187" y="287"/>
                </a:lnTo>
                <a:lnTo>
                  <a:pt x="136" y="253"/>
                </a:lnTo>
                <a:lnTo>
                  <a:pt x="102" y="203"/>
                </a:lnTo>
                <a:lnTo>
                  <a:pt x="68" y="152"/>
                </a:lnTo>
                <a:lnTo>
                  <a:pt x="51" y="118"/>
                </a:lnTo>
                <a:lnTo>
                  <a:pt x="34" y="84"/>
                </a:lnTo>
                <a:lnTo>
                  <a:pt x="17" y="51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32"/>
          <p:cNvSpPr/>
          <p:nvPr/>
        </p:nvSpPr>
        <p:spPr>
          <a:xfrm>
            <a:off x="6781680" y="2711520"/>
            <a:ext cx="290520" cy="225360"/>
          </a:xfrm>
          <a:custGeom>
            <a:avLst/>
            <a:gdLst/>
            <a:ahLst/>
            <a:rect l="l" t="t" r="r" b="b"/>
            <a:pathLst>
              <a:path w="457" h="355">
                <a:moveTo>
                  <a:pt x="457" y="270"/>
                </a:moveTo>
                <a:lnTo>
                  <a:pt x="441" y="304"/>
                </a:lnTo>
                <a:lnTo>
                  <a:pt x="424" y="338"/>
                </a:lnTo>
                <a:lnTo>
                  <a:pt x="424" y="355"/>
                </a:lnTo>
                <a:lnTo>
                  <a:pt x="407" y="355"/>
                </a:lnTo>
                <a:lnTo>
                  <a:pt x="373" y="355"/>
                </a:lnTo>
                <a:lnTo>
                  <a:pt x="322" y="321"/>
                </a:lnTo>
                <a:lnTo>
                  <a:pt x="271" y="270"/>
                </a:lnTo>
                <a:lnTo>
                  <a:pt x="186" y="203"/>
                </a:lnTo>
                <a:lnTo>
                  <a:pt x="102" y="135"/>
                </a:lnTo>
                <a:lnTo>
                  <a:pt x="51" y="84"/>
                </a:lnTo>
                <a:lnTo>
                  <a:pt x="17" y="51"/>
                </a:lnTo>
                <a:lnTo>
                  <a:pt x="0" y="17"/>
                </a:lnTo>
                <a:lnTo>
                  <a:pt x="17" y="17"/>
                </a:lnTo>
                <a:lnTo>
                  <a:pt x="51" y="0"/>
                </a:lnTo>
                <a:lnTo>
                  <a:pt x="85" y="0"/>
                </a:lnTo>
                <a:lnTo>
                  <a:pt x="136" y="0"/>
                </a:lnTo>
                <a:lnTo>
                  <a:pt x="186" y="17"/>
                </a:lnTo>
                <a:lnTo>
                  <a:pt x="254" y="34"/>
                </a:lnTo>
                <a:lnTo>
                  <a:pt x="322" y="68"/>
                </a:lnTo>
                <a:lnTo>
                  <a:pt x="390" y="118"/>
                </a:lnTo>
                <a:lnTo>
                  <a:pt x="424" y="169"/>
                </a:lnTo>
                <a:lnTo>
                  <a:pt x="457" y="220"/>
                </a:lnTo>
                <a:lnTo>
                  <a:pt x="457" y="2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33"/>
          <p:cNvSpPr/>
          <p:nvPr/>
        </p:nvSpPr>
        <p:spPr>
          <a:xfrm>
            <a:off x="5975280" y="2733840"/>
            <a:ext cx="182520" cy="322200"/>
          </a:xfrm>
          <a:custGeom>
            <a:avLst/>
            <a:gdLst/>
            <a:ahLst/>
            <a:rect l="l" t="t" r="r" b="b"/>
            <a:pathLst>
              <a:path w="288" h="507">
                <a:moveTo>
                  <a:pt x="288" y="0"/>
                </a:moveTo>
                <a:lnTo>
                  <a:pt x="288" y="84"/>
                </a:lnTo>
                <a:lnTo>
                  <a:pt x="288" y="152"/>
                </a:lnTo>
                <a:lnTo>
                  <a:pt x="288" y="219"/>
                </a:lnTo>
                <a:lnTo>
                  <a:pt x="271" y="270"/>
                </a:lnTo>
                <a:lnTo>
                  <a:pt x="221" y="371"/>
                </a:lnTo>
                <a:lnTo>
                  <a:pt x="204" y="422"/>
                </a:lnTo>
                <a:lnTo>
                  <a:pt x="170" y="456"/>
                </a:lnTo>
                <a:lnTo>
                  <a:pt x="136" y="473"/>
                </a:lnTo>
                <a:lnTo>
                  <a:pt x="102" y="490"/>
                </a:lnTo>
                <a:lnTo>
                  <a:pt x="85" y="507"/>
                </a:lnTo>
                <a:lnTo>
                  <a:pt x="68" y="507"/>
                </a:lnTo>
                <a:lnTo>
                  <a:pt x="68" y="490"/>
                </a:lnTo>
                <a:lnTo>
                  <a:pt x="51" y="490"/>
                </a:lnTo>
                <a:lnTo>
                  <a:pt x="34" y="456"/>
                </a:lnTo>
                <a:lnTo>
                  <a:pt x="17" y="439"/>
                </a:lnTo>
                <a:lnTo>
                  <a:pt x="0" y="388"/>
                </a:lnTo>
                <a:lnTo>
                  <a:pt x="0" y="355"/>
                </a:lnTo>
                <a:lnTo>
                  <a:pt x="0" y="338"/>
                </a:lnTo>
                <a:lnTo>
                  <a:pt x="17" y="321"/>
                </a:lnTo>
                <a:lnTo>
                  <a:pt x="51" y="304"/>
                </a:lnTo>
                <a:lnTo>
                  <a:pt x="68" y="270"/>
                </a:lnTo>
                <a:lnTo>
                  <a:pt x="102" y="236"/>
                </a:lnTo>
                <a:lnTo>
                  <a:pt x="153" y="169"/>
                </a:lnTo>
                <a:lnTo>
                  <a:pt x="204" y="101"/>
                </a:lnTo>
                <a:lnTo>
                  <a:pt x="255" y="0"/>
                </a:lnTo>
                <a:lnTo>
                  <a:pt x="288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35"/>
          <p:cNvSpPr/>
          <p:nvPr/>
        </p:nvSpPr>
        <p:spPr>
          <a:xfrm>
            <a:off x="6114960" y="2979720"/>
            <a:ext cx="774720" cy="258840"/>
          </a:xfrm>
          <a:custGeom>
            <a:avLst/>
            <a:gdLst/>
            <a:ahLst/>
            <a:rect l="l" t="t" r="r" b="b"/>
            <a:pathLst>
              <a:path w="1219" h="406">
                <a:moveTo>
                  <a:pt x="931" y="406"/>
                </a:moveTo>
                <a:lnTo>
                  <a:pt x="830" y="406"/>
                </a:lnTo>
                <a:lnTo>
                  <a:pt x="847" y="355"/>
                </a:lnTo>
                <a:lnTo>
                  <a:pt x="864" y="305"/>
                </a:lnTo>
                <a:lnTo>
                  <a:pt x="881" y="254"/>
                </a:lnTo>
                <a:lnTo>
                  <a:pt x="898" y="220"/>
                </a:lnTo>
                <a:lnTo>
                  <a:pt x="898" y="186"/>
                </a:lnTo>
                <a:lnTo>
                  <a:pt x="898" y="169"/>
                </a:lnTo>
                <a:lnTo>
                  <a:pt x="881" y="152"/>
                </a:lnTo>
                <a:lnTo>
                  <a:pt x="864" y="152"/>
                </a:lnTo>
                <a:lnTo>
                  <a:pt x="830" y="152"/>
                </a:lnTo>
                <a:lnTo>
                  <a:pt x="796" y="152"/>
                </a:lnTo>
                <a:lnTo>
                  <a:pt x="762" y="152"/>
                </a:lnTo>
                <a:lnTo>
                  <a:pt x="711" y="169"/>
                </a:lnTo>
                <a:lnTo>
                  <a:pt x="660" y="169"/>
                </a:lnTo>
                <a:lnTo>
                  <a:pt x="593" y="186"/>
                </a:lnTo>
                <a:lnTo>
                  <a:pt x="525" y="203"/>
                </a:lnTo>
                <a:lnTo>
                  <a:pt x="457" y="220"/>
                </a:lnTo>
                <a:lnTo>
                  <a:pt x="389" y="237"/>
                </a:lnTo>
                <a:lnTo>
                  <a:pt x="338" y="237"/>
                </a:lnTo>
                <a:lnTo>
                  <a:pt x="288" y="254"/>
                </a:lnTo>
                <a:lnTo>
                  <a:pt x="237" y="254"/>
                </a:lnTo>
                <a:lnTo>
                  <a:pt x="203" y="271"/>
                </a:lnTo>
                <a:lnTo>
                  <a:pt x="186" y="271"/>
                </a:lnTo>
                <a:lnTo>
                  <a:pt x="169" y="271"/>
                </a:lnTo>
                <a:lnTo>
                  <a:pt x="118" y="254"/>
                </a:lnTo>
                <a:lnTo>
                  <a:pt x="84" y="237"/>
                </a:lnTo>
                <a:lnTo>
                  <a:pt x="34" y="203"/>
                </a:lnTo>
                <a:lnTo>
                  <a:pt x="0" y="169"/>
                </a:lnTo>
                <a:lnTo>
                  <a:pt x="203" y="136"/>
                </a:lnTo>
                <a:lnTo>
                  <a:pt x="372" y="119"/>
                </a:lnTo>
                <a:lnTo>
                  <a:pt x="525" y="85"/>
                </a:lnTo>
                <a:lnTo>
                  <a:pt x="660" y="68"/>
                </a:lnTo>
                <a:lnTo>
                  <a:pt x="762" y="51"/>
                </a:lnTo>
                <a:lnTo>
                  <a:pt x="830" y="34"/>
                </a:lnTo>
                <a:lnTo>
                  <a:pt x="881" y="34"/>
                </a:lnTo>
                <a:lnTo>
                  <a:pt x="898" y="17"/>
                </a:lnTo>
                <a:lnTo>
                  <a:pt x="931" y="0"/>
                </a:lnTo>
                <a:lnTo>
                  <a:pt x="982" y="0"/>
                </a:lnTo>
                <a:lnTo>
                  <a:pt x="1016" y="0"/>
                </a:lnTo>
                <a:lnTo>
                  <a:pt x="1050" y="17"/>
                </a:lnTo>
                <a:lnTo>
                  <a:pt x="1084" y="17"/>
                </a:lnTo>
                <a:lnTo>
                  <a:pt x="1135" y="51"/>
                </a:lnTo>
                <a:lnTo>
                  <a:pt x="1169" y="68"/>
                </a:lnTo>
                <a:lnTo>
                  <a:pt x="1203" y="102"/>
                </a:lnTo>
                <a:lnTo>
                  <a:pt x="1219" y="119"/>
                </a:lnTo>
                <a:lnTo>
                  <a:pt x="1203" y="152"/>
                </a:lnTo>
                <a:lnTo>
                  <a:pt x="1152" y="169"/>
                </a:lnTo>
                <a:lnTo>
                  <a:pt x="1118" y="203"/>
                </a:lnTo>
                <a:lnTo>
                  <a:pt x="1067" y="237"/>
                </a:lnTo>
                <a:lnTo>
                  <a:pt x="999" y="321"/>
                </a:lnTo>
                <a:lnTo>
                  <a:pt x="931" y="40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37"/>
          <p:cNvSpPr/>
          <p:nvPr/>
        </p:nvSpPr>
        <p:spPr>
          <a:xfrm>
            <a:off x="6234120" y="3205080"/>
            <a:ext cx="515880" cy="139680"/>
          </a:xfrm>
          <a:custGeom>
            <a:avLst/>
            <a:gdLst/>
            <a:ahLst/>
            <a:rect l="l" t="t" r="r" b="b"/>
            <a:pathLst>
              <a:path w="813" h="220">
                <a:moveTo>
                  <a:pt x="0" y="220"/>
                </a:moveTo>
                <a:lnTo>
                  <a:pt x="0" y="118"/>
                </a:lnTo>
                <a:lnTo>
                  <a:pt x="68" y="118"/>
                </a:lnTo>
                <a:lnTo>
                  <a:pt x="152" y="102"/>
                </a:lnTo>
                <a:lnTo>
                  <a:pt x="254" y="85"/>
                </a:lnTo>
                <a:lnTo>
                  <a:pt x="390" y="68"/>
                </a:lnTo>
                <a:lnTo>
                  <a:pt x="525" y="34"/>
                </a:lnTo>
                <a:lnTo>
                  <a:pt x="627" y="17"/>
                </a:lnTo>
                <a:lnTo>
                  <a:pt x="695" y="17"/>
                </a:lnTo>
                <a:lnTo>
                  <a:pt x="762" y="0"/>
                </a:lnTo>
                <a:lnTo>
                  <a:pt x="796" y="51"/>
                </a:lnTo>
                <a:lnTo>
                  <a:pt x="813" y="68"/>
                </a:lnTo>
                <a:lnTo>
                  <a:pt x="813" y="85"/>
                </a:lnTo>
                <a:lnTo>
                  <a:pt x="796" y="102"/>
                </a:lnTo>
                <a:lnTo>
                  <a:pt x="779" y="102"/>
                </a:lnTo>
                <a:lnTo>
                  <a:pt x="745" y="118"/>
                </a:lnTo>
                <a:lnTo>
                  <a:pt x="678" y="135"/>
                </a:lnTo>
                <a:lnTo>
                  <a:pt x="593" y="135"/>
                </a:lnTo>
                <a:lnTo>
                  <a:pt x="474" y="152"/>
                </a:lnTo>
                <a:lnTo>
                  <a:pt x="339" y="169"/>
                </a:lnTo>
                <a:lnTo>
                  <a:pt x="186" y="203"/>
                </a:lnTo>
                <a:lnTo>
                  <a:pt x="0" y="2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38"/>
          <p:cNvSpPr/>
          <p:nvPr/>
        </p:nvSpPr>
        <p:spPr>
          <a:xfrm>
            <a:off x="5491080" y="2819520"/>
            <a:ext cx="258840" cy="225360"/>
          </a:xfrm>
          <a:custGeom>
            <a:avLst/>
            <a:gdLst/>
            <a:ahLst/>
            <a:rect l="l" t="t" r="r" b="b"/>
            <a:pathLst>
              <a:path w="407" h="355">
                <a:moveTo>
                  <a:pt x="0" y="34"/>
                </a:moveTo>
                <a:lnTo>
                  <a:pt x="17" y="17"/>
                </a:lnTo>
                <a:lnTo>
                  <a:pt x="34" y="17"/>
                </a:lnTo>
                <a:lnTo>
                  <a:pt x="85" y="17"/>
                </a:lnTo>
                <a:lnTo>
                  <a:pt x="136" y="0"/>
                </a:lnTo>
                <a:lnTo>
                  <a:pt x="186" y="17"/>
                </a:lnTo>
                <a:lnTo>
                  <a:pt x="237" y="34"/>
                </a:lnTo>
                <a:lnTo>
                  <a:pt x="288" y="51"/>
                </a:lnTo>
                <a:lnTo>
                  <a:pt x="322" y="68"/>
                </a:lnTo>
                <a:lnTo>
                  <a:pt x="356" y="101"/>
                </a:lnTo>
                <a:lnTo>
                  <a:pt x="390" y="135"/>
                </a:lnTo>
                <a:lnTo>
                  <a:pt x="390" y="169"/>
                </a:lnTo>
                <a:lnTo>
                  <a:pt x="407" y="220"/>
                </a:lnTo>
                <a:lnTo>
                  <a:pt x="407" y="253"/>
                </a:lnTo>
                <a:lnTo>
                  <a:pt x="390" y="270"/>
                </a:lnTo>
                <a:lnTo>
                  <a:pt x="390" y="304"/>
                </a:lnTo>
                <a:lnTo>
                  <a:pt x="373" y="321"/>
                </a:lnTo>
                <a:lnTo>
                  <a:pt x="356" y="338"/>
                </a:lnTo>
                <a:lnTo>
                  <a:pt x="339" y="355"/>
                </a:lnTo>
                <a:lnTo>
                  <a:pt x="322" y="338"/>
                </a:lnTo>
                <a:lnTo>
                  <a:pt x="288" y="321"/>
                </a:lnTo>
                <a:lnTo>
                  <a:pt x="237" y="270"/>
                </a:lnTo>
                <a:lnTo>
                  <a:pt x="169" y="203"/>
                </a:lnTo>
                <a:lnTo>
                  <a:pt x="85" y="135"/>
                </a:lnTo>
                <a:lnTo>
                  <a:pt x="34" y="84"/>
                </a:lnTo>
                <a:lnTo>
                  <a:pt x="17" y="51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39"/>
          <p:cNvSpPr/>
          <p:nvPr/>
        </p:nvSpPr>
        <p:spPr>
          <a:xfrm>
            <a:off x="5545080" y="3087720"/>
            <a:ext cx="387360" cy="804960"/>
          </a:xfrm>
          <a:custGeom>
            <a:avLst/>
            <a:gdLst/>
            <a:ahLst/>
            <a:rect l="l" t="t" r="r" b="b"/>
            <a:pathLst>
              <a:path w="610" h="1268">
                <a:moveTo>
                  <a:pt x="355" y="440"/>
                </a:moveTo>
                <a:lnTo>
                  <a:pt x="406" y="338"/>
                </a:lnTo>
                <a:lnTo>
                  <a:pt x="440" y="254"/>
                </a:lnTo>
                <a:lnTo>
                  <a:pt x="474" y="169"/>
                </a:lnTo>
                <a:lnTo>
                  <a:pt x="508" y="102"/>
                </a:lnTo>
                <a:lnTo>
                  <a:pt x="542" y="51"/>
                </a:lnTo>
                <a:lnTo>
                  <a:pt x="559" y="17"/>
                </a:lnTo>
                <a:lnTo>
                  <a:pt x="593" y="0"/>
                </a:lnTo>
                <a:lnTo>
                  <a:pt x="610" y="0"/>
                </a:lnTo>
                <a:lnTo>
                  <a:pt x="610" y="17"/>
                </a:lnTo>
                <a:lnTo>
                  <a:pt x="610" y="34"/>
                </a:lnTo>
                <a:lnTo>
                  <a:pt x="593" y="85"/>
                </a:lnTo>
                <a:lnTo>
                  <a:pt x="576" y="169"/>
                </a:lnTo>
                <a:lnTo>
                  <a:pt x="559" y="254"/>
                </a:lnTo>
                <a:lnTo>
                  <a:pt x="525" y="355"/>
                </a:lnTo>
                <a:lnTo>
                  <a:pt x="491" y="490"/>
                </a:lnTo>
                <a:lnTo>
                  <a:pt x="457" y="642"/>
                </a:lnTo>
                <a:lnTo>
                  <a:pt x="406" y="778"/>
                </a:lnTo>
                <a:lnTo>
                  <a:pt x="372" y="913"/>
                </a:lnTo>
                <a:lnTo>
                  <a:pt x="339" y="1014"/>
                </a:lnTo>
                <a:lnTo>
                  <a:pt x="305" y="1115"/>
                </a:lnTo>
                <a:lnTo>
                  <a:pt x="271" y="1183"/>
                </a:lnTo>
                <a:lnTo>
                  <a:pt x="254" y="1234"/>
                </a:lnTo>
                <a:lnTo>
                  <a:pt x="237" y="1268"/>
                </a:lnTo>
                <a:lnTo>
                  <a:pt x="203" y="1268"/>
                </a:lnTo>
                <a:lnTo>
                  <a:pt x="169" y="1251"/>
                </a:lnTo>
                <a:lnTo>
                  <a:pt x="135" y="1200"/>
                </a:lnTo>
                <a:lnTo>
                  <a:pt x="84" y="1149"/>
                </a:lnTo>
                <a:lnTo>
                  <a:pt x="51" y="1082"/>
                </a:lnTo>
                <a:lnTo>
                  <a:pt x="17" y="1031"/>
                </a:lnTo>
                <a:lnTo>
                  <a:pt x="0" y="997"/>
                </a:lnTo>
                <a:lnTo>
                  <a:pt x="0" y="963"/>
                </a:lnTo>
                <a:lnTo>
                  <a:pt x="17" y="946"/>
                </a:lnTo>
                <a:lnTo>
                  <a:pt x="34" y="930"/>
                </a:lnTo>
                <a:lnTo>
                  <a:pt x="84" y="930"/>
                </a:lnTo>
                <a:lnTo>
                  <a:pt x="118" y="913"/>
                </a:lnTo>
                <a:lnTo>
                  <a:pt x="135" y="896"/>
                </a:lnTo>
                <a:lnTo>
                  <a:pt x="152" y="862"/>
                </a:lnTo>
                <a:lnTo>
                  <a:pt x="169" y="828"/>
                </a:lnTo>
                <a:lnTo>
                  <a:pt x="186" y="778"/>
                </a:lnTo>
                <a:lnTo>
                  <a:pt x="220" y="710"/>
                </a:lnTo>
                <a:lnTo>
                  <a:pt x="271" y="642"/>
                </a:lnTo>
                <a:lnTo>
                  <a:pt x="305" y="541"/>
                </a:lnTo>
                <a:lnTo>
                  <a:pt x="355" y="4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41"/>
          <p:cNvSpPr/>
          <p:nvPr/>
        </p:nvSpPr>
        <p:spPr>
          <a:xfrm>
            <a:off x="6049800" y="2422440"/>
            <a:ext cx="1065240" cy="214560"/>
          </a:xfrm>
          <a:custGeom>
            <a:avLst/>
            <a:gdLst/>
            <a:ahLst/>
            <a:rect l="l" t="t" r="r" b="b"/>
            <a:pathLst>
              <a:path w="1677" h="338">
                <a:moveTo>
                  <a:pt x="1609" y="50"/>
                </a:moveTo>
                <a:lnTo>
                  <a:pt x="1643" y="84"/>
                </a:lnTo>
                <a:lnTo>
                  <a:pt x="1660" y="101"/>
                </a:lnTo>
                <a:lnTo>
                  <a:pt x="1677" y="118"/>
                </a:lnTo>
                <a:lnTo>
                  <a:pt x="1677" y="135"/>
                </a:lnTo>
                <a:lnTo>
                  <a:pt x="1643" y="135"/>
                </a:lnTo>
                <a:lnTo>
                  <a:pt x="1593" y="152"/>
                </a:lnTo>
                <a:lnTo>
                  <a:pt x="1525" y="152"/>
                </a:lnTo>
                <a:lnTo>
                  <a:pt x="1372" y="152"/>
                </a:lnTo>
                <a:lnTo>
                  <a:pt x="1203" y="169"/>
                </a:lnTo>
                <a:lnTo>
                  <a:pt x="1152" y="186"/>
                </a:lnTo>
                <a:lnTo>
                  <a:pt x="1101" y="186"/>
                </a:lnTo>
                <a:lnTo>
                  <a:pt x="1033" y="203"/>
                </a:lnTo>
                <a:lnTo>
                  <a:pt x="966" y="203"/>
                </a:lnTo>
                <a:lnTo>
                  <a:pt x="898" y="219"/>
                </a:lnTo>
                <a:lnTo>
                  <a:pt x="813" y="236"/>
                </a:lnTo>
                <a:lnTo>
                  <a:pt x="712" y="253"/>
                </a:lnTo>
                <a:lnTo>
                  <a:pt x="610" y="270"/>
                </a:lnTo>
                <a:lnTo>
                  <a:pt x="508" y="287"/>
                </a:lnTo>
                <a:lnTo>
                  <a:pt x="424" y="304"/>
                </a:lnTo>
                <a:lnTo>
                  <a:pt x="356" y="304"/>
                </a:lnTo>
                <a:lnTo>
                  <a:pt x="288" y="321"/>
                </a:lnTo>
                <a:lnTo>
                  <a:pt x="237" y="321"/>
                </a:lnTo>
                <a:lnTo>
                  <a:pt x="203" y="338"/>
                </a:lnTo>
                <a:lnTo>
                  <a:pt x="186" y="338"/>
                </a:lnTo>
                <a:lnTo>
                  <a:pt x="169" y="338"/>
                </a:lnTo>
                <a:lnTo>
                  <a:pt x="119" y="321"/>
                </a:lnTo>
                <a:lnTo>
                  <a:pt x="68" y="304"/>
                </a:lnTo>
                <a:lnTo>
                  <a:pt x="34" y="287"/>
                </a:lnTo>
                <a:lnTo>
                  <a:pt x="17" y="270"/>
                </a:lnTo>
                <a:lnTo>
                  <a:pt x="0" y="253"/>
                </a:lnTo>
                <a:lnTo>
                  <a:pt x="0" y="236"/>
                </a:lnTo>
                <a:lnTo>
                  <a:pt x="17" y="236"/>
                </a:lnTo>
                <a:lnTo>
                  <a:pt x="51" y="236"/>
                </a:lnTo>
                <a:lnTo>
                  <a:pt x="68" y="236"/>
                </a:lnTo>
                <a:lnTo>
                  <a:pt x="102" y="236"/>
                </a:lnTo>
                <a:lnTo>
                  <a:pt x="169" y="219"/>
                </a:lnTo>
                <a:lnTo>
                  <a:pt x="237" y="203"/>
                </a:lnTo>
                <a:lnTo>
                  <a:pt x="339" y="186"/>
                </a:lnTo>
                <a:lnTo>
                  <a:pt x="457" y="169"/>
                </a:lnTo>
                <a:lnTo>
                  <a:pt x="593" y="135"/>
                </a:lnTo>
                <a:lnTo>
                  <a:pt x="745" y="101"/>
                </a:lnTo>
                <a:lnTo>
                  <a:pt x="898" y="84"/>
                </a:lnTo>
                <a:lnTo>
                  <a:pt x="1033" y="50"/>
                </a:lnTo>
                <a:lnTo>
                  <a:pt x="1152" y="34"/>
                </a:lnTo>
                <a:lnTo>
                  <a:pt x="1254" y="17"/>
                </a:lnTo>
                <a:lnTo>
                  <a:pt x="1338" y="17"/>
                </a:lnTo>
                <a:lnTo>
                  <a:pt x="1389" y="0"/>
                </a:lnTo>
                <a:lnTo>
                  <a:pt x="1440" y="0"/>
                </a:lnTo>
                <a:lnTo>
                  <a:pt x="1474" y="0"/>
                </a:lnTo>
                <a:lnTo>
                  <a:pt x="1508" y="0"/>
                </a:lnTo>
                <a:lnTo>
                  <a:pt x="1542" y="17"/>
                </a:lnTo>
                <a:lnTo>
                  <a:pt x="1576" y="34"/>
                </a:lnTo>
                <a:lnTo>
                  <a:pt x="1609" y="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34"/>
          <p:cNvSpPr/>
          <p:nvPr/>
        </p:nvSpPr>
        <p:spPr>
          <a:xfrm>
            <a:off x="6308640" y="2562120"/>
            <a:ext cx="96840" cy="482760"/>
          </a:xfrm>
          <a:custGeom>
            <a:avLst/>
            <a:gdLst/>
            <a:ahLst/>
            <a:rect l="l" t="t" r="r" b="b"/>
            <a:pathLst>
              <a:path w="152" h="761">
                <a:moveTo>
                  <a:pt x="135" y="372"/>
                </a:moveTo>
                <a:lnTo>
                  <a:pt x="135" y="490"/>
                </a:lnTo>
                <a:lnTo>
                  <a:pt x="118" y="575"/>
                </a:lnTo>
                <a:lnTo>
                  <a:pt x="118" y="642"/>
                </a:lnTo>
                <a:lnTo>
                  <a:pt x="118" y="693"/>
                </a:lnTo>
                <a:lnTo>
                  <a:pt x="101" y="727"/>
                </a:lnTo>
                <a:lnTo>
                  <a:pt x="84" y="761"/>
                </a:lnTo>
                <a:lnTo>
                  <a:pt x="67" y="761"/>
                </a:lnTo>
                <a:lnTo>
                  <a:pt x="33" y="727"/>
                </a:lnTo>
                <a:lnTo>
                  <a:pt x="17" y="693"/>
                </a:lnTo>
                <a:lnTo>
                  <a:pt x="0" y="642"/>
                </a:lnTo>
                <a:lnTo>
                  <a:pt x="0" y="575"/>
                </a:lnTo>
                <a:lnTo>
                  <a:pt x="17" y="490"/>
                </a:lnTo>
                <a:lnTo>
                  <a:pt x="17" y="389"/>
                </a:lnTo>
                <a:lnTo>
                  <a:pt x="17" y="288"/>
                </a:lnTo>
                <a:lnTo>
                  <a:pt x="17" y="153"/>
                </a:lnTo>
                <a:lnTo>
                  <a:pt x="17" y="0"/>
                </a:lnTo>
                <a:lnTo>
                  <a:pt x="67" y="34"/>
                </a:lnTo>
                <a:lnTo>
                  <a:pt x="101" y="68"/>
                </a:lnTo>
                <a:lnTo>
                  <a:pt x="135" y="85"/>
                </a:lnTo>
                <a:lnTo>
                  <a:pt x="152" y="102"/>
                </a:lnTo>
                <a:lnTo>
                  <a:pt x="152" y="119"/>
                </a:lnTo>
                <a:lnTo>
                  <a:pt x="152" y="136"/>
                </a:lnTo>
                <a:lnTo>
                  <a:pt x="152" y="153"/>
                </a:lnTo>
                <a:lnTo>
                  <a:pt x="152" y="186"/>
                </a:lnTo>
                <a:lnTo>
                  <a:pt x="152" y="220"/>
                </a:lnTo>
                <a:lnTo>
                  <a:pt x="135" y="271"/>
                </a:lnTo>
                <a:lnTo>
                  <a:pt x="135" y="321"/>
                </a:lnTo>
                <a:lnTo>
                  <a:pt x="135" y="3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6556320" y="2519280"/>
            <a:ext cx="85680" cy="460440"/>
          </a:xfrm>
          <a:custGeom>
            <a:avLst/>
            <a:gdLst/>
            <a:ahLst/>
            <a:rect l="l" t="t" r="r" b="b"/>
            <a:pathLst>
              <a:path w="136" h="726">
                <a:moveTo>
                  <a:pt x="0" y="0"/>
                </a:moveTo>
                <a:lnTo>
                  <a:pt x="136" y="0"/>
                </a:lnTo>
                <a:lnTo>
                  <a:pt x="136" y="169"/>
                </a:lnTo>
                <a:lnTo>
                  <a:pt x="136" y="321"/>
                </a:lnTo>
                <a:lnTo>
                  <a:pt x="136" y="439"/>
                </a:lnTo>
                <a:lnTo>
                  <a:pt x="119" y="541"/>
                </a:lnTo>
                <a:lnTo>
                  <a:pt x="119" y="625"/>
                </a:lnTo>
                <a:lnTo>
                  <a:pt x="119" y="676"/>
                </a:lnTo>
                <a:lnTo>
                  <a:pt x="102" y="709"/>
                </a:lnTo>
                <a:lnTo>
                  <a:pt x="102" y="726"/>
                </a:lnTo>
                <a:lnTo>
                  <a:pt x="85" y="726"/>
                </a:lnTo>
                <a:lnTo>
                  <a:pt x="68" y="709"/>
                </a:lnTo>
                <a:lnTo>
                  <a:pt x="51" y="693"/>
                </a:lnTo>
                <a:lnTo>
                  <a:pt x="34" y="676"/>
                </a:lnTo>
                <a:lnTo>
                  <a:pt x="17" y="659"/>
                </a:lnTo>
                <a:lnTo>
                  <a:pt x="17" y="608"/>
                </a:lnTo>
                <a:lnTo>
                  <a:pt x="17" y="557"/>
                </a:lnTo>
                <a:lnTo>
                  <a:pt x="0" y="473"/>
                </a:lnTo>
                <a:lnTo>
                  <a:pt x="0" y="388"/>
                </a:lnTo>
                <a:lnTo>
                  <a:pt x="0" y="287"/>
                </a:lnTo>
                <a:lnTo>
                  <a:pt x="0" y="15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6"/>
          <p:cNvSpPr/>
          <p:nvPr/>
        </p:nvSpPr>
        <p:spPr>
          <a:xfrm>
            <a:off x="6083280" y="3247920"/>
            <a:ext cx="892080" cy="879480"/>
          </a:xfrm>
          <a:custGeom>
            <a:avLst/>
            <a:gdLst/>
            <a:ahLst/>
            <a:rect l="l" t="t" r="r" b="b"/>
            <a:pathLst>
              <a:path w="1406" h="1385">
                <a:moveTo>
                  <a:pt x="542" y="490"/>
                </a:moveTo>
                <a:lnTo>
                  <a:pt x="423" y="524"/>
                </a:lnTo>
                <a:lnTo>
                  <a:pt x="322" y="557"/>
                </a:lnTo>
                <a:lnTo>
                  <a:pt x="254" y="591"/>
                </a:lnTo>
                <a:lnTo>
                  <a:pt x="203" y="608"/>
                </a:lnTo>
                <a:lnTo>
                  <a:pt x="169" y="642"/>
                </a:lnTo>
                <a:lnTo>
                  <a:pt x="135" y="659"/>
                </a:lnTo>
                <a:lnTo>
                  <a:pt x="118" y="676"/>
                </a:lnTo>
                <a:lnTo>
                  <a:pt x="101" y="676"/>
                </a:lnTo>
                <a:lnTo>
                  <a:pt x="85" y="676"/>
                </a:lnTo>
                <a:lnTo>
                  <a:pt x="68" y="659"/>
                </a:lnTo>
                <a:lnTo>
                  <a:pt x="51" y="642"/>
                </a:lnTo>
                <a:lnTo>
                  <a:pt x="51" y="625"/>
                </a:lnTo>
                <a:lnTo>
                  <a:pt x="17" y="574"/>
                </a:lnTo>
                <a:lnTo>
                  <a:pt x="0" y="540"/>
                </a:lnTo>
                <a:lnTo>
                  <a:pt x="17" y="540"/>
                </a:lnTo>
                <a:lnTo>
                  <a:pt x="17" y="524"/>
                </a:lnTo>
                <a:lnTo>
                  <a:pt x="51" y="490"/>
                </a:lnTo>
                <a:lnTo>
                  <a:pt x="85" y="473"/>
                </a:lnTo>
                <a:lnTo>
                  <a:pt x="101" y="439"/>
                </a:lnTo>
                <a:lnTo>
                  <a:pt x="135" y="388"/>
                </a:lnTo>
                <a:lnTo>
                  <a:pt x="152" y="338"/>
                </a:lnTo>
                <a:lnTo>
                  <a:pt x="169" y="287"/>
                </a:lnTo>
                <a:lnTo>
                  <a:pt x="186" y="169"/>
                </a:lnTo>
                <a:lnTo>
                  <a:pt x="186" y="135"/>
                </a:lnTo>
                <a:lnTo>
                  <a:pt x="186" y="84"/>
                </a:lnTo>
                <a:lnTo>
                  <a:pt x="169" y="50"/>
                </a:lnTo>
                <a:lnTo>
                  <a:pt x="169" y="34"/>
                </a:lnTo>
                <a:lnTo>
                  <a:pt x="169" y="17"/>
                </a:lnTo>
                <a:lnTo>
                  <a:pt x="186" y="0"/>
                </a:lnTo>
                <a:lnTo>
                  <a:pt x="220" y="17"/>
                </a:lnTo>
                <a:lnTo>
                  <a:pt x="254" y="34"/>
                </a:lnTo>
                <a:lnTo>
                  <a:pt x="305" y="67"/>
                </a:lnTo>
                <a:lnTo>
                  <a:pt x="305" y="169"/>
                </a:lnTo>
                <a:lnTo>
                  <a:pt x="305" y="253"/>
                </a:lnTo>
                <a:lnTo>
                  <a:pt x="305" y="304"/>
                </a:lnTo>
                <a:lnTo>
                  <a:pt x="288" y="338"/>
                </a:lnTo>
                <a:lnTo>
                  <a:pt x="288" y="371"/>
                </a:lnTo>
                <a:lnTo>
                  <a:pt x="288" y="388"/>
                </a:lnTo>
                <a:lnTo>
                  <a:pt x="288" y="405"/>
                </a:lnTo>
                <a:lnTo>
                  <a:pt x="305" y="422"/>
                </a:lnTo>
                <a:lnTo>
                  <a:pt x="322" y="422"/>
                </a:lnTo>
                <a:lnTo>
                  <a:pt x="356" y="422"/>
                </a:lnTo>
                <a:lnTo>
                  <a:pt x="389" y="405"/>
                </a:lnTo>
                <a:lnTo>
                  <a:pt x="440" y="405"/>
                </a:lnTo>
                <a:lnTo>
                  <a:pt x="508" y="388"/>
                </a:lnTo>
                <a:lnTo>
                  <a:pt x="610" y="371"/>
                </a:lnTo>
                <a:lnTo>
                  <a:pt x="745" y="338"/>
                </a:lnTo>
                <a:lnTo>
                  <a:pt x="813" y="338"/>
                </a:lnTo>
                <a:lnTo>
                  <a:pt x="864" y="321"/>
                </a:lnTo>
                <a:lnTo>
                  <a:pt x="915" y="321"/>
                </a:lnTo>
                <a:lnTo>
                  <a:pt x="966" y="304"/>
                </a:lnTo>
                <a:lnTo>
                  <a:pt x="1033" y="287"/>
                </a:lnTo>
                <a:lnTo>
                  <a:pt x="1067" y="287"/>
                </a:lnTo>
                <a:lnTo>
                  <a:pt x="1101" y="270"/>
                </a:lnTo>
                <a:lnTo>
                  <a:pt x="1135" y="270"/>
                </a:lnTo>
                <a:lnTo>
                  <a:pt x="1152" y="270"/>
                </a:lnTo>
                <a:lnTo>
                  <a:pt x="1169" y="287"/>
                </a:lnTo>
                <a:lnTo>
                  <a:pt x="1220" y="304"/>
                </a:lnTo>
                <a:lnTo>
                  <a:pt x="1270" y="338"/>
                </a:lnTo>
                <a:lnTo>
                  <a:pt x="1338" y="388"/>
                </a:lnTo>
                <a:lnTo>
                  <a:pt x="1372" y="422"/>
                </a:lnTo>
                <a:lnTo>
                  <a:pt x="1389" y="439"/>
                </a:lnTo>
                <a:lnTo>
                  <a:pt x="1406" y="456"/>
                </a:lnTo>
                <a:lnTo>
                  <a:pt x="1389" y="490"/>
                </a:lnTo>
                <a:lnTo>
                  <a:pt x="1372" y="507"/>
                </a:lnTo>
                <a:lnTo>
                  <a:pt x="1338" y="524"/>
                </a:lnTo>
                <a:lnTo>
                  <a:pt x="1321" y="557"/>
                </a:lnTo>
                <a:lnTo>
                  <a:pt x="1304" y="608"/>
                </a:lnTo>
                <a:lnTo>
                  <a:pt x="1287" y="676"/>
                </a:lnTo>
                <a:lnTo>
                  <a:pt x="1270" y="760"/>
                </a:lnTo>
                <a:lnTo>
                  <a:pt x="1237" y="845"/>
                </a:lnTo>
                <a:lnTo>
                  <a:pt x="1203" y="929"/>
                </a:lnTo>
                <a:lnTo>
                  <a:pt x="1169" y="1030"/>
                </a:lnTo>
                <a:lnTo>
                  <a:pt x="1118" y="1132"/>
                </a:lnTo>
                <a:lnTo>
                  <a:pt x="1067" y="1216"/>
                </a:lnTo>
                <a:lnTo>
                  <a:pt x="1033" y="1284"/>
                </a:lnTo>
                <a:lnTo>
                  <a:pt x="982" y="1335"/>
                </a:lnTo>
                <a:lnTo>
                  <a:pt x="932" y="1351"/>
                </a:lnTo>
                <a:lnTo>
                  <a:pt x="898" y="1368"/>
                </a:lnTo>
                <a:lnTo>
                  <a:pt x="881" y="1385"/>
                </a:lnTo>
                <a:lnTo>
                  <a:pt x="847" y="1385"/>
                </a:lnTo>
                <a:lnTo>
                  <a:pt x="830" y="1385"/>
                </a:lnTo>
                <a:lnTo>
                  <a:pt x="830" y="1368"/>
                </a:lnTo>
                <a:lnTo>
                  <a:pt x="813" y="1351"/>
                </a:lnTo>
                <a:lnTo>
                  <a:pt x="813" y="1335"/>
                </a:lnTo>
                <a:lnTo>
                  <a:pt x="813" y="1284"/>
                </a:lnTo>
                <a:lnTo>
                  <a:pt x="779" y="1250"/>
                </a:lnTo>
                <a:lnTo>
                  <a:pt x="745" y="1199"/>
                </a:lnTo>
                <a:lnTo>
                  <a:pt x="694" y="1132"/>
                </a:lnTo>
                <a:lnTo>
                  <a:pt x="644" y="1081"/>
                </a:lnTo>
                <a:lnTo>
                  <a:pt x="610" y="1030"/>
                </a:lnTo>
                <a:lnTo>
                  <a:pt x="593" y="997"/>
                </a:lnTo>
                <a:lnTo>
                  <a:pt x="593" y="980"/>
                </a:lnTo>
                <a:lnTo>
                  <a:pt x="610" y="980"/>
                </a:lnTo>
                <a:lnTo>
                  <a:pt x="644" y="980"/>
                </a:lnTo>
                <a:lnTo>
                  <a:pt x="678" y="997"/>
                </a:lnTo>
                <a:lnTo>
                  <a:pt x="745" y="1014"/>
                </a:lnTo>
                <a:lnTo>
                  <a:pt x="796" y="1047"/>
                </a:lnTo>
                <a:lnTo>
                  <a:pt x="847" y="1064"/>
                </a:lnTo>
                <a:lnTo>
                  <a:pt x="898" y="1081"/>
                </a:lnTo>
                <a:lnTo>
                  <a:pt x="915" y="1081"/>
                </a:lnTo>
                <a:lnTo>
                  <a:pt x="932" y="1047"/>
                </a:lnTo>
                <a:lnTo>
                  <a:pt x="949" y="997"/>
                </a:lnTo>
                <a:lnTo>
                  <a:pt x="982" y="929"/>
                </a:lnTo>
                <a:lnTo>
                  <a:pt x="999" y="878"/>
                </a:lnTo>
                <a:lnTo>
                  <a:pt x="1033" y="828"/>
                </a:lnTo>
                <a:lnTo>
                  <a:pt x="1067" y="726"/>
                </a:lnTo>
                <a:lnTo>
                  <a:pt x="1101" y="642"/>
                </a:lnTo>
                <a:lnTo>
                  <a:pt x="1118" y="574"/>
                </a:lnTo>
                <a:lnTo>
                  <a:pt x="1135" y="524"/>
                </a:lnTo>
                <a:lnTo>
                  <a:pt x="1118" y="490"/>
                </a:lnTo>
                <a:lnTo>
                  <a:pt x="1118" y="456"/>
                </a:lnTo>
                <a:lnTo>
                  <a:pt x="1101" y="439"/>
                </a:lnTo>
                <a:lnTo>
                  <a:pt x="1084" y="439"/>
                </a:lnTo>
                <a:lnTo>
                  <a:pt x="1016" y="422"/>
                </a:lnTo>
                <a:lnTo>
                  <a:pt x="932" y="422"/>
                </a:lnTo>
                <a:lnTo>
                  <a:pt x="864" y="439"/>
                </a:lnTo>
                <a:lnTo>
                  <a:pt x="779" y="456"/>
                </a:lnTo>
                <a:lnTo>
                  <a:pt x="678" y="473"/>
                </a:lnTo>
                <a:lnTo>
                  <a:pt x="542" y="4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岛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1332000" y="202716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ǎ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1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Box 57"/>
          <p:cNvSpPr/>
          <p:nvPr/>
        </p:nvSpPr>
        <p:spPr>
          <a:xfrm>
            <a:off x="4619520" y="49752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山”稍小，左部稍突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3320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岛国  小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4"/>
          <p:cNvSpPr/>
          <p:nvPr/>
        </p:nvSpPr>
        <p:spPr>
          <a:xfrm>
            <a:off x="857160" y="49752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台湾岛是中国第一大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31"/>
          <p:cNvSpPr/>
          <p:nvPr/>
        </p:nvSpPr>
        <p:spPr>
          <a:xfrm>
            <a:off x="235908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半包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7"/>
          <p:cNvSpPr/>
          <p:nvPr/>
        </p:nvSpPr>
        <p:spPr>
          <a:xfrm>
            <a:off x="3492000" y="2216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5962680" y="1862280"/>
            <a:ext cx="527040" cy="552240"/>
          </a:xfrm>
          <a:custGeom>
            <a:avLst/>
            <a:gdLst/>
            <a:ahLst/>
            <a:rect l="l" t="t" r="r" b="b"/>
            <a:pathLst>
              <a:path w="664" h="698">
                <a:moveTo>
                  <a:pt x="664" y="154"/>
                </a:moveTo>
                <a:lnTo>
                  <a:pt x="664" y="158"/>
                </a:lnTo>
                <a:lnTo>
                  <a:pt x="662" y="163"/>
                </a:lnTo>
                <a:lnTo>
                  <a:pt x="658" y="169"/>
                </a:lnTo>
                <a:lnTo>
                  <a:pt x="654" y="175"/>
                </a:lnTo>
                <a:lnTo>
                  <a:pt x="650" y="183"/>
                </a:lnTo>
                <a:lnTo>
                  <a:pt x="645" y="190"/>
                </a:lnTo>
                <a:lnTo>
                  <a:pt x="637" y="200"/>
                </a:lnTo>
                <a:lnTo>
                  <a:pt x="629" y="209"/>
                </a:lnTo>
                <a:lnTo>
                  <a:pt x="620" y="221"/>
                </a:lnTo>
                <a:lnTo>
                  <a:pt x="608" y="232"/>
                </a:lnTo>
                <a:lnTo>
                  <a:pt x="597" y="244"/>
                </a:lnTo>
                <a:lnTo>
                  <a:pt x="585" y="257"/>
                </a:lnTo>
                <a:lnTo>
                  <a:pt x="572" y="271"/>
                </a:lnTo>
                <a:lnTo>
                  <a:pt x="556" y="286"/>
                </a:lnTo>
                <a:lnTo>
                  <a:pt x="541" y="301"/>
                </a:lnTo>
                <a:lnTo>
                  <a:pt x="524" y="319"/>
                </a:lnTo>
                <a:lnTo>
                  <a:pt x="505" y="336"/>
                </a:lnTo>
                <a:lnTo>
                  <a:pt x="485" y="353"/>
                </a:lnTo>
                <a:lnTo>
                  <a:pt x="466" y="372"/>
                </a:lnTo>
                <a:lnTo>
                  <a:pt x="443" y="393"/>
                </a:lnTo>
                <a:lnTo>
                  <a:pt x="422" y="414"/>
                </a:lnTo>
                <a:lnTo>
                  <a:pt x="397" y="435"/>
                </a:lnTo>
                <a:lnTo>
                  <a:pt x="374" y="458"/>
                </a:lnTo>
                <a:lnTo>
                  <a:pt x="347" y="481"/>
                </a:lnTo>
                <a:lnTo>
                  <a:pt x="320" y="504"/>
                </a:lnTo>
                <a:lnTo>
                  <a:pt x="291" y="529"/>
                </a:lnTo>
                <a:lnTo>
                  <a:pt x="263" y="556"/>
                </a:lnTo>
                <a:lnTo>
                  <a:pt x="234" y="583"/>
                </a:lnTo>
                <a:lnTo>
                  <a:pt x="201" y="610"/>
                </a:lnTo>
                <a:lnTo>
                  <a:pt x="169" y="639"/>
                </a:lnTo>
                <a:lnTo>
                  <a:pt x="136" y="667"/>
                </a:lnTo>
                <a:lnTo>
                  <a:pt x="101" y="698"/>
                </a:lnTo>
                <a:lnTo>
                  <a:pt x="0" y="698"/>
                </a:lnTo>
                <a:lnTo>
                  <a:pt x="17" y="681"/>
                </a:lnTo>
                <a:lnTo>
                  <a:pt x="34" y="662"/>
                </a:lnTo>
                <a:lnTo>
                  <a:pt x="51" y="644"/>
                </a:lnTo>
                <a:lnTo>
                  <a:pt x="69" y="625"/>
                </a:lnTo>
                <a:lnTo>
                  <a:pt x="88" y="604"/>
                </a:lnTo>
                <a:lnTo>
                  <a:pt x="105" y="585"/>
                </a:lnTo>
                <a:lnTo>
                  <a:pt x="122" y="564"/>
                </a:lnTo>
                <a:lnTo>
                  <a:pt x="142" y="541"/>
                </a:lnTo>
                <a:lnTo>
                  <a:pt x="159" y="520"/>
                </a:lnTo>
                <a:lnTo>
                  <a:pt x="176" y="497"/>
                </a:lnTo>
                <a:lnTo>
                  <a:pt x="195" y="474"/>
                </a:lnTo>
                <a:lnTo>
                  <a:pt x="213" y="449"/>
                </a:lnTo>
                <a:lnTo>
                  <a:pt x="232" y="424"/>
                </a:lnTo>
                <a:lnTo>
                  <a:pt x="251" y="399"/>
                </a:lnTo>
                <a:lnTo>
                  <a:pt x="268" y="374"/>
                </a:lnTo>
                <a:lnTo>
                  <a:pt x="288" y="347"/>
                </a:lnTo>
                <a:lnTo>
                  <a:pt x="305" y="322"/>
                </a:lnTo>
                <a:lnTo>
                  <a:pt x="322" y="297"/>
                </a:lnTo>
                <a:lnTo>
                  <a:pt x="337" y="274"/>
                </a:lnTo>
                <a:lnTo>
                  <a:pt x="351" y="251"/>
                </a:lnTo>
                <a:lnTo>
                  <a:pt x="362" y="230"/>
                </a:lnTo>
                <a:lnTo>
                  <a:pt x="372" y="211"/>
                </a:lnTo>
                <a:lnTo>
                  <a:pt x="382" y="192"/>
                </a:lnTo>
                <a:lnTo>
                  <a:pt x="387" y="175"/>
                </a:lnTo>
                <a:lnTo>
                  <a:pt x="393" y="160"/>
                </a:lnTo>
                <a:lnTo>
                  <a:pt x="397" y="144"/>
                </a:lnTo>
                <a:lnTo>
                  <a:pt x="399" y="131"/>
                </a:lnTo>
                <a:lnTo>
                  <a:pt x="401" y="117"/>
                </a:lnTo>
                <a:lnTo>
                  <a:pt x="399" y="106"/>
                </a:lnTo>
                <a:lnTo>
                  <a:pt x="397" y="96"/>
                </a:lnTo>
                <a:lnTo>
                  <a:pt x="393" y="87"/>
                </a:lnTo>
                <a:lnTo>
                  <a:pt x="387" y="79"/>
                </a:lnTo>
                <a:lnTo>
                  <a:pt x="382" y="73"/>
                </a:lnTo>
                <a:lnTo>
                  <a:pt x="376" y="66"/>
                </a:lnTo>
                <a:lnTo>
                  <a:pt x="372" y="60"/>
                </a:lnTo>
                <a:lnTo>
                  <a:pt x="368" y="54"/>
                </a:lnTo>
                <a:lnTo>
                  <a:pt x="366" y="48"/>
                </a:lnTo>
                <a:lnTo>
                  <a:pt x="364" y="43"/>
                </a:lnTo>
                <a:lnTo>
                  <a:pt x="362" y="39"/>
                </a:lnTo>
                <a:lnTo>
                  <a:pt x="362" y="33"/>
                </a:lnTo>
                <a:lnTo>
                  <a:pt x="362" y="29"/>
                </a:lnTo>
                <a:lnTo>
                  <a:pt x="364" y="23"/>
                </a:lnTo>
                <a:lnTo>
                  <a:pt x="366" y="20"/>
                </a:lnTo>
                <a:lnTo>
                  <a:pt x="368" y="16"/>
                </a:lnTo>
                <a:lnTo>
                  <a:pt x="372" y="14"/>
                </a:lnTo>
                <a:lnTo>
                  <a:pt x="376" y="10"/>
                </a:lnTo>
                <a:lnTo>
                  <a:pt x="382" y="6"/>
                </a:lnTo>
                <a:lnTo>
                  <a:pt x="387" y="4"/>
                </a:lnTo>
                <a:lnTo>
                  <a:pt x="395" y="2"/>
                </a:lnTo>
                <a:lnTo>
                  <a:pt x="401" y="0"/>
                </a:lnTo>
                <a:lnTo>
                  <a:pt x="409" y="0"/>
                </a:lnTo>
                <a:lnTo>
                  <a:pt x="416" y="0"/>
                </a:lnTo>
                <a:lnTo>
                  <a:pt x="426" y="0"/>
                </a:lnTo>
                <a:lnTo>
                  <a:pt x="435" y="0"/>
                </a:lnTo>
                <a:lnTo>
                  <a:pt x="443" y="2"/>
                </a:lnTo>
                <a:lnTo>
                  <a:pt x="455" y="4"/>
                </a:lnTo>
                <a:lnTo>
                  <a:pt x="464" y="8"/>
                </a:lnTo>
                <a:lnTo>
                  <a:pt x="476" y="10"/>
                </a:lnTo>
                <a:lnTo>
                  <a:pt x="487" y="14"/>
                </a:lnTo>
                <a:lnTo>
                  <a:pt x="499" y="20"/>
                </a:lnTo>
                <a:lnTo>
                  <a:pt x="510" y="23"/>
                </a:lnTo>
                <a:lnTo>
                  <a:pt x="524" y="29"/>
                </a:lnTo>
                <a:lnTo>
                  <a:pt x="537" y="35"/>
                </a:lnTo>
                <a:lnTo>
                  <a:pt x="551" y="43"/>
                </a:lnTo>
                <a:lnTo>
                  <a:pt x="564" y="50"/>
                </a:lnTo>
                <a:lnTo>
                  <a:pt x="577" y="56"/>
                </a:lnTo>
                <a:lnTo>
                  <a:pt x="589" y="64"/>
                </a:lnTo>
                <a:lnTo>
                  <a:pt x="600" y="69"/>
                </a:lnTo>
                <a:lnTo>
                  <a:pt x="610" y="77"/>
                </a:lnTo>
                <a:lnTo>
                  <a:pt x="620" y="85"/>
                </a:lnTo>
                <a:lnTo>
                  <a:pt x="627" y="91"/>
                </a:lnTo>
                <a:lnTo>
                  <a:pt x="635" y="98"/>
                </a:lnTo>
                <a:lnTo>
                  <a:pt x="643" y="106"/>
                </a:lnTo>
                <a:lnTo>
                  <a:pt x="648" y="112"/>
                </a:lnTo>
                <a:lnTo>
                  <a:pt x="652" y="119"/>
                </a:lnTo>
                <a:lnTo>
                  <a:pt x="656" y="127"/>
                </a:lnTo>
                <a:lnTo>
                  <a:pt x="660" y="133"/>
                </a:lnTo>
                <a:lnTo>
                  <a:pt x="662" y="140"/>
                </a:lnTo>
                <a:lnTo>
                  <a:pt x="664" y="146"/>
                </a:lnTo>
                <a:lnTo>
                  <a:pt x="664" y="154"/>
                </a:lnTo>
                <a:lnTo>
                  <a:pt x="664" y="154"/>
                </a:lnTo>
                <a:lnTo>
                  <a:pt x="664" y="15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5904000" y="2251080"/>
            <a:ext cx="954000" cy="826920"/>
          </a:xfrm>
          <a:custGeom>
            <a:avLst/>
            <a:gdLst/>
            <a:ahLst/>
            <a:rect l="l" t="t" r="r" b="b"/>
            <a:pathLst>
              <a:path w="1201" h="1042">
                <a:moveTo>
                  <a:pt x="656" y="843"/>
                </a:moveTo>
                <a:lnTo>
                  <a:pt x="645" y="835"/>
                </a:lnTo>
                <a:lnTo>
                  <a:pt x="635" y="828"/>
                </a:lnTo>
                <a:lnTo>
                  <a:pt x="626" y="820"/>
                </a:lnTo>
                <a:lnTo>
                  <a:pt x="616" y="814"/>
                </a:lnTo>
                <a:lnTo>
                  <a:pt x="608" y="807"/>
                </a:lnTo>
                <a:lnTo>
                  <a:pt x="603" y="801"/>
                </a:lnTo>
                <a:lnTo>
                  <a:pt x="595" y="795"/>
                </a:lnTo>
                <a:lnTo>
                  <a:pt x="591" y="789"/>
                </a:lnTo>
                <a:lnTo>
                  <a:pt x="585" y="784"/>
                </a:lnTo>
                <a:lnTo>
                  <a:pt x="581" y="780"/>
                </a:lnTo>
                <a:lnTo>
                  <a:pt x="580" y="774"/>
                </a:lnTo>
                <a:lnTo>
                  <a:pt x="576" y="770"/>
                </a:lnTo>
                <a:lnTo>
                  <a:pt x="576" y="766"/>
                </a:lnTo>
                <a:lnTo>
                  <a:pt x="574" y="763"/>
                </a:lnTo>
                <a:lnTo>
                  <a:pt x="574" y="759"/>
                </a:lnTo>
                <a:lnTo>
                  <a:pt x="576" y="755"/>
                </a:lnTo>
                <a:lnTo>
                  <a:pt x="578" y="753"/>
                </a:lnTo>
                <a:lnTo>
                  <a:pt x="580" y="749"/>
                </a:lnTo>
                <a:lnTo>
                  <a:pt x="583" y="747"/>
                </a:lnTo>
                <a:lnTo>
                  <a:pt x="587" y="745"/>
                </a:lnTo>
                <a:lnTo>
                  <a:pt x="591" y="743"/>
                </a:lnTo>
                <a:lnTo>
                  <a:pt x="597" y="743"/>
                </a:lnTo>
                <a:lnTo>
                  <a:pt x="603" y="741"/>
                </a:lnTo>
                <a:lnTo>
                  <a:pt x="608" y="741"/>
                </a:lnTo>
                <a:lnTo>
                  <a:pt x="616" y="741"/>
                </a:lnTo>
                <a:lnTo>
                  <a:pt x="624" y="741"/>
                </a:lnTo>
                <a:lnTo>
                  <a:pt x="631" y="741"/>
                </a:lnTo>
                <a:lnTo>
                  <a:pt x="639" y="741"/>
                </a:lnTo>
                <a:lnTo>
                  <a:pt x="649" y="743"/>
                </a:lnTo>
                <a:lnTo>
                  <a:pt x="660" y="745"/>
                </a:lnTo>
                <a:lnTo>
                  <a:pt x="670" y="747"/>
                </a:lnTo>
                <a:lnTo>
                  <a:pt x="681" y="749"/>
                </a:lnTo>
                <a:lnTo>
                  <a:pt x="693" y="751"/>
                </a:lnTo>
                <a:lnTo>
                  <a:pt x="704" y="753"/>
                </a:lnTo>
                <a:lnTo>
                  <a:pt x="714" y="755"/>
                </a:lnTo>
                <a:lnTo>
                  <a:pt x="725" y="757"/>
                </a:lnTo>
                <a:lnTo>
                  <a:pt x="733" y="757"/>
                </a:lnTo>
                <a:lnTo>
                  <a:pt x="743" y="757"/>
                </a:lnTo>
                <a:lnTo>
                  <a:pt x="750" y="757"/>
                </a:lnTo>
                <a:lnTo>
                  <a:pt x="758" y="757"/>
                </a:lnTo>
                <a:lnTo>
                  <a:pt x="766" y="757"/>
                </a:lnTo>
                <a:lnTo>
                  <a:pt x="773" y="755"/>
                </a:lnTo>
                <a:lnTo>
                  <a:pt x="779" y="755"/>
                </a:lnTo>
                <a:lnTo>
                  <a:pt x="785" y="753"/>
                </a:lnTo>
                <a:lnTo>
                  <a:pt x="789" y="751"/>
                </a:lnTo>
                <a:lnTo>
                  <a:pt x="793" y="749"/>
                </a:lnTo>
                <a:lnTo>
                  <a:pt x="796" y="745"/>
                </a:lnTo>
                <a:lnTo>
                  <a:pt x="800" y="743"/>
                </a:lnTo>
                <a:lnTo>
                  <a:pt x="804" y="740"/>
                </a:lnTo>
                <a:lnTo>
                  <a:pt x="806" y="736"/>
                </a:lnTo>
                <a:lnTo>
                  <a:pt x="810" y="732"/>
                </a:lnTo>
                <a:lnTo>
                  <a:pt x="814" y="726"/>
                </a:lnTo>
                <a:lnTo>
                  <a:pt x="818" y="720"/>
                </a:lnTo>
                <a:lnTo>
                  <a:pt x="821" y="713"/>
                </a:lnTo>
                <a:lnTo>
                  <a:pt x="823" y="707"/>
                </a:lnTo>
                <a:lnTo>
                  <a:pt x="827" y="699"/>
                </a:lnTo>
                <a:lnTo>
                  <a:pt x="831" y="692"/>
                </a:lnTo>
                <a:lnTo>
                  <a:pt x="835" y="682"/>
                </a:lnTo>
                <a:lnTo>
                  <a:pt x="839" y="673"/>
                </a:lnTo>
                <a:lnTo>
                  <a:pt x="842" y="663"/>
                </a:lnTo>
                <a:lnTo>
                  <a:pt x="844" y="653"/>
                </a:lnTo>
                <a:lnTo>
                  <a:pt x="848" y="642"/>
                </a:lnTo>
                <a:lnTo>
                  <a:pt x="852" y="630"/>
                </a:lnTo>
                <a:lnTo>
                  <a:pt x="856" y="619"/>
                </a:lnTo>
                <a:lnTo>
                  <a:pt x="864" y="592"/>
                </a:lnTo>
                <a:lnTo>
                  <a:pt x="871" y="565"/>
                </a:lnTo>
                <a:lnTo>
                  <a:pt x="877" y="535"/>
                </a:lnTo>
                <a:lnTo>
                  <a:pt x="881" y="504"/>
                </a:lnTo>
                <a:lnTo>
                  <a:pt x="887" y="471"/>
                </a:lnTo>
                <a:lnTo>
                  <a:pt x="890" y="437"/>
                </a:lnTo>
                <a:lnTo>
                  <a:pt x="892" y="400"/>
                </a:lnTo>
                <a:lnTo>
                  <a:pt x="894" y="362"/>
                </a:lnTo>
                <a:lnTo>
                  <a:pt x="894" y="343"/>
                </a:lnTo>
                <a:lnTo>
                  <a:pt x="896" y="326"/>
                </a:lnTo>
                <a:lnTo>
                  <a:pt x="896" y="308"/>
                </a:lnTo>
                <a:lnTo>
                  <a:pt x="896" y="293"/>
                </a:lnTo>
                <a:lnTo>
                  <a:pt x="896" y="278"/>
                </a:lnTo>
                <a:lnTo>
                  <a:pt x="896" y="264"/>
                </a:lnTo>
                <a:lnTo>
                  <a:pt x="894" y="253"/>
                </a:lnTo>
                <a:lnTo>
                  <a:pt x="894" y="241"/>
                </a:lnTo>
                <a:lnTo>
                  <a:pt x="894" y="230"/>
                </a:lnTo>
                <a:lnTo>
                  <a:pt x="892" y="220"/>
                </a:lnTo>
                <a:lnTo>
                  <a:pt x="890" y="213"/>
                </a:lnTo>
                <a:lnTo>
                  <a:pt x="890" y="205"/>
                </a:lnTo>
                <a:lnTo>
                  <a:pt x="889" y="199"/>
                </a:lnTo>
                <a:lnTo>
                  <a:pt x="887" y="194"/>
                </a:lnTo>
                <a:lnTo>
                  <a:pt x="885" y="190"/>
                </a:lnTo>
                <a:lnTo>
                  <a:pt x="883" y="188"/>
                </a:lnTo>
                <a:lnTo>
                  <a:pt x="881" y="186"/>
                </a:lnTo>
                <a:lnTo>
                  <a:pt x="877" y="184"/>
                </a:lnTo>
                <a:lnTo>
                  <a:pt x="873" y="182"/>
                </a:lnTo>
                <a:lnTo>
                  <a:pt x="869" y="180"/>
                </a:lnTo>
                <a:lnTo>
                  <a:pt x="864" y="178"/>
                </a:lnTo>
                <a:lnTo>
                  <a:pt x="858" y="176"/>
                </a:lnTo>
                <a:lnTo>
                  <a:pt x="852" y="176"/>
                </a:lnTo>
                <a:lnTo>
                  <a:pt x="846" y="174"/>
                </a:lnTo>
                <a:lnTo>
                  <a:pt x="839" y="174"/>
                </a:lnTo>
                <a:lnTo>
                  <a:pt x="833" y="174"/>
                </a:lnTo>
                <a:lnTo>
                  <a:pt x="823" y="172"/>
                </a:lnTo>
                <a:lnTo>
                  <a:pt x="816" y="172"/>
                </a:lnTo>
                <a:lnTo>
                  <a:pt x="806" y="172"/>
                </a:lnTo>
                <a:lnTo>
                  <a:pt x="796" y="172"/>
                </a:lnTo>
                <a:lnTo>
                  <a:pt x="787" y="174"/>
                </a:lnTo>
                <a:lnTo>
                  <a:pt x="775" y="174"/>
                </a:lnTo>
                <a:lnTo>
                  <a:pt x="770" y="174"/>
                </a:lnTo>
                <a:lnTo>
                  <a:pt x="762" y="176"/>
                </a:lnTo>
                <a:lnTo>
                  <a:pt x="754" y="176"/>
                </a:lnTo>
                <a:lnTo>
                  <a:pt x="745" y="178"/>
                </a:lnTo>
                <a:lnTo>
                  <a:pt x="733" y="180"/>
                </a:lnTo>
                <a:lnTo>
                  <a:pt x="722" y="182"/>
                </a:lnTo>
                <a:lnTo>
                  <a:pt x="708" y="184"/>
                </a:lnTo>
                <a:lnTo>
                  <a:pt x="695" y="186"/>
                </a:lnTo>
                <a:lnTo>
                  <a:pt x="679" y="188"/>
                </a:lnTo>
                <a:lnTo>
                  <a:pt x="662" y="190"/>
                </a:lnTo>
                <a:lnTo>
                  <a:pt x="645" y="194"/>
                </a:lnTo>
                <a:lnTo>
                  <a:pt x="626" y="197"/>
                </a:lnTo>
                <a:lnTo>
                  <a:pt x="606" y="199"/>
                </a:lnTo>
                <a:lnTo>
                  <a:pt x="583" y="203"/>
                </a:lnTo>
                <a:lnTo>
                  <a:pt x="562" y="207"/>
                </a:lnTo>
                <a:lnTo>
                  <a:pt x="537" y="211"/>
                </a:lnTo>
                <a:lnTo>
                  <a:pt x="512" y="215"/>
                </a:lnTo>
                <a:lnTo>
                  <a:pt x="487" y="220"/>
                </a:lnTo>
                <a:lnTo>
                  <a:pt x="460" y="224"/>
                </a:lnTo>
                <a:lnTo>
                  <a:pt x="432" y="230"/>
                </a:lnTo>
                <a:lnTo>
                  <a:pt x="403" y="234"/>
                </a:lnTo>
                <a:lnTo>
                  <a:pt x="372" y="239"/>
                </a:lnTo>
                <a:lnTo>
                  <a:pt x="340" y="245"/>
                </a:lnTo>
                <a:lnTo>
                  <a:pt x="307" y="251"/>
                </a:lnTo>
                <a:lnTo>
                  <a:pt x="272" y="257"/>
                </a:lnTo>
                <a:lnTo>
                  <a:pt x="236" y="264"/>
                </a:lnTo>
                <a:lnTo>
                  <a:pt x="199" y="270"/>
                </a:lnTo>
                <a:lnTo>
                  <a:pt x="163" y="278"/>
                </a:lnTo>
                <a:lnTo>
                  <a:pt x="123" y="284"/>
                </a:lnTo>
                <a:lnTo>
                  <a:pt x="84" y="291"/>
                </a:lnTo>
                <a:lnTo>
                  <a:pt x="42" y="299"/>
                </a:lnTo>
                <a:lnTo>
                  <a:pt x="0" y="307"/>
                </a:lnTo>
                <a:lnTo>
                  <a:pt x="0" y="207"/>
                </a:lnTo>
                <a:lnTo>
                  <a:pt x="4" y="207"/>
                </a:lnTo>
                <a:lnTo>
                  <a:pt x="9" y="207"/>
                </a:lnTo>
                <a:lnTo>
                  <a:pt x="15" y="207"/>
                </a:lnTo>
                <a:lnTo>
                  <a:pt x="21" y="205"/>
                </a:lnTo>
                <a:lnTo>
                  <a:pt x="27" y="205"/>
                </a:lnTo>
                <a:lnTo>
                  <a:pt x="34" y="205"/>
                </a:lnTo>
                <a:lnTo>
                  <a:pt x="42" y="203"/>
                </a:lnTo>
                <a:lnTo>
                  <a:pt x="52" y="203"/>
                </a:lnTo>
                <a:lnTo>
                  <a:pt x="59" y="201"/>
                </a:lnTo>
                <a:lnTo>
                  <a:pt x="69" y="199"/>
                </a:lnTo>
                <a:lnTo>
                  <a:pt x="80" y="197"/>
                </a:lnTo>
                <a:lnTo>
                  <a:pt x="92" y="197"/>
                </a:lnTo>
                <a:lnTo>
                  <a:pt x="103" y="195"/>
                </a:lnTo>
                <a:lnTo>
                  <a:pt x="115" y="194"/>
                </a:lnTo>
                <a:lnTo>
                  <a:pt x="128" y="190"/>
                </a:lnTo>
                <a:lnTo>
                  <a:pt x="142" y="188"/>
                </a:lnTo>
                <a:lnTo>
                  <a:pt x="155" y="186"/>
                </a:lnTo>
                <a:lnTo>
                  <a:pt x="169" y="184"/>
                </a:lnTo>
                <a:lnTo>
                  <a:pt x="184" y="180"/>
                </a:lnTo>
                <a:lnTo>
                  <a:pt x="201" y="178"/>
                </a:lnTo>
                <a:lnTo>
                  <a:pt x="217" y="174"/>
                </a:lnTo>
                <a:lnTo>
                  <a:pt x="234" y="172"/>
                </a:lnTo>
                <a:lnTo>
                  <a:pt x="251" y="169"/>
                </a:lnTo>
                <a:lnTo>
                  <a:pt x="270" y="165"/>
                </a:lnTo>
                <a:lnTo>
                  <a:pt x="288" y="161"/>
                </a:lnTo>
                <a:lnTo>
                  <a:pt x="309" y="157"/>
                </a:lnTo>
                <a:lnTo>
                  <a:pt x="328" y="153"/>
                </a:lnTo>
                <a:lnTo>
                  <a:pt x="349" y="149"/>
                </a:lnTo>
                <a:lnTo>
                  <a:pt x="370" y="146"/>
                </a:lnTo>
                <a:lnTo>
                  <a:pt x="391" y="142"/>
                </a:lnTo>
                <a:lnTo>
                  <a:pt x="414" y="136"/>
                </a:lnTo>
                <a:lnTo>
                  <a:pt x="437" y="132"/>
                </a:lnTo>
                <a:lnTo>
                  <a:pt x="460" y="128"/>
                </a:lnTo>
                <a:lnTo>
                  <a:pt x="484" y="123"/>
                </a:lnTo>
                <a:lnTo>
                  <a:pt x="505" y="119"/>
                </a:lnTo>
                <a:lnTo>
                  <a:pt x="526" y="115"/>
                </a:lnTo>
                <a:lnTo>
                  <a:pt x="547" y="109"/>
                </a:lnTo>
                <a:lnTo>
                  <a:pt x="568" y="105"/>
                </a:lnTo>
                <a:lnTo>
                  <a:pt x="587" y="102"/>
                </a:lnTo>
                <a:lnTo>
                  <a:pt x="604" y="98"/>
                </a:lnTo>
                <a:lnTo>
                  <a:pt x="624" y="94"/>
                </a:lnTo>
                <a:lnTo>
                  <a:pt x="641" y="90"/>
                </a:lnTo>
                <a:lnTo>
                  <a:pt x="658" y="86"/>
                </a:lnTo>
                <a:lnTo>
                  <a:pt x="674" y="82"/>
                </a:lnTo>
                <a:lnTo>
                  <a:pt x="689" y="79"/>
                </a:lnTo>
                <a:lnTo>
                  <a:pt x="704" y="75"/>
                </a:lnTo>
                <a:lnTo>
                  <a:pt x="718" y="71"/>
                </a:lnTo>
                <a:lnTo>
                  <a:pt x="731" y="67"/>
                </a:lnTo>
                <a:lnTo>
                  <a:pt x="745" y="65"/>
                </a:lnTo>
                <a:lnTo>
                  <a:pt x="758" y="61"/>
                </a:lnTo>
                <a:lnTo>
                  <a:pt x="770" y="57"/>
                </a:lnTo>
                <a:lnTo>
                  <a:pt x="779" y="56"/>
                </a:lnTo>
                <a:lnTo>
                  <a:pt x="791" y="52"/>
                </a:lnTo>
                <a:lnTo>
                  <a:pt x="800" y="50"/>
                </a:lnTo>
                <a:lnTo>
                  <a:pt x="810" y="46"/>
                </a:lnTo>
                <a:lnTo>
                  <a:pt x="818" y="44"/>
                </a:lnTo>
                <a:lnTo>
                  <a:pt x="825" y="40"/>
                </a:lnTo>
                <a:lnTo>
                  <a:pt x="833" y="38"/>
                </a:lnTo>
                <a:lnTo>
                  <a:pt x="841" y="36"/>
                </a:lnTo>
                <a:lnTo>
                  <a:pt x="846" y="34"/>
                </a:lnTo>
                <a:lnTo>
                  <a:pt x="852" y="31"/>
                </a:lnTo>
                <a:lnTo>
                  <a:pt x="856" y="29"/>
                </a:lnTo>
                <a:lnTo>
                  <a:pt x="860" y="27"/>
                </a:lnTo>
                <a:lnTo>
                  <a:pt x="864" y="25"/>
                </a:lnTo>
                <a:lnTo>
                  <a:pt x="875" y="17"/>
                </a:lnTo>
                <a:lnTo>
                  <a:pt x="889" y="11"/>
                </a:lnTo>
                <a:lnTo>
                  <a:pt x="900" y="8"/>
                </a:lnTo>
                <a:lnTo>
                  <a:pt x="912" y="4"/>
                </a:lnTo>
                <a:lnTo>
                  <a:pt x="923" y="0"/>
                </a:lnTo>
                <a:lnTo>
                  <a:pt x="935" y="0"/>
                </a:lnTo>
                <a:lnTo>
                  <a:pt x="946" y="0"/>
                </a:lnTo>
                <a:lnTo>
                  <a:pt x="958" y="0"/>
                </a:lnTo>
                <a:lnTo>
                  <a:pt x="963" y="2"/>
                </a:lnTo>
                <a:lnTo>
                  <a:pt x="969" y="2"/>
                </a:lnTo>
                <a:lnTo>
                  <a:pt x="977" y="4"/>
                </a:lnTo>
                <a:lnTo>
                  <a:pt x="983" y="8"/>
                </a:lnTo>
                <a:lnTo>
                  <a:pt x="990" y="10"/>
                </a:lnTo>
                <a:lnTo>
                  <a:pt x="998" y="13"/>
                </a:lnTo>
                <a:lnTo>
                  <a:pt x="1006" y="17"/>
                </a:lnTo>
                <a:lnTo>
                  <a:pt x="1015" y="21"/>
                </a:lnTo>
                <a:lnTo>
                  <a:pt x="1025" y="27"/>
                </a:lnTo>
                <a:lnTo>
                  <a:pt x="1034" y="33"/>
                </a:lnTo>
                <a:lnTo>
                  <a:pt x="1044" y="38"/>
                </a:lnTo>
                <a:lnTo>
                  <a:pt x="1054" y="44"/>
                </a:lnTo>
                <a:lnTo>
                  <a:pt x="1065" y="52"/>
                </a:lnTo>
                <a:lnTo>
                  <a:pt x="1077" y="59"/>
                </a:lnTo>
                <a:lnTo>
                  <a:pt x="1088" y="67"/>
                </a:lnTo>
                <a:lnTo>
                  <a:pt x="1100" y="75"/>
                </a:lnTo>
                <a:lnTo>
                  <a:pt x="1111" y="82"/>
                </a:lnTo>
                <a:lnTo>
                  <a:pt x="1123" y="92"/>
                </a:lnTo>
                <a:lnTo>
                  <a:pt x="1134" y="100"/>
                </a:lnTo>
                <a:lnTo>
                  <a:pt x="1144" y="107"/>
                </a:lnTo>
                <a:lnTo>
                  <a:pt x="1153" y="113"/>
                </a:lnTo>
                <a:lnTo>
                  <a:pt x="1161" y="121"/>
                </a:lnTo>
                <a:lnTo>
                  <a:pt x="1169" y="126"/>
                </a:lnTo>
                <a:lnTo>
                  <a:pt x="1177" y="134"/>
                </a:lnTo>
                <a:lnTo>
                  <a:pt x="1182" y="140"/>
                </a:lnTo>
                <a:lnTo>
                  <a:pt x="1186" y="144"/>
                </a:lnTo>
                <a:lnTo>
                  <a:pt x="1192" y="149"/>
                </a:lnTo>
                <a:lnTo>
                  <a:pt x="1196" y="153"/>
                </a:lnTo>
                <a:lnTo>
                  <a:pt x="1198" y="159"/>
                </a:lnTo>
                <a:lnTo>
                  <a:pt x="1200" y="163"/>
                </a:lnTo>
                <a:lnTo>
                  <a:pt x="1201" y="165"/>
                </a:lnTo>
                <a:lnTo>
                  <a:pt x="1201" y="169"/>
                </a:lnTo>
                <a:lnTo>
                  <a:pt x="1201" y="174"/>
                </a:lnTo>
                <a:lnTo>
                  <a:pt x="1200" y="182"/>
                </a:lnTo>
                <a:lnTo>
                  <a:pt x="1196" y="190"/>
                </a:lnTo>
                <a:lnTo>
                  <a:pt x="1190" y="195"/>
                </a:lnTo>
                <a:lnTo>
                  <a:pt x="1184" y="203"/>
                </a:lnTo>
                <a:lnTo>
                  <a:pt x="1177" y="211"/>
                </a:lnTo>
                <a:lnTo>
                  <a:pt x="1167" y="216"/>
                </a:lnTo>
                <a:lnTo>
                  <a:pt x="1157" y="224"/>
                </a:lnTo>
                <a:lnTo>
                  <a:pt x="1152" y="228"/>
                </a:lnTo>
                <a:lnTo>
                  <a:pt x="1148" y="234"/>
                </a:lnTo>
                <a:lnTo>
                  <a:pt x="1142" y="239"/>
                </a:lnTo>
                <a:lnTo>
                  <a:pt x="1138" y="245"/>
                </a:lnTo>
                <a:lnTo>
                  <a:pt x="1134" y="251"/>
                </a:lnTo>
                <a:lnTo>
                  <a:pt x="1130" y="259"/>
                </a:lnTo>
                <a:lnTo>
                  <a:pt x="1127" y="266"/>
                </a:lnTo>
                <a:lnTo>
                  <a:pt x="1123" y="276"/>
                </a:lnTo>
                <a:lnTo>
                  <a:pt x="1121" y="285"/>
                </a:lnTo>
                <a:lnTo>
                  <a:pt x="1117" y="295"/>
                </a:lnTo>
                <a:lnTo>
                  <a:pt x="1115" y="307"/>
                </a:lnTo>
                <a:lnTo>
                  <a:pt x="1113" y="316"/>
                </a:lnTo>
                <a:lnTo>
                  <a:pt x="1111" y="330"/>
                </a:lnTo>
                <a:lnTo>
                  <a:pt x="1109" y="341"/>
                </a:lnTo>
                <a:lnTo>
                  <a:pt x="1107" y="354"/>
                </a:lnTo>
                <a:lnTo>
                  <a:pt x="1107" y="368"/>
                </a:lnTo>
                <a:lnTo>
                  <a:pt x="1107" y="383"/>
                </a:lnTo>
                <a:lnTo>
                  <a:pt x="1105" y="399"/>
                </a:lnTo>
                <a:lnTo>
                  <a:pt x="1104" y="414"/>
                </a:lnTo>
                <a:lnTo>
                  <a:pt x="1102" y="431"/>
                </a:lnTo>
                <a:lnTo>
                  <a:pt x="1098" y="448"/>
                </a:lnTo>
                <a:lnTo>
                  <a:pt x="1096" y="467"/>
                </a:lnTo>
                <a:lnTo>
                  <a:pt x="1092" y="487"/>
                </a:lnTo>
                <a:lnTo>
                  <a:pt x="1088" y="508"/>
                </a:lnTo>
                <a:lnTo>
                  <a:pt x="1082" y="529"/>
                </a:lnTo>
                <a:lnTo>
                  <a:pt x="1079" y="550"/>
                </a:lnTo>
                <a:lnTo>
                  <a:pt x="1073" y="573"/>
                </a:lnTo>
                <a:lnTo>
                  <a:pt x="1067" y="596"/>
                </a:lnTo>
                <a:lnTo>
                  <a:pt x="1059" y="621"/>
                </a:lnTo>
                <a:lnTo>
                  <a:pt x="1054" y="646"/>
                </a:lnTo>
                <a:lnTo>
                  <a:pt x="1046" y="673"/>
                </a:lnTo>
                <a:lnTo>
                  <a:pt x="1038" y="699"/>
                </a:lnTo>
                <a:lnTo>
                  <a:pt x="1031" y="726"/>
                </a:lnTo>
                <a:lnTo>
                  <a:pt x="1023" y="751"/>
                </a:lnTo>
                <a:lnTo>
                  <a:pt x="1015" y="776"/>
                </a:lnTo>
                <a:lnTo>
                  <a:pt x="1008" y="799"/>
                </a:lnTo>
                <a:lnTo>
                  <a:pt x="1000" y="820"/>
                </a:lnTo>
                <a:lnTo>
                  <a:pt x="992" y="841"/>
                </a:lnTo>
                <a:lnTo>
                  <a:pt x="985" y="860"/>
                </a:lnTo>
                <a:lnTo>
                  <a:pt x="977" y="879"/>
                </a:lnTo>
                <a:lnTo>
                  <a:pt x="969" y="895"/>
                </a:lnTo>
                <a:lnTo>
                  <a:pt x="963" y="912"/>
                </a:lnTo>
                <a:lnTo>
                  <a:pt x="956" y="925"/>
                </a:lnTo>
                <a:lnTo>
                  <a:pt x="948" y="939"/>
                </a:lnTo>
                <a:lnTo>
                  <a:pt x="940" y="950"/>
                </a:lnTo>
                <a:lnTo>
                  <a:pt x="935" y="962"/>
                </a:lnTo>
                <a:lnTo>
                  <a:pt x="927" y="971"/>
                </a:lnTo>
                <a:lnTo>
                  <a:pt x="919" y="979"/>
                </a:lnTo>
                <a:lnTo>
                  <a:pt x="912" y="987"/>
                </a:lnTo>
                <a:lnTo>
                  <a:pt x="906" y="994"/>
                </a:lnTo>
                <a:lnTo>
                  <a:pt x="900" y="1000"/>
                </a:lnTo>
                <a:lnTo>
                  <a:pt x="892" y="1006"/>
                </a:lnTo>
                <a:lnTo>
                  <a:pt x="887" y="1012"/>
                </a:lnTo>
                <a:lnTo>
                  <a:pt x="881" y="1017"/>
                </a:lnTo>
                <a:lnTo>
                  <a:pt x="875" y="1023"/>
                </a:lnTo>
                <a:lnTo>
                  <a:pt x="869" y="1027"/>
                </a:lnTo>
                <a:lnTo>
                  <a:pt x="864" y="1031"/>
                </a:lnTo>
                <a:lnTo>
                  <a:pt x="858" y="1033"/>
                </a:lnTo>
                <a:lnTo>
                  <a:pt x="854" y="1037"/>
                </a:lnTo>
                <a:lnTo>
                  <a:pt x="848" y="1038"/>
                </a:lnTo>
                <a:lnTo>
                  <a:pt x="844" y="1040"/>
                </a:lnTo>
                <a:lnTo>
                  <a:pt x="839" y="1042"/>
                </a:lnTo>
                <a:lnTo>
                  <a:pt x="835" y="1042"/>
                </a:lnTo>
                <a:lnTo>
                  <a:pt x="831" y="1042"/>
                </a:lnTo>
                <a:lnTo>
                  <a:pt x="827" y="1042"/>
                </a:lnTo>
                <a:lnTo>
                  <a:pt x="823" y="1040"/>
                </a:lnTo>
                <a:lnTo>
                  <a:pt x="819" y="1040"/>
                </a:lnTo>
                <a:lnTo>
                  <a:pt x="818" y="1038"/>
                </a:lnTo>
                <a:lnTo>
                  <a:pt x="814" y="1037"/>
                </a:lnTo>
                <a:lnTo>
                  <a:pt x="810" y="1033"/>
                </a:lnTo>
                <a:lnTo>
                  <a:pt x="806" y="1029"/>
                </a:lnTo>
                <a:lnTo>
                  <a:pt x="802" y="1025"/>
                </a:lnTo>
                <a:lnTo>
                  <a:pt x="798" y="1021"/>
                </a:lnTo>
                <a:lnTo>
                  <a:pt x="796" y="1015"/>
                </a:lnTo>
                <a:lnTo>
                  <a:pt x="793" y="1010"/>
                </a:lnTo>
                <a:lnTo>
                  <a:pt x="789" y="1004"/>
                </a:lnTo>
                <a:lnTo>
                  <a:pt x="785" y="996"/>
                </a:lnTo>
                <a:lnTo>
                  <a:pt x="781" y="989"/>
                </a:lnTo>
                <a:lnTo>
                  <a:pt x="779" y="981"/>
                </a:lnTo>
                <a:lnTo>
                  <a:pt x="775" y="973"/>
                </a:lnTo>
                <a:lnTo>
                  <a:pt x="771" y="966"/>
                </a:lnTo>
                <a:lnTo>
                  <a:pt x="768" y="956"/>
                </a:lnTo>
                <a:lnTo>
                  <a:pt x="764" y="948"/>
                </a:lnTo>
                <a:lnTo>
                  <a:pt x="758" y="939"/>
                </a:lnTo>
                <a:lnTo>
                  <a:pt x="752" y="931"/>
                </a:lnTo>
                <a:lnTo>
                  <a:pt x="747" y="924"/>
                </a:lnTo>
                <a:lnTo>
                  <a:pt x="741" y="916"/>
                </a:lnTo>
                <a:lnTo>
                  <a:pt x="733" y="906"/>
                </a:lnTo>
                <a:lnTo>
                  <a:pt x="725" y="899"/>
                </a:lnTo>
                <a:lnTo>
                  <a:pt x="718" y="891"/>
                </a:lnTo>
                <a:lnTo>
                  <a:pt x="708" y="883"/>
                </a:lnTo>
                <a:lnTo>
                  <a:pt x="699" y="876"/>
                </a:lnTo>
                <a:lnTo>
                  <a:pt x="689" y="866"/>
                </a:lnTo>
                <a:lnTo>
                  <a:pt x="679" y="858"/>
                </a:lnTo>
                <a:lnTo>
                  <a:pt x="668" y="851"/>
                </a:lnTo>
                <a:lnTo>
                  <a:pt x="656" y="843"/>
                </a:lnTo>
                <a:lnTo>
                  <a:pt x="656" y="843"/>
                </a:lnTo>
                <a:lnTo>
                  <a:pt x="656" y="84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6099120" y="2600280"/>
            <a:ext cx="254160" cy="211320"/>
          </a:xfrm>
          <a:custGeom>
            <a:avLst/>
            <a:gdLst/>
            <a:ahLst/>
            <a:rect l="l" t="t" r="r" b="b"/>
            <a:pathLst>
              <a:path w="321" h="264">
                <a:moveTo>
                  <a:pt x="12" y="76"/>
                </a:moveTo>
                <a:lnTo>
                  <a:pt x="8" y="65"/>
                </a:lnTo>
                <a:lnTo>
                  <a:pt x="4" y="53"/>
                </a:lnTo>
                <a:lnTo>
                  <a:pt x="2" y="44"/>
                </a:lnTo>
                <a:lnTo>
                  <a:pt x="0" y="34"/>
                </a:lnTo>
                <a:lnTo>
                  <a:pt x="0" y="26"/>
                </a:lnTo>
                <a:lnTo>
                  <a:pt x="0" y="21"/>
                </a:lnTo>
                <a:lnTo>
                  <a:pt x="2" y="15"/>
                </a:lnTo>
                <a:lnTo>
                  <a:pt x="6" y="9"/>
                </a:lnTo>
                <a:lnTo>
                  <a:pt x="8" y="7"/>
                </a:lnTo>
                <a:lnTo>
                  <a:pt x="10" y="5"/>
                </a:lnTo>
                <a:lnTo>
                  <a:pt x="14" y="4"/>
                </a:lnTo>
                <a:lnTo>
                  <a:pt x="16" y="2"/>
                </a:lnTo>
                <a:lnTo>
                  <a:pt x="22" y="2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3" y="0"/>
                </a:lnTo>
                <a:lnTo>
                  <a:pt x="50" y="0"/>
                </a:lnTo>
                <a:lnTo>
                  <a:pt x="58" y="2"/>
                </a:lnTo>
                <a:lnTo>
                  <a:pt x="66" y="2"/>
                </a:lnTo>
                <a:lnTo>
                  <a:pt x="75" y="4"/>
                </a:lnTo>
                <a:lnTo>
                  <a:pt x="85" y="5"/>
                </a:lnTo>
                <a:lnTo>
                  <a:pt x="95" y="7"/>
                </a:lnTo>
                <a:lnTo>
                  <a:pt x="106" y="9"/>
                </a:lnTo>
                <a:lnTo>
                  <a:pt x="127" y="13"/>
                </a:lnTo>
                <a:lnTo>
                  <a:pt x="146" y="19"/>
                </a:lnTo>
                <a:lnTo>
                  <a:pt x="166" y="23"/>
                </a:lnTo>
                <a:lnTo>
                  <a:pt x="183" y="28"/>
                </a:lnTo>
                <a:lnTo>
                  <a:pt x="200" y="32"/>
                </a:lnTo>
                <a:lnTo>
                  <a:pt x="215" y="36"/>
                </a:lnTo>
                <a:lnTo>
                  <a:pt x="229" y="42"/>
                </a:lnTo>
                <a:lnTo>
                  <a:pt x="242" y="46"/>
                </a:lnTo>
                <a:lnTo>
                  <a:pt x="254" y="51"/>
                </a:lnTo>
                <a:lnTo>
                  <a:pt x="265" y="57"/>
                </a:lnTo>
                <a:lnTo>
                  <a:pt x="277" y="65"/>
                </a:lnTo>
                <a:lnTo>
                  <a:pt x="287" y="72"/>
                </a:lnTo>
                <a:lnTo>
                  <a:pt x="294" y="82"/>
                </a:lnTo>
                <a:lnTo>
                  <a:pt x="300" y="92"/>
                </a:lnTo>
                <a:lnTo>
                  <a:pt x="306" y="103"/>
                </a:lnTo>
                <a:lnTo>
                  <a:pt x="311" y="115"/>
                </a:lnTo>
                <a:lnTo>
                  <a:pt x="315" y="126"/>
                </a:lnTo>
                <a:lnTo>
                  <a:pt x="319" y="140"/>
                </a:lnTo>
                <a:lnTo>
                  <a:pt x="321" y="151"/>
                </a:lnTo>
                <a:lnTo>
                  <a:pt x="321" y="164"/>
                </a:lnTo>
                <a:lnTo>
                  <a:pt x="321" y="178"/>
                </a:lnTo>
                <a:lnTo>
                  <a:pt x="319" y="189"/>
                </a:lnTo>
                <a:lnTo>
                  <a:pt x="315" y="203"/>
                </a:lnTo>
                <a:lnTo>
                  <a:pt x="311" y="214"/>
                </a:lnTo>
                <a:lnTo>
                  <a:pt x="308" y="226"/>
                </a:lnTo>
                <a:lnTo>
                  <a:pt x="302" y="237"/>
                </a:lnTo>
                <a:lnTo>
                  <a:pt x="296" y="245"/>
                </a:lnTo>
                <a:lnTo>
                  <a:pt x="290" y="253"/>
                </a:lnTo>
                <a:lnTo>
                  <a:pt x="283" y="258"/>
                </a:lnTo>
                <a:lnTo>
                  <a:pt x="277" y="260"/>
                </a:lnTo>
                <a:lnTo>
                  <a:pt x="269" y="264"/>
                </a:lnTo>
                <a:lnTo>
                  <a:pt x="262" y="264"/>
                </a:lnTo>
                <a:lnTo>
                  <a:pt x="258" y="264"/>
                </a:lnTo>
                <a:lnTo>
                  <a:pt x="252" y="262"/>
                </a:lnTo>
                <a:lnTo>
                  <a:pt x="248" y="262"/>
                </a:lnTo>
                <a:lnTo>
                  <a:pt x="242" y="260"/>
                </a:lnTo>
                <a:lnTo>
                  <a:pt x="235" y="258"/>
                </a:lnTo>
                <a:lnTo>
                  <a:pt x="229" y="255"/>
                </a:lnTo>
                <a:lnTo>
                  <a:pt x="221" y="251"/>
                </a:lnTo>
                <a:lnTo>
                  <a:pt x="214" y="247"/>
                </a:lnTo>
                <a:lnTo>
                  <a:pt x="206" y="243"/>
                </a:lnTo>
                <a:lnTo>
                  <a:pt x="196" y="237"/>
                </a:lnTo>
                <a:lnTo>
                  <a:pt x="187" y="232"/>
                </a:lnTo>
                <a:lnTo>
                  <a:pt x="177" y="226"/>
                </a:lnTo>
                <a:lnTo>
                  <a:pt x="166" y="218"/>
                </a:lnTo>
                <a:lnTo>
                  <a:pt x="156" y="210"/>
                </a:lnTo>
                <a:lnTo>
                  <a:pt x="143" y="203"/>
                </a:lnTo>
                <a:lnTo>
                  <a:pt x="131" y="195"/>
                </a:lnTo>
                <a:lnTo>
                  <a:pt x="119" y="187"/>
                </a:lnTo>
                <a:lnTo>
                  <a:pt x="108" y="178"/>
                </a:lnTo>
                <a:lnTo>
                  <a:pt x="96" y="170"/>
                </a:lnTo>
                <a:lnTo>
                  <a:pt x="85" y="163"/>
                </a:lnTo>
                <a:lnTo>
                  <a:pt x="75" y="155"/>
                </a:lnTo>
                <a:lnTo>
                  <a:pt x="68" y="147"/>
                </a:lnTo>
                <a:lnTo>
                  <a:pt x="58" y="140"/>
                </a:lnTo>
                <a:lnTo>
                  <a:pt x="50" y="132"/>
                </a:lnTo>
                <a:lnTo>
                  <a:pt x="43" y="124"/>
                </a:lnTo>
                <a:lnTo>
                  <a:pt x="37" y="117"/>
                </a:lnTo>
                <a:lnTo>
                  <a:pt x="31" y="111"/>
                </a:lnTo>
                <a:lnTo>
                  <a:pt x="25" y="103"/>
                </a:lnTo>
                <a:lnTo>
                  <a:pt x="22" y="95"/>
                </a:lnTo>
                <a:lnTo>
                  <a:pt x="18" y="90"/>
                </a:lnTo>
                <a:lnTo>
                  <a:pt x="14" y="82"/>
                </a:lnTo>
                <a:lnTo>
                  <a:pt x="12" y="76"/>
                </a:lnTo>
                <a:lnTo>
                  <a:pt x="12" y="76"/>
                </a:lnTo>
                <a:lnTo>
                  <a:pt x="12" y="7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5487840" y="3463920"/>
            <a:ext cx="1101960" cy="538200"/>
          </a:xfrm>
          <a:custGeom>
            <a:avLst/>
            <a:gdLst/>
            <a:ahLst/>
            <a:rect l="l" t="t" r="r" b="b"/>
            <a:pathLst>
              <a:path w="1388" h="676">
                <a:moveTo>
                  <a:pt x="155" y="299"/>
                </a:moveTo>
                <a:lnTo>
                  <a:pt x="161" y="282"/>
                </a:lnTo>
                <a:lnTo>
                  <a:pt x="165" y="266"/>
                </a:lnTo>
                <a:lnTo>
                  <a:pt x="169" y="249"/>
                </a:lnTo>
                <a:lnTo>
                  <a:pt x="172" y="236"/>
                </a:lnTo>
                <a:lnTo>
                  <a:pt x="176" y="220"/>
                </a:lnTo>
                <a:lnTo>
                  <a:pt x="178" y="207"/>
                </a:lnTo>
                <a:lnTo>
                  <a:pt x="178" y="193"/>
                </a:lnTo>
                <a:lnTo>
                  <a:pt x="180" y="180"/>
                </a:lnTo>
                <a:lnTo>
                  <a:pt x="180" y="169"/>
                </a:lnTo>
                <a:lnTo>
                  <a:pt x="180" y="157"/>
                </a:lnTo>
                <a:lnTo>
                  <a:pt x="178" y="146"/>
                </a:lnTo>
                <a:lnTo>
                  <a:pt x="176" y="136"/>
                </a:lnTo>
                <a:lnTo>
                  <a:pt x="174" y="126"/>
                </a:lnTo>
                <a:lnTo>
                  <a:pt x="171" y="117"/>
                </a:lnTo>
                <a:lnTo>
                  <a:pt x="167" y="107"/>
                </a:lnTo>
                <a:lnTo>
                  <a:pt x="163" y="100"/>
                </a:lnTo>
                <a:lnTo>
                  <a:pt x="155" y="84"/>
                </a:lnTo>
                <a:lnTo>
                  <a:pt x="148" y="71"/>
                </a:lnTo>
                <a:lnTo>
                  <a:pt x="142" y="57"/>
                </a:lnTo>
                <a:lnTo>
                  <a:pt x="140" y="46"/>
                </a:lnTo>
                <a:lnTo>
                  <a:pt x="138" y="36"/>
                </a:lnTo>
                <a:lnTo>
                  <a:pt x="138" y="27"/>
                </a:lnTo>
                <a:lnTo>
                  <a:pt x="138" y="23"/>
                </a:lnTo>
                <a:lnTo>
                  <a:pt x="140" y="19"/>
                </a:lnTo>
                <a:lnTo>
                  <a:pt x="142" y="15"/>
                </a:lnTo>
                <a:lnTo>
                  <a:pt x="144" y="11"/>
                </a:lnTo>
                <a:lnTo>
                  <a:pt x="149" y="6"/>
                </a:lnTo>
                <a:lnTo>
                  <a:pt x="155" y="4"/>
                </a:lnTo>
                <a:lnTo>
                  <a:pt x="165" y="0"/>
                </a:lnTo>
                <a:lnTo>
                  <a:pt x="174" y="0"/>
                </a:lnTo>
                <a:lnTo>
                  <a:pt x="186" y="0"/>
                </a:lnTo>
                <a:lnTo>
                  <a:pt x="199" y="4"/>
                </a:lnTo>
                <a:lnTo>
                  <a:pt x="215" y="6"/>
                </a:lnTo>
                <a:lnTo>
                  <a:pt x="230" y="11"/>
                </a:lnTo>
                <a:lnTo>
                  <a:pt x="247" y="19"/>
                </a:lnTo>
                <a:lnTo>
                  <a:pt x="263" y="27"/>
                </a:lnTo>
                <a:lnTo>
                  <a:pt x="278" y="34"/>
                </a:lnTo>
                <a:lnTo>
                  <a:pt x="291" y="44"/>
                </a:lnTo>
                <a:lnTo>
                  <a:pt x="305" y="54"/>
                </a:lnTo>
                <a:lnTo>
                  <a:pt x="316" y="63"/>
                </a:lnTo>
                <a:lnTo>
                  <a:pt x="328" y="77"/>
                </a:lnTo>
                <a:lnTo>
                  <a:pt x="338" y="88"/>
                </a:lnTo>
                <a:lnTo>
                  <a:pt x="341" y="94"/>
                </a:lnTo>
                <a:lnTo>
                  <a:pt x="345" y="102"/>
                </a:lnTo>
                <a:lnTo>
                  <a:pt x="349" y="109"/>
                </a:lnTo>
                <a:lnTo>
                  <a:pt x="351" y="119"/>
                </a:lnTo>
                <a:lnTo>
                  <a:pt x="351" y="128"/>
                </a:lnTo>
                <a:lnTo>
                  <a:pt x="353" y="140"/>
                </a:lnTo>
                <a:lnTo>
                  <a:pt x="353" y="151"/>
                </a:lnTo>
                <a:lnTo>
                  <a:pt x="351" y="163"/>
                </a:lnTo>
                <a:lnTo>
                  <a:pt x="351" y="176"/>
                </a:lnTo>
                <a:lnTo>
                  <a:pt x="347" y="190"/>
                </a:lnTo>
                <a:lnTo>
                  <a:pt x="345" y="203"/>
                </a:lnTo>
                <a:lnTo>
                  <a:pt x="341" y="218"/>
                </a:lnTo>
                <a:lnTo>
                  <a:pt x="336" y="236"/>
                </a:lnTo>
                <a:lnTo>
                  <a:pt x="332" y="251"/>
                </a:lnTo>
                <a:lnTo>
                  <a:pt x="326" y="268"/>
                </a:lnTo>
                <a:lnTo>
                  <a:pt x="318" y="287"/>
                </a:lnTo>
                <a:lnTo>
                  <a:pt x="311" y="305"/>
                </a:lnTo>
                <a:lnTo>
                  <a:pt x="305" y="322"/>
                </a:lnTo>
                <a:lnTo>
                  <a:pt x="299" y="339"/>
                </a:lnTo>
                <a:lnTo>
                  <a:pt x="295" y="354"/>
                </a:lnTo>
                <a:lnTo>
                  <a:pt x="290" y="368"/>
                </a:lnTo>
                <a:lnTo>
                  <a:pt x="286" y="379"/>
                </a:lnTo>
                <a:lnTo>
                  <a:pt x="284" y="391"/>
                </a:lnTo>
                <a:lnTo>
                  <a:pt x="280" y="402"/>
                </a:lnTo>
                <a:lnTo>
                  <a:pt x="278" y="412"/>
                </a:lnTo>
                <a:lnTo>
                  <a:pt x="276" y="420"/>
                </a:lnTo>
                <a:lnTo>
                  <a:pt x="276" y="427"/>
                </a:lnTo>
                <a:lnTo>
                  <a:pt x="276" y="435"/>
                </a:lnTo>
                <a:lnTo>
                  <a:pt x="276" y="439"/>
                </a:lnTo>
                <a:lnTo>
                  <a:pt x="276" y="443"/>
                </a:lnTo>
                <a:lnTo>
                  <a:pt x="278" y="446"/>
                </a:lnTo>
                <a:lnTo>
                  <a:pt x="280" y="448"/>
                </a:lnTo>
                <a:lnTo>
                  <a:pt x="286" y="452"/>
                </a:lnTo>
                <a:lnTo>
                  <a:pt x="291" y="454"/>
                </a:lnTo>
                <a:lnTo>
                  <a:pt x="299" y="456"/>
                </a:lnTo>
                <a:lnTo>
                  <a:pt x="307" y="456"/>
                </a:lnTo>
                <a:lnTo>
                  <a:pt x="316" y="456"/>
                </a:lnTo>
                <a:lnTo>
                  <a:pt x="326" y="454"/>
                </a:lnTo>
                <a:lnTo>
                  <a:pt x="338" y="452"/>
                </a:lnTo>
                <a:lnTo>
                  <a:pt x="349" y="448"/>
                </a:lnTo>
                <a:lnTo>
                  <a:pt x="353" y="448"/>
                </a:lnTo>
                <a:lnTo>
                  <a:pt x="359" y="446"/>
                </a:lnTo>
                <a:lnTo>
                  <a:pt x="366" y="444"/>
                </a:lnTo>
                <a:lnTo>
                  <a:pt x="376" y="444"/>
                </a:lnTo>
                <a:lnTo>
                  <a:pt x="387" y="443"/>
                </a:lnTo>
                <a:lnTo>
                  <a:pt x="401" y="441"/>
                </a:lnTo>
                <a:lnTo>
                  <a:pt x="416" y="439"/>
                </a:lnTo>
                <a:lnTo>
                  <a:pt x="434" y="437"/>
                </a:lnTo>
                <a:lnTo>
                  <a:pt x="453" y="435"/>
                </a:lnTo>
                <a:lnTo>
                  <a:pt x="472" y="433"/>
                </a:lnTo>
                <a:lnTo>
                  <a:pt x="495" y="431"/>
                </a:lnTo>
                <a:lnTo>
                  <a:pt x="520" y="427"/>
                </a:lnTo>
                <a:lnTo>
                  <a:pt x="545" y="425"/>
                </a:lnTo>
                <a:lnTo>
                  <a:pt x="574" y="421"/>
                </a:lnTo>
                <a:lnTo>
                  <a:pt x="602" y="418"/>
                </a:lnTo>
                <a:lnTo>
                  <a:pt x="635" y="416"/>
                </a:lnTo>
                <a:lnTo>
                  <a:pt x="668" y="412"/>
                </a:lnTo>
                <a:lnTo>
                  <a:pt x="702" y="408"/>
                </a:lnTo>
                <a:lnTo>
                  <a:pt x="741" y="404"/>
                </a:lnTo>
                <a:lnTo>
                  <a:pt x="779" y="400"/>
                </a:lnTo>
                <a:lnTo>
                  <a:pt x="819" y="395"/>
                </a:lnTo>
                <a:lnTo>
                  <a:pt x="862" y="391"/>
                </a:lnTo>
                <a:lnTo>
                  <a:pt x="906" y="387"/>
                </a:lnTo>
                <a:lnTo>
                  <a:pt x="952" y="381"/>
                </a:lnTo>
                <a:lnTo>
                  <a:pt x="1000" y="377"/>
                </a:lnTo>
                <a:lnTo>
                  <a:pt x="1050" y="372"/>
                </a:lnTo>
                <a:lnTo>
                  <a:pt x="1102" y="366"/>
                </a:lnTo>
                <a:lnTo>
                  <a:pt x="1155" y="360"/>
                </a:lnTo>
                <a:lnTo>
                  <a:pt x="1211" y="354"/>
                </a:lnTo>
                <a:lnTo>
                  <a:pt x="1269" y="349"/>
                </a:lnTo>
                <a:lnTo>
                  <a:pt x="1326" y="343"/>
                </a:lnTo>
                <a:lnTo>
                  <a:pt x="1388" y="337"/>
                </a:lnTo>
                <a:lnTo>
                  <a:pt x="1388" y="448"/>
                </a:lnTo>
                <a:lnTo>
                  <a:pt x="1336" y="452"/>
                </a:lnTo>
                <a:lnTo>
                  <a:pt x="1286" y="458"/>
                </a:lnTo>
                <a:lnTo>
                  <a:pt x="1238" y="462"/>
                </a:lnTo>
                <a:lnTo>
                  <a:pt x="1188" y="467"/>
                </a:lnTo>
                <a:lnTo>
                  <a:pt x="1142" y="471"/>
                </a:lnTo>
                <a:lnTo>
                  <a:pt x="1096" y="477"/>
                </a:lnTo>
                <a:lnTo>
                  <a:pt x="1052" y="481"/>
                </a:lnTo>
                <a:lnTo>
                  <a:pt x="1008" y="487"/>
                </a:lnTo>
                <a:lnTo>
                  <a:pt x="963" y="490"/>
                </a:lnTo>
                <a:lnTo>
                  <a:pt x="923" y="494"/>
                </a:lnTo>
                <a:lnTo>
                  <a:pt x="881" y="500"/>
                </a:lnTo>
                <a:lnTo>
                  <a:pt x="842" y="504"/>
                </a:lnTo>
                <a:lnTo>
                  <a:pt x="802" y="510"/>
                </a:lnTo>
                <a:lnTo>
                  <a:pt x="766" y="513"/>
                </a:lnTo>
                <a:lnTo>
                  <a:pt x="729" y="519"/>
                </a:lnTo>
                <a:lnTo>
                  <a:pt x="693" y="523"/>
                </a:lnTo>
                <a:lnTo>
                  <a:pt x="658" y="529"/>
                </a:lnTo>
                <a:lnTo>
                  <a:pt x="624" y="533"/>
                </a:lnTo>
                <a:lnTo>
                  <a:pt x="591" y="538"/>
                </a:lnTo>
                <a:lnTo>
                  <a:pt x="560" y="544"/>
                </a:lnTo>
                <a:lnTo>
                  <a:pt x="528" y="550"/>
                </a:lnTo>
                <a:lnTo>
                  <a:pt x="497" y="556"/>
                </a:lnTo>
                <a:lnTo>
                  <a:pt x="468" y="561"/>
                </a:lnTo>
                <a:lnTo>
                  <a:pt x="439" y="569"/>
                </a:lnTo>
                <a:lnTo>
                  <a:pt x="410" y="575"/>
                </a:lnTo>
                <a:lnTo>
                  <a:pt x="384" y="582"/>
                </a:lnTo>
                <a:lnTo>
                  <a:pt x="357" y="590"/>
                </a:lnTo>
                <a:lnTo>
                  <a:pt x="332" y="598"/>
                </a:lnTo>
                <a:lnTo>
                  <a:pt x="307" y="605"/>
                </a:lnTo>
                <a:lnTo>
                  <a:pt x="282" y="613"/>
                </a:lnTo>
                <a:lnTo>
                  <a:pt x="261" y="623"/>
                </a:lnTo>
                <a:lnTo>
                  <a:pt x="238" y="630"/>
                </a:lnTo>
                <a:lnTo>
                  <a:pt x="217" y="638"/>
                </a:lnTo>
                <a:lnTo>
                  <a:pt x="195" y="646"/>
                </a:lnTo>
                <a:lnTo>
                  <a:pt x="176" y="653"/>
                </a:lnTo>
                <a:lnTo>
                  <a:pt x="159" y="659"/>
                </a:lnTo>
                <a:lnTo>
                  <a:pt x="142" y="663"/>
                </a:lnTo>
                <a:lnTo>
                  <a:pt x="126" y="667"/>
                </a:lnTo>
                <a:lnTo>
                  <a:pt x="111" y="671"/>
                </a:lnTo>
                <a:lnTo>
                  <a:pt x="98" y="674"/>
                </a:lnTo>
                <a:lnTo>
                  <a:pt x="86" y="676"/>
                </a:lnTo>
                <a:lnTo>
                  <a:pt x="75" y="676"/>
                </a:lnTo>
                <a:lnTo>
                  <a:pt x="65" y="676"/>
                </a:lnTo>
                <a:lnTo>
                  <a:pt x="55" y="676"/>
                </a:lnTo>
                <a:lnTo>
                  <a:pt x="48" y="674"/>
                </a:lnTo>
                <a:lnTo>
                  <a:pt x="40" y="672"/>
                </a:lnTo>
                <a:lnTo>
                  <a:pt x="34" y="671"/>
                </a:lnTo>
                <a:lnTo>
                  <a:pt x="30" y="667"/>
                </a:lnTo>
                <a:lnTo>
                  <a:pt x="23" y="659"/>
                </a:lnTo>
                <a:lnTo>
                  <a:pt x="17" y="650"/>
                </a:lnTo>
                <a:lnTo>
                  <a:pt x="11" y="640"/>
                </a:lnTo>
                <a:lnTo>
                  <a:pt x="7" y="627"/>
                </a:lnTo>
                <a:lnTo>
                  <a:pt x="4" y="613"/>
                </a:lnTo>
                <a:lnTo>
                  <a:pt x="2" y="600"/>
                </a:lnTo>
                <a:lnTo>
                  <a:pt x="0" y="584"/>
                </a:lnTo>
                <a:lnTo>
                  <a:pt x="0" y="567"/>
                </a:lnTo>
                <a:lnTo>
                  <a:pt x="0" y="550"/>
                </a:lnTo>
                <a:lnTo>
                  <a:pt x="4" y="535"/>
                </a:lnTo>
                <a:lnTo>
                  <a:pt x="7" y="521"/>
                </a:lnTo>
                <a:lnTo>
                  <a:pt x="13" y="508"/>
                </a:lnTo>
                <a:lnTo>
                  <a:pt x="21" y="496"/>
                </a:lnTo>
                <a:lnTo>
                  <a:pt x="30" y="485"/>
                </a:lnTo>
                <a:lnTo>
                  <a:pt x="42" y="475"/>
                </a:lnTo>
                <a:lnTo>
                  <a:pt x="55" y="467"/>
                </a:lnTo>
                <a:lnTo>
                  <a:pt x="63" y="464"/>
                </a:lnTo>
                <a:lnTo>
                  <a:pt x="69" y="458"/>
                </a:lnTo>
                <a:lnTo>
                  <a:pt x="76" y="452"/>
                </a:lnTo>
                <a:lnTo>
                  <a:pt x="82" y="444"/>
                </a:lnTo>
                <a:lnTo>
                  <a:pt x="90" y="437"/>
                </a:lnTo>
                <a:lnTo>
                  <a:pt x="96" y="429"/>
                </a:lnTo>
                <a:lnTo>
                  <a:pt x="103" y="420"/>
                </a:lnTo>
                <a:lnTo>
                  <a:pt x="109" y="410"/>
                </a:lnTo>
                <a:lnTo>
                  <a:pt x="115" y="399"/>
                </a:lnTo>
                <a:lnTo>
                  <a:pt x="121" y="387"/>
                </a:lnTo>
                <a:lnTo>
                  <a:pt x="126" y="374"/>
                </a:lnTo>
                <a:lnTo>
                  <a:pt x="132" y="360"/>
                </a:lnTo>
                <a:lnTo>
                  <a:pt x="138" y="347"/>
                </a:lnTo>
                <a:lnTo>
                  <a:pt x="144" y="331"/>
                </a:lnTo>
                <a:lnTo>
                  <a:pt x="149" y="316"/>
                </a:lnTo>
                <a:lnTo>
                  <a:pt x="155" y="299"/>
                </a:lnTo>
                <a:lnTo>
                  <a:pt x="155" y="299"/>
                </a:lnTo>
                <a:lnTo>
                  <a:pt x="155" y="29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0"/>
          <p:cNvSpPr/>
          <p:nvPr/>
        </p:nvSpPr>
        <p:spPr>
          <a:xfrm>
            <a:off x="6012000" y="3255840"/>
            <a:ext cx="182520" cy="555840"/>
          </a:xfrm>
          <a:custGeom>
            <a:avLst/>
            <a:gdLst/>
            <a:ahLst/>
            <a:rect l="l" t="t" r="r" b="b"/>
            <a:pathLst>
              <a:path w="230" h="700">
                <a:moveTo>
                  <a:pt x="15" y="89"/>
                </a:moveTo>
                <a:lnTo>
                  <a:pt x="12" y="85"/>
                </a:lnTo>
                <a:lnTo>
                  <a:pt x="8" y="79"/>
                </a:lnTo>
                <a:lnTo>
                  <a:pt x="4" y="73"/>
                </a:lnTo>
                <a:lnTo>
                  <a:pt x="2" y="69"/>
                </a:lnTo>
                <a:lnTo>
                  <a:pt x="0" y="64"/>
                </a:lnTo>
                <a:lnTo>
                  <a:pt x="0" y="58"/>
                </a:lnTo>
                <a:lnTo>
                  <a:pt x="0" y="54"/>
                </a:lnTo>
                <a:lnTo>
                  <a:pt x="0" y="48"/>
                </a:lnTo>
                <a:lnTo>
                  <a:pt x="0" y="43"/>
                </a:lnTo>
                <a:lnTo>
                  <a:pt x="2" y="37"/>
                </a:lnTo>
                <a:lnTo>
                  <a:pt x="4" y="31"/>
                </a:lnTo>
                <a:lnTo>
                  <a:pt x="8" y="25"/>
                </a:lnTo>
                <a:lnTo>
                  <a:pt x="12" y="20"/>
                </a:lnTo>
                <a:lnTo>
                  <a:pt x="15" y="14"/>
                </a:lnTo>
                <a:lnTo>
                  <a:pt x="21" y="6"/>
                </a:lnTo>
                <a:lnTo>
                  <a:pt x="27" y="0"/>
                </a:lnTo>
                <a:lnTo>
                  <a:pt x="46" y="8"/>
                </a:lnTo>
                <a:lnTo>
                  <a:pt x="65" y="16"/>
                </a:lnTo>
                <a:lnTo>
                  <a:pt x="85" y="23"/>
                </a:lnTo>
                <a:lnTo>
                  <a:pt x="100" y="31"/>
                </a:lnTo>
                <a:lnTo>
                  <a:pt x="115" y="39"/>
                </a:lnTo>
                <a:lnTo>
                  <a:pt x="131" y="46"/>
                </a:lnTo>
                <a:lnTo>
                  <a:pt x="144" y="52"/>
                </a:lnTo>
                <a:lnTo>
                  <a:pt x="157" y="60"/>
                </a:lnTo>
                <a:lnTo>
                  <a:pt x="169" y="68"/>
                </a:lnTo>
                <a:lnTo>
                  <a:pt x="179" y="73"/>
                </a:lnTo>
                <a:lnTo>
                  <a:pt x="188" y="81"/>
                </a:lnTo>
                <a:lnTo>
                  <a:pt x="198" y="87"/>
                </a:lnTo>
                <a:lnTo>
                  <a:pt x="204" y="94"/>
                </a:lnTo>
                <a:lnTo>
                  <a:pt x="211" y="100"/>
                </a:lnTo>
                <a:lnTo>
                  <a:pt x="217" y="108"/>
                </a:lnTo>
                <a:lnTo>
                  <a:pt x="221" y="114"/>
                </a:lnTo>
                <a:lnTo>
                  <a:pt x="223" y="117"/>
                </a:lnTo>
                <a:lnTo>
                  <a:pt x="225" y="121"/>
                </a:lnTo>
                <a:lnTo>
                  <a:pt x="227" y="127"/>
                </a:lnTo>
                <a:lnTo>
                  <a:pt x="227" y="133"/>
                </a:lnTo>
                <a:lnTo>
                  <a:pt x="228" y="140"/>
                </a:lnTo>
                <a:lnTo>
                  <a:pt x="228" y="150"/>
                </a:lnTo>
                <a:lnTo>
                  <a:pt x="230" y="158"/>
                </a:lnTo>
                <a:lnTo>
                  <a:pt x="230" y="169"/>
                </a:lnTo>
                <a:lnTo>
                  <a:pt x="230" y="181"/>
                </a:lnTo>
                <a:lnTo>
                  <a:pt x="230" y="192"/>
                </a:lnTo>
                <a:lnTo>
                  <a:pt x="230" y="205"/>
                </a:lnTo>
                <a:lnTo>
                  <a:pt x="230" y="219"/>
                </a:lnTo>
                <a:lnTo>
                  <a:pt x="230" y="234"/>
                </a:lnTo>
                <a:lnTo>
                  <a:pt x="230" y="250"/>
                </a:lnTo>
                <a:lnTo>
                  <a:pt x="228" y="267"/>
                </a:lnTo>
                <a:lnTo>
                  <a:pt x="228" y="284"/>
                </a:lnTo>
                <a:lnTo>
                  <a:pt x="227" y="303"/>
                </a:lnTo>
                <a:lnTo>
                  <a:pt x="227" y="322"/>
                </a:lnTo>
                <a:lnTo>
                  <a:pt x="225" y="343"/>
                </a:lnTo>
                <a:lnTo>
                  <a:pt x="223" y="366"/>
                </a:lnTo>
                <a:lnTo>
                  <a:pt x="221" y="388"/>
                </a:lnTo>
                <a:lnTo>
                  <a:pt x="219" y="412"/>
                </a:lnTo>
                <a:lnTo>
                  <a:pt x="217" y="435"/>
                </a:lnTo>
                <a:lnTo>
                  <a:pt x="215" y="462"/>
                </a:lnTo>
                <a:lnTo>
                  <a:pt x="213" y="489"/>
                </a:lnTo>
                <a:lnTo>
                  <a:pt x="209" y="516"/>
                </a:lnTo>
                <a:lnTo>
                  <a:pt x="207" y="545"/>
                </a:lnTo>
                <a:lnTo>
                  <a:pt x="204" y="573"/>
                </a:lnTo>
                <a:lnTo>
                  <a:pt x="202" y="604"/>
                </a:lnTo>
                <a:lnTo>
                  <a:pt x="198" y="635"/>
                </a:lnTo>
                <a:lnTo>
                  <a:pt x="194" y="667"/>
                </a:lnTo>
                <a:lnTo>
                  <a:pt x="190" y="700"/>
                </a:lnTo>
                <a:lnTo>
                  <a:pt x="65" y="700"/>
                </a:lnTo>
                <a:lnTo>
                  <a:pt x="65" y="660"/>
                </a:lnTo>
                <a:lnTo>
                  <a:pt x="65" y="619"/>
                </a:lnTo>
                <a:lnTo>
                  <a:pt x="65" y="581"/>
                </a:lnTo>
                <a:lnTo>
                  <a:pt x="65" y="545"/>
                </a:lnTo>
                <a:lnTo>
                  <a:pt x="65" y="510"/>
                </a:lnTo>
                <a:lnTo>
                  <a:pt x="65" y="478"/>
                </a:lnTo>
                <a:lnTo>
                  <a:pt x="63" y="447"/>
                </a:lnTo>
                <a:lnTo>
                  <a:pt x="63" y="418"/>
                </a:lnTo>
                <a:lnTo>
                  <a:pt x="63" y="389"/>
                </a:lnTo>
                <a:lnTo>
                  <a:pt x="63" y="363"/>
                </a:lnTo>
                <a:lnTo>
                  <a:pt x="61" y="340"/>
                </a:lnTo>
                <a:lnTo>
                  <a:pt x="61" y="317"/>
                </a:lnTo>
                <a:lnTo>
                  <a:pt x="61" y="296"/>
                </a:lnTo>
                <a:lnTo>
                  <a:pt x="60" y="276"/>
                </a:lnTo>
                <a:lnTo>
                  <a:pt x="60" y="259"/>
                </a:lnTo>
                <a:lnTo>
                  <a:pt x="58" y="244"/>
                </a:lnTo>
                <a:lnTo>
                  <a:pt x="58" y="228"/>
                </a:lnTo>
                <a:lnTo>
                  <a:pt x="56" y="215"/>
                </a:lnTo>
                <a:lnTo>
                  <a:pt x="54" y="202"/>
                </a:lnTo>
                <a:lnTo>
                  <a:pt x="54" y="190"/>
                </a:lnTo>
                <a:lnTo>
                  <a:pt x="52" y="179"/>
                </a:lnTo>
                <a:lnTo>
                  <a:pt x="50" y="167"/>
                </a:lnTo>
                <a:lnTo>
                  <a:pt x="46" y="156"/>
                </a:lnTo>
                <a:lnTo>
                  <a:pt x="44" y="146"/>
                </a:lnTo>
                <a:lnTo>
                  <a:pt x="42" y="137"/>
                </a:lnTo>
                <a:lnTo>
                  <a:pt x="38" y="129"/>
                </a:lnTo>
                <a:lnTo>
                  <a:pt x="35" y="119"/>
                </a:lnTo>
                <a:lnTo>
                  <a:pt x="33" y="112"/>
                </a:lnTo>
                <a:lnTo>
                  <a:pt x="29" y="106"/>
                </a:lnTo>
                <a:lnTo>
                  <a:pt x="25" y="100"/>
                </a:lnTo>
                <a:lnTo>
                  <a:pt x="19" y="94"/>
                </a:lnTo>
                <a:lnTo>
                  <a:pt x="15" y="89"/>
                </a:lnTo>
                <a:lnTo>
                  <a:pt x="15" y="89"/>
                </a:lnTo>
                <a:lnTo>
                  <a:pt x="15" y="8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6507000" y="3394080"/>
            <a:ext cx="196920" cy="635040"/>
          </a:xfrm>
          <a:custGeom>
            <a:avLst/>
            <a:gdLst/>
            <a:ahLst/>
            <a:rect l="l" t="t" r="r" b="b"/>
            <a:pathLst>
              <a:path w="248" h="799">
                <a:moveTo>
                  <a:pt x="4" y="19"/>
                </a:moveTo>
                <a:lnTo>
                  <a:pt x="8" y="11"/>
                </a:lnTo>
                <a:lnTo>
                  <a:pt x="11" y="6"/>
                </a:lnTo>
                <a:lnTo>
                  <a:pt x="17" y="2"/>
                </a:lnTo>
                <a:lnTo>
                  <a:pt x="25" y="0"/>
                </a:lnTo>
                <a:lnTo>
                  <a:pt x="33" y="0"/>
                </a:lnTo>
                <a:lnTo>
                  <a:pt x="42" y="0"/>
                </a:lnTo>
                <a:lnTo>
                  <a:pt x="54" y="4"/>
                </a:lnTo>
                <a:lnTo>
                  <a:pt x="65" y="7"/>
                </a:lnTo>
                <a:lnTo>
                  <a:pt x="79" y="13"/>
                </a:lnTo>
                <a:lnTo>
                  <a:pt x="92" y="19"/>
                </a:lnTo>
                <a:lnTo>
                  <a:pt x="106" y="25"/>
                </a:lnTo>
                <a:lnTo>
                  <a:pt x="121" y="32"/>
                </a:lnTo>
                <a:lnTo>
                  <a:pt x="136" y="42"/>
                </a:lnTo>
                <a:lnTo>
                  <a:pt x="152" y="52"/>
                </a:lnTo>
                <a:lnTo>
                  <a:pt x="167" y="63"/>
                </a:lnTo>
                <a:lnTo>
                  <a:pt x="184" y="75"/>
                </a:lnTo>
                <a:lnTo>
                  <a:pt x="192" y="80"/>
                </a:lnTo>
                <a:lnTo>
                  <a:pt x="200" y="88"/>
                </a:lnTo>
                <a:lnTo>
                  <a:pt x="207" y="94"/>
                </a:lnTo>
                <a:lnTo>
                  <a:pt x="215" y="99"/>
                </a:lnTo>
                <a:lnTo>
                  <a:pt x="221" y="107"/>
                </a:lnTo>
                <a:lnTo>
                  <a:pt x="226" y="113"/>
                </a:lnTo>
                <a:lnTo>
                  <a:pt x="230" y="119"/>
                </a:lnTo>
                <a:lnTo>
                  <a:pt x="234" y="126"/>
                </a:lnTo>
                <a:lnTo>
                  <a:pt x="238" y="132"/>
                </a:lnTo>
                <a:lnTo>
                  <a:pt x="242" y="138"/>
                </a:lnTo>
                <a:lnTo>
                  <a:pt x="244" y="144"/>
                </a:lnTo>
                <a:lnTo>
                  <a:pt x="246" y="151"/>
                </a:lnTo>
                <a:lnTo>
                  <a:pt x="248" y="157"/>
                </a:lnTo>
                <a:lnTo>
                  <a:pt x="248" y="163"/>
                </a:lnTo>
                <a:lnTo>
                  <a:pt x="248" y="170"/>
                </a:lnTo>
                <a:lnTo>
                  <a:pt x="248" y="176"/>
                </a:lnTo>
                <a:lnTo>
                  <a:pt x="246" y="182"/>
                </a:lnTo>
                <a:lnTo>
                  <a:pt x="246" y="190"/>
                </a:lnTo>
                <a:lnTo>
                  <a:pt x="244" y="197"/>
                </a:lnTo>
                <a:lnTo>
                  <a:pt x="242" y="207"/>
                </a:lnTo>
                <a:lnTo>
                  <a:pt x="240" y="216"/>
                </a:lnTo>
                <a:lnTo>
                  <a:pt x="238" y="228"/>
                </a:lnTo>
                <a:lnTo>
                  <a:pt x="236" y="239"/>
                </a:lnTo>
                <a:lnTo>
                  <a:pt x="234" y="251"/>
                </a:lnTo>
                <a:lnTo>
                  <a:pt x="232" y="264"/>
                </a:lnTo>
                <a:lnTo>
                  <a:pt x="228" y="278"/>
                </a:lnTo>
                <a:lnTo>
                  <a:pt x="226" y="291"/>
                </a:lnTo>
                <a:lnTo>
                  <a:pt x="223" y="306"/>
                </a:lnTo>
                <a:lnTo>
                  <a:pt x="221" y="324"/>
                </a:lnTo>
                <a:lnTo>
                  <a:pt x="217" y="339"/>
                </a:lnTo>
                <a:lnTo>
                  <a:pt x="213" y="356"/>
                </a:lnTo>
                <a:lnTo>
                  <a:pt x="209" y="375"/>
                </a:lnTo>
                <a:lnTo>
                  <a:pt x="194" y="450"/>
                </a:lnTo>
                <a:lnTo>
                  <a:pt x="178" y="523"/>
                </a:lnTo>
                <a:lnTo>
                  <a:pt x="165" y="596"/>
                </a:lnTo>
                <a:lnTo>
                  <a:pt x="154" y="669"/>
                </a:lnTo>
                <a:lnTo>
                  <a:pt x="150" y="686"/>
                </a:lnTo>
                <a:lnTo>
                  <a:pt x="148" y="701"/>
                </a:lnTo>
                <a:lnTo>
                  <a:pt x="144" y="716"/>
                </a:lnTo>
                <a:lnTo>
                  <a:pt x="140" y="730"/>
                </a:lnTo>
                <a:lnTo>
                  <a:pt x="136" y="743"/>
                </a:lnTo>
                <a:lnTo>
                  <a:pt x="132" y="755"/>
                </a:lnTo>
                <a:lnTo>
                  <a:pt x="129" y="764"/>
                </a:lnTo>
                <a:lnTo>
                  <a:pt x="125" y="772"/>
                </a:lnTo>
                <a:lnTo>
                  <a:pt x="121" y="780"/>
                </a:lnTo>
                <a:lnTo>
                  <a:pt x="117" y="785"/>
                </a:lnTo>
                <a:lnTo>
                  <a:pt x="113" y="791"/>
                </a:lnTo>
                <a:lnTo>
                  <a:pt x="107" y="795"/>
                </a:lnTo>
                <a:lnTo>
                  <a:pt x="104" y="799"/>
                </a:lnTo>
                <a:lnTo>
                  <a:pt x="100" y="799"/>
                </a:lnTo>
                <a:lnTo>
                  <a:pt x="94" y="799"/>
                </a:lnTo>
                <a:lnTo>
                  <a:pt x="90" y="799"/>
                </a:lnTo>
                <a:lnTo>
                  <a:pt x="88" y="799"/>
                </a:lnTo>
                <a:lnTo>
                  <a:pt x="86" y="797"/>
                </a:lnTo>
                <a:lnTo>
                  <a:pt x="84" y="795"/>
                </a:lnTo>
                <a:lnTo>
                  <a:pt x="81" y="791"/>
                </a:lnTo>
                <a:lnTo>
                  <a:pt x="79" y="789"/>
                </a:lnTo>
                <a:lnTo>
                  <a:pt x="77" y="785"/>
                </a:lnTo>
                <a:lnTo>
                  <a:pt x="75" y="782"/>
                </a:lnTo>
                <a:lnTo>
                  <a:pt x="75" y="776"/>
                </a:lnTo>
                <a:lnTo>
                  <a:pt x="73" y="770"/>
                </a:lnTo>
                <a:lnTo>
                  <a:pt x="71" y="766"/>
                </a:lnTo>
                <a:lnTo>
                  <a:pt x="69" y="759"/>
                </a:lnTo>
                <a:lnTo>
                  <a:pt x="67" y="753"/>
                </a:lnTo>
                <a:lnTo>
                  <a:pt x="67" y="745"/>
                </a:lnTo>
                <a:lnTo>
                  <a:pt x="65" y="738"/>
                </a:lnTo>
                <a:lnTo>
                  <a:pt x="63" y="728"/>
                </a:lnTo>
                <a:lnTo>
                  <a:pt x="63" y="720"/>
                </a:lnTo>
                <a:lnTo>
                  <a:pt x="61" y="711"/>
                </a:lnTo>
                <a:lnTo>
                  <a:pt x="61" y="701"/>
                </a:lnTo>
                <a:lnTo>
                  <a:pt x="59" y="690"/>
                </a:lnTo>
                <a:lnTo>
                  <a:pt x="59" y="678"/>
                </a:lnTo>
                <a:lnTo>
                  <a:pt x="58" y="667"/>
                </a:lnTo>
                <a:lnTo>
                  <a:pt x="58" y="655"/>
                </a:lnTo>
                <a:lnTo>
                  <a:pt x="56" y="644"/>
                </a:lnTo>
                <a:lnTo>
                  <a:pt x="56" y="630"/>
                </a:lnTo>
                <a:lnTo>
                  <a:pt x="56" y="617"/>
                </a:lnTo>
                <a:lnTo>
                  <a:pt x="56" y="601"/>
                </a:lnTo>
                <a:lnTo>
                  <a:pt x="54" y="588"/>
                </a:lnTo>
                <a:lnTo>
                  <a:pt x="54" y="573"/>
                </a:lnTo>
                <a:lnTo>
                  <a:pt x="54" y="555"/>
                </a:lnTo>
                <a:lnTo>
                  <a:pt x="54" y="540"/>
                </a:lnTo>
                <a:lnTo>
                  <a:pt x="54" y="523"/>
                </a:lnTo>
                <a:lnTo>
                  <a:pt x="54" y="506"/>
                </a:lnTo>
                <a:lnTo>
                  <a:pt x="54" y="471"/>
                </a:lnTo>
                <a:lnTo>
                  <a:pt x="54" y="439"/>
                </a:lnTo>
                <a:lnTo>
                  <a:pt x="52" y="406"/>
                </a:lnTo>
                <a:lnTo>
                  <a:pt x="52" y="377"/>
                </a:lnTo>
                <a:lnTo>
                  <a:pt x="50" y="349"/>
                </a:lnTo>
                <a:lnTo>
                  <a:pt x="50" y="322"/>
                </a:lnTo>
                <a:lnTo>
                  <a:pt x="48" y="297"/>
                </a:lnTo>
                <a:lnTo>
                  <a:pt x="46" y="274"/>
                </a:lnTo>
                <a:lnTo>
                  <a:pt x="44" y="251"/>
                </a:lnTo>
                <a:lnTo>
                  <a:pt x="40" y="230"/>
                </a:lnTo>
                <a:lnTo>
                  <a:pt x="38" y="211"/>
                </a:lnTo>
                <a:lnTo>
                  <a:pt x="35" y="193"/>
                </a:lnTo>
                <a:lnTo>
                  <a:pt x="33" y="176"/>
                </a:lnTo>
                <a:lnTo>
                  <a:pt x="29" y="163"/>
                </a:lnTo>
                <a:lnTo>
                  <a:pt x="25" y="149"/>
                </a:lnTo>
                <a:lnTo>
                  <a:pt x="21" y="138"/>
                </a:lnTo>
                <a:lnTo>
                  <a:pt x="15" y="117"/>
                </a:lnTo>
                <a:lnTo>
                  <a:pt x="10" y="98"/>
                </a:lnTo>
                <a:lnTo>
                  <a:pt x="4" y="80"/>
                </a:lnTo>
                <a:lnTo>
                  <a:pt x="2" y="65"/>
                </a:lnTo>
                <a:lnTo>
                  <a:pt x="0" y="52"/>
                </a:lnTo>
                <a:lnTo>
                  <a:pt x="0" y="38"/>
                </a:lnTo>
                <a:lnTo>
                  <a:pt x="2" y="2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2"/>
          <p:cNvSpPr/>
          <p:nvPr/>
        </p:nvSpPr>
        <p:spPr>
          <a:xfrm>
            <a:off x="5775480" y="2336760"/>
            <a:ext cx="1636560" cy="2003400"/>
          </a:xfrm>
          <a:custGeom>
            <a:avLst/>
            <a:gdLst/>
            <a:ahLst/>
            <a:rect l="l" t="t" r="r" b="b"/>
            <a:pathLst>
              <a:path w="2061" h="2526">
                <a:moveTo>
                  <a:pt x="717" y="1154"/>
                </a:moveTo>
                <a:lnTo>
                  <a:pt x="683" y="1159"/>
                </a:lnTo>
                <a:lnTo>
                  <a:pt x="650" y="1163"/>
                </a:lnTo>
                <a:lnTo>
                  <a:pt x="621" y="1169"/>
                </a:lnTo>
                <a:lnTo>
                  <a:pt x="593" y="1173"/>
                </a:lnTo>
                <a:lnTo>
                  <a:pt x="566" y="1177"/>
                </a:lnTo>
                <a:lnTo>
                  <a:pt x="539" y="1181"/>
                </a:lnTo>
                <a:lnTo>
                  <a:pt x="516" y="1184"/>
                </a:lnTo>
                <a:lnTo>
                  <a:pt x="495" y="1186"/>
                </a:lnTo>
                <a:lnTo>
                  <a:pt x="476" y="1190"/>
                </a:lnTo>
                <a:lnTo>
                  <a:pt x="456" y="1192"/>
                </a:lnTo>
                <a:lnTo>
                  <a:pt x="441" y="1194"/>
                </a:lnTo>
                <a:lnTo>
                  <a:pt x="426" y="1196"/>
                </a:lnTo>
                <a:lnTo>
                  <a:pt x="414" y="1196"/>
                </a:lnTo>
                <a:lnTo>
                  <a:pt x="403" y="1198"/>
                </a:lnTo>
                <a:lnTo>
                  <a:pt x="395" y="1198"/>
                </a:lnTo>
                <a:lnTo>
                  <a:pt x="387" y="1198"/>
                </a:lnTo>
                <a:lnTo>
                  <a:pt x="374" y="1198"/>
                </a:lnTo>
                <a:lnTo>
                  <a:pt x="358" y="1200"/>
                </a:lnTo>
                <a:lnTo>
                  <a:pt x="343" y="1204"/>
                </a:lnTo>
                <a:lnTo>
                  <a:pt x="328" y="1209"/>
                </a:lnTo>
                <a:lnTo>
                  <a:pt x="309" y="1215"/>
                </a:lnTo>
                <a:lnTo>
                  <a:pt x="289" y="1223"/>
                </a:lnTo>
                <a:lnTo>
                  <a:pt x="270" y="1230"/>
                </a:lnTo>
                <a:lnTo>
                  <a:pt x="249" y="1242"/>
                </a:lnTo>
                <a:lnTo>
                  <a:pt x="228" y="1251"/>
                </a:lnTo>
                <a:lnTo>
                  <a:pt x="209" y="1261"/>
                </a:lnTo>
                <a:lnTo>
                  <a:pt x="190" y="1269"/>
                </a:lnTo>
                <a:lnTo>
                  <a:pt x="172" y="1274"/>
                </a:lnTo>
                <a:lnTo>
                  <a:pt x="157" y="1278"/>
                </a:lnTo>
                <a:lnTo>
                  <a:pt x="143" y="1282"/>
                </a:lnTo>
                <a:lnTo>
                  <a:pt x="130" y="1284"/>
                </a:lnTo>
                <a:lnTo>
                  <a:pt x="119" y="1284"/>
                </a:lnTo>
                <a:lnTo>
                  <a:pt x="107" y="1284"/>
                </a:lnTo>
                <a:lnTo>
                  <a:pt x="95" y="1280"/>
                </a:lnTo>
                <a:lnTo>
                  <a:pt x="92" y="1278"/>
                </a:lnTo>
                <a:lnTo>
                  <a:pt x="86" y="1276"/>
                </a:lnTo>
                <a:lnTo>
                  <a:pt x="80" y="1273"/>
                </a:lnTo>
                <a:lnTo>
                  <a:pt x="74" y="1269"/>
                </a:lnTo>
                <a:lnTo>
                  <a:pt x="71" y="1265"/>
                </a:lnTo>
                <a:lnTo>
                  <a:pt x="65" y="1261"/>
                </a:lnTo>
                <a:lnTo>
                  <a:pt x="61" y="1255"/>
                </a:lnTo>
                <a:lnTo>
                  <a:pt x="55" y="1250"/>
                </a:lnTo>
                <a:lnTo>
                  <a:pt x="49" y="1244"/>
                </a:lnTo>
                <a:lnTo>
                  <a:pt x="46" y="1238"/>
                </a:lnTo>
                <a:lnTo>
                  <a:pt x="40" y="1230"/>
                </a:lnTo>
                <a:lnTo>
                  <a:pt x="36" y="1223"/>
                </a:lnTo>
                <a:lnTo>
                  <a:pt x="26" y="1207"/>
                </a:lnTo>
                <a:lnTo>
                  <a:pt x="21" y="1194"/>
                </a:lnTo>
                <a:lnTo>
                  <a:pt x="13" y="1181"/>
                </a:lnTo>
                <a:lnTo>
                  <a:pt x="9" y="1169"/>
                </a:lnTo>
                <a:lnTo>
                  <a:pt x="5" y="1159"/>
                </a:lnTo>
                <a:lnTo>
                  <a:pt x="1" y="1150"/>
                </a:lnTo>
                <a:lnTo>
                  <a:pt x="0" y="1142"/>
                </a:lnTo>
                <a:lnTo>
                  <a:pt x="0" y="1135"/>
                </a:lnTo>
                <a:lnTo>
                  <a:pt x="0" y="1129"/>
                </a:lnTo>
                <a:lnTo>
                  <a:pt x="3" y="1121"/>
                </a:lnTo>
                <a:lnTo>
                  <a:pt x="7" y="1113"/>
                </a:lnTo>
                <a:lnTo>
                  <a:pt x="13" y="1106"/>
                </a:lnTo>
                <a:lnTo>
                  <a:pt x="21" y="1096"/>
                </a:lnTo>
                <a:lnTo>
                  <a:pt x="30" y="1087"/>
                </a:lnTo>
                <a:lnTo>
                  <a:pt x="42" y="1077"/>
                </a:lnTo>
                <a:lnTo>
                  <a:pt x="55" y="1066"/>
                </a:lnTo>
                <a:lnTo>
                  <a:pt x="59" y="1062"/>
                </a:lnTo>
                <a:lnTo>
                  <a:pt x="63" y="1060"/>
                </a:lnTo>
                <a:lnTo>
                  <a:pt x="65" y="1056"/>
                </a:lnTo>
                <a:lnTo>
                  <a:pt x="69" y="1050"/>
                </a:lnTo>
                <a:lnTo>
                  <a:pt x="72" y="1045"/>
                </a:lnTo>
                <a:lnTo>
                  <a:pt x="74" y="1039"/>
                </a:lnTo>
                <a:lnTo>
                  <a:pt x="78" y="1033"/>
                </a:lnTo>
                <a:lnTo>
                  <a:pt x="82" y="1027"/>
                </a:lnTo>
                <a:lnTo>
                  <a:pt x="84" y="1020"/>
                </a:lnTo>
                <a:lnTo>
                  <a:pt x="86" y="1012"/>
                </a:lnTo>
                <a:lnTo>
                  <a:pt x="90" y="1002"/>
                </a:lnTo>
                <a:lnTo>
                  <a:pt x="92" y="993"/>
                </a:lnTo>
                <a:lnTo>
                  <a:pt x="94" y="983"/>
                </a:lnTo>
                <a:lnTo>
                  <a:pt x="97" y="974"/>
                </a:lnTo>
                <a:lnTo>
                  <a:pt x="99" y="964"/>
                </a:lnTo>
                <a:lnTo>
                  <a:pt x="101" y="953"/>
                </a:lnTo>
                <a:lnTo>
                  <a:pt x="103" y="941"/>
                </a:lnTo>
                <a:lnTo>
                  <a:pt x="105" y="928"/>
                </a:lnTo>
                <a:lnTo>
                  <a:pt x="107" y="914"/>
                </a:lnTo>
                <a:lnTo>
                  <a:pt x="109" y="901"/>
                </a:lnTo>
                <a:lnTo>
                  <a:pt x="111" y="887"/>
                </a:lnTo>
                <a:lnTo>
                  <a:pt x="113" y="874"/>
                </a:lnTo>
                <a:lnTo>
                  <a:pt x="115" y="859"/>
                </a:lnTo>
                <a:lnTo>
                  <a:pt x="117" y="843"/>
                </a:lnTo>
                <a:lnTo>
                  <a:pt x="117" y="826"/>
                </a:lnTo>
                <a:lnTo>
                  <a:pt x="119" y="809"/>
                </a:lnTo>
                <a:lnTo>
                  <a:pt x="120" y="792"/>
                </a:lnTo>
                <a:lnTo>
                  <a:pt x="120" y="774"/>
                </a:lnTo>
                <a:lnTo>
                  <a:pt x="122" y="757"/>
                </a:lnTo>
                <a:lnTo>
                  <a:pt x="122" y="738"/>
                </a:lnTo>
                <a:lnTo>
                  <a:pt x="124" y="717"/>
                </a:lnTo>
                <a:lnTo>
                  <a:pt x="124" y="698"/>
                </a:lnTo>
                <a:lnTo>
                  <a:pt x="126" y="657"/>
                </a:lnTo>
                <a:lnTo>
                  <a:pt x="126" y="619"/>
                </a:lnTo>
                <a:lnTo>
                  <a:pt x="126" y="583"/>
                </a:lnTo>
                <a:lnTo>
                  <a:pt x="126" y="546"/>
                </a:lnTo>
                <a:lnTo>
                  <a:pt x="126" y="514"/>
                </a:lnTo>
                <a:lnTo>
                  <a:pt x="124" y="481"/>
                </a:lnTo>
                <a:lnTo>
                  <a:pt x="122" y="451"/>
                </a:lnTo>
                <a:lnTo>
                  <a:pt x="120" y="420"/>
                </a:lnTo>
                <a:lnTo>
                  <a:pt x="119" y="391"/>
                </a:lnTo>
                <a:lnTo>
                  <a:pt x="115" y="366"/>
                </a:lnTo>
                <a:lnTo>
                  <a:pt x="111" y="339"/>
                </a:lnTo>
                <a:lnTo>
                  <a:pt x="107" y="316"/>
                </a:lnTo>
                <a:lnTo>
                  <a:pt x="103" y="293"/>
                </a:lnTo>
                <a:lnTo>
                  <a:pt x="97" y="274"/>
                </a:lnTo>
                <a:lnTo>
                  <a:pt x="92" y="253"/>
                </a:lnTo>
                <a:lnTo>
                  <a:pt x="86" y="236"/>
                </a:lnTo>
                <a:lnTo>
                  <a:pt x="80" y="219"/>
                </a:lnTo>
                <a:lnTo>
                  <a:pt x="74" y="203"/>
                </a:lnTo>
                <a:lnTo>
                  <a:pt x="69" y="188"/>
                </a:lnTo>
                <a:lnTo>
                  <a:pt x="65" y="173"/>
                </a:lnTo>
                <a:lnTo>
                  <a:pt x="59" y="159"/>
                </a:lnTo>
                <a:lnTo>
                  <a:pt x="55" y="146"/>
                </a:lnTo>
                <a:lnTo>
                  <a:pt x="51" y="134"/>
                </a:lnTo>
                <a:lnTo>
                  <a:pt x="49" y="121"/>
                </a:lnTo>
                <a:lnTo>
                  <a:pt x="46" y="109"/>
                </a:lnTo>
                <a:lnTo>
                  <a:pt x="44" y="100"/>
                </a:lnTo>
                <a:lnTo>
                  <a:pt x="42" y="90"/>
                </a:lnTo>
                <a:lnTo>
                  <a:pt x="40" y="81"/>
                </a:lnTo>
                <a:lnTo>
                  <a:pt x="38" y="71"/>
                </a:lnTo>
                <a:lnTo>
                  <a:pt x="36" y="64"/>
                </a:lnTo>
                <a:lnTo>
                  <a:pt x="36" y="56"/>
                </a:lnTo>
                <a:lnTo>
                  <a:pt x="36" y="50"/>
                </a:lnTo>
                <a:lnTo>
                  <a:pt x="36" y="39"/>
                </a:lnTo>
                <a:lnTo>
                  <a:pt x="40" y="27"/>
                </a:lnTo>
                <a:lnTo>
                  <a:pt x="44" y="19"/>
                </a:lnTo>
                <a:lnTo>
                  <a:pt x="49" y="12"/>
                </a:lnTo>
                <a:lnTo>
                  <a:pt x="55" y="8"/>
                </a:lnTo>
                <a:lnTo>
                  <a:pt x="65" y="4"/>
                </a:lnTo>
                <a:lnTo>
                  <a:pt x="74" y="0"/>
                </a:lnTo>
                <a:lnTo>
                  <a:pt x="86" y="0"/>
                </a:lnTo>
                <a:lnTo>
                  <a:pt x="94" y="0"/>
                </a:lnTo>
                <a:lnTo>
                  <a:pt x="99" y="2"/>
                </a:lnTo>
                <a:lnTo>
                  <a:pt x="107" y="2"/>
                </a:lnTo>
                <a:lnTo>
                  <a:pt x="117" y="4"/>
                </a:lnTo>
                <a:lnTo>
                  <a:pt x="124" y="6"/>
                </a:lnTo>
                <a:lnTo>
                  <a:pt x="134" y="10"/>
                </a:lnTo>
                <a:lnTo>
                  <a:pt x="145" y="12"/>
                </a:lnTo>
                <a:lnTo>
                  <a:pt x="155" y="16"/>
                </a:lnTo>
                <a:lnTo>
                  <a:pt x="167" y="19"/>
                </a:lnTo>
                <a:lnTo>
                  <a:pt x="178" y="25"/>
                </a:lnTo>
                <a:lnTo>
                  <a:pt x="191" y="29"/>
                </a:lnTo>
                <a:lnTo>
                  <a:pt x="205" y="35"/>
                </a:lnTo>
                <a:lnTo>
                  <a:pt x="218" y="41"/>
                </a:lnTo>
                <a:lnTo>
                  <a:pt x="232" y="48"/>
                </a:lnTo>
                <a:lnTo>
                  <a:pt x="247" y="54"/>
                </a:lnTo>
                <a:lnTo>
                  <a:pt x="263" y="62"/>
                </a:lnTo>
                <a:lnTo>
                  <a:pt x="263" y="119"/>
                </a:lnTo>
                <a:lnTo>
                  <a:pt x="263" y="175"/>
                </a:lnTo>
                <a:lnTo>
                  <a:pt x="263" y="230"/>
                </a:lnTo>
                <a:lnTo>
                  <a:pt x="263" y="282"/>
                </a:lnTo>
                <a:lnTo>
                  <a:pt x="263" y="332"/>
                </a:lnTo>
                <a:lnTo>
                  <a:pt x="263" y="382"/>
                </a:lnTo>
                <a:lnTo>
                  <a:pt x="263" y="429"/>
                </a:lnTo>
                <a:lnTo>
                  <a:pt x="264" y="474"/>
                </a:lnTo>
                <a:lnTo>
                  <a:pt x="264" y="518"/>
                </a:lnTo>
                <a:lnTo>
                  <a:pt x="264" y="560"/>
                </a:lnTo>
                <a:lnTo>
                  <a:pt x="264" y="600"/>
                </a:lnTo>
                <a:lnTo>
                  <a:pt x="264" y="638"/>
                </a:lnTo>
                <a:lnTo>
                  <a:pt x="266" y="675"/>
                </a:lnTo>
                <a:lnTo>
                  <a:pt x="266" y="709"/>
                </a:lnTo>
                <a:lnTo>
                  <a:pt x="266" y="744"/>
                </a:lnTo>
                <a:lnTo>
                  <a:pt x="266" y="774"/>
                </a:lnTo>
                <a:lnTo>
                  <a:pt x="268" y="805"/>
                </a:lnTo>
                <a:lnTo>
                  <a:pt x="268" y="832"/>
                </a:lnTo>
                <a:lnTo>
                  <a:pt x="268" y="859"/>
                </a:lnTo>
                <a:lnTo>
                  <a:pt x="270" y="884"/>
                </a:lnTo>
                <a:lnTo>
                  <a:pt x="270" y="907"/>
                </a:lnTo>
                <a:lnTo>
                  <a:pt x="270" y="928"/>
                </a:lnTo>
                <a:lnTo>
                  <a:pt x="272" y="947"/>
                </a:lnTo>
                <a:lnTo>
                  <a:pt x="272" y="964"/>
                </a:lnTo>
                <a:lnTo>
                  <a:pt x="274" y="979"/>
                </a:lnTo>
                <a:lnTo>
                  <a:pt x="274" y="993"/>
                </a:lnTo>
                <a:lnTo>
                  <a:pt x="274" y="1006"/>
                </a:lnTo>
                <a:lnTo>
                  <a:pt x="276" y="1016"/>
                </a:lnTo>
                <a:lnTo>
                  <a:pt x="276" y="1025"/>
                </a:lnTo>
                <a:lnTo>
                  <a:pt x="278" y="1031"/>
                </a:lnTo>
                <a:lnTo>
                  <a:pt x="278" y="1037"/>
                </a:lnTo>
                <a:lnTo>
                  <a:pt x="280" y="1041"/>
                </a:lnTo>
                <a:lnTo>
                  <a:pt x="284" y="1046"/>
                </a:lnTo>
                <a:lnTo>
                  <a:pt x="287" y="1052"/>
                </a:lnTo>
                <a:lnTo>
                  <a:pt x="291" y="1056"/>
                </a:lnTo>
                <a:lnTo>
                  <a:pt x="297" y="1060"/>
                </a:lnTo>
                <a:lnTo>
                  <a:pt x="305" y="1064"/>
                </a:lnTo>
                <a:lnTo>
                  <a:pt x="312" y="1066"/>
                </a:lnTo>
                <a:lnTo>
                  <a:pt x="322" y="1069"/>
                </a:lnTo>
                <a:lnTo>
                  <a:pt x="332" y="1071"/>
                </a:lnTo>
                <a:lnTo>
                  <a:pt x="343" y="1073"/>
                </a:lnTo>
                <a:lnTo>
                  <a:pt x="355" y="1075"/>
                </a:lnTo>
                <a:lnTo>
                  <a:pt x="368" y="1075"/>
                </a:lnTo>
                <a:lnTo>
                  <a:pt x="382" y="1075"/>
                </a:lnTo>
                <a:lnTo>
                  <a:pt x="397" y="1075"/>
                </a:lnTo>
                <a:lnTo>
                  <a:pt x="414" y="1075"/>
                </a:lnTo>
                <a:lnTo>
                  <a:pt x="431" y="1075"/>
                </a:lnTo>
                <a:lnTo>
                  <a:pt x="449" y="1073"/>
                </a:lnTo>
                <a:lnTo>
                  <a:pt x="468" y="1071"/>
                </a:lnTo>
                <a:lnTo>
                  <a:pt x="489" y="1069"/>
                </a:lnTo>
                <a:lnTo>
                  <a:pt x="512" y="1068"/>
                </a:lnTo>
                <a:lnTo>
                  <a:pt x="537" y="1064"/>
                </a:lnTo>
                <a:lnTo>
                  <a:pt x="562" y="1062"/>
                </a:lnTo>
                <a:lnTo>
                  <a:pt x="589" y="1058"/>
                </a:lnTo>
                <a:lnTo>
                  <a:pt x="618" y="1054"/>
                </a:lnTo>
                <a:lnTo>
                  <a:pt x="648" y="1050"/>
                </a:lnTo>
                <a:lnTo>
                  <a:pt x="681" y="1046"/>
                </a:lnTo>
                <a:lnTo>
                  <a:pt x="716" y="1043"/>
                </a:lnTo>
                <a:lnTo>
                  <a:pt x="750" y="1037"/>
                </a:lnTo>
                <a:lnTo>
                  <a:pt x="787" y="1033"/>
                </a:lnTo>
                <a:lnTo>
                  <a:pt x="825" y="1027"/>
                </a:lnTo>
                <a:lnTo>
                  <a:pt x="865" y="1022"/>
                </a:lnTo>
                <a:lnTo>
                  <a:pt x="908" y="1016"/>
                </a:lnTo>
                <a:lnTo>
                  <a:pt x="950" y="1010"/>
                </a:lnTo>
                <a:lnTo>
                  <a:pt x="992" y="1004"/>
                </a:lnTo>
                <a:lnTo>
                  <a:pt x="1034" y="999"/>
                </a:lnTo>
                <a:lnTo>
                  <a:pt x="1073" y="993"/>
                </a:lnTo>
                <a:lnTo>
                  <a:pt x="1111" y="987"/>
                </a:lnTo>
                <a:lnTo>
                  <a:pt x="1147" y="983"/>
                </a:lnTo>
                <a:lnTo>
                  <a:pt x="1182" y="977"/>
                </a:lnTo>
                <a:lnTo>
                  <a:pt x="1215" y="974"/>
                </a:lnTo>
                <a:lnTo>
                  <a:pt x="1245" y="970"/>
                </a:lnTo>
                <a:lnTo>
                  <a:pt x="1276" y="966"/>
                </a:lnTo>
                <a:lnTo>
                  <a:pt x="1303" y="962"/>
                </a:lnTo>
                <a:lnTo>
                  <a:pt x="1330" y="960"/>
                </a:lnTo>
                <a:lnTo>
                  <a:pt x="1355" y="956"/>
                </a:lnTo>
                <a:lnTo>
                  <a:pt x="1378" y="954"/>
                </a:lnTo>
                <a:lnTo>
                  <a:pt x="1399" y="953"/>
                </a:lnTo>
                <a:lnTo>
                  <a:pt x="1420" y="951"/>
                </a:lnTo>
                <a:lnTo>
                  <a:pt x="1437" y="949"/>
                </a:lnTo>
                <a:lnTo>
                  <a:pt x="1455" y="947"/>
                </a:lnTo>
                <a:lnTo>
                  <a:pt x="1470" y="945"/>
                </a:lnTo>
                <a:lnTo>
                  <a:pt x="1485" y="943"/>
                </a:lnTo>
                <a:lnTo>
                  <a:pt x="1499" y="941"/>
                </a:lnTo>
                <a:lnTo>
                  <a:pt x="1514" y="939"/>
                </a:lnTo>
                <a:lnTo>
                  <a:pt x="1526" y="937"/>
                </a:lnTo>
                <a:lnTo>
                  <a:pt x="1539" y="935"/>
                </a:lnTo>
                <a:lnTo>
                  <a:pt x="1551" y="933"/>
                </a:lnTo>
                <a:lnTo>
                  <a:pt x="1562" y="931"/>
                </a:lnTo>
                <a:lnTo>
                  <a:pt x="1572" y="930"/>
                </a:lnTo>
                <a:lnTo>
                  <a:pt x="1581" y="928"/>
                </a:lnTo>
                <a:lnTo>
                  <a:pt x="1591" y="926"/>
                </a:lnTo>
                <a:lnTo>
                  <a:pt x="1599" y="924"/>
                </a:lnTo>
                <a:lnTo>
                  <a:pt x="1606" y="922"/>
                </a:lnTo>
                <a:lnTo>
                  <a:pt x="1612" y="918"/>
                </a:lnTo>
                <a:lnTo>
                  <a:pt x="1618" y="916"/>
                </a:lnTo>
                <a:lnTo>
                  <a:pt x="1639" y="908"/>
                </a:lnTo>
                <a:lnTo>
                  <a:pt x="1650" y="905"/>
                </a:lnTo>
                <a:lnTo>
                  <a:pt x="1662" y="903"/>
                </a:lnTo>
                <a:lnTo>
                  <a:pt x="1672" y="901"/>
                </a:lnTo>
                <a:lnTo>
                  <a:pt x="1683" y="899"/>
                </a:lnTo>
                <a:lnTo>
                  <a:pt x="1695" y="897"/>
                </a:lnTo>
                <a:lnTo>
                  <a:pt x="1706" y="897"/>
                </a:lnTo>
                <a:lnTo>
                  <a:pt x="1712" y="897"/>
                </a:lnTo>
                <a:lnTo>
                  <a:pt x="1720" y="899"/>
                </a:lnTo>
                <a:lnTo>
                  <a:pt x="1727" y="901"/>
                </a:lnTo>
                <a:lnTo>
                  <a:pt x="1735" y="903"/>
                </a:lnTo>
                <a:lnTo>
                  <a:pt x="1744" y="905"/>
                </a:lnTo>
                <a:lnTo>
                  <a:pt x="1754" y="908"/>
                </a:lnTo>
                <a:lnTo>
                  <a:pt x="1766" y="912"/>
                </a:lnTo>
                <a:lnTo>
                  <a:pt x="1777" y="918"/>
                </a:lnTo>
                <a:lnTo>
                  <a:pt x="1791" y="924"/>
                </a:lnTo>
                <a:lnTo>
                  <a:pt x="1804" y="930"/>
                </a:lnTo>
                <a:lnTo>
                  <a:pt x="1819" y="937"/>
                </a:lnTo>
                <a:lnTo>
                  <a:pt x="1835" y="943"/>
                </a:lnTo>
                <a:lnTo>
                  <a:pt x="1852" y="953"/>
                </a:lnTo>
                <a:lnTo>
                  <a:pt x="1869" y="960"/>
                </a:lnTo>
                <a:lnTo>
                  <a:pt x="1887" y="970"/>
                </a:lnTo>
                <a:lnTo>
                  <a:pt x="1906" y="979"/>
                </a:lnTo>
                <a:lnTo>
                  <a:pt x="1925" y="989"/>
                </a:lnTo>
                <a:lnTo>
                  <a:pt x="1942" y="999"/>
                </a:lnTo>
                <a:lnTo>
                  <a:pt x="1959" y="1008"/>
                </a:lnTo>
                <a:lnTo>
                  <a:pt x="1973" y="1018"/>
                </a:lnTo>
                <a:lnTo>
                  <a:pt x="1988" y="1027"/>
                </a:lnTo>
                <a:lnTo>
                  <a:pt x="2000" y="1035"/>
                </a:lnTo>
                <a:lnTo>
                  <a:pt x="2011" y="1045"/>
                </a:lnTo>
                <a:lnTo>
                  <a:pt x="2023" y="1052"/>
                </a:lnTo>
                <a:lnTo>
                  <a:pt x="2032" y="1060"/>
                </a:lnTo>
                <a:lnTo>
                  <a:pt x="2040" y="1068"/>
                </a:lnTo>
                <a:lnTo>
                  <a:pt x="2046" y="1075"/>
                </a:lnTo>
                <a:lnTo>
                  <a:pt x="2052" y="1083"/>
                </a:lnTo>
                <a:lnTo>
                  <a:pt x="2055" y="1090"/>
                </a:lnTo>
                <a:lnTo>
                  <a:pt x="2059" y="1096"/>
                </a:lnTo>
                <a:lnTo>
                  <a:pt x="2061" y="1104"/>
                </a:lnTo>
                <a:lnTo>
                  <a:pt x="2061" y="1110"/>
                </a:lnTo>
                <a:lnTo>
                  <a:pt x="2061" y="1123"/>
                </a:lnTo>
                <a:lnTo>
                  <a:pt x="2059" y="1135"/>
                </a:lnTo>
                <a:lnTo>
                  <a:pt x="2055" y="1146"/>
                </a:lnTo>
                <a:lnTo>
                  <a:pt x="2052" y="1158"/>
                </a:lnTo>
                <a:lnTo>
                  <a:pt x="2048" y="1167"/>
                </a:lnTo>
                <a:lnTo>
                  <a:pt x="2040" y="1179"/>
                </a:lnTo>
                <a:lnTo>
                  <a:pt x="2034" y="1188"/>
                </a:lnTo>
                <a:lnTo>
                  <a:pt x="2025" y="1198"/>
                </a:lnTo>
                <a:lnTo>
                  <a:pt x="2021" y="1204"/>
                </a:lnTo>
                <a:lnTo>
                  <a:pt x="2015" y="1209"/>
                </a:lnTo>
                <a:lnTo>
                  <a:pt x="2011" y="1219"/>
                </a:lnTo>
                <a:lnTo>
                  <a:pt x="2006" y="1227"/>
                </a:lnTo>
                <a:lnTo>
                  <a:pt x="2002" y="1238"/>
                </a:lnTo>
                <a:lnTo>
                  <a:pt x="1996" y="1250"/>
                </a:lnTo>
                <a:lnTo>
                  <a:pt x="1992" y="1263"/>
                </a:lnTo>
                <a:lnTo>
                  <a:pt x="1988" y="1278"/>
                </a:lnTo>
                <a:lnTo>
                  <a:pt x="1983" y="1296"/>
                </a:lnTo>
                <a:lnTo>
                  <a:pt x="1979" y="1313"/>
                </a:lnTo>
                <a:lnTo>
                  <a:pt x="1973" y="1332"/>
                </a:lnTo>
                <a:lnTo>
                  <a:pt x="1969" y="1351"/>
                </a:lnTo>
                <a:lnTo>
                  <a:pt x="1963" y="1374"/>
                </a:lnTo>
                <a:lnTo>
                  <a:pt x="1959" y="1397"/>
                </a:lnTo>
                <a:lnTo>
                  <a:pt x="1954" y="1422"/>
                </a:lnTo>
                <a:lnTo>
                  <a:pt x="1950" y="1447"/>
                </a:lnTo>
                <a:lnTo>
                  <a:pt x="1940" y="1501"/>
                </a:lnTo>
                <a:lnTo>
                  <a:pt x="1931" y="1554"/>
                </a:lnTo>
                <a:lnTo>
                  <a:pt x="1910" y="1661"/>
                </a:lnTo>
                <a:lnTo>
                  <a:pt x="1887" y="1769"/>
                </a:lnTo>
                <a:lnTo>
                  <a:pt x="1862" y="1878"/>
                </a:lnTo>
                <a:lnTo>
                  <a:pt x="1856" y="1905"/>
                </a:lnTo>
                <a:lnTo>
                  <a:pt x="1850" y="1932"/>
                </a:lnTo>
                <a:lnTo>
                  <a:pt x="1842" y="1958"/>
                </a:lnTo>
                <a:lnTo>
                  <a:pt x="1837" y="1983"/>
                </a:lnTo>
                <a:lnTo>
                  <a:pt x="1829" y="2008"/>
                </a:lnTo>
                <a:lnTo>
                  <a:pt x="1823" y="2031"/>
                </a:lnTo>
                <a:lnTo>
                  <a:pt x="1816" y="2056"/>
                </a:lnTo>
                <a:lnTo>
                  <a:pt x="1808" y="2079"/>
                </a:lnTo>
                <a:lnTo>
                  <a:pt x="1802" y="2102"/>
                </a:lnTo>
                <a:lnTo>
                  <a:pt x="1794" y="2123"/>
                </a:lnTo>
                <a:lnTo>
                  <a:pt x="1787" y="2146"/>
                </a:lnTo>
                <a:lnTo>
                  <a:pt x="1779" y="2167"/>
                </a:lnTo>
                <a:lnTo>
                  <a:pt x="1771" y="2188"/>
                </a:lnTo>
                <a:lnTo>
                  <a:pt x="1764" y="2208"/>
                </a:lnTo>
                <a:lnTo>
                  <a:pt x="1756" y="2227"/>
                </a:lnTo>
                <a:lnTo>
                  <a:pt x="1748" y="2246"/>
                </a:lnTo>
                <a:lnTo>
                  <a:pt x="1741" y="2265"/>
                </a:lnTo>
                <a:lnTo>
                  <a:pt x="1733" y="2282"/>
                </a:lnTo>
                <a:lnTo>
                  <a:pt x="1725" y="2300"/>
                </a:lnTo>
                <a:lnTo>
                  <a:pt x="1716" y="2315"/>
                </a:lnTo>
                <a:lnTo>
                  <a:pt x="1708" y="2332"/>
                </a:lnTo>
                <a:lnTo>
                  <a:pt x="1698" y="2347"/>
                </a:lnTo>
                <a:lnTo>
                  <a:pt x="1691" y="2361"/>
                </a:lnTo>
                <a:lnTo>
                  <a:pt x="1681" y="2376"/>
                </a:lnTo>
                <a:lnTo>
                  <a:pt x="1672" y="2388"/>
                </a:lnTo>
                <a:lnTo>
                  <a:pt x="1662" y="2401"/>
                </a:lnTo>
                <a:lnTo>
                  <a:pt x="1652" y="2413"/>
                </a:lnTo>
                <a:lnTo>
                  <a:pt x="1641" y="2424"/>
                </a:lnTo>
                <a:lnTo>
                  <a:pt x="1631" y="2436"/>
                </a:lnTo>
                <a:lnTo>
                  <a:pt x="1620" y="2445"/>
                </a:lnTo>
                <a:lnTo>
                  <a:pt x="1610" y="2455"/>
                </a:lnTo>
                <a:lnTo>
                  <a:pt x="1599" y="2464"/>
                </a:lnTo>
                <a:lnTo>
                  <a:pt x="1587" y="2472"/>
                </a:lnTo>
                <a:lnTo>
                  <a:pt x="1577" y="2480"/>
                </a:lnTo>
                <a:lnTo>
                  <a:pt x="1568" y="2487"/>
                </a:lnTo>
                <a:lnTo>
                  <a:pt x="1558" y="2493"/>
                </a:lnTo>
                <a:lnTo>
                  <a:pt x="1549" y="2499"/>
                </a:lnTo>
                <a:lnTo>
                  <a:pt x="1541" y="2505"/>
                </a:lnTo>
                <a:lnTo>
                  <a:pt x="1531" y="2510"/>
                </a:lnTo>
                <a:lnTo>
                  <a:pt x="1524" y="2514"/>
                </a:lnTo>
                <a:lnTo>
                  <a:pt x="1516" y="2518"/>
                </a:lnTo>
                <a:lnTo>
                  <a:pt x="1508" y="2520"/>
                </a:lnTo>
                <a:lnTo>
                  <a:pt x="1503" y="2522"/>
                </a:lnTo>
                <a:lnTo>
                  <a:pt x="1495" y="2524"/>
                </a:lnTo>
                <a:lnTo>
                  <a:pt x="1489" y="2526"/>
                </a:lnTo>
                <a:lnTo>
                  <a:pt x="1483" y="2526"/>
                </a:lnTo>
                <a:lnTo>
                  <a:pt x="1480" y="2526"/>
                </a:lnTo>
                <a:lnTo>
                  <a:pt x="1474" y="2526"/>
                </a:lnTo>
                <a:lnTo>
                  <a:pt x="1470" y="2524"/>
                </a:lnTo>
                <a:lnTo>
                  <a:pt x="1464" y="2524"/>
                </a:lnTo>
                <a:lnTo>
                  <a:pt x="1460" y="2520"/>
                </a:lnTo>
                <a:lnTo>
                  <a:pt x="1457" y="2518"/>
                </a:lnTo>
                <a:lnTo>
                  <a:pt x="1453" y="2514"/>
                </a:lnTo>
                <a:lnTo>
                  <a:pt x="1449" y="2508"/>
                </a:lnTo>
                <a:lnTo>
                  <a:pt x="1445" y="2505"/>
                </a:lnTo>
                <a:lnTo>
                  <a:pt x="1443" y="2499"/>
                </a:lnTo>
                <a:lnTo>
                  <a:pt x="1439" y="2491"/>
                </a:lnTo>
                <a:lnTo>
                  <a:pt x="1437" y="2483"/>
                </a:lnTo>
                <a:lnTo>
                  <a:pt x="1434" y="2476"/>
                </a:lnTo>
                <a:lnTo>
                  <a:pt x="1432" y="2468"/>
                </a:lnTo>
                <a:lnTo>
                  <a:pt x="1430" y="2459"/>
                </a:lnTo>
                <a:lnTo>
                  <a:pt x="1428" y="2449"/>
                </a:lnTo>
                <a:lnTo>
                  <a:pt x="1426" y="2437"/>
                </a:lnTo>
                <a:lnTo>
                  <a:pt x="1424" y="2426"/>
                </a:lnTo>
                <a:lnTo>
                  <a:pt x="1422" y="2414"/>
                </a:lnTo>
                <a:lnTo>
                  <a:pt x="1420" y="2403"/>
                </a:lnTo>
                <a:lnTo>
                  <a:pt x="1416" y="2391"/>
                </a:lnTo>
                <a:lnTo>
                  <a:pt x="1410" y="2380"/>
                </a:lnTo>
                <a:lnTo>
                  <a:pt x="1405" y="2370"/>
                </a:lnTo>
                <a:lnTo>
                  <a:pt x="1399" y="2359"/>
                </a:lnTo>
                <a:lnTo>
                  <a:pt x="1391" y="2347"/>
                </a:lnTo>
                <a:lnTo>
                  <a:pt x="1384" y="2338"/>
                </a:lnTo>
                <a:lnTo>
                  <a:pt x="1374" y="2326"/>
                </a:lnTo>
                <a:lnTo>
                  <a:pt x="1364" y="2317"/>
                </a:lnTo>
                <a:lnTo>
                  <a:pt x="1353" y="2307"/>
                </a:lnTo>
                <a:lnTo>
                  <a:pt x="1341" y="2296"/>
                </a:lnTo>
                <a:lnTo>
                  <a:pt x="1330" y="2286"/>
                </a:lnTo>
                <a:lnTo>
                  <a:pt x="1316" y="2277"/>
                </a:lnTo>
                <a:lnTo>
                  <a:pt x="1301" y="2267"/>
                </a:lnTo>
                <a:lnTo>
                  <a:pt x="1286" y="2257"/>
                </a:lnTo>
                <a:lnTo>
                  <a:pt x="1270" y="2248"/>
                </a:lnTo>
                <a:lnTo>
                  <a:pt x="1257" y="2240"/>
                </a:lnTo>
                <a:lnTo>
                  <a:pt x="1243" y="2231"/>
                </a:lnTo>
                <a:lnTo>
                  <a:pt x="1232" y="2223"/>
                </a:lnTo>
                <a:lnTo>
                  <a:pt x="1220" y="2215"/>
                </a:lnTo>
                <a:lnTo>
                  <a:pt x="1211" y="2208"/>
                </a:lnTo>
                <a:lnTo>
                  <a:pt x="1201" y="2200"/>
                </a:lnTo>
                <a:lnTo>
                  <a:pt x="1194" y="2194"/>
                </a:lnTo>
                <a:lnTo>
                  <a:pt x="1188" y="2188"/>
                </a:lnTo>
                <a:lnTo>
                  <a:pt x="1182" y="2181"/>
                </a:lnTo>
                <a:lnTo>
                  <a:pt x="1176" y="2175"/>
                </a:lnTo>
                <a:lnTo>
                  <a:pt x="1172" y="2171"/>
                </a:lnTo>
                <a:lnTo>
                  <a:pt x="1171" y="2165"/>
                </a:lnTo>
                <a:lnTo>
                  <a:pt x="1169" y="2160"/>
                </a:lnTo>
                <a:lnTo>
                  <a:pt x="1169" y="2156"/>
                </a:lnTo>
                <a:lnTo>
                  <a:pt x="1169" y="2152"/>
                </a:lnTo>
                <a:lnTo>
                  <a:pt x="1171" y="2148"/>
                </a:lnTo>
                <a:lnTo>
                  <a:pt x="1172" y="2144"/>
                </a:lnTo>
                <a:lnTo>
                  <a:pt x="1176" y="2142"/>
                </a:lnTo>
                <a:lnTo>
                  <a:pt x="1180" y="2140"/>
                </a:lnTo>
                <a:lnTo>
                  <a:pt x="1186" y="2139"/>
                </a:lnTo>
                <a:lnTo>
                  <a:pt x="1194" y="2139"/>
                </a:lnTo>
                <a:lnTo>
                  <a:pt x="1201" y="2137"/>
                </a:lnTo>
                <a:lnTo>
                  <a:pt x="1211" y="2139"/>
                </a:lnTo>
                <a:lnTo>
                  <a:pt x="1220" y="2139"/>
                </a:lnTo>
                <a:lnTo>
                  <a:pt x="1232" y="2139"/>
                </a:lnTo>
                <a:lnTo>
                  <a:pt x="1245" y="2140"/>
                </a:lnTo>
                <a:lnTo>
                  <a:pt x="1259" y="2144"/>
                </a:lnTo>
                <a:lnTo>
                  <a:pt x="1272" y="2146"/>
                </a:lnTo>
                <a:lnTo>
                  <a:pt x="1290" y="2150"/>
                </a:lnTo>
                <a:lnTo>
                  <a:pt x="1307" y="2154"/>
                </a:lnTo>
                <a:lnTo>
                  <a:pt x="1324" y="2158"/>
                </a:lnTo>
                <a:lnTo>
                  <a:pt x="1343" y="2162"/>
                </a:lnTo>
                <a:lnTo>
                  <a:pt x="1361" y="2165"/>
                </a:lnTo>
                <a:lnTo>
                  <a:pt x="1378" y="2169"/>
                </a:lnTo>
                <a:lnTo>
                  <a:pt x="1393" y="2171"/>
                </a:lnTo>
                <a:lnTo>
                  <a:pt x="1409" y="2173"/>
                </a:lnTo>
                <a:lnTo>
                  <a:pt x="1424" y="2173"/>
                </a:lnTo>
                <a:lnTo>
                  <a:pt x="1437" y="2173"/>
                </a:lnTo>
                <a:lnTo>
                  <a:pt x="1451" y="2173"/>
                </a:lnTo>
                <a:lnTo>
                  <a:pt x="1462" y="2173"/>
                </a:lnTo>
                <a:lnTo>
                  <a:pt x="1476" y="2171"/>
                </a:lnTo>
                <a:lnTo>
                  <a:pt x="1485" y="2169"/>
                </a:lnTo>
                <a:lnTo>
                  <a:pt x="1497" y="2165"/>
                </a:lnTo>
                <a:lnTo>
                  <a:pt x="1506" y="2162"/>
                </a:lnTo>
                <a:lnTo>
                  <a:pt x="1514" y="2158"/>
                </a:lnTo>
                <a:lnTo>
                  <a:pt x="1522" y="2152"/>
                </a:lnTo>
                <a:lnTo>
                  <a:pt x="1529" y="2146"/>
                </a:lnTo>
                <a:lnTo>
                  <a:pt x="1533" y="2142"/>
                </a:lnTo>
                <a:lnTo>
                  <a:pt x="1537" y="2139"/>
                </a:lnTo>
                <a:lnTo>
                  <a:pt x="1541" y="2133"/>
                </a:lnTo>
                <a:lnTo>
                  <a:pt x="1545" y="2129"/>
                </a:lnTo>
                <a:lnTo>
                  <a:pt x="1549" y="2121"/>
                </a:lnTo>
                <a:lnTo>
                  <a:pt x="1553" y="2116"/>
                </a:lnTo>
                <a:lnTo>
                  <a:pt x="1556" y="2108"/>
                </a:lnTo>
                <a:lnTo>
                  <a:pt x="1560" y="2100"/>
                </a:lnTo>
                <a:lnTo>
                  <a:pt x="1564" y="2091"/>
                </a:lnTo>
                <a:lnTo>
                  <a:pt x="1568" y="2081"/>
                </a:lnTo>
                <a:lnTo>
                  <a:pt x="1572" y="2072"/>
                </a:lnTo>
                <a:lnTo>
                  <a:pt x="1576" y="2062"/>
                </a:lnTo>
                <a:lnTo>
                  <a:pt x="1579" y="2050"/>
                </a:lnTo>
                <a:lnTo>
                  <a:pt x="1585" y="2039"/>
                </a:lnTo>
                <a:lnTo>
                  <a:pt x="1589" y="2026"/>
                </a:lnTo>
                <a:lnTo>
                  <a:pt x="1593" y="2012"/>
                </a:lnTo>
                <a:lnTo>
                  <a:pt x="1597" y="1999"/>
                </a:lnTo>
                <a:lnTo>
                  <a:pt x="1602" y="1985"/>
                </a:lnTo>
                <a:lnTo>
                  <a:pt x="1606" y="1970"/>
                </a:lnTo>
                <a:lnTo>
                  <a:pt x="1610" y="1953"/>
                </a:lnTo>
                <a:lnTo>
                  <a:pt x="1616" y="1937"/>
                </a:lnTo>
                <a:lnTo>
                  <a:pt x="1620" y="1920"/>
                </a:lnTo>
                <a:lnTo>
                  <a:pt x="1624" y="1903"/>
                </a:lnTo>
                <a:lnTo>
                  <a:pt x="1629" y="1884"/>
                </a:lnTo>
                <a:lnTo>
                  <a:pt x="1633" y="1865"/>
                </a:lnTo>
                <a:lnTo>
                  <a:pt x="1639" y="1845"/>
                </a:lnTo>
                <a:lnTo>
                  <a:pt x="1643" y="1826"/>
                </a:lnTo>
                <a:lnTo>
                  <a:pt x="1649" y="1805"/>
                </a:lnTo>
                <a:lnTo>
                  <a:pt x="1652" y="1784"/>
                </a:lnTo>
                <a:lnTo>
                  <a:pt x="1658" y="1761"/>
                </a:lnTo>
                <a:lnTo>
                  <a:pt x="1662" y="1738"/>
                </a:lnTo>
                <a:lnTo>
                  <a:pt x="1668" y="1715"/>
                </a:lnTo>
                <a:lnTo>
                  <a:pt x="1673" y="1692"/>
                </a:lnTo>
                <a:lnTo>
                  <a:pt x="1677" y="1669"/>
                </a:lnTo>
                <a:lnTo>
                  <a:pt x="1683" y="1646"/>
                </a:lnTo>
                <a:lnTo>
                  <a:pt x="1687" y="1625"/>
                </a:lnTo>
                <a:lnTo>
                  <a:pt x="1691" y="1604"/>
                </a:lnTo>
                <a:lnTo>
                  <a:pt x="1695" y="1583"/>
                </a:lnTo>
                <a:lnTo>
                  <a:pt x="1700" y="1564"/>
                </a:lnTo>
                <a:lnTo>
                  <a:pt x="1704" y="1543"/>
                </a:lnTo>
                <a:lnTo>
                  <a:pt x="1708" y="1525"/>
                </a:lnTo>
                <a:lnTo>
                  <a:pt x="1712" y="1506"/>
                </a:lnTo>
                <a:lnTo>
                  <a:pt x="1716" y="1489"/>
                </a:lnTo>
                <a:lnTo>
                  <a:pt x="1718" y="1472"/>
                </a:lnTo>
                <a:lnTo>
                  <a:pt x="1721" y="1455"/>
                </a:lnTo>
                <a:lnTo>
                  <a:pt x="1725" y="1439"/>
                </a:lnTo>
                <a:lnTo>
                  <a:pt x="1727" y="1424"/>
                </a:lnTo>
                <a:lnTo>
                  <a:pt x="1731" y="1409"/>
                </a:lnTo>
                <a:lnTo>
                  <a:pt x="1733" y="1393"/>
                </a:lnTo>
                <a:lnTo>
                  <a:pt x="1737" y="1380"/>
                </a:lnTo>
                <a:lnTo>
                  <a:pt x="1739" y="1366"/>
                </a:lnTo>
                <a:lnTo>
                  <a:pt x="1741" y="1355"/>
                </a:lnTo>
                <a:lnTo>
                  <a:pt x="1743" y="1341"/>
                </a:lnTo>
                <a:lnTo>
                  <a:pt x="1744" y="1330"/>
                </a:lnTo>
                <a:lnTo>
                  <a:pt x="1746" y="1320"/>
                </a:lnTo>
                <a:lnTo>
                  <a:pt x="1748" y="1309"/>
                </a:lnTo>
                <a:lnTo>
                  <a:pt x="1750" y="1299"/>
                </a:lnTo>
                <a:lnTo>
                  <a:pt x="1750" y="1290"/>
                </a:lnTo>
                <a:lnTo>
                  <a:pt x="1752" y="1282"/>
                </a:lnTo>
                <a:lnTo>
                  <a:pt x="1754" y="1274"/>
                </a:lnTo>
                <a:lnTo>
                  <a:pt x="1754" y="1267"/>
                </a:lnTo>
                <a:lnTo>
                  <a:pt x="1754" y="1259"/>
                </a:lnTo>
                <a:lnTo>
                  <a:pt x="1756" y="1253"/>
                </a:lnTo>
                <a:lnTo>
                  <a:pt x="1756" y="1248"/>
                </a:lnTo>
                <a:lnTo>
                  <a:pt x="1756" y="1227"/>
                </a:lnTo>
                <a:lnTo>
                  <a:pt x="1756" y="1205"/>
                </a:lnTo>
                <a:lnTo>
                  <a:pt x="1756" y="1186"/>
                </a:lnTo>
                <a:lnTo>
                  <a:pt x="1752" y="1169"/>
                </a:lnTo>
                <a:lnTo>
                  <a:pt x="1748" y="1154"/>
                </a:lnTo>
                <a:lnTo>
                  <a:pt x="1744" y="1138"/>
                </a:lnTo>
                <a:lnTo>
                  <a:pt x="1739" y="1123"/>
                </a:lnTo>
                <a:lnTo>
                  <a:pt x="1731" y="1110"/>
                </a:lnTo>
                <a:lnTo>
                  <a:pt x="1727" y="1104"/>
                </a:lnTo>
                <a:lnTo>
                  <a:pt x="1721" y="1098"/>
                </a:lnTo>
                <a:lnTo>
                  <a:pt x="1716" y="1092"/>
                </a:lnTo>
                <a:lnTo>
                  <a:pt x="1710" y="1089"/>
                </a:lnTo>
                <a:lnTo>
                  <a:pt x="1702" y="1083"/>
                </a:lnTo>
                <a:lnTo>
                  <a:pt x="1695" y="1079"/>
                </a:lnTo>
                <a:lnTo>
                  <a:pt x="1687" y="1075"/>
                </a:lnTo>
                <a:lnTo>
                  <a:pt x="1677" y="1073"/>
                </a:lnTo>
                <a:lnTo>
                  <a:pt x="1668" y="1069"/>
                </a:lnTo>
                <a:lnTo>
                  <a:pt x="1658" y="1068"/>
                </a:lnTo>
                <a:lnTo>
                  <a:pt x="1647" y="1066"/>
                </a:lnTo>
                <a:lnTo>
                  <a:pt x="1635" y="1064"/>
                </a:lnTo>
                <a:lnTo>
                  <a:pt x="1624" y="1062"/>
                </a:lnTo>
                <a:lnTo>
                  <a:pt x="1610" y="1060"/>
                </a:lnTo>
                <a:lnTo>
                  <a:pt x="1597" y="1060"/>
                </a:lnTo>
                <a:lnTo>
                  <a:pt x="1581" y="1060"/>
                </a:lnTo>
                <a:lnTo>
                  <a:pt x="1566" y="1060"/>
                </a:lnTo>
                <a:lnTo>
                  <a:pt x="1549" y="1060"/>
                </a:lnTo>
                <a:lnTo>
                  <a:pt x="1531" y="1062"/>
                </a:lnTo>
                <a:lnTo>
                  <a:pt x="1514" y="1062"/>
                </a:lnTo>
                <a:lnTo>
                  <a:pt x="1495" y="1062"/>
                </a:lnTo>
                <a:lnTo>
                  <a:pt x="1476" y="1064"/>
                </a:lnTo>
                <a:lnTo>
                  <a:pt x="1455" y="1066"/>
                </a:lnTo>
                <a:lnTo>
                  <a:pt x="1434" y="1068"/>
                </a:lnTo>
                <a:lnTo>
                  <a:pt x="1412" y="1068"/>
                </a:lnTo>
                <a:lnTo>
                  <a:pt x="1387" y="1069"/>
                </a:lnTo>
                <a:lnTo>
                  <a:pt x="1364" y="1071"/>
                </a:lnTo>
                <a:lnTo>
                  <a:pt x="1339" y="1075"/>
                </a:lnTo>
                <a:lnTo>
                  <a:pt x="1313" y="1077"/>
                </a:lnTo>
                <a:lnTo>
                  <a:pt x="1286" y="1079"/>
                </a:lnTo>
                <a:lnTo>
                  <a:pt x="1259" y="1083"/>
                </a:lnTo>
                <a:lnTo>
                  <a:pt x="1230" y="1085"/>
                </a:lnTo>
                <a:lnTo>
                  <a:pt x="1172" y="1092"/>
                </a:lnTo>
                <a:lnTo>
                  <a:pt x="1111" y="1098"/>
                </a:lnTo>
                <a:lnTo>
                  <a:pt x="1050" y="1106"/>
                </a:lnTo>
                <a:lnTo>
                  <a:pt x="986" y="1115"/>
                </a:lnTo>
                <a:lnTo>
                  <a:pt x="921" y="1123"/>
                </a:lnTo>
                <a:lnTo>
                  <a:pt x="856" y="1133"/>
                </a:lnTo>
                <a:lnTo>
                  <a:pt x="787" y="1144"/>
                </a:lnTo>
                <a:lnTo>
                  <a:pt x="717" y="1154"/>
                </a:lnTo>
                <a:lnTo>
                  <a:pt x="717" y="1154"/>
                </a:lnTo>
                <a:lnTo>
                  <a:pt x="717" y="115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5"/>
          <p:cNvSpPr/>
          <p:nvPr/>
        </p:nvSpPr>
        <p:spPr>
          <a:xfrm>
            <a:off x="6648480" y="2820960"/>
            <a:ext cx="258840" cy="300240"/>
          </a:xfrm>
          <a:custGeom>
            <a:avLst/>
            <a:gdLst/>
            <a:ahLst/>
            <a:rect l="l" t="t" r="r" b="b"/>
            <a:pathLst>
              <a:path w="407" h="473">
                <a:moveTo>
                  <a:pt x="186" y="34"/>
                </a:moveTo>
                <a:lnTo>
                  <a:pt x="186" y="17"/>
                </a:lnTo>
                <a:lnTo>
                  <a:pt x="186" y="0"/>
                </a:lnTo>
                <a:lnTo>
                  <a:pt x="203" y="0"/>
                </a:lnTo>
                <a:lnTo>
                  <a:pt x="220" y="0"/>
                </a:lnTo>
                <a:lnTo>
                  <a:pt x="254" y="0"/>
                </a:lnTo>
                <a:lnTo>
                  <a:pt x="271" y="0"/>
                </a:lnTo>
                <a:lnTo>
                  <a:pt x="305" y="17"/>
                </a:lnTo>
                <a:lnTo>
                  <a:pt x="339" y="51"/>
                </a:lnTo>
                <a:lnTo>
                  <a:pt x="390" y="85"/>
                </a:lnTo>
                <a:lnTo>
                  <a:pt x="407" y="102"/>
                </a:lnTo>
                <a:lnTo>
                  <a:pt x="407" y="118"/>
                </a:lnTo>
                <a:lnTo>
                  <a:pt x="407" y="135"/>
                </a:lnTo>
                <a:lnTo>
                  <a:pt x="390" y="169"/>
                </a:lnTo>
                <a:lnTo>
                  <a:pt x="356" y="203"/>
                </a:lnTo>
                <a:lnTo>
                  <a:pt x="322" y="254"/>
                </a:lnTo>
                <a:lnTo>
                  <a:pt x="220" y="338"/>
                </a:lnTo>
                <a:lnTo>
                  <a:pt x="169" y="389"/>
                </a:lnTo>
                <a:lnTo>
                  <a:pt x="119" y="423"/>
                </a:lnTo>
                <a:lnTo>
                  <a:pt x="68" y="440"/>
                </a:lnTo>
                <a:lnTo>
                  <a:pt x="34" y="456"/>
                </a:lnTo>
                <a:lnTo>
                  <a:pt x="17" y="473"/>
                </a:lnTo>
                <a:lnTo>
                  <a:pt x="0" y="473"/>
                </a:lnTo>
                <a:lnTo>
                  <a:pt x="0" y="456"/>
                </a:lnTo>
                <a:lnTo>
                  <a:pt x="0" y="423"/>
                </a:lnTo>
                <a:lnTo>
                  <a:pt x="34" y="389"/>
                </a:lnTo>
                <a:lnTo>
                  <a:pt x="68" y="338"/>
                </a:lnTo>
                <a:lnTo>
                  <a:pt x="119" y="287"/>
                </a:lnTo>
                <a:lnTo>
                  <a:pt x="152" y="237"/>
                </a:lnTo>
                <a:lnTo>
                  <a:pt x="186" y="152"/>
                </a:lnTo>
                <a:lnTo>
                  <a:pt x="203" y="85"/>
                </a:lnTo>
                <a:lnTo>
                  <a:pt x="186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1239840" y="2027160"/>
            <a:ext cx="7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á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4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57"/>
          <p:cNvSpPr/>
          <p:nvPr/>
        </p:nvSpPr>
        <p:spPr>
          <a:xfrm>
            <a:off x="4619520" y="49752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小右大，第八九笔笔画舒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海峡  峡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857160" y="49752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海峡两岸一家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47472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43"/>
          <p:cNvSpPr/>
          <p:nvPr/>
        </p:nvSpPr>
        <p:spPr>
          <a:xfrm>
            <a:off x="6207120" y="2575080"/>
            <a:ext cx="720720" cy="203040"/>
          </a:xfrm>
          <a:custGeom>
            <a:avLst/>
            <a:gdLst/>
            <a:ahLst/>
            <a:rect l="l" t="t" r="r" b="b"/>
            <a:pathLst>
              <a:path w="1135" h="321">
                <a:moveTo>
                  <a:pt x="407" y="152"/>
                </a:moveTo>
                <a:lnTo>
                  <a:pt x="593" y="101"/>
                </a:lnTo>
                <a:lnTo>
                  <a:pt x="780" y="50"/>
                </a:lnTo>
                <a:lnTo>
                  <a:pt x="847" y="17"/>
                </a:lnTo>
                <a:lnTo>
                  <a:pt x="915" y="0"/>
                </a:lnTo>
                <a:lnTo>
                  <a:pt x="983" y="0"/>
                </a:lnTo>
                <a:lnTo>
                  <a:pt x="1034" y="0"/>
                </a:lnTo>
                <a:lnTo>
                  <a:pt x="1085" y="0"/>
                </a:lnTo>
                <a:lnTo>
                  <a:pt x="1118" y="17"/>
                </a:lnTo>
                <a:lnTo>
                  <a:pt x="1135" y="50"/>
                </a:lnTo>
                <a:lnTo>
                  <a:pt x="1135" y="67"/>
                </a:lnTo>
                <a:lnTo>
                  <a:pt x="1135" y="84"/>
                </a:lnTo>
                <a:lnTo>
                  <a:pt x="1118" y="101"/>
                </a:lnTo>
                <a:lnTo>
                  <a:pt x="1102" y="101"/>
                </a:lnTo>
                <a:lnTo>
                  <a:pt x="1068" y="118"/>
                </a:lnTo>
                <a:lnTo>
                  <a:pt x="1034" y="135"/>
                </a:lnTo>
                <a:lnTo>
                  <a:pt x="1000" y="152"/>
                </a:lnTo>
                <a:lnTo>
                  <a:pt x="949" y="169"/>
                </a:lnTo>
                <a:lnTo>
                  <a:pt x="881" y="169"/>
                </a:lnTo>
                <a:lnTo>
                  <a:pt x="763" y="219"/>
                </a:lnTo>
                <a:lnTo>
                  <a:pt x="644" y="236"/>
                </a:lnTo>
                <a:lnTo>
                  <a:pt x="542" y="270"/>
                </a:lnTo>
                <a:lnTo>
                  <a:pt x="424" y="270"/>
                </a:lnTo>
                <a:lnTo>
                  <a:pt x="322" y="287"/>
                </a:lnTo>
                <a:lnTo>
                  <a:pt x="254" y="304"/>
                </a:lnTo>
                <a:lnTo>
                  <a:pt x="204" y="321"/>
                </a:lnTo>
                <a:lnTo>
                  <a:pt x="170" y="321"/>
                </a:lnTo>
                <a:lnTo>
                  <a:pt x="153" y="304"/>
                </a:lnTo>
                <a:lnTo>
                  <a:pt x="119" y="304"/>
                </a:lnTo>
                <a:lnTo>
                  <a:pt x="68" y="270"/>
                </a:lnTo>
                <a:lnTo>
                  <a:pt x="0" y="236"/>
                </a:lnTo>
                <a:lnTo>
                  <a:pt x="221" y="185"/>
                </a:lnTo>
                <a:lnTo>
                  <a:pt x="407" y="1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44"/>
          <p:cNvSpPr/>
          <p:nvPr/>
        </p:nvSpPr>
        <p:spPr>
          <a:xfrm>
            <a:off x="6195960" y="2949480"/>
            <a:ext cx="184320" cy="204840"/>
          </a:xfrm>
          <a:custGeom>
            <a:avLst/>
            <a:gdLst/>
            <a:ahLst/>
            <a:rect l="l" t="t" r="r" b="b"/>
            <a:pathLst>
              <a:path w="288" h="321">
                <a:moveTo>
                  <a:pt x="221" y="321"/>
                </a:moveTo>
                <a:lnTo>
                  <a:pt x="204" y="304"/>
                </a:lnTo>
                <a:lnTo>
                  <a:pt x="170" y="287"/>
                </a:lnTo>
                <a:lnTo>
                  <a:pt x="136" y="237"/>
                </a:lnTo>
                <a:lnTo>
                  <a:pt x="102" y="169"/>
                </a:lnTo>
                <a:lnTo>
                  <a:pt x="51" y="118"/>
                </a:lnTo>
                <a:lnTo>
                  <a:pt x="17" y="68"/>
                </a:lnTo>
                <a:lnTo>
                  <a:pt x="0" y="34"/>
                </a:lnTo>
                <a:lnTo>
                  <a:pt x="0" y="0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19" y="0"/>
                </a:lnTo>
                <a:lnTo>
                  <a:pt x="153" y="17"/>
                </a:lnTo>
                <a:lnTo>
                  <a:pt x="204" y="34"/>
                </a:lnTo>
                <a:lnTo>
                  <a:pt x="238" y="51"/>
                </a:lnTo>
                <a:lnTo>
                  <a:pt x="271" y="84"/>
                </a:lnTo>
                <a:lnTo>
                  <a:pt x="288" y="118"/>
                </a:lnTo>
                <a:lnTo>
                  <a:pt x="288" y="169"/>
                </a:lnTo>
                <a:lnTo>
                  <a:pt x="288" y="220"/>
                </a:lnTo>
                <a:lnTo>
                  <a:pt x="271" y="253"/>
                </a:lnTo>
                <a:lnTo>
                  <a:pt x="254" y="287"/>
                </a:lnTo>
                <a:lnTo>
                  <a:pt x="238" y="304"/>
                </a:lnTo>
                <a:lnTo>
                  <a:pt x="221" y="3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48"/>
          <p:cNvSpPr/>
          <p:nvPr/>
        </p:nvSpPr>
        <p:spPr>
          <a:xfrm>
            <a:off x="5659560" y="2489040"/>
            <a:ext cx="193680" cy="890640"/>
          </a:xfrm>
          <a:custGeom>
            <a:avLst/>
            <a:gdLst/>
            <a:ahLst/>
            <a:rect l="l" t="t" r="r" b="b"/>
            <a:pathLst>
              <a:path w="305" h="1403">
                <a:moveTo>
                  <a:pt x="34" y="102"/>
                </a:moveTo>
                <a:lnTo>
                  <a:pt x="0" y="68"/>
                </a:lnTo>
                <a:lnTo>
                  <a:pt x="0" y="51"/>
                </a:lnTo>
                <a:lnTo>
                  <a:pt x="0" y="17"/>
                </a:lnTo>
                <a:lnTo>
                  <a:pt x="17" y="0"/>
                </a:lnTo>
                <a:lnTo>
                  <a:pt x="34" y="0"/>
                </a:lnTo>
                <a:lnTo>
                  <a:pt x="85" y="0"/>
                </a:lnTo>
                <a:lnTo>
                  <a:pt x="136" y="17"/>
                </a:lnTo>
                <a:lnTo>
                  <a:pt x="204" y="34"/>
                </a:lnTo>
                <a:lnTo>
                  <a:pt x="254" y="51"/>
                </a:lnTo>
                <a:lnTo>
                  <a:pt x="271" y="68"/>
                </a:lnTo>
                <a:lnTo>
                  <a:pt x="288" y="85"/>
                </a:lnTo>
                <a:lnTo>
                  <a:pt x="305" y="119"/>
                </a:lnTo>
                <a:lnTo>
                  <a:pt x="288" y="169"/>
                </a:lnTo>
                <a:lnTo>
                  <a:pt x="288" y="203"/>
                </a:lnTo>
                <a:lnTo>
                  <a:pt x="271" y="271"/>
                </a:lnTo>
                <a:lnTo>
                  <a:pt x="271" y="338"/>
                </a:lnTo>
                <a:lnTo>
                  <a:pt x="254" y="440"/>
                </a:lnTo>
                <a:lnTo>
                  <a:pt x="254" y="507"/>
                </a:lnTo>
                <a:lnTo>
                  <a:pt x="254" y="575"/>
                </a:lnTo>
                <a:lnTo>
                  <a:pt x="254" y="676"/>
                </a:lnTo>
                <a:lnTo>
                  <a:pt x="237" y="778"/>
                </a:lnTo>
                <a:lnTo>
                  <a:pt x="237" y="913"/>
                </a:lnTo>
                <a:lnTo>
                  <a:pt x="237" y="1048"/>
                </a:lnTo>
                <a:lnTo>
                  <a:pt x="237" y="1200"/>
                </a:lnTo>
                <a:lnTo>
                  <a:pt x="237" y="1369"/>
                </a:lnTo>
                <a:lnTo>
                  <a:pt x="119" y="1403"/>
                </a:lnTo>
                <a:lnTo>
                  <a:pt x="119" y="1200"/>
                </a:lnTo>
                <a:lnTo>
                  <a:pt x="119" y="1014"/>
                </a:lnTo>
                <a:lnTo>
                  <a:pt x="119" y="845"/>
                </a:lnTo>
                <a:lnTo>
                  <a:pt x="119" y="710"/>
                </a:lnTo>
                <a:lnTo>
                  <a:pt x="102" y="592"/>
                </a:lnTo>
                <a:lnTo>
                  <a:pt x="102" y="474"/>
                </a:lnTo>
                <a:lnTo>
                  <a:pt x="102" y="389"/>
                </a:lnTo>
                <a:lnTo>
                  <a:pt x="102" y="321"/>
                </a:lnTo>
                <a:lnTo>
                  <a:pt x="85" y="237"/>
                </a:lnTo>
                <a:lnTo>
                  <a:pt x="68" y="169"/>
                </a:lnTo>
                <a:lnTo>
                  <a:pt x="51" y="119"/>
                </a:lnTo>
                <a:lnTo>
                  <a:pt x="34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49"/>
          <p:cNvSpPr/>
          <p:nvPr/>
        </p:nvSpPr>
        <p:spPr>
          <a:xfrm>
            <a:off x="5411880" y="2971800"/>
            <a:ext cx="623880" cy="633240"/>
          </a:xfrm>
          <a:custGeom>
            <a:avLst/>
            <a:gdLst/>
            <a:ahLst/>
            <a:rect l="l" t="t" r="r" b="b"/>
            <a:pathLst>
              <a:path w="982" h="997">
                <a:moveTo>
                  <a:pt x="203" y="929"/>
                </a:moveTo>
                <a:lnTo>
                  <a:pt x="169" y="963"/>
                </a:lnTo>
                <a:lnTo>
                  <a:pt x="152" y="980"/>
                </a:lnTo>
                <a:lnTo>
                  <a:pt x="135" y="997"/>
                </a:lnTo>
                <a:lnTo>
                  <a:pt x="118" y="997"/>
                </a:lnTo>
                <a:lnTo>
                  <a:pt x="101" y="997"/>
                </a:lnTo>
                <a:lnTo>
                  <a:pt x="84" y="980"/>
                </a:lnTo>
                <a:lnTo>
                  <a:pt x="67" y="963"/>
                </a:lnTo>
                <a:lnTo>
                  <a:pt x="50" y="929"/>
                </a:lnTo>
                <a:lnTo>
                  <a:pt x="17" y="912"/>
                </a:lnTo>
                <a:lnTo>
                  <a:pt x="0" y="878"/>
                </a:lnTo>
                <a:lnTo>
                  <a:pt x="0" y="828"/>
                </a:lnTo>
                <a:lnTo>
                  <a:pt x="0" y="777"/>
                </a:lnTo>
                <a:lnTo>
                  <a:pt x="17" y="760"/>
                </a:lnTo>
                <a:lnTo>
                  <a:pt x="50" y="726"/>
                </a:lnTo>
                <a:lnTo>
                  <a:pt x="50" y="709"/>
                </a:lnTo>
                <a:lnTo>
                  <a:pt x="67" y="692"/>
                </a:lnTo>
                <a:lnTo>
                  <a:pt x="84" y="608"/>
                </a:lnTo>
                <a:lnTo>
                  <a:pt x="101" y="524"/>
                </a:lnTo>
                <a:lnTo>
                  <a:pt x="101" y="405"/>
                </a:lnTo>
                <a:lnTo>
                  <a:pt x="101" y="355"/>
                </a:lnTo>
                <a:lnTo>
                  <a:pt x="101" y="304"/>
                </a:lnTo>
                <a:lnTo>
                  <a:pt x="101" y="219"/>
                </a:lnTo>
                <a:lnTo>
                  <a:pt x="84" y="152"/>
                </a:lnTo>
                <a:lnTo>
                  <a:pt x="67" y="118"/>
                </a:lnTo>
                <a:lnTo>
                  <a:pt x="50" y="67"/>
                </a:lnTo>
                <a:lnTo>
                  <a:pt x="33" y="50"/>
                </a:lnTo>
                <a:lnTo>
                  <a:pt x="50" y="34"/>
                </a:lnTo>
                <a:lnTo>
                  <a:pt x="50" y="17"/>
                </a:lnTo>
                <a:lnTo>
                  <a:pt x="67" y="17"/>
                </a:lnTo>
                <a:lnTo>
                  <a:pt x="84" y="0"/>
                </a:lnTo>
                <a:lnTo>
                  <a:pt x="118" y="17"/>
                </a:lnTo>
                <a:lnTo>
                  <a:pt x="237" y="50"/>
                </a:lnTo>
                <a:lnTo>
                  <a:pt x="271" y="67"/>
                </a:lnTo>
                <a:lnTo>
                  <a:pt x="288" y="101"/>
                </a:lnTo>
                <a:lnTo>
                  <a:pt x="288" y="118"/>
                </a:lnTo>
                <a:lnTo>
                  <a:pt x="288" y="135"/>
                </a:lnTo>
                <a:lnTo>
                  <a:pt x="288" y="203"/>
                </a:lnTo>
                <a:lnTo>
                  <a:pt x="271" y="253"/>
                </a:lnTo>
                <a:lnTo>
                  <a:pt x="271" y="321"/>
                </a:lnTo>
                <a:lnTo>
                  <a:pt x="254" y="388"/>
                </a:lnTo>
                <a:lnTo>
                  <a:pt x="254" y="473"/>
                </a:lnTo>
                <a:lnTo>
                  <a:pt x="237" y="557"/>
                </a:lnTo>
                <a:lnTo>
                  <a:pt x="237" y="608"/>
                </a:lnTo>
                <a:lnTo>
                  <a:pt x="237" y="642"/>
                </a:lnTo>
                <a:lnTo>
                  <a:pt x="254" y="659"/>
                </a:lnTo>
                <a:lnTo>
                  <a:pt x="254" y="676"/>
                </a:lnTo>
                <a:lnTo>
                  <a:pt x="271" y="659"/>
                </a:lnTo>
                <a:lnTo>
                  <a:pt x="305" y="659"/>
                </a:lnTo>
                <a:lnTo>
                  <a:pt x="338" y="659"/>
                </a:lnTo>
                <a:lnTo>
                  <a:pt x="372" y="642"/>
                </a:lnTo>
                <a:lnTo>
                  <a:pt x="423" y="625"/>
                </a:lnTo>
                <a:lnTo>
                  <a:pt x="491" y="608"/>
                </a:lnTo>
                <a:lnTo>
                  <a:pt x="576" y="574"/>
                </a:lnTo>
                <a:lnTo>
                  <a:pt x="711" y="524"/>
                </a:lnTo>
                <a:lnTo>
                  <a:pt x="830" y="507"/>
                </a:lnTo>
                <a:lnTo>
                  <a:pt x="914" y="473"/>
                </a:lnTo>
                <a:lnTo>
                  <a:pt x="982" y="473"/>
                </a:lnTo>
                <a:lnTo>
                  <a:pt x="982" y="557"/>
                </a:lnTo>
                <a:lnTo>
                  <a:pt x="847" y="608"/>
                </a:lnTo>
                <a:lnTo>
                  <a:pt x="745" y="642"/>
                </a:lnTo>
                <a:lnTo>
                  <a:pt x="643" y="692"/>
                </a:lnTo>
                <a:lnTo>
                  <a:pt x="559" y="726"/>
                </a:lnTo>
                <a:lnTo>
                  <a:pt x="474" y="760"/>
                </a:lnTo>
                <a:lnTo>
                  <a:pt x="423" y="777"/>
                </a:lnTo>
                <a:lnTo>
                  <a:pt x="372" y="794"/>
                </a:lnTo>
                <a:lnTo>
                  <a:pt x="338" y="811"/>
                </a:lnTo>
                <a:lnTo>
                  <a:pt x="254" y="878"/>
                </a:lnTo>
                <a:lnTo>
                  <a:pt x="203" y="9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50"/>
          <p:cNvSpPr/>
          <p:nvPr/>
        </p:nvSpPr>
        <p:spPr>
          <a:xfrm>
            <a:off x="6100920" y="3143160"/>
            <a:ext cx="988920" cy="236520"/>
          </a:xfrm>
          <a:custGeom>
            <a:avLst/>
            <a:gdLst/>
            <a:ahLst/>
            <a:rect l="l" t="t" r="r" b="b"/>
            <a:pathLst>
              <a:path w="1559" h="372">
                <a:moveTo>
                  <a:pt x="51" y="338"/>
                </a:moveTo>
                <a:lnTo>
                  <a:pt x="17" y="321"/>
                </a:lnTo>
                <a:lnTo>
                  <a:pt x="17" y="304"/>
                </a:lnTo>
                <a:lnTo>
                  <a:pt x="0" y="270"/>
                </a:lnTo>
                <a:lnTo>
                  <a:pt x="135" y="237"/>
                </a:lnTo>
                <a:lnTo>
                  <a:pt x="288" y="203"/>
                </a:lnTo>
                <a:lnTo>
                  <a:pt x="406" y="169"/>
                </a:lnTo>
                <a:lnTo>
                  <a:pt x="525" y="152"/>
                </a:lnTo>
                <a:lnTo>
                  <a:pt x="644" y="118"/>
                </a:lnTo>
                <a:lnTo>
                  <a:pt x="745" y="101"/>
                </a:lnTo>
                <a:lnTo>
                  <a:pt x="847" y="85"/>
                </a:lnTo>
                <a:lnTo>
                  <a:pt x="932" y="68"/>
                </a:lnTo>
                <a:lnTo>
                  <a:pt x="999" y="51"/>
                </a:lnTo>
                <a:lnTo>
                  <a:pt x="1067" y="34"/>
                </a:lnTo>
                <a:lnTo>
                  <a:pt x="1135" y="17"/>
                </a:lnTo>
                <a:lnTo>
                  <a:pt x="1186" y="17"/>
                </a:lnTo>
                <a:lnTo>
                  <a:pt x="1237" y="0"/>
                </a:lnTo>
                <a:lnTo>
                  <a:pt x="1271" y="0"/>
                </a:lnTo>
                <a:lnTo>
                  <a:pt x="1304" y="0"/>
                </a:lnTo>
                <a:lnTo>
                  <a:pt x="1321" y="0"/>
                </a:lnTo>
                <a:lnTo>
                  <a:pt x="1423" y="0"/>
                </a:lnTo>
                <a:lnTo>
                  <a:pt x="1457" y="17"/>
                </a:lnTo>
                <a:lnTo>
                  <a:pt x="1491" y="34"/>
                </a:lnTo>
                <a:lnTo>
                  <a:pt x="1542" y="85"/>
                </a:lnTo>
                <a:lnTo>
                  <a:pt x="1559" y="101"/>
                </a:lnTo>
                <a:lnTo>
                  <a:pt x="1559" y="118"/>
                </a:lnTo>
                <a:lnTo>
                  <a:pt x="1542" y="135"/>
                </a:lnTo>
                <a:lnTo>
                  <a:pt x="1525" y="135"/>
                </a:lnTo>
                <a:lnTo>
                  <a:pt x="1508" y="152"/>
                </a:lnTo>
                <a:lnTo>
                  <a:pt x="1474" y="152"/>
                </a:lnTo>
                <a:lnTo>
                  <a:pt x="1423" y="169"/>
                </a:lnTo>
                <a:lnTo>
                  <a:pt x="1355" y="169"/>
                </a:lnTo>
                <a:lnTo>
                  <a:pt x="1287" y="169"/>
                </a:lnTo>
                <a:lnTo>
                  <a:pt x="1237" y="169"/>
                </a:lnTo>
                <a:lnTo>
                  <a:pt x="1169" y="169"/>
                </a:lnTo>
                <a:lnTo>
                  <a:pt x="1101" y="186"/>
                </a:lnTo>
                <a:lnTo>
                  <a:pt x="1033" y="186"/>
                </a:lnTo>
                <a:lnTo>
                  <a:pt x="949" y="203"/>
                </a:lnTo>
                <a:lnTo>
                  <a:pt x="847" y="220"/>
                </a:lnTo>
                <a:lnTo>
                  <a:pt x="745" y="237"/>
                </a:lnTo>
                <a:lnTo>
                  <a:pt x="627" y="270"/>
                </a:lnTo>
                <a:lnTo>
                  <a:pt x="525" y="287"/>
                </a:lnTo>
                <a:lnTo>
                  <a:pt x="423" y="304"/>
                </a:lnTo>
                <a:lnTo>
                  <a:pt x="339" y="321"/>
                </a:lnTo>
                <a:lnTo>
                  <a:pt x="271" y="338"/>
                </a:lnTo>
                <a:lnTo>
                  <a:pt x="220" y="355"/>
                </a:lnTo>
                <a:lnTo>
                  <a:pt x="169" y="355"/>
                </a:lnTo>
                <a:lnTo>
                  <a:pt x="152" y="372"/>
                </a:lnTo>
                <a:lnTo>
                  <a:pt x="135" y="372"/>
                </a:lnTo>
                <a:lnTo>
                  <a:pt x="102" y="355"/>
                </a:lnTo>
                <a:lnTo>
                  <a:pt x="51" y="3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46"/>
          <p:cNvSpPr/>
          <p:nvPr/>
        </p:nvSpPr>
        <p:spPr>
          <a:xfrm>
            <a:off x="5970600" y="2874960"/>
            <a:ext cx="150840" cy="601560"/>
          </a:xfrm>
          <a:custGeom>
            <a:avLst/>
            <a:gdLst/>
            <a:ahLst/>
            <a:rect l="l" t="t" r="r" b="b"/>
            <a:pathLst>
              <a:path w="237" h="946">
                <a:moveTo>
                  <a:pt x="0" y="67"/>
                </a:moveTo>
                <a:lnTo>
                  <a:pt x="0" y="33"/>
                </a:lnTo>
                <a:lnTo>
                  <a:pt x="0" y="0"/>
                </a:lnTo>
                <a:lnTo>
                  <a:pt x="17" y="0"/>
                </a:lnTo>
                <a:lnTo>
                  <a:pt x="50" y="0"/>
                </a:lnTo>
                <a:lnTo>
                  <a:pt x="84" y="0"/>
                </a:lnTo>
                <a:lnTo>
                  <a:pt x="118" y="17"/>
                </a:lnTo>
                <a:lnTo>
                  <a:pt x="169" y="50"/>
                </a:lnTo>
                <a:lnTo>
                  <a:pt x="203" y="67"/>
                </a:lnTo>
                <a:lnTo>
                  <a:pt x="220" y="101"/>
                </a:lnTo>
                <a:lnTo>
                  <a:pt x="237" y="118"/>
                </a:lnTo>
                <a:lnTo>
                  <a:pt x="237" y="135"/>
                </a:lnTo>
                <a:lnTo>
                  <a:pt x="237" y="202"/>
                </a:lnTo>
                <a:lnTo>
                  <a:pt x="220" y="270"/>
                </a:lnTo>
                <a:lnTo>
                  <a:pt x="220" y="371"/>
                </a:lnTo>
                <a:lnTo>
                  <a:pt x="169" y="574"/>
                </a:lnTo>
                <a:lnTo>
                  <a:pt x="152" y="676"/>
                </a:lnTo>
                <a:lnTo>
                  <a:pt x="118" y="760"/>
                </a:lnTo>
                <a:lnTo>
                  <a:pt x="101" y="844"/>
                </a:lnTo>
                <a:lnTo>
                  <a:pt x="84" y="895"/>
                </a:lnTo>
                <a:lnTo>
                  <a:pt x="67" y="929"/>
                </a:lnTo>
                <a:lnTo>
                  <a:pt x="50" y="946"/>
                </a:lnTo>
                <a:lnTo>
                  <a:pt x="33" y="929"/>
                </a:lnTo>
                <a:lnTo>
                  <a:pt x="33" y="912"/>
                </a:lnTo>
                <a:lnTo>
                  <a:pt x="17" y="878"/>
                </a:lnTo>
                <a:lnTo>
                  <a:pt x="17" y="844"/>
                </a:lnTo>
                <a:lnTo>
                  <a:pt x="17" y="811"/>
                </a:lnTo>
                <a:lnTo>
                  <a:pt x="17" y="760"/>
                </a:lnTo>
                <a:lnTo>
                  <a:pt x="33" y="709"/>
                </a:lnTo>
                <a:lnTo>
                  <a:pt x="33" y="591"/>
                </a:lnTo>
                <a:lnTo>
                  <a:pt x="33" y="473"/>
                </a:lnTo>
                <a:lnTo>
                  <a:pt x="33" y="388"/>
                </a:lnTo>
                <a:lnTo>
                  <a:pt x="33" y="287"/>
                </a:lnTo>
                <a:lnTo>
                  <a:pt x="33" y="219"/>
                </a:lnTo>
                <a:lnTo>
                  <a:pt x="33" y="152"/>
                </a:lnTo>
                <a:lnTo>
                  <a:pt x="17" y="118"/>
                </a:lnTo>
                <a:lnTo>
                  <a:pt x="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42"/>
          <p:cNvSpPr/>
          <p:nvPr/>
        </p:nvSpPr>
        <p:spPr>
          <a:xfrm>
            <a:off x="5873760" y="2241720"/>
            <a:ext cx="731880" cy="1749240"/>
          </a:xfrm>
          <a:custGeom>
            <a:avLst/>
            <a:gdLst/>
            <a:ahLst/>
            <a:rect l="l" t="t" r="r" b="b"/>
            <a:pathLst>
              <a:path w="1152" h="2754">
                <a:moveTo>
                  <a:pt x="881" y="67"/>
                </a:moveTo>
                <a:lnTo>
                  <a:pt x="864" y="67"/>
                </a:lnTo>
                <a:lnTo>
                  <a:pt x="864" y="51"/>
                </a:lnTo>
                <a:lnTo>
                  <a:pt x="864" y="17"/>
                </a:lnTo>
                <a:lnTo>
                  <a:pt x="881" y="0"/>
                </a:lnTo>
                <a:lnTo>
                  <a:pt x="898" y="0"/>
                </a:lnTo>
                <a:lnTo>
                  <a:pt x="932" y="0"/>
                </a:lnTo>
                <a:lnTo>
                  <a:pt x="983" y="17"/>
                </a:lnTo>
                <a:lnTo>
                  <a:pt x="1067" y="34"/>
                </a:lnTo>
                <a:lnTo>
                  <a:pt x="1084" y="51"/>
                </a:lnTo>
                <a:lnTo>
                  <a:pt x="1118" y="67"/>
                </a:lnTo>
                <a:lnTo>
                  <a:pt x="1135" y="101"/>
                </a:lnTo>
                <a:lnTo>
                  <a:pt x="1152" y="118"/>
                </a:lnTo>
                <a:lnTo>
                  <a:pt x="1135" y="152"/>
                </a:lnTo>
                <a:lnTo>
                  <a:pt x="1135" y="169"/>
                </a:lnTo>
                <a:lnTo>
                  <a:pt x="1135" y="203"/>
                </a:lnTo>
                <a:lnTo>
                  <a:pt x="1135" y="236"/>
                </a:lnTo>
                <a:lnTo>
                  <a:pt x="1118" y="287"/>
                </a:lnTo>
                <a:lnTo>
                  <a:pt x="1118" y="355"/>
                </a:lnTo>
                <a:lnTo>
                  <a:pt x="1118" y="422"/>
                </a:lnTo>
                <a:lnTo>
                  <a:pt x="1118" y="507"/>
                </a:lnTo>
                <a:lnTo>
                  <a:pt x="1118" y="608"/>
                </a:lnTo>
                <a:lnTo>
                  <a:pt x="1118" y="811"/>
                </a:lnTo>
                <a:lnTo>
                  <a:pt x="1101" y="980"/>
                </a:lnTo>
                <a:lnTo>
                  <a:pt x="1101" y="1149"/>
                </a:lnTo>
                <a:lnTo>
                  <a:pt x="1084" y="1284"/>
                </a:lnTo>
                <a:lnTo>
                  <a:pt x="1084" y="1419"/>
                </a:lnTo>
                <a:lnTo>
                  <a:pt x="1051" y="1554"/>
                </a:lnTo>
                <a:lnTo>
                  <a:pt x="983" y="1808"/>
                </a:lnTo>
                <a:lnTo>
                  <a:pt x="932" y="1943"/>
                </a:lnTo>
                <a:lnTo>
                  <a:pt x="881" y="2061"/>
                </a:lnTo>
                <a:lnTo>
                  <a:pt x="796" y="2179"/>
                </a:lnTo>
                <a:lnTo>
                  <a:pt x="695" y="2298"/>
                </a:lnTo>
                <a:lnTo>
                  <a:pt x="593" y="2416"/>
                </a:lnTo>
                <a:lnTo>
                  <a:pt x="491" y="2517"/>
                </a:lnTo>
                <a:lnTo>
                  <a:pt x="373" y="2585"/>
                </a:lnTo>
                <a:lnTo>
                  <a:pt x="254" y="2652"/>
                </a:lnTo>
                <a:lnTo>
                  <a:pt x="153" y="2703"/>
                </a:lnTo>
                <a:lnTo>
                  <a:pt x="68" y="2737"/>
                </a:lnTo>
                <a:lnTo>
                  <a:pt x="17" y="2754"/>
                </a:lnTo>
                <a:lnTo>
                  <a:pt x="0" y="2754"/>
                </a:lnTo>
                <a:lnTo>
                  <a:pt x="0" y="2737"/>
                </a:lnTo>
                <a:lnTo>
                  <a:pt x="17" y="2720"/>
                </a:lnTo>
                <a:lnTo>
                  <a:pt x="51" y="2686"/>
                </a:lnTo>
                <a:lnTo>
                  <a:pt x="85" y="2669"/>
                </a:lnTo>
                <a:lnTo>
                  <a:pt x="136" y="2636"/>
                </a:lnTo>
                <a:lnTo>
                  <a:pt x="186" y="2602"/>
                </a:lnTo>
                <a:lnTo>
                  <a:pt x="237" y="2551"/>
                </a:lnTo>
                <a:lnTo>
                  <a:pt x="356" y="2467"/>
                </a:lnTo>
                <a:lnTo>
                  <a:pt x="474" y="2348"/>
                </a:lnTo>
                <a:lnTo>
                  <a:pt x="593" y="2230"/>
                </a:lnTo>
                <a:lnTo>
                  <a:pt x="695" y="2078"/>
                </a:lnTo>
                <a:lnTo>
                  <a:pt x="779" y="1926"/>
                </a:lnTo>
                <a:lnTo>
                  <a:pt x="847" y="1740"/>
                </a:lnTo>
                <a:lnTo>
                  <a:pt x="881" y="1554"/>
                </a:lnTo>
                <a:lnTo>
                  <a:pt x="915" y="1368"/>
                </a:lnTo>
                <a:lnTo>
                  <a:pt x="932" y="1267"/>
                </a:lnTo>
                <a:lnTo>
                  <a:pt x="932" y="1183"/>
                </a:lnTo>
                <a:lnTo>
                  <a:pt x="932" y="1098"/>
                </a:lnTo>
                <a:lnTo>
                  <a:pt x="949" y="1030"/>
                </a:lnTo>
                <a:lnTo>
                  <a:pt x="949" y="963"/>
                </a:lnTo>
                <a:lnTo>
                  <a:pt x="949" y="912"/>
                </a:lnTo>
                <a:lnTo>
                  <a:pt x="949" y="862"/>
                </a:lnTo>
                <a:lnTo>
                  <a:pt x="949" y="811"/>
                </a:lnTo>
                <a:lnTo>
                  <a:pt x="949" y="743"/>
                </a:lnTo>
                <a:lnTo>
                  <a:pt x="949" y="642"/>
                </a:lnTo>
                <a:lnTo>
                  <a:pt x="949" y="524"/>
                </a:lnTo>
                <a:lnTo>
                  <a:pt x="932" y="372"/>
                </a:lnTo>
                <a:lnTo>
                  <a:pt x="932" y="304"/>
                </a:lnTo>
                <a:lnTo>
                  <a:pt x="932" y="253"/>
                </a:lnTo>
                <a:lnTo>
                  <a:pt x="915" y="203"/>
                </a:lnTo>
                <a:lnTo>
                  <a:pt x="915" y="152"/>
                </a:lnTo>
                <a:lnTo>
                  <a:pt x="898" y="118"/>
                </a:lnTo>
                <a:lnTo>
                  <a:pt x="898" y="101"/>
                </a:lnTo>
                <a:lnTo>
                  <a:pt x="881" y="84"/>
                </a:lnTo>
                <a:lnTo>
                  <a:pt x="881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47"/>
          <p:cNvSpPr/>
          <p:nvPr/>
        </p:nvSpPr>
        <p:spPr>
          <a:xfrm>
            <a:off x="6477120" y="3294000"/>
            <a:ext cx="892080" cy="696960"/>
          </a:xfrm>
          <a:custGeom>
            <a:avLst/>
            <a:gdLst/>
            <a:ahLst/>
            <a:rect l="l" t="t" r="r" b="b"/>
            <a:pathLst>
              <a:path w="1406" h="1098">
                <a:moveTo>
                  <a:pt x="1220" y="1081"/>
                </a:moveTo>
                <a:lnTo>
                  <a:pt x="1067" y="1098"/>
                </a:lnTo>
                <a:lnTo>
                  <a:pt x="915" y="1098"/>
                </a:lnTo>
                <a:lnTo>
                  <a:pt x="847" y="1081"/>
                </a:lnTo>
                <a:lnTo>
                  <a:pt x="796" y="1064"/>
                </a:lnTo>
                <a:lnTo>
                  <a:pt x="745" y="1064"/>
                </a:lnTo>
                <a:lnTo>
                  <a:pt x="711" y="1047"/>
                </a:lnTo>
                <a:lnTo>
                  <a:pt x="678" y="1013"/>
                </a:lnTo>
                <a:lnTo>
                  <a:pt x="661" y="980"/>
                </a:lnTo>
                <a:lnTo>
                  <a:pt x="627" y="946"/>
                </a:lnTo>
                <a:lnTo>
                  <a:pt x="593" y="895"/>
                </a:lnTo>
                <a:lnTo>
                  <a:pt x="559" y="861"/>
                </a:lnTo>
                <a:lnTo>
                  <a:pt x="525" y="794"/>
                </a:lnTo>
                <a:lnTo>
                  <a:pt x="474" y="726"/>
                </a:lnTo>
                <a:lnTo>
                  <a:pt x="373" y="591"/>
                </a:lnTo>
                <a:lnTo>
                  <a:pt x="271" y="456"/>
                </a:lnTo>
                <a:lnTo>
                  <a:pt x="135" y="287"/>
                </a:lnTo>
                <a:lnTo>
                  <a:pt x="0" y="101"/>
                </a:lnTo>
                <a:lnTo>
                  <a:pt x="51" y="0"/>
                </a:lnTo>
                <a:lnTo>
                  <a:pt x="152" y="118"/>
                </a:lnTo>
                <a:lnTo>
                  <a:pt x="237" y="202"/>
                </a:lnTo>
                <a:lnTo>
                  <a:pt x="322" y="304"/>
                </a:lnTo>
                <a:lnTo>
                  <a:pt x="390" y="371"/>
                </a:lnTo>
                <a:lnTo>
                  <a:pt x="457" y="456"/>
                </a:lnTo>
                <a:lnTo>
                  <a:pt x="525" y="506"/>
                </a:lnTo>
                <a:lnTo>
                  <a:pt x="593" y="557"/>
                </a:lnTo>
                <a:lnTo>
                  <a:pt x="644" y="608"/>
                </a:lnTo>
                <a:lnTo>
                  <a:pt x="745" y="675"/>
                </a:lnTo>
                <a:lnTo>
                  <a:pt x="864" y="743"/>
                </a:lnTo>
                <a:lnTo>
                  <a:pt x="999" y="811"/>
                </a:lnTo>
                <a:lnTo>
                  <a:pt x="1135" y="878"/>
                </a:lnTo>
                <a:lnTo>
                  <a:pt x="1186" y="895"/>
                </a:lnTo>
                <a:lnTo>
                  <a:pt x="1254" y="929"/>
                </a:lnTo>
                <a:lnTo>
                  <a:pt x="1304" y="946"/>
                </a:lnTo>
                <a:lnTo>
                  <a:pt x="1338" y="963"/>
                </a:lnTo>
                <a:lnTo>
                  <a:pt x="1372" y="996"/>
                </a:lnTo>
                <a:lnTo>
                  <a:pt x="1389" y="996"/>
                </a:lnTo>
                <a:lnTo>
                  <a:pt x="1389" y="1013"/>
                </a:lnTo>
                <a:lnTo>
                  <a:pt x="1406" y="1030"/>
                </a:lnTo>
                <a:lnTo>
                  <a:pt x="1389" y="1047"/>
                </a:lnTo>
                <a:lnTo>
                  <a:pt x="1355" y="1047"/>
                </a:lnTo>
                <a:lnTo>
                  <a:pt x="1304" y="1064"/>
                </a:lnTo>
                <a:lnTo>
                  <a:pt x="1220" y="108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16856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í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7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TextBox 57"/>
          <p:cNvSpPr/>
          <p:nvPr/>
        </p:nvSpPr>
        <p:spPr>
          <a:xfrm>
            <a:off x="4619520" y="49626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四笔横向右上方倾斜，斜钩舒展有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857160" y="455148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民族  居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857160" y="505296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国家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民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550836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5659560" y="2187720"/>
            <a:ext cx="957240" cy="450720"/>
          </a:xfrm>
          <a:custGeom>
            <a:avLst/>
            <a:gdLst/>
            <a:ahLst/>
            <a:rect l="l" t="t" r="r" b="b"/>
            <a:pathLst>
              <a:path w="1508" h="710">
                <a:moveTo>
                  <a:pt x="1051" y="34"/>
                </a:moveTo>
                <a:lnTo>
                  <a:pt x="1101" y="0"/>
                </a:lnTo>
                <a:lnTo>
                  <a:pt x="1152" y="0"/>
                </a:lnTo>
                <a:lnTo>
                  <a:pt x="1169" y="17"/>
                </a:lnTo>
                <a:lnTo>
                  <a:pt x="1220" y="34"/>
                </a:lnTo>
                <a:lnTo>
                  <a:pt x="1271" y="51"/>
                </a:lnTo>
                <a:lnTo>
                  <a:pt x="1356" y="85"/>
                </a:lnTo>
                <a:lnTo>
                  <a:pt x="1423" y="119"/>
                </a:lnTo>
                <a:lnTo>
                  <a:pt x="1474" y="152"/>
                </a:lnTo>
                <a:lnTo>
                  <a:pt x="1491" y="186"/>
                </a:lnTo>
                <a:lnTo>
                  <a:pt x="1508" y="203"/>
                </a:lnTo>
                <a:lnTo>
                  <a:pt x="1491" y="220"/>
                </a:lnTo>
                <a:lnTo>
                  <a:pt x="1474" y="237"/>
                </a:lnTo>
                <a:lnTo>
                  <a:pt x="1440" y="254"/>
                </a:lnTo>
                <a:lnTo>
                  <a:pt x="1406" y="271"/>
                </a:lnTo>
                <a:lnTo>
                  <a:pt x="1389" y="288"/>
                </a:lnTo>
                <a:lnTo>
                  <a:pt x="1356" y="321"/>
                </a:lnTo>
                <a:lnTo>
                  <a:pt x="1322" y="355"/>
                </a:lnTo>
                <a:lnTo>
                  <a:pt x="1288" y="406"/>
                </a:lnTo>
                <a:lnTo>
                  <a:pt x="1271" y="473"/>
                </a:lnTo>
                <a:lnTo>
                  <a:pt x="1220" y="541"/>
                </a:lnTo>
                <a:lnTo>
                  <a:pt x="1186" y="626"/>
                </a:lnTo>
                <a:lnTo>
                  <a:pt x="1152" y="710"/>
                </a:lnTo>
                <a:lnTo>
                  <a:pt x="1034" y="710"/>
                </a:lnTo>
                <a:lnTo>
                  <a:pt x="1034" y="659"/>
                </a:lnTo>
                <a:lnTo>
                  <a:pt x="1034" y="609"/>
                </a:lnTo>
                <a:lnTo>
                  <a:pt x="1051" y="541"/>
                </a:lnTo>
                <a:lnTo>
                  <a:pt x="1068" y="457"/>
                </a:lnTo>
                <a:lnTo>
                  <a:pt x="1084" y="372"/>
                </a:lnTo>
                <a:lnTo>
                  <a:pt x="1084" y="304"/>
                </a:lnTo>
                <a:lnTo>
                  <a:pt x="1084" y="271"/>
                </a:lnTo>
                <a:lnTo>
                  <a:pt x="1084" y="254"/>
                </a:lnTo>
                <a:lnTo>
                  <a:pt x="1068" y="237"/>
                </a:lnTo>
                <a:lnTo>
                  <a:pt x="1051" y="237"/>
                </a:lnTo>
                <a:lnTo>
                  <a:pt x="1017" y="254"/>
                </a:lnTo>
                <a:lnTo>
                  <a:pt x="966" y="254"/>
                </a:lnTo>
                <a:lnTo>
                  <a:pt x="898" y="271"/>
                </a:lnTo>
                <a:lnTo>
                  <a:pt x="830" y="271"/>
                </a:lnTo>
                <a:lnTo>
                  <a:pt x="746" y="288"/>
                </a:lnTo>
                <a:lnTo>
                  <a:pt x="644" y="321"/>
                </a:lnTo>
                <a:lnTo>
                  <a:pt x="542" y="338"/>
                </a:lnTo>
                <a:lnTo>
                  <a:pt x="441" y="355"/>
                </a:lnTo>
                <a:lnTo>
                  <a:pt x="339" y="372"/>
                </a:lnTo>
                <a:lnTo>
                  <a:pt x="254" y="389"/>
                </a:lnTo>
                <a:lnTo>
                  <a:pt x="187" y="406"/>
                </a:lnTo>
                <a:lnTo>
                  <a:pt x="119" y="406"/>
                </a:lnTo>
                <a:lnTo>
                  <a:pt x="0" y="406"/>
                </a:lnTo>
                <a:lnTo>
                  <a:pt x="0" y="288"/>
                </a:lnTo>
                <a:lnTo>
                  <a:pt x="136" y="271"/>
                </a:lnTo>
                <a:lnTo>
                  <a:pt x="271" y="254"/>
                </a:lnTo>
                <a:lnTo>
                  <a:pt x="559" y="203"/>
                </a:lnTo>
                <a:lnTo>
                  <a:pt x="678" y="169"/>
                </a:lnTo>
                <a:lnTo>
                  <a:pt x="796" y="152"/>
                </a:lnTo>
                <a:lnTo>
                  <a:pt x="881" y="136"/>
                </a:lnTo>
                <a:lnTo>
                  <a:pt x="932" y="102"/>
                </a:lnTo>
                <a:lnTo>
                  <a:pt x="983" y="102"/>
                </a:lnTo>
                <a:lnTo>
                  <a:pt x="1017" y="85"/>
                </a:lnTo>
                <a:lnTo>
                  <a:pt x="1051" y="68"/>
                </a:lnTo>
                <a:lnTo>
                  <a:pt x="1051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5702400" y="2585880"/>
            <a:ext cx="785880" cy="223920"/>
          </a:xfrm>
          <a:custGeom>
            <a:avLst/>
            <a:gdLst/>
            <a:ahLst/>
            <a:rect l="l" t="t" r="r" b="b"/>
            <a:pathLst>
              <a:path w="1237" h="354">
                <a:moveTo>
                  <a:pt x="542" y="101"/>
                </a:moveTo>
                <a:lnTo>
                  <a:pt x="644" y="84"/>
                </a:lnTo>
                <a:lnTo>
                  <a:pt x="728" y="50"/>
                </a:lnTo>
                <a:lnTo>
                  <a:pt x="813" y="33"/>
                </a:lnTo>
                <a:lnTo>
                  <a:pt x="881" y="16"/>
                </a:lnTo>
                <a:lnTo>
                  <a:pt x="932" y="16"/>
                </a:lnTo>
                <a:lnTo>
                  <a:pt x="983" y="0"/>
                </a:lnTo>
                <a:lnTo>
                  <a:pt x="1016" y="0"/>
                </a:lnTo>
                <a:lnTo>
                  <a:pt x="1050" y="0"/>
                </a:lnTo>
                <a:lnTo>
                  <a:pt x="1118" y="0"/>
                </a:lnTo>
                <a:lnTo>
                  <a:pt x="1186" y="0"/>
                </a:lnTo>
                <a:lnTo>
                  <a:pt x="1203" y="16"/>
                </a:lnTo>
                <a:lnTo>
                  <a:pt x="1220" y="33"/>
                </a:lnTo>
                <a:lnTo>
                  <a:pt x="1237" y="50"/>
                </a:lnTo>
                <a:lnTo>
                  <a:pt x="1237" y="67"/>
                </a:lnTo>
                <a:lnTo>
                  <a:pt x="1220" y="67"/>
                </a:lnTo>
                <a:lnTo>
                  <a:pt x="1203" y="84"/>
                </a:lnTo>
                <a:lnTo>
                  <a:pt x="1152" y="101"/>
                </a:lnTo>
                <a:lnTo>
                  <a:pt x="1084" y="118"/>
                </a:lnTo>
                <a:lnTo>
                  <a:pt x="1016" y="152"/>
                </a:lnTo>
                <a:lnTo>
                  <a:pt x="915" y="168"/>
                </a:lnTo>
                <a:lnTo>
                  <a:pt x="796" y="202"/>
                </a:lnTo>
                <a:lnTo>
                  <a:pt x="661" y="219"/>
                </a:lnTo>
                <a:lnTo>
                  <a:pt x="525" y="253"/>
                </a:lnTo>
                <a:lnTo>
                  <a:pt x="407" y="287"/>
                </a:lnTo>
                <a:lnTo>
                  <a:pt x="305" y="304"/>
                </a:lnTo>
                <a:lnTo>
                  <a:pt x="220" y="321"/>
                </a:lnTo>
                <a:lnTo>
                  <a:pt x="135" y="337"/>
                </a:lnTo>
                <a:lnTo>
                  <a:pt x="68" y="337"/>
                </a:lnTo>
                <a:lnTo>
                  <a:pt x="34" y="354"/>
                </a:lnTo>
                <a:lnTo>
                  <a:pt x="0" y="354"/>
                </a:lnTo>
                <a:lnTo>
                  <a:pt x="0" y="219"/>
                </a:lnTo>
                <a:lnTo>
                  <a:pt x="34" y="219"/>
                </a:lnTo>
                <a:lnTo>
                  <a:pt x="85" y="219"/>
                </a:lnTo>
                <a:lnTo>
                  <a:pt x="135" y="202"/>
                </a:lnTo>
                <a:lnTo>
                  <a:pt x="203" y="185"/>
                </a:lnTo>
                <a:lnTo>
                  <a:pt x="271" y="168"/>
                </a:lnTo>
                <a:lnTo>
                  <a:pt x="356" y="152"/>
                </a:lnTo>
                <a:lnTo>
                  <a:pt x="457" y="135"/>
                </a:lnTo>
                <a:lnTo>
                  <a:pt x="542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34"/>
          <p:cNvSpPr/>
          <p:nvPr/>
        </p:nvSpPr>
        <p:spPr>
          <a:xfrm>
            <a:off x="5788080" y="2917800"/>
            <a:ext cx="957240" cy="311040"/>
          </a:xfrm>
          <a:custGeom>
            <a:avLst/>
            <a:gdLst/>
            <a:ahLst/>
            <a:rect l="l" t="t" r="r" b="b"/>
            <a:pathLst>
              <a:path w="1508" h="490">
                <a:moveTo>
                  <a:pt x="51" y="473"/>
                </a:moveTo>
                <a:lnTo>
                  <a:pt x="34" y="456"/>
                </a:lnTo>
                <a:lnTo>
                  <a:pt x="17" y="440"/>
                </a:lnTo>
                <a:lnTo>
                  <a:pt x="0" y="406"/>
                </a:lnTo>
                <a:lnTo>
                  <a:pt x="17" y="389"/>
                </a:lnTo>
                <a:lnTo>
                  <a:pt x="51" y="389"/>
                </a:lnTo>
                <a:lnTo>
                  <a:pt x="102" y="372"/>
                </a:lnTo>
                <a:lnTo>
                  <a:pt x="187" y="355"/>
                </a:lnTo>
                <a:lnTo>
                  <a:pt x="238" y="338"/>
                </a:lnTo>
                <a:lnTo>
                  <a:pt x="305" y="338"/>
                </a:lnTo>
                <a:lnTo>
                  <a:pt x="373" y="321"/>
                </a:lnTo>
                <a:lnTo>
                  <a:pt x="441" y="288"/>
                </a:lnTo>
                <a:lnTo>
                  <a:pt x="526" y="271"/>
                </a:lnTo>
                <a:lnTo>
                  <a:pt x="627" y="237"/>
                </a:lnTo>
                <a:lnTo>
                  <a:pt x="729" y="203"/>
                </a:lnTo>
                <a:lnTo>
                  <a:pt x="848" y="152"/>
                </a:lnTo>
                <a:lnTo>
                  <a:pt x="949" y="119"/>
                </a:lnTo>
                <a:lnTo>
                  <a:pt x="1051" y="85"/>
                </a:lnTo>
                <a:lnTo>
                  <a:pt x="1136" y="51"/>
                </a:lnTo>
                <a:lnTo>
                  <a:pt x="1203" y="34"/>
                </a:lnTo>
                <a:lnTo>
                  <a:pt x="1254" y="17"/>
                </a:lnTo>
                <a:lnTo>
                  <a:pt x="1305" y="0"/>
                </a:lnTo>
                <a:lnTo>
                  <a:pt x="1322" y="0"/>
                </a:lnTo>
                <a:lnTo>
                  <a:pt x="1339" y="0"/>
                </a:lnTo>
                <a:lnTo>
                  <a:pt x="1390" y="0"/>
                </a:lnTo>
                <a:lnTo>
                  <a:pt x="1441" y="17"/>
                </a:lnTo>
                <a:lnTo>
                  <a:pt x="1491" y="68"/>
                </a:lnTo>
                <a:lnTo>
                  <a:pt x="1508" y="85"/>
                </a:lnTo>
                <a:lnTo>
                  <a:pt x="1508" y="102"/>
                </a:lnTo>
                <a:lnTo>
                  <a:pt x="1491" y="102"/>
                </a:lnTo>
                <a:lnTo>
                  <a:pt x="1474" y="119"/>
                </a:lnTo>
                <a:lnTo>
                  <a:pt x="1441" y="135"/>
                </a:lnTo>
                <a:lnTo>
                  <a:pt x="1407" y="135"/>
                </a:lnTo>
                <a:lnTo>
                  <a:pt x="1373" y="152"/>
                </a:lnTo>
                <a:lnTo>
                  <a:pt x="1322" y="186"/>
                </a:lnTo>
                <a:lnTo>
                  <a:pt x="1254" y="203"/>
                </a:lnTo>
                <a:lnTo>
                  <a:pt x="1119" y="254"/>
                </a:lnTo>
                <a:lnTo>
                  <a:pt x="983" y="304"/>
                </a:lnTo>
                <a:lnTo>
                  <a:pt x="831" y="338"/>
                </a:lnTo>
                <a:lnTo>
                  <a:pt x="678" y="389"/>
                </a:lnTo>
                <a:lnTo>
                  <a:pt x="543" y="440"/>
                </a:lnTo>
                <a:lnTo>
                  <a:pt x="424" y="473"/>
                </a:lnTo>
                <a:lnTo>
                  <a:pt x="322" y="490"/>
                </a:lnTo>
                <a:lnTo>
                  <a:pt x="255" y="490"/>
                </a:lnTo>
                <a:lnTo>
                  <a:pt x="187" y="490"/>
                </a:lnTo>
                <a:lnTo>
                  <a:pt x="136" y="490"/>
                </a:lnTo>
                <a:lnTo>
                  <a:pt x="85" y="490"/>
                </a:lnTo>
                <a:lnTo>
                  <a:pt x="51" y="4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30"/>
          <p:cNvSpPr/>
          <p:nvPr/>
        </p:nvSpPr>
        <p:spPr>
          <a:xfrm>
            <a:off x="5519880" y="2349360"/>
            <a:ext cx="644400" cy="1630440"/>
          </a:xfrm>
          <a:custGeom>
            <a:avLst/>
            <a:gdLst/>
            <a:ahLst/>
            <a:rect l="l" t="t" r="r" b="b"/>
            <a:pathLst>
              <a:path w="1016" h="2568">
                <a:moveTo>
                  <a:pt x="678" y="2129"/>
                </a:moveTo>
                <a:lnTo>
                  <a:pt x="610" y="2196"/>
                </a:lnTo>
                <a:lnTo>
                  <a:pt x="525" y="2247"/>
                </a:lnTo>
                <a:lnTo>
                  <a:pt x="474" y="2298"/>
                </a:lnTo>
                <a:lnTo>
                  <a:pt x="407" y="2348"/>
                </a:lnTo>
                <a:lnTo>
                  <a:pt x="373" y="2382"/>
                </a:lnTo>
                <a:lnTo>
                  <a:pt x="322" y="2433"/>
                </a:lnTo>
                <a:lnTo>
                  <a:pt x="288" y="2467"/>
                </a:lnTo>
                <a:lnTo>
                  <a:pt x="271" y="2483"/>
                </a:lnTo>
                <a:lnTo>
                  <a:pt x="237" y="2517"/>
                </a:lnTo>
                <a:lnTo>
                  <a:pt x="203" y="2551"/>
                </a:lnTo>
                <a:lnTo>
                  <a:pt x="169" y="2568"/>
                </a:lnTo>
                <a:lnTo>
                  <a:pt x="152" y="2568"/>
                </a:lnTo>
                <a:lnTo>
                  <a:pt x="135" y="2568"/>
                </a:lnTo>
                <a:lnTo>
                  <a:pt x="102" y="2551"/>
                </a:lnTo>
                <a:lnTo>
                  <a:pt x="85" y="2517"/>
                </a:lnTo>
                <a:lnTo>
                  <a:pt x="51" y="2483"/>
                </a:lnTo>
                <a:lnTo>
                  <a:pt x="17" y="2450"/>
                </a:lnTo>
                <a:lnTo>
                  <a:pt x="0" y="2416"/>
                </a:lnTo>
                <a:lnTo>
                  <a:pt x="0" y="2382"/>
                </a:lnTo>
                <a:lnTo>
                  <a:pt x="0" y="2348"/>
                </a:lnTo>
                <a:lnTo>
                  <a:pt x="17" y="2331"/>
                </a:lnTo>
                <a:lnTo>
                  <a:pt x="34" y="2298"/>
                </a:lnTo>
                <a:lnTo>
                  <a:pt x="51" y="2264"/>
                </a:lnTo>
                <a:lnTo>
                  <a:pt x="68" y="2213"/>
                </a:lnTo>
                <a:lnTo>
                  <a:pt x="85" y="2179"/>
                </a:lnTo>
                <a:lnTo>
                  <a:pt x="102" y="2146"/>
                </a:lnTo>
                <a:lnTo>
                  <a:pt x="119" y="2095"/>
                </a:lnTo>
                <a:lnTo>
                  <a:pt x="119" y="2044"/>
                </a:lnTo>
                <a:lnTo>
                  <a:pt x="135" y="1977"/>
                </a:lnTo>
                <a:lnTo>
                  <a:pt x="152" y="1909"/>
                </a:lnTo>
                <a:lnTo>
                  <a:pt x="152" y="1825"/>
                </a:lnTo>
                <a:lnTo>
                  <a:pt x="169" y="1723"/>
                </a:lnTo>
                <a:lnTo>
                  <a:pt x="169" y="1537"/>
                </a:lnTo>
                <a:lnTo>
                  <a:pt x="186" y="1368"/>
                </a:lnTo>
                <a:lnTo>
                  <a:pt x="186" y="1199"/>
                </a:lnTo>
                <a:lnTo>
                  <a:pt x="186" y="1047"/>
                </a:lnTo>
                <a:lnTo>
                  <a:pt x="186" y="743"/>
                </a:lnTo>
                <a:lnTo>
                  <a:pt x="169" y="439"/>
                </a:lnTo>
                <a:lnTo>
                  <a:pt x="152" y="321"/>
                </a:lnTo>
                <a:lnTo>
                  <a:pt x="135" y="219"/>
                </a:lnTo>
                <a:lnTo>
                  <a:pt x="119" y="152"/>
                </a:lnTo>
                <a:lnTo>
                  <a:pt x="119" y="118"/>
                </a:lnTo>
                <a:lnTo>
                  <a:pt x="102" y="101"/>
                </a:lnTo>
                <a:lnTo>
                  <a:pt x="85" y="67"/>
                </a:lnTo>
                <a:lnTo>
                  <a:pt x="68" y="50"/>
                </a:lnTo>
                <a:lnTo>
                  <a:pt x="51" y="0"/>
                </a:lnTo>
                <a:lnTo>
                  <a:pt x="85" y="0"/>
                </a:lnTo>
                <a:lnTo>
                  <a:pt x="119" y="0"/>
                </a:lnTo>
                <a:lnTo>
                  <a:pt x="186" y="0"/>
                </a:lnTo>
                <a:lnTo>
                  <a:pt x="237" y="17"/>
                </a:lnTo>
                <a:lnTo>
                  <a:pt x="288" y="17"/>
                </a:lnTo>
                <a:lnTo>
                  <a:pt x="322" y="34"/>
                </a:lnTo>
                <a:lnTo>
                  <a:pt x="339" y="34"/>
                </a:lnTo>
                <a:lnTo>
                  <a:pt x="339" y="50"/>
                </a:lnTo>
                <a:lnTo>
                  <a:pt x="339" y="67"/>
                </a:lnTo>
                <a:lnTo>
                  <a:pt x="339" y="101"/>
                </a:lnTo>
                <a:lnTo>
                  <a:pt x="339" y="152"/>
                </a:lnTo>
                <a:lnTo>
                  <a:pt x="339" y="203"/>
                </a:lnTo>
                <a:lnTo>
                  <a:pt x="339" y="270"/>
                </a:lnTo>
                <a:lnTo>
                  <a:pt x="339" y="355"/>
                </a:lnTo>
                <a:lnTo>
                  <a:pt x="339" y="439"/>
                </a:lnTo>
                <a:lnTo>
                  <a:pt x="339" y="557"/>
                </a:lnTo>
                <a:lnTo>
                  <a:pt x="339" y="659"/>
                </a:lnTo>
                <a:lnTo>
                  <a:pt x="339" y="895"/>
                </a:lnTo>
                <a:lnTo>
                  <a:pt x="339" y="1166"/>
                </a:lnTo>
                <a:lnTo>
                  <a:pt x="339" y="1453"/>
                </a:lnTo>
                <a:lnTo>
                  <a:pt x="322" y="1588"/>
                </a:lnTo>
                <a:lnTo>
                  <a:pt x="322" y="1723"/>
                </a:lnTo>
                <a:lnTo>
                  <a:pt x="322" y="1825"/>
                </a:lnTo>
                <a:lnTo>
                  <a:pt x="322" y="1909"/>
                </a:lnTo>
                <a:lnTo>
                  <a:pt x="322" y="1993"/>
                </a:lnTo>
                <a:lnTo>
                  <a:pt x="322" y="2044"/>
                </a:lnTo>
                <a:lnTo>
                  <a:pt x="322" y="2078"/>
                </a:lnTo>
                <a:lnTo>
                  <a:pt x="339" y="2095"/>
                </a:lnTo>
                <a:lnTo>
                  <a:pt x="356" y="2095"/>
                </a:lnTo>
                <a:lnTo>
                  <a:pt x="390" y="2078"/>
                </a:lnTo>
                <a:lnTo>
                  <a:pt x="423" y="2061"/>
                </a:lnTo>
                <a:lnTo>
                  <a:pt x="474" y="2044"/>
                </a:lnTo>
                <a:lnTo>
                  <a:pt x="525" y="2027"/>
                </a:lnTo>
                <a:lnTo>
                  <a:pt x="593" y="1993"/>
                </a:lnTo>
                <a:lnTo>
                  <a:pt x="678" y="1943"/>
                </a:lnTo>
                <a:lnTo>
                  <a:pt x="745" y="1909"/>
                </a:lnTo>
                <a:lnTo>
                  <a:pt x="813" y="1875"/>
                </a:lnTo>
                <a:lnTo>
                  <a:pt x="881" y="1858"/>
                </a:lnTo>
                <a:lnTo>
                  <a:pt x="915" y="1825"/>
                </a:lnTo>
                <a:lnTo>
                  <a:pt x="966" y="1825"/>
                </a:lnTo>
                <a:lnTo>
                  <a:pt x="983" y="1808"/>
                </a:lnTo>
                <a:lnTo>
                  <a:pt x="1016" y="1808"/>
                </a:lnTo>
                <a:lnTo>
                  <a:pt x="1016" y="1825"/>
                </a:lnTo>
                <a:lnTo>
                  <a:pt x="1000" y="1841"/>
                </a:lnTo>
                <a:lnTo>
                  <a:pt x="983" y="1875"/>
                </a:lnTo>
                <a:lnTo>
                  <a:pt x="949" y="1909"/>
                </a:lnTo>
                <a:lnTo>
                  <a:pt x="898" y="1960"/>
                </a:lnTo>
                <a:lnTo>
                  <a:pt x="830" y="2010"/>
                </a:lnTo>
                <a:lnTo>
                  <a:pt x="762" y="2061"/>
                </a:lnTo>
                <a:lnTo>
                  <a:pt x="678" y="21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33"/>
          <p:cNvSpPr/>
          <p:nvPr/>
        </p:nvSpPr>
        <p:spPr>
          <a:xfrm>
            <a:off x="6078600" y="2682720"/>
            <a:ext cx="1150920" cy="1371600"/>
          </a:xfrm>
          <a:custGeom>
            <a:avLst/>
            <a:gdLst/>
            <a:ahLst/>
            <a:rect l="l" t="t" r="r" b="b"/>
            <a:pathLst>
              <a:path w="1813" h="2162">
                <a:moveTo>
                  <a:pt x="1508" y="1807"/>
                </a:moveTo>
                <a:lnTo>
                  <a:pt x="1525" y="1807"/>
                </a:lnTo>
                <a:lnTo>
                  <a:pt x="1525" y="1791"/>
                </a:lnTo>
                <a:lnTo>
                  <a:pt x="1542" y="1757"/>
                </a:lnTo>
                <a:lnTo>
                  <a:pt x="1559" y="1723"/>
                </a:lnTo>
                <a:lnTo>
                  <a:pt x="1576" y="1689"/>
                </a:lnTo>
                <a:lnTo>
                  <a:pt x="1576" y="1638"/>
                </a:lnTo>
                <a:lnTo>
                  <a:pt x="1592" y="1588"/>
                </a:lnTo>
                <a:lnTo>
                  <a:pt x="1609" y="1520"/>
                </a:lnTo>
                <a:lnTo>
                  <a:pt x="1626" y="1453"/>
                </a:lnTo>
                <a:lnTo>
                  <a:pt x="1643" y="1402"/>
                </a:lnTo>
                <a:lnTo>
                  <a:pt x="1643" y="1351"/>
                </a:lnTo>
                <a:lnTo>
                  <a:pt x="1660" y="1317"/>
                </a:lnTo>
                <a:lnTo>
                  <a:pt x="1660" y="1301"/>
                </a:lnTo>
                <a:lnTo>
                  <a:pt x="1677" y="1267"/>
                </a:lnTo>
                <a:lnTo>
                  <a:pt x="1694" y="1267"/>
                </a:lnTo>
                <a:lnTo>
                  <a:pt x="1711" y="1317"/>
                </a:lnTo>
                <a:lnTo>
                  <a:pt x="1711" y="1351"/>
                </a:lnTo>
                <a:lnTo>
                  <a:pt x="1711" y="1385"/>
                </a:lnTo>
                <a:lnTo>
                  <a:pt x="1728" y="1419"/>
                </a:lnTo>
                <a:lnTo>
                  <a:pt x="1728" y="1486"/>
                </a:lnTo>
                <a:lnTo>
                  <a:pt x="1745" y="1706"/>
                </a:lnTo>
                <a:lnTo>
                  <a:pt x="1762" y="1807"/>
                </a:lnTo>
                <a:lnTo>
                  <a:pt x="1779" y="1909"/>
                </a:lnTo>
                <a:lnTo>
                  <a:pt x="1796" y="1993"/>
                </a:lnTo>
                <a:lnTo>
                  <a:pt x="1813" y="2061"/>
                </a:lnTo>
                <a:lnTo>
                  <a:pt x="1813" y="2095"/>
                </a:lnTo>
                <a:lnTo>
                  <a:pt x="1796" y="2128"/>
                </a:lnTo>
                <a:lnTo>
                  <a:pt x="1762" y="2145"/>
                </a:lnTo>
                <a:lnTo>
                  <a:pt x="1728" y="2162"/>
                </a:lnTo>
                <a:lnTo>
                  <a:pt x="1660" y="2162"/>
                </a:lnTo>
                <a:lnTo>
                  <a:pt x="1592" y="2162"/>
                </a:lnTo>
                <a:lnTo>
                  <a:pt x="1491" y="2145"/>
                </a:lnTo>
                <a:lnTo>
                  <a:pt x="1406" y="2112"/>
                </a:lnTo>
                <a:lnTo>
                  <a:pt x="1288" y="2061"/>
                </a:lnTo>
                <a:lnTo>
                  <a:pt x="1186" y="1993"/>
                </a:lnTo>
                <a:lnTo>
                  <a:pt x="1067" y="1909"/>
                </a:lnTo>
                <a:lnTo>
                  <a:pt x="966" y="1824"/>
                </a:lnTo>
                <a:lnTo>
                  <a:pt x="864" y="1740"/>
                </a:lnTo>
                <a:lnTo>
                  <a:pt x="779" y="1638"/>
                </a:lnTo>
                <a:lnTo>
                  <a:pt x="678" y="1503"/>
                </a:lnTo>
                <a:lnTo>
                  <a:pt x="593" y="1368"/>
                </a:lnTo>
                <a:lnTo>
                  <a:pt x="508" y="1216"/>
                </a:lnTo>
                <a:lnTo>
                  <a:pt x="423" y="1047"/>
                </a:lnTo>
                <a:lnTo>
                  <a:pt x="339" y="878"/>
                </a:lnTo>
                <a:lnTo>
                  <a:pt x="271" y="726"/>
                </a:lnTo>
                <a:lnTo>
                  <a:pt x="220" y="574"/>
                </a:lnTo>
                <a:lnTo>
                  <a:pt x="169" y="439"/>
                </a:lnTo>
                <a:lnTo>
                  <a:pt x="135" y="304"/>
                </a:lnTo>
                <a:lnTo>
                  <a:pt x="85" y="185"/>
                </a:lnTo>
                <a:lnTo>
                  <a:pt x="51" y="101"/>
                </a:lnTo>
                <a:lnTo>
                  <a:pt x="0" y="0"/>
                </a:lnTo>
                <a:lnTo>
                  <a:pt x="51" y="16"/>
                </a:lnTo>
                <a:lnTo>
                  <a:pt x="102" y="33"/>
                </a:lnTo>
                <a:lnTo>
                  <a:pt x="152" y="33"/>
                </a:lnTo>
                <a:lnTo>
                  <a:pt x="186" y="50"/>
                </a:lnTo>
                <a:lnTo>
                  <a:pt x="220" y="50"/>
                </a:lnTo>
                <a:lnTo>
                  <a:pt x="237" y="67"/>
                </a:lnTo>
                <a:lnTo>
                  <a:pt x="254" y="67"/>
                </a:lnTo>
                <a:lnTo>
                  <a:pt x="271" y="67"/>
                </a:lnTo>
                <a:lnTo>
                  <a:pt x="271" y="84"/>
                </a:lnTo>
                <a:lnTo>
                  <a:pt x="271" y="118"/>
                </a:lnTo>
                <a:lnTo>
                  <a:pt x="288" y="135"/>
                </a:lnTo>
                <a:lnTo>
                  <a:pt x="305" y="185"/>
                </a:lnTo>
                <a:lnTo>
                  <a:pt x="305" y="219"/>
                </a:lnTo>
                <a:lnTo>
                  <a:pt x="322" y="287"/>
                </a:lnTo>
                <a:lnTo>
                  <a:pt x="356" y="354"/>
                </a:lnTo>
                <a:lnTo>
                  <a:pt x="373" y="422"/>
                </a:lnTo>
                <a:lnTo>
                  <a:pt x="423" y="574"/>
                </a:lnTo>
                <a:lnTo>
                  <a:pt x="474" y="743"/>
                </a:lnTo>
                <a:lnTo>
                  <a:pt x="559" y="895"/>
                </a:lnTo>
                <a:lnTo>
                  <a:pt x="644" y="1064"/>
                </a:lnTo>
                <a:lnTo>
                  <a:pt x="728" y="1216"/>
                </a:lnTo>
                <a:lnTo>
                  <a:pt x="830" y="1351"/>
                </a:lnTo>
                <a:lnTo>
                  <a:pt x="915" y="1469"/>
                </a:lnTo>
                <a:lnTo>
                  <a:pt x="1000" y="1571"/>
                </a:lnTo>
                <a:lnTo>
                  <a:pt x="1084" y="1638"/>
                </a:lnTo>
                <a:lnTo>
                  <a:pt x="1169" y="1689"/>
                </a:lnTo>
                <a:lnTo>
                  <a:pt x="1254" y="1740"/>
                </a:lnTo>
                <a:lnTo>
                  <a:pt x="1321" y="1774"/>
                </a:lnTo>
                <a:lnTo>
                  <a:pt x="1389" y="1791"/>
                </a:lnTo>
                <a:lnTo>
                  <a:pt x="1457" y="1807"/>
                </a:lnTo>
                <a:lnTo>
                  <a:pt x="1491" y="1824"/>
                </a:lnTo>
                <a:lnTo>
                  <a:pt x="1508" y="18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3" descr=""/>
          <p:cNvPicPr/>
          <p:nvPr/>
        </p:nvPicPr>
        <p:blipFill>
          <a:blip r:embed="rId1"/>
          <a:stretch/>
        </p:blipFill>
        <p:spPr>
          <a:xfrm>
            <a:off x="2259000" y="2021040"/>
            <a:ext cx="4977000" cy="3565440"/>
          </a:xfrm>
          <a:prstGeom prst="rect">
            <a:avLst/>
          </a:prstGeom>
          <a:ln w="0">
            <a:noFill/>
          </a:ln>
        </p:spPr>
      </p:pic>
      <p:sp>
        <p:nvSpPr>
          <p:cNvPr id="51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648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6" descr="枫叶副本"/>
          <p:cNvPicPr/>
          <p:nvPr/>
        </p:nvPicPr>
        <p:blipFill>
          <a:blip r:embed="rId4"/>
          <a:stretch/>
        </p:blipFill>
        <p:spPr>
          <a:xfrm>
            <a:off x="3879720" y="3247920"/>
            <a:ext cx="1059120" cy="1014480"/>
          </a:xfrm>
          <a:prstGeom prst="rect">
            <a:avLst/>
          </a:prstGeom>
          <a:ln w="0">
            <a:noFill/>
          </a:ln>
        </p:spPr>
      </p:pic>
      <p:pic>
        <p:nvPicPr>
          <p:cNvPr id="55" name="矩形 47" descr=""/>
          <p:cNvPicPr/>
          <p:nvPr/>
        </p:nvPicPr>
        <p:blipFill>
          <a:blip r:embed="rId5"/>
          <a:stretch/>
        </p:blipFill>
        <p:spPr>
          <a:xfrm>
            <a:off x="3081240" y="3349800"/>
            <a:ext cx="3186360" cy="70956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"/>
          <p:cNvGrpSpPr/>
          <p:nvPr/>
        </p:nvGrpSpPr>
        <p:grpSpPr>
          <a:xfrm>
            <a:off x="282600" y="5586480"/>
            <a:ext cx="8578800" cy="770040"/>
            <a:chOff x="282600" y="5586480"/>
            <a:chExt cx="8578800" cy="770040"/>
          </a:xfrm>
        </p:grpSpPr>
        <p:pic>
          <p:nvPicPr>
            <p:cNvPr id="57" name="任意多边形 24" descr=""/>
            <p:cNvPicPr/>
            <p:nvPr/>
          </p:nvPicPr>
          <p:blipFill>
            <a:blip r:embed="rId6"/>
            <a:stretch/>
          </p:blipFill>
          <p:spPr>
            <a:xfrm>
              <a:off x="282600" y="5586480"/>
              <a:ext cx="158976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1977120" y="5586480"/>
              <a:ext cx="158976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任意多边形 27" descr=""/>
            <p:cNvPicPr/>
            <p:nvPr/>
          </p:nvPicPr>
          <p:blipFill>
            <a:blip r:embed="rId8"/>
            <a:stretch/>
          </p:blipFill>
          <p:spPr>
            <a:xfrm>
              <a:off x="5442840" y="5586480"/>
              <a:ext cx="158976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任意多边形 28" descr=""/>
            <p:cNvPicPr/>
            <p:nvPr/>
          </p:nvPicPr>
          <p:blipFill>
            <a:blip r:embed="rId9"/>
            <a:stretch/>
          </p:blipFill>
          <p:spPr>
            <a:xfrm>
              <a:off x="3671640" y="5586480"/>
              <a:ext cx="166608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任意多边形 29" descr=""/>
            <p:cNvPicPr/>
            <p:nvPr/>
          </p:nvPicPr>
          <p:blipFill>
            <a:blip r:embed="rId10"/>
            <a:stretch/>
          </p:blipFill>
          <p:spPr>
            <a:xfrm>
              <a:off x="7137720" y="5586480"/>
              <a:ext cx="1723680" cy="7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流程图: 摘录 30"/>
            <p:cNvSpPr/>
            <p:nvPr/>
          </p:nvSpPr>
          <p:spPr>
            <a:xfrm rot="5400000">
              <a:off x="1818720" y="5844600"/>
              <a:ext cx="187200" cy="201240"/>
            </a:xfrm>
            <a:prstGeom prst="flowChartExtract">
              <a:avLst/>
            </a:prstGeom>
            <a:solidFill>
              <a:srgbClr val="ffffff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流程图: 摘录 31"/>
            <p:cNvSpPr/>
            <p:nvPr/>
          </p:nvSpPr>
          <p:spPr>
            <a:xfrm rot="5400000">
              <a:off x="3535560" y="5844600"/>
              <a:ext cx="187200" cy="201240"/>
            </a:xfrm>
            <a:prstGeom prst="flowChartExtract">
              <a:avLst/>
            </a:prstGeom>
            <a:solidFill>
              <a:srgbClr val="ffffff"/>
            </a:solidFill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流程图: 摘录 32"/>
            <p:cNvSpPr/>
            <p:nvPr/>
          </p:nvSpPr>
          <p:spPr>
            <a:xfrm rot="5400000">
              <a:off x="5268960" y="5845680"/>
              <a:ext cx="184320" cy="231120"/>
            </a:xfrm>
            <a:prstGeom prst="flowChartExtract">
              <a:avLst/>
            </a:prstGeom>
            <a:solidFill>
              <a:srgbClr val="ffffff"/>
            </a:solidFill>
            <a:ln w="12600">
              <a:solidFill>
                <a:srgbClr val="8497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流程图: 摘录 33"/>
            <p:cNvSpPr/>
            <p:nvPr/>
          </p:nvSpPr>
          <p:spPr>
            <a:xfrm rot="5400000">
              <a:off x="7035120" y="5820120"/>
              <a:ext cx="182520" cy="267840"/>
            </a:xfrm>
            <a:prstGeom prst="flowChartExtract">
              <a:avLst/>
            </a:prstGeom>
            <a:solidFill>
              <a:srgbClr val="ffffff"/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 Box 2"/>
          <p:cNvSpPr/>
          <p:nvPr/>
        </p:nvSpPr>
        <p:spPr>
          <a:xfrm>
            <a:off x="2768760" y="1017720"/>
            <a:ext cx="35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① 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神州谣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35"/>
          <p:cNvSpPr/>
          <p:nvPr/>
        </p:nvSpPr>
        <p:spPr>
          <a:xfrm>
            <a:off x="5799240" y="2347920"/>
            <a:ext cx="279360" cy="257040"/>
          </a:xfrm>
          <a:custGeom>
            <a:avLst/>
            <a:gdLst/>
            <a:ahLst/>
            <a:rect l="l" t="t" r="r" b="b"/>
            <a:pathLst>
              <a:path w="440" h="405">
                <a:moveTo>
                  <a:pt x="0" y="33"/>
                </a:moveTo>
                <a:lnTo>
                  <a:pt x="16" y="16"/>
                </a:lnTo>
                <a:lnTo>
                  <a:pt x="33" y="16"/>
                </a:lnTo>
                <a:lnTo>
                  <a:pt x="67" y="0"/>
                </a:lnTo>
                <a:lnTo>
                  <a:pt x="101" y="0"/>
                </a:lnTo>
                <a:lnTo>
                  <a:pt x="186" y="16"/>
                </a:lnTo>
                <a:lnTo>
                  <a:pt x="271" y="33"/>
                </a:lnTo>
                <a:lnTo>
                  <a:pt x="321" y="67"/>
                </a:lnTo>
                <a:lnTo>
                  <a:pt x="355" y="101"/>
                </a:lnTo>
                <a:lnTo>
                  <a:pt x="389" y="135"/>
                </a:lnTo>
                <a:lnTo>
                  <a:pt x="406" y="185"/>
                </a:lnTo>
                <a:lnTo>
                  <a:pt x="440" y="236"/>
                </a:lnTo>
                <a:lnTo>
                  <a:pt x="440" y="270"/>
                </a:lnTo>
                <a:lnTo>
                  <a:pt x="440" y="304"/>
                </a:lnTo>
                <a:lnTo>
                  <a:pt x="440" y="337"/>
                </a:lnTo>
                <a:lnTo>
                  <a:pt x="423" y="371"/>
                </a:lnTo>
                <a:lnTo>
                  <a:pt x="389" y="388"/>
                </a:lnTo>
                <a:lnTo>
                  <a:pt x="355" y="405"/>
                </a:lnTo>
                <a:lnTo>
                  <a:pt x="321" y="388"/>
                </a:lnTo>
                <a:lnTo>
                  <a:pt x="288" y="371"/>
                </a:lnTo>
                <a:lnTo>
                  <a:pt x="237" y="321"/>
                </a:lnTo>
                <a:lnTo>
                  <a:pt x="186" y="270"/>
                </a:lnTo>
                <a:lnTo>
                  <a:pt x="135" y="202"/>
                </a:lnTo>
                <a:lnTo>
                  <a:pt x="67" y="135"/>
                </a:lnTo>
                <a:lnTo>
                  <a:pt x="33" y="84"/>
                </a:lnTo>
                <a:lnTo>
                  <a:pt x="0" y="50"/>
                </a:lnTo>
                <a:lnTo>
                  <a:pt x="0" y="3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6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TextBox 57"/>
          <p:cNvSpPr/>
          <p:nvPr/>
        </p:nvSpPr>
        <p:spPr>
          <a:xfrm>
            <a:off x="4619520" y="50022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右部笔画紧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23176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民族  汉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4"/>
          <p:cNvSpPr/>
          <p:nvPr/>
        </p:nvSpPr>
        <p:spPr>
          <a:xfrm>
            <a:off x="857160" y="5002200"/>
            <a:ext cx="34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国家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民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7"/>
          <p:cNvSpPr/>
          <p:nvPr/>
        </p:nvSpPr>
        <p:spPr>
          <a:xfrm>
            <a:off x="3474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6"/>
          <p:cNvSpPr/>
          <p:nvPr/>
        </p:nvSpPr>
        <p:spPr>
          <a:xfrm>
            <a:off x="6294600" y="2208240"/>
            <a:ext cx="407880" cy="642960"/>
          </a:xfrm>
          <a:custGeom>
            <a:avLst/>
            <a:gdLst/>
            <a:ahLst/>
            <a:rect l="l" t="t" r="r" b="b"/>
            <a:pathLst>
              <a:path w="644" h="1014">
                <a:moveTo>
                  <a:pt x="288" y="456"/>
                </a:moveTo>
                <a:lnTo>
                  <a:pt x="356" y="321"/>
                </a:lnTo>
                <a:lnTo>
                  <a:pt x="390" y="203"/>
                </a:lnTo>
                <a:lnTo>
                  <a:pt x="406" y="152"/>
                </a:lnTo>
                <a:lnTo>
                  <a:pt x="406" y="118"/>
                </a:lnTo>
                <a:lnTo>
                  <a:pt x="406" y="84"/>
                </a:lnTo>
                <a:lnTo>
                  <a:pt x="390" y="67"/>
                </a:lnTo>
                <a:lnTo>
                  <a:pt x="373" y="51"/>
                </a:lnTo>
                <a:lnTo>
                  <a:pt x="356" y="34"/>
                </a:lnTo>
                <a:lnTo>
                  <a:pt x="373" y="17"/>
                </a:lnTo>
                <a:lnTo>
                  <a:pt x="390" y="0"/>
                </a:lnTo>
                <a:lnTo>
                  <a:pt x="406" y="0"/>
                </a:lnTo>
                <a:lnTo>
                  <a:pt x="423" y="0"/>
                </a:lnTo>
                <a:lnTo>
                  <a:pt x="457" y="0"/>
                </a:lnTo>
                <a:lnTo>
                  <a:pt x="525" y="34"/>
                </a:lnTo>
                <a:lnTo>
                  <a:pt x="593" y="84"/>
                </a:lnTo>
                <a:lnTo>
                  <a:pt x="610" y="118"/>
                </a:lnTo>
                <a:lnTo>
                  <a:pt x="644" y="135"/>
                </a:lnTo>
                <a:lnTo>
                  <a:pt x="644" y="169"/>
                </a:lnTo>
                <a:lnTo>
                  <a:pt x="644" y="186"/>
                </a:lnTo>
                <a:lnTo>
                  <a:pt x="627" y="236"/>
                </a:lnTo>
                <a:lnTo>
                  <a:pt x="576" y="304"/>
                </a:lnTo>
                <a:lnTo>
                  <a:pt x="525" y="388"/>
                </a:lnTo>
                <a:lnTo>
                  <a:pt x="440" y="507"/>
                </a:lnTo>
                <a:lnTo>
                  <a:pt x="373" y="625"/>
                </a:lnTo>
                <a:lnTo>
                  <a:pt x="288" y="726"/>
                </a:lnTo>
                <a:lnTo>
                  <a:pt x="220" y="811"/>
                </a:lnTo>
                <a:lnTo>
                  <a:pt x="152" y="895"/>
                </a:lnTo>
                <a:lnTo>
                  <a:pt x="85" y="963"/>
                </a:lnTo>
                <a:lnTo>
                  <a:pt x="51" y="997"/>
                </a:lnTo>
                <a:lnTo>
                  <a:pt x="17" y="1014"/>
                </a:lnTo>
                <a:lnTo>
                  <a:pt x="0" y="1014"/>
                </a:lnTo>
                <a:lnTo>
                  <a:pt x="17" y="963"/>
                </a:lnTo>
                <a:lnTo>
                  <a:pt x="17" y="929"/>
                </a:lnTo>
                <a:lnTo>
                  <a:pt x="51" y="895"/>
                </a:lnTo>
                <a:lnTo>
                  <a:pt x="68" y="845"/>
                </a:lnTo>
                <a:lnTo>
                  <a:pt x="101" y="794"/>
                </a:lnTo>
                <a:lnTo>
                  <a:pt x="169" y="693"/>
                </a:lnTo>
                <a:lnTo>
                  <a:pt x="220" y="608"/>
                </a:lnTo>
                <a:lnTo>
                  <a:pt x="254" y="524"/>
                </a:lnTo>
                <a:lnTo>
                  <a:pt x="288" y="4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7"/>
          <p:cNvSpPr/>
          <p:nvPr/>
        </p:nvSpPr>
        <p:spPr>
          <a:xfrm>
            <a:off x="6423120" y="2540160"/>
            <a:ext cx="635040" cy="193680"/>
          </a:xfrm>
          <a:custGeom>
            <a:avLst/>
            <a:gdLst/>
            <a:ahLst/>
            <a:rect l="l" t="t" r="r" b="b"/>
            <a:pathLst>
              <a:path w="1000" h="304">
                <a:moveTo>
                  <a:pt x="441" y="84"/>
                </a:moveTo>
                <a:lnTo>
                  <a:pt x="525" y="67"/>
                </a:lnTo>
                <a:lnTo>
                  <a:pt x="593" y="50"/>
                </a:lnTo>
                <a:lnTo>
                  <a:pt x="644" y="33"/>
                </a:lnTo>
                <a:lnTo>
                  <a:pt x="695" y="17"/>
                </a:lnTo>
                <a:lnTo>
                  <a:pt x="746" y="17"/>
                </a:lnTo>
                <a:lnTo>
                  <a:pt x="779" y="0"/>
                </a:lnTo>
                <a:lnTo>
                  <a:pt x="813" y="0"/>
                </a:lnTo>
                <a:lnTo>
                  <a:pt x="830" y="0"/>
                </a:lnTo>
                <a:lnTo>
                  <a:pt x="881" y="0"/>
                </a:lnTo>
                <a:lnTo>
                  <a:pt x="949" y="33"/>
                </a:lnTo>
                <a:lnTo>
                  <a:pt x="966" y="33"/>
                </a:lnTo>
                <a:lnTo>
                  <a:pt x="983" y="50"/>
                </a:lnTo>
                <a:lnTo>
                  <a:pt x="1000" y="67"/>
                </a:lnTo>
                <a:lnTo>
                  <a:pt x="1000" y="84"/>
                </a:lnTo>
                <a:lnTo>
                  <a:pt x="983" y="101"/>
                </a:lnTo>
                <a:lnTo>
                  <a:pt x="983" y="118"/>
                </a:lnTo>
                <a:lnTo>
                  <a:pt x="949" y="135"/>
                </a:lnTo>
                <a:lnTo>
                  <a:pt x="915" y="152"/>
                </a:lnTo>
                <a:lnTo>
                  <a:pt x="881" y="169"/>
                </a:lnTo>
                <a:lnTo>
                  <a:pt x="830" y="169"/>
                </a:lnTo>
                <a:lnTo>
                  <a:pt x="746" y="186"/>
                </a:lnTo>
                <a:lnTo>
                  <a:pt x="644" y="202"/>
                </a:lnTo>
                <a:lnTo>
                  <a:pt x="525" y="236"/>
                </a:lnTo>
                <a:lnTo>
                  <a:pt x="373" y="253"/>
                </a:lnTo>
                <a:lnTo>
                  <a:pt x="203" y="270"/>
                </a:lnTo>
                <a:lnTo>
                  <a:pt x="0" y="304"/>
                </a:lnTo>
                <a:lnTo>
                  <a:pt x="0" y="186"/>
                </a:lnTo>
                <a:lnTo>
                  <a:pt x="85" y="169"/>
                </a:lnTo>
                <a:lnTo>
                  <a:pt x="170" y="152"/>
                </a:lnTo>
                <a:lnTo>
                  <a:pt x="288" y="118"/>
                </a:lnTo>
                <a:lnTo>
                  <a:pt x="441" y="8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8"/>
          <p:cNvSpPr/>
          <p:nvPr/>
        </p:nvSpPr>
        <p:spPr>
          <a:xfrm>
            <a:off x="6303960" y="2830680"/>
            <a:ext cx="324000" cy="428400"/>
          </a:xfrm>
          <a:custGeom>
            <a:avLst/>
            <a:gdLst/>
            <a:ahLst/>
            <a:rect l="l" t="t" r="r" b="b"/>
            <a:pathLst>
              <a:path w="508" h="676">
                <a:moveTo>
                  <a:pt x="271" y="84"/>
                </a:moveTo>
                <a:lnTo>
                  <a:pt x="254" y="67"/>
                </a:lnTo>
                <a:lnTo>
                  <a:pt x="254" y="51"/>
                </a:lnTo>
                <a:lnTo>
                  <a:pt x="254" y="34"/>
                </a:lnTo>
                <a:lnTo>
                  <a:pt x="271" y="17"/>
                </a:lnTo>
                <a:lnTo>
                  <a:pt x="288" y="0"/>
                </a:lnTo>
                <a:lnTo>
                  <a:pt x="322" y="0"/>
                </a:lnTo>
                <a:lnTo>
                  <a:pt x="339" y="0"/>
                </a:lnTo>
                <a:lnTo>
                  <a:pt x="373" y="0"/>
                </a:lnTo>
                <a:lnTo>
                  <a:pt x="389" y="17"/>
                </a:lnTo>
                <a:lnTo>
                  <a:pt x="423" y="17"/>
                </a:lnTo>
                <a:lnTo>
                  <a:pt x="474" y="67"/>
                </a:lnTo>
                <a:lnTo>
                  <a:pt x="508" y="118"/>
                </a:lnTo>
                <a:lnTo>
                  <a:pt x="491" y="152"/>
                </a:lnTo>
                <a:lnTo>
                  <a:pt x="474" y="203"/>
                </a:lnTo>
                <a:lnTo>
                  <a:pt x="423" y="270"/>
                </a:lnTo>
                <a:lnTo>
                  <a:pt x="373" y="338"/>
                </a:lnTo>
                <a:lnTo>
                  <a:pt x="305" y="422"/>
                </a:lnTo>
                <a:lnTo>
                  <a:pt x="237" y="507"/>
                </a:lnTo>
                <a:lnTo>
                  <a:pt x="186" y="557"/>
                </a:lnTo>
                <a:lnTo>
                  <a:pt x="135" y="608"/>
                </a:lnTo>
                <a:lnTo>
                  <a:pt x="84" y="642"/>
                </a:lnTo>
                <a:lnTo>
                  <a:pt x="51" y="659"/>
                </a:lnTo>
                <a:lnTo>
                  <a:pt x="17" y="676"/>
                </a:lnTo>
                <a:lnTo>
                  <a:pt x="0" y="676"/>
                </a:lnTo>
                <a:lnTo>
                  <a:pt x="0" y="659"/>
                </a:lnTo>
                <a:lnTo>
                  <a:pt x="17" y="625"/>
                </a:lnTo>
                <a:lnTo>
                  <a:pt x="51" y="557"/>
                </a:lnTo>
                <a:lnTo>
                  <a:pt x="101" y="473"/>
                </a:lnTo>
                <a:lnTo>
                  <a:pt x="152" y="388"/>
                </a:lnTo>
                <a:lnTo>
                  <a:pt x="186" y="321"/>
                </a:lnTo>
                <a:lnTo>
                  <a:pt x="237" y="253"/>
                </a:lnTo>
                <a:lnTo>
                  <a:pt x="271" y="186"/>
                </a:lnTo>
                <a:lnTo>
                  <a:pt x="288" y="152"/>
                </a:lnTo>
                <a:lnTo>
                  <a:pt x="288" y="118"/>
                </a:lnTo>
                <a:lnTo>
                  <a:pt x="288" y="101"/>
                </a:lnTo>
                <a:lnTo>
                  <a:pt x="271" y="8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6207120" y="3247920"/>
            <a:ext cx="1033560" cy="236520"/>
          </a:xfrm>
          <a:custGeom>
            <a:avLst/>
            <a:gdLst/>
            <a:ahLst/>
            <a:rect l="l" t="t" r="r" b="b"/>
            <a:pathLst>
              <a:path w="1627" h="371">
                <a:moveTo>
                  <a:pt x="830" y="118"/>
                </a:moveTo>
                <a:lnTo>
                  <a:pt x="949" y="84"/>
                </a:lnTo>
                <a:lnTo>
                  <a:pt x="1051" y="67"/>
                </a:lnTo>
                <a:lnTo>
                  <a:pt x="1135" y="50"/>
                </a:lnTo>
                <a:lnTo>
                  <a:pt x="1203" y="34"/>
                </a:lnTo>
                <a:lnTo>
                  <a:pt x="1271" y="17"/>
                </a:lnTo>
                <a:lnTo>
                  <a:pt x="1322" y="0"/>
                </a:lnTo>
                <a:lnTo>
                  <a:pt x="1373" y="0"/>
                </a:lnTo>
                <a:lnTo>
                  <a:pt x="1407" y="0"/>
                </a:lnTo>
                <a:lnTo>
                  <a:pt x="1440" y="0"/>
                </a:lnTo>
                <a:lnTo>
                  <a:pt x="1491" y="17"/>
                </a:lnTo>
                <a:lnTo>
                  <a:pt x="1525" y="34"/>
                </a:lnTo>
                <a:lnTo>
                  <a:pt x="1559" y="50"/>
                </a:lnTo>
                <a:lnTo>
                  <a:pt x="1593" y="101"/>
                </a:lnTo>
                <a:lnTo>
                  <a:pt x="1610" y="118"/>
                </a:lnTo>
                <a:lnTo>
                  <a:pt x="1627" y="135"/>
                </a:lnTo>
                <a:lnTo>
                  <a:pt x="1610" y="152"/>
                </a:lnTo>
                <a:lnTo>
                  <a:pt x="1593" y="169"/>
                </a:lnTo>
                <a:lnTo>
                  <a:pt x="1559" y="169"/>
                </a:lnTo>
                <a:lnTo>
                  <a:pt x="1508" y="186"/>
                </a:lnTo>
                <a:lnTo>
                  <a:pt x="1440" y="186"/>
                </a:lnTo>
                <a:lnTo>
                  <a:pt x="1356" y="186"/>
                </a:lnTo>
                <a:lnTo>
                  <a:pt x="1271" y="186"/>
                </a:lnTo>
                <a:lnTo>
                  <a:pt x="1169" y="186"/>
                </a:lnTo>
                <a:lnTo>
                  <a:pt x="1051" y="203"/>
                </a:lnTo>
                <a:lnTo>
                  <a:pt x="915" y="236"/>
                </a:lnTo>
                <a:lnTo>
                  <a:pt x="780" y="253"/>
                </a:lnTo>
                <a:lnTo>
                  <a:pt x="627" y="287"/>
                </a:lnTo>
                <a:lnTo>
                  <a:pt x="542" y="304"/>
                </a:lnTo>
                <a:lnTo>
                  <a:pt x="475" y="321"/>
                </a:lnTo>
                <a:lnTo>
                  <a:pt x="424" y="338"/>
                </a:lnTo>
                <a:lnTo>
                  <a:pt x="373" y="355"/>
                </a:lnTo>
                <a:lnTo>
                  <a:pt x="322" y="355"/>
                </a:lnTo>
                <a:lnTo>
                  <a:pt x="288" y="371"/>
                </a:lnTo>
                <a:lnTo>
                  <a:pt x="254" y="371"/>
                </a:lnTo>
                <a:lnTo>
                  <a:pt x="237" y="371"/>
                </a:lnTo>
                <a:lnTo>
                  <a:pt x="153" y="355"/>
                </a:lnTo>
                <a:lnTo>
                  <a:pt x="85" y="338"/>
                </a:lnTo>
                <a:lnTo>
                  <a:pt x="51" y="304"/>
                </a:lnTo>
                <a:lnTo>
                  <a:pt x="17" y="304"/>
                </a:lnTo>
                <a:lnTo>
                  <a:pt x="0" y="287"/>
                </a:lnTo>
                <a:lnTo>
                  <a:pt x="0" y="270"/>
                </a:lnTo>
                <a:lnTo>
                  <a:pt x="17" y="270"/>
                </a:lnTo>
                <a:lnTo>
                  <a:pt x="51" y="253"/>
                </a:lnTo>
                <a:lnTo>
                  <a:pt x="102" y="253"/>
                </a:lnTo>
                <a:lnTo>
                  <a:pt x="187" y="236"/>
                </a:lnTo>
                <a:lnTo>
                  <a:pt x="237" y="236"/>
                </a:lnTo>
                <a:lnTo>
                  <a:pt x="288" y="219"/>
                </a:lnTo>
                <a:lnTo>
                  <a:pt x="356" y="203"/>
                </a:lnTo>
                <a:lnTo>
                  <a:pt x="424" y="186"/>
                </a:lnTo>
                <a:lnTo>
                  <a:pt x="509" y="169"/>
                </a:lnTo>
                <a:lnTo>
                  <a:pt x="610" y="152"/>
                </a:lnTo>
                <a:lnTo>
                  <a:pt x="712" y="135"/>
                </a:lnTo>
                <a:lnTo>
                  <a:pt x="830" y="1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42"/>
          <p:cNvSpPr/>
          <p:nvPr/>
        </p:nvSpPr>
        <p:spPr>
          <a:xfrm>
            <a:off x="5465880" y="2776680"/>
            <a:ext cx="752400" cy="257040"/>
          </a:xfrm>
          <a:custGeom>
            <a:avLst/>
            <a:gdLst/>
            <a:ahLst/>
            <a:rect l="l" t="t" r="r" b="b"/>
            <a:pathLst>
              <a:path w="1186" h="406">
                <a:moveTo>
                  <a:pt x="509" y="152"/>
                </a:moveTo>
                <a:lnTo>
                  <a:pt x="644" y="119"/>
                </a:lnTo>
                <a:lnTo>
                  <a:pt x="746" y="85"/>
                </a:lnTo>
                <a:lnTo>
                  <a:pt x="847" y="68"/>
                </a:lnTo>
                <a:lnTo>
                  <a:pt x="915" y="34"/>
                </a:lnTo>
                <a:lnTo>
                  <a:pt x="983" y="17"/>
                </a:lnTo>
                <a:lnTo>
                  <a:pt x="1034" y="17"/>
                </a:lnTo>
                <a:lnTo>
                  <a:pt x="1085" y="0"/>
                </a:lnTo>
                <a:lnTo>
                  <a:pt x="1102" y="0"/>
                </a:lnTo>
                <a:lnTo>
                  <a:pt x="1152" y="0"/>
                </a:lnTo>
                <a:lnTo>
                  <a:pt x="1186" y="34"/>
                </a:lnTo>
                <a:lnTo>
                  <a:pt x="1186" y="68"/>
                </a:lnTo>
                <a:lnTo>
                  <a:pt x="1186" y="102"/>
                </a:lnTo>
                <a:lnTo>
                  <a:pt x="1169" y="119"/>
                </a:lnTo>
                <a:lnTo>
                  <a:pt x="1152" y="136"/>
                </a:lnTo>
                <a:lnTo>
                  <a:pt x="1135" y="152"/>
                </a:lnTo>
                <a:lnTo>
                  <a:pt x="1102" y="169"/>
                </a:lnTo>
                <a:lnTo>
                  <a:pt x="1051" y="186"/>
                </a:lnTo>
                <a:lnTo>
                  <a:pt x="1000" y="203"/>
                </a:lnTo>
                <a:lnTo>
                  <a:pt x="932" y="220"/>
                </a:lnTo>
                <a:lnTo>
                  <a:pt x="864" y="237"/>
                </a:lnTo>
                <a:lnTo>
                  <a:pt x="712" y="288"/>
                </a:lnTo>
                <a:lnTo>
                  <a:pt x="593" y="321"/>
                </a:lnTo>
                <a:lnTo>
                  <a:pt x="475" y="338"/>
                </a:lnTo>
                <a:lnTo>
                  <a:pt x="390" y="355"/>
                </a:lnTo>
                <a:lnTo>
                  <a:pt x="305" y="372"/>
                </a:lnTo>
                <a:lnTo>
                  <a:pt x="237" y="389"/>
                </a:lnTo>
                <a:lnTo>
                  <a:pt x="204" y="389"/>
                </a:lnTo>
                <a:lnTo>
                  <a:pt x="170" y="406"/>
                </a:lnTo>
                <a:lnTo>
                  <a:pt x="136" y="389"/>
                </a:lnTo>
                <a:lnTo>
                  <a:pt x="68" y="355"/>
                </a:lnTo>
                <a:lnTo>
                  <a:pt x="34" y="338"/>
                </a:lnTo>
                <a:lnTo>
                  <a:pt x="17" y="338"/>
                </a:lnTo>
                <a:lnTo>
                  <a:pt x="0" y="321"/>
                </a:lnTo>
                <a:lnTo>
                  <a:pt x="0" y="304"/>
                </a:lnTo>
                <a:lnTo>
                  <a:pt x="34" y="288"/>
                </a:lnTo>
                <a:lnTo>
                  <a:pt x="68" y="271"/>
                </a:lnTo>
                <a:lnTo>
                  <a:pt x="119" y="254"/>
                </a:lnTo>
                <a:lnTo>
                  <a:pt x="204" y="237"/>
                </a:lnTo>
                <a:lnTo>
                  <a:pt x="288" y="220"/>
                </a:lnTo>
                <a:lnTo>
                  <a:pt x="390" y="186"/>
                </a:lnTo>
                <a:lnTo>
                  <a:pt x="509" y="1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44"/>
          <p:cNvSpPr/>
          <p:nvPr/>
        </p:nvSpPr>
        <p:spPr>
          <a:xfrm>
            <a:off x="5745240" y="3119400"/>
            <a:ext cx="473040" cy="827280"/>
          </a:xfrm>
          <a:custGeom>
            <a:avLst/>
            <a:gdLst/>
            <a:ahLst/>
            <a:rect l="l" t="t" r="r" b="b"/>
            <a:pathLst>
              <a:path w="745" h="1301">
                <a:moveTo>
                  <a:pt x="661" y="101"/>
                </a:moveTo>
                <a:lnTo>
                  <a:pt x="694" y="135"/>
                </a:lnTo>
                <a:lnTo>
                  <a:pt x="728" y="169"/>
                </a:lnTo>
                <a:lnTo>
                  <a:pt x="745" y="186"/>
                </a:lnTo>
                <a:lnTo>
                  <a:pt x="745" y="203"/>
                </a:lnTo>
                <a:lnTo>
                  <a:pt x="728" y="237"/>
                </a:lnTo>
                <a:lnTo>
                  <a:pt x="711" y="253"/>
                </a:lnTo>
                <a:lnTo>
                  <a:pt x="694" y="287"/>
                </a:lnTo>
                <a:lnTo>
                  <a:pt x="677" y="321"/>
                </a:lnTo>
                <a:lnTo>
                  <a:pt x="677" y="338"/>
                </a:lnTo>
                <a:lnTo>
                  <a:pt x="661" y="372"/>
                </a:lnTo>
                <a:lnTo>
                  <a:pt x="661" y="406"/>
                </a:lnTo>
                <a:lnTo>
                  <a:pt x="644" y="439"/>
                </a:lnTo>
                <a:lnTo>
                  <a:pt x="627" y="490"/>
                </a:lnTo>
                <a:lnTo>
                  <a:pt x="610" y="558"/>
                </a:lnTo>
                <a:lnTo>
                  <a:pt x="593" y="625"/>
                </a:lnTo>
                <a:lnTo>
                  <a:pt x="576" y="710"/>
                </a:lnTo>
                <a:lnTo>
                  <a:pt x="525" y="879"/>
                </a:lnTo>
                <a:lnTo>
                  <a:pt x="474" y="1014"/>
                </a:lnTo>
                <a:lnTo>
                  <a:pt x="457" y="1064"/>
                </a:lnTo>
                <a:lnTo>
                  <a:pt x="423" y="1115"/>
                </a:lnTo>
                <a:lnTo>
                  <a:pt x="406" y="1166"/>
                </a:lnTo>
                <a:lnTo>
                  <a:pt x="389" y="1200"/>
                </a:lnTo>
                <a:lnTo>
                  <a:pt x="339" y="1250"/>
                </a:lnTo>
                <a:lnTo>
                  <a:pt x="288" y="1284"/>
                </a:lnTo>
                <a:lnTo>
                  <a:pt x="254" y="1301"/>
                </a:lnTo>
                <a:lnTo>
                  <a:pt x="220" y="1301"/>
                </a:lnTo>
                <a:lnTo>
                  <a:pt x="203" y="1301"/>
                </a:lnTo>
                <a:lnTo>
                  <a:pt x="186" y="1284"/>
                </a:lnTo>
                <a:lnTo>
                  <a:pt x="186" y="1267"/>
                </a:lnTo>
                <a:lnTo>
                  <a:pt x="186" y="1217"/>
                </a:lnTo>
                <a:lnTo>
                  <a:pt x="186" y="1183"/>
                </a:lnTo>
                <a:lnTo>
                  <a:pt x="152" y="1149"/>
                </a:lnTo>
                <a:lnTo>
                  <a:pt x="135" y="1098"/>
                </a:lnTo>
                <a:lnTo>
                  <a:pt x="85" y="1048"/>
                </a:lnTo>
                <a:lnTo>
                  <a:pt x="34" y="997"/>
                </a:lnTo>
                <a:lnTo>
                  <a:pt x="0" y="946"/>
                </a:lnTo>
                <a:lnTo>
                  <a:pt x="0" y="929"/>
                </a:lnTo>
                <a:lnTo>
                  <a:pt x="0" y="912"/>
                </a:lnTo>
                <a:lnTo>
                  <a:pt x="17" y="895"/>
                </a:lnTo>
                <a:lnTo>
                  <a:pt x="34" y="912"/>
                </a:lnTo>
                <a:lnTo>
                  <a:pt x="85" y="929"/>
                </a:lnTo>
                <a:lnTo>
                  <a:pt x="135" y="946"/>
                </a:lnTo>
                <a:lnTo>
                  <a:pt x="186" y="963"/>
                </a:lnTo>
                <a:lnTo>
                  <a:pt x="237" y="980"/>
                </a:lnTo>
                <a:lnTo>
                  <a:pt x="271" y="980"/>
                </a:lnTo>
                <a:lnTo>
                  <a:pt x="288" y="963"/>
                </a:lnTo>
                <a:lnTo>
                  <a:pt x="305" y="946"/>
                </a:lnTo>
                <a:lnTo>
                  <a:pt x="339" y="895"/>
                </a:lnTo>
                <a:lnTo>
                  <a:pt x="373" y="845"/>
                </a:lnTo>
                <a:lnTo>
                  <a:pt x="389" y="760"/>
                </a:lnTo>
                <a:lnTo>
                  <a:pt x="440" y="574"/>
                </a:lnTo>
                <a:lnTo>
                  <a:pt x="491" y="389"/>
                </a:lnTo>
                <a:lnTo>
                  <a:pt x="491" y="304"/>
                </a:lnTo>
                <a:lnTo>
                  <a:pt x="491" y="237"/>
                </a:lnTo>
                <a:lnTo>
                  <a:pt x="474" y="186"/>
                </a:lnTo>
                <a:lnTo>
                  <a:pt x="457" y="152"/>
                </a:lnTo>
                <a:lnTo>
                  <a:pt x="423" y="135"/>
                </a:lnTo>
                <a:lnTo>
                  <a:pt x="356" y="135"/>
                </a:lnTo>
                <a:lnTo>
                  <a:pt x="271" y="118"/>
                </a:lnTo>
                <a:lnTo>
                  <a:pt x="169" y="118"/>
                </a:lnTo>
                <a:lnTo>
                  <a:pt x="169" y="17"/>
                </a:lnTo>
                <a:lnTo>
                  <a:pt x="203" y="17"/>
                </a:lnTo>
                <a:lnTo>
                  <a:pt x="254" y="17"/>
                </a:lnTo>
                <a:lnTo>
                  <a:pt x="339" y="17"/>
                </a:lnTo>
                <a:lnTo>
                  <a:pt x="389" y="34"/>
                </a:lnTo>
                <a:lnTo>
                  <a:pt x="423" y="34"/>
                </a:lnTo>
                <a:lnTo>
                  <a:pt x="457" y="17"/>
                </a:lnTo>
                <a:lnTo>
                  <a:pt x="491" y="17"/>
                </a:lnTo>
                <a:lnTo>
                  <a:pt x="525" y="0"/>
                </a:lnTo>
                <a:lnTo>
                  <a:pt x="559" y="17"/>
                </a:lnTo>
                <a:lnTo>
                  <a:pt x="576" y="17"/>
                </a:lnTo>
                <a:lnTo>
                  <a:pt x="610" y="51"/>
                </a:lnTo>
                <a:lnTo>
                  <a:pt x="644" y="68"/>
                </a:lnTo>
                <a:lnTo>
                  <a:pt x="661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45"/>
          <p:cNvSpPr/>
          <p:nvPr/>
        </p:nvSpPr>
        <p:spPr>
          <a:xfrm>
            <a:off x="6443640" y="2916360"/>
            <a:ext cx="571680" cy="191880"/>
          </a:xfrm>
          <a:custGeom>
            <a:avLst/>
            <a:gdLst/>
            <a:ahLst/>
            <a:rect l="l" t="t" r="r" b="b"/>
            <a:pathLst>
              <a:path w="898" h="304">
                <a:moveTo>
                  <a:pt x="542" y="237"/>
                </a:moveTo>
                <a:lnTo>
                  <a:pt x="474" y="253"/>
                </a:lnTo>
                <a:lnTo>
                  <a:pt x="407" y="270"/>
                </a:lnTo>
                <a:lnTo>
                  <a:pt x="339" y="287"/>
                </a:lnTo>
                <a:lnTo>
                  <a:pt x="288" y="287"/>
                </a:lnTo>
                <a:lnTo>
                  <a:pt x="237" y="304"/>
                </a:lnTo>
                <a:lnTo>
                  <a:pt x="203" y="304"/>
                </a:lnTo>
                <a:lnTo>
                  <a:pt x="186" y="304"/>
                </a:lnTo>
                <a:lnTo>
                  <a:pt x="153" y="304"/>
                </a:lnTo>
                <a:lnTo>
                  <a:pt x="85" y="304"/>
                </a:lnTo>
                <a:lnTo>
                  <a:pt x="0" y="304"/>
                </a:lnTo>
                <a:lnTo>
                  <a:pt x="0" y="203"/>
                </a:lnTo>
                <a:lnTo>
                  <a:pt x="34" y="203"/>
                </a:lnTo>
                <a:lnTo>
                  <a:pt x="68" y="186"/>
                </a:lnTo>
                <a:lnTo>
                  <a:pt x="119" y="186"/>
                </a:lnTo>
                <a:lnTo>
                  <a:pt x="169" y="169"/>
                </a:lnTo>
                <a:lnTo>
                  <a:pt x="220" y="152"/>
                </a:lnTo>
                <a:lnTo>
                  <a:pt x="305" y="135"/>
                </a:lnTo>
                <a:lnTo>
                  <a:pt x="373" y="101"/>
                </a:lnTo>
                <a:lnTo>
                  <a:pt x="457" y="84"/>
                </a:lnTo>
                <a:lnTo>
                  <a:pt x="542" y="51"/>
                </a:lnTo>
                <a:lnTo>
                  <a:pt x="610" y="34"/>
                </a:lnTo>
                <a:lnTo>
                  <a:pt x="661" y="17"/>
                </a:lnTo>
                <a:lnTo>
                  <a:pt x="712" y="17"/>
                </a:lnTo>
                <a:lnTo>
                  <a:pt x="762" y="0"/>
                </a:lnTo>
                <a:lnTo>
                  <a:pt x="796" y="0"/>
                </a:lnTo>
                <a:lnTo>
                  <a:pt x="830" y="0"/>
                </a:lnTo>
                <a:lnTo>
                  <a:pt x="847" y="17"/>
                </a:lnTo>
                <a:lnTo>
                  <a:pt x="864" y="34"/>
                </a:lnTo>
                <a:lnTo>
                  <a:pt x="881" y="51"/>
                </a:lnTo>
                <a:lnTo>
                  <a:pt x="898" y="101"/>
                </a:lnTo>
                <a:lnTo>
                  <a:pt x="881" y="118"/>
                </a:lnTo>
                <a:lnTo>
                  <a:pt x="847" y="135"/>
                </a:lnTo>
                <a:lnTo>
                  <a:pt x="813" y="152"/>
                </a:lnTo>
                <a:lnTo>
                  <a:pt x="762" y="169"/>
                </a:lnTo>
                <a:lnTo>
                  <a:pt x="695" y="186"/>
                </a:lnTo>
                <a:lnTo>
                  <a:pt x="627" y="203"/>
                </a:lnTo>
                <a:lnTo>
                  <a:pt x="542" y="23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43"/>
          <p:cNvSpPr/>
          <p:nvPr/>
        </p:nvSpPr>
        <p:spPr>
          <a:xfrm>
            <a:off x="5369040" y="2916360"/>
            <a:ext cx="601560" cy="922320"/>
          </a:xfrm>
          <a:custGeom>
            <a:avLst/>
            <a:gdLst/>
            <a:ahLst/>
            <a:rect l="l" t="t" r="r" b="b"/>
            <a:pathLst>
              <a:path w="949" h="1453">
                <a:moveTo>
                  <a:pt x="542" y="963"/>
                </a:moveTo>
                <a:lnTo>
                  <a:pt x="457" y="1098"/>
                </a:lnTo>
                <a:lnTo>
                  <a:pt x="373" y="1200"/>
                </a:lnTo>
                <a:lnTo>
                  <a:pt x="288" y="1284"/>
                </a:lnTo>
                <a:lnTo>
                  <a:pt x="203" y="1352"/>
                </a:lnTo>
                <a:lnTo>
                  <a:pt x="118" y="1402"/>
                </a:lnTo>
                <a:lnTo>
                  <a:pt x="68" y="1436"/>
                </a:lnTo>
                <a:lnTo>
                  <a:pt x="17" y="1453"/>
                </a:lnTo>
                <a:lnTo>
                  <a:pt x="0" y="1453"/>
                </a:lnTo>
                <a:lnTo>
                  <a:pt x="0" y="1419"/>
                </a:lnTo>
                <a:lnTo>
                  <a:pt x="34" y="1385"/>
                </a:lnTo>
                <a:lnTo>
                  <a:pt x="85" y="1318"/>
                </a:lnTo>
                <a:lnTo>
                  <a:pt x="169" y="1233"/>
                </a:lnTo>
                <a:lnTo>
                  <a:pt x="220" y="1183"/>
                </a:lnTo>
                <a:lnTo>
                  <a:pt x="271" y="1115"/>
                </a:lnTo>
                <a:lnTo>
                  <a:pt x="305" y="1048"/>
                </a:lnTo>
                <a:lnTo>
                  <a:pt x="356" y="980"/>
                </a:lnTo>
                <a:lnTo>
                  <a:pt x="406" y="895"/>
                </a:lnTo>
                <a:lnTo>
                  <a:pt x="457" y="811"/>
                </a:lnTo>
                <a:lnTo>
                  <a:pt x="508" y="710"/>
                </a:lnTo>
                <a:lnTo>
                  <a:pt x="559" y="608"/>
                </a:lnTo>
                <a:lnTo>
                  <a:pt x="610" y="507"/>
                </a:lnTo>
                <a:lnTo>
                  <a:pt x="661" y="406"/>
                </a:lnTo>
                <a:lnTo>
                  <a:pt x="694" y="321"/>
                </a:lnTo>
                <a:lnTo>
                  <a:pt x="711" y="237"/>
                </a:lnTo>
                <a:lnTo>
                  <a:pt x="745" y="169"/>
                </a:lnTo>
                <a:lnTo>
                  <a:pt x="762" y="101"/>
                </a:lnTo>
                <a:lnTo>
                  <a:pt x="762" y="0"/>
                </a:lnTo>
                <a:lnTo>
                  <a:pt x="847" y="68"/>
                </a:lnTo>
                <a:lnTo>
                  <a:pt x="898" y="118"/>
                </a:lnTo>
                <a:lnTo>
                  <a:pt x="932" y="152"/>
                </a:lnTo>
                <a:lnTo>
                  <a:pt x="949" y="186"/>
                </a:lnTo>
                <a:lnTo>
                  <a:pt x="949" y="237"/>
                </a:lnTo>
                <a:lnTo>
                  <a:pt x="915" y="287"/>
                </a:lnTo>
                <a:lnTo>
                  <a:pt x="881" y="372"/>
                </a:lnTo>
                <a:lnTo>
                  <a:pt x="847" y="473"/>
                </a:lnTo>
                <a:lnTo>
                  <a:pt x="796" y="574"/>
                </a:lnTo>
                <a:lnTo>
                  <a:pt x="728" y="693"/>
                </a:lnTo>
                <a:lnTo>
                  <a:pt x="644" y="828"/>
                </a:lnTo>
                <a:lnTo>
                  <a:pt x="542" y="96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9"/>
          <p:cNvSpPr/>
          <p:nvPr/>
        </p:nvSpPr>
        <p:spPr>
          <a:xfrm>
            <a:off x="6154560" y="3056040"/>
            <a:ext cx="613080" cy="933480"/>
          </a:xfrm>
          <a:custGeom>
            <a:avLst/>
            <a:gdLst/>
            <a:ahLst/>
            <a:rect l="l" t="t" r="r" b="b"/>
            <a:pathLst>
              <a:path w="965" h="1470">
                <a:moveTo>
                  <a:pt x="626" y="1064"/>
                </a:moveTo>
                <a:lnTo>
                  <a:pt x="542" y="1149"/>
                </a:lnTo>
                <a:lnTo>
                  <a:pt x="457" y="1233"/>
                </a:lnTo>
                <a:lnTo>
                  <a:pt x="355" y="1301"/>
                </a:lnTo>
                <a:lnTo>
                  <a:pt x="254" y="1368"/>
                </a:lnTo>
                <a:lnTo>
                  <a:pt x="152" y="1419"/>
                </a:lnTo>
                <a:lnTo>
                  <a:pt x="84" y="1470"/>
                </a:lnTo>
                <a:lnTo>
                  <a:pt x="33" y="1470"/>
                </a:lnTo>
                <a:lnTo>
                  <a:pt x="17" y="1470"/>
                </a:lnTo>
                <a:lnTo>
                  <a:pt x="0" y="1470"/>
                </a:lnTo>
                <a:lnTo>
                  <a:pt x="17" y="1453"/>
                </a:lnTo>
                <a:lnTo>
                  <a:pt x="33" y="1436"/>
                </a:lnTo>
                <a:lnTo>
                  <a:pt x="50" y="1402"/>
                </a:lnTo>
                <a:lnTo>
                  <a:pt x="84" y="1368"/>
                </a:lnTo>
                <a:lnTo>
                  <a:pt x="118" y="1334"/>
                </a:lnTo>
                <a:lnTo>
                  <a:pt x="169" y="1301"/>
                </a:lnTo>
                <a:lnTo>
                  <a:pt x="220" y="1250"/>
                </a:lnTo>
                <a:lnTo>
                  <a:pt x="321" y="1165"/>
                </a:lnTo>
                <a:lnTo>
                  <a:pt x="406" y="1064"/>
                </a:lnTo>
                <a:lnTo>
                  <a:pt x="491" y="980"/>
                </a:lnTo>
                <a:lnTo>
                  <a:pt x="542" y="878"/>
                </a:lnTo>
                <a:lnTo>
                  <a:pt x="626" y="709"/>
                </a:lnTo>
                <a:lnTo>
                  <a:pt x="694" y="507"/>
                </a:lnTo>
                <a:lnTo>
                  <a:pt x="711" y="405"/>
                </a:lnTo>
                <a:lnTo>
                  <a:pt x="728" y="287"/>
                </a:lnTo>
                <a:lnTo>
                  <a:pt x="745" y="152"/>
                </a:lnTo>
                <a:lnTo>
                  <a:pt x="745" y="0"/>
                </a:lnTo>
                <a:lnTo>
                  <a:pt x="830" y="50"/>
                </a:lnTo>
                <a:lnTo>
                  <a:pt x="898" y="101"/>
                </a:lnTo>
                <a:lnTo>
                  <a:pt x="948" y="135"/>
                </a:lnTo>
                <a:lnTo>
                  <a:pt x="965" y="169"/>
                </a:lnTo>
                <a:lnTo>
                  <a:pt x="965" y="186"/>
                </a:lnTo>
                <a:lnTo>
                  <a:pt x="965" y="202"/>
                </a:lnTo>
                <a:lnTo>
                  <a:pt x="948" y="236"/>
                </a:lnTo>
                <a:lnTo>
                  <a:pt x="948" y="287"/>
                </a:lnTo>
                <a:lnTo>
                  <a:pt x="931" y="338"/>
                </a:lnTo>
                <a:lnTo>
                  <a:pt x="914" y="388"/>
                </a:lnTo>
                <a:lnTo>
                  <a:pt x="898" y="456"/>
                </a:lnTo>
                <a:lnTo>
                  <a:pt x="881" y="540"/>
                </a:lnTo>
                <a:lnTo>
                  <a:pt x="830" y="709"/>
                </a:lnTo>
                <a:lnTo>
                  <a:pt x="762" y="844"/>
                </a:lnTo>
                <a:lnTo>
                  <a:pt x="694" y="963"/>
                </a:lnTo>
                <a:lnTo>
                  <a:pt x="626" y="106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40"/>
          <p:cNvSpPr/>
          <p:nvPr/>
        </p:nvSpPr>
        <p:spPr>
          <a:xfrm>
            <a:off x="6627960" y="3409920"/>
            <a:ext cx="741240" cy="600120"/>
          </a:xfrm>
          <a:custGeom>
            <a:avLst/>
            <a:gdLst/>
            <a:ahLst/>
            <a:rect l="l" t="t" r="r" b="b"/>
            <a:pathLst>
              <a:path w="1169" h="946">
                <a:moveTo>
                  <a:pt x="1169" y="896"/>
                </a:moveTo>
                <a:lnTo>
                  <a:pt x="1152" y="896"/>
                </a:lnTo>
                <a:lnTo>
                  <a:pt x="1101" y="913"/>
                </a:lnTo>
                <a:lnTo>
                  <a:pt x="1034" y="929"/>
                </a:lnTo>
                <a:lnTo>
                  <a:pt x="949" y="929"/>
                </a:lnTo>
                <a:lnTo>
                  <a:pt x="830" y="946"/>
                </a:lnTo>
                <a:lnTo>
                  <a:pt x="746" y="946"/>
                </a:lnTo>
                <a:lnTo>
                  <a:pt x="678" y="946"/>
                </a:lnTo>
                <a:lnTo>
                  <a:pt x="627" y="929"/>
                </a:lnTo>
                <a:lnTo>
                  <a:pt x="593" y="913"/>
                </a:lnTo>
                <a:lnTo>
                  <a:pt x="542" y="879"/>
                </a:lnTo>
                <a:lnTo>
                  <a:pt x="508" y="845"/>
                </a:lnTo>
                <a:lnTo>
                  <a:pt x="457" y="761"/>
                </a:lnTo>
                <a:lnTo>
                  <a:pt x="424" y="727"/>
                </a:lnTo>
                <a:lnTo>
                  <a:pt x="390" y="676"/>
                </a:lnTo>
                <a:lnTo>
                  <a:pt x="339" y="608"/>
                </a:lnTo>
                <a:lnTo>
                  <a:pt x="288" y="524"/>
                </a:lnTo>
                <a:lnTo>
                  <a:pt x="220" y="423"/>
                </a:lnTo>
                <a:lnTo>
                  <a:pt x="153" y="321"/>
                </a:lnTo>
                <a:lnTo>
                  <a:pt x="85" y="203"/>
                </a:lnTo>
                <a:lnTo>
                  <a:pt x="0" y="68"/>
                </a:lnTo>
                <a:lnTo>
                  <a:pt x="68" y="0"/>
                </a:lnTo>
                <a:lnTo>
                  <a:pt x="169" y="135"/>
                </a:lnTo>
                <a:lnTo>
                  <a:pt x="271" y="254"/>
                </a:lnTo>
                <a:lnTo>
                  <a:pt x="356" y="355"/>
                </a:lnTo>
                <a:lnTo>
                  <a:pt x="457" y="439"/>
                </a:lnTo>
                <a:lnTo>
                  <a:pt x="542" y="507"/>
                </a:lnTo>
                <a:lnTo>
                  <a:pt x="644" y="575"/>
                </a:lnTo>
                <a:lnTo>
                  <a:pt x="762" y="659"/>
                </a:lnTo>
                <a:lnTo>
                  <a:pt x="898" y="727"/>
                </a:lnTo>
                <a:lnTo>
                  <a:pt x="949" y="761"/>
                </a:lnTo>
                <a:lnTo>
                  <a:pt x="1017" y="794"/>
                </a:lnTo>
                <a:lnTo>
                  <a:pt x="1050" y="811"/>
                </a:lnTo>
                <a:lnTo>
                  <a:pt x="1101" y="845"/>
                </a:lnTo>
                <a:lnTo>
                  <a:pt x="1118" y="862"/>
                </a:lnTo>
                <a:lnTo>
                  <a:pt x="1152" y="879"/>
                </a:lnTo>
                <a:lnTo>
                  <a:pt x="1169" y="89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32"/>
          <p:cNvSpPr/>
          <p:nvPr/>
        </p:nvSpPr>
        <p:spPr>
          <a:xfrm>
            <a:off x="6411960" y="2301840"/>
            <a:ext cx="258840" cy="257040"/>
          </a:xfrm>
          <a:custGeom>
            <a:avLst/>
            <a:gdLst/>
            <a:ahLst/>
            <a:rect l="l" t="t" r="r" b="b"/>
            <a:pathLst>
              <a:path w="407" h="406">
                <a:moveTo>
                  <a:pt x="322" y="406"/>
                </a:moveTo>
                <a:lnTo>
                  <a:pt x="305" y="389"/>
                </a:lnTo>
                <a:lnTo>
                  <a:pt x="271" y="355"/>
                </a:lnTo>
                <a:lnTo>
                  <a:pt x="221" y="304"/>
                </a:lnTo>
                <a:lnTo>
                  <a:pt x="153" y="237"/>
                </a:lnTo>
                <a:lnTo>
                  <a:pt x="85" y="152"/>
                </a:lnTo>
                <a:lnTo>
                  <a:pt x="34" y="85"/>
                </a:lnTo>
                <a:lnTo>
                  <a:pt x="0" y="51"/>
                </a:lnTo>
                <a:lnTo>
                  <a:pt x="0" y="17"/>
                </a:lnTo>
                <a:lnTo>
                  <a:pt x="17" y="0"/>
                </a:lnTo>
                <a:lnTo>
                  <a:pt x="34" y="0"/>
                </a:lnTo>
                <a:lnTo>
                  <a:pt x="85" y="0"/>
                </a:lnTo>
                <a:lnTo>
                  <a:pt x="136" y="0"/>
                </a:lnTo>
                <a:lnTo>
                  <a:pt x="170" y="0"/>
                </a:lnTo>
                <a:lnTo>
                  <a:pt x="221" y="17"/>
                </a:lnTo>
                <a:lnTo>
                  <a:pt x="271" y="51"/>
                </a:lnTo>
                <a:lnTo>
                  <a:pt x="305" y="85"/>
                </a:lnTo>
                <a:lnTo>
                  <a:pt x="339" y="101"/>
                </a:lnTo>
                <a:lnTo>
                  <a:pt x="390" y="186"/>
                </a:lnTo>
                <a:lnTo>
                  <a:pt x="407" y="220"/>
                </a:lnTo>
                <a:lnTo>
                  <a:pt x="407" y="270"/>
                </a:lnTo>
                <a:lnTo>
                  <a:pt x="407" y="304"/>
                </a:lnTo>
                <a:lnTo>
                  <a:pt x="390" y="338"/>
                </a:lnTo>
                <a:lnTo>
                  <a:pt x="373" y="372"/>
                </a:lnTo>
                <a:lnTo>
                  <a:pt x="356" y="389"/>
                </a:lnTo>
                <a:lnTo>
                  <a:pt x="339" y="406"/>
                </a:lnTo>
                <a:lnTo>
                  <a:pt x="322" y="40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1414440" y="2027160"/>
            <a:ext cx="58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7" name="TextBox 57"/>
          <p:cNvSpPr/>
          <p:nvPr/>
        </p:nvSpPr>
        <p:spPr>
          <a:xfrm>
            <a:off x="4619520" y="49752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左窄右宽，最后一笔横稍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23176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友谊  情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34"/>
          <p:cNvSpPr/>
          <p:nvPr/>
        </p:nvSpPr>
        <p:spPr>
          <a:xfrm>
            <a:off x="857160" y="49752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和小明的友谊地久天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7"/>
          <p:cNvSpPr/>
          <p:nvPr/>
        </p:nvSpPr>
        <p:spPr>
          <a:xfrm>
            <a:off x="5346360" y="2216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30"/>
          <p:cNvSpPr/>
          <p:nvPr/>
        </p:nvSpPr>
        <p:spPr>
          <a:xfrm>
            <a:off x="5346720" y="2901960"/>
            <a:ext cx="731880" cy="1008000"/>
          </a:xfrm>
          <a:custGeom>
            <a:avLst/>
            <a:gdLst/>
            <a:ahLst/>
            <a:rect l="l" t="t" r="r" b="b"/>
            <a:pathLst>
              <a:path w="1152" h="1588">
                <a:moveTo>
                  <a:pt x="898" y="1183"/>
                </a:moveTo>
                <a:lnTo>
                  <a:pt x="779" y="1284"/>
                </a:lnTo>
                <a:lnTo>
                  <a:pt x="695" y="1386"/>
                </a:lnTo>
                <a:lnTo>
                  <a:pt x="644" y="1453"/>
                </a:lnTo>
                <a:lnTo>
                  <a:pt x="610" y="1487"/>
                </a:lnTo>
                <a:lnTo>
                  <a:pt x="610" y="1504"/>
                </a:lnTo>
                <a:lnTo>
                  <a:pt x="593" y="1555"/>
                </a:lnTo>
                <a:lnTo>
                  <a:pt x="576" y="1572"/>
                </a:lnTo>
                <a:lnTo>
                  <a:pt x="559" y="1588"/>
                </a:lnTo>
                <a:lnTo>
                  <a:pt x="542" y="1588"/>
                </a:lnTo>
                <a:lnTo>
                  <a:pt x="525" y="1588"/>
                </a:lnTo>
                <a:lnTo>
                  <a:pt x="508" y="1572"/>
                </a:lnTo>
                <a:lnTo>
                  <a:pt x="491" y="1538"/>
                </a:lnTo>
                <a:lnTo>
                  <a:pt x="474" y="1487"/>
                </a:lnTo>
                <a:lnTo>
                  <a:pt x="457" y="1436"/>
                </a:lnTo>
                <a:lnTo>
                  <a:pt x="457" y="1403"/>
                </a:lnTo>
                <a:lnTo>
                  <a:pt x="440" y="1369"/>
                </a:lnTo>
                <a:lnTo>
                  <a:pt x="440" y="1352"/>
                </a:lnTo>
                <a:lnTo>
                  <a:pt x="457" y="1318"/>
                </a:lnTo>
                <a:lnTo>
                  <a:pt x="474" y="1267"/>
                </a:lnTo>
                <a:lnTo>
                  <a:pt x="491" y="1250"/>
                </a:lnTo>
                <a:lnTo>
                  <a:pt x="491" y="1234"/>
                </a:lnTo>
                <a:lnTo>
                  <a:pt x="491" y="1200"/>
                </a:lnTo>
                <a:lnTo>
                  <a:pt x="508" y="1166"/>
                </a:lnTo>
                <a:lnTo>
                  <a:pt x="508" y="1115"/>
                </a:lnTo>
                <a:lnTo>
                  <a:pt x="525" y="1065"/>
                </a:lnTo>
                <a:lnTo>
                  <a:pt x="525" y="997"/>
                </a:lnTo>
                <a:lnTo>
                  <a:pt x="542" y="929"/>
                </a:lnTo>
                <a:lnTo>
                  <a:pt x="559" y="794"/>
                </a:lnTo>
                <a:lnTo>
                  <a:pt x="576" y="659"/>
                </a:lnTo>
                <a:lnTo>
                  <a:pt x="593" y="558"/>
                </a:lnTo>
                <a:lnTo>
                  <a:pt x="610" y="456"/>
                </a:lnTo>
                <a:lnTo>
                  <a:pt x="610" y="372"/>
                </a:lnTo>
                <a:lnTo>
                  <a:pt x="610" y="321"/>
                </a:lnTo>
                <a:lnTo>
                  <a:pt x="593" y="271"/>
                </a:lnTo>
                <a:lnTo>
                  <a:pt x="593" y="254"/>
                </a:lnTo>
                <a:lnTo>
                  <a:pt x="576" y="254"/>
                </a:lnTo>
                <a:lnTo>
                  <a:pt x="542" y="254"/>
                </a:lnTo>
                <a:lnTo>
                  <a:pt x="474" y="287"/>
                </a:lnTo>
                <a:lnTo>
                  <a:pt x="407" y="321"/>
                </a:lnTo>
                <a:lnTo>
                  <a:pt x="322" y="372"/>
                </a:lnTo>
                <a:lnTo>
                  <a:pt x="271" y="389"/>
                </a:lnTo>
                <a:lnTo>
                  <a:pt x="220" y="406"/>
                </a:lnTo>
                <a:lnTo>
                  <a:pt x="186" y="423"/>
                </a:lnTo>
                <a:lnTo>
                  <a:pt x="169" y="406"/>
                </a:lnTo>
                <a:lnTo>
                  <a:pt x="136" y="406"/>
                </a:lnTo>
                <a:lnTo>
                  <a:pt x="102" y="389"/>
                </a:lnTo>
                <a:lnTo>
                  <a:pt x="85" y="355"/>
                </a:lnTo>
                <a:lnTo>
                  <a:pt x="51" y="338"/>
                </a:lnTo>
                <a:lnTo>
                  <a:pt x="17" y="321"/>
                </a:lnTo>
                <a:lnTo>
                  <a:pt x="0" y="287"/>
                </a:lnTo>
                <a:lnTo>
                  <a:pt x="0" y="271"/>
                </a:lnTo>
                <a:lnTo>
                  <a:pt x="17" y="271"/>
                </a:lnTo>
                <a:lnTo>
                  <a:pt x="51" y="271"/>
                </a:lnTo>
                <a:lnTo>
                  <a:pt x="85" y="254"/>
                </a:lnTo>
                <a:lnTo>
                  <a:pt x="119" y="237"/>
                </a:lnTo>
                <a:lnTo>
                  <a:pt x="186" y="220"/>
                </a:lnTo>
                <a:lnTo>
                  <a:pt x="254" y="203"/>
                </a:lnTo>
                <a:lnTo>
                  <a:pt x="339" y="186"/>
                </a:lnTo>
                <a:lnTo>
                  <a:pt x="424" y="152"/>
                </a:lnTo>
                <a:lnTo>
                  <a:pt x="491" y="118"/>
                </a:lnTo>
                <a:lnTo>
                  <a:pt x="559" y="85"/>
                </a:lnTo>
                <a:lnTo>
                  <a:pt x="593" y="68"/>
                </a:lnTo>
                <a:lnTo>
                  <a:pt x="610" y="34"/>
                </a:lnTo>
                <a:lnTo>
                  <a:pt x="644" y="17"/>
                </a:lnTo>
                <a:lnTo>
                  <a:pt x="661" y="0"/>
                </a:lnTo>
                <a:lnTo>
                  <a:pt x="678" y="0"/>
                </a:lnTo>
                <a:lnTo>
                  <a:pt x="712" y="0"/>
                </a:lnTo>
                <a:lnTo>
                  <a:pt x="745" y="17"/>
                </a:lnTo>
                <a:lnTo>
                  <a:pt x="813" y="34"/>
                </a:lnTo>
                <a:lnTo>
                  <a:pt x="847" y="68"/>
                </a:lnTo>
                <a:lnTo>
                  <a:pt x="881" y="85"/>
                </a:lnTo>
                <a:lnTo>
                  <a:pt x="898" y="102"/>
                </a:lnTo>
                <a:lnTo>
                  <a:pt x="898" y="118"/>
                </a:lnTo>
                <a:lnTo>
                  <a:pt x="898" y="152"/>
                </a:lnTo>
                <a:lnTo>
                  <a:pt x="881" y="169"/>
                </a:lnTo>
                <a:lnTo>
                  <a:pt x="847" y="203"/>
                </a:lnTo>
                <a:lnTo>
                  <a:pt x="830" y="254"/>
                </a:lnTo>
                <a:lnTo>
                  <a:pt x="796" y="304"/>
                </a:lnTo>
                <a:lnTo>
                  <a:pt x="779" y="389"/>
                </a:lnTo>
                <a:lnTo>
                  <a:pt x="762" y="490"/>
                </a:lnTo>
                <a:lnTo>
                  <a:pt x="729" y="608"/>
                </a:lnTo>
                <a:lnTo>
                  <a:pt x="712" y="727"/>
                </a:lnTo>
                <a:lnTo>
                  <a:pt x="695" y="946"/>
                </a:lnTo>
                <a:lnTo>
                  <a:pt x="695" y="997"/>
                </a:lnTo>
                <a:lnTo>
                  <a:pt x="678" y="1031"/>
                </a:lnTo>
                <a:lnTo>
                  <a:pt x="678" y="1098"/>
                </a:lnTo>
                <a:lnTo>
                  <a:pt x="678" y="1149"/>
                </a:lnTo>
                <a:lnTo>
                  <a:pt x="695" y="1166"/>
                </a:lnTo>
                <a:lnTo>
                  <a:pt x="712" y="1166"/>
                </a:lnTo>
                <a:lnTo>
                  <a:pt x="729" y="1149"/>
                </a:lnTo>
                <a:lnTo>
                  <a:pt x="745" y="1132"/>
                </a:lnTo>
                <a:lnTo>
                  <a:pt x="762" y="1115"/>
                </a:lnTo>
                <a:lnTo>
                  <a:pt x="813" y="1082"/>
                </a:lnTo>
                <a:lnTo>
                  <a:pt x="881" y="1031"/>
                </a:lnTo>
                <a:lnTo>
                  <a:pt x="966" y="963"/>
                </a:lnTo>
                <a:lnTo>
                  <a:pt x="1050" y="913"/>
                </a:lnTo>
                <a:lnTo>
                  <a:pt x="1101" y="879"/>
                </a:lnTo>
                <a:lnTo>
                  <a:pt x="1135" y="862"/>
                </a:lnTo>
                <a:lnTo>
                  <a:pt x="1152" y="879"/>
                </a:lnTo>
                <a:lnTo>
                  <a:pt x="1135" y="896"/>
                </a:lnTo>
                <a:lnTo>
                  <a:pt x="1135" y="913"/>
                </a:lnTo>
                <a:lnTo>
                  <a:pt x="1101" y="946"/>
                </a:lnTo>
                <a:lnTo>
                  <a:pt x="1084" y="980"/>
                </a:lnTo>
                <a:lnTo>
                  <a:pt x="1050" y="1014"/>
                </a:lnTo>
                <a:lnTo>
                  <a:pt x="1000" y="1065"/>
                </a:lnTo>
                <a:lnTo>
                  <a:pt x="949" y="1115"/>
                </a:lnTo>
                <a:lnTo>
                  <a:pt x="898" y="118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31"/>
          <p:cNvSpPr/>
          <p:nvPr/>
        </p:nvSpPr>
        <p:spPr>
          <a:xfrm>
            <a:off x="6045120" y="2666880"/>
            <a:ext cx="173160" cy="385920"/>
          </a:xfrm>
          <a:custGeom>
            <a:avLst/>
            <a:gdLst/>
            <a:ahLst/>
            <a:rect l="l" t="t" r="r" b="b"/>
            <a:pathLst>
              <a:path w="271" h="608">
                <a:moveTo>
                  <a:pt x="254" y="287"/>
                </a:moveTo>
                <a:lnTo>
                  <a:pt x="220" y="388"/>
                </a:lnTo>
                <a:lnTo>
                  <a:pt x="187" y="489"/>
                </a:lnTo>
                <a:lnTo>
                  <a:pt x="153" y="540"/>
                </a:lnTo>
                <a:lnTo>
                  <a:pt x="136" y="574"/>
                </a:lnTo>
                <a:lnTo>
                  <a:pt x="102" y="591"/>
                </a:lnTo>
                <a:lnTo>
                  <a:pt x="85" y="608"/>
                </a:lnTo>
                <a:lnTo>
                  <a:pt x="85" y="591"/>
                </a:lnTo>
                <a:lnTo>
                  <a:pt x="68" y="574"/>
                </a:lnTo>
                <a:lnTo>
                  <a:pt x="51" y="557"/>
                </a:lnTo>
                <a:lnTo>
                  <a:pt x="34" y="523"/>
                </a:lnTo>
                <a:lnTo>
                  <a:pt x="17" y="489"/>
                </a:lnTo>
                <a:lnTo>
                  <a:pt x="0" y="456"/>
                </a:lnTo>
                <a:lnTo>
                  <a:pt x="0" y="439"/>
                </a:lnTo>
                <a:lnTo>
                  <a:pt x="0" y="422"/>
                </a:lnTo>
                <a:lnTo>
                  <a:pt x="0" y="405"/>
                </a:lnTo>
                <a:lnTo>
                  <a:pt x="0" y="388"/>
                </a:lnTo>
                <a:lnTo>
                  <a:pt x="17" y="354"/>
                </a:lnTo>
                <a:lnTo>
                  <a:pt x="51" y="321"/>
                </a:lnTo>
                <a:lnTo>
                  <a:pt x="68" y="287"/>
                </a:lnTo>
                <a:lnTo>
                  <a:pt x="85" y="236"/>
                </a:lnTo>
                <a:lnTo>
                  <a:pt x="119" y="185"/>
                </a:lnTo>
                <a:lnTo>
                  <a:pt x="136" y="118"/>
                </a:lnTo>
                <a:lnTo>
                  <a:pt x="153" y="50"/>
                </a:lnTo>
                <a:lnTo>
                  <a:pt x="170" y="16"/>
                </a:lnTo>
                <a:lnTo>
                  <a:pt x="187" y="0"/>
                </a:lnTo>
                <a:lnTo>
                  <a:pt x="204" y="0"/>
                </a:lnTo>
                <a:lnTo>
                  <a:pt x="220" y="16"/>
                </a:lnTo>
                <a:lnTo>
                  <a:pt x="237" y="33"/>
                </a:lnTo>
                <a:lnTo>
                  <a:pt x="254" y="84"/>
                </a:lnTo>
                <a:lnTo>
                  <a:pt x="271" y="185"/>
                </a:lnTo>
                <a:lnTo>
                  <a:pt x="254" y="28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33"/>
          <p:cNvSpPr/>
          <p:nvPr/>
        </p:nvSpPr>
        <p:spPr>
          <a:xfrm>
            <a:off x="6175440" y="2570040"/>
            <a:ext cx="1011240" cy="289080"/>
          </a:xfrm>
          <a:custGeom>
            <a:avLst/>
            <a:gdLst/>
            <a:ahLst/>
            <a:rect l="l" t="t" r="r" b="b"/>
            <a:pathLst>
              <a:path w="1592" h="457">
                <a:moveTo>
                  <a:pt x="457" y="271"/>
                </a:moveTo>
                <a:lnTo>
                  <a:pt x="220" y="305"/>
                </a:lnTo>
                <a:lnTo>
                  <a:pt x="0" y="321"/>
                </a:lnTo>
                <a:lnTo>
                  <a:pt x="0" y="220"/>
                </a:lnTo>
                <a:lnTo>
                  <a:pt x="254" y="169"/>
                </a:lnTo>
                <a:lnTo>
                  <a:pt x="508" y="136"/>
                </a:lnTo>
                <a:lnTo>
                  <a:pt x="745" y="102"/>
                </a:lnTo>
                <a:lnTo>
                  <a:pt x="948" y="51"/>
                </a:lnTo>
                <a:lnTo>
                  <a:pt x="1050" y="51"/>
                </a:lnTo>
                <a:lnTo>
                  <a:pt x="1118" y="34"/>
                </a:lnTo>
                <a:lnTo>
                  <a:pt x="1169" y="17"/>
                </a:lnTo>
                <a:lnTo>
                  <a:pt x="1185" y="0"/>
                </a:lnTo>
                <a:lnTo>
                  <a:pt x="1202" y="0"/>
                </a:lnTo>
                <a:lnTo>
                  <a:pt x="1253" y="0"/>
                </a:lnTo>
                <a:lnTo>
                  <a:pt x="1287" y="0"/>
                </a:lnTo>
                <a:lnTo>
                  <a:pt x="1338" y="17"/>
                </a:lnTo>
                <a:lnTo>
                  <a:pt x="1389" y="51"/>
                </a:lnTo>
                <a:lnTo>
                  <a:pt x="1457" y="102"/>
                </a:lnTo>
                <a:lnTo>
                  <a:pt x="1524" y="153"/>
                </a:lnTo>
                <a:lnTo>
                  <a:pt x="1575" y="186"/>
                </a:lnTo>
                <a:lnTo>
                  <a:pt x="1592" y="220"/>
                </a:lnTo>
                <a:lnTo>
                  <a:pt x="1592" y="237"/>
                </a:lnTo>
                <a:lnTo>
                  <a:pt x="1575" y="254"/>
                </a:lnTo>
                <a:lnTo>
                  <a:pt x="1558" y="254"/>
                </a:lnTo>
                <a:lnTo>
                  <a:pt x="1490" y="271"/>
                </a:lnTo>
                <a:lnTo>
                  <a:pt x="1440" y="271"/>
                </a:lnTo>
                <a:lnTo>
                  <a:pt x="1389" y="305"/>
                </a:lnTo>
                <a:lnTo>
                  <a:pt x="1321" y="321"/>
                </a:lnTo>
                <a:lnTo>
                  <a:pt x="1253" y="372"/>
                </a:lnTo>
                <a:lnTo>
                  <a:pt x="1169" y="423"/>
                </a:lnTo>
                <a:lnTo>
                  <a:pt x="1118" y="440"/>
                </a:lnTo>
                <a:lnTo>
                  <a:pt x="1084" y="457"/>
                </a:lnTo>
                <a:lnTo>
                  <a:pt x="1067" y="440"/>
                </a:lnTo>
                <a:lnTo>
                  <a:pt x="1067" y="423"/>
                </a:lnTo>
                <a:lnTo>
                  <a:pt x="1084" y="389"/>
                </a:lnTo>
                <a:lnTo>
                  <a:pt x="1118" y="355"/>
                </a:lnTo>
                <a:lnTo>
                  <a:pt x="1152" y="305"/>
                </a:lnTo>
                <a:lnTo>
                  <a:pt x="1169" y="254"/>
                </a:lnTo>
                <a:lnTo>
                  <a:pt x="1185" y="220"/>
                </a:lnTo>
                <a:lnTo>
                  <a:pt x="1202" y="186"/>
                </a:lnTo>
                <a:lnTo>
                  <a:pt x="1202" y="169"/>
                </a:lnTo>
                <a:lnTo>
                  <a:pt x="1185" y="169"/>
                </a:lnTo>
                <a:lnTo>
                  <a:pt x="1152" y="169"/>
                </a:lnTo>
                <a:lnTo>
                  <a:pt x="1101" y="169"/>
                </a:lnTo>
                <a:lnTo>
                  <a:pt x="982" y="186"/>
                </a:lnTo>
                <a:lnTo>
                  <a:pt x="931" y="186"/>
                </a:lnTo>
                <a:lnTo>
                  <a:pt x="864" y="203"/>
                </a:lnTo>
                <a:lnTo>
                  <a:pt x="779" y="220"/>
                </a:lnTo>
                <a:lnTo>
                  <a:pt x="677" y="237"/>
                </a:lnTo>
                <a:lnTo>
                  <a:pt x="576" y="254"/>
                </a:lnTo>
                <a:lnTo>
                  <a:pt x="457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34"/>
          <p:cNvSpPr/>
          <p:nvPr/>
        </p:nvSpPr>
        <p:spPr>
          <a:xfrm>
            <a:off x="5657760" y="2430360"/>
            <a:ext cx="312840" cy="225360"/>
          </a:xfrm>
          <a:custGeom>
            <a:avLst/>
            <a:gdLst/>
            <a:ahLst/>
            <a:rect l="l" t="t" r="r" b="b"/>
            <a:pathLst>
              <a:path w="492" h="355">
                <a:moveTo>
                  <a:pt x="0" y="34"/>
                </a:moveTo>
                <a:lnTo>
                  <a:pt x="17" y="17"/>
                </a:lnTo>
                <a:lnTo>
                  <a:pt x="51" y="17"/>
                </a:lnTo>
                <a:lnTo>
                  <a:pt x="85" y="0"/>
                </a:lnTo>
                <a:lnTo>
                  <a:pt x="153" y="0"/>
                </a:lnTo>
                <a:lnTo>
                  <a:pt x="221" y="0"/>
                </a:lnTo>
                <a:lnTo>
                  <a:pt x="271" y="17"/>
                </a:lnTo>
                <a:lnTo>
                  <a:pt x="322" y="34"/>
                </a:lnTo>
                <a:lnTo>
                  <a:pt x="356" y="50"/>
                </a:lnTo>
                <a:lnTo>
                  <a:pt x="407" y="84"/>
                </a:lnTo>
                <a:lnTo>
                  <a:pt x="441" y="118"/>
                </a:lnTo>
                <a:lnTo>
                  <a:pt x="458" y="135"/>
                </a:lnTo>
                <a:lnTo>
                  <a:pt x="475" y="169"/>
                </a:lnTo>
                <a:lnTo>
                  <a:pt x="492" y="236"/>
                </a:lnTo>
                <a:lnTo>
                  <a:pt x="475" y="304"/>
                </a:lnTo>
                <a:lnTo>
                  <a:pt x="458" y="321"/>
                </a:lnTo>
                <a:lnTo>
                  <a:pt x="458" y="338"/>
                </a:lnTo>
                <a:lnTo>
                  <a:pt x="441" y="355"/>
                </a:lnTo>
                <a:lnTo>
                  <a:pt x="407" y="355"/>
                </a:lnTo>
                <a:lnTo>
                  <a:pt x="390" y="355"/>
                </a:lnTo>
                <a:lnTo>
                  <a:pt x="356" y="338"/>
                </a:lnTo>
                <a:lnTo>
                  <a:pt x="305" y="304"/>
                </a:lnTo>
                <a:lnTo>
                  <a:pt x="254" y="270"/>
                </a:lnTo>
                <a:lnTo>
                  <a:pt x="187" y="219"/>
                </a:lnTo>
                <a:lnTo>
                  <a:pt x="136" y="169"/>
                </a:lnTo>
                <a:lnTo>
                  <a:pt x="102" y="135"/>
                </a:lnTo>
                <a:lnTo>
                  <a:pt x="68" y="101"/>
                </a:lnTo>
                <a:lnTo>
                  <a:pt x="17" y="50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35"/>
          <p:cNvSpPr/>
          <p:nvPr/>
        </p:nvSpPr>
        <p:spPr>
          <a:xfrm>
            <a:off x="6249960" y="3021120"/>
            <a:ext cx="128520" cy="857160"/>
          </a:xfrm>
          <a:custGeom>
            <a:avLst/>
            <a:gdLst/>
            <a:ahLst/>
            <a:rect l="l" t="t" r="r" b="b"/>
            <a:pathLst>
              <a:path w="203" h="1352">
                <a:moveTo>
                  <a:pt x="203" y="17"/>
                </a:moveTo>
                <a:lnTo>
                  <a:pt x="187" y="676"/>
                </a:lnTo>
                <a:lnTo>
                  <a:pt x="170" y="1352"/>
                </a:lnTo>
                <a:lnTo>
                  <a:pt x="51" y="1352"/>
                </a:lnTo>
                <a:lnTo>
                  <a:pt x="51" y="1200"/>
                </a:lnTo>
                <a:lnTo>
                  <a:pt x="51" y="1064"/>
                </a:lnTo>
                <a:lnTo>
                  <a:pt x="51" y="929"/>
                </a:lnTo>
                <a:lnTo>
                  <a:pt x="51" y="811"/>
                </a:lnTo>
                <a:lnTo>
                  <a:pt x="51" y="710"/>
                </a:lnTo>
                <a:lnTo>
                  <a:pt x="34" y="608"/>
                </a:lnTo>
                <a:lnTo>
                  <a:pt x="34" y="507"/>
                </a:lnTo>
                <a:lnTo>
                  <a:pt x="34" y="422"/>
                </a:lnTo>
                <a:lnTo>
                  <a:pt x="34" y="355"/>
                </a:lnTo>
                <a:lnTo>
                  <a:pt x="34" y="287"/>
                </a:lnTo>
                <a:lnTo>
                  <a:pt x="34" y="237"/>
                </a:lnTo>
                <a:lnTo>
                  <a:pt x="34" y="186"/>
                </a:lnTo>
                <a:lnTo>
                  <a:pt x="34" y="152"/>
                </a:lnTo>
                <a:lnTo>
                  <a:pt x="34" y="118"/>
                </a:lnTo>
                <a:lnTo>
                  <a:pt x="17" y="101"/>
                </a:lnTo>
                <a:lnTo>
                  <a:pt x="17" y="85"/>
                </a:lnTo>
                <a:lnTo>
                  <a:pt x="0" y="51"/>
                </a:lnTo>
                <a:lnTo>
                  <a:pt x="0" y="34"/>
                </a:lnTo>
                <a:lnTo>
                  <a:pt x="17" y="0"/>
                </a:lnTo>
                <a:lnTo>
                  <a:pt x="34" y="0"/>
                </a:lnTo>
                <a:lnTo>
                  <a:pt x="68" y="0"/>
                </a:lnTo>
                <a:lnTo>
                  <a:pt x="136" y="0"/>
                </a:lnTo>
                <a:lnTo>
                  <a:pt x="203" y="1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36"/>
          <p:cNvSpPr/>
          <p:nvPr/>
        </p:nvSpPr>
        <p:spPr>
          <a:xfrm>
            <a:off x="6315120" y="2935440"/>
            <a:ext cx="538200" cy="900000"/>
          </a:xfrm>
          <a:custGeom>
            <a:avLst/>
            <a:gdLst/>
            <a:ahLst/>
            <a:rect l="l" t="t" r="r" b="b"/>
            <a:pathLst>
              <a:path w="847" h="1419">
                <a:moveTo>
                  <a:pt x="491" y="34"/>
                </a:moveTo>
                <a:lnTo>
                  <a:pt x="542" y="0"/>
                </a:lnTo>
                <a:lnTo>
                  <a:pt x="576" y="0"/>
                </a:lnTo>
                <a:lnTo>
                  <a:pt x="593" y="17"/>
                </a:lnTo>
                <a:lnTo>
                  <a:pt x="627" y="34"/>
                </a:lnTo>
                <a:lnTo>
                  <a:pt x="677" y="51"/>
                </a:lnTo>
                <a:lnTo>
                  <a:pt x="728" y="67"/>
                </a:lnTo>
                <a:lnTo>
                  <a:pt x="779" y="118"/>
                </a:lnTo>
                <a:lnTo>
                  <a:pt x="813" y="135"/>
                </a:lnTo>
                <a:lnTo>
                  <a:pt x="847" y="169"/>
                </a:lnTo>
                <a:lnTo>
                  <a:pt x="847" y="186"/>
                </a:lnTo>
                <a:lnTo>
                  <a:pt x="847" y="203"/>
                </a:lnTo>
                <a:lnTo>
                  <a:pt x="830" y="253"/>
                </a:lnTo>
                <a:lnTo>
                  <a:pt x="813" y="270"/>
                </a:lnTo>
                <a:lnTo>
                  <a:pt x="813" y="304"/>
                </a:lnTo>
                <a:lnTo>
                  <a:pt x="796" y="338"/>
                </a:lnTo>
                <a:lnTo>
                  <a:pt x="796" y="389"/>
                </a:lnTo>
                <a:lnTo>
                  <a:pt x="796" y="456"/>
                </a:lnTo>
                <a:lnTo>
                  <a:pt x="779" y="507"/>
                </a:lnTo>
                <a:lnTo>
                  <a:pt x="779" y="591"/>
                </a:lnTo>
                <a:lnTo>
                  <a:pt x="779" y="659"/>
                </a:lnTo>
                <a:lnTo>
                  <a:pt x="762" y="1031"/>
                </a:lnTo>
                <a:lnTo>
                  <a:pt x="762" y="1419"/>
                </a:lnTo>
                <a:lnTo>
                  <a:pt x="610" y="1419"/>
                </a:lnTo>
                <a:lnTo>
                  <a:pt x="610" y="1267"/>
                </a:lnTo>
                <a:lnTo>
                  <a:pt x="610" y="1132"/>
                </a:lnTo>
                <a:lnTo>
                  <a:pt x="610" y="997"/>
                </a:lnTo>
                <a:lnTo>
                  <a:pt x="610" y="878"/>
                </a:lnTo>
                <a:lnTo>
                  <a:pt x="610" y="777"/>
                </a:lnTo>
                <a:lnTo>
                  <a:pt x="610" y="676"/>
                </a:lnTo>
                <a:lnTo>
                  <a:pt x="610" y="591"/>
                </a:lnTo>
                <a:lnTo>
                  <a:pt x="610" y="507"/>
                </a:lnTo>
                <a:lnTo>
                  <a:pt x="593" y="439"/>
                </a:lnTo>
                <a:lnTo>
                  <a:pt x="593" y="372"/>
                </a:lnTo>
                <a:lnTo>
                  <a:pt x="593" y="321"/>
                </a:lnTo>
                <a:lnTo>
                  <a:pt x="593" y="270"/>
                </a:lnTo>
                <a:lnTo>
                  <a:pt x="593" y="236"/>
                </a:lnTo>
                <a:lnTo>
                  <a:pt x="593" y="203"/>
                </a:lnTo>
                <a:lnTo>
                  <a:pt x="593" y="186"/>
                </a:lnTo>
                <a:lnTo>
                  <a:pt x="576" y="169"/>
                </a:lnTo>
                <a:lnTo>
                  <a:pt x="542" y="169"/>
                </a:lnTo>
                <a:lnTo>
                  <a:pt x="491" y="186"/>
                </a:lnTo>
                <a:lnTo>
                  <a:pt x="423" y="186"/>
                </a:lnTo>
                <a:lnTo>
                  <a:pt x="339" y="203"/>
                </a:lnTo>
                <a:lnTo>
                  <a:pt x="254" y="220"/>
                </a:lnTo>
                <a:lnTo>
                  <a:pt x="135" y="236"/>
                </a:lnTo>
                <a:lnTo>
                  <a:pt x="0" y="253"/>
                </a:lnTo>
                <a:lnTo>
                  <a:pt x="0" y="152"/>
                </a:lnTo>
                <a:lnTo>
                  <a:pt x="68" y="152"/>
                </a:lnTo>
                <a:lnTo>
                  <a:pt x="135" y="152"/>
                </a:lnTo>
                <a:lnTo>
                  <a:pt x="203" y="135"/>
                </a:lnTo>
                <a:lnTo>
                  <a:pt x="305" y="118"/>
                </a:lnTo>
                <a:lnTo>
                  <a:pt x="373" y="101"/>
                </a:lnTo>
                <a:lnTo>
                  <a:pt x="440" y="67"/>
                </a:lnTo>
                <a:lnTo>
                  <a:pt x="474" y="51"/>
                </a:lnTo>
                <a:lnTo>
                  <a:pt x="491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37"/>
          <p:cNvSpPr/>
          <p:nvPr/>
        </p:nvSpPr>
        <p:spPr>
          <a:xfrm>
            <a:off x="6346800" y="3246480"/>
            <a:ext cx="279360" cy="95040"/>
          </a:xfrm>
          <a:custGeom>
            <a:avLst/>
            <a:gdLst/>
            <a:ahLst/>
            <a:rect l="l" t="t" r="r" b="b"/>
            <a:pathLst>
              <a:path w="440" h="152">
                <a:moveTo>
                  <a:pt x="338" y="118"/>
                </a:moveTo>
                <a:lnTo>
                  <a:pt x="288" y="135"/>
                </a:lnTo>
                <a:lnTo>
                  <a:pt x="220" y="135"/>
                </a:lnTo>
                <a:lnTo>
                  <a:pt x="118" y="152"/>
                </a:lnTo>
                <a:lnTo>
                  <a:pt x="0" y="152"/>
                </a:lnTo>
                <a:lnTo>
                  <a:pt x="0" y="51"/>
                </a:lnTo>
                <a:lnTo>
                  <a:pt x="84" y="34"/>
                </a:lnTo>
                <a:lnTo>
                  <a:pt x="152" y="17"/>
                </a:lnTo>
                <a:lnTo>
                  <a:pt x="203" y="0"/>
                </a:lnTo>
                <a:lnTo>
                  <a:pt x="271" y="0"/>
                </a:lnTo>
                <a:lnTo>
                  <a:pt x="322" y="0"/>
                </a:lnTo>
                <a:lnTo>
                  <a:pt x="389" y="17"/>
                </a:lnTo>
                <a:lnTo>
                  <a:pt x="406" y="34"/>
                </a:lnTo>
                <a:lnTo>
                  <a:pt x="423" y="51"/>
                </a:lnTo>
                <a:lnTo>
                  <a:pt x="440" y="67"/>
                </a:lnTo>
                <a:lnTo>
                  <a:pt x="423" y="84"/>
                </a:lnTo>
                <a:lnTo>
                  <a:pt x="406" y="101"/>
                </a:lnTo>
                <a:lnTo>
                  <a:pt x="389" y="118"/>
                </a:lnTo>
                <a:lnTo>
                  <a:pt x="338" y="1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38"/>
          <p:cNvSpPr/>
          <p:nvPr/>
        </p:nvSpPr>
        <p:spPr>
          <a:xfrm>
            <a:off x="6346800" y="3513240"/>
            <a:ext cx="279360" cy="96840"/>
          </a:xfrm>
          <a:custGeom>
            <a:avLst/>
            <a:gdLst/>
            <a:ahLst/>
            <a:rect l="l" t="t" r="r" b="b"/>
            <a:pathLst>
              <a:path w="440" h="152">
                <a:moveTo>
                  <a:pt x="0" y="152"/>
                </a:moveTo>
                <a:lnTo>
                  <a:pt x="0" y="34"/>
                </a:lnTo>
                <a:lnTo>
                  <a:pt x="50" y="34"/>
                </a:lnTo>
                <a:lnTo>
                  <a:pt x="101" y="34"/>
                </a:lnTo>
                <a:lnTo>
                  <a:pt x="152" y="17"/>
                </a:lnTo>
                <a:lnTo>
                  <a:pt x="186" y="17"/>
                </a:lnTo>
                <a:lnTo>
                  <a:pt x="237" y="0"/>
                </a:lnTo>
                <a:lnTo>
                  <a:pt x="288" y="0"/>
                </a:lnTo>
                <a:lnTo>
                  <a:pt x="338" y="17"/>
                </a:lnTo>
                <a:lnTo>
                  <a:pt x="389" y="34"/>
                </a:lnTo>
                <a:lnTo>
                  <a:pt x="406" y="34"/>
                </a:lnTo>
                <a:lnTo>
                  <a:pt x="423" y="51"/>
                </a:lnTo>
                <a:lnTo>
                  <a:pt x="440" y="85"/>
                </a:lnTo>
                <a:lnTo>
                  <a:pt x="423" y="85"/>
                </a:lnTo>
                <a:lnTo>
                  <a:pt x="406" y="102"/>
                </a:lnTo>
                <a:lnTo>
                  <a:pt x="372" y="119"/>
                </a:lnTo>
                <a:lnTo>
                  <a:pt x="322" y="119"/>
                </a:lnTo>
                <a:lnTo>
                  <a:pt x="254" y="135"/>
                </a:lnTo>
                <a:lnTo>
                  <a:pt x="186" y="135"/>
                </a:lnTo>
                <a:lnTo>
                  <a:pt x="101" y="135"/>
                </a:lnTo>
                <a:lnTo>
                  <a:pt x="0" y="1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39"/>
          <p:cNvSpPr/>
          <p:nvPr/>
        </p:nvSpPr>
        <p:spPr>
          <a:xfrm>
            <a:off x="5916600" y="3760920"/>
            <a:ext cx="1258920" cy="214200"/>
          </a:xfrm>
          <a:custGeom>
            <a:avLst/>
            <a:gdLst/>
            <a:ahLst/>
            <a:rect l="l" t="t" r="r" b="b"/>
            <a:pathLst>
              <a:path w="1982" h="338">
                <a:moveTo>
                  <a:pt x="1271" y="186"/>
                </a:moveTo>
                <a:lnTo>
                  <a:pt x="1203" y="186"/>
                </a:lnTo>
                <a:lnTo>
                  <a:pt x="1118" y="186"/>
                </a:lnTo>
                <a:lnTo>
                  <a:pt x="1016" y="203"/>
                </a:lnTo>
                <a:lnTo>
                  <a:pt x="915" y="203"/>
                </a:lnTo>
                <a:lnTo>
                  <a:pt x="678" y="236"/>
                </a:lnTo>
                <a:lnTo>
                  <a:pt x="457" y="287"/>
                </a:lnTo>
                <a:lnTo>
                  <a:pt x="356" y="304"/>
                </a:lnTo>
                <a:lnTo>
                  <a:pt x="288" y="321"/>
                </a:lnTo>
                <a:lnTo>
                  <a:pt x="237" y="321"/>
                </a:lnTo>
                <a:lnTo>
                  <a:pt x="203" y="338"/>
                </a:lnTo>
                <a:lnTo>
                  <a:pt x="169" y="321"/>
                </a:lnTo>
                <a:lnTo>
                  <a:pt x="102" y="304"/>
                </a:lnTo>
                <a:lnTo>
                  <a:pt x="51" y="253"/>
                </a:lnTo>
                <a:lnTo>
                  <a:pt x="0" y="186"/>
                </a:lnTo>
                <a:lnTo>
                  <a:pt x="51" y="169"/>
                </a:lnTo>
                <a:lnTo>
                  <a:pt x="102" y="169"/>
                </a:lnTo>
                <a:lnTo>
                  <a:pt x="186" y="169"/>
                </a:lnTo>
                <a:lnTo>
                  <a:pt x="271" y="152"/>
                </a:lnTo>
                <a:lnTo>
                  <a:pt x="373" y="152"/>
                </a:lnTo>
                <a:lnTo>
                  <a:pt x="491" y="135"/>
                </a:lnTo>
                <a:lnTo>
                  <a:pt x="627" y="101"/>
                </a:lnTo>
                <a:lnTo>
                  <a:pt x="779" y="84"/>
                </a:lnTo>
                <a:lnTo>
                  <a:pt x="932" y="67"/>
                </a:lnTo>
                <a:lnTo>
                  <a:pt x="1067" y="51"/>
                </a:lnTo>
                <a:lnTo>
                  <a:pt x="1203" y="34"/>
                </a:lnTo>
                <a:lnTo>
                  <a:pt x="1321" y="34"/>
                </a:lnTo>
                <a:lnTo>
                  <a:pt x="1423" y="17"/>
                </a:lnTo>
                <a:lnTo>
                  <a:pt x="1508" y="17"/>
                </a:lnTo>
                <a:lnTo>
                  <a:pt x="1592" y="17"/>
                </a:lnTo>
                <a:lnTo>
                  <a:pt x="1660" y="0"/>
                </a:lnTo>
                <a:lnTo>
                  <a:pt x="1762" y="17"/>
                </a:lnTo>
                <a:lnTo>
                  <a:pt x="1830" y="34"/>
                </a:lnTo>
                <a:lnTo>
                  <a:pt x="1897" y="51"/>
                </a:lnTo>
                <a:lnTo>
                  <a:pt x="1931" y="84"/>
                </a:lnTo>
                <a:lnTo>
                  <a:pt x="1948" y="118"/>
                </a:lnTo>
                <a:lnTo>
                  <a:pt x="1965" y="152"/>
                </a:lnTo>
                <a:lnTo>
                  <a:pt x="1982" y="203"/>
                </a:lnTo>
                <a:lnTo>
                  <a:pt x="1982" y="220"/>
                </a:lnTo>
                <a:lnTo>
                  <a:pt x="1965" y="220"/>
                </a:lnTo>
                <a:lnTo>
                  <a:pt x="1931" y="236"/>
                </a:lnTo>
                <a:lnTo>
                  <a:pt x="1897" y="236"/>
                </a:lnTo>
                <a:lnTo>
                  <a:pt x="1864" y="236"/>
                </a:lnTo>
                <a:lnTo>
                  <a:pt x="1813" y="236"/>
                </a:lnTo>
                <a:lnTo>
                  <a:pt x="1745" y="220"/>
                </a:lnTo>
                <a:lnTo>
                  <a:pt x="1677" y="220"/>
                </a:lnTo>
                <a:lnTo>
                  <a:pt x="1542" y="203"/>
                </a:lnTo>
                <a:lnTo>
                  <a:pt x="1423" y="186"/>
                </a:lnTo>
                <a:lnTo>
                  <a:pt x="1338" y="186"/>
                </a:lnTo>
                <a:lnTo>
                  <a:pt x="1271" y="18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1355760" y="2027160"/>
            <a:ext cx="63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6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" name="TextBox 57"/>
          <p:cNvSpPr/>
          <p:nvPr/>
        </p:nvSpPr>
        <p:spPr>
          <a:xfrm>
            <a:off x="4619520" y="49626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文”的撇捺舒展，第五笔为竖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23176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齐  齐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34"/>
          <p:cNvSpPr/>
          <p:nvPr/>
        </p:nvSpPr>
        <p:spPr>
          <a:xfrm>
            <a:off x="857160" y="49626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了目标我们一齐奋发努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3419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41"/>
          <p:cNvSpPr/>
          <p:nvPr/>
        </p:nvSpPr>
        <p:spPr>
          <a:xfrm>
            <a:off x="5678640" y="3154320"/>
            <a:ext cx="527040" cy="762120"/>
          </a:xfrm>
          <a:custGeom>
            <a:avLst/>
            <a:gdLst/>
            <a:ahLst/>
            <a:rect l="l" t="t" r="r" b="b"/>
            <a:pathLst>
              <a:path w="830" h="1200">
                <a:moveTo>
                  <a:pt x="203" y="1115"/>
                </a:moveTo>
                <a:lnTo>
                  <a:pt x="118" y="1166"/>
                </a:lnTo>
                <a:lnTo>
                  <a:pt x="51" y="1200"/>
                </a:lnTo>
                <a:lnTo>
                  <a:pt x="17" y="1200"/>
                </a:lnTo>
                <a:lnTo>
                  <a:pt x="0" y="1200"/>
                </a:lnTo>
                <a:lnTo>
                  <a:pt x="0" y="1183"/>
                </a:lnTo>
                <a:lnTo>
                  <a:pt x="17" y="1149"/>
                </a:lnTo>
                <a:lnTo>
                  <a:pt x="51" y="1132"/>
                </a:lnTo>
                <a:lnTo>
                  <a:pt x="102" y="1098"/>
                </a:lnTo>
                <a:lnTo>
                  <a:pt x="152" y="1048"/>
                </a:lnTo>
                <a:lnTo>
                  <a:pt x="203" y="997"/>
                </a:lnTo>
                <a:lnTo>
                  <a:pt x="288" y="912"/>
                </a:lnTo>
                <a:lnTo>
                  <a:pt x="356" y="828"/>
                </a:lnTo>
                <a:lnTo>
                  <a:pt x="423" y="726"/>
                </a:lnTo>
                <a:lnTo>
                  <a:pt x="491" y="608"/>
                </a:lnTo>
                <a:lnTo>
                  <a:pt x="542" y="490"/>
                </a:lnTo>
                <a:lnTo>
                  <a:pt x="576" y="355"/>
                </a:lnTo>
                <a:lnTo>
                  <a:pt x="593" y="304"/>
                </a:lnTo>
                <a:lnTo>
                  <a:pt x="593" y="253"/>
                </a:lnTo>
                <a:lnTo>
                  <a:pt x="610" y="169"/>
                </a:lnTo>
                <a:lnTo>
                  <a:pt x="610" y="101"/>
                </a:lnTo>
                <a:lnTo>
                  <a:pt x="593" y="68"/>
                </a:lnTo>
                <a:lnTo>
                  <a:pt x="576" y="51"/>
                </a:lnTo>
                <a:lnTo>
                  <a:pt x="576" y="34"/>
                </a:lnTo>
                <a:lnTo>
                  <a:pt x="576" y="17"/>
                </a:lnTo>
                <a:lnTo>
                  <a:pt x="593" y="17"/>
                </a:lnTo>
                <a:lnTo>
                  <a:pt x="627" y="0"/>
                </a:lnTo>
                <a:lnTo>
                  <a:pt x="661" y="0"/>
                </a:lnTo>
                <a:lnTo>
                  <a:pt x="694" y="17"/>
                </a:lnTo>
                <a:lnTo>
                  <a:pt x="745" y="34"/>
                </a:lnTo>
                <a:lnTo>
                  <a:pt x="779" y="68"/>
                </a:lnTo>
                <a:lnTo>
                  <a:pt x="796" y="84"/>
                </a:lnTo>
                <a:lnTo>
                  <a:pt x="813" y="101"/>
                </a:lnTo>
                <a:lnTo>
                  <a:pt x="830" y="135"/>
                </a:lnTo>
                <a:lnTo>
                  <a:pt x="830" y="152"/>
                </a:lnTo>
                <a:lnTo>
                  <a:pt x="813" y="203"/>
                </a:lnTo>
                <a:lnTo>
                  <a:pt x="796" y="270"/>
                </a:lnTo>
                <a:lnTo>
                  <a:pt x="779" y="355"/>
                </a:lnTo>
                <a:lnTo>
                  <a:pt x="762" y="473"/>
                </a:lnTo>
                <a:lnTo>
                  <a:pt x="711" y="574"/>
                </a:lnTo>
                <a:lnTo>
                  <a:pt x="661" y="676"/>
                </a:lnTo>
                <a:lnTo>
                  <a:pt x="593" y="777"/>
                </a:lnTo>
                <a:lnTo>
                  <a:pt x="508" y="879"/>
                </a:lnTo>
                <a:lnTo>
                  <a:pt x="406" y="980"/>
                </a:lnTo>
                <a:lnTo>
                  <a:pt x="305" y="1048"/>
                </a:lnTo>
                <a:lnTo>
                  <a:pt x="203" y="11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42"/>
          <p:cNvSpPr/>
          <p:nvPr/>
        </p:nvSpPr>
        <p:spPr>
          <a:xfrm>
            <a:off x="6421320" y="3165480"/>
            <a:ext cx="182520" cy="888840"/>
          </a:xfrm>
          <a:custGeom>
            <a:avLst/>
            <a:gdLst/>
            <a:ahLst/>
            <a:rect l="l" t="t" r="r" b="b"/>
            <a:pathLst>
              <a:path w="288" h="1402">
                <a:moveTo>
                  <a:pt x="34" y="84"/>
                </a:moveTo>
                <a:lnTo>
                  <a:pt x="17" y="67"/>
                </a:lnTo>
                <a:lnTo>
                  <a:pt x="0" y="51"/>
                </a:lnTo>
                <a:lnTo>
                  <a:pt x="0" y="17"/>
                </a:lnTo>
                <a:lnTo>
                  <a:pt x="0" y="0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18" y="0"/>
                </a:lnTo>
                <a:lnTo>
                  <a:pt x="169" y="17"/>
                </a:lnTo>
                <a:lnTo>
                  <a:pt x="203" y="34"/>
                </a:lnTo>
                <a:lnTo>
                  <a:pt x="220" y="51"/>
                </a:lnTo>
                <a:lnTo>
                  <a:pt x="237" y="51"/>
                </a:lnTo>
                <a:lnTo>
                  <a:pt x="254" y="84"/>
                </a:lnTo>
                <a:lnTo>
                  <a:pt x="271" y="118"/>
                </a:lnTo>
                <a:lnTo>
                  <a:pt x="288" y="152"/>
                </a:lnTo>
                <a:lnTo>
                  <a:pt x="271" y="186"/>
                </a:lnTo>
                <a:lnTo>
                  <a:pt x="271" y="203"/>
                </a:lnTo>
                <a:lnTo>
                  <a:pt x="271" y="236"/>
                </a:lnTo>
                <a:lnTo>
                  <a:pt x="254" y="270"/>
                </a:lnTo>
                <a:lnTo>
                  <a:pt x="254" y="321"/>
                </a:lnTo>
                <a:lnTo>
                  <a:pt x="254" y="372"/>
                </a:lnTo>
                <a:lnTo>
                  <a:pt x="254" y="439"/>
                </a:lnTo>
                <a:lnTo>
                  <a:pt x="254" y="524"/>
                </a:lnTo>
                <a:lnTo>
                  <a:pt x="254" y="608"/>
                </a:lnTo>
                <a:lnTo>
                  <a:pt x="254" y="794"/>
                </a:lnTo>
                <a:lnTo>
                  <a:pt x="254" y="946"/>
                </a:lnTo>
                <a:lnTo>
                  <a:pt x="237" y="1081"/>
                </a:lnTo>
                <a:lnTo>
                  <a:pt x="220" y="1199"/>
                </a:lnTo>
                <a:lnTo>
                  <a:pt x="220" y="1250"/>
                </a:lnTo>
                <a:lnTo>
                  <a:pt x="203" y="1301"/>
                </a:lnTo>
                <a:lnTo>
                  <a:pt x="186" y="1352"/>
                </a:lnTo>
                <a:lnTo>
                  <a:pt x="169" y="1402"/>
                </a:lnTo>
                <a:lnTo>
                  <a:pt x="152" y="1402"/>
                </a:lnTo>
                <a:lnTo>
                  <a:pt x="135" y="1402"/>
                </a:lnTo>
                <a:lnTo>
                  <a:pt x="135" y="1352"/>
                </a:lnTo>
                <a:lnTo>
                  <a:pt x="118" y="1284"/>
                </a:lnTo>
                <a:lnTo>
                  <a:pt x="102" y="1183"/>
                </a:lnTo>
                <a:lnTo>
                  <a:pt x="102" y="1132"/>
                </a:lnTo>
                <a:lnTo>
                  <a:pt x="102" y="1064"/>
                </a:lnTo>
                <a:lnTo>
                  <a:pt x="85" y="912"/>
                </a:lnTo>
                <a:lnTo>
                  <a:pt x="85" y="743"/>
                </a:lnTo>
                <a:lnTo>
                  <a:pt x="85" y="541"/>
                </a:lnTo>
                <a:lnTo>
                  <a:pt x="85" y="439"/>
                </a:lnTo>
                <a:lnTo>
                  <a:pt x="85" y="355"/>
                </a:lnTo>
                <a:lnTo>
                  <a:pt x="85" y="287"/>
                </a:lnTo>
                <a:lnTo>
                  <a:pt x="68" y="220"/>
                </a:lnTo>
                <a:lnTo>
                  <a:pt x="68" y="169"/>
                </a:lnTo>
                <a:lnTo>
                  <a:pt x="51" y="135"/>
                </a:lnTo>
                <a:lnTo>
                  <a:pt x="51" y="101"/>
                </a:lnTo>
                <a:lnTo>
                  <a:pt x="34" y="8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44"/>
          <p:cNvSpPr/>
          <p:nvPr/>
        </p:nvSpPr>
        <p:spPr>
          <a:xfrm>
            <a:off x="5721480" y="2349360"/>
            <a:ext cx="1258920" cy="268560"/>
          </a:xfrm>
          <a:custGeom>
            <a:avLst/>
            <a:gdLst/>
            <a:ahLst/>
            <a:rect l="l" t="t" r="r" b="b"/>
            <a:pathLst>
              <a:path w="1982" h="422">
                <a:moveTo>
                  <a:pt x="84" y="388"/>
                </a:moveTo>
                <a:lnTo>
                  <a:pt x="34" y="372"/>
                </a:lnTo>
                <a:lnTo>
                  <a:pt x="17" y="355"/>
                </a:lnTo>
                <a:lnTo>
                  <a:pt x="0" y="338"/>
                </a:lnTo>
                <a:lnTo>
                  <a:pt x="0" y="321"/>
                </a:lnTo>
                <a:lnTo>
                  <a:pt x="271" y="270"/>
                </a:lnTo>
                <a:lnTo>
                  <a:pt x="542" y="219"/>
                </a:lnTo>
                <a:lnTo>
                  <a:pt x="694" y="203"/>
                </a:lnTo>
                <a:lnTo>
                  <a:pt x="847" y="169"/>
                </a:lnTo>
                <a:lnTo>
                  <a:pt x="1016" y="118"/>
                </a:lnTo>
                <a:lnTo>
                  <a:pt x="1203" y="84"/>
                </a:lnTo>
                <a:lnTo>
                  <a:pt x="1355" y="50"/>
                </a:lnTo>
                <a:lnTo>
                  <a:pt x="1507" y="17"/>
                </a:lnTo>
                <a:lnTo>
                  <a:pt x="1558" y="17"/>
                </a:lnTo>
                <a:lnTo>
                  <a:pt x="1609" y="0"/>
                </a:lnTo>
                <a:lnTo>
                  <a:pt x="1660" y="0"/>
                </a:lnTo>
                <a:lnTo>
                  <a:pt x="1694" y="0"/>
                </a:lnTo>
                <a:lnTo>
                  <a:pt x="1762" y="0"/>
                </a:lnTo>
                <a:lnTo>
                  <a:pt x="1812" y="17"/>
                </a:lnTo>
                <a:lnTo>
                  <a:pt x="1863" y="34"/>
                </a:lnTo>
                <a:lnTo>
                  <a:pt x="1914" y="50"/>
                </a:lnTo>
                <a:lnTo>
                  <a:pt x="1965" y="101"/>
                </a:lnTo>
                <a:lnTo>
                  <a:pt x="1965" y="118"/>
                </a:lnTo>
                <a:lnTo>
                  <a:pt x="1982" y="135"/>
                </a:lnTo>
                <a:lnTo>
                  <a:pt x="1948" y="152"/>
                </a:lnTo>
                <a:lnTo>
                  <a:pt x="1914" y="169"/>
                </a:lnTo>
                <a:lnTo>
                  <a:pt x="1846" y="169"/>
                </a:lnTo>
                <a:lnTo>
                  <a:pt x="1762" y="169"/>
                </a:lnTo>
                <a:lnTo>
                  <a:pt x="1558" y="186"/>
                </a:lnTo>
                <a:lnTo>
                  <a:pt x="1389" y="219"/>
                </a:lnTo>
                <a:lnTo>
                  <a:pt x="1287" y="236"/>
                </a:lnTo>
                <a:lnTo>
                  <a:pt x="1152" y="253"/>
                </a:lnTo>
                <a:lnTo>
                  <a:pt x="1016" y="287"/>
                </a:lnTo>
                <a:lnTo>
                  <a:pt x="864" y="321"/>
                </a:lnTo>
                <a:lnTo>
                  <a:pt x="694" y="338"/>
                </a:lnTo>
                <a:lnTo>
                  <a:pt x="576" y="372"/>
                </a:lnTo>
                <a:lnTo>
                  <a:pt x="474" y="388"/>
                </a:lnTo>
                <a:lnTo>
                  <a:pt x="389" y="388"/>
                </a:lnTo>
                <a:lnTo>
                  <a:pt x="338" y="405"/>
                </a:lnTo>
                <a:lnTo>
                  <a:pt x="288" y="422"/>
                </a:lnTo>
                <a:lnTo>
                  <a:pt x="237" y="422"/>
                </a:lnTo>
                <a:lnTo>
                  <a:pt x="220" y="422"/>
                </a:lnTo>
                <a:lnTo>
                  <a:pt x="152" y="422"/>
                </a:lnTo>
                <a:lnTo>
                  <a:pt x="118" y="405"/>
                </a:lnTo>
                <a:lnTo>
                  <a:pt x="84" y="38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45"/>
          <p:cNvSpPr/>
          <p:nvPr/>
        </p:nvSpPr>
        <p:spPr>
          <a:xfrm>
            <a:off x="6184800" y="2135160"/>
            <a:ext cx="290520" cy="214200"/>
          </a:xfrm>
          <a:custGeom>
            <a:avLst/>
            <a:gdLst/>
            <a:ahLst/>
            <a:rect l="l" t="t" r="r" b="b"/>
            <a:pathLst>
              <a:path w="458" h="338">
                <a:moveTo>
                  <a:pt x="170" y="17"/>
                </a:moveTo>
                <a:lnTo>
                  <a:pt x="237" y="17"/>
                </a:lnTo>
                <a:lnTo>
                  <a:pt x="305" y="34"/>
                </a:lnTo>
                <a:lnTo>
                  <a:pt x="356" y="67"/>
                </a:lnTo>
                <a:lnTo>
                  <a:pt x="407" y="84"/>
                </a:lnTo>
                <a:lnTo>
                  <a:pt x="424" y="118"/>
                </a:lnTo>
                <a:lnTo>
                  <a:pt x="458" y="152"/>
                </a:lnTo>
                <a:lnTo>
                  <a:pt x="458" y="203"/>
                </a:lnTo>
                <a:lnTo>
                  <a:pt x="458" y="253"/>
                </a:lnTo>
                <a:lnTo>
                  <a:pt x="441" y="287"/>
                </a:lnTo>
                <a:lnTo>
                  <a:pt x="424" y="321"/>
                </a:lnTo>
                <a:lnTo>
                  <a:pt x="407" y="338"/>
                </a:lnTo>
                <a:lnTo>
                  <a:pt x="390" y="338"/>
                </a:lnTo>
                <a:lnTo>
                  <a:pt x="373" y="338"/>
                </a:lnTo>
                <a:lnTo>
                  <a:pt x="322" y="321"/>
                </a:lnTo>
                <a:lnTo>
                  <a:pt x="271" y="287"/>
                </a:lnTo>
                <a:lnTo>
                  <a:pt x="220" y="236"/>
                </a:lnTo>
                <a:lnTo>
                  <a:pt x="153" y="186"/>
                </a:lnTo>
                <a:lnTo>
                  <a:pt x="102" y="152"/>
                </a:lnTo>
                <a:lnTo>
                  <a:pt x="51" y="101"/>
                </a:lnTo>
                <a:lnTo>
                  <a:pt x="34" y="84"/>
                </a:lnTo>
                <a:lnTo>
                  <a:pt x="0" y="34"/>
                </a:lnTo>
                <a:lnTo>
                  <a:pt x="0" y="17"/>
                </a:lnTo>
                <a:lnTo>
                  <a:pt x="0" y="0"/>
                </a:lnTo>
                <a:lnTo>
                  <a:pt x="17" y="0"/>
                </a:lnTo>
                <a:lnTo>
                  <a:pt x="51" y="0"/>
                </a:lnTo>
                <a:lnTo>
                  <a:pt x="102" y="0"/>
                </a:lnTo>
                <a:lnTo>
                  <a:pt x="170" y="1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43"/>
          <p:cNvSpPr/>
          <p:nvPr/>
        </p:nvSpPr>
        <p:spPr>
          <a:xfrm>
            <a:off x="5570640" y="2457360"/>
            <a:ext cx="1033200" cy="793800"/>
          </a:xfrm>
          <a:custGeom>
            <a:avLst/>
            <a:gdLst/>
            <a:ahLst/>
            <a:rect l="l" t="t" r="r" b="b"/>
            <a:pathLst>
              <a:path w="1627" h="1250">
                <a:moveTo>
                  <a:pt x="1491" y="0"/>
                </a:moveTo>
                <a:lnTo>
                  <a:pt x="1559" y="84"/>
                </a:lnTo>
                <a:lnTo>
                  <a:pt x="1593" y="152"/>
                </a:lnTo>
                <a:lnTo>
                  <a:pt x="1610" y="186"/>
                </a:lnTo>
                <a:lnTo>
                  <a:pt x="1627" y="219"/>
                </a:lnTo>
                <a:lnTo>
                  <a:pt x="1610" y="253"/>
                </a:lnTo>
                <a:lnTo>
                  <a:pt x="1576" y="304"/>
                </a:lnTo>
                <a:lnTo>
                  <a:pt x="1525" y="355"/>
                </a:lnTo>
                <a:lnTo>
                  <a:pt x="1474" y="422"/>
                </a:lnTo>
                <a:lnTo>
                  <a:pt x="1407" y="507"/>
                </a:lnTo>
                <a:lnTo>
                  <a:pt x="1322" y="574"/>
                </a:lnTo>
                <a:lnTo>
                  <a:pt x="1237" y="659"/>
                </a:lnTo>
                <a:lnTo>
                  <a:pt x="1136" y="743"/>
                </a:lnTo>
                <a:lnTo>
                  <a:pt x="1034" y="828"/>
                </a:lnTo>
                <a:lnTo>
                  <a:pt x="915" y="895"/>
                </a:lnTo>
                <a:lnTo>
                  <a:pt x="797" y="963"/>
                </a:lnTo>
                <a:lnTo>
                  <a:pt x="678" y="1030"/>
                </a:lnTo>
                <a:lnTo>
                  <a:pt x="560" y="1081"/>
                </a:lnTo>
                <a:lnTo>
                  <a:pt x="441" y="1132"/>
                </a:lnTo>
                <a:lnTo>
                  <a:pt x="322" y="1182"/>
                </a:lnTo>
                <a:lnTo>
                  <a:pt x="221" y="1216"/>
                </a:lnTo>
                <a:lnTo>
                  <a:pt x="119" y="1233"/>
                </a:lnTo>
                <a:lnTo>
                  <a:pt x="51" y="1250"/>
                </a:lnTo>
                <a:lnTo>
                  <a:pt x="17" y="1250"/>
                </a:lnTo>
                <a:lnTo>
                  <a:pt x="0" y="1250"/>
                </a:lnTo>
                <a:lnTo>
                  <a:pt x="0" y="1233"/>
                </a:lnTo>
                <a:lnTo>
                  <a:pt x="34" y="1216"/>
                </a:lnTo>
                <a:lnTo>
                  <a:pt x="102" y="1182"/>
                </a:lnTo>
                <a:lnTo>
                  <a:pt x="187" y="1149"/>
                </a:lnTo>
                <a:lnTo>
                  <a:pt x="272" y="1115"/>
                </a:lnTo>
                <a:lnTo>
                  <a:pt x="373" y="1064"/>
                </a:lnTo>
                <a:lnTo>
                  <a:pt x="492" y="997"/>
                </a:lnTo>
                <a:lnTo>
                  <a:pt x="627" y="929"/>
                </a:lnTo>
                <a:lnTo>
                  <a:pt x="763" y="845"/>
                </a:lnTo>
                <a:lnTo>
                  <a:pt x="881" y="760"/>
                </a:lnTo>
                <a:lnTo>
                  <a:pt x="1000" y="659"/>
                </a:lnTo>
                <a:lnTo>
                  <a:pt x="1102" y="557"/>
                </a:lnTo>
                <a:lnTo>
                  <a:pt x="1203" y="439"/>
                </a:lnTo>
                <a:lnTo>
                  <a:pt x="1305" y="304"/>
                </a:lnTo>
                <a:lnTo>
                  <a:pt x="1407" y="169"/>
                </a:lnTo>
                <a:lnTo>
                  <a:pt x="1491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40"/>
          <p:cNvSpPr/>
          <p:nvPr/>
        </p:nvSpPr>
        <p:spPr>
          <a:xfrm>
            <a:off x="5946840" y="2660760"/>
            <a:ext cx="1355760" cy="622080"/>
          </a:xfrm>
          <a:custGeom>
            <a:avLst/>
            <a:gdLst/>
            <a:ahLst/>
            <a:rect l="l" t="t" r="r" b="b"/>
            <a:pathLst>
              <a:path w="2135" h="980">
                <a:moveTo>
                  <a:pt x="2135" y="811"/>
                </a:moveTo>
                <a:lnTo>
                  <a:pt x="2135" y="828"/>
                </a:lnTo>
                <a:lnTo>
                  <a:pt x="2101" y="845"/>
                </a:lnTo>
                <a:lnTo>
                  <a:pt x="2067" y="861"/>
                </a:lnTo>
                <a:lnTo>
                  <a:pt x="2000" y="895"/>
                </a:lnTo>
                <a:lnTo>
                  <a:pt x="1915" y="912"/>
                </a:lnTo>
                <a:lnTo>
                  <a:pt x="1847" y="929"/>
                </a:lnTo>
                <a:lnTo>
                  <a:pt x="1712" y="963"/>
                </a:lnTo>
                <a:lnTo>
                  <a:pt x="1644" y="963"/>
                </a:lnTo>
                <a:lnTo>
                  <a:pt x="1593" y="980"/>
                </a:lnTo>
                <a:lnTo>
                  <a:pt x="1559" y="980"/>
                </a:lnTo>
                <a:lnTo>
                  <a:pt x="1525" y="980"/>
                </a:lnTo>
                <a:lnTo>
                  <a:pt x="1491" y="980"/>
                </a:lnTo>
                <a:lnTo>
                  <a:pt x="1457" y="963"/>
                </a:lnTo>
                <a:lnTo>
                  <a:pt x="1424" y="946"/>
                </a:lnTo>
                <a:lnTo>
                  <a:pt x="1373" y="912"/>
                </a:lnTo>
                <a:lnTo>
                  <a:pt x="1339" y="895"/>
                </a:lnTo>
                <a:lnTo>
                  <a:pt x="1305" y="878"/>
                </a:lnTo>
                <a:lnTo>
                  <a:pt x="1220" y="811"/>
                </a:lnTo>
                <a:lnTo>
                  <a:pt x="1119" y="743"/>
                </a:lnTo>
                <a:lnTo>
                  <a:pt x="983" y="642"/>
                </a:lnTo>
                <a:lnTo>
                  <a:pt x="661" y="439"/>
                </a:lnTo>
                <a:lnTo>
                  <a:pt x="339" y="253"/>
                </a:lnTo>
                <a:lnTo>
                  <a:pt x="255" y="203"/>
                </a:lnTo>
                <a:lnTo>
                  <a:pt x="187" y="169"/>
                </a:lnTo>
                <a:lnTo>
                  <a:pt x="136" y="135"/>
                </a:lnTo>
                <a:lnTo>
                  <a:pt x="85" y="101"/>
                </a:lnTo>
                <a:lnTo>
                  <a:pt x="51" y="67"/>
                </a:lnTo>
                <a:lnTo>
                  <a:pt x="17" y="50"/>
                </a:lnTo>
                <a:lnTo>
                  <a:pt x="0" y="34"/>
                </a:lnTo>
                <a:lnTo>
                  <a:pt x="0" y="17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19" y="0"/>
                </a:lnTo>
                <a:lnTo>
                  <a:pt x="136" y="17"/>
                </a:lnTo>
                <a:lnTo>
                  <a:pt x="187" y="17"/>
                </a:lnTo>
                <a:lnTo>
                  <a:pt x="221" y="50"/>
                </a:lnTo>
                <a:lnTo>
                  <a:pt x="288" y="67"/>
                </a:lnTo>
                <a:lnTo>
                  <a:pt x="339" y="101"/>
                </a:lnTo>
                <a:lnTo>
                  <a:pt x="407" y="135"/>
                </a:lnTo>
                <a:lnTo>
                  <a:pt x="492" y="186"/>
                </a:lnTo>
                <a:lnTo>
                  <a:pt x="661" y="270"/>
                </a:lnTo>
                <a:lnTo>
                  <a:pt x="831" y="371"/>
                </a:lnTo>
                <a:lnTo>
                  <a:pt x="1000" y="456"/>
                </a:lnTo>
                <a:lnTo>
                  <a:pt x="1186" y="540"/>
                </a:lnTo>
                <a:lnTo>
                  <a:pt x="1373" y="608"/>
                </a:lnTo>
                <a:lnTo>
                  <a:pt x="1542" y="659"/>
                </a:lnTo>
                <a:lnTo>
                  <a:pt x="1712" y="709"/>
                </a:lnTo>
                <a:lnTo>
                  <a:pt x="1864" y="726"/>
                </a:lnTo>
                <a:lnTo>
                  <a:pt x="1932" y="743"/>
                </a:lnTo>
                <a:lnTo>
                  <a:pt x="1983" y="760"/>
                </a:lnTo>
                <a:lnTo>
                  <a:pt x="2033" y="777"/>
                </a:lnTo>
                <a:lnTo>
                  <a:pt x="2067" y="777"/>
                </a:lnTo>
                <a:lnTo>
                  <a:pt x="2101" y="794"/>
                </a:lnTo>
                <a:lnTo>
                  <a:pt x="2118" y="794"/>
                </a:lnTo>
                <a:lnTo>
                  <a:pt x="2135" y="8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20"/>
          <p:cNvSpPr/>
          <p:nvPr/>
        </p:nvSpPr>
        <p:spPr>
          <a:xfrm>
            <a:off x="1266840" y="2027160"/>
            <a:ext cx="7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è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8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TextBox 57"/>
          <p:cNvSpPr/>
          <p:nvPr/>
        </p:nvSpPr>
        <p:spPr>
          <a:xfrm>
            <a:off x="4619520" y="4987800"/>
            <a:ext cx="42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大”撇捺舒展，“田”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23320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33"/>
          <p:cNvSpPr/>
          <p:nvPr/>
        </p:nvSpPr>
        <p:spPr>
          <a:xfrm>
            <a:off x="8571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奋发  奋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34"/>
          <p:cNvSpPr/>
          <p:nvPr/>
        </p:nvSpPr>
        <p:spPr>
          <a:xfrm>
            <a:off x="857160" y="4987800"/>
            <a:ext cx="36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了目标我们一齐奋发努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仿宋"/>
                <a:ea typeface="仿宋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仿宋"/>
                <a:ea typeface="仿宋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536364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30"/>
          <p:cNvSpPr/>
          <p:nvPr/>
        </p:nvSpPr>
        <p:spPr>
          <a:xfrm>
            <a:off x="5729400" y="2550960"/>
            <a:ext cx="1206360" cy="246240"/>
          </a:xfrm>
          <a:custGeom>
            <a:avLst/>
            <a:gdLst/>
            <a:ahLst/>
            <a:rect l="l" t="t" r="r" b="b"/>
            <a:pathLst>
              <a:path w="1898" h="388">
                <a:moveTo>
                  <a:pt x="153" y="253"/>
                </a:moveTo>
                <a:lnTo>
                  <a:pt x="203" y="253"/>
                </a:lnTo>
                <a:lnTo>
                  <a:pt x="254" y="253"/>
                </a:lnTo>
                <a:lnTo>
                  <a:pt x="322" y="236"/>
                </a:lnTo>
                <a:lnTo>
                  <a:pt x="390" y="219"/>
                </a:lnTo>
                <a:lnTo>
                  <a:pt x="474" y="202"/>
                </a:lnTo>
                <a:lnTo>
                  <a:pt x="576" y="202"/>
                </a:lnTo>
                <a:lnTo>
                  <a:pt x="661" y="169"/>
                </a:lnTo>
                <a:lnTo>
                  <a:pt x="779" y="152"/>
                </a:lnTo>
                <a:lnTo>
                  <a:pt x="881" y="135"/>
                </a:lnTo>
                <a:lnTo>
                  <a:pt x="983" y="118"/>
                </a:lnTo>
                <a:lnTo>
                  <a:pt x="1067" y="101"/>
                </a:lnTo>
                <a:lnTo>
                  <a:pt x="1152" y="84"/>
                </a:lnTo>
                <a:lnTo>
                  <a:pt x="1220" y="67"/>
                </a:lnTo>
                <a:lnTo>
                  <a:pt x="1288" y="67"/>
                </a:lnTo>
                <a:lnTo>
                  <a:pt x="1338" y="50"/>
                </a:lnTo>
                <a:lnTo>
                  <a:pt x="1389" y="33"/>
                </a:lnTo>
                <a:lnTo>
                  <a:pt x="1457" y="16"/>
                </a:lnTo>
                <a:lnTo>
                  <a:pt x="1525" y="16"/>
                </a:lnTo>
                <a:lnTo>
                  <a:pt x="1593" y="0"/>
                </a:lnTo>
                <a:lnTo>
                  <a:pt x="1643" y="0"/>
                </a:lnTo>
                <a:lnTo>
                  <a:pt x="1694" y="0"/>
                </a:lnTo>
                <a:lnTo>
                  <a:pt x="1745" y="16"/>
                </a:lnTo>
                <a:lnTo>
                  <a:pt x="1779" y="33"/>
                </a:lnTo>
                <a:lnTo>
                  <a:pt x="1830" y="50"/>
                </a:lnTo>
                <a:lnTo>
                  <a:pt x="1847" y="84"/>
                </a:lnTo>
                <a:lnTo>
                  <a:pt x="1881" y="101"/>
                </a:lnTo>
                <a:lnTo>
                  <a:pt x="1881" y="118"/>
                </a:lnTo>
                <a:lnTo>
                  <a:pt x="1898" y="135"/>
                </a:lnTo>
                <a:lnTo>
                  <a:pt x="1881" y="135"/>
                </a:lnTo>
                <a:lnTo>
                  <a:pt x="1864" y="152"/>
                </a:lnTo>
                <a:lnTo>
                  <a:pt x="1830" y="169"/>
                </a:lnTo>
                <a:lnTo>
                  <a:pt x="1796" y="169"/>
                </a:lnTo>
                <a:lnTo>
                  <a:pt x="1728" y="185"/>
                </a:lnTo>
                <a:lnTo>
                  <a:pt x="1660" y="185"/>
                </a:lnTo>
                <a:lnTo>
                  <a:pt x="1559" y="202"/>
                </a:lnTo>
                <a:lnTo>
                  <a:pt x="1457" y="202"/>
                </a:lnTo>
                <a:lnTo>
                  <a:pt x="1203" y="253"/>
                </a:lnTo>
                <a:lnTo>
                  <a:pt x="983" y="270"/>
                </a:lnTo>
                <a:lnTo>
                  <a:pt x="745" y="321"/>
                </a:lnTo>
                <a:lnTo>
                  <a:pt x="491" y="354"/>
                </a:lnTo>
                <a:lnTo>
                  <a:pt x="373" y="371"/>
                </a:lnTo>
                <a:lnTo>
                  <a:pt x="288" y="371"/>
                </a:lnTo>
                <a:lnTo>
                  <a:pt x="220" y="388"/>
                </a:lnTo>
                <a:lnTo>
                  <a:pt x="186" y="371"/>
                </a:lnTo>
                <a:lnTo>
                  <a:pt x="119" y="371"/>
                </a:lnTo>
                <a:lnTo>
                  <a:pt x="68" y="337"/>
                </a:lnTo>
                <a:lnTo>
                  <a:pt x="34" y="321"/>
                </a:lnTo>
                <a:lnTo>
                  <a:pt x="17" y="321"/>
                </a:lnTo>
                <a:lnTo>
                  <a:pt x="0" y="304"/>
                </a:lnTo>
                <a:lnTo>
                  <a:pt x="0" y="287"/>
                </a:lnTo>
                <a:lnTo>
                  <a:pt x="34" y="270"/>
                </a:lnTo>
                <a:lnTo>
                  <a:pt x="85" y="270"/>
                </a:lnTo>
                <a:lnTo>
                  <a:pt x="153" y="2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31"/>
          <p:cNvSpPr/>
          <p:nvPr/>
        </p:nvSpPr>
        <p:spPr>
          <a:xfrm>
            <a:off x="5375160" y="2208240"/>
            <a:ext cx="1043280" cy="1436760"/>
          </a:xfrm>
          <a:custGeom>
            <a:avLst/>
            <a:gdLst/>
            <a:ahLst/>
            <a:rect l="l" t="t" r="r" b="b"/>
            <a:pathLst>
              <a:path w="1643" h="2264">
                <a:moveTo>
                  <a:pt x="1135" y="1419"/>
                </a:moveTo>
                <a:lnTo>
                  <a:pt x="1033" y="1537"/>
                </a:lnTo>
                <a:lnTo>
                  <a:pt x="932" y="1656"/>
                </a:lnTo>
                <a:lnTo>
                  <a:pt x="830" y="1774"/>
                </a:lnTo>
                <a:lnTo>
                  <a:pt x="712" y="1858"/>
                </a:lnTo>
                <a:lnTo>
                  <a:pt x="593" y="1960"/>
                </a:lnTo>
                <a:lnTo>
                  <a:pt x="474" y="2044"/>
                </a:lnTo>
                <a:lnTo>
                  <a:pt x="356" y="2112"/>
                </a:lnTo>
                <a:lnTo>
                  <a:pt x="237" y="2163"/>
                </a:lnTo>
                <a:lnTo>
                  <a:pt x="169" y="2196"/>
                </a:lnTo>
                <a:lnTo>
                  <a:pt x="135" y="2213"/>
                </a:lnTo>
                <a:lnTo>
                  <a:pt x="85" y="2230"/>
                </a:lnTo>
                <a:lnTo>
                  <a:pt x="51" y="2247"/>
                </a:lnTo>
                <a:lnTo>
                  <a:pt x="34" y="2247"/>
                </a:lnTo>
                <a:lnTo>
                  <a:pt x="17" y="2264"/>
                </a:lnTo>
                <a:lnTo>
                  <a:pt x="0" y="2264"/>
                </a:lnTo>
                <a:lnTo>
                  <a:pt x="0" y="2247"/>
                </a:lnTo>
                <a:lnTo>
                  <a:pt x="17" y="2213"/>
                </a:lnTo>
                <a:lnTo>
                  <a:pt x="68" y="2179"/>
                </a:lnTo>
                <a:lnTo>
                  <a:pt x="135" y="2146"/>
                </a:lnTo>
                <a:lnTo>
                  <a:pt x="203" y="2095"/>
                </a:lnTo>
                <a:lnTo>
                  <a:pt x="305" y="2027"/>
                </a:lnTo>
                <a:lnTo>
                  <a:pt x="407" y="1943"/>
                </a:lnTo>
                <a:lnTo>
                  <a:pt x="525" y="1842"/>
                </a:lnTo>
                <a:lnTo>
                  <a:pt x="644" y="1723"/>
                </a:lnTo>
                <a:lnTo>
                  <a:pt x="762" y="1605"/>
                </a:lnTo>
                <a:lnTo>
                  <a:pt x="864" y="1470"/>
                </a:lnTo>
                <a:lnTo>
                  <a:pt x="966" y="1335"/>
                </a:lnTo>
                <a:lnTo>
                  <a:pt x="1067" y="1183"/>
                </a:lnTo>
                <a:lnTo>
                  <a:pt x="1135" y="1031"/>
                </a:lnTo>
                <a:lnTo>
                  <a:pt x="1203" y="878"/>
                </a:lnTo>
                <a:lnTo>
                  <a:pt x="1254" y="710"/>
                </a:lnTo>
                <a:lnTo>
                  <a:pt x="1304" y="574"/>
                </a:lnTo>
                <a:lnTo>
                  <a:pt x="1321" y="439"/>
                </a:lnTo>
                <a:lnTo>
                  <a:pt x="1355" y="355"/>
                </a:lnTo>
                <a:lnTo>
                  <a:pt x="1355" y="270"/>
                </a:lnTo>
                <a:lnTo>
                  <a:pt x="1372" y="203"/>
                </a:lnTo>
                <a:lnTo>
                  <a:pt x="1355" y="152"/>
                </a:lnTo>
                <a:lnTo>
                  <a:pt x="1355" y="118"/>
                </a:lnTo>
                <a:lnTo>
                  <a:pt x="1338" y="84"/>
                </a:lnTo>
                <a:lnTo>
                  <a:pt x="1321" y="51"/>
                </a:lnTo>
                <a:lnTo>
                  <a:pt x="1304" y="34"/>
                </a:lnTo>
                <a:lnTo>
                  <a:pt x="1321" y="17"/>
                </a:lnTo>
                <a:lnTo>
                  <a:pt x="1355" y="0"/>
                </a:lnTo>
                <a:lnTo>
                  <a:pt x="1372" y="0"/>
                </a:lnTo>
                <a:lnTo>
                  <a:pt x="1423" y="0"/>
                </a:lnTo>
                <a:lnTo>
                  <a:pt x="1457" y="17"/>
                </a:lnTo>
                <a:lnTo>
                  <a:pt x="1508" y="34"/>
                </a:lnTo>
                <a:lnTo>
                  <a:pt x="1542" y="67"/>
                </a:lnTo>
                <a:lnTo>
                  <a:pt x="1593" y="84"/>
                </a:lnTo>
                <a:lnTo>
                  <a:pt x="1609" y="101"/>
                </a:lnTo>
                <a:lnTo>
                  <a:pt x="1626" y="135"/>
                </a:lnTo>
                <a:lnTo>
                  <a:pt x="1643" y="169"/>
                </a:lnTo>
                <a:lnTo>
                  <a:pt x="1626" y="203"/>
                </a:lnTo>
                <a:lnTo>
                  <a:pt x="1626" y="253"/>
                </a:lnTo>
                <a:lnTo>
                  <a:pt x="1609" y="321"/>
                </a:lnTo>
                <a:lnTo>
                  <a:pt x="1593" y="355"/>
                </a:lnTo>
                <a:lnTo>
                  <a:pt x="1576" y="405"/>
                </a:lnTo>
                <a:lnTo>
                  <a:pt x="1542" y="507"/>
                </a:lnTo>
                <a:lnTo>
                  <a:pt x="1491" y="642"/>
                </a:lnTo>
                <a:lnTo>
                  <a:pt x="1457" y="794"/>
                </a:lnTo>
                <a:lnTo>
                  <a:pt x="1389" y="963"/>
                </a:lnTo>
                <a:lnTo>
                  <a:pt x="1321" y="1115"/>
                </a:lnTo>
                <a:lnTo>
                  <a:pt x="1237" y="1267"/>
                </a:lnTo>
                <a:lnTo>
                  <a:pt x="1135" y="141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5859360" y="3313080"/>
            <a:ext cx="171720" cy="750960"/>
          </a:xfrm>
          <a:custGeom>
            <a:avLst/>
            <a:gdLst/>
            <a:ahLst/>
            <a:rect l="l" t="t" r="r" b="b"/>
            <a:pathLst>
              <a:path w="271" h="1183">
                <a:moveTo>
                  <a:pt x="204" y="0"/>
                </a:moveTo>
                <a:lnTo>
                  <a:pt x="204" y="186"/>
                </a:lnTo>
                <a:lnTo>
                  <a:pt x="221" y="355"/>
                </a:lnTo>
                <a:lnTo>
                  <a:pt x="238" y="507"/>
                </a:lnTo>
                <a:lnTo>
                  <a:pt x="238" y="642"/>
                </a:lnTo>
                <a:lnTo>
                  <a:pt x="254" y="760"/>
                </a:lnTo>
                <a:lnTo>
                  <a:pt x="254" y="845"/>
                </a:lnTo>
                <a:lnTo>
                  <a:pt x="271" y="929"/>
                </a:lnTo>
                <a:lnTo>
                  <a:pt x="271" y="980"/>
                </a:lnTo>
                <a:lnTo>
                  <a:pt x="271" y="1065"/>
                </a:lnTo>
                <a:lnTo>
                  <a:pt x="271" y="1115"/>
                </a:lnTo>
                <a:lnTo>
                  <a:pt x="254" y="1166"/>
                </a:lnTo>
                <a:lnTo>
                  <a:pt x="238" y="1183"/>
                </a:lnTo>
                <a:lnTo>
                  <a:pt x="221" y="1183"/>
                </a:lnTo>
                <a:lnTo>
                  <a:pt x="204" y="1183"/>
                </a:lnTo>
                <a:lnTo>
                  <a:pt x="170" y="1166"/>
                </a:lnTo>
                <a:lnTo>
                  <a:pt x="153" y="1132"/>
                </a:lnTo>
                <a:lnTo>
                  <a:pt x="136" y="1065"/>
                </a:lnTo>
                <a:lnTo>
                  <a:pt x="119" y="980"/>
                </a:lnTo>
                <a:lnTo>
                  <a:pt x="119" y="879"/>
                </a:lnTo>
                <a:lnTo>
                  <a:pt x="102" y="794"/>
                </a:lnTo>
                <a:lnTo>
                  <a:pt x="102" y="760"/>
                </a:lnTo>
                <a:lnTo>
                  <a:pt x="85" y="693"/>
                </a:lnTo>
                <a:lnTo>
                  <a:pt x="85" y="625"/>
                </a:lnTo>
                <a:lnTo>
                  <a:pt x="68" y="541"/>
                </a:lnTo>
                <a:lnTo>
                  <a:pt x="51" y="439"/>
                </a:lnTo>
                <a:lnTo>
                  <a:pt x="34" y="304"/>
                </a:lnTo>
                <a:lnTo>
                  <a:pt x="17" y="169"/>
                </a:lnTo>
                <a:lnTo>
                  <a:pt x="0" y="0"/>
                </a:lnTo>
                <a:lnTo>
                  <a:pt x="204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34"/>
          <p:cNvSpPr/>
          <p:nvPr/>
        </p:nvSpPr>
        <p:spPr>
          <a:xfrm>
            <a:off x="5913360" y="3205080"/>
            <a:ext cx="968400" cy="922320"/>
          </a:xfrm>
          <a:custGeom>
            <a:avLst/>
            <a:gdLst/>
            <a:ahLst/>
            <a:rect l="l" t="t" r="r" b="b"/>
            <a:pathLst>
              <a:path w="1525" h="1453">
                <a:moveTo>
                  <a:pt x="1084" y="169"/>
                </a:moveTo>
                <a:lnTo>
                  <a:pt x="1050" y="169"/>
                </a:lnTo>
                <a:lnTo>
                  <a:pt x="1017" y="169"/>
                </a:lnTo>
                <a:lnTo>
                  <a:pt x="966" y="169"/>
                </a:lnTo>
                <a:lnTo>
                  <a:pt x="915" y="169"/>
                </a:lnTo>
                <a:lnTo>
                  <a:pt x="847" y="186"/>
                </a:lnTo>
                <a:lnTo>
                  <a:pt x="779" y="186"/>
                </a:lnTo>
                <a:lnTo>
                  <a:pt x="695" y="203"/>
                </a:lnTo>
                <a:lnTo>
                  <a:pt x="610" y="220"/>
                </a:lnTo>
                <a:lnTo>
                  <a:pt x="424" y="237"/>
                </a:lnTo>
                <a:lnTo>
                  <a:pt x="254" y="271"/>
                </a:lnTo>
                <a:lnTo>
                  <a:pt x="119" y="287"/>
                </a:lnTo>
                <a:lnTo>
                  <a:pt x="0" y="287"/>
                </a:lnTo>
                <a:lnTo>
                  <a:pt x="0" y="169"/>
                </a:lnTo>
                <a:lnTo>
                  <a:pt x="153" y="169"/>
                </a:lnTo>
                <a:lnTo>
                  <a:pt x="322" y="152"/>
                </a:lnTo>
                <a:lnTo>
                  <a:pt x="491" y="118"/>
                </a:lnTo>
                <a:lnTo>
                  <a:pt x="661" y="102"/>
                </a:lnTo>
                <a:lnTo>
                  <a:pt x="762" y="85"/>
                </a:lnTo>
                <a:lnTo>
                  <a:pt x="830" y="68"/>
                </a:lnTo>
                <a:lnTo>
                  <a:pt x="898" y="68"/>
                </a:lnTo>
                <a:lnTo>
                  <a:pt x="966" y="51"/>
                </a:lnTo>
                <a:lnTo>
                  <a:pt x="1017" y="34"/>
                </a:lnTo>
                <a:lnTo>
                  <a:pt x="1050" y="34"/>
                </a:lnTo>
                <a:lnTo>
                  <a:pt x="1084" y="34"/>
                </a:lnTo>
                <a:lnTo>
                  <a:pt x="1101" y="17"/>
                </a:lnTo>
                <a:lnTo>
                  <a:pt x="1135" y="0"/>
                </a:lnTo>
                <a:lnTo>
                  <a:pt x="1186" y="0"/>
                </a:lnTo>
                <a:lnTo>
                  <a:pt x="1220" y="0"/>
                </a:lnTo>
                <a:lnTo>
                  <a:pt x="1254" y="17"/>
                </a:lnTo>
                <a:lnTo>
                  <a:pt x="1305" y="51"/>
                </a:lnTo>
                <a:lnTo>
                  <a:pt x="1389" y="102"/>
                </a:lnTo>
                <a:lnTo>
                  <a:pt x="1440" y="152"/>
                </a:lnTo>
                <a:lnTo>
                  <a:pt x="1491" y="186"/>
                </a:lnTo>
                <a:lnTo>
                  <a:pt x="1508" y="220"/>
                </a:lnTo>
                <a:lnTo>
                  <a:pt x="1525" y="237"/>
                </a:lnTo>
                <a:lnTo>
                  <a:pt x="1525" y="287"/>
                </a:lnTo>
                <a:lnTo>
                  <a:pt x="1508" y="338"/>
                </a:lnTo>
                <a:lnTo>
                  <a:pt x="1491" y="355"/>
                </a:lnTo>
                <a:lnTo>
                  <a:pt x="1474" y="372"/>
                </a:lnTo>
                <a:lnTo>
                  <a:pt x="1474" y="389"/>
                </a:lnTo>
                <a:lnTo>
                  <a:pt x="1474" y="439"/>
                </a:lnTo>
                <a:lnTo>
                  <a:pt x="1457" y="473"/>
                </a:lnTo>
                <a:lnTo>
                  <a:pt x="1457" y="524"/>
                </a:lnTo>
                <a:lnTo>
                  <a:pt x="1457" y="592"/>
                </a:lnTo>
                <a:lnTo>
                  <a:pt x="1440" y="659"/>
                </a:lnTo>
                <a:lnTo>
                  <a:pt x="1440" y="794"/>
                </a:lnTo>
                <a:lnTo>
                  <a:pt x="1423" y="929"/>
                </a:lnTo>
                <a:lnTo>
                  <a:pt x="1389" y="1031"/>
                </a:lnTo>
                <a:lnTo>
                  <a:pt x="1372" y="1132"/>
                </a:lnTo>
                <a:lnTo>
                  <a:pt x="1338" y="1234"/>
                </a:lnTo>
                <a:lnTo>
                  <a:pt x="1322" y="1301"/>
                </a:lnTo>
                <a:lnTo>
                  <a:pt x="1288" y="1352"/>
                </a:lnTo>
                <a:lnTo>
                  <a:pt x="1271" y="1403"/>
                </a:lnTo>
                <a:lnTo>
                  <a:pt x="1254" y="1419"/>
                </a:lnTo>
                <a:lnTo>
                  <a:pt x="1237" y="1436"/>
                </a:lnTo>
                <a:lnTo>
                  <a:pt x="1220" y="1453"/>
                </a:lnTo>
                <a:lnTo>
                  <a:pt x="1203" y="1453"/>
                </a:lnTo>
                <a:lnTo>
                  <a:pt x="1186" y="1453"/>
                </a:lnTo>
                <a:lnTo>
                  <a:pt x="1169" y="1436"/>
                </a:lnTo>
                <a:lnTo>
                  <a:pt x="1152" y="1403"/>
                </a:lnTo>
                <a:lnTo>
                  <a:pt x="1135" y="1352"/>
                </a:lnTo>
                <a:lnTo>
                  <a:pt x="1101" y="1301"/>
                </a:lnTo>
                <a:lnTo>
                  <a:pt x="1084" y="1234"/>
                </a:lnTo>
                <a:lnTo>
                  <a:pt x="1050" y="1149"/>
                </a:lnTo>
                <a:lnTo>
                  <a:pt x="1000" y="1048"/>
                </a:lnTo>
                <a:lnTo>
                  <a:pt x="1084" y="1065"/>
                </a:lnTo>
                <a:lnTo>
                  <a:pt x="1135" y="1065"/>
                </a:lnTo>
                <a:lnTo>
                  <a:pt x="1169" y="1065"/>
                </a:lnTo>
                <a:lnTo>
                  <a:pt x="1186" y="1048"/>
                </a:lnTo>
                <a:lnTo>
                  <a:pt x="1203" y="1014"/>
                </a:lnTo>
                <a:lnTo>
                  <a:pt x="1203" y="980"/>
                </a:lnTo>
                <a:lnTo>
                  <a:pt x="1220" y="913"/>
                </a:lnTo>
                <a:lnTo>
                  <a:pt x="1220" y="845"/>
                </a:lnTo>
                <a:lnTo>
                  <a:pt x="1237" y="659"/>
                </a:lnTo>
                <a:lnTo>
                  <a:pt x="1254" y="473"/>
                </a:lnTo>
                <a:lnTo>
                  <a:pt x="1254" y="389"/>
                </a:lnTo>
                <a:lnTo>
                  <a:pt x="1237" y="321"/>
                </a:lnTo>
                <a:lnTo>
                  <a:pt x="1237" y="271"/>
                </a:lnTo>
                <a:lnTo>
                  <a:pt x="1220" y="237"/>
                </a:lnTo>
                <a:lnTo>
                  <a:pt x="1203" y="203"/>
                </a:lnTo>
                <a:lnTo>
                  <a:pt x="1169" y="186"/>
                </a:lnTo>
                <a:lnTo>
                  <a:pt x="1135" y="186"/>
                </a:lnTo>
                <a:lnTo>
                  <a:pt x="1084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5"/>
          <p:cNvSpPr/>
          <p:nvPr/>
        </p:nvSpPr>
        <p:spPr>
          <a:xfrm>
            <a:off x="6053040" y="3538440"/>
            <a:ext cx="547920" cy="128520"/>
          </a:xfrm>
          <a:custGeom>
            <a:avLst/>
            <a:gdLst/>
            <a:ahLst/>
            <a:rect l="l" t="t" r="r" b="b"/>
            <a:pathLst>
              <a:path w="864" h="203">
                <a:moveTo>
                  <a:pt x="0" y="101"/>
                </a:moveTo>
                <a:lnTo>
                  <a:pt x="187" y="68"/>
                </a:lnTo>
                <a:lnTo>
                  <a:pt x="390" y="51"/>
                </a:lnTo>
                <a:lnTo>
                  <a:pt x="492" y="34"/>
                </a:lnTo>
                <a:lnTo>
                  <a:pt x="576" y="17"/>
                </a:lnTo>
                <a:lnTo>
                  <a:pt x="644" y="0"/>
                </a:lnTo>
                <a:lnTo>
                  <a:pt x="695" y="0"/>
                </a:lnTo>
                <a:lnTo>
                  <a:pt x="746" y="0"/>
                </a:lnTo>
                <a:lnTo>
                  <a:pt x="814" y="17"/>
                </a:lnTo>
                <a:lnTo>
                  <a:pt x="830" y="34"/>
                </a:lnTo>
                <a:lnTo>
                  <a:pt x="847" y="51"/>
                </a:lnTo>
                <a:lnTo>
                  <a:pt x="864" y="51"/>
                </a:lnTo>
                <a:lnTo>
                  <a:pt x="864" y="68"/>
                </a:lnTo>
                <a:lnTo>
                  <a:pt x="864" y="84"/>
                </a:lnTo>
                <a:lnTo>
                  <a:pt x="830" y="101"/>
                </a:lnTo>
                <a:lnTo>
                  <a:pt x="797" y="101"/>
                </a:lnTo>
                <a:lnTo>
                  <a:pt x="746" y="118"/>
                </a:lnTo>
                <a:lnTo>
                  <a:pt x="627" y="135"/>
                </a:lnTo>
                <a:lnTo>
                  <a:pt x="509" y="152"/>
                </a:lnTo>
                <a:lnTo>
                  <a:pt x="458" y="152"/>
                </a:lnTo>
                <a:lnTo>
                  <a:pt x="407" y="169"/>
                </a:lnTo>
                <a:lnTo>
                  <a:pt x="271" y="186"/>
                </a:lnTo>
                <a:lnTo>
                  <a:pt x="204" y="186"/>
                </a:lnTo>
                <a:lnTo>
                  <a:pt x="136" y="203"/>
                </a:lnTo>
                <a:lnTo>
                  <a:pt x="102" y="203"/>
                </a:lnTo>
                <a:lnTo>
                  <a:pt x="85" y="203"/>
                </a:lnTo>
                <a:lnTo>
                  <a:pt x="68" y="186"/>
                </a:lnTo>
                <a:lnTo>
                  <a:pt x="51" y="169"/>
                </a:lnTo>
                <a:lnTo>
                  <a:pt x="34" y="135"/>
                </a:lnTo>
                <a:lnTo>
                  <a:pt x="0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6"/>
          <p:cNvSpPr/>
          <p:nvPr/>
        </p:nvSpPr>
        <p:spPr>
          <a:xfrm>
            <a:off x="6267600" y="3313080"/>
            <a:ext cx="107640" cy="579600"/>
          </a:xfrm>
          <a:custGeom>
            <a:avLst/>
            <a:gdLst/>
            <a:ahLst/>
            <a:rect l="l" t="t" r="r" b="b"/>
            <a:pathLst>
              <a:path w="170" h="913">
                <a:moveTo>
                  <a:pt x="0" y="0"/>
                </a:moveTo>
                <a:lnTo>
                  <a:pt x="51" y="34"/>
                </a:lnTo>
                <a:lnTo>
                  <a:pt x="85" y="51"/>
                </a:lnTo>
                <a:lnTo>
                  <a:pt x="119" y="68"/>
                </a:lnTo>
                <a:lnTo>
                  <a:pt x="153" y="85"/>
                </a:lnTo>
                <a:lnTo>
                  <a:pt x="170" y="118"/>
                </a:lnTo>
                <a:lnTo>
                  <a:pt x="170" y="152"/>
                </a:lnTo>
                <a:lnTo>
                  <a:pt x="170" y="203"/>
                </a:lnTo>
                <a:lnTo>
                  <a:pt x="170" y="270"/>
                </a:lnTo>
                <a:lnTo>
                  <a:pt x="153" y="304"/>
                </a:lnTo>
                <a:lnTo>
                  <a:pt x="153" y="338"/>
                </a:lnTo>
                <a:lnTo>
                  <a:pt x="153" y="406"/>
                </a:lnTo>
                <a:lnTo>
                  <a:pt x="153" y="473"/>
                </a:lnTo>
                <a:lnTo>
                  <a:pt x="153" y="558"/>
                </a:lnTo>
                <a:lnTo>
                  <a:pt x="153" y="659"/>
                </a:lnTo>
                <a:lnTo>
                  <a:pt x="153" y="777"/>
                </a:lnTo>
                <a:lnTo>
                  <a:pt x="153" y="913"/>
                </a:lnTo>
                <a:lnTo>
                  <a:pt x="17" y="913"/>
                </a:lnTo>
                <a:lnTo>
                  <a:pt x="17" y="744"/>
                </a:lnTo>
                <a:lnTo>
                  <a:pt x="17" y="591"/>
                </a:lnTo>
                <a:lnTo>
                  <a:pt x="0" y="456"/>
                </a:lnTo>
                <a:lnTo>
                  <a:pt x="0" y="321"/>
                </a:lnTo>
                <a:lnTo>
                  <a:pt x="0" y="220"/>
                </a:lnTo>
                <a:lnTo>
                  <a:pt x="0" y="135"/>
                </a:lnTo>
                <a:lnTo>
                  <a:pt x="0" y="6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7"/>
          <p:cNvSpPr/>
          <p:nvPr/>
        </p:nvSpPr>
        <p:spPr>
          <a:xfrm>
            <a:off x="5987880" y="3838680"/>
            <a:ext cx="635040" cy="139680"/>
          </a:xfrm>
          <a:custGeom>
            <a:avLst/>
            <a:gdLst/>
            <a:ahLst/>
            <a:rect l="l" t="t" r="r" b="b"/>
            <a:pathLst>
              <a:path w="999" h="220">
                <a:moveTo>
                  <a:pt x="491" y="34"/>
                </a:moveTo>
                <a:lnTo>
                  <a:pt x="559" y="34"/>
                </a:lnTo>
                <a:lnTo>
                  <a:pt x="627" y="17"/>
                </a:lnTo>
                <a:lnTo>
                  <a:pt x="677" y="17"/>
                </a:lnTo>
                <a:lnTo>
                  <a:pt x="728" y="0"/>
                </a:lnTo>
                <a:lnTo>
                  <a:pt x="762" y="0"/>
                </a:lnTo>
                <a:lnTo>
                  <a:pt x="796" y="0"/>
                </a:lnTo>
                <a:lnTo>
                  <a:pt x="830" y="0"/>
                </a:lnTo>
                <a:lnTo>
                  <a:pt x="881" y="0"/>
                </a:lnTo>
                <a:lnTo>
                  <a:pt x="931" y="34"/>
                </a:lnTo>
                <a:lnTo>
                  <a:pt x="965" y="68"/>
                </a:lnTo>
                <a:lnTo>
                  <a:pt x="982" y="85"/>
                </a:lnTo>
                <a:lnTo>
                  <a:pt x="982" y="101"/>
                </a:lnTo>
                <a:lnTo>
                  <a:pt x="999" y="135"/>
                </a:lnTo>
                <a:lnTo>
                  <a:pt x="796" y="152"/>
                </a:lnTo>
                <a:lnTo>
                  <a:pt x="610" y="169"/>
                </a:lnTo>
                <a:lnTo>
                  <a:pt x="457" y="169"/>
                </a:lnTo>
                <a:lnTo>
                  <a:pt x="322" y="186"/>
                </a:lnTo>
                <a:lnTo>
                  <a:pt x="203" y="203"/>
                </a:lnTo>
                <a:lnTo>
                  <a:pt x="118" y="203"/>
                </a:lnTo>
                <a:lnTo>
                  <a:pt x="34" y="220"/>
                </a:lnTo>
                <a:lnTo>
                  <a:pt x="0" y="220"/>
                </a:lnTo>
                <a:lnTo>
                  <a:pt x="0" y="118"/>
                </a:lnTo>
                <a:lnTo>
                  <a:pt x="237" y="68"/>
                </a:lnTo>
                <a:lnTo>
                  <a:pt x="491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32"/>
          <p:cNvSpPr/>
          <p:nvPr/>
        </p:nvSpPr>
        <p:spPr>
          <a:xfrm>
            <a:off x="6289560" y="2668680"/>
            <a:ext cx="1140120" cy="741240"/>
          </a:xfrm>
          <a:custGeom>
            <a:avLst/>
            <a:gdLst/>
            <a:ahLst/>
            <a:rect l="l" t="t" r="r" b="b"/>
            <a:pathLst>
              <a:path w="1796" h="1166">
                <a:moveTo>
                  <a:pt x="1288" y="1166"/>
                </a:moveTo>
                <a:lnTo>
                  <a:pt x="1237" y="1149"/>
                </a:lnTo>
                <a:lnTo>
                  <a:pt x="1169" y="1116"/>
                </a:lnTo>
                <a:lnTo>
                  <a:pt x="1101" y="1065"/>
                </a:lnTo>
                <a:lnTo>
                  <a:pt x="1017" y="980"/>
                </a:lnTo>
                <a:lnTo>
                  <a:pt x="915" y="896"/>
                </a:lnTo>
                <a:lnTo>
                  <a:pt x="813" y="811"/>
                </a:lnTo>
                <a:lnTo>
                  <a:pt x="712" y="710"/>
                </a:lnTo>
                <a:lnTo>
                  <a:pt x="576" y="592"/>
                </a:lnTo>
                <a:lnTo>
                  <a:pt x="457" y="473"/>
                </a:lnTo>
                <a:lnTo>
                  <a:pt x="305" y="338"/>
                </a:lnTo>
                <a:lnTo>
                  <a:pt x="153" y="203"/>
                </a:lnTo>
                <a:lnTo>
                  <a:pt x="0" y="51"/>
                </a:lnTo>
                <a:lnTo>
                  <a:pt x="85" y="0"/>
                </a:lnTo>
                <a:lnTo>
                  <a:pt x="356" y="220"/>
                </a:lnTo>
                <a:lnTo>
                  <a:pt x="627" y="423"/>
                </a:lnTo>
                <a:lnTo>
                  <a:pt x="745" y="524"/>
                </a:lnTo>
                <a:lnTo>
                  <a:pt x="864" y="626"/>
                </a:lnTo>
                <a:lnTo>
                  <a:pt x="983" y="693"/>
                </a:lnTo>
                <a:lnTo>
                  <a:pt x="1084" y="761"/>
                </a:lnTo>
                <a:lnTo>
                  <a:pt x="1203" y="811"/>
                </a:lnTo>
                <a:lnTo>
                  <a:pt x="1305" y="862"/>
                </a:lnTo>
                <a:lnTo>
                  <a:pt x="1423" y="913"/>
                </a:lnTo>
                <a:lnTo>
                  <a:pt x="1559" y="947"/>
                </a:lnTo>
                <a:lnTo>
                  <a:pt x="1610" y="963"/>
                </a:lnTo>
                <a:lnTo>
                  <a:pt x="1660" y="980"/>
                </a:lnTo>
                <a:lnTo>
                  <a:pt x="1711" y="997"/>
                </a:lnTo>
                <a:lnTo>
                  <a:pt x="1745" y="1014"/>
                </a:lnTo>
                <a:lnTo>
                  <a:pt x="1762" y="1031"/>
                </a:lnTo>
                <a:lnTo>
                  <a:pt x="1779" y="1031"/>
                </a:lnTo>
                <a:lnTo>
                  <a:pt x="1796" y="1048"/>
                </a:lnTo>
                <a:lnTo>
                  <a:pt x="1796" y="1065"/>
                </a:lnTo>
                <a:lnTo>
                  <a:pt x="1796" y="1082"/>
                </a:lnTo>
                <a:lnTo>
                  <a:pt x="1745" y="1099"/>
                </a:lnTo>
                <a:lnTo>
                  <a:pt x="1694" y="1116"/>
                </a:lnTo>
                <a:lnTo>
                  <a:pt x="1643" y="1132"/>
                </a:lnTo>
                <a:lnTo>
                  <a:pt x="1593" y="1132"/>
                </a:lnTo>
                <a:lnTo>
                  <a:pt x="1491" y="1149"/>
                </a:lnTo>
                <a:lnTo>
                  <a:pt x="1406" y="1166"/>
                </a:lnTo>
                <a:lnTo>
                  <a:pt x="1338" y="1166"/>
                </a:lnTo>
                <a:lnTo>
                  <a:pt x="1288" y="116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1"/>
          <p:cNvSpPr/>
          <p:nvPr/>
        </p:nvSpPr>
        <p:spPr>
          <a:xfrm>
            <a:off x="1042920" y="1778040"/>
            <a:ext cx="7456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神州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大陆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奋发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情谊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繁荣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珠峰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组合 1"/>
          <p:cNvGrpSpPr/>
          <p:nvPr/>
        </p:nvGrpSpPr>
        <p:grpSpPr>
          <a:xfrm>
            <a:off x="558720" y="1060560"/>
            <a:ext cx="2594160" cy="666720"/>
            <a:chOff x="558720" y="1060560"/>
            <a:chExt cx="2594160" cy="666720"/>
          </a:xfrm>
        </p:grpSpPr>
        <p:sp>
          <p:nvSpPr>
            <p:cNvPr id="409" name="圆角矩形 5"/>
            <p:cNvSpPr/>
            <p:nvPr/>
          </p:nvSpPr>
          <p:spPr>
            <a:xfrm>
              <a:off x="1374840" y="11984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06056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文本框 16"/>
            <p:cNvSpPr/>
            <p:nvPr/>
          </p:nvSpPr>
          <p:spPr>
            <a:xfrm>
              <a:off x="1634040" y="121752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矩形 1"/>
          <p:cNvSpPr/>
          <p:nvPr/>
        </p:nvSpPr>
        <p:spPr>
          <a:xfrm>
            <a:off x="1706400" y="1779480"/>
            <a:ext cx="664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战国时人驺衍称中国为“赤县神州”，后来用“神州”作为中国的代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特指我国领土的广大陆地部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精神振作，情绪高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例句：我们只有奋发图强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才能进入世界强国之林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与人相互关切、爱护的感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例句：中国人民志愿军和朝鲜人民建立了深厚的情谊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兴旺发展或使兴旺发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例句：改革开放以来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祖国处处呈现出一片繁荣的景象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珠穆朗玛峰的简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1"/>
          <p:cNvSpPr/>
          <p:nvPr/>
        </p:nvSpPr>
        <p:spPr>
          <a:xfrm>
            <a:off x="4282920" y="186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繁荣 繁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286000" y="2344680"/>
            <a:ext cx="62564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两个词都有“繁盛”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繁荣”多用来形容大环境；“繁华”多用来形容小环境，指某个场景人多热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祝福祖国</a:t>
            </a:r>
            <a:r>
              <a:rPr b="1" lang="zh-CN" sz="2400" spc="-1" strike="noStrike">
                <a:solidFill>
                  <a:srgbClr val="ff33cc"/>
                </a:solidFill>
                <a:latin typeface="楷体"/>
                <a:ea typeface="楷体"/>
              </a:rPr>
              <a:t>繁荣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昌盛，五谷丰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北京是个</a:t>
            </a:r>
            <a:r>
              <a:rPr b="1" lang="zh-CN" sz="2400" spc="-1" strike="noStrike">
                <a:solidFill>
                  <a:srgbClr val="ff33cc"/>
                </a:solidFill>
                <a:latin typeface="楷体"/>
                <a:ea typeface="楷体"/>
              </a:rPr>
              <a:t>繁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都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组合 13"/>
          <p:cNvGrpSpPr/>
          <p:nvPr/>
        </p:nvGrpSpPr>
        <p:grpSpPr>
          <a:xfrm>
            <a:off x="517680" y="1252440"/>
            <a:ext cx="2593800" cy="666720"/>
            <a:chOff x="517680" y="1252440"/>
            <a:chExt cx="2593800" cy="666720"/>
          </a:xfrm>
        </p:grpSpPr>
        <p:sp>
          <p:nvSpPr>
            <p:cNvPr id="416" name="圆角矩形 14"/>
            <p:cNvSpPr/>
            <p:nvPr/>
          </p:nvSpPr>
          <p:spPr>
            <a:xfrm>
              <a:off x="1333440" y="13903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7680" y="12524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文本框 16"/>
            <p:cNvSpPr/>
            <p:nvPr/>
          </p:nvSpPr>
          <p:spPr>
            <a:xfrm>
              <a:off x="1593000" y="140940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4"/>
          <p:cNvGrpSpPr/>
          <p:nvPr/>
        </p:nvGrpSpPr>
        <p:grpSpPr>
          <a:xfrm>
            <a:off x="760320" y="2455920"/>
            <a:ext cx="1670040" cy="459720"/>
            <a:chOff x="760320" y="2455920"/>
            <a:chExt cx="1670040" cy="459720"/>
          </a:xfrm>
        </p:grpSpPr>
        <p:pic>
          <p:nvPicPr>
            <p:cNvPr id="420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760320" y="2510280"/>
              <a:ext cx="366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Box 3"/>
            <p:cNvSpPr/>
            <p:nvPr/>
          </p:nvSpPr>
          <p:spPr>
            <a:xfrm>
              <a:off x="1103400" y="24559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20"/>
          <p:cNvGrpSpPr/>
          <p:nvPr/>
        </p:nvGrpSpPr>
        <p:grpSpPr>
          <a:xfrm>
            <a:off x="747720" y="3048120"/>
            <a:ext cx="1670040" cy="459720"/>
            <a:chOff x="747720" y="3048120"/>
            <a:chExt cx="1670040" cy="459720"/>
          </a:xfrm>
        </p:grpSpPr>
        <p:pic>
          <p:nvPicPr>
            <p:cNvPr id="423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747720" y="3102480"/>
              <a:ext cx="36612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Box 22"/>
            <p:cNvSpPr/>
            <p:nvPr/>
          </p:nvSpPr>
          <p:spPr>
            <a:xfrm>
              <a:off x="1090800" y="30481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23"/>
          <p:cNvGrpSpPr/>
          <p:nvPr/>
        </p:nvGrpSpPr>
        <p:grpSpPr>
          <a:xfrm>
            <a:off x="708120" y="4245120"/>
            <a:ext cx="1682640" cy="459720"/>
            <a:chOff x="708120" y="4245120"/>
            <a:chExt cx="1682640" cy="459720"/>
          </a:xfrm>
        </p:grpSpPr>
        <p:pic>
          <p:nvPicPr>
            <p:cNvPr id="426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708120" y="4286520"/>
              <a:ext cx="366120" cy="34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Box 25"/>
            <p:cNvSpPr/>
            <p:nvPr/>
          </p:nvSpPr>
          <p:spPr>
            <a:xfrm>
              <a:off x="1064160" y="424512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C:\Users\Administrator\Desktop\新归类\2017秋原稿\张存霞老师课件\课件模板（老师修改）\小学语文课件模板（老师修改）4.20\可改图标\再读感悟.png"/>
          <p:cNvPicPr/>
          <p:nvPr/>
        </p:nvPicPr>
        <p:blipFill>
          <a:blip r:embed="rId1"/>
          <a:stretch/>
        </p:blipFill>
        <p:spPr>
          <a:xfrm>
            <a:off x="3406680" y="284040"/>
            <a:ext cx="2516400" cy="66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29" name="组合 2"/>
          <p:cNvGrpSpPr/>
          <p:nvPr/>
        </p:nvGrpSpPr>
        <p:grpSpPr>
          <a:xfrm>
            <a:off x="1271520" y="2208240"/>
            <a:ext cx="7150320" cy="3255840"/>
            <a:chOff x="1271520" y="2208240"/>
            <a:chExt cx="7150320" cy="3255840"/>
          </a:xfrm>
        </p:grpSpPr>
        <p:pic>
          <p:nvPicPr>
            <p:cNvPr id="430" name="任意多边形 3" descr=""/>
            <p:cNvPicPr/>
            <p:nvPr/>
          </p:nvPicPr>
          <p:blipFill>
            <a:blip r:embed="rId2"/>
            <a:stretch/>
          </p:blipFill>
          <p:spPr>
            <a:xfrm>
              <a:off x="1271520" y="2208240"/>
              <a:ext cx="71503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任意多边形 4"/>
            <p:cNvSpPr/>
            <p:nvPr/>
          </p:nvSpPr>
          <p:spPr>
            <a:xfrm>
              <a:off x="1425240" y="3828960"/>
              <a:ext cx="6826680" cy="136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1400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边读边想，每小节写了什么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3"/>
          <p:cNvSpPr/>
          <p:nvPr/>
        </p:nvSpPr>
        <p:spPr>
          <a:xfrm>
            <a:off x="824040" y="2181240"/>
            <a:ext cx="768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第一小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说祖国山河壮美，风景如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第二小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祖国的黄河、长江、长城和珠峰的雄伟、壮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第三小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台湾与大陆是一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第四小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各民族共同奋斗，实现祖国的繁荣富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组合 11" descr=""/>
          <p:cNvPicPr/>
          <p:nvPr/>
        </p:nvPicPr>
        <p:blipFill>
          <a:blip r:embed="rId1"/>
          <a:stretch/>
        </p:blipFill>
        <p:spPr>
          <a:xfrm>
            <a:off x="939960" y="1162080"/>
            <a:ext cx="379872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示 7" descr=""/>
          <p:cNvPicPr/>
          <p:nvPr/>
        </p:nvPicPr>
        <p:blipFill>
          <a:blip r:embed="rId1"/>
          <a:stretch/>
        </p:blipFill>
        <p:spPr>
          <a:xfrm>
            <a:off x="681120" y="1360440"/>
            <a:ext cx="2963880" cy="762120"/>
          </a:xfrm>
          <a:prstGeom prst="rect">
            <a:avLst/>
          </a:prstGeom>
          <a:ln w="0">
            <a:noFill/>
          </a:ln>
        </p:spPr>
      </p:pic>
      <p:sp>
        <p:nvSpPr>
          <p:cNvPr id="435" name="矩形 11"/>
          <p:cNvSpPr/>
          <p:nvPr/>
        </p:nvSpPr>
        <p:spPr>
          <a:xfrm>
            <a:off x="631800" y="230976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后，你感受到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11"/>
          <p:cNvSpPr/>
          <p:nvPr/>
        </p:nvSpPr>
        <p:spPr>
          <a:xfrm>
            <a:off x="1144440" y="3400560"/>
            <a:ext cx="73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我们从读中感受到了祖国山川美如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876240" y="2543040"/>
            <a:ext cx="72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本课生字，能正确读写生字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初步感知课文内容。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示 4" descr=""/>
          <p:cNvPicPr/>
          <p:nvPr/>
        </p:nvPicPr>
        <p:blipFill>
          <a:blip r:embed="rId1"/>
          <a:stretch/>
        </p:blipFill>
        <p:spPr>
          <a:xfrm>
            <a:off x="884160" y="1360440"/>
            <a:ext cx="296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893880" y="1711440"/>
            <a:ext cx="763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河简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世界上含沙量最多的河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黄河，中国的母亲河，若把祖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比作昂首挺立的雄鸡，黄河便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雄鸡心脏的动脉。它见证了中华人民共和国伟大的发展。黄河流程达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464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米，流域面积达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5244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公里，上千条支流与溪川相连，犹如无数毛细血管，源源不断地为祖国大地输送着活力与生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1" name="图片 14" descr="IMG_256"/>
          <p:cNvPicPr/>
          <p:nvPr/>
        </p:nvPicPr>
        <p:blipFill>
          <a:blip r:embed="rId2"/>
          <a:stretch/>
        </p:blipFill>
        <p:spPr>
          <a:xfrm>
            <a:off x="5521320" y="2297160"/>
            <a:ext cx="30081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8fc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"/>
          <p:cNvSpPr/>
          <p:nvPr/>
        </p:nvSpPr>
        <p:spPr>
          <a:xfrm>
            <a:off x="606600" y="134604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长江简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亚洲第一长河，全长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39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它发源于青藏高原唐古拉山的主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拉丹冬雪山。长江是世界第三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河，仅次于非洲的尼罗河与南美洲的亚马逊河，水量也是世界第三。总面积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85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公里（不包括淮河流域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约占全国土地总面积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/5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和黄河一起并称为“母亲河”。长江长城黄山黄河是中国的标志景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673" descr="IMG_256"/>
          <p:cNvPicPr/>
          <p:nvPr/>
        </p:nvPicPr>
        <p:blipFill>
          <a:blip r:embed="rId1"/>
          <a:stretch/>
        </p:blipFill>
        <p:spPr>
          <a:xfrm>
            <a:off x="5448240" y="1940040"/>
            <a:ext cx="30416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776160" y="1117440"/>
            <a:ext cx="78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长城简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又称“万里长城”，是中国古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在不同时期为抵御塞北游牧部落联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侵袭而修筑的规模浩大的军事工程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统称。长城始建于春秋战国时期，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修于燕王，历史长达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多年。今天所指的万里长城多指明代修建的长城，它东起鸭绿江，西至内陆地区甘肃省的嘉峪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国家文物局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宣布中国历代长城总长度为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1196.1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千米，分布于北京、天津、河北、山西、内蒙古、辽宁、吉林、黑龙江、山东、河南、陕西、甘肃、青海等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个省区，包括长城墙体、壕堑、单体建筑、关堡和相关设施等长城遗产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372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643" descr="IMG_256"/>
          <p:cNvPicPr/>
          <p:nvPr/>
        </p:nvPicPr>
        <p:blipFill>
          <a:blip r:embed="rId1"/>
          <a:stretch/>
        </p:blipFill>
        <p:spPr>
          <a:xfrm>
            <a:off x="5135400" y="1555920"/>
            <a:ext cx="3356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971640" y="1639800"/>
            <a:ext cx="758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珠峰简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珠穆朗玛峰，简称珠峰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位于中华人民共和国和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泊尔交界的喜马拉雅山脉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，终年积雪。高度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844.4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米，为世界第一高峰，中国最美的、令人震撼的十大名山之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18" descr="IMG_256"/>
          <p:cNvPicPr/>
          <p:nvPr/>
        </p:nvPicPr>
        <p:blipFill>
          <a:blip r:embed="rId1"/>
          <a:stretch/>
        </p:blipFill>
        <p:spPr>
          <a:xfrm>
            <a:off x="5081760" y="2085840"/>
            <a:ext cx="29127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听英语.png"/>
          <p:cNvPicPr/>
          <p:nvPr/>
        </p:nvPicPr>
        <p:blipFill>
          <a:blip r:embed="rId1"/>
          <a:stretch/>
        </p:blipFill>
        <p:spPr>
          <a:xfrm>
            <a:off x="5111640" y="1409760"/>
            <a:ext cx="2489400" cy="416556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19"/>
          <p:cNvGrpSpPr/>
          <p:nvPr/>
        </p:nvGrpSpPr>
        <p:grpSpPr>
          <a:xfrm>
            <a:off x="1711440" y="1627920"/>
            <a:ext cx="2838240" cy="4020480"/>
            <a:chOff x="1711440" y="1627920"/>
            <a:chExt cx="2838240" cy="4020480"/>
          </a:xfrm>
        </p:grpSpPr>
        <p:sp>
          <p:nvSpPr>
            <p:cNvPr id="84" name="Oval 677"/>
            <p:cNvSpPr/>
            <p:nvPr/>
          </p:nvSpPr>
          <p:spPr>
            <a:xfrm rot="21274800">
              <a:off x="1941120" y="1731600"/>
              <a:ext cx="2309760" cy="2311560"/>
            </a:xfrm>
            <a:prstGeom prst="ellipse">
              <a:avLst/>
            </a:prstGeom>
            <a:gradFill rotWithShape="0">
              <a:gsLst>
                <a:gs pos="0">
                  <a:srgbClr val="eea420"/>
                </a:gs>
                <a:gs pos="100000">
                  <a:srgbClr val="df6421"/>
                </a:gs>
              </a:gsLst>
              <a:lin ang="57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510"/>
            <p:cNvSpPr/>
            <p:nvPr/>
          </p:nvSpPr>
          <p:spPr>
            <a:xfrm>
              <a:off x="2055960" y="3206880"/>
              <a:ext cx="2086920" cy="744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512"/>
            <p:cNvSpPr/>
            <p:nvPr/>
          </p:nvSpPr>
          <p:spPr>
            <a:xfrm>
              <a:off x="2360880" y="1973160"/>
              <a:ext cx="615600" cy="62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513"/>
            <p:cNvSpPr/>
            <p:nvPr/>
          </p:nvSpPr>
          <p:spPr>
            <a:xfrm>
              <a:off x="1711440" y="3832560"/>
              <a:ext cx="2838240" cy="1815840"/>
            </a:xfrm>
            <a:prstGeom prst="roundRect">
              <a:avLst>
                <a:gd name="adj" fmla="val 5801"/>
              </a:avLst>
            </a:prstGeom>
            <a:solidFill>
              <a:srgbClr val="ffffff"/>
            </a:solidFill>
            <a:ln w="57240">
              <a:solidFill>
                <a:srgbClr val="f69d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6"/>
            <p:cNvSpPr/>
            <p:nvPr/>
          </p:nvSpPr>
          <p:spPr>
            <a:xfrm>
              <a:off x="2262240" y="2119320"/>
              <a:ext cx="18810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Adobe 黑体 Std R"/>
                  <a:ea typeface="Adobe 黑体 Std R"/>
                  <a:hlinkClick r:id="rId2"/>
                </a:rPr>
                <a:t>   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黑体"/>
                  <a:ea typeface="黑体"/>
                  <a:hlinkClick r:id="rId3"/>
                </a:rPr>
                <a:t>点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黑体"/>
                  <a:ea typeface="黑体"/>
                  <a:hlinkClick r:id="rId4"/>
                </a:rPr>
                <a:t>听朗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" name="组 53"/>
            <p:cNvGrpSpPr/>
            <p:nvPr/>
          </p:nvGrpSpPr>
          <p:grpSpPr>
            <a:xfrm>
              <a:off x="2289960" y="2029680"/>
              <a:ext cx="655200" cy="655200"/>
              <a:chOff x="2289960" y="2029680"/>
              <a:chExt cx="655200" cy="655200"/>
            </a:xfrm>
          </p:grpSpPr>
          <p:sp>
            <p:nvSpPr>
              <p:cNvPr id="90" name="椭圆 27"/>
              <p:cNvSpPr/>
              <p:nvPr/>
            </p:nvSpPr>
            <p:spPr>
              <a:xfrm>
                <a:off x="2565360" y="2180880"/>
                <a:ext cx="207720" cy="2077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" name="图片 10" descr=""/>
              <p:cNvPicPr/>
              <p:nvPr/>
            </p:nvPicPr>
            <p:blipFill>
              <a:blip r:embed="rId5"/>
              <a:stretch/>
            </p:blipFill>
            <p:spPr>
              <a:xfrm rot="2700000">
                <a:off x="2420640" y="2090520"/>
                <a:ext cx="39348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矩形 11"/>
            <p:cNvSpPr/>
            <p:nvPr/>
          </p:nvSpPr>
          <p:spPr>
            <a:xfrm>
              <a:off x="1963440" y="3832560"/>
              <a:ext cx="24217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4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听范读，边听边画出课文中的生字词。同时认准字音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理解词语意思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2" descr="C:\Users\Administrator\Desktop\3333\初读感知.png"/>
          <p:cNvPicPr/>
          <p:nvPr/>
        </p:nvPicPr>
        <p:blipFill>
          <a:blip r:embed="rId6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5"/>
          <p:cNvGrpSpPr/>
          <p:nvPr/>
        </p:nvGrpSpPr>
        <p:grpSpPr>
          <a:xfrm>
            <a:off x="971640" y="1376280"/>
            <a:ext cx="7149960" cy="4519800"/>
            <a:chOff x="971640" y="1376280"/>
            <a:chExt cx="7149960" cy="4519800"/>
          </a:xfrm>
        </p:grpSpPr>
        <p:pic>
          <p:nvPicPr>
            <p:cNvPr id="95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971640" y="1376280"/>
              <a:ext cx="7149960" cy="45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任意多边形 7"/>
            <p:cNvSpPr/>
            <p:nvPr/>
          </p:nvSpPr>
          <p:spPr>
            <a:xfrm>
              <a:off x="1125360" y="2606400"/>
              <a:ext cx="6826320" cy="2980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请同学们自由朗读课文，努力读准字音、读通句子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想一想：课文主要写了什么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gxnb</cp:lastModifiedBy>
  <dcterms:modified xsi:type="dcterms:W3CDTF">2018-01-12T12:15:50Z</dcterms:modified>
  <cp:revision>5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