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252-F78D-4C3A-9C3F-47458BFA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43E-74BC-494C-B905-2E85FA2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338-49B7-4B48-9052-32634509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3EE-4107-4DC1-B377-780F7834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784-1FDE-4A82-ACB5-23884B2F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A9C-9960-419B-8BEB-773D613A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CEC-BA28-487E-AD98-A760E315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4E2-88DC-4EF9-A6C8-A4C8B5A8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843-779E-4260-B528-6C6889E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E63-7B6B-4644-A013-9D702ED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5D2-2F17-4B46-A1DF-8EA513C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B29-E108-4125-BF71-8A6BF92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ABDF-F36A-4C72-BC12-9F0939B8E3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s://baike.so.com/doc/6292295-6505805.html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baike.so.com/doc/2510451.html" TargetMode="External"/><Relationship Id="rId2" Type="http://schemas.openxmlformats.org/officeDocument/2006/relationships/hyperlink" Target="https://baike.so.com/doc/2794711.html" TargetMode="External"/><Relationship Id="rId3" Type="http://schemas.openxmlformats.org/officeDocument/2006/relationships/hyperlink" Target="https://baike.so.com/doc/5345419.html" TargetMode="External"/><Relationship Id="rId4" Type="http://schemas.openxmlformats.org/officeDocument/2006/relationships/hyperlink" Target="https://baike.so.com/doc/1296969.html" TargetMode="External"/><Relationship Id="rId5" Type="http://schemas.openxmlformats.org/officeDocument/2006/relationships/hyperlink" Target="https://baike.so.com/doc/315829.html" TargetMode="External"/><Relationship Id="rId6" Type="http://schemas.openxmlformats.org/officeDocument/2006/relationships/hyperlink" Target="https://baike.so.com/doc/1883780.html" TargetMode="External"/><Relationship Id="rId7" Type="http://schemas.openxmlformats.org/officeDocument/2006/relationships/hyperlink" Target="https://baike.so.com/doc/1885060.html" TargetMode="External"/><Relationship Id="rId8" Type="http://schemas.openxmlformats.org/officeDocument/2006/relationships/hyperlink" Target="https://baike.so.com/doc/839458.html" TargetMode="External"/><Relationship Id="rId9" Type="http://schemas.openxmlformats.org/officeDocument/2006/relationships/hyperlink" Target="https://baike.so.com/doc/4650921.html" TargetMode="External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82980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神州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神州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称中华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山川美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可入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黄河奔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长江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长城长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珠峰耸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台湾岛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隔海峡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与大陆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是一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各民族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情意浓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齐奋发，共繁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09680"/>
            <a:ext cx="3733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楷体"/>
              </a:rPr>
              <a:t>州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002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zh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219320"/>
            <a:ext cx="48006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神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兰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九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3200400"/>
            <a:ext cx="33530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000000"/>
                </a:solidFill>
                <a:latin typeface="Arial"/>
                <a:ea typeface="楷体"/>
              </a:rPr>
              <a:t>谣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182880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yá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990720"/>
            <a:ext cx="37335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谣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歌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民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48769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yáo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古文中没有音乐只是唱歌叫做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谣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现指大众编的反映生活的歌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民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。歌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。童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19320"/>
            <a:ext cx="228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"/>
              </a:rPr>
              <a:t>涌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2286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ǒ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352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水由下向上冒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1911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涌现 涌跃 涌流 涌出 涌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114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起云涌。波涛汹涌。汹涌澎湃。人如潮涌。文思泉涌。泪如泉涌。风起浪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952880" y="685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而尖的山头：山～。～巅。～峦。高～。险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形状像山峰的东西：驼～。浪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54320" y="3386520"/>
            <a:ext cx="15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fē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4602240"/>
            <a:ext cx="2133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  <a:ea typeface="楷体"/>
              </a:rPr>
              <a:t>峰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895480"/>
            <a:ext cx="4724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顶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驼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1676520"/>
            <a:ext cx="28191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sǒng </a:t>
            </a: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"/>
              </a:rPr>
              <a:t>耸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9907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9144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11430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20574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高起， 直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3733920"/>
            <a:ext cx="3276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耸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高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湾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838080"/>
            <a:ext cx="30481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Wān</a:t>
            </a:r>
            <a:r>
              <a:rPr b="0" lang="zh-CN" sz="14200" spc="-1" strike="noStrike">
                <a:solidFill>
                  <a:srgbClr val="000000"/>
                </a:solidFill>
                <a:latin typeface="Arial"/>
                <a:ea typeface="楷体"/>
              </a:rPr>
              <a:t>湾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3581280"/>
            <a:ext cx="342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水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弯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湾     港湾    河湾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7960" y="44712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gé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133720"/>
            <a:ext cx="2590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000000"/>
                </a:solidFill>
                <a:latin typeface="Arial"/>
                <a:ea typeface="楷体"/>
              </a:rPr>
              <a:t>隔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572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遮断 ：～开。～离。～绝。～断。阻～。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去有一段距离 ：～壁。～年。～行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án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。～岸观火（喻见人遇到困难，漠不关心，采取观望或看热闹的态度）。～墙有耳。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想感情有距离 ：～阂。～膜。～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21480" y="106596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xi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514600"/>
            <a:ext cx="2590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  <a:ea typeface="楷体"/>
              </a:rPr>
              <a:t>峡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990720"/>
            <a:ext cx="426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山夹着的水道 ：三门～海～（两旁有陆地夹着的形状狭长的海，如“台湾～～”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两山之间 ：～谷（狭而深的谷地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8862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峡    峡谷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9154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73320" y="1523520"/>
            <a:ext cx="106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1460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000000"/>
                </a:solidFill>
                <a:latin typeface="Arial"/>
                <a:ea typeface="楷体"/>
              </a:rPr>
              <a:t>与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905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跟，同，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350532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参与     与众不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l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95480"/>
            <a:ext cx="25905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  <a:ea typeface="楷体"/>
              </a:rPr>
              <a:t>陆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8380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陆地，高出水面的土地：登～丨～路丨～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91120" y="2514600"/>
            <a:ext cx="4647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9520" y="675720"/>
            <a:ext cx="146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yì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048120"/>
            <a:ext cx="2743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"/>
              </a:rPr>
              <a:t>谊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762120"/>
            <a:ext cx="4114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交情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友～。交～。情～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2880" y="152460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ó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41148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"/>
              </a:rPr>
              <a:t>浓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09480"/>
            <a:ext cx="4191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含某种成分多，与“淡”相对：～茶。～雾。～墨。～眉。～重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zhò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。～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深厚，不淡薄：情深意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7240" y="109944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q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8360" y="12182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西的一头平或排成一条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4578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6400" y="25146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楷体"/>
              </a:rPr>
              <a:t>齐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4864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整齐   齐心协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880" y="1142280"/>
            <a:ext cx="34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fán   ró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9680"/>
            <a:ext cx="4857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楷体"/>
              </a:rPr>
              <a:t>繁荣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草木茂盛，也指经济或事业蓬勃发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昌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563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51"/>
          <p:cNvSpPr/>
          <p:nvPr/>
        </p:nvSpPr>
        <p:spPr>
          <a:xfrm>
            <a:off x="7152120" y="2502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摘星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52"/>
          <p:cNvGrpSpPr/>
          <p:nvPr/>
        </p:nvGrpSpPr>
        <p:grpSpPr>
          <a:xfrm>
            <a:off x="1689120" y="312840"/>
            <a:ext cx="1068480" cy="1425600"/>
            <a:chOff x="1689120" y="312840"/>
            <a:chExt cx="1068480" cy="1425600"/>
          </a:xfrm>
        </p:grpSpPr>
        <p:pic>
          <p:nvPicPr>
            <p:cNvPr id="115" name="Picture 2" descr="http://epaper.jzrb.com/jzwb/rmp/1/82/2013-07/18/14/res05_attpic_brief.jpg"/>
            <p:cNvPicPr/>
            <p:nvPr/>
          </p:nvPicPr>
          <p:blipFill>
            <a:blip r:embed="rId2"/>
            <a:stretch/>
          </p:blipFill>
          <p:spPr>
            <a:xfrm>
              <a:off x="1689120" y="312840"/>
              <a:ext cx="10684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54"/>
            <p:cNvSpPr/>
            <p:nvPr/>
          </p:nvSpPr>
          <p:spPr>
            <a:xfrm>
              <a:off x="2040840" y="32688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陆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58"/>
          <p:cNvGrpSpPr/>
          <p:nvPr/>
        </p:nvGrpSpPr>
        <p:grpSpPr>
          <a:xfrm>
            <a:off x="4002120" y="1492200"/>
            <a:ext cx="1101600" cy="1471680"/>
            <a:chOff x="4002120" y="1492200"/>
            <a:chExt cx="1101600" cy="1471680"/>
          </a:xfrm>
        </p:grpSpPr>
        <p:pic>
          <p:nvPicPr>
            <p:cNvPr id="118" name="Picture 2" descr="http://epaper.jzrb.com/jzwb/rmp/1/82/2013-07/18/14/res05_attpic_brief.jpg"/>
            <p:cNvPicPr/>
            <p:nvPr/>
          </p:nvPicPr>
          <p:blipFill>
            <a:blip r:embed="rId3"/>
            <a:stretch/>
          </p:blipFill>
          <p:spPr>
            <a:xfrm>
              <a:off x="4002120" y="1492200"/>
              <a:ext cx="110160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60"/>
            <p:cNvSpPr/>
            <p:nvPr/>
          </p:nvSpPr>
          <p:spPr>
            <a:xfrm>
              <a:off x="4352040" y="151740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64"/>
          <p:cNvGrpSpPr/>
          <p:nvPr/>
        </p:nvGrpSpPr>
        <p:grpSpPr>
          <a:xfrm>
            <a:off x="446040" y="490680"/>
            <a:ext cx="1049400" cy="1400040"/>
            <a:chOff x="446040" y="490680"/>
            <a:chExt cx="1049400" cy="1400040"/>
          </a:xfrm>
        </p:grpSpPr>
        <p:pic>
          <p:nvPicPr>
            <p:cNvPr id="121" name="Picture 2" descr="http://epaper.jzrb.com/jzwb/rmp/1/82/2013-07/18/14/res05_attpic_brief.jpg"/>
            <p:cNvPicPr/>
            <p:nvPr/>
          </p:nvPicPr>
          <p:blipFill>
            <a:blip r:embed="rId4"/>
            <a:stretch/>
          </p:blipFill>
          <p:spPr>
            <a:xfrm>
              <a:off x="446040" y="510840"/>
              <a:ext cx="1049400" cy="13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66"/>
            <p:cNvSpPr/>
            <p:nvPr/>
          </p:nvSpPr>
          <p:spPr>
            <a:xfrm>
              <a:off x="772200" y="49068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70"/>
          <p:cNvGrpSpPr/>
          <p:nvPr/>
        </p:nvGrpSpPr>
        <p:grpSpPr>
          <a:xfrm>
            <a:off x="1681200" y="1963800"/>
            <a:ext cx="1073160" cy="1431720"/>
            <a:chOff x="1681200" y="1963800"/>
            <a:chExt cx="1073160" cy="1431720"/>
          </a:xfrm>
        </p:grpSpPr>
        <p:pic>
          <p:nvPicPr>
            <p:cNvPr id="124" name="Picture 2" descr="http://epaper.jzrb.com/jzwb/rmp/1/82/2013-07/18/14/res05_attpic_brief.jpg"/>
            <p:cNvPicPr/>
            <p:nvPr/>
          </p:nvPicPr>
          <p:blipFill>
            <a:blip r:embed="rId5"/>
            <a:stretch/>
          </p:blipFill>
          <p:spPr>
            <a:xfrm>
              <a:off x="1681200" y="1963800"/>
              <a:ext cx="107316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2"/>
            <p:cNvSpPr/>
            <p:nvPr/>
          </p:nvSpPr>
          <p:spPr>
            <a:xfrm>
              <a:off x="1998000" y="198108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7"/>
          <p:cNvGrpSpPr/>
          <p:nvPr/>
        </p:nvGrpSpPr>
        <p:grpSpPr>
          <a:xfrm>
            <a:off x="412920" y="2008080"/>
            <a:ext cx="1066680" cy="1420920"/>
            <a:chOff x="412920" y="2008080"/>
            <a:chExt cx="1066680" cy="1420920"/>
          </a:xfrm>
        </p:grpSpPr>
        <p:pic>
          <p:nvPicPr>
            <p:cNvPr id="127" name="Picture 2" descr="http://epaper.jzrb.com/jzwb/rmp/1/82/2013-07/18/14/res05_attpic_brief.jpg"/>
            <p:cNvPicPr/>
            <p:nvPr/>
          </p:nvPicPr>
          <p:blipFill>
            <a:blip r:embed="rId6"/>
            <a:stretch/>
          </p:blipFill>
          <p:spPr>
            <a:xfrm>
              <a:off x="412920" y="2008080"/>
              <a:ext cx="106668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60"/>
            <p:cNvSpPr/>
            <p:nvPr/>
          </p:nvSpPr>
          <p:spPr>
            <a:xfrm>
              <a:off x="774000" y="200808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8"/>
          <p:cNvGrpSpPr/>
          <p:nvPr/>
        </p:nvGrpSpPr>
        <p:grpSpPr>
          <a:xfrm>
            <a:off x="4327560" y="141120"/>
            <a:ext cx="1101600" cy="1471680"/>
            <a:chOff x="4327560" y="141120"/>
            <a:chExt cx="1101600" cy="1471680"/>
          </a:xfrm>
        </p:grpSpPr>
        <p:pic>
          <p:nvPicPr>
            <p:cNvPr id="130" name="Picture 2" descr="http://epaper.jzrb.com/jzwb/rmp/1/82/2013-07/18/14/res05_attpic_brief.jpg"/>
            <p:cNvPicPr/>
            <p:nvPr/>
          </p:nvPicPr>
          <p:blipFill>
            <a:blip r:embed="rId7"/>
            <a:stretch/>
          </p:blipFill>
          <p:spPr>
            <a:xfrm>
              <a:off x="4327560" y="141120"/>
              <a:ext cx="110160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60"/>
            <p:cNvSpPr/>
            <p:nvPr/>
          </p:nvSpPr>
          <p:spPr>
            <a:xfrm>
              <a:off x="4677480" y="16632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21"/>
          <p:cNvGrpSpPr/>
          <p:nvPr/>
        </p:nvGrpSpPr>
        <p:grpSpPr>
          <a:xfrm>
            <a:off x="5715000" y="152280"/>
            <a:ext cx="1101600" cy="1470240"/>
            <a:chOff x="5715000" y="152280"/>
            <a:chExt cx="1101600" cy="1470240"/>
          </a:xfrm>
        </p:grpSpPr>
        <p:pic>
          <p:nvPicPr>
            <p:cNvPr id="133" name="Picture 2" descr="http://epaper.jzrb.com/jzwb/rmp/1/82/2013-07/18/14/res05_attpic_brief.jpg"/>
            <p:cNvPicPr/>
            <p:nvPr/>
          </p:nvPicPr>
          <p:blipFill>
            <a:blip r:embed="rId8"/>
            <a:stretch/>
          </p:blipFill>
          <p:spPr>
            <a:xfrm>
              <a:off x="5715000" y="152280"/>
              <a:ext cx="110160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60"/>
            <p:cNvSpPr/>
            <p:nvPr/>
          </p:nvSpPr>
          <p:spPr>
            <a:xfrm>
              <a:off x="6085440" y="17748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8"/>
          <p:cNvGrpSpPr/>
          <p:nvPr/>
        </p:nvGrpSpPr>
        <p:grpSpPr>
          <a:xfrm>
            <a:off x="2819520" y="3200400"/>
            <a:ext cx="1101600" cy="1471680"/>
            <a:chOff x="2819520" y="3200400"/>
            <a:chExt cx="1101600" cy="1471680"/>
          </a:xfrm>
        </p:grpSpPr>
        <p:pic>
          <p:nvPicPr>
            <p:cNvPr id="136" name="Picture 2" descr="http://epaper.jzrb.com/jzwb/rmp/1/82/2013-07/18/14/res05_attpic_brief.jpg"/>
            <p:cNvPicPr/>
            <p:nvPr/>
          </p:nvPicPr>
          <p:blipFill>
            <a:blip r:embed="rId9"/>
            <a:stretch/>
          </p:blipFill>
          <p:spPr>
            <a:xfrm>
              <a:off x="2819520" y="3200400"/>
              <a:ext cx="110160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60"/>
            <p:cNvSpPr/>
            <p:nvPr/>
          </p:nvSpPr>
          <p:spPr>
            <a:xfrm>
              <a:off x="3175920" y="322560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32"/>
          <p:cNvGrpSpPr/>
          <p:nvPr/>
        </p:nvGrpSpPr>
        <p:grpSpPr>
          <a:xfrm>
            <a:off x="2927520" y="1636560"/>
            <a:ext cx="1101600" cy="1470240"/>
            <a:chOff x="2927520" y="1636560"/>
            <a:chExt cx="1101600" cy="1470240"/>
          </a:xfrm>
        </p:grpSpPr>
        <p:pic>
          <p:nvPicPr>
            <p:cNvPr id="139" name="Picture 2" descr="http://epaper.jzrb.com/jzwb/rmp/1/82/2013-07/18/14/res05_attpic_brief.jpg"/>
            <p:cNvPicPr/>
            <p:nvPr/>
          </p:nvPicPr>
          <p:blipFill>
            <a:blip r:embed="rId10"/>
            <a:stretch/>
          </p:blipFill>
          <p:spPr>
            <a:xfrm>
              <a:off x="2927520" y="1636560"/>
              <a:ext cx="1101600" cy="14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60"/>
            <p:cNvSpPr/>
            <p:nvPr/>
          </p:nvSpPr>
          <p:spPr>
            <a:xfrm>
              <a:off x="3283920" y="166176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35"/>
          <p:cNvGrpSpPr/>
          <p:nvPr/>
        </p:nvGrpSpPr>
        <p:grpSpPr>
          <a:xfrm>
            <a:off x="1760400" y="3363840"/>
            <a:ext cx="1101960" cy="1473120"/>
            <a:chOff x="1760400" y="3363840"/>
            <a:chExt cx="1101960" cy="1473120"/>
          </a:xfrm>
        </p:grpSpPr>
        <p:pic>
          <p:nvPicPr>
            <p:cNvPr id="142" name="Picture 2" descr="http://epaper.jzrb.com/jzwb/rmp/1/82/2013-07/18/14/res05_attpic_brief.jpg"/>
            <p:cNvPicPr/>
            <p:nvPr/>
          </p:nvPicPr>
          <p:blipFill>
            <a:blip r:embed="rId11"/>
            <a:stretch/>
          </p:blipFill>
          <p:spPr>
            <a:xfrm>
              <a:off x="1760400" y="3363840"/>
              <a:ext cx="110196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60"/>
            <p:cNvSpPr/>
            <p:nvPr/>
          </p:nvSpPr>
          <p:spPr>
            <a:xfrm>
              <a:off x="2110320" y="338904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荣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38"/>
          <p:cNvGrpSpPr/>
          <p:nvPr/>
        </p:nvGrpSpPr>
        <p:grpSpPr>
          <a:xfrm>
            <a:off x="647640" y="3338640"/>
            <a:ext cx="1101960" cy="1469880"/>
            <a:chOff x="647640" y="3338640"/>
            <a:chExt cx="1101960" cy="1469880"/>
          </a:xfrm>
        </p:grpSpPr>
        <p:pic>
          <p:nvPicPr>
            <p:cNvPr id="145" name="Picture 2" descr="http://epaper.jzrb.com/jzwb/rmp/1/82/2013-07/18/14/res05_attpic_brief.jpg"/>
            <p:cNvPicPr/>
            <p:nvPr/>
          </p:nvPicPr>
          <p:blipFill>
            <a:blip r:embed="rId12"/>
            <a:stretch/>
          </p:blipFill>
          <p:spPr>
            <a:xfrm>
              <a:off x="647640" y="3338640"/>
              <a:ext cx="110196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60"/>
            <p:cNvSpPr/>
            <p:nvPr/>
          </p:nvSpPr>
          <p:spPr>
            <a:xfrm>
              <a:off x="1011960" y="336384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41"/>
          <p:cNvGrpSpPr/>
          <p:nvPr/>
        </p:nvGrpSpPr>
        <p:grpSpPr>
          <a:xfrm>
            <a:off x="2824200" y="223920"/>
            <a:ext cx="1101600" cy="1471680"/>
            <a:chOff x="2824200" y="223920"/>
            <a:chExt cx="1101600" cy="1471680"/>
          </a:xfrm>
        </p:grpSpPr>
        <p:pic>
          <p:nvPicPr>
            <p:cNvPr id="148" name="Picture 2" descr="http://epaper.jzrb.com/jzwb/rmp/1/82/2013-07/18/14/res05_attpic_brief.jpg"/>
            <p:cNvPicPr/>
            <p:nvPr/>
          </p:nvPicPr>
          <p:blipFill>
            <a:blip r:embed="rId13"/>
            <a:stretch/>
          </p:blipFill>
          <p:spPr>
            <a:xfrm>
              <a:off x="2824200" y="223920"/>
              <a:ext cx="110160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60"/>
            <p:cNvSpPr/>
            <p:nvPr/>
          </p:nvSpPr>
          <p:spPr>
            <a:xfrm>
              <a:off x="3188520" y="24912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44"/>
          <p:cNvGrpSpPr/>
          <p:nvPr/>
        </p:nvGrpSpPr>
        <p:grpSpPr>
          <a:xfrm>
            <a:off x="5187960" y="1544760"/>
            <a:ext cx="1103400" cy="1471320"/>
            <a:chOff x="5187960" y="1544760"/>
            <a:chExt cx="1103400" cy="1471320"/>
          </a:xfrm>
        </p:grpSpPr>
        <p:pic>
          <p:nvPicPr>
            <p:cNvPr id="151" name="Picture 2" descr="http://epaper.jzrb.com/jzwb/rmp/1/82/2013-07/18/14/res05_attpic_brief.jpg"/>
            <p:cNvPicPr/>
            <p:nvPr/>
          </p:nvPicPr>
          <p:blipFill>
            <a:blip r:embed="rId14"/>
            <a:stretch/>
          </p:blipFill>
          <p:spPr>
            <a:xfrm>
              <a:off x="5187960" y="1544760"/>
              <a:ext cx="1103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60"/>
            <p:cNvSpPr/>
            <p:nvPr/>
          </p:nvSpPr>
          <p:spPr>
            <a:xfrm>
              <a:off x="5529960" y="156996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2"/>
          <p:cNvGrpSpPr/>
          <p:nvPr/>
        </p:nvGrpSpPr>
        <p:grpSpPr>
          <a:xfrm>
            <a:off x="3957480" y="3174840"/>
            <a:ext cx="1101960" cy="1471680"/>
            <a:chOff x="3957480" y="3174840"/>
            <a:chExt cx="1101960" cy="1471680"/>
          </a:xfrm>
        </p:grpSpPr>
        <p:pic>
          <p:nvPicPr>
            <p:cNvPr id="154" name="Picture 2" descr="http://epaper.jzrb.com/jzwb/rmp/1/82/2013-07/18/14/res05_attpic_brief.jpg"/>
            <p:cNvPicPr/>
            <p:nvPr/>
          </p:nvPicPr>
          <p:blipFill>
            <a:blip r:embed="rId15"/>
            <a:stretch/>
          </p:blipFill>
          <p:spPr>
            <a:xfrm>
              <a:off x="3957480" y="3174840"/>
              <a:ext cx="110196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60"/>
            <p:cNvSpPr/>
            <p:nvPr/>
          </p:nvSpPr>
          <p:spPr>
            <a:xfrm>
              <a:off x="4313880" y="320004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48"/>
          <p:cNvGrpSpPr/>
          <p:nvPr/>
        </p:nvGrpSpPr>
        <p:grpSpPr>
          <a:xfrm>
            <a:off x="5033880" y="3195720"/>
            <a:ext cx="1101960" cy="1471680"/>
            <a:chOff x="5033880" y="3195720"/>
            <a:chExt cx="1101960" cy="1471680"/>
          </a:xfrm>
        </p:grpSpPr>
        <p:pic>
          <p:nvPicPr>
            <p:cNvPr id="157" name="Picture 2" descr="http://epaper.jzrb.com/jzwb/rmp/1/82/2013-07/18/14/res05_attpic_brief.jpg"/>
            <p:cNvPicPr/>
            <p:nvPr/>
          </p:nvPicPr>
          <p:blipFill>
            <a:blip r:embed="rId16"/>
            <a:stretch/>
          </p:blipFill>
          <p:spPr>
            <a:xfrm>
              <a:off x="5033880" y="3195720"/>
              <a:ext cx="1101960" cy="14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60"/>
            <p:cNvSpPr/>
            <p:nvPr/>
          </p:nvSpPr>
          <p:spPr>
            <a:xfrm>
              <a:off x="5390280" y="3220920"/>
              <a:ext cx="4856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宋体"/>
                </a:rPr>
                <a:t>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0988E-006 L 0.07586 0.68858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01822 0.4429 E">
                                      <p:cBhvr>
                                        <p:cTn id="1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1605E-006 L -0.07691 0.70587 E">
                                      <p:cBhvr>
                                        <p:cTn id="1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35802E-006 L -0.02309 0.55247 E">
                                      <p:cBhvr>
                                        <p:cTn id="2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00816 0.47592 E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-0.00868 0.73426 E">
                                      <p:cBhvr>
                                        <p:cTn id="3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97623E-006 L -0.07066 0.7314 E">
                                      <p:cBhvr>
                                        <p:cTn id="3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4568E-006 L -0.10226 0.4108 E">
                                      <p:cBhvr>
                                        <p:cTn id="41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9.87654E-007 L -0.04948 0.55494 E">
                                      <p:cBhvr>
                                        <p:cTn id="4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6533E-006 L -0.10226 0.41086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6533E-006 L -0.10226 0.41086 E">
                                      <p:cBhvr>
                                        <p:cTn id="5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-0.09722 0.6821 E">
                                      <p:cBhvr>
                                        <p:cTn id="6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59259E-006 L -0.06857 0.53117 E">
                                      <p:cBhvr>
                                        <p:cTn id="6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4568E-006 L -0.10226 0.4108 E">
                                      <p:cBhvr>
                                        <p:cTn id="71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4568E-006 L -0.10226 0.4108 E">
                                      <p:cBhvr>
                                        <p:cTn id="7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神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称中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川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入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黄河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长江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228600" y="1600200"/>
            <a:ext cx="4200480" cy="5257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1972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419720" y="403848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"/>
              </a:rPr>
              <a:t>长城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长城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495680" cy="2527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城总长度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196.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，分布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北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天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河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山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内蒙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辽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吉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黑龙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山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河南、陕西、甘肃、青海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省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长城"/>
          <p:cNvPicPr/>
          <p:nvPr/>
        </p:nvPicPr>
        <p:blipFill>
          <a:blip r:embed="rId10"/>
          <a:stretch/>
        </p:blipFill>
        <p:spPr>
          <a:xfrm>
            <a:off x="0" y="1447920"/>
            <a:ext cx="9524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8839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长 城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远看长城，它像一条长龙，在崇山峻岭之间蜿蜒盘旋。从东头的山海关到西头的嘉峪关，有一万三千多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从北京出发，不过一百多里就来到长城脚下。这一段长城修筑在八达岭上，高大坚固，是用巨大的条石和城砖筑成的。城墙顶上铺着方砖，十分平整，像很宽的马路，五六匹马可以并行。城墙外沿有两米多高的成排的垛子，垛子上有方形的瞭望口和射口，供瞭望和射击用。城墙顶上，每隔三百多米就有一座方形的城台，是屯兵的堡垒。打仗的时候，城台之间可以互相呼应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站在长城上，踏着脚下的方砖，扶着墙上的条石，很自然地想起古代修筑长城的劳动人民来。单看这数不清的条石，一块有两三千斤重。那时候没有火车、汽车，没有起重机，就靠着无数的肩膀无数的手，一步一步地抬上这陡峭的山岭。多少劳动人民的血汗和智慧，才凝结成这前不见头、后不见尾的万里长城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样气魄雄伟的工程，在世界历史上是一个伟大的奇迹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珠穆朗玛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简称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珠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高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844.4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是为海拔世界第一高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珠峰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湾岛，隔海峡，与大陆，是一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台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宋澎湖属福建路；元、明在澎湖设巡检司；明末被荷兰和西班牙侵占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郑成功收复；清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68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置台湾府，属福建省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8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建省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清政府以《马关条约》割让与日本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抗战胜利后光复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国民党政府在内战失利中退守台湾，海峡两岸分治至今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各民族，情谊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2962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齐奋发，共繁荣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神州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神州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称中华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山川美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可入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黄河奔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长江涌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长城长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珠峰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台湾岛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隔海峡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与大陆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是一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各民族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情意浓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齐奋发，共繁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1523880"/>
            <a:ext cx="7086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华夏儿女          炎黄子孙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神州大地          巍巍中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家庭和睦          民族团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奋发图强          只争朝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752480"/>
            <a:ext cx="9144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7-12-26T12:05:04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