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chimes.wav" ContentType="audio/x-wav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20C-5A23-4A36-9AC0-3C810FA7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386-A298-4E03-B507-87AE51A4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E96-4AD0-4DAF-9E95-42BD2CD9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BA1-C496-4E14-9C4F-115D8061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725-BB44-424E-BDB6-B9345937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3F1-045B-4373-B8A2-C484D743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575-34DB-453B-82C9-FAB4DD3A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E45-31AC-4386-BEA5-FC184D3C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8E3-4D07-4FC8-B9BD-062C7C7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912-D0FD-415B-9AEB-5F4EE5D0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918-2F64-41A8-BEC6-A606ED64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B75-93A9-41F9-B88F-9FE8A9CD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093D-8769-465B-9E66-D894753D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CBD4-C5A4-4F73-991D-0B2EB3BD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7FA5-2864-4AB9-BD19-9957DE11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263C-5BE7-4376-A097-4772FCD8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BA9D-CA28-4E97-9B17-5EFC33A0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3A49-DF73-46BC-91F1-CB050B43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9409-FC47-4AB2-B246-B8E91FED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1776-825A-4552-B47E-9B62AFC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CED6-BCBF-4BA9-86BE-8F93B7B7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9908-2977-44E8-82DF-FC6647A9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DF00-97FA-4847-A49F-6D71A866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F089-DC2D-498B-A869-C8E809BB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B8A7-52E0-49B8-819D-69171193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0D22-11BD-4425-8C01-6EA19D2A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2BD6-6486-4B56-AE5F-06C966C2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6215-1751-43E7-A774-2052D33C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0725-19BE-447B-BB36-92DAE1A6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93AD-9199-41A7-B88D-C659691C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CDC1-2EEB-44C2-8744-6D2D7876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CD95-9A07-4D64-9FC5-F9DB37C5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484E-EEF5-4B55-8579-07359D08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382C-DA19-4AF3-886B-C56400D3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E2B6-A318-4B8A-B3AD-B983DF9A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1E3F9-8BEB-4745-8E56-AE6DB34B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C221-81B5-4A6A-9B55-F212DA45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CF6E-DA13-4859-ACC6-923BE2FD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6DBD5-1F04-41FF-808B-61CFFAD1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5FB5-F170-4AE3-BAFE-4602B8ED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70DB2-BEB7-4682-A3F0-A1799056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4D86-6456-4381-81DD-E193D1C5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F6D92-F24C-4FFC-87F9-5551B399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D4F6-4430-4F83-AE1A-D1F5B7F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1F6E5-2E0F-4EA7-B0B7-7FB3CEE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8FE1-D8E3-40FE-9C7E-0BA0B373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D1915-DFA4-4D72-A37F-234B98B6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59D3-DC5D-4C1E-A55F-812611CC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D014-CB2B-4C6B-81D6-5615BFD04C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57AF-FF4F-49BF-8DD4-49AC8E5756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86BF-1292-4F53-970F-8D52F1597C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E8EC-C10A-469A-98BB-3FD36450AA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0"/>
          <p:cNvSpPr/>
          <p:nvPr/>
        </p:nvSpPr>
        <p:spPr>
          <a:xfrm>
            <a:off x="611280" y="692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人教版部编本二年级语文下册识字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2627280" y="234936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黑体"/>
              </a:rPr>
              <a:t>神州谣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20051241251967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6">
            <a:hlinkClick r:id="" action="ppaction://hlinkshowjump?jump=nextslide"/>
          </p:cNvPr>
          <p:cNvSpPr/>
          <p:nvPr/>
        </p:nvSpPr>
        <p:spPr>
          <a:xfrm>
            <a:off x="68436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>
            <a:hlinkClick r:id="" action="ppaction://hlinkshowjump?jump=nextslide"/>
          </p:cNvPr>
          <p:cNvSpPr/>
          <p:nvPr/>
        </p:nvSpPr>
        <p:spPr>
          <a:xfrm>
            <a:off x="468360" y="6021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0" h="21600">
                <a:moveTo>
                  <a:pt x="9173" y="3794"/>
                </a:moveTo>
                <a:lnTo>
                  <a:pt x="23186" y="10800"/>
                </a:lnTo>
                <a:lnTo>
                  <a:pt x="91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472080" y="565200"/>
            <a:ext cx="34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珠峰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4" descr="5399315"/>
          <p:cNvPicPr/>
          <p:nvPr/>
        </p:nvPicPr>
        <p:blipFill>
          <a:blip r:embed="rId1"/>
          <a:stretch/>
        </p:blipFill>
        <p:spPr>
          <a:xfrm>
            <a:off x="0" y="0"/>
            <a:ext cx="4356000" cy="33577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5399315"/>
          <p:cNvPicPr/>
          <p:nvPr/>
        </p:nvPicPr>
        <p:blipFill>
          <a:blip r:embed="rId2"/>
          <a:stretch/>
        </p:blipFill>
        <p:spPr>
          <a:xfrm>
            <a:off x="0" y="0"/>
            <a:ext cx="4356000" cy="3357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2411280" y="2492280"/>
            <a:ext cx="20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黄河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6" descr="10135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3357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4356000" y="2421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长江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8" descr="3fe379000116956fa953dd09a0eeecb2"/>
          <p:cNvPicPr/>
          <p:nvPr/>
        </p:nvPicPr>
        <p:blipFill>
          <a:blip r:embed="rId4"/>
          <a:stretch/>
        </p:blipFill>
        <p:spPr>
          <a:xfrm>
            <a:off x="0" y="3357720"/>
            <a:ext cx="4284720" cy="3500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2411280" y="342900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长城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0" descr="CAHUANG12225142734"/>
          <p:cNvPicPr/>
          <p:nvPr/>
        </p:nvPicPr>
        <p:blipFill>
          <a:blip r:embed="rId5"/>
          <a:stretch/>
        </p:blipFill>
        <p:spPr>
          <a:xfrm>
            <a:off x="4284720" y="3357720"/>
            <a:ext cx="4859280" cy="35002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1"/>
          <p:cNvSpPr/>
          <p:nvPr/>
        </p:nvSpPr>
        <p:spPr>
          <a:xfrm>
            <a:off x="4662360" y="35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珠峰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2411280" y="342900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长城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2411280" y="342900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长城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1" descr="3fe379000116956fa953dd09a0eeecb2"/>
          <p:cNvPicPr/>
          <p:nvPr/>
        </p:nvPicPr>
        <p:blipFill>
          <a:blip r:embed="rId6"/>
          <a:stretch/>
        </p:blipFill>
        <p:spPr>
          <a:xfrm>
            <a:off x="0" y="3357720"/>
            <a:ext cx="4284720" cy="35002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3"/>
          <p:cNvSpPr/>
          <p:nvPr/>
        </p:nvSpPr>
        <p:spPr>
          <a:xfrm>
            <a:off x="2411280" y="3429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长城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无标题"/>
          <p:cNvPicPr/>
          <p:nvPr/>
        </p:nvPicPr>
        <p:blipFill>
          <a:blip r:embed="rId1"/>
          <a:stretch/>
        </p:blipFill>
        <p:spPr>
          <a:xfrm>
            <a:off x="593640" y="549360"/>
            <a:ext cx="7956720" cy="5425920"/>
          </a:xfrm>
          <a:prstGeom prst="rect">
            <a:avLst/>
          </a:prstGeom>
          <a:ln w="0">
            <a:noFill/>
          </a:ln>
        </p:spPr>
      </p:pic>
      <p:sp>
        <p:nvSpPr>
          <p:cNvPr id="257" name="Oval 6"/>
          <p:cNvSpPr/>
          <p:nvPr/>
        </p:nvSpPr>
        <p:spPr>
          <a:xfrm>
            <a:off x="7236000" y="4726080"/>
            <a:ext cx="720720" cy="5032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4979880"/>
          </a:xfrm>
          <a:prstGeom prst="rect">
            <a:avLst/>
          </a:prstGeom>
          <a:ln w="0">
            <a:noFill/>
          </a:ln>
        </p:spPr>
      </p:pic>
      <p:sp>
        <p:nvSpPr>
          <p:cNvPr id="259" name="Oval 7"/>
          <p:cNvSpPr/>
          <p:nvPr/>
        </p:nvSpPr>
        <p:spPr>
          <a:xfrm>
            <a:off x="2268360" y="3429000"/>
            <a:ext cx="1440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299520" y="5300640"/>
            <a:ext cx="159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台湾岛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2567880" y="5300640"/>
            <a:ext cx="159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隔海峡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4799880" y="5373720"/>
            <a:ext cx="159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与大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659640" y="537372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是一家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164_353535_2a18948c6dd7372"/>
          <p:cNvPicPr/>
          <p:nvPr/>
        </p:nvPicPr>
        <p:blipFill>
          <a:blip r:embed="rId1"/>
          <a:stretch/>
        </p:blipFill>
        <p:spPr>
          <a:xfrm>
            <a:off x="755640" y="907920"/>
            <a:ext cx="7242120" cy="4826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7066800" y="2060640"/>
            <a:ext cx="18262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藏   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8-2"/>
          <p:cNvPicPr/>
          <p:nvPr/>
        </p:nvPicPr>
        <p:blipFill>
          <a:blip r:embed="rId1"/>
          <a:stretch/>
        </p:blipFill>
        <p:spPr>
          <a:xfrm>
            <a:off x="395280" y="54936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7956720" y="1052640"/>
            <a:ext cx="118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蒙古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91a245732d25ede0df4df0ae886ccf7d"/>
          <p:cNvPicPr/>
          <p:nvPr/>
        </p:nvPicPr>
        <p:blipFill>
          <a:blip r:embed="rId1"/>
          <a:stretch/>
        </p:blipFill>
        <p:spPr>
          <a:xfrm>
            <a:off x="971640" y="709560"/>
            <a:ext cx="4762440" cy="54388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6588000" y="1628640"/>
            <a:ext cx="158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维吾尔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2209555"/>
          <p:cNvPicPr/>
          <p:nvPr/>
        </p:nvPicPr>
        <p:blipFill>
          <a:blip r:embed="rId1"/>
          <a:stretch/>
        </p:blipFill>
        <p:spPr>
          <a:xfrm>
            <a:off x="1424160" y="-27000"/>
            <a:ext cx="5595840" cy="7056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7406280" y="1116360"/>
            <a:ext cx="109476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Arial"/>
                <a:ea typeface="楷体_GB2312"/>
              </a:rPr>
              <a:t>朝 鲜 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20088694930594"/>
          <p:cNvPicPr/>
          <p:nvPr/>
        </p:nvPicPr>
        <p:blipFill>
          <a:blip r:embed="rId2"/>
          <a:stretch/>
        </p:blipFill>
        <p:spPr>
          <a:xfrm>
            <a:off x="507960" y="317520"/>
            <a:ext cx="8128080" cy="6540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3917160" y="30492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台湾高山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服饰3"/>
          <p:cNvPicPr/>
          <p:nvPr/>
        </p:nvPicPr>
        <p:blipFill>
          <a:blip r:embed="rId1"/>
          <a:stretch/>
        </p:blipFill>
        <p:spPr>
          <a:xfrm>
            <a:off x="2448000" y="692280"/>
            <a:ext cx="4248000" cy="43923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3132000" y="5084640"/>
            <a:ext cx="30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傣　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2009130151178153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2760" y="1095480"/>
            <a:ext cx="92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各民族，情谊浓，齐发奋，共繁荣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3" descr="e0b935394cce280697ddd81d.jpg"/>
          <p:cNvPicPr/>
          <p:nvPr/>
        </p:nvPicPr>
        <p:blipFill>
          <a:blip r:embed="rId1"/>
          <a:stretch/>
        </p:blipFill>
        <p:spPr>
          <a:xfrm>
            <a:off x="322200" y="333360"/>
            <a:ext cx="8497800" cy="61912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50920" y="256536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华人民共和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431640" y="4583160"/>
            <a:ext cx="24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én zhō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  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1763640" y="5300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á   xi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华  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692360" y="5589720"/>
            <a:ext cx="5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cc"/>
                </a:solidFill>
                <a:latin typeface="Arial"/>
              </a:rPr>
              <a:t>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31640" y="4943520"/>
            <a:ext cx="5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cc"/>
                </a:solidFill>
                <a:latin typeface="Arial"/>
              </a:rPr>
              <a:t>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250920" y="4046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华夏：早在公元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世纪时，我国建立了第一个奴隶制国家，历经夏、商、周三个王朝，逐渐形成华夏民族。后来，人们就用“华夏”来作为中国的别称。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矩形 8"/>
          <p:cNvSpPr/>
          <p:nvPr/>
        </p:nvSpPr>
        <p:spPr>
          <a:xfrm>
            <a:off x="2411280" y="328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673"/>
                </a:solidFill>
                <a:latin typeface="Arial"/>
              </a:rPr>
              <a:t>神州：大禹治水以后，曾把中国划为九州，并指点名山、大川作为各州疆界，所以后世相沿称中国为“九州”，又因为中国地大物博，物产丰富。是个礼仪之邦，所以称为神州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1068480" y="1908000"/>
            <a:ext cx="6377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神州，称中华，山川美，可入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河奔，长江涌，长城长，珠峰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台湾岛，隔海峡，与大陆，是一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各民族，情谊浓，齐奋发，共繁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035000" y="90000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是小小朗诵家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三字经 完整版伴奏.mp3" descr=""/>
          <p:cNvPicPr/>
          <p:nvPr/>
        </p:nvPicPr>
        <p:blipFill>
          <a:blip r:embed="rId1"/>
          <a:stretch/>
        </p:blipFill>
        <p:spPr>
          <a:xfrm>
            <a:off x="7740720" y="5661000"/>
            <a:ext cx="584280" cy="439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65986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79280" y="1989000"/>
            <a:ext cx="896472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宋体"/>
              </a:rPr>
              <a:t>神    洲    川    涌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宋体"/>
              </a:rPr>
              <a:t>岛    隔    峡    与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宋体"/>
              </a:rPr>
              <a:t>陆  民  族  耸  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1413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hé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556000" y="1413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zhō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932360" y="1341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chuā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7524720" y="134136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yǒ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79280" y="2924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dǎ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916360" y="2852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g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292720" y="285264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xi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7873920" y="2852640"/>
            <a:ext cx="98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yǔ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325800" y="436572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l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35280" y="43657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mí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709800" y="42926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z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5077080" y="429264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sǒ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6749280" y="429264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zhē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179280" y="476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我会认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神    州    川   涌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耸    岛    隔   峡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 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与    陆    民    族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044720" y="14842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川  中华  民族  人民  市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4720" y="2408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台湾  海峡  大陆  陆地  陆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044720" y="3316320"/>
            <a:ext cx="9359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神州  广州  隔壁  隔离  隔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河  长江  长城  奋发  情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繁荣  珠峰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1514520" y="476280"/>
            <a:ext cx="194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8"/>
          <p:cNvSpPr/>
          <p:nvPr/>
        </p:nvSpPr>
        <p:spPr>
          <a:xfrm>
            <a:off x="826920" y="692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775ff"/>
                </a:solidFill>
                <a:latin typeface="Times New Roman"/>
                <a:ea typeface="黑体"/>
              </a:rPr>
              <a:t>我会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4211640" cy="3038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2124000" y="3068640"/>
            <a:ext cx="453564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1"/>
                </a:solidFill>
                <a:latin typeface="Arial"/>
              </a:rPr>
              <a:t>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川</a:t>
            </a:r>
            <a:r>
              <a:rPr b="1" lang="zh-CN" sz="4400" spc="-1" strike="noStrike">
                <a:solidFill>
                  <a:srgbClr val="0000f1"/>
                </a:solidFill>
                <a:latin typeface="Arial"/>
              </a:rPr>
              <a:t>美</a:t>
            </a:r>
            <a:r>
              <a:rPr b="1" lang="en-US" sz="4400" spc="-1" strike="noStrike">
                <a:solidFill>
                  <a:srgbClr val="0000f1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f1"/>
                </a:solidFill>
                <a:latin typeface="Arial"/>
              </a:rPr>
              <a:t>可入画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7" descr="9b2db71e70b9c046f724e427"/>
          <p:cNvPicPr/>
          <p:nvPr/>
        </p:nvPicPr>
        <p:blipFill>
          <a:blip r:embed="rId2"/>
          <a:stretch/>
        </p:blipFill>
        <p:spPr>
          <a:xfrm>
            <a:off x="0" y="3933720"/>
            <a:ext cx="4211640" cy="2924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027(19)"/>
          <p:cNvPicPr/>
          <p:nvPr/>
        </p:nvPicPr>
        <p:blipFill>
          <a:blip r:embed="rId3"/>
          <a:stretch/>
        </p:blipFill>
        <p:spPr>
          <a:xfrm>
            <a:off x="4211640" y="3933720"/>
            <a:ext cx="4932360" cy="2924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0" descr="2009424114453996"/>
          <p:cNvPicPr/>
          <p:nvPr/>
        </p:nvPicPr>
        <p:blipFill>
          <a:blip r:embed="rId4"/>
          <a:stretch/>
        </p:blipFill>
        <p:spPr>
          <a:xfrm>
            <a:off x="4211640" y="0"/>
            <a:ext cx="4932360" cy="2997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4976513_155601009717_2"/>
          <p:cNvPicPr/>
          <p:nvPr/>
        </p:nvPicPr>
        <p:blipFill>
          <a:blip r:embed="rId1"/>
          <a:stretch/>
        </p:blipFill>
        <p:spPr>
          <a:xfrm>
            <a:off x="-25236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6300720" y="501336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黄河奔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 flipH="1">
            <a:off x="4715640" y="5084640"/>
            <a:ext cx="44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长江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90000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C:\Users\apple\Desktop\slide0050_image018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867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6084720" y="112536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长城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1:54:17Z</dcterms:created>
  <dc:creator>JUJU猫会员版</dc:creator>
  <dc:description/>
  <cp:keywords/>
  <dc:language>en-US</dc:language>
  <cp:lastModifiedBy>lbx777</cp:lastModifiedBy>
  <dcterms:modified xsi:type="dcterms:W3CDTF">2018-02-26T19:27:03Z</dcterms:modified>
  <cp:revision>1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