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E33-3FE9-4692-BA18-E5B4D49E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B60-AD57-426B-95E1-04A2464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A4E-A15C-4DCD-89C8-F0D4424C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50C-570A-4ED7-832B-DE2DD5E2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802-6D23-49F2-8813-7FCDA49B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DDCA-DF4E-4CA0-B316-68E470B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162C-E606-4560-89F0-BDBF9A3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4A7-051B-44AE-8827-03612F1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12AD-F85F-4F7B-B05C-29966D3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ED7-3B78-4F4E-8E7E-6F110F7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0A55-9D9E-41D7-A7AC-9CDCE8C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395-6691-4490-866D-0AEF0A3A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72D2-486B-4AC0-8B19-D93B34D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8EE8-0293-4402-AC2B-95DA2382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36DE-FC43-4AB7-A08D-4D4B8AC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1682-F37D-4EED-ABFC-858EAAEC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4B6-B88A-4666-89F8-D950D66E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409E7-78ED-497E-830F-AA4CB539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9F85-92FB-4881-8530-C5455D7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7AEA-505B-4646-8AB6-1F9CB0D6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4329-49BE-4C79-9EF0-08CC2706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A0AF-454F-45F5-A90F-6E60848B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4E4-5FE2-4754-B1B7-5D9831E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165C-3FF3-40F5-8DAF-1EDF25C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B58A-4BDA-495D-A3B4-C6ED05E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2CCB-D444-4074-BB0C-2AEA68F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365A-5E8B-479B-8240-F946BE15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3255-87B9-4D66-BA90-7CB42B8B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8D10-EA1A-4E4B-9FCC-FC2E1F77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8E9B-D1ED-40D9-8ABA-6B282B73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FE35-DDEC-4E7D-ADA8-A29637FF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8AB9-7D48-4F87-8450-E2E09B7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DEFD-CF14-4CBD-AB08-0D85EB11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6DA-C3BD-438C-B88E-4F7D3AF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92A1D-3006-4D32-9A73-A41716DD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7BDB-880C-4019-94A9-774ACEB7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D970-3232-4B2D-AC24-7579B620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A514-9150-40A7-AD60-7E78EFEE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65B1-6EE7-4734-A26C-18E4EFF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5311-F15B-485A-8CD8-1FF42D9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62B6-01B6-47E9-847F-146C26C3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B9DF-71F8-40B1-B254-3503DEBD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6B9F-0956-4EBC-8954-2F1AE096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6E3C7-03D3-48B7-AA0D-D2C49203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314-9C6F-45E5-AFE9-E00D6F1A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93D8-5D42-4A2F-9086-01E7F6B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08B95-21D2-4849-853D-53DC1D35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0E2FD-E7C8-4565-9349-0C3A1BE7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6F323-E142-42D4-9CE1-6BDA6D5F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58540-6681-4570-AAE1-BDAE9534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3F37-6B06-42D1-BB95-8F5483C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2A28-C1CF-422E-82F0-17AE428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C34F-AACB-451E-92E9-9B3DADF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D863-1E72-42D6-96E2-E682C470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20288-17BD-41CC-85DE-B1EA4723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60D-2FE3-456F-BDA7-51D959B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BFD77-813F-4D9B-BB07-E30BB34B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98985-A82B-4337-9E74-B0C67504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19054-77E7-44E6-9ED3-4DE0C53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BDF12-9792-4613-9F3D-588C9C57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E4FCD-F014-4F81-85FB-7AAAB8C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A46BE-28E5-4848-8554-C07331A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A0A46-BB2F-4225-AFB3-CB6A890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B70B7-57CD-4AFB-851F-E1FC031A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6F79D-230D-47BC-8A0C-6DB99E7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CC448-DB63-4795-BB98-9726332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721-FD49-4523-A4C0-75956EE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D9EA1-9DD0-4295-BC4C-F19A8D6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172A1-F813-4B61-908A-DA178D07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F3FCE-E23B-47D3-A3FA-1BC50C4F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CA9-780B-456A-9BCD-75BD6A03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E8E-A703-44CF-B9E0-9A3E988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508-F560-41EB-996C-854617D93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54BE-868C-4EA2-BA46-A66ECB03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801-7DBC-4504-9467-D79A5AB94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B60-5D31-4EAD-B1E5-F59A6A2BA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D530-0190-4F90-8DD9-8B228833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2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3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7E2E-80A6-4E70-850E-A9E0F65D1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10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0"/>
          <p:cNvSpPr/>
          <p:nvPr/>
        </p:nvSpPr>
        <p:spPr>
          <a:xfrm>
            <a:off x="250920" y="404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教新课标二年级语文上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2556000" y="1700280"/>
            <a:ext cx="4464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识字二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神州谣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04920" y="1980720"/>
            <a:ext cx="8540640" cy="3886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20071226163910153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1" descr="d6f52beab90071f2d439c9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图片 1" descr="aW1nLmJsb2cuMTYzLmNvbS9waG90by9WVnpucXc5dE5QeWw1Mjh4bGttbklRJTNEJTNELzg1ODc4MDE1Mzk0NTE4NDY0OS5qcGc=.jpg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4211640" cy="30384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2124000" y="3068640"/>
            <a:ext cx="453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川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美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可入画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5" name="Picture 17" descr="9b2db71e70b9c046f724e427"/>
          <p:cNvPicPr/>
          <p:nvPr/>
        </p:nvPicPr>
        <p:blipFill>
          <a:blip r:embed="rId3"/>
          <a:stretch/>
        </p:blipFill>
        <p:spPr>
          <a:xfrm>
            <a:off x="0" y="3933720"/>
            <a:ext cx="4211640" cy="2924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8" descr="027(19)"/>
          <p:cNvPicPr/>
          <p:nvPr/>
        </p:nvPicPr>
        <p:blipFill>
          <a:blip r:embed="rId4"/>
          <a:stretch/>
        </p:blipFill>
        <p:spPr>
          <a:xfrm>
            <a:off x="4211640" y="3933720"/>
            <a:ext cx="4932360" cy="2924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2009424114453996"/>
          <p:cNvPicPr/>
          <p:nvPr/>
        </p:nvPicPr>
        <p:blipFill>
          <a:blip r:embed="rId5"/>
          <a:stretch/>
        </p:blipFill>
        <p:spPr>
          <a:xfrm>
            <a:off x="4211640" y="0"/>
            <a:ext cx="493236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4976513_155601009717_2"/>
          <p:cNvPicPr/>
          <p:nvPr/>
        </p:nvPicPr>
        <p:blipFill>
          <a:blip r:embed="rId2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6300720" y="501336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黄河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 flipH="1">
            <a:off x="4715640" y="508464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长江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900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122594_095437047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6084720" y="1125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长城长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2005124125196722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6">
            <a:hlinkClick r:id="" action="ppaction://hlinkshowjump?jump=nextslide"/>
          </p:cNvPr>
          <p:cNvSpPr/>
          <p:nvPr/>
        </p:nvSpPr>
        <p:spPr>
          <a:xfrm>
            <a:off x="68436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AutoShape 7">
            <a:hlinkClick r:id="" action="ppaction://hlinkshowjump?jump=nextslide"/>
          </p:cNvPr>
          <p:cNvSpPr/>
          <p:nvPr/>
        </p:nvSpPr>
        <p:spPr>
          <a:xfrm>
            <a:off x="468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3794"/>
                </a:moveTo>
                <a:lnTo>
                  <a:pt x="23186" y="10800"/>
                </a:lnTo>
                <a:lnTo>
                  <a:pt x="91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6472080" y="56520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珠峰耸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4" descr="5399315"/>
          <p:cNvPicPr/>
          <p:nvPr/>
        </p:nvPicPr>
        <p:blipFill>
          <a:blip r:embed="rId2"/>
          <a:stretch/>
        </p:blipFill>
        <p:spPr>
          <a:xfrm>
            <a:off x="0" y="0"/>
            <a:ext cx="4356000" cy="3357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304920" y="1980720"/>
            <a:ext cx="8540640" cy="3886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5399315"/>
          <p:cNvPicPr/>
          <p:nvPr/>
        </p:nvPicPr>
        <p:blipFill>
          <a:blip r:embed="rId4"/>
          <a:stretch/>
        </p:blipFill>
        <p:spPr>
          <a:xfrm>
            <a:off x="0" y="0"/>
            <a:ext cx="4356000" cy="3357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2411280" y="249228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黄河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4" name="Picture 6" descr="10135"/>
          <p:cNvPicPr/>
          <p:nvPr/>
        </p:nvPicPr>
        <p:blipFill>
          <a:blip r:embed="rId5"/>
          <a:stretch/>
        </p:blipFill>
        <p:spPr>
          <a:xfrm>
            <a:off x="4284720" y="0"/>
            <a:ext cx="4859280" cy="3357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7"/>
          <p:cNvSpPr/>
          <p:nvPr/>
        </p:nvSpPr>
        <p:spPr>
          <a:xfrm>
            <a:off x="4356000" y="24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长江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6" name="Picture 8" descr="3fe379000116956fa953dd09a0eeecb2"/>
          <p:cNvPicPr/>
          <p:nvPr/>
        </p:nvPicPr>
        <p:blipFill>
          <a:blip r:embed="rId6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9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8" name="Picture 10" descr="CAHUANG12225142734"/>
          <p:cNvPicPr/>
          <p:nvPr/>
        </p:nvPicPr>
        <p:blipFill>
          <a:blip r:embed="rId7"/>
          <a:stretch/>
        </p:blipFill>
        <p:spPr>
          <a:xfrm>
            <a:off x="4284720" y="3357720"/>
            <a:ext cx="4859280" cy="3500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1"/>
          <p:cNvSpPr/>
          <p:nvPr/>
        </p:nvSpPr>
        <p:spPr>
          <a:xfrm>
            <a:off x="466236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珠峰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2" name="Picture 21" descr="3fe379000116956fa953dd09a0eeecb2"/>
          <p:cNvPicPr/>
          <p:nvPr/>
        </p:nvPicPr>
        <p:blipFill>
          <a:blip r:embed="rId8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3"/>
          <p:cNvSpPr/>
          <p:nvPr/>
        </p:nvSpPr>
        <p:spPr>
          <a:xfrm>
            <a:off x="2411280" y="3429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无标题"/>
          <p:cNvPicPr/>
          <p:nvPr/>
        </p:nvPicPr>
        <p:blipFill>
          <a:blip r:embed="rId2"/>
          <a:stretch/>
        </p:blipFill>
        <p:spPr>
          <a:xfrm>
            <a:off x="324000" y="0"/>
            <a:ext cx="7956360" cy="5975280"/>
          </a:xfrm>
          <a:prstGeom prst="rect">
            <a:avLst/>
          </a:prstGeom>
          <a:ln w="0">
            <a:noFill/>
          </a:ln>
        </p:spPr>
      </p:pic>
      <p:sp>
        <p:nvSpPr>
          <p:cNvPr id="365" name="Oval 6"/>
          <p:cNvSpPr/>
          <p:nvPr/>
        </p:nvSpPr>
        <p:spPr>
          <a:xfrm>
            <a:off x="7020000" y="4581360"/>
            <a:ext cx="720720" cy="5032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79280" y="1989000"/>
            <a:ext cx="89647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神    州    川    涌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岛    隔    峡    与 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陆  民  族  耸  争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1413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hé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556000" y="1413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zhōu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932360" y="1341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huā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7524720" y="134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yǒ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79280" y="2924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dǎ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916360" y="2852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gé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292720" y="285264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873920" y="2852640"/>
            <a:ext cx="9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y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25800" y="436572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835280" y="4365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í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709800" y="4292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z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5077080" y="429264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ǒ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6749280" y="429264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zhēng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179280" y="476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我会认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13"/>
          <p:cNvPicPr/>
          <p:nvPr/>
        </p:nvPicPr>
        <p:blipFill>
          <a:blip r:embed="rId2"/>
          <a:stretch/>
        </p:blipFill>
        <p:spPr>
          <a:xfrm>
            <a:off x="0" y="0"/>
            <a:ext cx="9144000" cy="4979880"/>
          </a:xfrm>
          <a:prstGeom prst="rect">
            <a:avLst/>
          </a:prstGeom>
          <a:ln w="0">
            <a:noFill/>
          </a:ln>
        </p:spPr>
      </p:pic>
      <p:sp>
        <p:nvSpPr>
          <p:cNvPr id="367" name="Oval 7"/>
          <p:cNvSpPr/>
          <p:nvPr/>
        </p:nvSpPr>
        <p:spPr>
          <a:xfrm>
            <a:off x="2268360" y="3429000"/>
            <a:ext cx="1440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299520" y="530064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台湾岛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2567880" y="530064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隔海峡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4799880" y="537372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与大陆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6659640" y="537372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是一家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164_353535_2a18948c6dd7372"/>
          <p:cNvPicPr/>
          <p:nvPr/>
        </p:nvPicPr>
        <p:blipFill>
          <a:blip r:embed="rId2"/>
          <a:stretch/>
        </p:blipFill>
        <p:spPr>
          <a:xfrm>
            <a:off x="34920" y="115920"/>
            <a:ext cx="7620120" cy="6626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7066800" y="2060640"/>
            <a:ext cx="1826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藏   族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8-2"/>
          <p:cNvPicPr/>
          <p:nvPr/>
        </p:nvPicPr>
        <p:blipFill>
          <a:blip r:embed="rId2"/>
          <a:stretch/>
        </p:blipFill>
        <p:spPr>
          <a:xfrm>
            <a:off x="395280" y="54936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7956720" y="1052640"/>
            <a:ext cx="11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蒙古族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山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91a245732d25ede0df4df0ae886ccf7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"/>
          <p:cNvSpPr/>
          <p:nvPr/>
        </p:nvSpPr>
        <p:spPr>
          <a:xfrm>
            <a:off x="6287400" y="55720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维吾尔族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2209555"/>
          <p:cNvPicPr/>
          <p:nvPr/>
        </p:nvPicPr>
        <p:blipFill>
          <a:blip r:embed="rId2"/>
          <a:stretch/>
        </p:blipFill>
        <p:spPr>
          <a:xfrm>
            <a:off x="1424160" y="-27000"/>
            <a:ext cx="5595840" cy="70563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7406280" y="1116360"/>
            <a:ext cx="1094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朝 鲜 族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1" name="Picture 4" descr="20088694930594"/>
          <p:cNvPicPr/>
          <p:nvPr/>
        </p:nvPicPr>
        <p:blipFill>
          <a:blip r:embed="rId3"/>
          <a:stretch/>
        </p:blipFill>
        <p:spPr>
          <a:xfrm>
            <a:off x="-324000" y="11592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3917160" y="3049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台湾高山族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服饰3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2627280" y="544500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傣　族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2009130151178153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212760" y="109548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各民族，情谊浓，齐奋发，共繁荣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284040" y="1413000"/>
            <a:ext cx="928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我神州，称中华，山川美，可入画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黄河奔，长江涌，长城长，珠峰耸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台湾岛，隔海峡，与大陆，是一家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各民族，情谊浓，齐奋发，共繁荣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50920" y="404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小小朗诵家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0" name="三字经 完整版伴奏.mp3" descr=""/>
          <p:cNvPicPr/>
          <p:nvPr/>
        </p:nvPicPr>
        <p:blipFill>
          <a:blip r:embed="rId3"/>
          <a:stretch/>
        </p:blipFill>
        <p:spPr>
          <a:xfrm>
            <a:off x="8244000" y="6165720"/>
            <a:ext cx="583920" cy="439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6598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神    州    川   涌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   耸    岛    隔   峡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   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   与    陆    民    族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1120" y="14842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川  中华  民族  人民  市民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41120" y="2408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台湾  海峡  大陆  陆地  陆军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41120" y="3316320"/>
            <a:ext cx="9360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州  广州  隔壁  隔离  隔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河  长江  长城  奋发  情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繁荣  珠峰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Rectangle 37"/>
          <p:cNvSpPr/>
          <p:nvPr/>
        </p:nvSpPr>
        <p:spPr>
          <a:xfrm>
            <a:off x="611280" y="476280"/>
            <a:ext cx="19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611280" y="89064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775ff"/>
                </a:solidFill>
                <a:latin typeface="Times New Roman"/>
                <a:ea typeface="黑体"/>
              </a:rPr>
              <a:t>我会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5"/>
          <p:cNvSpPr/>
          <p:nvPr/>
        </p:nvSpPr>
        <p:spPr>
          <a:xfrm>
            <a:off x="1692360" y="45813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各民族，情谊浓，齐奋发，共繁荣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AutoShape 12">
            <a:hlinkClick r:id="rId2" action="ppaction://hlinksldjump"/>
          </p:cNvPr>
          <p:cNvSpPr/>
          <p:nvPr/>
        </p:nvSpPr>
        <p:spPr>
          <a:xfrm>
            <a:off x="533520" y="1295280"/>
            <a:ext cx="8380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533520" y="2438280"/>
            <a:ext cx="8380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533520" y="3657600"/>
            <a:ext cx="8380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609480" y="4876920"/>
            <a:ext cx="83844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1600200" y="106668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我神州，称中华，山川美，可入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657440" y="2300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黄河奔，长江涌，长城长，珠峰耸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57440" y="344340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台湾岛，隔海峡，与大陆，是一家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3" descr="e0b935394cce280697ddd81d.jpg"/>
          <p:cNvPicPr/>
          <p:nvPr/>
        </p:nvPicPr>
        <p:blipFill>
          <a:blip r:embed="rId2"/>
          <a:stretch/>
        </p:blipFill>
        <p:spPr>
          <a:xfrm>
            <a:off x="179280" y="333360"/>
            <a:ext cx="8498160" cy="6018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2050920" y="256536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华人民共和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0" y="4437000"/>
            <a:ext cx="24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hén zhōu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  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1763640" y="5300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692360" y="5589720"/>
            <a:ext cx="18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称中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0" y="479736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96e3bbac4abbae294b36d6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1" descr="200804081104438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04920" y="1980720"/>
            <a:ext cx="8540640" cy="388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20071216223855777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54:17Z</dcterms:created>
  <dc:creator>JUJU猫会员版</dc:creator>
  <dc:description/>
  <cp:keywords/>
  <dc:language>en-US</dc:language>
  <cp:lastModifiedBy>微软用户</cp:lastModifiedBy>
  <dcterms:modified xsi:type="dcterms:W3CDTF">2018-04-03T06:43:12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