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chimes.wav" ContentType="audio/x-wav"/>
  <Override PartName="/ppt/media/image16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7.png" ContentType="image/png"/>
  <Override PartName="/ppt/media/type.wav" ContentType="audio/x-wav"/>
  <Override PartName="/ppt/media/image13.jpeg" ContentType="image/jpeg"/>
  <Override PartName="/ppt/media/image4.png" ContentType="image/png"/>
  <Override PartName="/ppt/media/image8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5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9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3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7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71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042320" y="-7920"/>
            <a:ext cx="2101680" cy="191448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934320" y="-1440"/>
            <a:ext cx="2317680" cy="2057400"/>
            <a:chOff x="6934320" y="-1440"/>
            <a:chExt cx="2317680" cy="2057400"/>
          </a:xfrm>
        </p:grpSpPr>
        <p:sp>
          <p:nvSpPr>
            <p:cNvPr id="86" name=""/>
            <p:cNvSpPr/>
            <p:nvPr/>
          </p:nvSpPr>
          <p:spPr>
            <a:xfrm>
              <a:off x="7045200" y="-1440"/>
              <a:ext cx="383760" cy="14256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34320" y="-1440"/>
              <a:ext cx="2317680" cy="205740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85120" y="965880"/>
              <a:ext cx="186120" cy="21564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14120" y="1054440"/>
              <a:ext cx="163080" cy="2887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11520" y="476280"/>
              <a:ext cx="534960" cy="2422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18120" y="1162440"/>
              <a:ext cx="383760" cy="39240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00840" y="765360"/>
              <a:ext cx="392400" cy="73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31880" y="749880"/>
              <a:ext cx="301680" cy="18036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820360" y="900360"/>
              <a:ext cx="325080" cy="14256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66200" y="1035360"/>
              <a:ext cx="546840" cy="12708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5960" y="1158840"/>
              <a:ext cx="443880" cy="11124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98600" y="1247400"/>
              <a:ext cx="455040" cy="36576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95240" y="1100880"/>
              <a:ext cx="257760" cy="6508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image" Target="../media/image2.png"/><Relationship Id="rId9" Type="http://schemas.openxmlformats.org/officeDocument/2006/relationships/slide" Target="slide19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640" y="549000"/>
            <a:ext cx="81532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你听说过或读过这些名言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入虎穴，焉得虎子？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失之东隅，收之桑榆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《阳春》之曲，和者必寡；盛名之下，其实难副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志者，事竟成。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天下不如意，恒十居七八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360" y="4869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你知道这些名言的出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7340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名言均出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《后汉书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37"/>
          <p:cNvGrpSpPr/>
          <p:nvPr/>
        </p:nvGrpSpPr>
        <p:grpSpPr>
          <a:xfrm>
            <a:off x="95040" y="-745560"/>
            <a:ext cx="3408480" cy="2451240"/>
            <a:chOff x="95040" y="-745560"/>
            <a:chExt cx="3408480" cy="2451240"/>
          </a:xfrm>
        </p:grpSpPr>
        <p:pic>
          <p:nvPicPr>
            <p:cNvPr id="197" name="Picture 4" descr="E:\仝德志文件，勿删！\03-参考文档\！PPT图片及版面资源\06-PPT精选插图\12-标签\蓝色嵌入.png"/>
            <p:cNvPicPr/>
            <p:nvPr/>
          </p:nvPicPr>
          <p:blipFill>
            <a:blip r:embed="rId2"/>
            <a:srcRect l="13245" t="-2433" r="0" b="22907"/>
            <a:stretch/>
          </p:blipFill>
          <p:spPr>
            <a:xfrm rot="1247400">
              <a:off x="250920" y="-243000"/>
              <a:ext cx="309672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1"/>
            <p:cNvSpPr/>
            <p:nvPr/>
          </p:nvSpPr>
          <p:spPr>
            <a:xfrm>
              <a:off x="901800" y="133200"/>
              <a:ext cx="1338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文详解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3640" y="1916280"/>
            <a:ext cx="8569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将军邓骘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贤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，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茂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荆州刺史﹑东莱太守。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郡，道经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邑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荆州茂才王密为昌邑令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见，至夜怀金十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360" y="907920"/>
            <a:ext cx="21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词 ，指杨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59280" y="1268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征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1268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即秀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2492280"/>
            <a:ext cx="28083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晋升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调动官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64000" y="227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词，往、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68360" y="4005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推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96360" y="386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拜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400536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过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19160" y="522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6800" y="522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给予、赠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1700280"/>
            <a:ext cx="7775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震曰：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故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君，君不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人，何也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密曰：“暮夜无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者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51960" y="85572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汉代人在门生故吏面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称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7400" y="546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80000" y="263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640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震曰：“天知，神知，我知，子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何谓无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”密愧而出。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涿郡太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廉，不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私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55600" y="1863720"/>
            <a:ext cx="26496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怎么说没人知道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3429000"/>
            <a:ext cx="28083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调动（官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4221000"/>
            <a:ext cx="13683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03640" y="5589720"/>
            <a:ext cx="266364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私下的贿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620640"/>
            <a:ext cx="81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孙常蔬食步行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长者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欲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为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产业，震不肯，曰：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清白吏子孙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以此遗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不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乎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134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过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0280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长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155736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9600" y="1557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306864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1844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18320" y="306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724280"/>
            <a:ext cx="15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称作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号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8320" y="4869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这个来馈赠给他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645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优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03280" y="189000"/>
            <a:ext cx="576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184464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四知》中写了杨震几件事？用简单的话概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3486240"/>
            <a:ext cx="77058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杨震拒金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开头到“密愧而出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杨震为子孙留清白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“后转涿郡太守”到“不亦厚乎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7"/>
          <p:cNvGrpSpPr/>
          <p:nvPr/>
        </p:nvGrpSpPr>
        <p:grpSpPr>
          <a:xfrm>
            <a:off x="139320" y="-11880"/>
            <a:ext cx="2579040" cy="2136240"/>
            <a:chOff x="139320" y="-11880"/>
            <a:chExt cx="2579040" cy="2136240"/>
          </a:xfrm>
        </p:grpSpPr>
        <p:pic>
          <p:nvPicPr>
            <p:cNvPr id="239" name="Picture 4" descr="E:\仝德志文件，勿删！\03-参考文档\！PPT图片及版面资源\06-PPT精选插图\12-标签\蓝色嵌入.png"/>
            <p:cNvPicPr/>
            <p:nvPr/>
          </p:nvPicPr>
          <p:blipFill>
            <a:blip r:embed="rId3"/>
            <a:srcRect l="13245" t="-2433" r="0" b="22907"/>
            <a:stretch/>
          </p:blipFill>
          <p:spPr>
            <a:xfrm rot="1247400">
              <a:off x="324000" y="333000"/>
              <a:ext cx="220968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Box 1"/>
            <p:cNvSpPr/>
            <p:nvPr/>
          </p:nvSpPr>
          <p:spPr>
            <a:xfrm>
              <a:off x="778320" y="709560"/>
              <a:ext cx="1338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整体感知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表现出杨震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公正廉洁，严于修身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的清官形象。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790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２、文章表现了杨震什么品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5280" y="1811160"/>
            <a:ext cx="842472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82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1</a:t>
            </a:r>
            <a:r>
              <a:rPr b="0" lang="zh-CN" sz="33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、从全文来看，作者开头写“大将军邓骘闻其贤而避之”的目的是什么？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82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2</a:t>
            </a:r>
            <a:r>
              <a:rPr b="0" lang="zh-CN" sz="33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、当别人给杨震好处时，他的态度怎样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82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3</a:t>
            </a:r>
            <a:r>
              <a:rPr b="0" lang="zh-CN" sz="33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、你认为杨震是一个怎样的人？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rId9" action="ppaction://hlinksldjump"/>
          </p:cNvPr>
          <p:cNvSpPr/>
          <p:nvPr/>
        </p:nvSpPr>
        <p:spPr>
          <a:xfrm>
            <a:off x="7236000" y="5661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7"/>
          <p:cNvGrpSpPr/>
          <p:nvPr/>
        </p:nvGrpSpPr>
        <p:grpSpPr>
          <a:xfrm>
            <a:off x="139320" y="-11880"/>
            <a:ext cx="2579040" cy="2136240"/>
            <a:chOff x="139320" y="-11880"/>
            <a:chExt cx="2579040" cy="2136240"/>
          </a:xfrm>
        </p:grpSpPr>
        <p:pic>
          <p:nvPicPr>
            <p:cNvPr id="248" name="Picture 4" descr="E:\仝德志文件，勿删！\03-参考文档\！PPT图片及版面资源\06-PPT精选插图\12-标签\蓝色嵌入.png"/>
            <p:cNvPicPr/>
            <p:nvPr/>
          </p:nvPicPr>
          <p:blipFill>
            <a:blip r:embed="rId10"/>
            <a:srcRect l="13245" t="-2433" r="0" b="22907"/>
            <a:stretch/>
          </p:blipFill>
          <p:spPr>
            <a:xfrm rot="1247400">
              <a:off x="324000" y="333000"/>
              <a:ext cx="220968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1"/>
            <p:cNvSpPr/>
            <p:nvPr/>
          </p:nvSpPr>
          <p:spPr>
            <a:xfrm>
              <a:off x="778320" y="709560"/>
              <a:ext cx="1338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合作探究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62064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1</a:t>
            </a:r>
            <a:r>
              <a:rPr b="0" lang="zh-CN" sz="33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、从全文来看，作者开头写“大将军邓骘闻其贤而辟之”的目的是什么？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侧面说明杨震的贤明是远近闻名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2781360"/>
            <a:ext cx="835164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2</a:t>
            </a:r>
            <a:r>
              <a:rPr b="0" lang="zh-CN" sz="33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、当别人给杨震好处时，他的态度怎样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3500280"/>
            <a:ext cx="806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昌邑县令“夜怀金十斤以遗震”并说“暮夜无知者”时， 震曰：“天知，神知，我知，子知。何谓无知！。他拒不受贿，且态度坚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故旧长者”提出“为开产业”时，震曰：“使后世称为清白吏子孙，以此遗之，不亦厚乎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7"/>
          <p:cNvGrpSpPr/>
          <p:nvPr/>
        </p:nvGrpSpPr>
        <p:grpSpPr>
          <a:xfrm>
            <a:off x="-5400" y="-661320"/>
            <a:ext cx="2579040" cy="2136240"/>
            <a:chOff x="-5400" y="-661320"/>
            <a:chExt cx="2579040" cy="2136240"/>
          </a:xfrm>
        </p:grpSpPr>
        <p:pic>
          <p:nvPicPr>
            <p:cNvPr id="255" name="Picture 4" descr="E:\仝德志文件，勿删！\03-参考文档\！PPT图片及版面资源\06-PPT精选插图\12-标签\蓝色嵌入.png"/>
            <p:cNvPicPr/>
            <p:nvPr/>
          </p:nvPicPr>
          <p:blipFill>
            <a:blip r:embed="rId6"/>
            <a:srcRect l="13245" t="-2433" r="0" b="22907"/>
            <a:stretch/>
          </p:blipFill>
          <p:spPr>
            <a:xfrm rot="1247400">
              <a:off x="179280" y="-316080"/>
              <a:ext cx="220968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Box 1"/>
            <p:cNvSpPr/>
            <p:nvPr/>
          </p:nvSpPr>
          <p:spPr>
            <a:xfrm>
              <a:off x="633600" y="60120"/>
              <a:ext cx="1338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合作探究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1484280"/>
            <a:ext cx="8064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3</a:t>
            </a:r>
            <a:r>
              <a:rPr b="0" lang="zh-CN" sz="40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、你认为杨震是一个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2852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贤明，做官清正廉洁，在金钱面前不动心，做人刚正不阿，是老百姓的父母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9640" y="1925640"/>
            <a:ext cx="8172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短小精悍，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人物形象鲜明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本文只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字，非常鲜明地突出了杨震廉洁无私的品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比和侧面烘托衬托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手法来刻画人物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48320" y="927000"/>
            <a:ext cx="15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写作特点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0" y="2349360"/>
            <a:ext cx="9144000" cy="1524240"/>
          </a:xfrm>
          <a:prstGeom prst="rect">
            <a:avLst/>
          </a:prstGeom>
          <a:solidFill>
            <a:srgbClr val="e1f4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920" y="2565360"/>
            <a:ext cx="5329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2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课 古文二则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39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版 九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350028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26920" y="1989000"/>
            <a:ext cx="777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.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语言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刻画形象传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“天知，神知，我知，子知。”短短八个字形象刻画出了杨震拒绝贿赂的坚定态度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739800" y="1125360"/>
          <a:ext cx="7719840" cy="5486400"/>
        </p:xfrm>
        <a:graphic>
          <a:graphicData uri="http://schemas.openxmlformats.org/drawingml/2006/table">
            <a:tbl>
              <a:tblPr/>
              <a:tblGrid>
                <a:gridCol w="4896000"/>
                <a:gridCol w="2823840"/>
              </a:tblGrid>
              <a:tr h="1015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5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一、关于任命、升调官职的词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zh-CN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将军邓骘闻其贤而</a:t>
                      </a:r>
                      <a:r>
                        <a:rPr b="1" lang="zh-CN" sz="3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辟</a:t>
                      </a:r>
                      <a:r>
                        <a:rPr b="1" lang="zh-CN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之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zh-CN" sz="3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举</a:t>
                      </a:r>
                      <a:r>
                        <a:rPr b="1" lang="zh-CN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茂才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1" lang="zh-CN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</a:t>
                      </a:r>
                      <a:r>
                        <a:rPr b="1" lang="zh-CN" sz="3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迁</a:t>
                      </a:r>
                      <a:r>
                        <a:rPr b="1" lang="zh-CN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荆州刺史、东莱太守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1" lang="zh-CN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后</a:t>
                      </a:r>
                      <a:r>
                        <a:rPr b="1" lang="zh-CN" sz="3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转</a:t>
                      </a:r>
                      <a:r>
                        <a:rPr b="1" lang="zh-CN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涿郡太守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1619280" y="260280"/>
            <a:ext cx="49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  <a:ea typeface="华文新魏"/>
              </a:rPr>
              <a:t>知识归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940360" y="2421000"/>
            <a:ext cx="115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征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3500280"/>
            <a:ext cx="2448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推举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6000" y="4437000"/>
            <a:ext cx="2448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晋升或调动官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5734080"/>
            <a:ext cx="2881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调动（官职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4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826920" y="1557360"/>
          <a:ext cx="6697800" cy="4064040"/>
        </p:xfrm>
        <a:graphic>
          <a:graphicData uri="http://schemas.openxmlformats.org/drawingml/2006/table">
            <a:tbl>
              <a:tblPr/>
              <a:tblGrid>
                <a:gridCol w="3600720"/>
                <a:gridCol w="309708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336600"/>
                          </a:solidFill>
                          <a:latin typeface="Arial"/>
                          <a:ea typeface="楷体_GB2312"/>
                        </a:rPr>
                        <a:t>二、知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一词多义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暮夜无</a:t>
                      </a:r>
                      <a:r>
                        <a:rPr b="1" lang="zh-CN" sz="3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知</a:t>
                      </a: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者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君不</a:t>
                      </a:r>
                      <a:r>
                        <a:rPr b="1" lang="zh-CN" sz="3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知</a:t>
                      </a:r>
                      <a:r>
                        <a:rPr b="1" lang="zh-CN" sz="3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故人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5280" y="183024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“清官”还称什么吗？你能举出两个古代的“清白吏”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 rot="10800000">
            <a:off x="1116000" y="3572280"/>
            <a:ext cx="60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00"/>
                </a:solidFill>
                <a:latin typeface="华文新魏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993300"/>
                </a:solidFill>
                <a:latin typeface="华文新魏"/>
                <a:ea typeface="华文新魏"/>
              </a:rPr>
              <a:t>良吏”、“廉吏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4508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00"/>
                </a:solidFill>
                <a:latin typeface="华文新魏"/>
                <a:ea typeface="华文新魏"/>
              </a:rPr>
              <a:t>西门豹 、董宣、狄仁杰 、包拯 、海瑞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37"/>
          <p:cNvGrpSpPr/>
          <p:nvPr/>
        </p:nvGrpSpPr>
        <p:grpSpPr>
          <a:xfrm>
            <a:off x="139320" y="59400"/>
            <a:ext cx="2579040" cy="2136240"/>
            <a:chOff x="139320" y="59400"/>
            <a:chExt cx="2579040" cy="2136240"/>
          </a:xfrm>
        </p:grpSpPr>
        <p:pic>
          <p:nvPicPr>
            <p:cNvPr id="278" name="Picture 4" descr="E:\仝德志文件，勿删！\03-参考文档\！PPT图片及版面资源\06-PPT精选插图\12-标签\蓝色嵌入.png"/>
            <p:cNvPicPr/>
            <p:nvPr/>
          </p:nvPicPr>
          <p:blipFill>
            <a:blip r:embed="rId3"/>
            <a:srcRect l="13245" t="-2433" r="0" b="22907"/>
            <a:stretch/>
          </p:blipFill>
          <p:spPr>
            <a:xfrm rot="1247400">
              <a:off x="324000" y="404280"/>
              <a:ext cx="220968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1"/>
            <p:cNvSpPr/>
            <p:nvPr/>
          </p:nvSpPr>
          <p:spPr>
            <a:xfrm>
              <a:off x="778320" y="780840"/>
              <a:ext cx="1338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拓展延伸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80320" y="208800"/>
            <a:ext cx="1399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包  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340000" y="1413000"/>
            <a:ext cx="4824360" cy="38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2556000" y="765000"/>
            <a:ext cx="39416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廉洁的名言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6000" y="1773000"/>
            <a:ext cx="86040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廉者民之表也，贪者民之贼也。    ——包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其身正，不令而行；其身不正，虽令不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没有思想上的清白，也就不能够有金钱的廉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     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法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巴尔扎克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934920"/>
            <a:ext cx="835164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廉洁的故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5215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袖清风的于谦</a:t>
            </a: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明朝名臣于谦居官清廉。一次，朝廷派他巡察河南。返京时，人们买些当地的绢帕、蘑菇、线香等土特产回京分送朝贵，他没有接受。同时还写了一首诗表明心迹：“绢帕蘑菇与线香，本资民用反为殃。清风两袖朝天去，免得闾阎（指百姓）话短长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95280" y="1197000"/>
            <a:ext cx="849636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手好不要钱</a:t>
            </a: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乾隆进士王杰为人刚直敢言，不附权贵。当时和坤在朝中专权，大臣都不敢得罪他。惟王杰每每与其据理力争。有一次，议政完毕，和坤有意戏弄王杰，拉着他的手说：“好白嫩的手啊！”王杰正颜厉色地回答道：“王杰手虽好，但不能要钱耳！”和坤羞愧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13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假如一位贪官遇到这种情景，想象一下，他会怎么说的？怎么做的？说一段话，描述一下他的丑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738440"/>
            <a:ext cx="597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范晔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蔚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小字搏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南朝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史学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学家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官场多磨，后因事被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采魏晋以来各家关于东汉史实的著作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撰成纪传体断代史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《后汉书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十卷，为我国史学名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7"/>
          <p:cNvGrpSpPr/>
          <p:nvPr/>
        </p:nvGrpSpPr>
        <p:grpSpPr>
          <a:xfrm>
            <a:off x="149040" y="-66600"/>
            <a:ext cx="2868120" cy="2246040"/>
            <a:chOff x="149040" y="-66600"/>
            <a:chExt cx="2868120" cy="2246040"/>
          </a:xfrm>
        </p:grpSpPr>
        <p:pic>
          <p:nvPicPr>
            <p:cNvPr id="149" name="Picture 4" descr="E:\仝德志文件，勿删！\03-参考文档\！PPT图片及版面资源\06-PPT精选插图\12-标签\蓝色嵌入.png"/>
            <p:cNvPicPr/>
            <p:nvPr/>
          </p:nvPicPr>
          <p:blipFill>
            <a:blip r:embed="rId2"/>
            <a:srcRect l="13245" t="-2433" r="0" b="22907"/>
            <a:stretch/>
          </p:blipFill>
          <p:spPr>
            <a:xfrm rot="1247400">
              <a:off x="323640" y="333000"/>
              <a:ext cx="251892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1"/>
            <p:cNvSpPr/>
            <p:nvPr/>
          </p:nvSpPr>
          <p:spPr>
            <a:xfrm>
              <a:off x="396000" y="709560"/>
              <a:ext cx="2410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作者简介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443640" y="1989000"/>
            <a:ext cx="2390760" cy="34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68360" y="836640"/>
            <a:ext cx="849636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用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/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标示出下列句子的朗读节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大 将 军 邓 骘 闻 其 贤 而 辟 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故 所 举 荆 州 茂 才 王 密为 昌 邑 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至 夜 怀 揣 十 金 以 遗 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故 旧 长 者 或 欲 令 为 开 产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2062080"/>
            <a:ext cx="2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14880" y="422280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90880" y="206064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97080" y="350208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9080" y="278280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49440" y="422280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60720" y="4222800"/>
            <a:ext cx="3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70520" y="278280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20720" y="278280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3440" y="350028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08880" y="1197000"/>
            <a:ext cx="1094760" cy="3887640"/>
          </a:xfrm>
          <a:prstGeom prst="rect">
            <a:avLst/>
          </a:prstGeom>
          <a:noFill/>
          <a:ln w="2232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私    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11280" y="1916280"/>
            <a:ext cx="7991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第五伦简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第五伦，字伯鱼，京兆长陵人。他的祖先是战国时齐国的田氏。田氏在西汉初迁徙至皇帝陵园的很多，所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迁徙的次序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作为姓氏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10600" y="-11880"/>
            <a:ext cx="2579040" cy="2136240"/>
            <a:chOff x="210600" y="-11880"/>
            <a:chExt cx="2579040" cy="2136240"/>
          </a:xfrm>
        </p:grpSpPr>
        <p:pic>
          <p:nvPicPr>
            <p:cNvPr id="311" name="Picture 4" descr="E:\仝德志文件，勿删！\03-参考文档\！PPT图片及版面资源\06-PPT精选插图\12-标签\蓝色嵌入.png"/>
            <p:cNvPicPr/>
            <p:nvPr/>
          </p:nvPicPr>
          <p:blipFill>
            <a:blip r:embed="rId2"/>
            <a:srcRect l="13245" t="-2433" r="0" b="22907"/>
            <a:stretch/>
          </p:blipFill>
          <p:spPr>
            <a:xfrm rot="1247400">
              <a:off x="395280" y="333000"/>
              <a:ext cx="220968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Box 1"/>
            <p:cNvSpPr/>
            <p:nvPr/>
          </p:nvSpPr>
          <p:spPr>
            <a:xfrm>
              <a:off x="849600" y="709560"/>
              <a:ext cx="1338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文链接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95280" y="2276640"/>
            <a:ext cx="8424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１、结合文中注释，通过查阅有关工具书加以翻译。不懂处标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112536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00"/>
                </a:solidFill>
                <a:latin typeface="华文行楷"/>
                <a:ea typeface="华文行楷"/>
              </a:rPr>
              <a:t>听课文，疏通文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4437000"/>
            <a:ext cx="842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２、前后讨论解决不懂处。或问老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372360" y="112536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74847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奉公尽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言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依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诸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谏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辄叱遣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吏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奏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便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，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封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若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95720" y="1773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奉公守法竭尽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684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说话办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181944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迟疑，模棱两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764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有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7520" y="296712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（他）就斥责并让他们走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19640" y="311148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陈述的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面意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88000" y="42512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 u="sng">
                <a:solidFill>
                  <a:srgbClr val="ff0000"/>
                </a:solidFill>
                <a:uFillTx/>
                <a:latin typeface="Arial"/>
              </a:rPr>
              <a:t>指对国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 u="sng">
                <a:solidFill>
                  <a:srgbClr val="ff0000"/>
                </a:solidFill>
                <a:uFillTx/>
                <a:latin typeface="Arial"/>
              </a:rPr>
              <a:t>有利的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04000" y="34034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一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64360" y="4340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封好呈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76360" y="544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像这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7"/>
          <p:cNvGrpSpPr/>
          <p:nvPr/>
        </p:nvGrpSpPr>
        <p:grpSpPr>
          <a:xfrm>
            <a:off x="283680" y="-11880"/>
            <a:ext cx="2579040" cy="2136240"/>
            <a:chOff x="283680" y="-11880"/>
            <a:chExt cx="2579040" cy="2136240"/>
          </a:xfrm>
        </p:grpSpPr>
        <p:pic>
          <p:nvPicPr>
            <p:cNvPr id="332" name="Picture 4" descr="E:\仝德志文件，勿删！\03-参考文档\！PPT图片及版面资源\06-PPT精选插图\12-标签\蓝色嵌入.png"/>
            <p:cNvPicPr/>
            <p:nvPr/>
          </p:nvPicPr>
          <p:blipFill>
            <a:blip r:embed="rId3"/>
            <a:srcRect l="13245" t="-2433" r="0" b="22907"/>
            <a:stretch/>
          </p:blipFill>
          <p:spPr>
            <a:xfrm rot="1247400">
              <a:off x="468360" y="333000"/>
              <a:ext cx="220968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Box 1"/>
            <p:cNvSpPr/>
            <p:nvPr/>
          </p:nvSpPr>
          <p:spPr>
            <a:xfrm>
              <a:off x="922680" y="709560"/>
              <a:ext cx="1338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文详解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11280" y="189216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性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少文采，在位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贞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前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贡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然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蕴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修威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见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14590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本性朴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13160" y="2421000"/>
            <a:ext cx="10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qu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è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恭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诚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19640" y="1531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清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67280" y="2421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著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2560" y="3908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比拟，比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55160" y="390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西汉大臣，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明经洁行著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32360" y="38354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宽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22120" y="390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不修整自己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威严仪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53481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6560" y="53481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被看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问伦曰：“公有私乎？”对曰：“昔人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千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者，吾虽不受，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选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心不能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终不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37080" y="35370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东汉以太尉、司徒、司空为三公，代指朝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51640" y="2565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选贤任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8360" y="40514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可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5084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始终没有任用（他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91280" y="19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送给，赠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68360" y="112536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兄子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夜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退而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寝；吾子有疾，虽不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省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竟夕不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若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岂可谓无私乎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74280" y="155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35280" y="162864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生病（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得很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10200" y="3068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40000"/>
                </a:solidFill>
                <a:uFillTx/>
                <a:latin typeface="Arial"/>
              </a:rPr>
              <a:t>探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30120" y="3068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整夜睡不着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88200" y="2108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像这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76040" y="4076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600ff"/>
                </a:solidFill>
                <a:uFillTx/>
                <a:latin typeface="Arial"/>
              </a:rPr>
              <a:t>难道可以说没有私心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03640" y="21798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16000" y="2708280"/>
            <a:ext cx="2195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24360" y="2779560"/>
            <a:ext cx="16542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6000" y="3571920"/>
            <a:ext cx="2663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言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事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6560" y="4724280"/>
            <a:ext cx="2303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时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79640" y="2779560"/>
            <a:ext cx="136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遵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88000" y="2851200"/>
            <a:ext cx="43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993300"/>
                </a:solidFill>
                <a:latin typeface="Arial"/>
                <a:ea typeface="楷体_GB2312"/>
              </a:rPr>
              <a:t>保持节操，名作动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68360" y="3645000"/>
            <a:ext cx="504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说话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办事，名作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40000" y="4795920"/>
            <a:ext cx="4103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有的人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有时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37"/>
          <p:cNvGrpSpPr/>
          <p:nvPr/>
        </p:nvGrpSpPr>
        <p:grpSpPr>
          <a:xfrm>
            <a:off x="139320" y="-11880"/>
            <a:ext cx="2579040" cy="2136240"/>
            <a:chOff x="139320" y="-11880"/>
            <a:chExt cx="2579040" cy="2136240"/>
          </a:xfrm>
        </p:grpSpPr>
        <p:pic>
          <p:nvPicPr>
            <p:cNvPr id="372" name="Picture 4" descr="E:\仝德志文件，勿删！\03-参考文档\！PPT图片及版面资源\06-PPT精选插图\12-标签\蓝色嵌入.png"/>
            <p:cNvPicPr/>
            <p:nvPr/>
          </p:nvPicPr>
          <p:blipFill>
            <a:blip r:embed="rId3"/>
            <a:srcRect l="13245" t="-2433" r="0" b="22907"/>
            <a:stretch/>
          </p:blipFill>
          <p:spPr>
            <a:xfrm rot="1247400">
              <a:off x="324000" y="333000"/>
              <a:ext cx="220968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Box 1"/>
            <p:cNvSpPr/>
            <p:nvPr/>
          </p:nvSpPr>
          <p:spPr>
            <a:xfrm>
              <a:off x="778320" y="709560"/>
              <a:ext cx="1338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字词小结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484360" y="1700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字词释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41120" y="2276640"/>
            <a:ext cx="2303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00760" y="2276640"/>
            <a:ext cx="2087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见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8920" y="3643200"/>
            <a:ext cx="2195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省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00760" y="3571920"/>
            <a:ext cx="2087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竟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44760" y="2276640"/>
            <a:ext cx="352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比拟，比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442200" y="2276640"/>
            <a:ext cx="223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被看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89120" y="3645000"/>
            <a:ext cx="194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探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69120" y="3571920"/>
            <a:ext cx="208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整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4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4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48520" y="476280"/>
            <a:ext cx="11552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司马迁（西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44200" y="328680"/>
            <a:ext cx="66780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班   固（东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5120" y="3645000"/>
            <a:ext cx="115524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范  晔（南朝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48520" y="3716280"/>
            <a:ext cx="11552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陈  寿（西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1773360"/>
            <a:ext cx="1439640" cy="3456000"/>
          </a:xfrm>
          <a:prstGeom prst="octagon">
            <a:avLst>
              <a:gd name="adj" fmla="val 2928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36280" y="1916280"/>
            <a:ext cx="2618280" cy="331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Arial"/>
              </a:rPr>
              <a:t>前四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6910" r="0" b="0"/>
          <a:stretch/>
        </p:blipFill>
        <p:spPr>
          <a:xfrm>
            <a:off x="6300720" y="736560"/>
            <a:ext cx="2279880" cy="2692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2154240" cy="2665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rcRect l="0" t="4788" r="0" b="0"/>
          <a:stretch/>
        </p:blipFill>
        <p:spPr>
          <a:xfrm>
            <a:off x="6135840" y="3789360"/>
            <a:ext cx="2523960" cy="28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rcRect l="0" t="9347" r="0" b="5291"/>
          <a:stretch/>
        </p:blipFill>
        <p:spPr>
          <a:xfrm>
            <a:off x="108000" y="907920"/>
            <a:ext cx="29527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7"/>
          <p:cNvGrpSpPr/>
          <p:nvPr/>
        </p:nvGrpSpPr>
        <p:grpSpPr>
          <a:xfrm>
            <a:off x="288720" y="-690480"/>
            <a:ext cx="2733480" cy="2194920"/>
            <a:chOff x="288720" y="-690480"/>
            <a:chExt cx="2733480" cy="2194920"/>
          </a:xfrm>
        </p:grpSpPr>
        <p:pic>
          <p:nvPicPr>
            <p:cNvPr id="164" name="Picture 4" descr="E:\仝德志文件，勿删！\03-参考文档\！PPT图片及版面资源\06-PPT精选插图\12-标签\蓝色嵌入.png"/>
            <p:cNvPicPr/>
            <p:nvPr/>
          </p:nvPicPr>
          <p:blipFill>
            <a:blip r:embed="rId6"/>
            <a:srcRect l="13245" t="-2433" r="0" b="22907"/>
            <a:stretch/>
          </p:blipFill>
          <p:spPr>
            <a:xfrm rot="1247400">
              <a:off x="468000" y="-316080"/>
              <a:ext cx="23745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Box 1"/>
            <p:cNvSpPr/>
            <p:nvPr/>
          </p:nvSpPr>
          <p:spPr>
            <a:xfrm>
              <a:off x="536400" y="60120"/>
              <a:ext cx="2272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文背景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79280" y="223848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便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79640" y="180648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楷体_GB2312"/>
              </a:rPr>
              <a:t>古义：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biànyí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　指对国家有利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2360" y="45435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选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41115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楷体_GB2312"/>
              </a:rPr>
              <a:t>古义：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指选拔举用贤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79640" y="31021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楷体_GB2312"/>
              </a:rPr>
              <a:t>今义：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piányi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　指价钱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08000" y="49752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楷体_GB2312"/>
              </a:rPr>
              <a:t>今义：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用投票等表决方式选出代表负责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47640" y="2093760"/>
            <a:ext cx="287640" cy="1081080"/>
          </a:xfrm>
          <a:custGeom>
            <a:avLst/>
            <a:gdLst>
              <a:gd name="textAreaLeft" fmla="*/ 183960 w 287640"/>
              <a:gd name="textAreaRight" fmla="*/ 288000 w 28764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63640" y="44719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36720" y="547560"/>
            <a:ext cx="5040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新魏"/>
              </a:rPr>
              <a:t>古今异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500"/>
                            </p:stCondLst>
                            <p:childTnLst>
                              <p:par>
                                <p:cTn id="8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30040" y="801360"/>
            <a:ext cx="54910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华文新魏"/>
                <a:ea typeface="华文新魏"/>
              </a:rPr>
              <a:t>段落层次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640" y="2717280"/>
            <a:ext cx="860436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第一层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正面表现第五伦的奉公无私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自“伦奉公尽节……亦以此见轻”）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一是“诸子或时谏止，（第五伦）辄叱遣之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二是“吏人奏记便宜者，亦并封上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17859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全文分成两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4000" y="1689120"/>
            <a:ext cx="8569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第二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用第五伦自己的话来证明他的真无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（自“或问伦曰……岂可以谓无私乎？”）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一是对故人的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二是对儿子的亲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由此可知第五伦所谓的“私心”是人之常情。这样写，第五伦这个人物形象更加丰满，真实可信，这样的“私心”更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突出他的真无私、真正的公正廉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056360" cy="48243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8040" y="355320"/>
            <a:ext cx="3448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华文新魏"/>
                <a:ea typeface="华文新魏"/>
              </a:rPr>
              <a:t>段落层次</a:t>
            </a:r>
            <a:r>
              <a:rPr b="0" lang="zh-CN" sz="5400" spc="-1" strike="noStrike">
                <a:solidFill>
                  <a:srgbClr val="e40000"/>
                </a:solidFill>
                <a:latin typeface="华文新魏"/>
                <a:ea typeface="华文新魏"/>
              </a:rPr>
              <a:t> 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740720" y="2708280"/>
            <a:ext cx="8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反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365292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五伦的私心是自私的思想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4720" y="451584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天生具有的，属人之常情，人皆有之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2920" y="2060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五伦是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09440" y="286020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奉公守法 、毫无私心，清洁廉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50920" y="987480"/>
            <a:ext cx="4753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  <a:ea typeface="楷体_GB2312"/>
              </a:rPr>
              <a:t>整体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11280" y="1773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如何理解“岂可谓无私乎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2781360"/>
            <a:ext cx="82090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华文新魏"/>
              </a:rPr>
              <a:t>　　用反问句式更能突出第五伦的公正无私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95280" y="1557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本文题目是《私心》，而文章意在表现第五伦的公正无私心，你认为题目恰当吗？请简析理由，不少于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41440" y="3429000"/>
            <a:ext cx="806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用反面衬托的手法突出人物性格。用第五伦自己承认有“私心”，来衬托他的真无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1840" y="213192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　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通过第五伦一心奉公，尽守节操，公正无私，来赞扬其高尚的无私的品质，进而以其私心反衬第五伦的情操。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77720" y="549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Arial"/>
                <a:ea typeface="华文新魏"/>
              </a:rPr>
              <a:t>归纳主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9640" y="2162160"/>
            <a:ext cx="824724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反面衬托的手法突出人物性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言朴实、发人深省。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“岂可谓无私”发人深省，让读者扪心自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84880" y="981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华文新魏"/>
              </a:rPr>
              <a:t>写作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2" descr="7485157_073341707000_2副本"/>
          <p:cNvPicPr/>
          <p:nvPr/>
        </p:nvPicPr>
        <p:blipFill>
          <a:blip r:embed="rId2"/>
          <a:stretch/>
        </p:blipFill>
        <p:spPr>
          <a:xfrm>
            <a:off x="1523880" y="0"/>
            <a:ext cx="6248520" cy="4168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8"/>
          <p:cNvSpPr/>
          <p:nvPr/>
        </p:nvSpPr>
        <p:spPr>
          <a:xfrm>
            <a:off x="395280" y="442404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业精于勤，荒于嬉；行成于思，毁于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韩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1" descr="图形1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693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3" descr="图21"/>
          <p:cNvPicPr/>
          <p:nvPr/>
        </p:nvPicPr>
        <p:blipFill>
          <a:blip r:embed="rId5"/>
          <a:stretch/>
        </p:blipFill>
        <p:spPr>
          <a:xfrm>
            <a:off x="380880" y="3276720"/>
            <a:ext cx="2210040" cy="5205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484360" y="2276640"/>
            <a:ext cx="41752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黑体"/>
              </a:rPr>
              <a:t>四知</a:t>
            </a:r>
            <a:endParaRPr b="1" lang="en-US" sz="9600" spc="-1" strike="noStrike">
              <a:ln w="0">
                <a:noFill/>
              </a:ln>
              <a:solidFill>
                <a:srgbClr val="0066cc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8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385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38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63400" y="1717560"/>
            <a:ext cx="8185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骘        辟       遗       谒       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989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zh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198900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1916280"/>
            <a:ext cx="139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è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48360" y="1989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z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1916280"/>
            <a:ext cx="139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y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549360"/>
            <a:ext cx="813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听课文朗读，完成下列题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1</a:t>
            </a:r>
            <a:r>
              <a:rPr b="0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、给生字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350028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2</a:t>
            </a:r>
            <a:r>
              <a:rPr b="0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、划分下列句子的朗读节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221000"/>
            <a:ext cx="7705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大将军邓骘闻其贤而辟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至夜怀金十斤以遗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故旧长者或欲令为开产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492360" y="4221000"/>
            <a:ext cx="216000" cy="648000"/>
          </a:xfrm>
          <a:prstGeom prst="line">
            <a:avLst/>
          </a:prstGeom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124000" y="5084640"/>
            <a:ext cx="216000" cy="648000"/>
          </a:xfrm>
          <a:prstGeom prst="line">
            <a:avLst/>
          </a:prstGeom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924360" y="5084640"/>
            <a:ext cx="216000" cy="648000"/>
          </a:xfrm>
          <a:prstGeom prst="line">
            <a:avLst/>
          </a:prstGeom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87640" y="5950080"/>
            <a:ext cx="216000" cy="647640"/>
          </a:xfrm>
          <a:prstGeom prst="line">
            <a:avLst/>
          </a:prstGeom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427280" y="5950080"/>
            <a:ext cx="215640" cy="647640"/>
          </a:xfrm>
          <a:prstGeom prst="line">
            <a:avLst/>
          </a:prstGeom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74072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74578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26920" y="393408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即“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天知、神知、我知、子知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题目是编者加的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242100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四知”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0920" y="62064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、课文题目“四知”是哪“四知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24360" y="1765440"/>
            <a:ext cx="48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震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东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官，学问渊博，可与孔子相媲美，素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关西孔子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称。杨震以为官清廉名闻天下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635280" cy="5400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280" y="2060640"/>
            <a:ext cx="8424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１、结合文中注释，通过查阅有关工具书加以翻译。不懂处标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765000"/>
            <a:ext cx="74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行楷"/>
                <a:ea typeface="华文行楷"/>
              </a:rPr>
              <a:t>自由朗读课文，疏通文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365720"/>
            <a:ext cx="8424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２、前后讨论解决不懂处。或问老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8:09:05Z</dcterms:created>
  <dc:creator/>
  <dc:description/>
  <dc:language>en-US</dc:language>
  <cp:lastModifiedBy>yy</cp:lastModifiedBy>
  <dcterms:modified xsi:type="dcterms:W3CDTF">2016-12-05T13:29:37Z</dcterms:modified>
  <cp:revision>325</cp:revision>
  <dc:subject/>
  <dc:title>第21课 古文二则</dc:title>
</cp:coreProperties>
</file>