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2B1-61B2-428F-9528-90339A39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376-9E8C-437F-9B62-B76A0CB9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06E-2136-4C59-8DA8-CC56F591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8CC-ED77-47BD-8ECF-1CEBEA9C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7CC4-0783-4A88-B01F-6FD3041B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26E5-D7AF-4186-B902-2424D6F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0B50-4322-4F09-AD7A-8D7C3A45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9E2F-C67A-4CEF-B49D-74CCD66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D60A-28E2-4AC8-A8D6-9259ED37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BD7C-D674-4A06-BDD2-4AB2E889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CE9-0CBD-4B7A-BB00-E828E7C3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694-F4CD-4091-8033-0572C682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169E-9E3E-42E8-A8A2-F78744C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5AC-FAF1-428D-A4E2-EE1ED0E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F2E5-F7DD-4924-8E68-3AE6874C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EC22-4C86-4272-A4A1-9D882C90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90E6-DEA6-4E97-B6DF-900A1860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82F-343B-43D0-A54C-9ED01EA4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CCF-93A0-4F15-8611-999AB25D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B57-E4F4-468F-98D1-D25FD4E0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2F9-5FBD-472B-B0D7-D3A9222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D4B-F144-4984-AB07-EC2866B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4EC-E82F-45F9-9B49-4A7BF54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885-3C06-45B3-A1E1-A433D3E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B39A-6E8C-41E3-896A-43EC9D8DA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背景图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1816200"/>
            <a:ext cx="9144000" cy="504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标题栏"/>
          <p:cNvPicPr/>
          <p:nvPr/>
        </p:nvPicPr>
        <p:blipFill>
          <a:blip r:embed="rId3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4"/>
          <a:stretch/>
        </p:blipFill>
        <p:spPr>
          <a:xfrm>
            <a:off x="0" y="129708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2ED2-CD48-471E-B38B-1C9E2AA8A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9169560" cy="6858000"/>
            <a:chOff x="0" y="0"/>
            <a:chExt cx="9169560" cy="6858000"/>
          </a:xfrm>
        </p:grpSpPr>
        <p:pic>
          <p:nvPicPr>
            <p:cNvPr id="87" name="Picture 3" descr="背景图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69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" descr="标题栏"/>
            <p:cNvPicPr/>
            <p:nvPr/>
          </p:nvPicPr>
          <p:blipFill>
            <a:blip r:embed="rId2"/>
            <a:stretch/>
          </p:blipFill>
          <p:spPr>
            <a:xfrm>
              <a:off x="14400" y="2421000"/>
              <a:ext cx="9144000" cy="13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5"/>
          <p:cNvSpPr/>
          <p:nvPr/>
        </p:nvSpPr>
        <p:spPr>
          <a:xfrm>
            <a:off x="0" y="2276640"/>
            <a:ext cx="91440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.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文二则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068800" y="6338880"/>
            <a:ext cx="4075200" cy="5191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3535200" y="3760920"/>
            <a:ext cx="23767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76720" y="148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06864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辄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( zhé ) 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便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( biàn )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宜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悫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(què )  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省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(xǐng)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324000" y="333360"/>
            <a:ext cx="273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落实字词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187280" y="1989000"/>
            <a:ext cx="70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诸子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或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谏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辄叱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吏人奏记及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便宜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质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人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前朝贡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然少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蕴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威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若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02160" y="2060640"/>
            <a:ext cx="50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或，有的人；时，有时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916360" y="24811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让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走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299120" y="2901960"/>
            <a:ext cx="42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指对国家有利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511360" y="33148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恭谨，诚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344840" y="3760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比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849400" y="414972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宽和，宽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854440" y="4602240"/>
            <a:ext cx="35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修饰，整饬（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楷体_GB2312"/>
              </a:rPr>
              <a:t>chì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505240" y="501984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这样，这种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55560" y="1330200"/>
            <a:ext cx="7921800" cy="474840"/>
          </a:xfrm>
          <a:prstGeom prst="rect">
            <a:avLst/>
          </a:prstGeom>
          <a:solidFill>
            <a:srgbClr val="ccffcc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伦奉公守法竭尽忠诚，说话办事没有违背法规的。诸子中有人有时候劝止他，他就斥责并让他们走开，官吏陈述的书面意见有利于国家的，他也把它们封上，他就像这样的毫无私心。第五伦生性诚实，缺少文采，做官以清廉而著称，当时的人们把他比作西汉以贤良廉洁而著称的贡禹。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他缺少宽容，又不整饬自己的威严，也因此被有些人看轻。有人问第五伦说：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有私心吗</a:t>
            </a: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伦回答说：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朋友中有送给我千里马的，我虽然没有接受，但每到朝廷选拔官吏时，我心里总不能忘了他，可是也始终没有任用他。我哥哥的儿子常常生病，我一夜里十次去探望，回来却安安稳稳地睡下；我的儿子有了病，我虽然不去探望，但却整夜睡不着觉。像这样，难道可以说没有私心吗</a:t>
            </a: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179280" y="189000"/>
            <a:ext cx="2448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文翻译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468360" y="403200"/>
            <a:ext cx="28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问题思考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042920" y="177336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为第五伦毫无私心，而他认为自己在哪些地方还有私心？你怎么看第五伦的这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私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922320" y="3573360"/>
            <a:ext cx="7764480" cy="1252080"/>
          </a:xfrm>
          <a:prstGeom prst="rect">
            <a:avLst/>
          </a:prstGeom>
          <a:noFill/>
          <a:ln w="475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第五伦认为自己在举贤任能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有人送礼，虽拒收但心理不忘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和私人感情方面（用自己对哥哥的儿子生病和自己的儿子生病的不同心理反应）还有私心。这些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私心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实属人之常情，他并没有什么不对的地方，只是由于他严于自律，对自己是高标准严要求，敢于挖掘灵魂深处的小小的私心。第五伦无私奉公、严于自律的精神正是值得我们学习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48000" y="1125360"/>
            <a:ext cx="49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范晔（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98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45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），字蔚宗。南朝宋著名史学家、文学家。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宋书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本传称他：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博涉经史，善为文章，能隶书，晓音律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他一生对社会的最大贡献是撰写了后人称之为“前四史”之一的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后汉书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01300000252663123596145901547_s"/>
          <p:cNvPicPr/>
          <p:nvPr/>
        </p:nvPicPr>
        <p:blipFill>
          <a:blip r:embed="rId1"/>
          <a:stretch/>
        </p:blipFill>
        <p:spPr>
          <a:xfrm>
            <a:off x="108000" y="189000"/>
            <a:ext cx="3201840" cy="446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7236000" y="4076640"/>
            <a:ext cx="1908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W020080124357501628436"/>
          <p:cNvPicPr/>
          <p:nvPr/>
        </p:nvPicPr>
        <p:blipFill>
          <a:blip r:embed="rId1"/>
          <a:stretch/>
        </p:blipFill>
        <p:spPr>
          <a:xfrm>
            <a:off x="417600" y="2122560"/>
            <a:ext cx="2415960" cy="338436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6" descr=""/>
          <p:cNvPicPr/>
          <p:nvPr/>
        </p:nvPicPr>
        <p:blipFill>
          <a:blip r:embed="rId2"/>
          <a:stretch/>
        </p:blipFill>
        <p:spPr>
          <a:xfrm>
            <a:off x="2120760" y="324000"/>
            <a:ext cx="4767480" cy="718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3059280" y="126828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震对教育事业特别热心，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后，对于地方州郡长官征召他出仕做官的召请任命置之不理，一心一意自费设塾授徒，开始了他长达三十年的教育生涯。他当时家住华山脚下的牛心峪口，就利用其父授徒的学馆收徒传业。他坚持有教无类，不分贫富，因此，四方求学者络绎不绝，学生多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人。由于他教学有方，名气很大，学生很多，因此，学馆如市，书声琅琅，规模极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56000" y="1413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70828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邓骘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 zhì )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辟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 bì )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谒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 yè )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遗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wèi )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涿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zhuō)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州    称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(chēng)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1484280"/>
            <a:ext cx="720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大将军邓骘闻其贤而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茂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四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荆州刺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当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所举荆州茂才王密为昌邑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至夜怀金十斤以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暮夜无知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后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涿郡太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使后世称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清白吏子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此遗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8000" y="33336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落实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881600" y="1512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征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124000" y="196056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推举，选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087720" y="238428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晋升或调动官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073240" y="2757600"/>
            <a:ext cx="23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到</a:t>
            </a:r>
            <a:r>
              <a:rPr b="1" lang="en-US" sz="2800" spc="-1" strike="noStrike">
                <a:solidFill>
                  <a:srgbClr val="990099"/>
                </a:solidFill>
                <a:latin typeface="宋体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618160" y="324972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过去，以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4183200" y="3672000"/>
            <a:ext cx="19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送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825640" y="4094280"/>
            <a:ext cx="28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宋体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208320" y="449280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调动</a:t>
            </a:r>
            <a:r>
              <a:rPr b="1" lang="en-US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官职</a:t>
            </a:r>
            <a:r>
              <a:rPr b="1" lang="en-US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627440" y="4938840"/>
            <a:ext cx="14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2484360" y="534204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72960" y="1203480"/>
            <a:ext cx="820908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将军邓骘听说杨震非常贤明就派人征召他，推举他为秀才，他多次得到升迁，官至荆州刺史、莱州太守。杨震赴任途中，取道经过昌邑，他过去在荆州曾举荐的秀才王密担任昌邑县县令，前来拜见他，到了夜间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里揣着十斤银子来送给杨震。杨震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了解你，你却不了解我，这是为什么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密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金这件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夜里是没有人知道的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震回答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天知道，神明知道，我知道，你知道。怎么能说没有人知道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密羞愧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拿着银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去了。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后来杨震调任涿州郡担任太守。他本性公正廉洁，不肯接受私下的贿赂。他的子孙常常吃饭没有肉，出门没有车，他的老朋友中年长的人有的想要让他为子孙开办一些产业，杨震不答应，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他们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：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要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让后代被称作清官的子孙，用这个来馈赠给他们，不也是很优厚的吗</a:t>
            </a: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!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08000" y="2998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900"/>
                </a:solidFill>
                <a:latin typeface="Arial"/>
                <a:ea typeface="黑体"/>
              </a:rPr>
              <a:t>课文翻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68360" y="16444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中主要描写了哪个人物？所用的主要描写方法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中写了几件事？试拟小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8000" y="2998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问题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49240" y="2857680"/>
            <a:ext cx="4764240" cy="673200"/>
          </a:xfrm>
          <a:prstGeom prst="rect">
            <a:avLst/>
          </a:prstGeom>
          <a:solidFill>
            <a:srgbClr val="ccffcc"/>
          </a:solidFill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隶书"/>
                <a:ea typeface="隶书"/>
              </a:rPr>
              <a:t>杨震</a:t>
            </a: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800" spc="-1" strike="noStrike">
                <a:solidFill>
                  <a:srgbClr val="009999"/>
                </a:solidFill>
                <a:latin typeface="隶书"/>
                <a:ea typeface="隶书"/>
              </a:rPr>
              <a:t>语言描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82720" y="4524480"/>
            <a:ext cx="2394000" cy="1831680"/>
          </a:xfrm>
          <a:prstGeom prst="rect">
            <a:avLst/>
          </a:prstGeom>
          <a:solidFill>
            <a:srgbClr val="ccffff"/>
          </a:solidFill>
          <a:ln w="41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60066"/>
                </a:solidFill>
                <a:latin typeface="隶书"/>
                <a:ea typeface="隶书"/>
              </a:rPr>
              <a:t>拒受贿赂</a:t>
            </a:r>
            <a:r>
              <a:rPr b="0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9900"/>
                </a:solidFill>
                <a:latin typeface="隶书"/>
                <a:ea typeface="隶书"/>
              </a:rPr>
              <a:t>拒办产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6444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认为杨震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8000" y="2998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  <a:ea typeface="黑体"/>
              </a:rPr>
              <a:t>问题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9640" y="2852640"/>
            <a:ext cx="7345440" cy="673200"/>
          </a:xfrm>
          <a:prstGeom prst="rect">
            <a:avLst/>
          </a:prstGeom>
          <a:solidFill>
            <a:srgbClr val="ccffcc"/>
          </a:solidFill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隶书"/>
                <a:ea typeface="隶书"/>
              </a:rPr>
              <a:t>杨震</a:t>
            </a: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是一个廉洁自律、坚决拒贿的高官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WordArt 4" descr=""/>
          <p:cNvPicPr/>
          <p:nvPr/>
        </p:nvPicPr>
        <p:blipFill>
          <a:blip r:embed="rId1"/>
          <a:stretch/>
        </p:blipFill>
        <p:spPr>
          <a:xfrm>
            <a:off x="1579680" y="585720"/>
            <a:ext cx="5211720" cy="987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01300000251368122569476650457_s"/>
          <p:cNvPicPr/>
          <p:nvPr/>
        </p:nvPicPr>
        <p:blipFill>
          <a:blip r:embed="rId2"/>
          <a:stretch/>
        </p:blipFill>
        <p:spPr>
          <a:xfrm>
            <a:off x="5724360" y="1916280"/>
            <a:ext cx="262584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684360" y="1773360"/>
            <a:ext cx="43923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字伯鱼，东汉京兆长陵（今陕西咸阳东北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虽然身为二千石一级的官员，仍然亲自锄草喂马，妻子下炊作饭。所得到的俸禄，也只留下一个月的口粮，其余的都低价卖给贫苦百姓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13:14Z</dcterms:created>
  <dc:creator>huangn</dc:creator>
  <dc:description/>
  <dc:language>en-US</dc:language>
  <cp:lastModifiedBy>微软用户</cp:lastModifiedBy>
  <dcterms:modified xsi:type="dcterms:W3CDTF">2014-12-09T23:34:53Z</dcterms:modified>
  <cp:revision>39</cp:revision>
  <dc:subject/>
  <dc:title>幻灯片 1</dc:title>
</cp:coreProperties>
</file>