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DB25-F7A2-4D20-9D45-0601B337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4A42A-4483-42ED-8F7A-9B8ED2B6D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1345-8D48-4E2C-B43D-AF13A32F1F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531FD-6EBC-4FF7-A587-6088B038D7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EA9D85-D08D-4EEC-85BB-65A3A05DB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C8EB28-3EA6-41F5-9C5B-B1ABAAFE16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810505-8B8B-4858-B4F5-B294244D5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B6EC00-DBA9-499A-B818-00168E3B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1EFC2-8BC0-437A-A73C-A9B0994F5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B55BDA-0469-45A9-8D91-386CC91BAD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A62D9B-7C48-4796-82AA-AA191DD9E8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3EEE1-3D3B-4431-A510-373FEBBBB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D31A6-19AA-4541-8AEE-BF03138C0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9770A5-417F-4F93-8640-132D40AFF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51C01-4580-4A25-BF0E-0A3F092C3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24DA1E-A455-4DC4-B636-AB0CAE387C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18924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76800" y="159984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0168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18924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76800" y="3949920"/>
            <a:ext cx="274968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960B0-63A5-4395-A206-1FCA094DE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00625-9018-4FB6-8D71-71530D079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F978B6-694D-4428-971E-C001C0B14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6B937-77E0-4191-B0F4-D46047A9F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A5B4A-E280-44E8-B2DF-1DD47C9F7A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E1C0-98F4-45C9-BBA8-56F106FC5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4992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2A4F8-A2DC-4625-AFFB-F0ADFDADD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599840"/>
            <a:ext cx="4167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49920"/>
            <a:ext cx="8540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89FEF-A9DB-4D4C-A1D8-8D4C877B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66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ff"/>
              </a:buClr>
              <a:buSzPct val="80000"/>
              <a:buFont typeface="Wingdings" charset="2"/>
              <a:buChar char="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66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8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2FA09B-76D7-4FBA-8162-88FDDF5CA91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04560" y="228564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13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F6BB7-A4F7-4CC2-8BA9-B6C5EDB18EE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2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914400" y="-8190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4938840" cy="7012080"/>
          </a:xfrm>
          <a:prstGeom prst="rect">
            <a:avLst/>
          </a:prstGeom>
          <a:ln w="0">
            <a:noFill/>
          </a:ln>
        </p:spPr>
      </p:pic>
      <p:pic>
        <p:nvPicPr>
          <p:cNvPr id="85" name="" descr=""/>
          <p:cNvPicPr/>
          <p:nvPr/>
        </p:nvPicPr>
        <p:blipFill>
          <a:blip r:embed="rId3"/>
          <a:stretch/>
        </p:blipFill>
        <p:spPr>
          <a:xfrm>
            <a:off x="4932360" y="0"/>
            <a:ext cx="4211640" cy="280836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4"/>
          <a:stretch/>
        </p:blipFill>
        <p:spPr>
          <a:xfrm>
            <a:off x="4932360" y="2743200"/>
            <a:ext cx="4211640" cy="4114800"/>
          </a:xfrm>
          <a:prstGeom prst="rect">
            <a:avLst/>
          </a:prstGeom>
          <a:ln w="0">
            <a:noFill/>
          </a:ln>
        </p:spPr>
      </p:pic>
      <p:sp>
        <p:nvSpPr>
          <p:cNvPr id="87" name=""/>
          <p:cNvSpPr/>
          <p:nvPr/>
        </p:nvSpPr>
        <p:spPr>
          <a:xfrm>
            <a:off x="324000" y="476280"/>
            <a:ext cx="39607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258920" y="476280"/>
            <a:ext cx="457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Arial"/>
              </a:rPr>
              <a:t>山底巨大石洞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0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8497800" cy="628668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4788000" y="1268280"/>
            <a:ext cx="311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9900"/>
                </a:solidFill>
                <a:latin typeface="Arial"/>
                <a:ea typeface="华文行楷"/>
              </a:rPr>
              <a:t>远眺石钟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关于石钟山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95280" y="1268280"/>
            <a:ext cx="7655040" cy="449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石钟山位于鄱阳湖出口长江南岸，属湖口县双钟镇，位于镇南的叫上石钟山，位于镇北的叫下石钟山，相对高度只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5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米。石钟山历史悠久，石钟山的命名至今已有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1700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多年。全山皆空，如钟覆地，故得钟名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“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中空如钟，其形奇”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（胡传钊《石钟山志序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012000" y="4076640"/>
            <a:ext cx="2160360" cy="182556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7" dur="2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99"/>
                </a:solidFill>
                <a:latin typeface="Arial"/>
              </a:rPr>
              <a:t>关于苏轼 </a:t>
            </a: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599840"/>
            <a:ext cx="8540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他太伟大，有资格待人温文和蔼。他单纯真挚，向来不喜欢装腔作态。他活在纠纷迭起的时代，难免变成政治风暴中的海燕、昏庸自私官僚的敌人、反抗压迫人民的斗士。一任一任的皇帝私下都崇拜他，一任一任的太后都成为他的朋友。难怪他快快活活，无忧无惧，像旋风般活过一辈子。” </a:t>
            </a:r>
            <a:br>
              <a:rPr sz="3200"/>
            </a:br>
            <a:br>
              <a:rPr sz="3200"/>
            </a:b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                    ——林语堂《苏东坡传》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56" dur="indefinite" restart="never" nodeType="tmRoot">
          <p:childTnLst>
            <p:seq>
              <p:cTn id="57" dur="indefinite" nodeType="mainSeq">
                <p:childTnLst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62" dur="2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身如已灰之木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心似不系之舟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问汝平生功业，黄州、惠州、儋州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901"/>
              </a:spcBef>
              <a:buClr>
                <a:srgbClr val="006666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                 ——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苏轼《自题金山画像》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2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2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2000"/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7T08:09:59Z</dcterms:created>
  <dc:creator>j.shi</dc:creator>
  <dc:description/>
  <dc:language>en-US</dc:language>
  <cp:lastModifiedBy>j.shi</cp:lastModifiedBy>
  <dcterms:modified xsi:type="dcterms:W3CDTF">2005-12-07T14:23:48Z</dcterms:modified>
  <cp:revision>6</cp:revision>
  <dc:subject/>
  <dc:title>幻灯片 1</dc:title>
</cp:coreProperties>
</file>