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243-4712-4372-A0A7-62883AA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BB4-4A28-47B7-AE1B-A4C5237C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AE6-7B7C-4517-8A31-72D74CFC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06D-496A-475B-9699-24BEBB8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9E8-AB42-4E16-A0DC-9AF25704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EBA9-755B-46F7-856B-41FC4B45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1AF1-2DC7-4036-82D0-0F2616E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CE93-7080-4B0D-847A-8480842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FE88-FD11-48B9-8788-26AC363D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77F-BBAE-48A1-AB3B-BAEF4D7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0A66-0BF5-4245-A258-C5900D8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D83-29FA-4FEC-930A-911E71AC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2174-04A5-4042-9F26-7EB7DC4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B83-7029-406D-ABA3-0EF0B789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454-2732-4847-8A2D-35CCFC3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B3A0-3A18-4691-A7EC-6955EC17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C56-1026-488B-9B21-57C553B3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29DA-0C5F-4218-9000-0B87C58C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F8EC-2954-424A-A1FB-D0DBD86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B28D-9E6B-42A5-B76C-86E9D07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E676-1916-4F22-B28A-8C77DBB2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2630-7808-4614-867A-BC071D13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856-32F6-4157-8223-F5C9637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EEAA-C167-49B3-A647-43E4C93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5EA1-9A1D-4D98-91D7-FADAEC2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C3A4-98F0-455F-8577-E0AB850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5AEC-C252-4C3D-9BD0-E51168B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F63D-68BB-4C7A-8FA2-3B8FFA0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9679-E574-408F-BE14-CA69DE7F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93CC-FEB7-4B13-9BB6-E781B016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59F-31FA-44C2-957F-C34C6B5D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D08-DBAC-4121-A472-7DCEF106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8D6-E419-4F38-9B97-8851FD6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5EC-1E5C-43E6-A1B4-A193B54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E3E-F526-4F48-B257-CD280BA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44C-1D3B-42D9-A3DC-AE0BF89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8714-AB62-4195-9237-7A927BCE31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154-0706-4FF1-ADDF-3A65B87C031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E57-9779-40B2-9AAB-FA3DE844C56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715000"/>
            <a:ext cx="685800" cy="4572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81840" y="5130720"/>
            <a:ext cx="2162160" cy="17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8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悲悯情怀是一种普遍关注人性，关注人类生存状况的人道主义情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朱光潜《悲剧心理学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指慈悲，对人间的苦难有一种博大的爱的眼光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指同情，这里的同情不是可怜，指对人间苦难中的人并不轻视蔑视甚至可怜，而是以感同身受的情感来看待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以大智大慧的胸怀来怜悯同情苦海中的弱小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05120" y="304920"/>
            <a:ext cx="5562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类最高尚的情感——悲悯情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写作，是因为我希望把人类心灵中无言的痛楚转换成文字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先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3675240"/>
            <a:ext cx="4876920" cy="31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80880"/>
            <a:ext cx="632448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身无半亩，心忧天下；读破万卷，神交古人。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——【清】左宗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长太息以掩涕兮，哀民生之多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屈原《离骚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衙斋卧听萧萧竹，疑是民间疾苦声。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——【清】郑板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为天地立心，为生民立命，为往圣继绝学，为万世开太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【宋】张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《泰晤士报》记者：“您晚上经常读什么书？掩卷以后什么让您难以入睡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55627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为什么我的眼里常含泪水？因为我对这土地爱得深沉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艾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两种东西，我对它们的思考越是深沉和持久，它们在我心灵中唤起的惊奇和敬畏就会日新月异，不断增长，这就是我头上的星空和心中的道德定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【德】康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5791320" cy="289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黑体"/>
              </a:rPr>
              <a:t>生命在于付出。我的心里怀有一个愿望，这是没有人知道的：我愿每个人都有住房，每张口都有饱饭，每颗心都得到温暖。我想擦干每个人的眼泪，不再让任何人拉掉别人的一根头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巴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609120"/>
            <a:ext cx="5791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看出了一只狗的寒冷，给它垫上了温暖的棉絮，它躺在棉絮里以后会久久地看着你。它不能说话，只能用这种方式表达它的感激。 你看到一只鸟受伤了，将它从猫嘴里夺下来，用药水治疗它的伤口，给它食物，然后将它放飞林中。它飞到树梢上也会回头来看你，同样不能说话，只能用这种方式铭记你的救助。……某一天，你在大山里行走的时候，大山给你一片树荫；你在一条草木覆盖的暗沟前失足的时候，大山垫给你一块石头或者借给你一根树枝，阻挡你危险地下坠。在那个时候，你就会感触到一只狗或一只鸟的体温，在石头里，在树梢里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少功《生命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惟一的心愿是：化作泥土，留在人们温暖的脚印里。”                     ——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每一条河每一座山取一个温暖的名字。 ”                                   ——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267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      ……      ……     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981080" y="2057400"/>
            <a:ext cx="49532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悲悯之美就是感动之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657240" y="4266720"/>
            <a:ext cx="5257800" cy="2210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不怕大家嘲笑，我要说：我怀念包弟，我想向它表示歉意。”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巴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416720" cy="6597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年寿命的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个很小的装饰品店，门口挂着两个火红的中国节，很喜庆，感觉很不错，心想，进去看看吧，说不定会淘到什么好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眼，就看到了那个瓶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   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瓶子芒果般大小，晶莹剔透的玻璃，夹一丝丝金黄。也是芒果的造型，艳丽，逼真。之所以说是瓶子，是因为那里装满了水，而且那水里，正游着一条两厘米多长的黄色小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瓶子里装满了水，水里游着鱼，这没什么稀奇，稀奇的是，这个瓶子是全封闭的。他没有瓶口，没有盖子，没有一丝一毫的缝隙，它是一个完全封闭的玻璃芒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 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是那些水，那些鱼，他们是怎么钻到这个完全封闭的玻璃世界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厂家在生产这个瓶子的时候，就把鱼装进去了。店主告诉我，这需要很尖端的技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想啊，滚烫的玻璃溶液，一条活蹦乱跳的鱼。我去啤酒厂参观过。我知道所有的玻璃瓶子都是吹出来的，在吹瓶子的时候，瓶子会达到一种可怕的高温，鱼和水不可能那时候放进去。那就只剩下一个解释：厂家先拿来一个芒果造型的瓶子，装上水，放上鱼，然后想办法把这个芒果完全封闭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向店主说得没错，这样一件小的工艺品，的确需要很尖端的技术。店主告诉我，这个玻璃芒果，这条鱼，只需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不贵。可是我弄不明白，我们怎样来为这条鱼？怎样给这条鱼换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用喂，也不用换水。店主说，这里面充了压缩氧气，这么小的一条鱼，一年够用了。也不用换水，水是特殊处理过的吧。只要别在阳光下暴晒，这条鱼完全可以在这个小瓶子里很好的活上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一年后呢，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就死了阿！店主说，几十块钱，一件极有观赏价值极有创意的工艺品，也值了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然，我承认值。这比在花瓶里插一年的鲜花便宜多了。可是，店主的话还是让我心里猛的一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长不大吗？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见过花盆里长出大树吗？店主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这条鱼的自然寿命是几年阿？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四年吧。店主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里又一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寿命三四年的鱼，被一个极有创意的人，被一个有着高端技术的工厂，硬生生的剥夺了自然死亡的权利。一年后是这鱼这一生的什么时间？少年吧？青年吧？或者中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怜的一年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自己日益苛刻的味蕾，我们杀掉才出生几天的羊羔；从蛋壳里拔出刚刚成熟的鸡崽；把即将变成蝴蝶的蚕蛹放进油锅煎炸；将一只猴子的脑袋用铁锥轻轻敲开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，为了日益芜荒的地球，有创意出一条小鱼死亡的期限，然后开始慢慢得倒计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们在自家的书桌上顶着那条鱼看，我们看到的是美丽和幸福，还是残忍，悲伤，恐惧以及死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想有此创意的人，如有可能也应该享受到这条鱼的待遇吧？把它装进一个电话亭大小完全封闭的钢化玻璃屋里，准备好三年的空气，食物和水，然后扔进寒冷的北冰洋，让一群巨鲨们，每天眉开眼笑的倒计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咬舌自尽的狗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□ 林清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次，带家里的狗看医生，坐上一辆计程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狗咳嗽得很厉害，吸引了司机的注意，反身问我：“狗感冒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“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呀！从昨晚就咳个不停。”我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司机突然长叹一声：“唉！咳得和人一模一样呀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匣子一打开，司机说了一个养狗的痛苦经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年前，他养了一条大狼狗，长得太大了，食量非常惊人，加上吠声奇大，吵得人不能安宁，有一天觉得负担太重，不想养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把狼狗放在布袋里，载出去放生，为了怕它跑回家，特地开车开了一百多公里，放到中部的深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了狗，他加速逃回家，狼狗在后面追了几公里就消失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一个星期，一天半夜听到有人用力敲门，开门一看，原来是那只大狼狗回来了，形容枯槁，极为狼狈，显然是经过长时间的奔跑和寻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程车司机虽然十分讶异，但是他二话不说，又从家里拿出布袋，把狼狗装入布袋，再次带去放生，这一次，他从北宜公路狂奔到宜兰，一路听到狼狗低声号哭的声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宜兰山区，把布袋打开，发现满布袋都是血，血，还继续从狼狗的嘴角流溢出来。他把狗嘴拉开，发现狼狗的舌头断成两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来，狼狗咬舌自尽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司机说完这个故事，车里陷入极深的静默，我从照后镜里看到司机那通红的眼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过一会儿，他才说：“我每次看到别人的狗，都会想到我那一只咬舌自尽的狗，这件事会使我痛苦一辈子，我真不是人呀！我比一只狗还不如呀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着司机的故事，我眼前浮现那只狼狗在原野、在高山、在城镇、在荒郊奔驰的景象，它为了回家寻找主人，奔跑百里，不知经历过多么大的痛苦，好不容易回到家门，主人不但不开门，连一句安慰的话也没有，立刻被送去抛弃，对一只有志气有感情的狗是多么大的打击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其再度被无情无义的人抛弃，不如自求解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司机说，他把狼狗厚葬，时常去烧香祭拜，也难以消除内心的愧悔，所以他发愿，要常对养狗的人讲这个故事，劝大家要爱家中的狗，希望这可以消去他的一些罪孽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唉！在人世间有情有义的人受到无情的背弃不也是这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隶书"/>
              </a:rPr>
              <a:t>山羊兹拉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720" y="5791320"/>
            <a:ext cx="514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［美］艾萨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什维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辛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84480" y="762120"/>
            <a:ext cx="4778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艾萨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什维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辛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4-- 199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美国著名犹太裔作家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辛格生于当时在沙俄统治下的波兰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他加入了美国国籍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7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获诺贝尔文学奖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辛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称为当代最会讲故事的作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主要作品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傻瓜吉姆佩尔》《卢布林的魔法师》《庄园》《冤家，一个爱情故事》《萧莎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660840" cy="518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阅读课文，思考下列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简短的语言概括小说故事情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羊兹拉特从最初的面临被卖到最后的成为家庭成员，命运发生了一百八十度大转折，是什么促成了兹拉特的命运转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文中描写暴风雪的语句并分析其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暴风雪中，阿隆和兹拉特是如何相互救助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踪回来后，勒文一家人对兹拉特的态度和以往相比有了怎样的变化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181400"/>
            <a:ext cx="3409920" cy="2676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请用简短的语言概括小说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904040"/>
            <a:ext cx="7331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阿隆奉父命卖掉山羊兹拉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路上遭遇暴风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兹拉特帮助阿隆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暴风雪并安全回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勒文一家最终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山羊兹拉特当作了自己的家庭成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362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开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429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发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4419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高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486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结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340992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梳理小说情节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2514240"/>
            <a:ext cx="66294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开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阿隆接受父命卖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发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-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卖羊途中遭遇风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-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暴风雪中相互救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结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-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安全返家不再卖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1905120"/>
            <a:ext cx="82090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自然环境的突变和困境中的相濡以沫最终改变了山羊的命运，使它成为阿隆家庭中不可或缺的一个角色，也使小说有了其乐融融、皆大欢喜的结局，使得情感力量战胜了物质贫困的威胁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9760"/>
            <a:ext cx="4648320" cy="3648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黑体"/>
              </a:rPr>
              <a:t>揭示主题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58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这篇小说通过情感在山羊和主人之间的双向流动，不露痕迹地传达出人与动物之间彼此的深情厚谊，描摹出人与动物之间和谐的亲情状态。这种情谊和状态可以超越任何时代的贫困与窘迫，成为物质匮乏的世界里人与动物温情的慰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llh</cp:lastModifiedBy>
  <dcterms:modified xsi:type="dcterms:W3CDTF">2013-03-27T03:32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