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C65-F771-45B3-9BBE-65D27BB4C02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7EA6-90D7-402F-A758-71E5699D65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以“体验”的重要性引入，比如——花的味道不闻不知，水的味道不喝不知，不做不知哪里不足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2647-8591-4852-A10D-443DDA538C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C21E-5C23-46D0-B187-488C1241E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8972-57F1-4122-AC11-63282555B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EB77-3866-436D-8521-34CA43F0D9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C939-DDD2-4CFE-9726-5E6DE42289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5C2E-C251-4EE3-A847-E235ADD602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F0CE-B4CF-4771-8766-5C44FB863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5B24-24F6-4CF8-A2AF-EA5820C3F5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503B-4BE9-41DD-86F6-C6898665CD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2309-3D03-4298-A14E-00EE5AF05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A3FB-349B-466B-AEB9-C364087484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8ABE-E43B-4A46-94E0-D65308E1BD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en-US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F83F1B8-5D75-4631-814A-C599416E27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84360" y="22777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2777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22777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22777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虽有佳肴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76360" y="350208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   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礼记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D050-3BB1-4DB8-98CA-856EB01042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参考译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907920"/>
            <a:ext cx="8231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即使有美味佳肴，不去品尝，就不知道它的味道鲜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即使有最好的方法，不去学习，就不知道它的益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所以学习以后就会知道不足，教学以后就会知道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道不足，然后就能反过来要求自己；知道困难，然后就能自强不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说：教学与学习互相促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《尚书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兑命》说：“教育别人，能收到一半的学习效果。”说的就是这个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8080"/>
                </a:solidFill>
                <a:latin typeface="Arial"/>
              </a:rPr>
              <a:t>、本文主要论述了什么道理？（你同意这个观点吗？）作者是怎么论述的？（论证思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“教学相长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和学是相互促进的，二者相铺相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视实践，在学和教的实践中“知不足”、“知困”，明事理，出真知，得到进步与发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932360" y="466560"/>
            <a:ext cx="11430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7200" y="3278160"/>
            <a:ext cx="6934320" cy="934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、开头“虽有佳肴”一句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32781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类比论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完本文，你有哪些体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提示：教者的角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者的角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657600" y="2460600"/>
            <a:ext cx="429912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要点归纳</a:t>
            </a:r>
            <a:endParaRPr b="0" lang="en-US" sz="1800" spc="-1" strike="noStrike">
              <a:ln w="9360">
                <a:solidFill>
                  <a:srgbClr val="00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脉络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0440" y="301608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虽有佳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00160" y="197964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比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21120" y="2944800"/>
            <a:ext cx="175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00160" y="301608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逐层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00160" y="425304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引用作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4920" y="3198960"/>
            <a:ext cx="175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76600" y="175104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弗食佳肴，不知其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02000" y="3325680"/>
            <a:ext cx="175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76600" y="220824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弗学至道，不知其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76600" y="28782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知不足，教后知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76600" y="338616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足自反，知困自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86040" y="42530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学学半，此之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8680" y="2975040"/>
            <a:ext cx="17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学能相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践出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4440" y="175104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86240" y="2975040"/>
            <a:ext cx="90360" cy="914400"/>
          </a:xfrm>
          <a:custGeom>
            <a:avLst/>
            <a:gdLst>
              <a:gd name="textAreaLeft" fmla="*/ 57960 w 90360"/>
              <a:gd name="textAreaRight" fmla="*/ 9072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16800" y="1878120"/>
            <a:ext cx="90360" cy="3198600"/>
          </a:xfrm>
          <a:custGeom>
            <a:avLst/>
            <a:gdLst>
              <a:gd name="textAreaLeft" fmla="*/ 0 w 90360"/>
              <a:gd name="textAreaRight" fmla="*/ 32760 w 90360"/>
              <a:gd name="textAreaTop" fmla="*/ 83160 h 3198600"/>
              <a:gd name="textAreaBottom" fmla="*/ 3115440 h 31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05040" y="1979640"/>
            <a:ext cx="195120" cy="2730600"/>
          </a:xfrm>
          <a:custGeom>
            <a:avLst/>
            <a:gdLst>
              <a:gd name="textAreaLeft" fmla="*/ 124560 w 195120"/>
              <a:gd name="textAreaRight" fmla="*/ 195480 w 195120"/>
              <a:gd name="textAreaTop" fmla="*/ 70920 h 2730600"/>
              <a:gd name="textAreaBottom" fmla="*/ 2659680 h 273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2436840"/>
            <a:ext cx="144360" cy="762120"/>
          </a:xfrm>
          <a:prstGeom prst="downArrow">
            <a:avLst>
              <a:gd name="adj1" fmla="val 50000"/>
              <a:gd name="adj2" fmla="val 13198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3387600"/>
            <a:ext cx="144360" cy="866880"/>
          </a:xfrm>
          <a:prstGeom prst="downArrow">
            <a:avLst>
              <a:gd name="adj1" fmla="val 50000"/>
              <a:gd name="adj2" fmla="val 15012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运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类比的手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引出要阐述的观点，指出教和学是相互促进，相辅相成的，即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教学相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，告诉了我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实践出真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6360" y="765000"/>
            <a:ext cx="1655640" cy="287640"/>
          </a:xfrm>
          <a:custGeom>
            <a:avLst/>
            <a:gdLst>
              <a:gd name="textAreaLeft" fmla="*/ 258480 w 1655640"/>
              <a:gd name="textAreaRight" fmla="*/ 1449000 w 165564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语言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260360" y="1773360"/>
            <a:ext cx="617220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逻辑严密，条理分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"/>
          <p:cNvSpPr/>
          <p:nvPr/>
        </p:nvSpPr>
        <p:spPr>
          <a:xfrm>
            <a:off x="7878600" y="774720"/>
            <a:ext cx="731880" cy="1214280"/>
          </a:xfrm>
          <a:custGeom>
            <a:avLst/>
            <a:gdLst>
              <a:gd name="textAreaLeft" fmla="*/ 97920 w 731880"/>
              <a:gd name="textAreaRight" fmla="*/ 633960 w 7318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词句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》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古今异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能知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教然后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教学相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词类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知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不知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71640" y="159228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兑通“说”，指的是殷商时的贤相傅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8720" y="234936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古义：即使。   </a:t>
            </a:r>
            <a:r>
              <a:rPr b="1" lang="zh-CN" sz="2400" spc="-1" strike="noStrike">
                <a:solidFill>
                  <a:srgbClr val="33cc33"/>
                </a:solidFill>
                <a:latin typeface="微软雅黑"/>
                <a:ea typeface="微软雅黑"/>
              </a:rPr>
              <a:t>今义：虽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76720" y="280656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古义：甘美。   </a:t>
            </a:r>
            <a:r>
              <a:rPr b="1" lang="zh-CN" sz="2400" spc="-1" strike="noStrike">
                <a:solidFill>
                  <a:srgbClr val="33cc33"/>
                </a:solidFill>
                <a:latin typeface="微软雅黑"/>
                <a:ea typeface="微软雅黑"/>
              </a:rPr>
              <a:t>今义：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52800" y="326376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古义：不通，理解不了。  </a:t>
            </a:r>
            <a:r>
              <a:rPr b="1" lang="zh-CN" sz="2400" spc="-1" strike="noStrike">
                <a:solidFill>
                  <a:srgbClr val="33cc33"/>
                </a:solidFill>
                <a:latin typeface="微软雅黑"/>
                <a:ea typeface="微软雅黑"/>
              </a:rPr>
              <a:t>今义：困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52800" y="372096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古义：促进。   </a:t>
            </a:r>
            <a:r>
              <a:rPr b="1" lang="zh-CN" sz="2400" spc="-1" strike="noStrike">
                <a:solidFill>
                  <a:srgbClr val="33cc33"/>
                </a:solidFill>
                <a:latin typeface="微软雅黑"/>
                <a:ea typeface="微软雅黑"/>
              </a:rPr>
              <a:t>今义：增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52800" y="465300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名词作形容词，甘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52800" y="5110200"/>
            <a:ext cx="56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形容词作名词，好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四、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、文言句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76360" y="13636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学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半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18208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学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半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0360" y="242424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此之谓乎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30360" y="291780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旨也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00040" y="1270080"/>
            <a:ext cx="76320" cy="1008000"/>
          </a:xfrm>
          <a:custGeom>
            <a:avLst/>
            <a:gdLst>
              <a:gd name="textAreaLeft" fmla="*/ 48960 w 76320"/>
              <a:gd name="textAreaRight" fmla="*/ 76320 w 763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01840" y="2424240"/>
            <a:ext cx="74520" cy="1008000"/>
          </a:xfrm>
          <a:custGeom>
            <a:avLst/>
            <a:gdLst>
              <a:gd name="textAreaLeft" fmla="*/ 47520 w 74520"/>
              <a:gd name="textAreaRight" fmla="*/ 74880 w 745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46560" y="136368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25680" y="182088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向别人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0" y="242424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表示推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80000" y="297504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它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4437000"/>
            <a:ext cx="30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弗食，不知其旨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1120" y="5362560"/>
            <a:ext cx="40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其此之谓乎？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(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宾语前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了解《礼记》相关知识，积累重点文言词语，熟读并背诵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准确翻译课文；学习类比说理的方法，理解教与学互相促进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背诵全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过程五步骤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博学之、审问之、慎思之、明辨之、笃行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者有四失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失则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失则寡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失则易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失则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育教学九原则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教学相长、长善救失、启发诱导、因材施教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021440" y="93600"/>
            <a:ext cx="150660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2296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《礼记》是战国至秦汉年间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家学者解释说明经书《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》的文章选集，是一部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思想的资料汇编。又叫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《         》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与《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》《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》合称“三礼”。 内容主要是记载和论述先秦的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，记录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等的问答，记述</a:t>
            </a:r>
            <a:r>
              <a:rPr b="0" lang="zh-CN" sz="4000" spc="-1" strike="noStrike" u="sng">
                <a:solidFill>
                  <a:srgbClr val="ff0066"/>
                </a:solidFill>
                <a:uFillTx/>
                <a:latin typeface="Arial"/>
              </a:rPr>
              <a:t>     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7696080" y="2746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04840" y="90792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微软雅黑"/>
                <a:ea typeface="微软雅黑"/>
              </a:rPr>
              <a:t>解释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虽（        ）         旨（          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至</a:t>
            </a:r>
            <a:r>
              <a:rPr b="0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道（        ）      善（        ）                 困  （           ）     </a:t>
            </a:r>
            <a:r>
              <a:rPr b="1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是</a:t>
            </a:r>
            <a:r>
              <a:rPr b="0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故 （          ） 自强（            ）    自反 （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故曰：教学相长——（                 ）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微软雅黑"/>
                <a:ea typeface="微软雅黑"/>
              </a:rPr>
              <a:t>《兑命》曰：“学学半。”其此之谓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学习重难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以“意义”法划分句子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考考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理解常见的文言实词在文中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用“意义”法划分句子节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预习检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给下列红字注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佳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） （    ）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                 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（       ）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半（        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借助工具书及课下注释解释下列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（        ）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）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至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（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困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           ）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是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自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（                            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自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                ）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曰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教学相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（                                                    ）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兑命》曰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“学学半。”其此之谓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1120" y="5084640"/>
            <a:ext cx="1525680" cy="1525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92360" y="198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jiā       y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35640" y="19890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qi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92360" y="24462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24462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x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31320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9440" y="31320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甘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65720" y="3132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最好的道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73080" y="3817800"/>
            <a:ext cx="15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我勉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35892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好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46440" y="35892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通，理解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86560" y="35892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817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反省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64040" y="427500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教和学互相促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50846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教别人，是学习的一半。”大概说的就是这个道理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198864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速读课文， 根据课下注释，疏通文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背景资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本文节选自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学记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礼记集解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学记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是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礼记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8080"/>
                </a:solidFill>
                <a:latin typeface="Arial"/>
              </a:rPr>
              <a:t>中的一篇，是中国教育史上，也是世界教育史上第一部教育学的专著。文字言简意赅，喻辞生动，系统而全面地阐明了教育的目的及作用，教育和教学的制度、原则和方法，教育过程中的师生关系以及同学之间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研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朗读课文，整体感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读准字音，体会语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116000" y="22096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诵读展示。（学习小组形式展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字词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有佳肴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食不知其旨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虽有至道，弗学不知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>微软用户</cp:lastModifiedBy>
  <dcterms:modified xsi:type="dcterms:W3CDTF">2014-11-05T05:53:44Z</dcterms:modified>
  <cp:revision>2</cp:revision>
  <dc:subject/>
  <dc:title>虽有佳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