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A040-8DE5-425F-8A6D-A970D0EEE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8361-25C2-411B-9E95-32DC2346D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60A5-7773-4AF5-A541-547DF63D7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FF1A-5C31-416D-A7E8-E26D2ED15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2ECD-C2B4-4D68-A4EF-C15EB6957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0854-CCE4-457E-88B4-F6E633A6E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9EB5-62E3-4F0B-8C07-81177F64E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3A3C-8224-497F-A52B-9EC090E47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57C1-7734-41DD-A98D-108775AFE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DCEA-098E-475A-9AFF-873726221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5EE5-C1F6-4EB2-B4FF-09630FB2E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7C0A-89F9-4B44-A15A-FFE0630E6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89A23-2D79-4A41-979A-85463FF3BDD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"/><Relationship Id="rId3" Type="http://schemas.openxmlformats.org/officeDocument/2006/relationships/hyperlink" Target="file:///sxsxgd.wav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Arial"/>
              </a:rPr>
              <a:t>宿新市徐公店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人教新课标二年级语文下册第一单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2438280" y="2286000"/>
            <a:ext cx="502920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谢谢指导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学习目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2361960"/>
            <a:ext cx="800100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学会本课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个生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能读懂古诗，并用自己的话说说这首诗的意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有感情地朗读、背诵这首诗，体会诗人喜悦的心情。并能根据诗中描绘的情景想象写一段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19320" y="1387440"/>
            <a:ext cx="70102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放声朗读课文，结合拼音认读生字，同学间可互相交流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1600200" cy="435240"/>
          </a:xfrm>
          <a:prstGeom prst="rect">
            <a:avLst/>
          </a:prstGeom>
          <a:ln w="0">
            <a:noFill/>
          </a:ln>
        </p:spPr>
      </p:pic>
      <p:grpSp>
        <p:nvGrpSpPr>
          <p:cNvPr id="47" name=""/>
          <p:cNvGrpSpPr/>
          <p:nvPr/>
        </p:nvGrpSpPr>
        <p:grpSpPr>
          <a:xfrm>
            <a:off x="1979640" y="2492280"/>
            <a:ext cx="5867280" cy="4146840"/>
            <a:chOff x="1979640" y="2492280"/>
            <a:chExt cx="5867280" cy="4146840"/>
          </a:xfrm>
        </p:grpSpPr>
        <p:sp>
          <p:nvSpPr>
            <p:cNvPr id="48" name=""/>
            <p:cNvSpPr/>
            <p:nvPr/>
          </p:nvSpPr>
          <p:spPr>
            <a:xfrm>
              <a:off x="1979640" y="2797200"/>
              <a:ext cx="5867280" cy="384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宿 新 市 徐</a:t>
              </a:r>
              <a:r>
                <a:rPr b="0" lang="zh-CN" sz="2800" spc="-1" strike="noStrike" u="sng">
                  <a:solidFill>
                    <a:srgbClr val="009999"/>
                  </a:solidFill>
                  <a:uFillTx/>
                  <a:latin typeface="Times New Roman"/>
                  <a:ea typeface="楷体_GB2312"/>
                  <a:hlinkClick r:id="rId2" action="ppaction://hlinksldjump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公 店</a:t>
              </a:r>
              <a:br>
                <a:rPr sz="2800"/>
              </a:b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杨 万 里</a:t>
              </a:r>
              <a:br>
                <a:rPr sz="2800"/>
              </a:br>
              <a:br>
                <a:rPr sz="2800"/>
              </a:b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篱 落 疏 疏 一 径 深，</a:t>
              </a:r>
              <a:br>
                <a:rPr sz="2800"/>
              </a:br>
              <a:br>
                <a:rPr sz="2800"/>
              </a:b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树 头 花落 未 成 阴。</a:t>
              </a:r>
              <a:br>
                <a:rPr sz="2800"/>
              </a:b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儿 童 急 走 追 黄 蝶，</a:t>
              </a:r>
              <a:br>
                <a:rPr sz="2800"/>
              </a:b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飞 入 菜 花 无 处 寻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23960" y="2492280"/>
              <a:ext cx="20016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sù </a:t>
              </a:r>
              <a:r>
                <a:rPr b="1" lang="zh-CN" sz="2600" spc="-1" strike="noStrike">
                  <a:solidFill>
                    <a:srgbClr val="000000"/>
                  </a:solidFill>
                  <a:latin typeface="Times New Roman"/>
                </a:rPr>
                <a:t>　   　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xú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107880" y="3787560"/>
              <a:ext cx="16056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Times New Roman"/>
                </a:rPr>
                <a:t>lí</a:t>
              </a:r>
              <a:r>
                <a:rPr b="1" lang="zh-CN" sz="2600" spc="-1" strike="noStrike">
                  <a:solidFill>
                    <a:srgbClr val="000000"/>
                  </a:solidFill>
                  <a:latin typeface="Times New Roman"/>
                </a:rPr>
                <a:t>　   </a:t>
              </a:r>
              <a:r>
                <a:rPr b="1" lang="zh-CN" sz="2600" spc="-1" strike="noStrike">
                  <a:solidFill>
                    <a:srgbClr val="000000"/>
                  </a:solidFill>
                  <a:latin typeface="Times New Roman"/>
                </a:rPr>
                <a:t>shū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29400" y="4701960"/>
              <a:ext cx="6577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è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ī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370560" y="1981080"/>
            <a:ext cx="639720" cy="5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143000" y="1066680"/>
            <a:ext cx="1600200" cy="4352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3581280" y="1295280"/>
            <a:ext cx="29419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762120" y="942840"/>
            <a:ext cx="7619760" cy="497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143000" y="1009800"/>
            <a:ext cx="1600200" cy="5140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2057400" y="1905120"/>
            <a:ext cx="5305320" cy="37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143000" y="1009800"/>
            <a:ext cx="1600200" cy="5140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828800" y="152388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反复朗诵，体会诗歌的感情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743200" y="2057400"/>
            <a:ext cx="411480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宿 新 市 徐 公 店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杨万里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篱 落 疏 疏 一 径 深，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树 头 花 落 未 成 阴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儿 童 急 走 追 黄 蝶，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飞 入 菜 花 无 处 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143000" y="1020600"/>
            <a:ext cx="1600200" cy="5032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981080" y="146196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☆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配乐欣赏古诗，领会诗意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2514600" y="207648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295280" y="4952880"/>
            <a:ext cx="68580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☆ 以小组为单位，自编《宿新市徐公店》情景剧，演一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拓展提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523880" y="2514600"/>
            <a:ext cx="6553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同学们请根据诗中描绘的情景想象写一段话或者画一幅画。比比谁画的好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1-12-30T05:00:54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