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1.gif" ContentType="image/gif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33C-84D4-4755-BD94-D33FF0E9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8A9-41DC-45E3-BF51-B32F1B14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FDA-E7C2-4311-84B8-075D81C7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A2F7-6A52-4F22-81FE-E2DADFA9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39A0-93C4-4A36-833F-3AB45A65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E013-BD93-4360-ADCA-B113DDC3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169B-FA76-448D-9A46-5FCF4627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184A-A279-43AC-8E2F-54DE35E1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A297-6B02-4F16-B3B9-B97D0983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7307-9E0F-4BC6-BE75-E1B9D69E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27BE-3851-4F73-88C7-D0976A84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5CF-067D-4A25-AFCD-0AC9C20B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9BE2-DDB0-446E-862D-E1F77ED5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8C5F-1133-4CB4-9765-540D51D1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D0FE-A514-4A86-A8B1-85B0C225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6623-6B9D-4D10-AA02-9D6EA8A0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3AA6-C858-4EF1-9C97-44115989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F2287-709F-43AF-827D-7A48733D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4187A-8646-4846-8DC8-62041EE2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A24E0-894A-4B6C-B38B-8A340FD0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B5E61-523D-439D-A260-F2ECDF04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5E327-1036-41D5-8BD7-916098F8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388-5ECC-41A7-AD88-DC575CFD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AC4A9-888D-4D1F-B990-0D36AAA7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34815-0CE8-47FA-97D9-F44B98DC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B0558-0F7C-4D4E-BF98-1B11B4F5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616A5-526E-48E3-82BA-D2ED2511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A499-3D05-47B0-AFA7-FA673F6A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82CA1-1C61-4BB2-A6DE-26837FE2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8C140-87A5-40B6-951A-7ADA12D9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89EAF-C062-48B3-B92A-C72AFFE3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36C19-AC43-4FC2-B4BD-B1F71711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D12F3-C708-434C-9263-80A8C0CB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720-1507-4E01-B8CE-E3BEC40F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83AA8-6F6E-4782-9BA8-F4C91129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C7BDA-E10E-4F70-BBA9-38DE3252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41BC5-D2FC-4A94-A614-4A085DD0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5AE2B-8A16-462A-8BF8-8028218A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05531-A8A3-4CBA-92E9-B200836D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36842-1199-4F97-A964-3F0AB336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D46DE-E555-40C3-B22C-512B30BE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D6ACD-0F3D-4040-8493-55DF78F2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9E717-8613-40CF-B801-CEE4F554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F9E3-8870-4558-A039-52718565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8AA-94F0-4979-9AA8-C27A1982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A08-5190-4EDD-BC99-7FCACEDD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50E-F85E-4C14-BF3C-FFE632DA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C0E-EAF7-4B94-A0BD-FC062B96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29A5-45C7-4C40-83A6-6C09D0874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22A5-3249-44B1-8825-E6066DC5BC4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1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>
                    <a:gd name="textAreaLeft" fmla="*/ 0 w 249120"/>
                    <a:gd name="textAreaRight" fmla="*/ 249120 w 2491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0960"/>
                    <a:gd name="textAreaBottom" fmla="*/ 211320 h 21096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400"/>
                    <a:gd name="textAreaBottom" fmla="*/ 698760 h 69840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399960"/>
                    <a:gd name="textAreaBottom" fmla="*/ 400320 h 39996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120" y="-85680"/>
            <a:ext cx="2430000" cy="2250360"/>
            <a:chOff x="7170120" y="-85680"/>
            <a:chExt cx="2430000" cy="22503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120" y="-85680"/>
              <a:ext cx="2430000" cy="2250360"/>
              <a:chOff x="7170120" y="-85680"/>
              <a:chExt cx="2430000" cy="2250360"/>
            </a:xfrm>
          </p:grpSpPr>
          <p:sp>
            <p:nvSpPr>
              <p:cNvPr id="81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120" y="-85680"/>
                <a:ext cx="2430000" cy="2250360"/>
                <a:chOff x="7170120" y="-85680"/>
                <a:chExt cx="2430000" cy="2250360"/>
              </a:xfrm>
            </p:grpSpPr>
            <p:sp>
              <p:nvSpPr>
                <p:cNvPr id="83" name="未知"/>
                <p:cNvSpPr/>
                <p:nvPr/>
              </p:nvSpPr>
              <p:spPr>
                <a:xfrm rot="18427200">
                  <a:off x="7876440" y="113040"/>
                  <a:ext cx="243720" cy="19800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000"/>
                    <a:gd name="textAreaBottom" fmla="*/ 198360 h 19800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未知"/>
                <p:cNvSpPr/>
                <p:nvPr/>
              </p:nvSpPr>
              <p:spPr>
                <a:xfrm rot="18427200">
                  <a:off x="8006400" y="522360"/>
                  <a:ext cx="428760" cy="695160"/>
                </a:xfrm>
                <a:custGeom>
                  <a:avLst/>
                  <a:gdLst>
                    <a:gd name="textAreaLeft" fmla="*/ 0 w 428760"/>
                    <a:gd name="textAreaRight" fmla="*/ 429120 w 42876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未知"/>
                <p:cNvSpPr/>
                <p:nvPr/>
              </p:nvSpPr>
              <p:spPr>
                <a:xfrm rot="18427200">
                  <a:off x="7704360" y="285120"/>
                  <a:ext cx="804960" cy="142524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未知"/>
                <p:cNvSpPr/>
                <p:nvPr/>
              </p:nvSpPr>
              <p:spPr>
                <a:xfrm rot="18427200">
                  <a:off x="7781040" y="-27000"/>
                  <a:ext cx="1207800" cy="2133360"/>
                </a:xfrm>
                <a:custGeom>
                  <a:avLst/>
                  <a:gdLst>
                    <a:gd name="textAreaLeft" fmla="*/ 0 w 1207800"/>
                    <a:gd name="textAreaRight" fmla="*/ 1208160 w 12078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未知"/>
                <p:cNvSpPr/>
                <p:nvPr/>
              </p:nvSpPr>
              <p:spPr>
                <a:xfrm rot="18427200">
                  <a:off x="8402400" y="1422360"/>
                  <a:ext cx="269280" cy="19332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320"/>
                    <a:gd name="textAreaBottom" fmla="*/ 193680 h 19332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未知"/>
                <p:cNvSpPr/>
                <p:nvPr/>
              </p:nvSpPr>
              <p:spPr>
                <a:xfrm rot="18427200">
                  <a:off x="8332200" y="1277280"/>
                  <a:ext cx="288720" cy="2282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未知"/>
                <p:cNvSpPr/>
                <p:nvPr/>
              </p:nvSpPr>
              <p:spPr>
                <a:xfrm rot="18427200">
                  <a:off x="7906320" y="327960"/>
                  <a:ext cx="288360" cy="23292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2920"/>
                    <a:gd name="textAreaBottom" fmla="*/ 233280 h 23292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未知"/>
                <p:cNvSpPr/>
                <p:nvPr/>
              </p:nvSpPr>
              <p:spPr>
                <a:xfrm rot="18427200">
                  <a:off x="7848360" y="21888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56B1-73B3-4565-8FAD-1E5DE36D1D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>
                <a:gd name="textAreaLeft" fmla="*/ 0 w 3571920"/>
                <a:gd name="textAreaRight" fmla="*/ 3572280 w 3571920"/>
                <a:gd name="textAreaTop" fmla="*/ 0 h 1614600"/>
                <a:gd name="textAreaBottom" fmla="*/ 1614960 h 161460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459080"/>
                <a:gd name="textAreaBottom" fmla="*/ 1459440 h 14590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840"/>
                  <a:gd name="textAreaBottom" fmla="*/ 340200 h 339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880"/>
                  <a:gd name="textAreaBottom" fmla="*/ 975240 h 9748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2560" y="4317840"/>
            <a:ext cx="982800" cy="1161360"/>
            <a:chOff x="7792560" y="4317840"/>
            <a:chExt cx="982800" cy="1161360"/>
          </a:xfrm>
        </p:grpSpPr>
        <p:sp>
          <p:nvSpPr>
            <p:cNvPr id="181" name="未知"/>
            <p:cNvSpPr/>
            <p:nvPr/>
          </p:nvSpPr>
          <p:spPr>
            <a:xfrm rot="7320000">
              <a:off x="7789320" y="4652640"/>
              <a:ext cx="998640" cy="46908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9080"/>
                <a:gd name="textAreaBottom" fmla="*/ 469440 h 46908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 rot="7320000">
              <a:off x="7770600" y="4634280"/>
              <a:ext cx="995400" cy="46440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 rot="7320000">
              <a:off x="7932600" y="4615200"/>
              <a:ext cx="660600" cy="42408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2560" y="4317840"/>
              <a:ext cx="982800" cy="1161360"/>
              <a:chOff x="7792560" y="4317840"/>
              <a:chExt cx="982800" cy="1161360"/>
            </a:xfrm>
          </p:grpSpPr>
          <p:sp>
            <p:nvSpPr>
              <p:cNvPr id="185" name="未知"/>
              <p:cNvSpPr/>
              <p:nvPr/>
            </p:nvSpPr>
            <p:spPr>
              <a:xfrm rot="7320000">
                <a:off x="7916760" y="5056920"/>
                <a:ext cx="93600" cy="975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 rot="7320000">
                <a:off x="7754400" y="4649400"/>
                <a:ext cx="1058760" cy="4975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7520"/>
                  <a:gd name="textAreaBottom" fmla="*/ 497880 h 4975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 rot="7320000">
                <a:off x="8039880" y="4756680"/>
                <a:ext cx="749160" cy="28152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 rot="7320000">
                <a:off x="8513280" y="4554720"/>
                <a:ext cx="100080" cy="1886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rot="7320000">
                <a:off x="8150400" y="4754880"/>
                <a:ext cx="306360" cy="1663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D87A-039D-4035-A235-411C96066E0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D1&#1790;%A6&amp;in=19156&amp;cl=2&amp;lm=-1&amp;st=-1&amp;pn=87&amp;rn=1&amp;di=17227580640&amp;ln=1999&amp;fr=&amp;fm=result&amp;fmq=1329876281312_R&amp;ic=0&amp;s=0&amp;se=1&amp;sme=0&amp;tab=&amp;width=&amp;height=&amp;face=0&amp;is=&amp;istype=2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nj76.com/street.asp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导入新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有关“人物”这个单元中，我们刚刚认识了一位俄罗斯少女娜塔莎，下面我们再来结识一个印度女孩素芭。一起来学习印度近代史上最伟大的文化巨匠泰戈尔的小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素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197000"/>
            <a:ext cx="8893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泰戈尔对于印度妇女悲惨的命运寄予了深切的同情，在他的众多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短篇小说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中，都述说了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妇女们不幸的生活，揭露了社会的黑暗，为妇女鸣不平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228600" y="228600"/>
            <a:ext cx="868680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时代背景介绍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在印度，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4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人口信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印度教与回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而这两种宗教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歧视女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根据印度教的教义，一个人死前必需由儿子施以临终仪式，灵魂才能得救，而且儿子继承家产，有扶养父母的义务，於是父母千方百计的想生男孩，女孩先天就受歧视。 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5075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仅如此，大约西元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写成的印度教经典中规定，女子在世间唯一的神就是她们的丈夫，她们唯一的工作就是顺服丈夫，讨丈夫欢心，不论他有任何缺陷。这种思想，深入民间，女性从小就被灌输将来做个贤妻良母。 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印度，婚姻是许多女子的隐痛，因为印度盛行嫁妆，女子出嫁，如果没有体面的嫁妆，易受夫家凌虐。而且嫁妆不是结婚时一次付清，夫家在婚后多年还会不断需索，脚踏车，机车，电视或者洗衣机，妻子因为父母无力负担，而被夫家浇上汽油活活烧死的新闻，屡见不鲜。父母为了女儿的幸福，不得不勉力营治，女儿於是成为家庭的包袱印度男人在娶老婆的时候，不仅能够得到一大笔财产，同时也得到了一个奴隶。他们还可以随时休掉自己的妻子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990720" y="1125360"/>
            <a:ext cx="7619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芭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写了一个美丽聪慧的哑女的生活状态和遭遇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揭示其悲剧的命运。全文共六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情节挈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946080"/>
                <a:gridCol w="2160720"/>
                <a:gridCol w="5122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章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情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素芭身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不幸的缺陷，美丽的双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生活环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优美的村庄，孤寂的素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亲密朋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特殊的朋友，深厚的友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一个同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唯一的玩伴，奇异的梦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父母之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觉醒的自我，月夜的倾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被逼远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悲伤的眼泪，无言的结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/>
          <p:cNvSpPr/>
          <p:nvPr/>
        </p:nvSpPr>
        <p:spPr>
          <a:xfrm>
            <a:off x="826920" y="620640"/>
            <a:ext cx="2880000" cy="2160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思考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971640" y="2924280"/>
            <a:ext cx="7416720" cy="2808360"/>
          </a:xfrm>
          <a:custGeom>
            <a:avLst/>
            <a:gdLst>
              <a:gd name="textAreaLeft" fmla="*/ 330840 w 7416720"/>
              <a:gd name="textAreaRight" fmla="*/ 7085880 w 7416720"/>
              <a:gd name="textAreaTop" fmla="*/ 330840 h 2808360"/>
              <a:gd name="textAreaBottom" fmla="*/ 2477520 h 2808360"/>
            </a:gdLst>
            <a:ahLst/>
            <a:rect l="textAreaLeft" t="textAreaTop" r="textAreaRight" b="textAreaBottom"/>
            <a:pathLst>
              <a:path w="5704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3440" y="21600"/>
                </a:lnTo>
                <a:arcTo wR="3600" hR="3600" stAng="10800000" swAng="5400000"/>
                <a:lnTo>
                  <a:pt x="5704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这是一个什么样的地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素芭是一个什么样的姑娘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个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美丽如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地方。分析第二部分：远离尘嚣的小村庄、小溪、鸟儿、树叶、蟋蟀，仿佛是一个世外桃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情冷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素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2484360" y="4365720"/>
            <a:ext cx="432000" cy="2303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2843280" y="4437000"/>
            <a:ext cx="1297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父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朋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村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1845000" y="1844640"/>
            <a:ext cx="316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一个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2556000" y="1844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美丽如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2643120" y="1643040"/>
            <a:ext cx="28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人情冷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395280" y="249228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离尘嚣的小村庄、小溪、鸟儿、树叶、蟋蟀，仿佛是一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世外桃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4572000" y="3429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素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5651640" y="2637000"/>
            <a:ext cx="431640" cy="2303280"/>
          </a:xfrm>
          <a:custGeom>
            <a:avLst/>
            <a:gdLst>
              <a:gd name="textAreaLeft" fmla="*/ 275760 w 431640"/>
              <a:gd name="textAreaRight" fmla="*/ 432000 w 43164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6156360" y="2421000"/>
            <a:ext cx="2232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父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朋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村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395280" y="5013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比纯净美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3"/>
          <p:cNvSpPr/>
          <p:nvPr/>
        </p:nvSpPr>
        <p:spPr>
          <a:xfrm>
            <a:off x="1763640" y="429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4"/>
          <p:cNvSpPr/>
          <p:nvPr/>
        </p:nvSpPr>
        <p:spPr>
          <a:xfrm flipV="1">
            <a:off x="3564000" y="4005360"/>
            <a:ext cx="136836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7786800" y="342900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孤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6"/>
          <p:cNvSpPr/>
          <p:nvPr/>
        </p:nvSpPr>
        <p:spPr>
          <a:xfrm rot="19538400">
            <a:off x="3556440" y="4383000"/>
            <a:ext cx="19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对比、反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2000160" y="4357800"/>
            <a:ext cx="28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烘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a0212"/>
                </a:solidFill>
                <a:latin typeface="Arial"/>
              </a:rPr>
              <a:t>鲜明的对比，感受到了素芭的悲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-250920" y="1125360"/>
            <a:ext cx="914256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素芭身边的人们可以用话语交流，他们是一群普通的劳动者，但是对素芭表现得极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冷漠和麻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素芭在他们身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看不到关心，找不到温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素芭因为残疾而变成了亲人的负担，因而得不到更多的爱护，父母打算用欺骗的手段把她嫁到加尔各答。整个事件的过程中，素芭只有独自流泪伤心，得不到任何关心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惟一的好友只是专心致志地钓鱼，丝毫没有离愁别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在鲜明的对比中，我们可以清楚地看到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她和人的关系，远远不如和小动物们，和大自然来得亲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这里，看不到亲情的可贵，只有欺骗和交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这不仅仅是素芭的悲哀，也是泰戈尔对人们这种漠视的态度感到悲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5561280" y="476280"/>
            <a:ext cx="31064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66"/>
                </a:solidFill>
                <a:latin typeface="华文隶书"/>
                <a:ea typeface="华文隶书"/>
              </a:rPr>
              <a:t>素  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482473_972893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4"/>
          <p:cNvSpPr/>
          <p:nvPr/>
        </p:nvSpPr>
        <p:spPr>
          <a:xfrm>
            <a:off x="5756400" y="2421000"/>
            <a:ext cx="1277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印度     泰戈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5481720" y="1268280"/>
            <a:ext cx="4586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468360" y="189000"/>
            <a:ext cx="2879640" cy="2160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思考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971640" y="2924280"/>
            <a:ext cx="7416720" cy="2808360"/>
          </a:xfrm>
          <a:custGeom>
            <a:avLst/>
            <a:gdLst>
              <a:gd name="textAreaLeft" fmla="*/ 330840 w 7416720"/>
              <a:gd name="textAreaRight" fmla="*/ 7085880 w 7416720"/>
              <a:gd name="textAreaTop" fmla="*/ 330840 h 2808360"/>
              <a:gd name="textAreaBottom" fmla="*/ 2477520 h 2808360"/>
            </a:gdLst>
            <a:ahLst/>
            <a:rect l="textAreaLeft" t="textAreaTop" r="textAreaRight" b="textAreaBottom"/>
            <a:pathLst>
              <a:path w="5704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3440" y="21600"/>
                </a:lnTo>
                <a:arcTo wR="3600" hR="3600" stAng="10800000" swAng="5400000"/>
                <a:lnTo>
                  <a:pt x="5704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素芭是一个什么样的姑娘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填上一个词语，从文本中找出由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素芭是一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姑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美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姑娘：第一部分眼睛的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善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姑娘：与动物、与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感情丰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姑娘：心理活动、奇思异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命运悲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姑娘：是亲人的负担、让朋友冷漠、被丈夫抛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4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美丽的素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部分眼睛的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5" descr="u=883255703,2987972951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00160"/>
            <a:ext cx="4818240" cy="48578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31" descr="u=1212682339,1517399636&amp;fm=0&amp;gp=0"/>
          <p:cNvPicPr/>
          <p:nvPr/>
        </p:nvPicPr>
        <p:blipFill>
          <a:blip r:embed="rId3"/>
          <a:stretch/>
        </p:blipFill>
        <p:spPr>
          <a:xfrm>
            <a:off x="4857840" y="428760"/>
            <a:ext cx="439092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3"/>
          <p:cNvSpPr/>
          <p:nvPr/>
        </p:nvSpPr>
        <p:spPr>
          <a:xfrm>
            <a:off x="468360" y="189000"/>
            <a:ext cx="5256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双又大又黑的眼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任何时候都不需要翻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心灵自个儿会映照在这双黑眸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心灵的感触在这黑眼睛的阴影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时而伸展，时而蜷缩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这双黑眼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时而炯炯有神，燃烧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时而灰心丧气，熄灭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时而犹同静悬的落月，目不转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不知凝视着什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时而若同急疾的闪电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飞速地向四周放射光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5429160" y="2428920"/>
            <a:ext cx="316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贴切而惊人的比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面的工笔描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684360" y="476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她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睁大了自己的黑眼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目不转睛地死盯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们，好像企图探听到一些消息似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684360" y="148428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素芭犹同中了箭的牝鹿一般，怀着令人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怜悯的目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望着猎人，仿佛在怨恨地唠叨个不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素芭就这样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直盯盯地望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帕勒达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素芭坐在他脚边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盯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亲的脸，哭泣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684360" y="3213000"/>
            <a:ext cx="72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素芭到牛栏，向自己无言的同伴告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眼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泪汪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向它们道别，泪水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不止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她眼里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簌簌落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朦胧绿叶"/>
          <p:cNvPicPr/>
          <p:nvPr/>
        </p:nvPicPr>
        <p:blipFill>
          <a:blip r:embed="rId1"/>
          <a:stretch/>
        </p:blipFill>
        <p:spPr>
          <a:xfrm>
            <a:off x="7164360" y="5083200"/>
            <a:ext cx="1979640" cy="17748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8"/>
          <p:cNvSpPr/>
          <p:nvPr/>
        </p:nvSpPr>
        <p:spPr>
          <a:xfrm>
            <a:off x="900000" y="5516640"/>
            <a:ext cx="612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华文行楷"/>
              </a:rPr>
              <a:t>无奈、怨恨，却无法表达；悲伤的泪水，令人扼腕叹息，人世悲情一览无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684360" y="414972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眼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把大把地从素芭的眼睛里淌下来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但她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眼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严厉的斥责，不屑一顾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她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泪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格外流得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609480" y="60156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533520" y="411480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素芭，一个美丽聪慧的哑女。一双清澈明净、会说话的眼睛，但这双眼睛里只有孤独和眼泪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流泪"/>
          <p:cNvPicPr/>
          <p:nvPr/>
        </p:nvPicPr>
        <p:blipFill>
          <a:blip r:embed="rId1"/>
          <a:stretch/>
        </p:blipFill>
        <p:spPr>
          <a:xfrm>
            <a:off x="0" y="0"/>
            <a:ext cx="640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7168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明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排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比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细致而生动地刻画出素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美丽而迷人的眼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2" descr="482473_972893"/>
          <p:cNvPicPr/>
          <p:nvPr/>
        </p:nvPicPr>
        <p:blipFill>
          <a:blip r:embed="rId1"/>
          <a:stretch/>
        </p:blipFill>
        <p:spPr>
          <a:xfrm>
            <a:off x="2500200" y="2033640"/>
            <a:ext cx="4170600" cy="48243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7"/>
          <p:cNvSpPr/>
          <p:nvPr/>
        </p:nvSpPr>
        <p:spPr>
          <a:xfrm>
            <a:off x="6929280" y="2643120"/>
            <a:ext cx="857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孤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、无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什么原因让素芭的眼里有了这样的内容？请从下面场景中进行分析和概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6121440" cy="479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父母眼里的素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自然里的素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朋友身旁的素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帕勒达帕眼里的素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考官（新郎）眼里的素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228600" y="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父母眼里的素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女儿素芭犹如一块硕大的无言石头，重重压在父母的心田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228600" y="1828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父亲巴尼康托更爱自己的小女儿素芭，而母亲却把她视为自己胚胎的污点，因而始终沮丧不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304920" y="2666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但父母没有作任何开导，没有作任何安慰。总之，什么时候也没有对她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04920" y="3657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母亲起初劝导她，末了责骂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228600" y="4343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把自己的哑女托付给人之后，父母踏上回村的归途，他们踌躇满志，因为他们终于保住了他们的种姓和美好的来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11"/>
          <p:cNvSpPr txBox="1"/>
          <p:nvPr/>
        </p:nvSpPr>
        <p:spPr>
          <a:xfrm>
            <a:off x="2666880" y="556272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少有亲情更多的是欺骗和交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228600" y="22860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大自然里的素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324000" y="10526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远离尘嚣的小村庄，小溪、鸟儿、树叶、蟋蟀、渡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仿佛是世外桃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50920" y="1916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大自然的各种响声、不同语言和多彩运动，就是这位哑巴姑娘的语言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只有手势、表情、音乐、哭泣和叹息，充盈在那广阔的语言世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324000" y="44370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这是一幅绝妙的风景，远离尘嚣的村庄，一切无比美好，无比温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457200" y="3213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炎热炙人的辽阔无垠的天空下，唯有一个无言的大自然和一位无言的女孩子，面对面静坐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置身于炎热的阳光之下，一个静坐在一棵大树的绿阴底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68360" y="5516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侧面烘托表现人物形象，乐景写哀情。孤独的素芭一个人在河岸边坐着，独自遐想，和大自然进行别人无法理解的交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知识技能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掌握字词等基础知识；了解泰戈尔及其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了解人物描写的方法、类型等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、能力方法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体会小说中细腻的肖像描写和心理描写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能够对文学作品中的人物形象进行分析，把握其主要特征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、情感意志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确理解作者所表现的素芭的美丽聪慧和善良纯洁的心灵，树立正确的审美观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304920" y="22860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朋友身旁的素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380880" y="1676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两头牛、一头山羊、一只小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04920" y="26668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在人类面前，他们是弱者，是受奴役的但是素芭却和它们有着浓厚的友谊，他们彼此依恋，彼此关怀，也彼此理解，用只有他们自己才懂得的语言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眼神、拥抱、爱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WordArt 9"/>
          <p:cNvSpPr txBox="1"/>
          <p:nvPr/>
        </p:nvSpPr>
        <p:spPr>
          <a:xfrm>
            <a:off x="5257800" y="4343400"/>
            <a:ext cx="2743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温暖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684360" y="801720"/>
            <a:ext cx="3743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朋友：帕勒达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755640" y="1484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很难描述素芭与他关系的深浅程度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男孩十分懒散，他的父母经过多少次费尽心血的努力，不见成效，就放弃指望他能对改善家境做些什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826920" y="4076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大家通常叫她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素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，而帕勒达帕掺入了几许爱的成分，亲热地称呼她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" descr="朦胧绿叶"/>
          <p:cNvPicPr/>
          <p:nvPr/>
        </p:nvPicPr>
        <p:blipFill>
          <a:blip r:embed="rId2"/>
          <a:stretch/>
        </p:blipFill>
        <p:spPr>
          <a:xfrm>
            <a:off x="6948360" y="5084640"/>
            <a:ext cx="2016360" cy="16304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2"/>
          <p:cNvSpPr/>
          <p:nvPr/>
        </p:nvSpPr>
        <p:spPr>
          <a:xfrm>
            <a:off x="1403280" y="2924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人类中的惟一朋友，一个懒散，被父母放弃指望的无用之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1258920" y="53006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素芭的可悲，她所认识的帕勒达帕只是对她的称呼显得亲昵一些而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611280" y="1557360"/>
            <a:ext cx="7200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这期间，一天下午时分，在河岸边， 帕勒达帕一边专心致志地钓鱼，一边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</a:rPr>
              <a:t>面带笑容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问素芭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喂，素，我听说，你有了未婚夫，你准备赴加尔各答结婚？可别把我们忘得一干二净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说罢，他又凝视水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971640" y="393372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朋友的话显得漫不经心，没有丝毫的分别的惆怅，只是轻描淡写地证实了她的担心，并带有一种调侃的味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6" descr="20043146503792692"/>
          <p:cNvPicPr/>
          <p:nvPr/>
        </p:nvPicPr>
        <p:blipFill>
          <a:blip r:embed="rId1"/>
          <a:stretch/>
        </p:blipFill>
        <p:spPr>
          <a:xfrm>
            <a:off x="5076720" y="5516640"/>
            <a:ext cx="3333960" cy="4953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7"/>
          <p:cNvSpPr/>
          <p:nvPr/>
        </p:nvSpPr>
        <p:spPr>
          <a:xfrm>
            <a:off x="900000" y="692280"/>
            <a:ext cx="3743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朋友：帕勒达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304920" y="304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帕勒达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457200" y="1295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们很难描述素芭与他关系的深浅程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533520" y="1981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而帕勒达帕掺入了几许爱的成分，亲热地称呼她为“素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533520" y="30481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以她今朝无法施展魔术，让古赛家里的孩子帕勒达帕感到惊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533520" y="42670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河岸边，帕勒达帕一边专心致志地钓鱼，一边面带笑容问素芭：“喂，素，我听说，你有了未婚夫，你准备赴加尔各答结婚？可别把我们忘得一干二净！”说罢，他又凝视水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8"/>
          <p:cNvSpPr txBox="1"/>
          <p:nvPr/>
        </p:nvSpPr>
        <p:spPr>
          <a:xfrm>
            <a:off x="4952880" y="152280"/>
            <a:ext cx="3581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漠不关心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380880" y="30492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考官”眼里的素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457200" y="3581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次，她的丈夫用自己的双眼和双耳，非常仔细地察听，相了亲，娶了一位会说话的姑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533520" y="4724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暗示了素芭被抛弃的命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380880" y="1447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看到姑娘哭得像泪人儿似的，新郎官觉得，她有善良的心，她因要离开父母而感到内心难过哭泣不停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那么明儿对我也会如此的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样，对她谁都不说些什么，谁都不评头品足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219320" y="472428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素芭的心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2006925215534230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468360" y="3333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她始终设法躲避众人逼视的目光；内心始终祈祷着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众人若把她遗忘掉，那就该万事大吉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24000" y="378936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现在，在这位姑娘永恒沉默的心灵里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响起一种无限的无法言说的哭泣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除了心灵探索者，谁也不会去倾听那种无声的哭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WordArt 4"/>
          <p:cNvSpPr txBox="1"/>
          <p:nvPr/>
        </p:nvSpPr>
        <p:spPr>
          <a:xfrm>
            <a:off x="1143000" y="54100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隶书"/>
              </a:rPr>
              <a:t>她的心里都是孤独和痛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隶书"/>
              <a:ea typeface="隶书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380880" y="21337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她想说：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你别把我撵到陌生的地方去，你也像我一样用自己双臂紧紧地把我抱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别赶走我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380880" y="40384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素芭，只有在大自然里，只有和动物在一起的时候感到快乐和温暖，在人群里，她得到的只有伤害！素芭，眼泪流到何时是个尽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流泪"/>
          <p:cNvPicPr/>
          <p:nvPr/>
        </p:nvPicPr>
        <p:blipFill>
          <a:blip r:embed="rId1"/>
          <a:stretch/>
        </p:blipFill>
        <p:spPr>
          <a:xfrm>
            <a:off x="0" y="0"/>
            <a:ext cx="640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2577240" y="642960"/>
            <a:ext cx="42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素芭是一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姑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780840" y="1700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眼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4"/>
          <p:cNvSpPr/>
          <p:nvPr/>
        </p:nvSpPr>
        <p:spPr>
          <a:xfrm>
            <a:off x="500040" y="52149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心理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"/>
          <p:cNvSpPr/>
          <p:nvPr/>
        </p:nvSpPr>
        <p:spPr>
          <a:xfrm>
            <a:off x="357120" y="3000240"/>
            <a:ext cx="192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与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与自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与人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8572680" y="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5574240" y="42148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是亲人的负担、被朋友冷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3286080" y="285840"/>
            <a:ext cx="400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美丽聪慧 善良 感情丰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孤寂 悲惨命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0"/>
          <p:cNvSpPr/>
          <p:nvPr/>
        </p:nvSpPr>
        <p:spPr>
          <a:xfrm>
            <a:off x="2280240" y="1484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正面的工笔描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1"/>
          <p:cNvSpPr/>
          <p:nvPr/>
        </p:nvSpPr>
        <p:spPr>
          <a:xfrm>
            <a:off x="1835280" y="2276640"/>
            <a:ext cx="35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贴切惊人的比喻、排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2"/>
          <p:cNvSpPr/>
          <p:nvPr/>
        </p:nvSpPr>
        <p:spPr>
          <a:xfrm>
            <a:off x="4929120" y="171468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美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3"/>
          <p:cNvSpPr/>
          <p:nvPr/>
        </p:nvSpPr>
        <p:spPr>
          <a:xfrm>
            <a:off x="4967280" y="25718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彼此依恋，关怀，理解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反衬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4"/>
          <p:cNvSpPr/>
          <p:nvPr/>
        </p:nvSpPr>
        <p:spPr>
          <a:xfrm>
            <a:off x="5214960" y="3000240"/>
            <a:ext cx="453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别人无法理解的交流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愉悦、悲伤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侧面烘托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35"/>
          <p:cNvSpPr/>
          <p:nvPr/>
        </p:nvSpPr>
        <p:spPr>
          <a:xfrm>
            <a:off x="1692360" y="162864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36"/>
          <p:cNvSpPr/>
          <p:nvPr/>
        </p:nvSpPr>
        <p:spPr>
          <a:xfrm>
            <a:off x="2071800" y="314316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7"/>
          <p:cNvSpPr/>
          <p:nvPr/>
        </p:nvSpPr>
        <p:spPr>
          <a:xfrm>
            <a:off x="1928880" y="607212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孤独、无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8"/>
          <p:cNvSpPr/>
          <p:nvPr/>
        </p:nvSpPr>
        <p:spPr>
          <a:xfrm>
            <a:off x="1928880" y="5072040"/>
            <a:ext cx="36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她奇幻的思想是她渴望打破现状、得到别人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9"/>
          <p:cNvSpPr/>
          <p:nvPr/>
        </p:nvSpPr>
        <p:spPr>
          <a:xfrm>
            <a:off x="5857920" y="60721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独特、美丽、聪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40"/>
          <p:cNvSpPr/>
          <p:nvPr/>
        </p:nvSpPr>
        <p:spPr>
          <a:xfrm>
            <a:off x="1714680" y="5357880"/>
            <a:ext cx="142560" cy="863640"/>
          </a:xfrm>
          <a:custGeom>
            <a:avLst/>
            <a:gdLst>
              <a:gd name="textAreaLeft" fmla="*/ 91080 w 142560"/>
              <a:gd name="textAreaRight" fmla="*/ 142920 w 1425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1"/>
          <p:cNvSpPr/>
          <p:nvPr/>
        </p:nvSpPr>
        <p:spPr>
          <a:xfrm>
            <a:off x="5214960" y="635796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3"/>
          <p:cNvSpPr/>
          <p:nvPr/>
        </p:nvSpPr>
        <p:spPr>
          <a:xfrm>
            <a:off x="7504200" y="4572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、被丈夫抛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27"/>
          <p:cNvSpPr/>
          <p:nvPr/>
        </p:nvSpPr>
        <p:spPr>
          <a:xfrm>
            <a:off x="3301200" y="27860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作、神态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28"/>
          <p:cNvSpPr/>
          <p:nvPr/>
        </p:nvSpPr>
        <p:spPr>
          <a:xfrm>
            <a:off x="3391200" y="32860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动作、神态、心理描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29"/>
          <p:cNvSpPr/>
          <p:nvPr/>
        </p:nvSpPr>
        <p:spPr>
          <a:xfrm>
            <a:off x="3462480" y="385776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动作、神态、心理描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30"/>
          <p:cNvSpPr/>
          <p:nvPr/>
        </p:nvSpPr>
        <p:spPr>
          <a:xfrm>
            <a:off x="5398560" y="3786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情冷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3"/>
          <p:cNvSpPr/>
          <p:nvPr/>
        </p:nvSpPr>
        <p:spPr>
          <a:xfrm>
            <a:off x="611280" y="1397160"/>
            <a:ext cx="777240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说以这样一段文字来结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     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这次，她的丈夫用自己的双眼和双耳，非常仔细地察听，相了亲，娶了一位会说话的姑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395280" y="319716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小说结尾的理解存在两种观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是素芭被她的丈夫理解接纳，从此过上了幸福生活，是一大团圆的结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二是写她的丈夫抛弃了她，另娶新娘，轻松的笔调背后是深深的悲剧意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2657520" y="592920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你以为结局是喜剧性的，还是悲剧性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点难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析人物形象，领会小说的内容和主旨。 体会本文衬托手法的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539640" y="1413000"/>
            <a:ext cx="784872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说的结尾是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悲剧性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。尾声里，待嫁的素芭被父母打扮得花枝招展，原本清水出芙蓉般的容颜变了样，悲伤的眼泪成了提高她身价的标志，没有人理解她流泪的真正原因，因为她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面对的不是真正意义上的丈夫，而是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考官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含蓄的最后一节，更是看似无意地交代了素芭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被抛弃的命运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写得轻，读得却沉重无比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她应该是那个时代，那个地方的女性的缩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蝴蝶"/>
          <p:cNvPicPr/>
          <p:nvPr/>
        </p:nvPicPr>
        <p:blipFill>
          <a:blip r:embed="rId1"/>
          <a:stretch/>
        </p:blipFill>
        <p:spPr>
          <a:xfrm>
            <a:off x="7885080" y="4591080"/>
            <a:ext cx="12589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11280" y="1989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小说写了美丽聪慧、心地善良的哑女素芭的生活状态和悲惨遭遇，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表达了对素芭不幸命运的同情和对世俗的不满情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611280" y="407664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悲剧将人生有价值的东西毁灭给人看。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鲁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7" descr="20043146503792692"/>
          <p:cNvPicPr/>
          <p:nvPr/>
        </p:nvPicPr>
        <p:blipFill>
          <a:blip r:embed="rId1"/>
          <a:stretch/>
        </p:blipFill>
        <p:spPr>
          <a:xfrm>
            <a:off x="5508720" y="5877000"/>
            <a:ext cx="3333600" cy="495360"/>
          </a:xfrm>
          <a:prstGeom prst="rect">
            <a:avLst/>
          </a:prstGeom>
          <a:ln w="0">
            <a:noFill/>
          </a:ln>
        </p:spPr>
      </p:pic>
      <p:sp>
        <p:nvSpPr>
          <p:cNvPr id="385" name="WordArt 9"/>
          <p:cNvSpPr txBox="1"/>
          <p:nvPr/>
        </p:nvSpPr>
        <p:spPr>
          <a:xfrm>
            <a:off x="684360" y="907920"/>
            <a:ext cx="2374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主题归纳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走  近  泰  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%CC%A9%B8%EA%B6%FB"/>
          <p:cNvPicPr/>
          <p:nvPr/>
        </p:nvPicPr>
        <p:blipFill>
          <a:blip r:embed="rId1"/>
          <a:srcRect l="1449" t="7679" r="2748" b="3127"/>
          <a:stretch/>
        </p:blipFill>
        <p:spPr>
          <a:xfrm>
            <a:off x="2484360" y="1700280"/>
            <a:ext cx="446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错过太阳时你流了泪，那么你也要错过群星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空中没有翅膀的痕迹，但我已飞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生如夏花之绚烂，死如秋叶之静美。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道路虽然拥挤，却是寂寞的，因为它是不被爱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不能选择那最好的，是那最好的选择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u=801171017,2606044712&amp;gp=-2"/>
          <p:cNvPicPr/>
          <p:nvPr/>
        </p:nvPicPr>
        <p:blipFill>
          <a:blip r:embed="rId1"/>
          <a:stretch/>
        </p:blipFill>
        <p:spPr>
          <a:xfrm>
            <a:off x="0" y="4797360"/>
            <a:ext cx="3059280" cy="2060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u=2159483039,293194951&amp;gp=-18"/>
          <p:cNvPicPr/>
          <p:nvPr/>
        </p:nvPicPr>
        <p:blipFill>
          <a:blip r:embed="rId2"/>
          <a:stretch/>
        </p:blipFill>
        <p:spPr>
          <a:xfrm>
            <a:off x="6156360" y="4797360"/>
            <a:ext cx="2987640" cy="2060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u=4164133353,2080787611&amp;gp=-4"/>
          <p:cNvPicPr/>
          <p:nvPr/>
        </p:nvPicPr>
        <p:blipFill>
          <a:blip r:embed="rId3"/>
          <a:stretch/>
        </p:blipFill>
        <p:spPr>
          <a:xfrm>
            <a:off x="7415280" y="0"/>
            <a:ext cx="1728720" cy="3384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u=3265133427,3806111085&amp;gp=22"/>
          <p:cNvPicPr/>
          <p:nvPr/>
        </p:nvPicPr>
        <p:blipFill>
          <a:blip r:embed="rId4"/>
          <a:stretch/>
        </p:blipFill>
        <p:spPr>
          <a:xfrm>
            <a:off x="0" y="0"/>
            <a:ext cx="2068560" cy="335772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6"/>
          <p:cNvSpPr/>
          <p:nvPr/>
        </p:nvSpPr>
        <p:spPr>
          <a:xfrm>
            <a:off x="2050920" y="189000"/>
            <a:ext cx="5329440" cy="48243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纪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印度是英国殖民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政治上遭受压迫，经济上受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剥削，使古老的文明之邦陷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贫穷、愚昧之中。为唤醒这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沉睡的巨人，两位伟人应运而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位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民族解放运动的领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圣雄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甘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一位是印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近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最伟大的文化巨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宾德拉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泰戈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0" y="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泰戈尔及其创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6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11462003916530837_small"/>
          <p:cNvPicPr/>
          <p:nvPr/>
        </p:nvPicPr>
        <p:blipFill>
          <a:blip r:embed="rId1"/>
          <a:stretch/>
        </p:blipFill>
        <p:spPr>
          <a:xfrm>
            <a:off x="6659640" y="3500280"/>
            <a:ext cx="2268360" cy="3357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24000" y="1341360"/>
            <a:ext cx="88200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79280" y="62064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泰戈尔，印度著名诗人、作家、艺术家和社会活动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印度近代史上最伟大的文化巨匠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91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年获诺贝尔文学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52360" y="3068640"/>
            <a:ext cx="658800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在人们的印象中，泰戈尔是以伟大的“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黑体"/>
              </a:rPr>
              <a:t>歌手与哲人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”的双重身份出现的。他的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诗歌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体裁和题材丰富多彩，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黑体"/>
              </a:rPr>
              <a:t>清新隽永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小说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格调新颖、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黑体"/>
              </a:rPr>
              <a:t>感染力强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戏剧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种类繁多，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黑体"/>
              </a:rPr>
              <a:t>富于哲理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意味；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歌曲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或哀婉缠绵、或威武雄壮，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黑体"/>
              </a:rPr>
              <a:t>不拘一格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395280" y="620640"/>
            <a:ext cx="8497800" cy="29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泰戈尔是具有世界影响的作家，共写了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五十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部诗集，被称为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诗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其重要诗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诗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吉檀迦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新月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飞鸟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；重要小说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短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还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弃绝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素芭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摩诃摩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等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长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代表作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沉船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戈拉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两姐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；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散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国的谈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俄罗斯书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0:17:51Z</dcterms:created>
  <dc:creator/>
  <dc:description/>
  <cp:keywords/>
  <dc:language>en-US</dc:language>
  <cp:lastModifiedBy>dreamsummit</cp:lastModifiedBy>
  <dcterms:modified xsi:type="dcterms:W3CDTF">2016-06-29T13:42:24Z</dcterms:modified>
  <cp:revision>1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