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DF3F-BB5B-418C-8856-C6CF50E5D5B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00"/>
                </a:solidFill>
                <a:latin typeface="Times New Roman"/>
              </a:rPr>
              <a:t>因为山中景色的确很美，所以我愿做个山人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00"/>
                </a:solidFill>
                <a:latin typeface="Times New Roman"/>
              </a:rPr>
              <a:t>但是景色虽美而乡愁难遣，作者下楼去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00"/>
                </a:solidFill>
                <a:latin typeface="Times New Roman"/>
              </a:rPr>
              <a:t>认为不能只躲在山上自得其乐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00"/>
                </a:solidFill>
                <a:latin typeface="Times New Roman"/>
              </a:rPr>
              <a:t>而应下楼去为祖国的统一出力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ABD2-7D9D-4C45-A6FE-BA32D8119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0FF3-7BD0-4B9B-9374-1B6FCA37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6D64-4EB4-4C51-B71E-810450870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3E6E-EA41-4ABD-801E-3AA4D499D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0B78-8A85-4F76-A27A-93095D0D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CED3-F677-4C6C-ACC1-D44CA662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34B4-A74F-4E6B-B8DA-860A9B4F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B24C-11BC-4CA5-81AE-70E4A5EB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FC51-3172-4AC2-AD5A-20FB0078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78EE-E7D8-47B6-9A95-729B8A08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7A95-E737-482B-9AB5-21FF8010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8283-61B4-4CAA-BAFA-E1FA020E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790E-780F-4F4B-B556-7A27ABE907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" y="3049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2209680"/>
            <a:ext cx="8610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 rot="403800">
            <a:off x="2361960" y="914400"/>
            <a:ext cx="601956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1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沙田山居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36576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                       </a:t>
            </a:r>
            <a:r>
              <a:rPr b="0" lang="zh-CN" sz="4000" spc="-1" strike="noStrike">
                <a:solidFill>
                  <a:srgbClr val="00ff00"/>
                </a:solidFill>
                <a:latin typeface="Times New Roman"/>
              </a:rPr>
              <a:t>————</a:t>
            </a:r>
            <a:r>
              <a:rPr b="0" lang="zh-CN" sz="4000" spc="-1" strike="noStrike">
                <a:solidFill>
                  <a:srgbClr val="00ff00"/>
                </a:solidFill>
                <a:latin typeface="Times New Roman"/>
                <a:ea typeface="华文行楷"/>
              </a:rPr>
              <a:t>余光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93920" y="502920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改创：深圳红岭中学  张慕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520" y="761760"/>
            <a:ext cx="5791320" cy="5331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语言的诗意美探究小结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运用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2" action="ppaction://hlinksldjump"/>
              </a:rPr>
              <a:t>比喻、拟人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等修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运用叠音词，语调铿锵，诵之上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精心炼字，一字传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运用诗化的语言或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3" action="ppaction://hlinksldjump"/>
              </a:rPr>
              <a:t>化用古诗文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暗用典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7162920" y="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骚音</a:t>
            </a:r>
            <a:endParaRPr b="0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1066680"/>
            <a:ext cx="8991720" cy="13129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思考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、在前文洋溢的赞美之后，最后一段为何突然转为低沉败兴？这与上文连贯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97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80060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66"/>
                </a:solidFill>
                <a:uFillTx/>
                <a:latin typeface="宋体"/>
              </a:rPr>
              <a:t>    </a:t>
            </a:r>
            <a:r>
              <a:rPr b="1" lang="zh-CN" sz="2800" spc="-1" strike="noStrike" u="sng">
                <a:solidFill>
                  <a:srgbClr val="ffff66"/>
                </a:solidFill>
                <a:uFillTx/>
                <a:latin typeface="宋体"/>
              </a:rPr>
              <a:t>最令人心动而神往的，却是人为的骚音。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……是</a:t>
            </a:r>
            <a:r>
              <a:rPr b="1" lang="zh-CN" sz="2800" spc="-1" strike="noStrike" u="sng">
                <a:solidFill>
                  <a:srgbClr val="ffff66"/>
                </a:solidFill>
                <a:uFillTx/>
                <a:latin typeface="宋体"/>
              </a:rPr>
              <a:t>九广铁路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的客车，货车，猪车，……山下的铁轨向北钢铁火花的壮烈节奏，提醒我，</a:t>
            </a:r>
            <a:r>
              <a:rPr b="1" lang="zh-CN" sz="2800" spc="-1" strike="noStrike" u="sng">
                <a:solidFill>
                  <a:srgbClr val="ffff66"/>
                </a:solidFill>
                <a:uFillTx/>
                <a:latin typeface="宋体"/>
              </a:rPr>
              <a:t>藏在谷底的并不是洞里桃源，住在山上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</a:rPr>
              <a:t>我亦非恒景，即使王粲，也不能不下楼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5065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、作者在第三段中说“我成了山人”可最后又说“也不能不下楼去”，这表达了作者怎样的思想感情？这两句话在全文中有什么作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60840" y="2093760"/>
            <a:ext cx="56361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明确：</a:t>
            </a:r>
            <a:r>
              <a:rPr b="1" lang="zh-CN" sz="3600" spc="-1" strike="noStrike" u="sng">
                <a:solidFill>
                  <a:srgbClr val="11c01e"/>
                </a:solidFill>
                <a:uFillTx/>
                <a:latin typeface="华文行楷"/>
                <a:ea typeface="华文行楷"/>
              </a:rPr>
              <a:t>说说理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1005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ff1005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1005"/>
                </a:solidFill>
                <a:latin typeface="黑体"/>
                <a:ea typeface="黑体"/>
              </a:rPr>
              <a:t>）表达了作者渴盼祖国统一的思想感情。</a:t>
            </a:r>
            <a:br>
              <a:rPr sz="3600"/>
            </a:br>
            <a:r>
              <a:rPr b="1" lang="zh-CN" sz="3600" spc="-1" strike="noStrike">
                <a:solidFill>
                  <a:srgbClr val="ff1005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ff1005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1005"/>
                </a:solidFill>
                <a:latin typeface="黑体"/>
                <a:ea typeface="黑体"/>
              </a:rPr>
              <a:t>）突出主题（或衬托、照应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ccffff"/>
                </a:solidFill>
                <a:latin typeface="黑体"/>
                <a:ea typeface="黑体"/>
              </a:rPr>
              <a:t>理由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ff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ccffff"/>
                </a:solidFill>
                <a:latin typeface="黑体"/>
                <a:ea typeface="黑体"/>
              </a:rPr>
              <a:t>成了山人”，说明自己如在仙境中生活，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ff"/>
                </a:solidFill>
                <a:latin typeface="黑体"/>
                <a:ea typeface="黑体"/>
              </a:rPr>
              <a:t>常理应希望永远这样生活下去，可作者却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ff"/>
                </a:solidFill>
                <a:latin typeface="黑体"/>
                <a:ea typeface="黑体"/>
              </a:rPr>
              <a:t>更高远的追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“下楼去”为祖国统一而呐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0440" y="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11c01e"/>
                </a:solidFill>
                <a:uFillTx/>
                <a:latin typeface="Times New Roman"/>
                <a:ea typeface="华文行楷"/>
              </a:rPr>
              <a:t>重点揣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80000" y="2060640"/>
            <a:ext cx="40636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含蓄深沉地吐露了思国怀乡的情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04920" y="457200"/>
            <a:ext cx="8001000" cy="23990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情思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  </a:t>
            </a: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好景虽美而乡愁难遣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396252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山外有山，最远的翠微淡成一袅青烟，忽焉似有，再顾若无，那便是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大陆的莽莽苍苍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了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05944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ccffff"/>
                </a:solidFill>
                <a:latin typeface="黑体"/>
                <a:ea typeface="黑体"/>
              </a:rPr>
              <a:t>一览不尽的清山绿水，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重九的陶菊已经两开，中秋的苏月已经圆过两次了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延伸着我的心弦。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322640" y="-1440"/>
            <a:ext cx="414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让我们来给</a:t>
            </a:r>
            <a:r>
              <a:rPr b="1" lang="zh-CN" sz="4000" spc="-1" strike="noStrike">
                <a:solidFill>
                  <a:srgbClr val="ffff66"/>
                </a:solidFill>
                <a:latin typeface="华文新魏"/>
                <a:ea typeface="华文行楷"/>
              </a:rPr>
              <a:t>余光中修改文章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13600" y="65736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思考：这些句子真的完美吗？可否更好些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133720"/>
            <a:ext cx="8839080" cy="40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cffff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ffff"/>
                </a:solidFill>
                <a:latin typeface="黑体"/>
                <a:ea typeface="黑体"/>
              </a:rPr>
              <a:t>……</a:t>
            </a:r>
            <a:r>
              <a:rPr b="0" lang="zh-CN" sz="3600" spc="-1" strike="noStrike">
                <a:solidFill>
                  <a:srgbClr val="ccffff"/>
                </a:solidFill>
                <a:latin typeface="黑体"/>
                <a:ea typeface="黑体"/>
              </a:rPr>
              <a:t>风是</a:t>
            </a:r>
            <a:r>
              <a:rPr b="0" i="1" lang="zh-CN" sz="3600" spc="-1" strike="noStrike" u="sng">
                <a:solidFill>
                  <a:srgbClr val="00ff00"/>
                </a:solidFill>
                <a:uFillTx/>
                <a:latin typeface="黑体"/>
                <a:ea typeface="黑体"/>
              </a:rPr>
              <a:t>透明的猛兽</a:t>
            </a:r>
            <a:r>
              <a:rPr b="0" lang="zh-CN" sz="3600" spc="-1" strike="noStrike">
                <a:solidFill>
                  <a:srgbClr val="ccffff"/>
                </a:solidFill>
                <a:latin typeface="黑体"/>
                <a:ea typeface="黑体"/>
              </a:rPr>
              <a:t>，奔踹而来，呼啸而去。</a:t>
            </a:r>
            <a:r>
              <a:rPr b="0" lang="zh-CN" sz="3600" spc="-1" strike="noStrike">
                <a:solidFill>
                  <a:srgbClr val="ccffff"/>
                </a:solidFill>
                <a:latin typeface="黑体"/>
                <a:ea typeface="黑体"/>
              </a:rPr>
              <a:t>(</a:t>
            </a:r>
            <a:r>
              <a:rPr b="0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感觉好吗，别扭吗？</a:t>
            </a:r>
            <a:r>
              <a:rPr b="0" lang="zh-CN" sz="3600" spc="-1" strike="noStrike">
                <a:solidFill>
                  <a:srgbClr val="ccffff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ccffff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ccffff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ffff"/>
                </a:solidFill>
                <a:latin typeface="黑体"/>
                <a:ea typeface="黑体"/>
              </a:rPr>
              <a:t>栏杆三面压人眉睫是青山</a:t>
            </a:r>
            <a:br>
              <a:rPr sz="3600"/>
            </a:br>
            <a:r>
              <a:rPr b="0" lang="zh-CN" sz="3600" spc="-1" strike="noStrike">
                <a:solidFill>
                  <a:srgbClr val="ccffff"/>
                </a:solidFill>
                <a:latin typeface="黑体"/>
                <a:ea typeface="黑体"/>
              </a:rPr>
              <a:t>碧螺黛迤俪的边愁欲连环</a:t>
            </a:r>
            <a:br>
              <a:rPr sz="3600"/>
            </a:br>
            <a:r>
              <a:rPr b="0" lang="zh-CN" sz="3600" spc="-1" strike="noStrike">
                <a:solidFill>
                  <a:srgbClr val="ccffff"/>
                </a:solidFill>
                <a:latin typeface="黑体"/>
                <a:ea typeface="黑体"/>
              </a:rPr>
              <a:t>叠嶂之后是重峦</a:t>
            </a:r>
            <a:r>
              <a:rPr b="0" lang="zh-CN" sz="3600" spc="-1" strike="noStrike">
                <a:solidFill>
                  <a:srgbClr val="ccffff"/>
                </a:solidFill>
                <a:latin typeface="黑体"/>
                <a:ea typeface="黑体"/>
              </a:rPr>
              <a:t>,</a:t>
            </a:r>
            <a:r>
              <a:rPr b="0" i="1" lang="zh-CN" sz="3600" spc="-1" strike="noStrike" u="sng">
                <a:solidFill>
                  <a:srgbClr val="00ff00"/>
                </a:solidFill>
                <a:uFillTx/>
                <a:latin typeface="黑体"/>
                <a:ea typeface="黑体"/>
              </a:rPr>
              <a:t>一层淡似一层</a:t>
            </a:r>
            <a:br>
              <a:rPr sz="3600"/>
            </a:br>
            <a:r>
              <a:rPr b="0" lang="zh-CN" sz="3600" spc="-1" strike="noStrike">
                <a:solidFill>
                  <a:srgbClr val="ccffff"/>
                </a:solidFill>
                <a:latin typeface="黑体"/>
                <a:ea typeface="黑体"/>
              </a:rPr>
              <a:t>湘云之后是楚烟</a:t>
            </a:r>
            <a:r>
              <a:rPr b="0" lang="zh-CN" sz="3600" spc="-1" strike="noStrike">
                <a:solidFill>
                  <a:srgbClr val="ccffff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ccffff"/>
                </a:solidFill>
                <a:latin typeface="黑体"/>
                <a:ea typeface="黑体"/>
              </a:rPr>
              <a:t>山长水远</a:t>
            </a:r>
            <a:br>
              <a:rPr sz="3600"/>
            </a:br>
            <a:r>
              <a:rPr b="0" lang="zh-CN" sz="3600" spc="-1" strike="noStrike">
                <a:solidFill>
                  <a:srgbClr val="ccffff"/>
                </a:solidFill>
                <a:latin typeface="黑体"/>
                <a:ea typeface="黑体"/>
              </a:rPr>
              <a:t>（</a:t>
            </a:r>
            <a:r>
              <a:rPr b="0" i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这一句是否大败诗意？能改得好些吗</a:t>
            </a:r>
            <a:r>
              <a:rPr b="0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58640" y="-101520"/>
            <a:ext cx="5638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给</a:t>
            </a:r>
            <a:r>
              <a:rPr b="1" lang="zh-CN" sz="4000" spc="-1" strike="noStrike">
                <a:solidFill>
                  <a:srgbClr val="ffff66"/>
                </a:solidFill>
                <a:latin typeface="华文新魏"/>
                <a:ea typeface="华文行楷"/>
              </a:rPr>
              <a:t>余光中修改文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322640" y="-1440"/>
            <a:ext cx="414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让我们来给</a:t>
            </a:r>
            <a:r>
              <a:rPr b="1" lang="zh-CN" sz="4000" spc="-1" strike="noStrike">
                <a:solidFill>
                  <a:srgbClr val="ffff66"/>
                </a:solidFill>
                <a:latin typeface="华文新魏"/>
                <a:ea typeface="华文行楷"/>
              </a:rPr>
              <a:t>余光中修改文章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13600" y="65736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思考：这些句子真的完美吗？可否更好些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2133720"/>
            <a:ext cx="883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cffff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ffff"/>
                </a:solidFill>
                <a:latin typeface="黑体"/>
                <a:ea typeface="黑体"/>
              </a:rPr>
              <a:t>……</a:t>
            </a:r>
            <a:r>
              <a:rPr b="0" lang="zh-CN" sz="3600" spc="-1" strike="noStrike">
                <a:solidFill>
                  <a:srgbClr val="ccffff"/>
                </a:solidFill>
                <a:latin typeface="黑体"/>
                <a:ea typeface="黑体"/>
              </a:rPr>
              <a:t>风是</a:t>
            </a:r>
            <a:r>
              <a:rPr b="0" i="1" lang="zh-CN" sz="3600" spc="-1" strike="noStrike" u="sng">
                <a:solidFill>
                  <a:srgbClr val="00ff00"/>
                </a:solidFill>
                <a:uFillTx/>
                <a:latin typeface="黑体"/>
                <a:ea typeface="黑体"/>
              </a:rPr>
              <a:t>透明的猛兽</a:t>
            </a:r>
            <a:r>
              <a:rPr b="0" lang="zh-CN" sz="3600" spc="-1" strike="noStrike">
                <a:solidFill>
                  <a:srgbClr val="ccffff"/>
                </a:solidFill>
                <a:latin typeface="黑体"/>
                <a:ea typeface="黑体"/>
              </a:rPr>
              <a:t>，奔踹而来，呼啸而去。</a:t>
            </a:r>
            <a:r>
              <a:rPr b="0" lang="zh-CN" sz="3600" spc="-1" strike="noStrike">
                <a:solidFill>
                  <a:srgbClr val="ccffff"/>
                </a:solidFill>
                <a:latin typeface="黑体"/>
                <a:ea typeface="黑体"/>
              </a:rPr>
              <a:t>(</a:t>
            </a:r>
            <a:r>
              <a:rPr b="0" lang="zh-CN" sz="3600" spc="-1" strike="noStrike" u="sng">
                <a:solidFill>
                  <a:srgbClr val="00ff00"/>
                </a:solidFill>
                <a:uFillTx/>
                <a:latin typeface="黑体"/>
                <a:ea typeface="黑体"/>
              </a:rPr>
              <a:t>透明的</a:t>
            </a:r>
            <a:r>
              <a:rPr b="0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巨浪，排山而来，</a:t>
            </a:r>
            <a:r>
              <a:rPr b="0" lang="zh-CN" sz="3600" spc="-1" strike="noStrike">
                <a:solidFill>
                  <a:srgbClr val="ccffff"/>
                </a:solidFill>
                <a:latin typeface="黑体"/>
                <a:ea typeface="黑体"/>
              </a:rPr>
              <a:t>呼啸而去</a:t>
            </a:r>
            <a:r>
              <a:rPr b="0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……   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ccffff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ffff"/>
                </a:solidFill>
                <a:latin typeface="黑体"/>
                <a:ea typeface="黑体"/>
              </a:rPr>
              <a:t>栏杆三面压人眉睫是青山</a:t>
            </a:r>
            <a:br>
              <a:rPr sz="3600"/>
            </a:br>
            <a:r>
              <a:rPr b="0" lang="zh-CN" sz="3600" spc="-1" strike="noStrike">
                <a:solidFill>
                  <a:srgbClr val="ccffff"/>
                </a:solidFill>
                <a:latin typeface="黑体"/>
                <a:ea typeface="黑体"/>
              </a:rPr>
              <a:t>碧螺黛迤俪的边愁欲连环</a:t>
            </a:r>
            <a:br>
              <a:rPr sz="3600"/>
            </a:br>
            <a:r>
              <a:rPr b="0" lang="zh-CN" sz="3600" spc="-1" strike="noStrike">
                <a:solidFill>
                  <a:srgbClr val="ccffff"/>
                </a:solidFill>
                <a:latin typeface="黑体"/>
                <a:ea typeface="黑体"/>
              </a:rPr>
              <a:t>叠嶂之后是重峦</a:t>
            </a:r>
            <a:r>
              <a:rPr b="0" lang="zh-CN" sz="3600" spc="-1" strike="noStrike">
                <a:solidFill>
                  <a:srgbClr val="ccffff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 u="sng">
                <a:solidFill>
                  <a:srgbClr val="00ff00"/>
                </a:solidFill>
                <a:uFillTx/>
                <a:latin typeface="黑体"/>
                <a:ea typeface="黑体"/>
              </a:rPr>
              <a:t>层层淡</a:t>
            </a:r>
            <a:br>
              <a:rPr sz="3600"/>
            </a:br>
            <a:r>
              <a:rPr b="0" lang="zh-CN" sz="3600" spc="-1" strike="noStrike">
                <a:solidFill>
                  <a:srgbClr val="ccffff"/>
                </a:solidFill>
                <a:latin typeface="黑体"/>
                <a:ea typeface="黑体"/>
              </a:rPr>
              <a:t>湘云之后是楚烟</a:t>
            </a:r>
            <a:r>
              <a:rPr b="0" lang="zh-CN" sz="3600" spc="-1" strike="noStrike">
                <a:solidFill>
                  <a:srgbClr val="ccffff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ccffff"/>
                </a:solidFill>
                <a:latin typeface="黑体"/>
                <a:ea typeface="黑体"/>
              </a:rPr>
              <a:t>山长水远</a:t>
            </a:r>
            <a:br>
              <a:rPr sz="3600"/>
            </a:br>
            <a:r>
              <a:rPr b="0" lang="zh-CN" sz="3600" spc="-1" strike="noStrike">
                <a:solidFill>
                  <a:srgbClr val="ccffff"/>
                </a:solidFill>
                <a:latin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29200" y="48006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ff00"/>
                </a:solidFill>
                <a:latin typeface="Times New Roman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362320" y="0"/>
            <a:ext cx="4572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隶书"/>
              </a:rPr>
              <a:t>北 望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990720"/>
            <a:ext cx="5105520" cy="59104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一抬头就照面苍苍的山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咫尺大陆的烟云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一缕半缕总有意缭在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幕幕北望的阳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那几盆海棠和仙人掌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栏杆三面压人眉睫是青山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碧螺黛迤逦的边愁欲连环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叠嶂之后是重峦，</a:t>
            </a:r>
            <a:r>
              <a:rPr b="1" i="1" lang="zh-CN" sz="2600" spc="-1" strike="noStrike" u="sng">
                <a:solidFill>
                  <a:srgbClr val="ffff66"/>
                </a:solidFill>
                <a:uFillTx/>
                <a:latin typeface="Times New Roman"/>
                <a:ea typeface="黑体"/>
              </a:rPr>
              <a:t>一层淡似一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湘云之后是楚烟，山长永远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五千载与八万万，全在那里面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990720"/>
            <a:ext cx="4191120" cy="59104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而历史，炊黄粱也无非一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多少浪子歌哭在江湖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最后总是向昆仑的荒古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落下鸿蒙一丸老太阳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炼不完，一炉赤霞与紫霭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月，是盘古的瘦耳冷冷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在天安门小小的喧哗之外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俯向古神州无边的宁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夜深，香港黯了千灯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阳台一角便伸入北斗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隶书"/>
              </a:rPr>
              <a:t>北 望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52280" y="761760"/>
            <a:ext cx="8305920" cy="46479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山中问答    李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问余何意栖碧山，笑而不答心自闲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桃花流水杳然去，别有天地非人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               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独坐敬亭山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李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众鸟高飞尽，孤云独去闲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相看两不厌，只有敬亭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676520" y="152280"/>
            <a:ext cx="7467480" cy="70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闻雁    韦应物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故园渺何处？归思方悠哉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淮南秋夜雨，高斋闻</a:t>
            </a:r>
            <a:r>
              <a:rPr b="1" lang="zh-CN" sz="3200" spc="-1" strike="noStrike">
                <a:solidFill>
                  <a:srgbClr val="ffff66"/>
                </a:solidFill>
                <a:latin typeface="黑体"/>
                <a:ea typeface="黑体"/>
              </a:rPr>
              <a:t>雁</a:t>
            </a: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秋思   张籍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洛阳城里见秋风，欲作家书意万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复恐匆匆说不尽，行人临发又开封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十五夜望月  王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中庭地白树栖鸦，冷露无声湿桂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今夜</a:t>
            </a:r>
            <a:r>
              <a:rPr b="1" lang="zh-CN" sz="3200" spc="-1" strike="noStrike">
                <a:solidFill>
                  <a:srgbClr val="ffff66"/>
                </a:solidFill>
                <a:latin typeface="黑体"/>
                <a:ea typeface="黑体"/>
              </a:rPr>
              <a:t>月明</a:t>
            </a: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人尽望，不知秋思落谁家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529200" y="2209680"/>
            <a:ext cx="26182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ff0000"/>
                </a:solidFill>
                <a:latin typeface="Times New Roman"/>
                <a:ea typeface="隶书"/>
              </a:rPr>
              <a:t>乡愁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066680"/>
            <a:ext cx="4191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　山  中　　                              王勃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　长江悲已滞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万里念将归。</a:t>
            </a:r>
            <a:br>
              <a:rPr sz="3600"/>
            </a:b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　　况属高风晚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山山黄叶飞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609480"/>
            <a:ext cx="41911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与浩初上人同看山  寄京华亲故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   柳宗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海畔尖山似剑芒，秋来处处割愁肠。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若为化作身千亿，  散向峰头望故乡。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9144000" cy="74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Tahoma"/>
              </a:rPr>
              <a:t>                             </a:t>
            </a:r>
            <a:r>
              <a:rPr b="1" lang="zh-CN" sz="4800" spc="-1" strike="noStrike">
                <a:solidFill>
                  <a:srgbClr val="ffff66"/>
                </a:solidFill>
                <a:latin typeface="Tahoma"/>
                <a:ea typeface="隶书"/>
              </a:rPr>
              <a:t>乡    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ahoma"/>
              </a:rPr>
              <a:t>                                                    </a:t>
            </a:r>
            <a:r>
              <a:rPr b="1" lang="zh-CN" sz="2800" spc="-1" strike="noStrike">
                <a:solidFill>
                  <a:srgbClr val="ffff66"/>
                </a:solidFill>
                <a:latin typeface="Tahoma"/>
              </a:rPr>
              <a:t>余光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小时侯                                  后来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乡愁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是一枚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小小的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邮票    乡愁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是一方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矮矮的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坟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我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在这头                             我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在外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母亲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在那头                          母亲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在里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长大后                                  而现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乡愁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是一张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窄窄的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船票    乡愁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是一湾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浅浅的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海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我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在这头                             我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在这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新娘</a:t>
            </a: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在那头                     大陆</a:t>
            </a: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在那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244000" y="6093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926440" y="251460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谢谢，再见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隶书"/>
              </a:rPr>
              <a:t>作者简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62160" y="1066680"/>
            <a:ext cx="5181480" cy="5634000"/>
          </a:xfrm>
          <a:prstGeom prst="rect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华文新魏"/>
                <a:ea typeface="华文新魏"/>
              </a:rPr>
              <a:t>余光中（</a:t>
            </a:r>
            <a:r>
              <a:rPr b="1" lang="zh-CN" sz="3200" spc="-1" strike="noStrike">
                <a:solidFill>
                  <a:srgbClr val="ffff66"/>
                </a:solidFill>
                <a:latin typeface="华文新魏"/>
                <a:ea typeface="华文新魏"/>
              </a:rPr>
              <a:t>1928~   </a:t>
            </a:r>
            <a:r>
              <a:rPr b="1" lang="zh-CN" sz="3200" spc="-1" strike="noStrike">
                <a:solidFill>
                  <a:srgbClr val="ffff66"/>
                </a:solidFill>
                <a:latin typeface="华文新魏"/>
                <a:ea typeface="华文新魏"/>
              </a:rPr>
              <a:t>）祖籍福建永春，生于南京。</a:t>
            </a:r>
            <a:r>
              <a:rPr b="1" lang="zh-CN" sz="3200" spc="-1" strike="noStrike">
                <a:solidFill>
                  <a:srgbClr val="ffff66"/>
                </a:solidFill>
                <a:latin typeface="华文新魏"/>
                <a:ea typeface="华文新魏"/>
              </a:rPr>
              <a:t>1947</a:t>
            </a:r>
            <a:r>
              <a:rPr b="1" lang="zh-CN" sz="3200" spc="-1" strike="noStrike">
                <a:solidFill>
                  <a:srgbClr val="ffff66"/>
                </a:solidFill>
                <a:latin typeface="华文新魏"/>
                <a:ea typeface="华文新魏"/>
              </a:rPr>
              <a:t>年后就读于金陵大学外文系、厦门大学外文系</a:t>
            </a:r>
            <a:r>
              <a:rPr b="1" lang="zh-CN" sz="3200" spc="-1" strike="noStrike">
                <a:solidFill>
                  <a:srgbClr val="ffff66"/>
                </a:solidFill>
                <a:latin typeface="华文新魏"/>
                <a:ea typeface="华文新魏"/>
              </a:rPr>
              <a:t>1949</a:t>
            </a:r>
            <a:r>
              <a:rPr b="1" lang="zh-CN" sz="3200" spc="-1" strike="noStrike">
                <a:solidFill>
                  <a:srgbClr val="ffff66"/>
                </a:solidFill>
                <a:latin typeface="华文新魏"/>
                <a:ea typeface="华文新魏"/>
              </a:rPr>
              <a:t>年后在台湾大学外文系求学。</a:t>
            </a:r>
            <a:r>
              <a:rPr b="1" lang="zh-CN" sz="3200" spc="-1" strike="noStrike">
                <a:solidFill>
                  <a:srgbClr val="ffff66"/>
                </a:solidFill>
                <a:latin typeface="华文新魏"/>
                <a:ea typeface="华文新魏"/>
              </a:rPr>
              <a:t>1958</a:t>
            </a:r>
            <a:r>
              <a:rPr b="1" lang="zh-CN" sz="3200" spc="-1" strike="noStrike">
                <a:solidFill>
                  <a:srgbClr val="ffff66"/>
                </a:solidFill>
                <a:latin typeface="华文新魏"/>
                <a:ea typeface="华文新魏"/>
              </a:rPr>
              <a:t>年赴美国爱荷华大学进修。先后在美、台、香港等地任职，</a:t>
            </a:r>
            <a:r>
              <a:rPr b="1" lang="zh-CN" sz="3200" spc="-1" strike="noStrike">
                <a:solidFill>
                  <a:srgbClr val="ffff66"/>
                </a:solidFill>
                <a:latin typeface="华文新魏"/>
                <a:ea typeface="华文新魏"/>
              </a:rPr>
              <a:t>1984</a:t>
            </a:r>
            <a:r>
              <a:rPr b="1" lang="zh-CN" sz="3200" spc="-1" strike="noStrike">
                <a:solidFill>
                  <a:srgbClr val="ffff66"/>
                </a:solidFill>
                <a:latin typeface="华文新魏"/>
                <a:ea typeface="华文新魏"/>
              </a:rPr>
              <a:t>年返台任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华文新魏"/>
                <a:ea typeface="华文新魏"/>
              </a:rPr>
              <a:t>其诗作具有浓重的中国意识和深厚的历史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3276360" cy="49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3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9900"/>
                            </p:stCondLst>
                            <p:childTnLst>
                              <p:par>
                                <p:cTn id="23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3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4267080" cy="5331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、朗读品味、正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600200"/>
            <a:ext cx="12952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蟠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盘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奔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纤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拖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伺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伺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脸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1600200"/>
            <a:ext cx="21337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óumó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iǎ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é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iǎ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à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ùq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yīnyū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óulì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yǐl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zhǒuy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3600" y="1600200"/>
            <a:ext cx="1981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pánwā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j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mè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chuà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xiā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y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c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ji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676520"/>
            <a:ext cx="12956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绸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浩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樯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渺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肚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氤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蹂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迤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肘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注意下列词语的音、形、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1600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肩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朝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余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崦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86200" y="1905120"/>
            <a:ext cx="1752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q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ū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ū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ānz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iò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609480"/>
            <a:ext cx="9144000" cy="1068840"/>
          </a:xfrm>
          <a:prstGeom prst="rec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寻找诗情画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作者有一颗充满诗意的心灵，笔下很多诗意盎然的描写。请找出你喜欢的，说说它的美妙何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49960" y="3733920"/>
            <a:ext cx="3592800" cy="1739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妙不可言的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令人神往的境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让人浮想联翩的描绘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8600" y="3886200"/>
            <a:ext cx="8915400" cy="703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满地百云，师生衣袂飘然，都成了神仙。我登上讲坛说道，烟云都穿窗探首来旁听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56800" y="29376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例如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6095880"/>
            <a:ext cx="4816440" cy="6426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特点、联想、感受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715000" y="28954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Times New Roman"/>
              </a:rPr>
              <a:t>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297180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←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81680" y="25909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相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914400"/>
            <a:ext cx="3733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晴艳下午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 （碧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千顷碧波    借代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2590920"/>
            <a:ext cx="5181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起风日子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（蓝田  暗喻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海波起落  百合  借喻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962520"/>
            <a:ext cx="5257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夜深时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潮声起伏（鼾息  拟人 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渔火灿灿  金莲  暗喻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543800" y="28195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Times New Roman"/>
              </a:rPr>
              <a:t>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001000" y="571500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4120" y="1295280"/>
            <a:ext cx="304560" cy="4267440"/>
          </a:xfrm>
          <a:custGeom>
            <a:avLst/>
            <a:gdLst>
              <a:gd name="textAreaLeft" fmla="*/ 0 w 304560"/>
              <a:gd name="textAreaRight" fmla="*/ 109800 w 304560"/>
              <a:gd name="textAreaTop" fmla="*/ 111240 h 4267440"/>
              <a:gd name="textAreaBottom" fmla="*/ 4156200 h 426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番茄花园</cp:lastModifiedBy>
  <dcterms:modified xsi:type="dcterms:W3CDTF">2008-09-19T05:13:03Z</dcterms:modified>
  <cp:revision>8</cp:revision>
  <dc:subject/>
  <dc:title>PowerPoint Presentation</dc:title>
</cp:coreProperties>
</file>