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9.gif" ContentType="image/gif"/>
  <Override PartName="/ppt/media/image1.jpeg" ContentType="image/jpeg"/>
  <Override PartName="/ppt/media/image10.png" ContentType="image/png"/>
  <Override PartName="/ppt/media/image3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44.gif" ContentType="image/gif"/>
  <Override PartName="/ppt/media/image49.jpeg" ContentType="image/jpeg"/>
  <Override PartName="/ppt/media/image35.png" ContentType="image/png"/>
  <Override PartName="/ppt/media/image26.jpeg" ContentType="image/jpeg"/>
  <Override PartName="/ppt/media/image36.png" ContentType="image/png"/>
  <Override PartName="/ppt/media/image43.gif" ContentType="image/gif"/>
  <Override PartName="/ppt/media/image38.gif" ContentType="image/gif"/>
  <Override PartName="/ppt/media/image41.png" ContentType="image/png"/>
  <Override PartName="/ppt/media/image42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39.png" ContentType="image/png"/>
  <Override PartName="/ppt/media/image46.gif" ContentType="image/gif"/>
  <Override PartName="/ppt/media/image9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45.gif" ContentType="image/gif"/>
  <Override PartName="/ppt/media/image7.gif" ContentType="image/gif"/>
  <Override PartName="/ppt/media/image37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0BD-C190-4B58-A9CC-F4FDBB03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CA1-3225-4732-801C-96F56A5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8A73-151F-4359-9EFB-028AF34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0A83E-C977-498B-BAAA-69794D3D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3C3FF-9B0A-48D2-8D36-74071868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0526-93D1-457D-8769-1D0BA6C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9865-1B96-4B12-96E9-7C2F39E7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57850-93BA-435A-AA79-D008324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2A4FB-BD04-42DF-9EAA-30C0502B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68278-3FD5-4ECE-9792-56717F69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A6FA7-EFD6-47B5-81B2-778FD24F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888-F759-4471-97EB-049A63BA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A0D-D55F-4BEF-A750-6233BA50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69AB-0E7E-4613-B810-21C80A1A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8FC7D-54D0-4183-AC68-8412EF79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557DE-9ABC-426E-9463-E80DF23A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DBA0B-4D6A-4746-96BF-95D73A3E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21015-ABEF-46A9-953B-20DF2FB4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CAEEA-026C-4438-8E17-BE1E3A1C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836C0-EB73-4858-A98A-2E07FD55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B0B6F-2A5D-4DBE-9019-34AFC95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07EB-B120-45F6-9455-ACBB7FE2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D83FE-7E3D-4136-BA39-5C7A9F8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4B718-A4E9-4806-B374-23A7FE2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67CD1-1CC5-4056-AB4A-FDF75BE4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BE2E0-2379-40ED-8CB0-12EFCDE3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D74D0-9507-44C2-98B0-7E535A61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28878-33B8-4858-9191-E2A79624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A5601-2A1B-4F78-A83D-37D26F86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640AC-14D6-4430-8FE7-CE5D62B8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21E8E-43B6-4E67-A53F-EA0CF16A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C6B99-07C0-4950-998C-EAEE91B1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33A3-3924-4FC0-9939-AC94FE18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9BDEB-94DC-44AC-98FF-B5806C2E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9F382-C01D-46FA-8D9C-CAB44C9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641D1-3C3C-4A41-9DB4-0DA0EBE2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22592-E03E-4771-88A3-2275D54F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EB7FF-31DB-4E30-9947-1E52F65E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4443B-8969-4808-A631-E98535CB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F41F2-5E0A-4E45-8287-74906D5D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40C1-978F-42AD-BEB7-B67CD405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147E-F1E2-4374-B38C-9CA2D13B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0DE7-BDF6-4FD7-B434-16D9377D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EB2A-7152-4F8C-A961-D5CBDC04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83B-FBE4-4DC0-9F04-A8638D07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6BCF-C963-42E9-9F58-C3DB0D6E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B7A-C3F4-4B72-B209-CCB7A5C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090A-9CF3-41C0-BAF8-2011A72E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1AD1-9A65-4216-8DDA-817C81AB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5C14-6B05-426F-A994-1EDAF8A8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51DA-DD5A-4DA8-8588-9D92F029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3D10-E11D-4003-84E5-0897F5D8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4204-16D2-4778-91C3-83672FEC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7E1D-2500-422E-A285-C0D18A0F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F089-6815-4E68-B75F-2EC4DCDB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088-1232-4330-8D9F-B40D93DD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6650-1944-41E6-BCB4-3CE207C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90DF-C045-4D24-8182-CD06076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76C5-5FB6-4FB5-94FD-2F58F60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734A-33AE-4C62-AE86-29BFA54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D38D-F6BA-4B5A-93AC-8D530A7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680D-D3D2-4F83-A3B8-B6F2E285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332F3-C9B8-4A9C-9C22-E18913FA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9908-DAFA-4AB9-826C-6DA7FC04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26B6-7F84-41D8-9ABC-D76A5630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F54F-E8A5-42D9-80C8-0FEC0477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26A-3F6D-4D63-BBFC-F24881F1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10DA4-567F-4BC9-B927-D6EBE037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C0B6-E80D-4E90-8A0F-08E24812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E411-B10C-407D-A844-31EE232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F7AA-1615-49DC-BD53-6989BBC8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61B6B-928D-4356-A013-8BC4E5D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9B06A-F6FC-4D35-A1ED-A3C6ECA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CF489-1E54-4F59-9418-0A299840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FF8B-BCFB-44C2-B2AF-AF89EB0E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76C5-408D-42B0-9CC4-4C529056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E0D36-4066-40BC-A54E-8C0E8794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ADA-5064-485F-B6FA-2ED885E7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32BC4-A702-4D73-89EA-EBFA3DDA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352F6-245E-4199-B43E-642915C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2BC50-9922-4CD8-84D6-0D749CF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78153-C199-4FD1-9BAF-08AD0E81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444A3-F69F-48CD-826C-B50A4F84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C5EF-6D4D-4E3C-93EB-1D0D923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08317-00D5-4702-8465-40F685C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19BBF-07D5-423E-AAFA-7AED70F1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26BC-F61E-4CD8-A768-89D52BA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89D1D-F699-4F49-BE04-269FBD92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F2B-2A19-47BE-AB0B-C7DBFFAD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B6913-EACC-4B8F-B3D3-28472DFB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0E3-1DAE-4B07-99A4-22438E5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CB6EA-B295-43CC-865C-E5A6C63E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908A2-BA71-4F2C-BEC7-729E117A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D91E4-A2A1-47DE-9F4A-5CEBBDE5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128D-2FD0-489A-A192-AEC89DED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701FF-8F5F-48F6-B10A-96F75CC6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DD33-1837-41C6-8A83-507D097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45B7-1E82-4632-8952-F1869AA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A7D-BA1F-4B4E-A38C-6B2D97A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2BEEB-88A2-4FBB-89A3-5F4E5CE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1875-4CC9-48A2-8E32-B860672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CD507-5014-4BCE-A230-7A35E5AC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8A310-4CFB-437E-A8ED-0BD80461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D43F5-77D9-45D9-80F6-9B9F9068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808B2-85AD-4424-AD89-7B69DACA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3C20A-1E3C-4DDA-B383-C68DFF4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AD7C-B4F5-4277-AE58-7E2864DE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6C3E9-D668-4FBC-8070-98A13F47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505B7-AFAB-4E47-957D-0D3ED5AB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73B-88BB-4C30-872B-5C484BA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0A67B-C207-4585-BDEF-13E18FD8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F994-7E1F-4461-BAF8-8A369ED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2884-657D-465A-AB05-0379107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4648B-A867-4F1D-A7B0-A00ED97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E50BC-4833-45CE-BDC5-95DAB9C1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DE671-9594-4DCA-91B3-4F924F2C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5E25A-0710-4774-B8DC-9CFCFD8E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2CDD-D718-444A-AA46-D86D4A6D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A71C9-0D92-4916-84F0-62BC0D5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57535-82C7-4D32-A259-46B67E01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8733-8DFB-4BBB-BA67-3BFF5E99BE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17040"/>
            <a:ext cx="6840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115640" y="1413000"/>
            <a:ext cx="777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95640" y="3803760"/>
            <a:ext cx="669744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6958-CA2C-4C66-9919-BF30C0483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F585-89CB-4C6F-8BA0-67511064F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2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Line 5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488-040B-4A71-8732-5EC97DE2B6B7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87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Line 5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DCAF-1EDC-4F46-A424-C8089A89FA89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15E7-3363-49CB-9F9E-EE179A995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LS_bus964副本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B9FB-C013-4243-8A5A-A3C062E751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LT_bus964副本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smoke" descr=""/>
          <p:cNvPicPr/>
          <p:nvPr/>
        </p:nvPicPr>
        <p:blipFill>
          <a:blip r:embed="rId3"/>
          <a:stretch/>
        </p:blipFill>
        <p:spPr>
          <a:xfrm>
            <a:off x="0" y="3360600"/>
            <a:ext cx="1531800" cy="34974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028520" indent="-205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440000" indent="-205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1851480" indent="-205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1851480" indent="-205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1851480" indent="-2055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7377-5F93-469E-A884-D1D91345578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D4E4-C2DB-403B-AA16-63414E40B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F566-63F5-4AC7-B476-76E6C956D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8.xml"/><Relationship Id="rId13" Type="http://schemas.openxmlformats.org/officeDocument/2006/relationships/slide" Target="slide28.xml"/><Relationship Id="rId14" Type="http://schemas.openxmlformats.org/officeDocument/2006/relationships/slide" Target="slide28.xml"/><Relationship Id="rId15" Type="http://schemas.openxmlformats.org/officeDocument/2006/relationships/slide" Target="slide28.xml"/><Relationship Id="rId16" Type="http://schemas.openxmlformats.org/officeDocument/2006/relationships/slide" Target="slide28.xml"/><Relationship Id="rId17" Type="http://schemas.openxmlformats.org/officeDocument/2006/relationships/slide" Target="slide28.xml"/><Relationship Id="rId18" Type="http://schemas.openxmlformats.org/officeDocument/2006/relationships/slide" Target="slide28.xml"/><Relationship Id="rId19" Type="http://schemas.openxmlformats.org/officeDocument/2006/relationships/slide" Target="slide28.xml"/><Relationship Id="rId20" Type="http://schemas.openxmlformats.org/officeDocument/2006/relationships/slide" Target="slide28.xml"/><Relationship Id="rId21" Type="http://schemas.openxmlformats.org/officeDocument/2006/relationships/slide" Target="slide28.xml"/><Relationship Id="rId22" Type="http://schemas.openxmlformats.org/officeDocument/2006/relationships/slide" Target="slide28.xml"/><Relationship Id="rId23" Type="http://schemas.openxmlformats.org/officeDocument/2006/relationships/slide" Target="slide29.xml"/><Relationship Id="rId24" Type="http://schemas.openxmlformats.org/officeDocument/2006/relationships/image" Target="../media/image42.jpeg"/><Relationship Id="rId2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" Target="slide20.xml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" Target="slide20.xml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" Target="slide20.xml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" Target="slide20.xml"/><Relationship Id="rId5" Type="http://schemas.openxmlformats.org/officeDocument/2006/relationships/image" Target="../media/image46.gif"/><Relationship Id="rId6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" Target="slide20.xml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9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7801;&#30000;&#23665;&#23621;/&#23665;&#23621;2.swf" TargetMode="External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" Target="slide9.xml"/><Relationship Id="rId6" Type="http://schemas.openxmlformats.org/officeDocument/2006/relationships/image" Target="../media/image37.gif"/><Relationship Id="rId7" Type="http://schemas.openxmlformats.org/officeDocument/2006/relationships/slide" Target="slide9.xml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7" descr="图片1.jpg"/>
          <p:cNvPicPr/>
          <p:nvPr/>
        </p:nvPicPr>
        <p:blipFill>
          <a:blip r:embed="rId2"/>
          <a:stretch/>
        </p:blipFill>
        <p:spPr>
          <a:xfrm>
            <a:off x="-101520" y="-20520"/>
            <a:ext cx="9264600" cy="7032600"/>
          </a:xfrm>
          <a:prstGeom prst="rect">
            <a:avLst/>
          </a:prstGeom>
          <a:ln w="0">
            <a:noFill/>
          </a:ln>
        </p:spPr>
      </p:pic>
      <p:pic>
        <p:nvPicPr>
          <p:cNvPr id="533" name="矩形 5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7489800" cy="2952720"/>
          </a:xfrm>
          <a:prstGeom prst="rect">
            <a:avLst/>
          </a:prstGeom>
          <a:ln w="0">
            <a:noFill/>
          </a:ln>
        </p:spPr>
      </p:pic>
      <p:pic>
        <p:nvPicPr>
          <p:cNvPr id="534" name="TextBox 6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3986280" cy="13352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08000" y="6021360"/>
            <a:ext cx="4032360" cy="474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华文新魏"/>
              </a:rPr>
              <a:t>授课小组：第一大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716360" y="6165720"/>
            <a:ext cx="4248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琥珀"/>
              </a:rPr>
              <a:t>制作者</a:t>
            </a:r>
            <a:r>
              <a:rPr b="0" lang="en-US" sz="1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琥珀"/>
              </a:rPr>
              <a:t>:</a:t>
            </a:r>
            <a:r>
              <a:rPr b="0" lang="zh-CN" sz="1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琥珀"/>
              </a:rPr>
              <a:t>汕头市聿怀中学高一（</a:t>
            </a:r>
            <a:r>
              <a:rPr b="0" lang="en-US" sz="1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琥珀"/>
              </a:rPr>
              <a:t>2</a:t>
            </a:r>
            <a:r>
              <a:rPr b="0" lang="zh-CN" sz="1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琥珀"/>
              </a:rPr>
              <a:t>）班 翁庆欢</a:t>
            </a:r>
            <a:endParaRPr b="0" lang="en-US" sz="1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琥珀"/>
              <a:ea typeface="华文琥珀"/>
            </a:endParaRPr>
          </a:p>
        </p:txBody>
      </p:sp>
    </p:spTree>
  </p:cSld>
  <p:transition spd="med" advTm="1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800"/>
                            </p:stCondLst>
                            <p:childTnLst>
                              <p:par>
                                <p:cTn id="23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8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800"/>
                            </p:stCondLst>
                            <p:childTnLst>
                              <p:par>
                                <p:cTn id="3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-233280" y="-7920"/>
            <a:ext cx="75405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镜的不是人，是神。海与山绸缪在一起，分不出，是海侵入了山间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还是山诱俘了海水，只见海把山围成了一角角的半岛，山呢，把海围成了一汪汪的海湾。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色如环，困不住浩渺的南海，毕竟在东北方缺了一口，放樯桅出去，风帆进来。最是晴艳的下午，八仙岭下，一艘白色渡轮，迎着酣美的斜阳悠悠向大埔驶去，整个吐露港平铺着千顷的碧蓝，就为了反衬那一影耀眼的洁白。</a:t>
            </a:r>
            <a:r>
              <a:rPr b="0" lang="zh-CN" sz="3000" spc="-1" strike="noStrike">
                <a:solidFill>
                  <a:srgbClr val="008000"/>
                </a:solidFill>
                <a:latin typeface="华文新魏"/>
                <a:ea typeface="华文新魏"/>
              </a:rPr>
              <a:t>起风的日子，海吹成了千亩蓝田，无数的百合此开彼落。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到了夜深，所有的山影黑沉沉都睡去，远远近近，零零落落的灯全睡去，只留下一阵阵的潮声起伏，永恒的鼾息，撼人的节奏摇动我的心潮。有时十几盏渔火赫然，浮现在黢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3"/>
          <p:cNvSpPr/>
          <p:nvPr/>
        </p:nvSpPr>
        <p:spPr>
          <a:xfrm>
            <a:off x="7215120" y="117360"/>
            <a:ext cx="0" cy="6669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7345440" y="520560"/>
            <a:ext cx="17272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Q2:"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起风的日子，海吹成了千亩蓝田，无数的百合此  开彼落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运用了什么手法？请大家分析其表达效果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-17640" y="117360"/>
            <a:ext cx="739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海面，排成一弯弧形，把渔网愈收愈小，围成一丛灿灿的金莲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围着山，山围着我。沙田山居，峰回路转，我的朝朝暮暮，日起日落，月望月朔，全在此中度过，我成了山人。问余何事栖碧山，笑而不答，山已经代我答了。</a:t>
            </a:r>
            <a:r>
              <a:rPr b="0" lang="zh-CN" sz="3000" spc="-1" strike="noStrike">
                <a:solidFill>
                  <a:srgbClr val="ff9900"/>
                </a:solidFill>
                <a:latin typeface="华文新魏"/>
                <a:ea typeface="华文新魏"/>
              </a:rPr>
              <a:t>其实山并未回答，是鸟代山答了，是虫，是松风代山答了。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是禅机深藏的高僧，轻易不开口的。人在楼上倚栏杆，山列坐在四面如十八尊罗汉叠罗汉，相看两不厌。早晨，我攀上佛头去看日出，黄昏，从联合书院的文学院一路走回来，家，在半山腰上等我，那地势，比佛肩要低，却比佛肚子要高些。这时，山什么也不说，只是争噪的鸟雀泄露了他愉悦的心境。等到众鸟栖定，山影茫然，天籁便低沉下去，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524720" y="117360"/>
            <a:ext cx="0" cy="6669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6586560" y="-6480"/>
            <a:ext cx="3025800" cy="69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Q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“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其实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并未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答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鸟代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答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是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是松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代山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运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什么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法？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大家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析其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达效果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-384120" y="189000"/>
            <a:ext cx="7974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断若续，树间的歌者才歇下，草间的吟哦又四起。至于山坳下面那小小的幽谷，形式和地位都相当于佛的肚脐，深凹之中别有一番情趣。山谷是一个爱音乐的村女，最喜欢学舌拟声，可惜太害羞，技巧不很高明。无论是鸡鸣犬吠，或是火车在谷口扬笛路过，她都要学叫一声，落后半拍，应人的尾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我的楼上望出去，马鞍山奇拔而峭峻，屏于东方，使朝暾姗姗来迟。鹿山巍然而逼近，魁梧的肩膂遮去了半壁西天，催黄昏早半小时来临，一个分神，夕阳便落进他的僧袖里去了。一炉晚霞，黄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3"/>
          <p:cNvSpPr/>
          <p:nvPr/>
        </p:nvSpPr>
        <p:spPr>
          <a:xfrm>
            <a:off x="7451640" y="117360"/>
            <a:ext cx="0" cy="6669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7345440" y="117360"/>
            <a:ext cx="176364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Q4: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全文不着一字乡愁，却多处是乡愁，试举例分析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温馨提示：作者的乡愁在本文是含蓄而蕴藉的。主要体现在写景物当中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-312840" y="31680"/>
            <a:ext cx="75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烧成赤金又化作紫灰与青烟，壮哉崦嵫的神话，太阳的葬礼。阳台上，坐看晚景变幻成夜色，似乎很缓慢，又似乎非常敏捷，才觉霞光烘颊，余曛在树，忽然变生咫尺，眈眈的黑影已伸及你的肘腋，夜，早从你背后</a:t>
            </a:r>
            <a:r>
              <a:rPr b="0" lang="zh-CN" sz="31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袭</a:t>
            </a: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。那过程，是一种绝妙的障眼法，非眼睫所能守望的。等到夜色四合，黑暗已成定局，四围的山影，重甸甸阴森森的，令人肃然而恐。尤其是西屏的鹿山，白天还如佛如僧，蔼然可亲，这时竟收起法相，庞然而踞，黑毛茸蒙如一尊暗中伺人的怪兽，隐然，有一种潜伏的不安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山磅礴的来势如压，谁敢相撼</a:t>
            </a:r>
            <a:r>
              <a:rPr b="0" lang="en-US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7020000" y="142920"/>
            <a:ext cx="0" cy="66708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93080" y="422280"/>
            <a:ext cx="2089080" cy="2531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Q5</a:t>
            </a:r>
            <a:r>
              <a:rPr b="0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：“夜，早从你背后</a:t>
            </a:r>
            <a:r>
              <a:rPr b="0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袭</a:t>
            </a:r>
            <a:r>
              <a:rPr b="0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来。”本句子中用了一个</a:t>
            </a:r>
            <a:r>
              <a:rPr b="0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“袭”</a:t>
            </a:r>
            <a:r>
              <a:rPr b="0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字，试说说用法好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3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-279720" y="140760"/>
            <a:ext cx="765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云烟一起，庄重的山态便改了。雾来的日子，山变成一座座的列屿，在白烟的横波回澜里，载浮载沉。八仙岭果真化作了过海的八仙，时在波上，时在弥漫的云间。有一天早晨，举目一望，八仙、马鞍和远远近近的大小众峰，全不见了，偶尔云开一线，当头的鹿山似从天隙中隐隐相窥，去大埔的车辆出没在半空。我的阳台脱离了一切，下临无地，在汹涌的白涛上自由来去。谷中的鸡犬从云下传来，从夐远的人间。我走去更高处的联合书院上课，满地白云，师生衣袂飘然，都成了神仙。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登上讲坛说道，烟云都穿窗探首来旁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起风的日子，一切云云雾雾的朦胧氤氲全被拭净，水光山色，纤毫悉在镜里。原来对岸的八仙岭下，历历可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7378560" y="117360"/>
            <a:ext cx="1800" cy="6669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54880" y="549360"/>
            <a:ext cx="1690560" cy="2226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Q6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：品析“我登上讲坛说道，烟云都穿窗探首来旁听。”说明这段文字运用了什么手法，并请指出它的表达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-297000" y="103320"/>
            <a:ext cx="724536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3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着许多山村野店，水浒人家。半岛的天气一日数变，风骤然而来，从海口长驱直入，脚下的山谷顿成风箱，抽不尽满壑的咆哮翻腾。蹂躏着罗汉松与芦草，掀翻海水，吐着白浪，风是一群透明的野兽，奔踹而来，呼啸而去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潮与风声，即使撼天震地，也不过为无边的静加注荒情与野趣罢了。最令人心动而神往的，却是人为的噪音。从清早到午夜，一天四十多班，在山和海之间，敲轨而来，鸣笛而去的，是九广铁路的客车、货车、猪车。曳着黑烟的飘发，蟠蜿着十三节车厢的修长之躯，这些工业时代的元老级交通工具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3"/>
          <p:cNvSpPr/>
          <p:nvPr/>
        </p:nvSpPr>
        <p:spPr>
          <a:xfrm>
            <a:off x="7021440" y="117360"/>
            <a:ext cx="0" cy="6669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093080" y="117360"/>
            <a:ext cx="1944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Q7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：作者既然花了大量笔墨描写山居环境的优美，那么这是不是最令作者心动向往的？如果不是。那么，最令作者心动向往的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4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4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-230400" y="117360"/>
            <a:ext cx="69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仍有旧世界迷人的情调，非协和的超音速飞机所能比拟。山下的铁轨向北延伸，延伸着我的心弦。我的中枢神经，一日四十多次，任南下又北上的千只铁轮轮番敲打，用钢铁火花的壮烈节奏，提醒我，藏在谷底的并不是洞里桃源，住在山上，我亦非桓景，即使王粲，也不能不下楼去：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</a:t>
            </a: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栏杆三面压人眉睫是青山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</a:t>
            </a: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碧螺黛迤逦的边愁欲连环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叠嶂之后是重峦，一层淡似一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湘云之后是楚烟，山长水远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五千载与八万万，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 </a:t>
            </a:r>
            <a:r>
              <a:rPr b="0" lang="zh-CN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全在那里面</a:t>
            </a:r>
            <a:r>
              <a:rPr b="0" lang="en-US" sz="3100" spc="-1" strike="noStrike">
                <a:solidFill>
                  <a:srgbClr val="006600"/>
                </a:solidFill>
                <a:latin typeface="华文新魏"/>
                <a:ea typeface="华文新魏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3"/>
          <p:cNvSpPr/>
          <p:nvPr/>
        </p:nvSpPr>
        <p:spPr>
          <a:xfrm>
            <a:off x="6661080" y="71280"/>
            <a:ext cx="1800" cy="6669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661080" y="117360"/>
            <a:ext cx="2449440" cy="3506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Q8: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文章结尾的诗句“栏杆三面压人眉睫是青山</a:t>
            </a: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碧螺黛迤逦的边愁欲连环</a:t>
            </a: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叠嶂之后是重峦，一层淡似一层</a:t>
            </a: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湘云之后是楚烟，山长水远</a:t>
            </a: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五千载与八万万，全在那里面</a:t>
            </a: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/……”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在全文中有什么作用？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38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610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400"/>
                            </p:stCondLst>
                            <p:childTnLst>
                              <p:par>
                                <p:cTn id="3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70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28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4500"/>
                            </p:stCondLst>
                            <p:childTnLst>
                              <p:par>
                                <p:cTn id="3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6200"/>
                            </p:stCondLst>
                            <p:childTnLst>
                              <p:par>
                                <p:cTn id="4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3 拷贝" descr=""/>
          <p:cNvPicPr/>
          <p:nvPr/>
        </p:nvPicPr>
        <p:blipFill>
          <a:blip r:embed="rId1"/>
          <a:stretch/>
        </p:blipFill>
        <p:spPr>
          <a:xfrm>
            <a:off x="-111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042920" y="1644480"/>
            <a:ext cx="12956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绸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浩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渺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肚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氤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蹂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迤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肘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557360"/>
            <a:ext cx="1295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蟠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脸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1600200"/>
            <a:ext cx="2133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óum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ùq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īny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óul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ǐl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zhǒuy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4880" y="1484280"/>
            <a:ext cx="2157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ánw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h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132000" y="333360"/>
            <a:ext cx="32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舒体"/>
              </a:rPr>
              <a:t>生字词理解</a:t>
            </a:r>
            <a:endParaRPr b="0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11480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图片3 拷贝" descr=""/>
          <p:cNvPicPr/>
          <p:nvPr/>
        </p:nvPicPr>
        <p:blipFill>
          <a:blip r:embed="rId1"/>
          <a:stretch/>
        </p:blipFill>
        <p:spPr>
          <a:xfrm>
            <a:off x="-111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58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渺渺：远望的样子。    阒黑：寂静而黑暗。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浩淼：形容水面辽阔。  夐远：远而辽阔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绸缪：缠绵。       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氤氲：形容烟或云气很盛。 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蹂躏：践踏，比喻用暴力欺压、侮辱、侵害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132000" y="333360"/>
            <a:ext cx="30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姚体"/>
              </a:rPr>
              <a:t>词义解释</a:t>
            </a:r>
            <a:endParaRPr b="0" lang="en-US" sz="40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</p:spTree>
  </p:cSld>
  <p:transition spd="med"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400"/>
                            </p:stCondLst>
                            <p:childTnLst>
                              <p:par>
                                <p:cTn id="5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700"/>
                            </p:stCondLst>
                            <p:childTnLst>
                              <p:par>
                                <p:cTn id="6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979640" y="333360"/>
            <a:ext cx="50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99215"/>
                      </a:srgbClr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华文彩云"/>
              </a:rPr>
              <a:t>美句欣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>
                      <a:alpha val="99215"/>
                    </a:srgbClr>
                  </a:gs>
                  <a:gs pos="100000">
                    <a:srgbClr val="a603ab"/>
                  </a:gs>
                </a:gsLst>
                <a:lin ang="10800000"/>
              </a:gradFill>
              <a:latin typeface="华文彩云"/>
              <a:ea typeface="华文彩云"/>
            </a:endParaRPr>
          </a:p>
        </p:txBody>
      </p:sp>
      <p:sp>
        <p:nvSpPr>
          <p:cNvPr id="621" name=""/>
          <p:cNvSpPr/>
          <p:nvPr/>
        </p:nvSpPr>
        <p:spPr>
          <a:xfrm>
            <a:off x="858960" y="1179360"/>
            <a:ext cx="7602480" cy="365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14440" y="1450800"/>
            <a:ext cx="4021200" cy="365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108000" y="1625760"/>
            <a:ext cx="900108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1" action="ppaction://hlinksldjump"/>
              </a:rPr>
              <a:t>Q1: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2" action="ppaction://hlinksldjump"/>
              </a:rPr>
              <a:t>品析“十八个月，也就是说，重九的陶菊  已经两开，中秋的苏月已经圆过两次了。”这句话表达了作者怎样的思想情感 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-27000" y="3059280"/>
            <a:ext cx="8810640" cy="57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3" action="ppaction://hlinksldjump"/>
              </a:rPr>
              <a:t>Q2:"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4" action="ppaction://hlinksldjump"/>
              </a:rPr>
              <a:t>起风的日子，海吹成了千亩蓝田，无数的百合此  开彼落。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5" action="ppaction://hlinksldjump"/>
              </a:rPr>
              <a:t>"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6" action="ppaction://hlinksldjump"/>
              </a:rPr>
              <a:t>运用了什么手法？请大家分析其表达效果。</a:t>
            </a:r>
            <a:r>
              <a:rPr b="1" lang="zh-CN" sz="2800" spc="-1" strike="noStrike">
                <a:solidFill>
                  <a:srgbClr val="009999"/>
                </a:solidFill>
                <a:latin typeface="华文彩云"/>
                <a:ea typeface="华文彩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8000" y="4005360"/>
            <a:ext cx="9001080" cy="106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7" action="ppaction://hlinksldjump"/>
              </a:rPr>
              <a:t>Q3:“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8" action="ppaction://hlinksldjump"/>
              </a:rPr>
              <a:t>其实山并未回答，是鸟代山答了，是虫，是松      风代山答了。”运用了什么手法？请大家分析其表达效果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9280" y="5372280"/>
            <a:ext cx="9072720" cy="106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9" action="ppaction://hlinksldjump"/>
              </a:rPr>
              <a:t>Q4: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10" action="ppaction://hlinksldjump"/>
              </a:rPr>
              <a:t>全文不着一字乡愁，却多处是乡愁，试举例分析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11" action="ppaction://hlinksldjump"/>
              </a:rPr>
              <a:t>(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12" action="ppaction://hlinksldjump"/>
              </a:rPr>
              <a:t>温馨提示：作者的乡愁在本文是含蓄而蕴藉的。主要体现在写景物当中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160"/>
                            </p:stCondLst>
                            <p:childTnLst>
                              <p:par>
                                <p:cTn id="62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160"/>
                            </p:stCondLst>
                            <p:childTnLst>
                              <p:par>
                                <p:cTn id="632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547640" y="18900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课文讲解大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2843280" y="2565360"/>
            <a:ext cx="25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-87480" y="4149720"/>
            <a:ext cx="6313320" cy="2107080"/>
            <a:chOff x="-87480" y="4149720"/>
            <a:chExt cx="6313320" cy="2107080"/>
          </a:xfrm>
        </p:grpSpPr>
        <p:sp>
          <p:nvSpPr>
            <p:cNvPr id="540" name="Text Box 5"/>
            <p:cNvSpPr/>
            <p:nvPr/>
          </p:nvSpPr>
          <p:spPr>
            <a:xfrm>
              <a:off x="-87480" y="4925880"/>
              <a:ext cx="251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2.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6"/>
            <p:cNvSpPr/>
            <p:nvPr/>
          </p:nvSpPr>
          <p:spPr>
            <a:xfrm>
              <a:off x="2064240" y="4294080"/>
              <a:ext cx="503280" cy="1800360"/>
            </a:xfrm>
            <a:custGeom>
              <a:avLst/>
              <a:gdLst>
                <a:gd name="textAreaLeft" fmla="*/ 321480 w 503280"/>
                <a:gd name="textAreaRight" fmla="*/ 503640 w 5032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2566080" y="4149720"/>
              <a:ext cx="365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1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熟悉课文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整体把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8"/>
            <p:cNvSpPr/>
            <p:nvPr/>
          </p:nvSpPr>
          <p:spPr>
            <a:xfrm>
              <a:off x="2564640" y="4684680"/>
              <a:ext cx="3588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2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难词扫障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3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探索研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4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理解领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211640" y="2637000"/>
            <a:ext cx="4824360" cy="1655640"/>
            <a:chOff x="4211640" y="2637000"/>
            <a:chExt cx="4824360" cy="1655640"/>
          </a:xfrm>
        </p:grpSpPr>
        <p:sp>
          <p:nvSpPr>
            <p:cNvPr id="545" name="AutoShape 10"/>
            <p:cNvSpPr/>
            <p:nvPr/>
          </p:nvSpPr>
          <p:spPr>
            <a:xfrm>
              <a:off x="6370560" y="2781360"/>
              <a:ext cx="505080" cy="1511280"/>
            </a:xfrm>
            <a:custGeom>
              <a:avLst/>
              <a:gdLst>
                <a:gd name="textAreaLeft" fmla="*/ 322920 w 505080"/>
                <a:gd name="textAreaRight" fmla="*/ 505440 w 505080"/>
                <a:gd name="textAreaTop" fmla="*/ 42120 h 1511280"/>
                <a:gd name="textAreaBottom" fmla="*/ 146916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5"/>
                    <a:pt x="10800" y="1929"/>
                  </a:cubicBezTo>
                  <a:lnTo>
                    <a:pt x="10800" y="8871"/>
                  </a:lnTo>
                  <a:cubicBezTo>
                    <a:pt x="10800" y="9836"/>
                    <a:pt x="5400" y="10800"/>
                    <a:pt x="0" y="10800"/>
                  </a:cubicBezTo>
                  <a:cubicBezTo>
                    <a:pt x="5400" y="10800"/>
                    <a:pt x="10800" y="11765"/>
                    <a:pt x="10800" y="12729"/>
                  </a:cubicBezTo>
                  <a:lnTo>
                    <a:pt x="10800" y="19671"/>
                  </a:lnTo>
                  <a:cubicBezTo>
                    <a:pt x="10800" y="206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1"/>
            <p:cNvSpPr/>
            <p:nvPr/>
          </p:nvSpPr>
          <p:spPr>
            <a:xfrm>
              <a:off x="4211640" y="32529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3.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总结扩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2"/>
            <p:cNvSpPr/>
            <p:nvPr/>
          </p:nvSpPr>
          <p:spPr>
            <a:xfrm>
              <a:off x="6804000" y="2637000"/>
              <a:ext cx="2232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1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全文中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2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方法领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3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理解领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 Box 13"/>
          <p:cNvSpPr/>
          <p:nvPr/>
        </p:nvSpPr>
        <p:spPr>
          <a:xfrm>
            <a:off x="2843280" y="2565360"/>
            <a:ext cx="25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-231840" y="907920"/>
            <a:ext cx="6316200" cy="2242800"/>
            <a:chOff x="-231840" y="907920"/>
            <a:chExt cx="6316200" cy="2242800"/>
          </a:xfrm>
        </p:grpSpPr>
        <p:sp>
          <p:nvSpPr>
            <p:cNvPr id="550" name="Text Box 15"/>
            <p:cNvSpPr/>
            <p:nvPr/>
          </p:nvSpPr>
          <p:spPr>
            <a:xfrm>
              <a:off x="-231840" y="1711800"/>
              <a:ext cx="27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1.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背景代入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6"/>
            <p:cNvSpPr/>
            <p:nvPr/>
          </p:nvSpPr>
          <p:spPr>
            <a:xfrm>
              <a:off x="2191680" y="1131120"/>
              <a:ext cx="515160" cy="1860480"/>
            </a:xfrm>
            <a:custGeom>
              <a:avLst/>
              <a:gdLst>
                <a:gd name="textAreaLeft" fmla="*/ 329040 w 515160"/>
                <a:gd name="textAreaRight" fmla="*/ 515520 w 515160"/>
                <a:gd name="textAreaTop" fmla="*/ 48240 h 1860480"/>
                <a:gd name="textAreaBottom" fmla="*/ 1812240 h 18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2705040" y="1429560"/>
              <a:ext cx="3379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2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山居介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3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山居图片欣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4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山居视频欣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8"/>
            <p:cNvSpPr/>
            <p:nvPr/>
          </p:nvSpPr>
          <p:spPr>
            <a:xfrm>
              <a:off x="2705040" y="907920"/>
              <a:ext cx="31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1)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作者简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9"/>
            <p:cNvSpPr/>
            <p:nvPr/>
          </p:nvSpPr>
          <p:spPr>
            <a:xfrm>
              <a:off x="2925360" y="2694600"/>
              <a:ext cx="25714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4920" y="1638360"/>
            <a:ext cx="90741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" action="ppaction://hlinksldjump"/>
              </a:rPr>
              <a:t>Q5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2" action="ppaction://hlinksldjump"/>
              </a:rPr>
              <a:t>：“夜，早从你背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3" action="ppaction://hlinksldjump"/>
              </a:rPr>
              <a:t>袭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4" action="ppaction://hlinksldjump"/>
              </a:rPr>
              <a:t>来。”本句子中用了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5" action="ppaction://hlinksldjump"/>
              </a:rPr>
              <a:t>“袭”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6" action="ppaction://hlinksldjump"/>
              </a:rPr>
              <a:t>字，试说说用法好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7" action="ppaction://hlinksldjump"/>
              </a:rPr>
              <a:t>Q6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8" action="ppaction://hlinksldjump"/>
              </a:rPr>
              <a:t>：品析“我登上讲坛说道，烟云都穿窗探首来旁听。”说明这段文字运用了什么手法，并请指出它的表达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9" action="ppaction://hlinksldjump"/>
              </a:rPr>
              <a:t>Q7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0" action="ppaction://hlinksldjump"/>
              </a:rPr>
              <a:t>：作者既然花了大量笔墨描写山居环境的优美，那么这是不是最令作者心动向往的？如果不是。那么，最令作者心动向往的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1" action="ppaction://hlinksldjump"/>
              </a:rPr>
              <a:t>Q8: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2" action="ppaction://hlinksldjump"/>
              </a:rPr>
              <a:t>文章结尾的诗句“栏杆三面压人眉睫是青山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3" action="ppaction://hlinksldjump"/>
              </a:rPr>
              <a:t>/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4" action="ppaction://hlinksldjump"/>
              </a:rPr>
              <a:t>碧螺黛迤逦的边愁欲连环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5" action="ppaction://hlinksldjump"/>
              </a:rPr>
              <a:t>/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6" action="ppaction://hlinksldjump"/>
              </a:rPr>
              <a:t>叠嶂之后是重峦，一层淡似一层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7" action="ppaction://hlinksldjump"/>
              </a:rPr>
              <a:t>/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8" action="ppaction://hlinksldjump"/>
              </a:rPr>
              <a:t>湘云之后是楚烟，山长水远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19" action="ppaction://hlinksldjump"/>
              </a:rPr>
              <a:t>/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20" action="ppaction://hlinksldjump"/>
              </a:rPr>
              <a:t>五千载与八万万，全在那里面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21" action="ppaction://hlinksldjump"/>
              </a:rPr>
              <a:t>/……”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琥珀"/>
                <a:ea typeface="华文琥珀"/>
                <a:hlinkClick r:id="rId22" action="ppaction://hlinksldjump"/>
              </a:rPr>
              <a:t>在全文中有什么作用？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050920" y="333360"/>
            <a:ext cx="50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99215"/>
                      </a:srgbClr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华文琥珀"/>
              </a:rPr>
              <a:t>美句欣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>
                      <a:alpha val="99215"/>
                    </a:srgbClr>
                  </a:gs>
                  <a:gs pos="100000">
                    <a:srgbClr val="a603ab"/>
                  </a:gs>
                </a:gsLst>
                <a:lin ang="10800000"/>
              </a:gradFill>
              <a:latin typeface="华文琥珀"/>
              <a:ea typeface="华文琥珀"/>
            </a:endParaRPr>
          </a:p>
        </p:txBody>
      </p:sp>
      <p:pic>
        <p:nvPicPr>
          <p:cNvPr id="630" name="41abbb8aba2a25679f2fb4a4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164360" y="333360"/>
            <a:ext cx="1332000" cy="99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60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600"/>
                            </p:stCondLst>
                            <p:childTnLst>
                              <p:par>
                                <p:cTn id="6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8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Q1: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品析“十八个月，也就是说，重九的陶菊  已经两开，中秋的苏月已经圆过两次了。”这句话表达了作者怎样的思想情感 ？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719440"/>
            <a:ext cx="7702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Book Antiqua"/>
              </a:rPr>
              <a:t>疑难解析：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这一句是明写。选择重阳节与中秋节、菊和月，这是最坦白的乡愁的寄托。至于写陶渊明和苏轼两位文豪，则是侧写，通过写其人，实际是写其作，抒发了作者对中国大陆文化的眷恋与追求！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3" name="009b9e102400e814203f2e2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97800" y="5445000"/>
            <a:ext cx="863640" cy="911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48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Q2:"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风的日子，海吹成了千亩蓝田，无数的百合此开彼落。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运用了什么手法？请大家分析其表达效果。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2431800"/>
            <a:ext cx="7270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Book Antiqua"/>
              </a:rPr>
              <a:t>疑难解析：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这句话运用了比喻（暗喻和借喻）的修辞手法，形象地表现出海风吹拂下的大海蔚蓝宽阔，浪花此起彼伏的壮观景象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6" name="009b9e102400e814203f2e2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97800" y="5661000"/>
            <a:ext cx="863640" cy="911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2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Q3:“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其实山并未回答，是鸟代山答了，是虫，是松风代山答了。”运用了什么手法？请大家分析其表达效果。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631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Book Antiqua"/>
              </a:rPr>
              <a:t>疑难解析：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这句话运用了拟人的修辞手法，生动地表现出大山的静谧和“鸟鸣山更幽”的意境。 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9" name="4a933c2e94d14a454ec2262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5445000"/>
            <a:ext cx="1149480" cy="1149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Q4: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文不着一字乡愁，却多处是乡愁，试举例分析一下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温馨提示：作者的乡愁在本文是含蓄而蕴藉的。主要体现在写景物当中。）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2200" y="2276280"/>
            <a:ext cx="7775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Book Antiqua"/>
              </a:rPr>
              <a:t>疑难解析：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如：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个月，也就是说，重九的陶 菊已经两开，中秋的苏月已经圆过两次。”这句中，写菊和月，是最坦白的明写，寄托乡愁，写陶渊明和苏轼是侧写，通过写其人来写其作。抒发了作者对大陆文化 的向往和追求。“山色如环，困不住浩淼的南海，毕竟在东北方缺了一口。”这一口正是诗人瞭望大陆的镜头，是乡愁之潮的出海口。 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42" name="4a933c2e94d14a454ec2262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5661000"/>
            <a:ext cx="1149480" cy="1149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7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2" dur="2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Q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“夜，早从你背后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袭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。”本句子中用了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袭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字，试说说用法好在哪里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486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Book Antiqua"/>
              </a:rPr>
              <a:t>疑难解析：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本句中中的一个“袭”字，充分运用了拟人的修辞手法，生动形象地写出了夜幕降临的突兀感，读出了作者的意外与感慨之情，又能使读者产生丰富的联想！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45" name="d4075e7e0e9e1d2c0cd7da2c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589720"/>
            <a:ext cx="768240" cy="76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Q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品析“我登上讲坛说道，烟云都穿窗探首来旁听。”说明这段文字运用了什么手法，并请指出它的表达效果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6200" y="1927080"/>
            <a:ext cx="7991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Book Antiqua"/>
              </a:rPr>
              <a:t>疑难解析：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这里是拟人修辞手法的使用，生动地赋予了烟云以生命，极言山势之高峻。我们可以看到，拟人让景物都有了灵性，给人以丰富的想象与美感。作者完全把笔下的景物当作有情感的人来写，表现它的喜、怒、哀、乐，我们仿佛感受到了作者那份人与自然对话的真诚，那份喜悦，那份欣赏，那份赞美，那份依恋，所有景物都脉脉含情，充满了诱惑，难怪作者深入其中，尽情享受。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48" name="d4075e7e0e9e1d2c0cd7da2c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85080" y="5805360"/>
            <a:ext cx="768240" cy="768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Q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作者既然花了大量笔墨描写山居环境的优美，那么这是不是最令作者心动向往的？如果不是。那么，最令作者心动向往的是什么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846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Book Antiqua"/>
              </a:rPr>
              <a:t>疑难解析：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这个问题很简单，“最令人心动而神往的，却是人为的骚音。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（“人为的骚音”是九广铁路的客车，货车，猪车，等隆隆的声音，声音杂乱，但发声的火车或来自大陆故乡或开往大陆故乡，对远离家乡的游子而言那声音是故乡的呼唤啊，因此作者说“最令人心动而神往的，却是人为的骚音。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1" name="62393a2a982a4c8f033bf62c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88080" y="5654520"/>
            <a:ext cx="1160640" cy="115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Q8: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章结尾的诗句“栏杆三面压人眉睫是青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碧螺黛迤逦的边愁欲连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叠嶂之后是重峦，一层淡似一层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湘云之后是楚烟，山长水远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千载与八万万，全在那里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/……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全文中有什么作用？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440" y="2647800"/>
            <a:ext cx="7559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Book Antiqua"/>
              </a:rPr>
              <a:t>疑难解析：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王粲的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登楼赋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抒发了他去国怀乡，乱离飘零的惆怅与渴望建功立业的抱负。以这样一首诗收尾，照应开头，使含蓄在整篇文章中的思想感情明朗化，令读者回味全文，与作者产生感情共鸣。让我们明白这是作者因久留客地，在抒发那割不断的故国之情啊！ 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4" name="62393a2a982a4c8f033bf62c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67640" y="5518080"/>
            <a:ext cx="1225440" cy="1222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77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9" dur="77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1" dur="77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图片5 拷贝" descr=""/>
          <p:cNvPicPr/>
          <p:nvPr/>
        </p:nvPicPr>
        <p:blipFill>
          <a:blip r:embed="rId1"/>
          <a:stretch/>
        </p:blipFill>
        <p:spPr>
          <a:xfrm>
            <a:off x="0" y="5057640"/>
            <a:ext cx="9172440" cy="1800360"/>
          </a:xfrm>
          <a:prstGeom prst="rect">
            <a:avLst/>
          </a:prstGeom>
          <a:ln w="0">
            <a:noFill/>
          </a:ln>
        </p:spPr>
      </p:pic>
      <p:pic>
        <p:nvPicPr>
          <p:cNvPr id="656" name="云彩" descr=""/>
          <p:cNvPicPr/>
          <p:nvPr/>
        </p:nvPicPr>
        <p:blipFill>
          <a:blip r:embed="rId2"/>
          <a:stretch/>
        </p:blipFill>
        <p:spPr>
          <a:xfrm>
            <a:off x="0" y="3473280"/>
            <a:ext cx="9396360" cy="3384720"/>
          </a:xfrm>
          <a:prstGeom prst="rect">
            <a:avLst/>
          </a:prstGeom>
          <a:ln w="0">
            <a:noFill/>
          </a:ln>
        </p:spPr>
      </p:pic>
      <p:pic>
        <p:nvPicPr>
          <p:cNvPr id="657" name="图片2" descr=""/>
          <p:cNvPicPr/>
          <p:nvPr/>
        </p:nvPicPr>
        <p:blipFill>
          <a:blip r:embed="rId3"/>
          <a:stretch/>
        </p:blipFill>
        <p:spPr>
          <a:xfrm>
            <a:off x="0" y="0"/>
            <a:ext cx="9750600" cy="71294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828720" y="189000"/>
            <a:ext cx="5349960" cy="5697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整体感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请根据根据课文内容，概括每自然段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第一自然段：　　　　　　        第二自然段：　　　　　　　　　　　　第三自然段：　　　　　　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第四自然段：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第五自然段：　　　　　　　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第六自然段：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第七自然段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4200" y="2133720"/>
            <a:ext cx="3963960" cy="4753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山居概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　　　　　　　        　　　　　　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山居幻景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雾中仙姿　　　　　　　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风中秀色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华文彩云"/>
                <a:ea typeface="华文彩云"/>
              </a:rPr>
              <a:t>人为骚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24360" y="3179880"/>
            <a:ext cx="201600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彩云"/>
              </a:rPr>
              <a:t>山中奇景　　　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78200" y="2637000"/>
            <a:ext cx="237816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彩云"/>
              </a:rPr>
              <a:t>海天相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内容占位符 3" descr="c710382c6c36c823349bf71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yugzhcy2-jjt10"/>
          <p:cNvPicPr/>
          <p:nvPr/>
        </p:nvPicPr>
        <p:blipFill>
          <a:blip r:embed="rId3"/>
          <a:stretch/>
        </p:blipFill>
        <p:spPr>
          <a:xfrm>
            <a:off x="152280" y="1214280"/>
            <a:ext cx="3276720" cy="49532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4" descr="AE7BEBFF62E91193.jpg"/>
          <p:cNvPicPr/>
          <p:nvPr/>
        </p:nvPicPr>
        <p:blipFill>
          <a:blip r:embed="rId4"/>
          <a:stretch/>
        </p:blipFill>
        <p:spPr>
          <a:xfrm>
            <a:off x="147600" y="1214280"/>
            <a:ext cx="3781440" cy="4929480"/>
          </a:xfrm>
          <a:prstGeom prst="rect">
            <a:avLst/>
          </a:prstGeom>
          <a:ln w="0">
            <a:noFill/>
          </a:ln>
        </p:spPr>
      </p:pic>
      <p:pic>
        <p:nvPicPr>
          <p:cNvPr id="558" name="矩形 4" descr=""/>
          <p:cNvPicPr/>
          <p:nvPr/>
        </p:nvPicPr>
        <p:blipFill>
          <a:blip r:embed="rId5"/>
          <a:stretch/>
        </p:blipFill>
        <p:spPr>
          <a:xfrm>
            <a:off x="920880" y="-214200"/>
            <a:ext cx="6791040" cy="1128600"/>
          </a:xfrm>
          <a:prstGeom prst="rect">
            <a:avLst/>
          </a:prstGeom>
          <a:ln w="0">
            <a:noFill/>
          </a:ln>
        </p:spPr>
      </p:pic>
      <p:sp>
        <p:nvSpPr>
          <p:cNvPr id="559" name="TextBox 6"/>
          <p:cNvSpPr/>
          <p:nvPr/>
        </p:nvSpPr>
        <p:spPr>
          <a:xfrm>
            <a:off x="4214880" y="920880"/>
            <a:ext cx="50004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余光中（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1928~   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）祖籍福建永春，生于南京。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1947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年后就读于金陵大学外文系、厦门大学外文系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1949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年后在台湾大学外文系求学。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1958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年赴美国爱荷华大学进修。先后在美、台、香港等地任职，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1984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年返台任教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   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其诗作具有浓重的中国意识和深厚的历史感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7" descr="20081076A22F6D264474F54854DEA525E6B50F6.jpg"/>
          <p:cNvPicPr/>
          <p:nvPr/>
        </p:nvPicPr>
        <p:blipFill>
          <a:blip r:embed="rId6"/>
          <a:stretch/>
        </p:blipFill>
        <p:spPr>
          <a:xfrm>
            <a:off x="71280" y="1214280"/>
            <a:ext cx="4000680" cy="507240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1015886631.jpg"/>
          <p:cNvPicPr/>
          <p:nvPr/>
        </p:nvPicPr>
        <p:blipFill>
          <a:blip r:embed="rId7"/>
          <a:stretch/>
        </p:blipFill>
        <p:spPr>
          <a:xfrm>
            <a:off x="71280" y="1214280"/>
            <a:ext cx="4071960" cy="5214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9" descr="W020080328493184945075.jpg"/>
          <p:cNvPicPr/>
          <p:nvPr/>
        </p:nvPicPr>
        <p:blipFill>
          <a:blip r:embed="rId8"/>
          <a:stretch/>
        </p:blipFill>
        <p:spPr>
          <a:xfrm>
            <a:off x="71280" y="1071720"/>
            <a:ext cx="4143600" cy="55004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13330513.jpg"/>
          <p:cNvPicPr/>
          <p:nvPr/>
        </p:nvPicPr>
        <p:blipFill>
          <a:blip r:embed="rId9"/>
          <a:stretch/>
        </p:blipFill>
        <p:spPr>
          <a:xfrm>
            <a:off x="71280" y="928800"/>
            <a:ext cx="4143600" cy="56433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3"/>
          <p:cNvSpPr/>
          <p:nvPr/>
        </p:nvSpPr>
        <p:spPr>
          <a:xfrm>
            <a:off x="4071960" y="785880"/>
            <a:ext cx="50720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0033"/>
                </a:solidFill>
                <a:latin typeface="宋体"/>
              </a:rPr>
              <a:t>　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余光中先生驰骋文坛已逾半个世纪，享誉海内外文学界，在诗歌、散文、评论、翻译方面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,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成就卓著。其文学生涯悠远、深沉、 辽阔，涉猎广泛，为当代诗坛健将、散文重镇、著名批评家、优秀翻译家，现已出版诗集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21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种，散文集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11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种，评论集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5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种，翻译集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13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种，共</a:t>
            </a:r>
            <a:r>
              <a:rPr b="1" lang="en-US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50</a:t>
            </a:r>
            <a:r>
              <a:rPr b="1" lang="zh-CN" sz="3300" spc="-1" strike="noStrike">
                <a:solidFill>
                  <a:srgbClr val="330033"/>
                </a:solidFill>
                <a:latin typeface="华文新魏"/>
                <a:ea typeface="华文新魏"/>
              </a:rPr>
              <a:t>种，在海内外 文坛影响巨大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xit" presetID="29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" nodeType="afterEffect" fill="hold" presetClass="exit" presetID="42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9" nodeType="afterEffect" fill="hold" presetClass="exit" presetID="4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2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3" nodeType="afterEffect" fill="hold" presetClass="exit" presetID="29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3168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幼圆"/>
                <a:ea typeface="幼圆"/>
              </a:rPr>
              <a:t>二</a:t>
            </a:r>
            <a:r>
              <a:rPr b="1" lang="en-US" sz="4000" spc="-1" strike="noStrike">
                <a:solidFill>
                  <a:srgbClr val="663300"/>
                </a:solidFill>
                <a:latin typeface="幼圆"/>
                <a:ea typeface="幼圆"/>
              </a:rPr>
              <a:t>.</a:t>
            </a:r>
            <a:r>
              <a:rPr b="1" lang="zh-CN" sz="4000" spc="-1" strike="noStrike">
                <a:solidFill>
                  <a:srgbClr val="663300"/>
                </a:solidFill>
                <a:latin typeface="幼圆"/>
                <a:ea typeface="幼圆"/>
              </a:rPr>
              <a:t>思路整理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17080" y="1483920"/>
            <a:ext cx="7270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文章首先交待自己山居的地理位置，及自己生活于其中的感受（喜与忧）（第</a:t>
            </a:r>
            <a:r>
              <a:rPr b="0" lang="en-US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节）；其次总体概括书斋、海与山构成的优美的环境；再次作者分层次从不同角度概括出山居所在的山在声、霞、雾、风以及噪音中的景致；最后以诗句照应开头，表露自己的思乡之情和对祖国统一的渴盼之情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6840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．文章最后为什么要写火车片断？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20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最令人心动而神往的，却是人为的骚音。从清早到午夜，一天四十多班，在山和海之间，敲轨而来，鸣笛而去的，是九广 铁路的客车，货车，猪车，曳着黑烟的飘发，蟠蜿着十三节车厢的修长之躯，这些工业时代的元老级交通工具，仍有旧世界迷人的情调，非协和的超音速飞机所能比 拟。”这里，开往大陆的火车其实也是作者乡愁的寄托，鸣笛的震响，震动作者的心魄。火车是作者乡愁与故土联系的纽带，连接作者的梦境和思念。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197080" y="262080"/>
            <a:ext cx="36702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黑体"/>
              </a:rPr>
              <a:t>三、问题解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63,9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108,-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63,9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108,-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763640" y="907560"/>
            <a:ext cx="6840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回过头来我们想一下，作者既然想念祖国故土，为什么不直接描写祖国山川呢？却反而写香港沙田的美景呢？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4000" y="213156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4d4d4d"/>
                </a:solidFill>
                <a:latin typeface="黑体"/>
                <a:ea typeface="黑体"/>
              </a:rPr>
              <a:t>因为全文以“站在阳台上看山景”为线索，细腻描绘居室四周海水群山变幻莫测的景色，作者这里没写祖国美景是因为这样会堕入一个俗套，并且与现实和文章主题不符。所以作者另辟新路，通过描绘香港美景来含蓄表达自己道不尽的乡愁，突出“好景虽美而乡愁难遣”的文章主题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547640" y="904680"/>
            <a:ext cx="7561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作者在文末说“即使王粲，也不能不下楼去”，作者要下楼去干嘛？（引用王粲的典故有何作用？这表达了作者怎样的思想感情？ 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0360" y="20617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幼圆"/>
                <a:ea typeface="幼圆"/>
              </a:rPr>
              <a:t>（附：王粲：建安七子之一，</a:t>
            </a:r>
            <a:r>
              <a:rPr b="1" lang="en-US" sz="2800" spc="-1" strike="noStrike">
                <a:solidFill>
                  <a:srgbClr val="4d4d4d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4d4d4d"/>
                </a:solidFill>
                <a:latin typeface="幼圆"/>
                <a:ea typeface="幼圆"/>
              </a:rPr>
              <a:t>七哀诗</a:t>
            </a:r>
            <a:r>
              <a:rPr b="1" lang="en-US" sz="2800" spc="-1" strike="noStrike">
                <a:solidFill>
                  <a:srgbClr val="4d4d4d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4d4d4d"/>
                </a:solidFill>
                <a:latin typeface="幼圆"/>
                <a:ea typeface="幼圆"/>
              </a:rPr>
              <a:t>。东汉末年，天下大乱，王粲依荆州刘表，不为重用，偶登当阳县</a:t>
            </a:r>
            <a:r>
              <a:rPr b="1" lang="en-US" sz="2800" spc="-1" strike="noStrike">
                <a:solidFill>
                  <a:srgbClr val="4d4d4d"/>
                </a:solidFill>
                <a:latin typeface="幼圆"/>
                <a:ea typeface="幼圆"/>
              </a:rPr>
              <a:t>(</a:t>
            </a:r>
            <a:r>
              <a:rPr b="1" lang="zh-CN" sz="2800" spc="-1" strike="noStrike">
                <a:solidFill>
                  <a:srgbClr val="4d4d4d"/>
                </a:solidFill>
                <a:latin typeface="幼圆"/>
                <a:ea typeface="幼圆"/>
              </a:rPr>
              <a:t>在今湖北</a:t>
            </a:r>
            <a:r>
              <a:rPr b="1" lang="en-US" sz="2800" spc="-1" strike="noStrike">
                <a:solidFill>
                  <a:srgbClr val="4d4d4d"/>
                </a:solidFill>
                <a:latin typeface="幼圆"/>
                <a:ea typeface="幼圆"/>
              </a:rPr>
              <a:t>)</a:t>
            </a:r>
            <a:r>
              <a:rPr b="1" lang="zh-CN" sz="2800" spc="-1" strike="noStrike">
                <a:solidFill>
                  <a:srgbClr val="4d4d4d"/>
                </a:solidFill>
                <a:latin typeface="幼圆"/>
                <a:ea typeface="幼圆"/>
              </a:rPr>
              <a:t>城楼，作</a:t>
            </a:r>
            <a:r>
              <a:rPr b="1" lang="en-US" sz="2800" spc="-1" strike="noStrike">
                <a:solidFill>
                  <a:srgbClr val="4d4d4d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4d4d4d"/>
                </a:solidFill>
                <a:latin typeface="幼圆"/>
                <a:ea typeface="幼圆"/>
              </a:rPr>
              <a:t>登楼赋</a:t>
            </a:r>
            <a:r>
              <a:rPr b="1" lang="en-US" sz="2800" spc="-1" strike="noStrike">
                <a:solidFill>
                  <a:srgbClr val="4d4d4d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4d4d4d"/>
                </a:solidFill>
                <a:latin typeface="幼圆"/>
                <a:ea typeface="幼圆"/>
              </a:rPr>
              <a:t>，抒发他去国怀乡乱离飘零的惆怅和渴望建功立业的抱负。“王粲登楼”四字在古代常用来代指思乡与不遇之情。）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332000" y="2182680"/>
            <a:ext cx="7240680" cy="627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作者是为了说明自己如在仙境中生活，按常理应希望永远这样生活下去，可作者却有更高远的追求，“下楼去”维护祖国统一。做不得山人，忘不了尘世，割不断故国情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7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979280" y="617040"/>
            <a:ext cx="6840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这篇散文如何体现“形散神聚”的特点的？ 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4d4d4d"/>
                </a:solidFill>
                <a:latin typeface="黑体"/>
                <a:ea typeface="黑体"/>
              </a:rPr>
              <a:t>这篇借写景来抒情的散文选材比较散，写水，写海，写山，又写了自己的生活，写自己的内心感受。写法自由， 似乎没有刻意的技法，也没有明显的章法结构。但是却又有主题：抒写淡淡的乡愁。我们在欣赏抒情散文的时候，能够抓住或把握它的情感内核，就会领略到散文的 神韵。就像一句俗话所说：“提领而顿，百毛皆顺。”抓住了皮衣服的领子，其毛发就会十分顺溜。因此，去感受抒情散文的情感内核，是欣赏抒情散文的关键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76360" y="831600"/>
            <a:ext cx="770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   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课文中说：“山是禅机深藏的高僧，轻易不开口的。”找出课文中将山比作僧人的句子，想一想作者为什么把山比作高僧。 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8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  <a:ea typeface="幼圆"/>
              </a:rPr>
              <a:t>（解析：本题意在体会作者于精妙的比喻中隐藏的深意。）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4d4d4d"/>
                </a:solidFill>
                <a:latin typeface="黑体"/>
                <a:ea typeface="黑体"/>
              </a:rPr>
              <a:t>因为“我成了山人”，远离了俗世的纷扰，所以我眼里的山也就象看透世间变化的高僧一样，只静观而不语，有一种超然的神韵，又有一种与我两相知的默契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3" dur="20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71280" y="-157320"/>
            <a:ext cx="74674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四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中心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9640" y="228240"/>
            <a:ext cx="864072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文学诸门类中，散文是作家心灵的告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作家思想感情的一个“具体的展示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文以站在阳台上看山景为线索，细腻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绘居室四周海水群山变幻莫测的景色 ，突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题“好景虽美而乡愁难遣” 。通过比喻、夸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拟人等手法写景，最后以一首诗收尾，照应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头，使含蓄在整篇文章中的思想感情明朗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令读者回味全文，与作者产生感情的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760"/>
                            </p:stCondLst>
                            <p:childTnLst>
                              <p:par>
                                <p:cTn id="9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2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280"/>
                            </p:stCondLst>
                            <p:childTnLst>
                              <p:par>
                                <p:cTn id="9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8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16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4080"/>
                            </p:stCondLst>
                            <p:childTnLst>
                              <p:par>
                                <p:cTn id="9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920"/>
                            </p:stCondLst>
                            <p:childTnLst>
                              <p:par>
                                <p:cTn id="9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760"/>
                            </p:stCondLst>
                            <p:childTnLst>
                              <p:par>
                                <p:cTn id="9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7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,118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80"/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五、归纳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散文是作家心灵的告白，诗人用诗化的语言去展示自己心灵感悟和生命体验，本文正是作者平素返归山林，抱朴守真思想的一个“具 体的展示”。诗人素来爱山，爱海，爱美妙绮丽的大自然，以陶冶、启迪、升华自己的灵魂。作者在文中把个人的视觉、听觉、触觉、幻觉等交糅并用，而且运用拟 人、夸张、通感等修辞手法，以强化诗人感觉中的山居生活，着力</a:t>
            </a:r>
            <a:r>
              <a:rPr b="0" lang="zh-CN" sz="3200" spc="-1" strike="noStrike">
                <a:solidFill>
                  <a:srgbClr val="ffefd5"/>
                </a:solidFill>
                <a:latin typeface="华文楷体"/>
                <a:ea typeface="华文楷体"/>
              </a:rPr>
              <a:t>描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绘个人自由生命对高山、对大海的感应与体</a:t>
            </a:r>
            <a:r>
              <a:rPr b="0" lang="zh-CN" sz="3200" spc="-1" strike="noStrike">
                <a:solidFill>
                  <a:srgbClr val="ffefd5"/>
                </a:solidFill>
                <a:latin typeface="华文楷体"/>
                <a:ea typeface="华文楷体"/>
              </a:rPr>
              <a:t>验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获得了诗意和空灵的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08000" y="1351080"/>
            <a:ext cx="878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余光中的诗文里充满浓郁的“乡愁”情绪。除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沙田山居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乡愁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望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余光中还在其它文章中写道：“烧我成灰，我的汉魂唐魄仍然萦绕着那片厚土。那 无穷无尽的故国，四海漂泊的龙族叫她做大陆，壮士登高叫她做九州，英雄落难叫她做江湖。”他说：“这许多年来，我所以在诗中狂呼着、低呓着中国，无非是一 念耿耿为自己喊魂。”他热爱着中华传统文化，热爱着中国。礼赞“中国，最美最母亲的国度”。他说：“蓝墨水的上游是汨罗江”，“要做屈原和李白的传人 ”，“我的血管是黄河的支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2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55" dur="2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2700360" y="2565360"/>
            <a:ext cx="424800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谢谢欣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</p:spTree>
  </p:cSld>
  <p:transition spd="med">
    <p:fade thruBlk="true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77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770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3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971640" y="107172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环境优美、富有层次感的山，能够远离都市喧嚣，可以在大自然的怀抱中让身心得以放松，使心灵能得到净化与满足，于是建立在山上的典雅朴实的住宅也被称作 山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山居住宅的生态环境对人类的健康有着不可估量的影响。极富层感的山峦，错落有致的建筑，使得山地住宅具有低密度和良好的通风、采光性。从古自今，高雅的文人墨客，无不向往这种避世安宁的山居生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0" y="203040"/>
            <a:ext cx="9000720" cy="993600"/>
            <a:chOff x="0" y="203040"/>
            <a:chExt cx="9000720" cy="993600"/>
          </a:xfrm>
        </p:grpSpPr>
        <p:pic>
          <p:nvPicPr>
            <p:cNvPr id="567" name="图示 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203040"/>
              <a:ext cx="900072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5" descr="MCj04337970000[1]"/>
            <p:cNvPicPr/>
            <p:nvPr/>
          </p:nvPicPr>
          <p:blipFill>
            <a:blip r:embed="rId2"/>
            <a:stretch/>
          </p:blipFill>
          <p:spPr>
            <a:xfrm>
              <a:off x="218880" y="260280"/>
              <a:ext cx="867960" cy="8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9" name="WordArt 6"/>
          <p:cNvSpPr txBox="1"/>
          <p:nvPr/>
        </p:nvSpPr>
        <p:spPr>
          <a:xfrm>
            <a:off x="2843280" y="311040"/>
            <a:ext cx="3600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d0d">
                      <a:alpha val="68000"/>
                    </a:srgbClr>
                  </a:outerShdw>
                </a:effectLst>
                <a:latin typeface="华文琥珀"/>
              </a:rPr>
              <a:t>山居笔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d0d">
                    <a:alpha val="68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med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10920" y="519120"/>
            <a:ext cx="8281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当然，到了现代社会，这样的山居处已经太少太少了，因为“山居者”也需要同城市沟通，需要同“文化”交流！因此，现在“山居”大多建立在毗邻湖海与生态圈的平原处，可惜这早已不是真正意义上能代表自然 宁静与淡薄的山居了。山居生活也成了富人们的一种新型有趣的生态享受罢了！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我们现在，也只能从余光中大师的神来之笔中，与寥寥几张山居照片中，来感受这种已经逝去的文化与自然！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3"/>
          <p:cNvSpPr txBox="1"/>
          <p:nvPr/>
        </p:nvSpPr>
        <p:spPr>
          <a:xfrm>
            <a:off x="1116000" y="692280"/>
            <a:ext cx="755964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 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现在就让我们一起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来欣赏一下优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清雅的山居美景吧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572" name="6182066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4149720"/>
            <a:ext cx="752760" cy="685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1" descr=""/>
          <p:cNvPicPr/>
          <p:nvPr/>
        </p:nvPicPr>
        <p:blipFill>
          <a:blip r:embed="rId2"/>
          <a:stretch/>
        </p:blipFill>
        <p:spPr>
          <a:xfrm>
            <a:off x="-7920" y="0"/>
            <a:ext cx="9161280" cy="6858000"/>
          </a:xfrm>
          <a:prstGeom prst="rect">
            <a:avLst/>
          </a:prstGeom>
          <a:ln w="0">
            <a:noFill/>
          </a:ln>
        </p:spPr>
      </p:pic>
      <p:pic>
        <p:nvPicPr>
          <p:cNvPr id="574" name="青云山居.wmv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8786880" cy="5715000"/>
          </a:xfrm>
          <a:prstGeom prst="rect">
            <a:avLst/>
          </a:prstGeom>
          <a:ln w="0">
            <a:noFill/>
          </a:ln>
        </p:spPr>
      </p:pic>
      <p:pic>
        <p:nvPicPr>
          <p:cNvPr id="575" name="WordArt 5" descr=""/>
          <p:cNvPicPr/>
          <p:nvPr/>
        </p:nvPicPr>
        <p:blipFill>
          <a:blip r:embed="rId4"/>
          <a:stretch/>
        </p:blipFill>
        <p:spPr>
          <a:xfrm>
            <a:off x="384120" y="1542960"/>
            <a:ext cx="8594640" cy="2400480"/>
          </a:xfrm>
          <a:prstGeom prst="rect">
            <a:avLst/>
          </a:prstGeom>
          <a:ln w="0">
            <a:noFill/>
          </a:ln>
        </p:spPr>
      </p:pic>
      <p:pic>
        <p:nvPicPr>
          <p:cNvPr id="576" name="Control 5" descr=""/>
          <p:cNvPicPr/>
          <p:nvPr/>
        </p:nvPicPr>
        <p:blipFill>
          <a:blip r:embed="rId5"/>
          <a:stretch/>
        </p:blipFill>
        <p:spPr>
          <a:xfrm>
            <a:off x="74520" y="6480"/>
            <a:ext cx="200160" cy="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xit" presetID="20">
                                  <p:stCondLst>
                                    <p:cond delay="4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43020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内容占位符 3" descr="图片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9" name="WordArt 4" descr=""/>
          <p:cNvPicPr/>
          <p:nvPr/>
        </p:nvPicPr>
        <p:blipFill>
          <a:blip r:embed="rId3"/>
          <a:stretch/>
        </p:blipFill>
        <p:spPr>
          <a:xfrm>
            <a:off x="1255680" y="603360"/>
            <a:ext cx="7424640" cy="1854000"/>
          </a:xfrm>
          <a:prstGeom prst="rect">
            <a:avLst/>
          </a:prstGeom>
          <a:ln w="0">
            <a:noFill/>
          </a:ln>
        </p:spPr>
      </p:pic>
      <p:pic>
        <p:nvPicPr>
          <p:cNvPr id="580" name="WordArt 5" descr=""/>
          <p:cNvPicPr/>
          <p:nvPr/>
        </p:nvPicPr>
        <p:blipFill>
          <a:blip r:embed="rId4"/>
          <a:stretch/>
        </p:blipFill>
        <p:spPr>
          <a:xfrm>
            <a:off x="1103400" y="2997360"/>
            <a:ext cx="7875360" cy="26571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MMj03567070000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386064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MMj03567080000[1]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403280" y="2781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3" name="AutoShape 8"/>
          <p:cNvSpPr/>
          <p:nvPr/>
        </p:nvSpPr>
        <p:spPr>
          <a:xfrm rot="10800000">
            <a:off x="33120" y="259920"/>
            <a:ext cx="3025800" cy="1943280"/>
          </a:xfrm>
          <a:prstGeom prst="cloudCallout">
            <a:avLst>
              <a:gd name="adj1" fmla="val 18097"/>
              <a:gd name="adj2" fmla="val -109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你选择天使还是恶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1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2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4"/>
          <p:cNvSpPr/>
          <p:nvPr/>
        </p:nvSpPr>
        <p:spPr>
          <a:xfrm>
            <a:off x="-12600" y="835200"/>
            <a:ext cx="7753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书斋外面是阳台，阳台外面是海，是山。海是碧湛湛的一弯，山是青郁郁的连环。山外有山，最远的翠微淡成一袅青烟，忽焉似有，再顾若无，那便是，大陆的莽莽苍苍了日月闲闲，有的是时间与空间。一览不尽的青山绿水，马远夏圭的长幅横披，任风吹，任鹰飞，任渺渺之目舒展来回，而我在其中俯仰天地，呼吸晨昏，竟已有十八个月了。</a:t>
            </a:r>
            <a:r>
              <a:rPr b="0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十八个月，也就是说，重九的陶菊  已经两开，中秋的苏月已经圆过两次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天相对，中间是山，即使是秋晴的日子，透明的蓝光里，也还有一层轻轻的海气，疑幻疑真，像开着一面玄奥的迷镜，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WordArt 3"/>
          <p:cNvSpPr txBox="1"/>
          <p:nvPr/>
        </p:nvSpPr>
        <p:spPr>
          <a:xfrm>
            <a:off x="2340000" y="117360"/>
            <a:ext cx="33861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沙田山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86" name="Line 4"/>
          <p:cNvSpPr/>
          <p:nvPr/>
        </p:nvSpPr>
        <p:spPr>
          <a:xfrm>
            <a:off x="7308720" y="117360"/>
            <a:ext cx="0" cy="6669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7201080" y="189000"/>
            <a:ext cx="1979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彩云"/>
                <a:ea typeface="华文彩云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华文彩云"/>
                <a:ea typeface="华文彩云"/>
              </a:rPr>
              <a:t>Q1:</a:t>
            </a:r>
            <a:r>
              <a:rPr b="0" lang="zh-CN" sz="3000" spc="-1" strike="noStrike">
                <a:solidFill>
                  <a:srgbClr val="000000"/>
                </a:solidFill>
                <a:latin typeface="华文彩云"/>
                <a:ea typeface="华文彩云"/>
              </a:rPr>
              <a:t>品析“十八个月，也就是说，重九的陶菊  已经两开，中秋的苏月已经圆过两次了。”这句话表达了作者怎样的思想情感 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沙田山居余光中（散文配乐朗诵）.mp3" descr=""/>
          <p:cNvPicPr/>
          <p:nvPr/>
        </p:nvPicPr>
        <p:blipFill>
          <a:blip r:embed="rId2"/>
          <a:stretch/>
        </p:blipFill>
        <p:spPr>
          <a:xfrm>
            <a:off x="6877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childTnLst>
                  <p:par>
                    <p:cTn id="242" fill="hold"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4:21:19Z</dcterms:created>
  <dc:creator>koyo</dc:creator>
  <dc:description/>
  <dc:language>en-US</dc:language>
  <cp:lastModifiedBy>zmj</cp:lastModifiedBy>
  <cp:lastPrinted>2011-11-28T15:26:26Z</cp:lastPrinted>
  <dcterms:modified xsi:type="dcterms:W3CDTF">2011-11-28T15:26:34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