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AD9-C044-4B38-841D-DD07E4D6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951-F0E2-400A-B68E-8B58681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4B4C8-9456-4650-8FAB-FD6938E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2B68A-6CFD-460B-893B-07CECB60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A006B-2A1B-4560-A3E5-B9FF6F4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3B1B3-B016-45A4-9CB4-0617E15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A6E93-1B61-46E1-B428-C14F859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7CCBA-75DF-436C-9F0A-5C4262A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58A0C-AD75-45FC-858D-2FD33DE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A942A-8B56-420E-9813-5DDE6E12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DD8A-7808-4BA4-A28F-471B8AFA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F12A2-1E71-4A55-884B-9BF33DB5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3D9-FD1B-4D41-83BB-FB27DB07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B5A4E-A037-45B1-A20F-1D056B0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F700C-BA28-4D88-ABDE-7FBEEC2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25E64-7EF1-4EB1-A59F-074C3515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AC229-6FD5-4498-9C9D-281C48E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92900-5277-4F79-86F4-DB41FC4F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3F727-E36E-4BD3-B4B3-8D36D144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D309C-8AAE-43F2-87C3-51EE0E6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0B85B-9D00-4892-9E61-F9A7D0B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2DA3F-15FA-45BB-BC7B-9FDCC1D2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37E14-FAEE-458E-A7CF-A51B98A7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783-8252-4713-AD34-8EA1E920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D7F1C-33E3-4AF5-8578-C77445F8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FDC23-5292-45D2-843F-8A217D84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B295-DAD3-4133-B302-6C333FC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101C3-0E77-4A67-B49B-B9B21217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2C71A-A281-4A5D-BFC2-B76630A7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1DB82-22A5-457F-8499-C3961B8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14CA3-14CA-4144-88DA-9F389293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0DD1-AA4F-4145-9855-592FEFC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51EB2-5940-49AB-9341-B2AF15C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C603D-E9DD-467F-B0FE-DDB309A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793C-03C3-4B50-AB66-A79F7412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FE87-1F05-46CE-8386-0911857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1D285-2148-4379-8E7A-A0418AE5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84543-54D6-43A8-A566-87390110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5D60-47D3-45D2-BB83-E7023A8B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F83-31C7-4F15-BEC5-96EC34E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A096-FFB0-4242-A998-24CDA4A4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E508-5E5C-4146-9950-E667BC04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EDDD-09C6-4FCB-9F8A-4A8BBC26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3ABD-7BC8-41E3-A57E-289F168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320-5262-435D-95FB-42FA4651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0367-31CC-4FFF-9AA6-21F46A8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D82B-047F-496E-A042-02C4DBF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8E0F-01F9-4896-945A-693A8DEA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F74C-188E-4ECE-A975-DAAF0832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55D4-784D-4AA1-BE5A-62E7D207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F779-8E3E-466A-9BC5-B855E6DC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B7EF-C4BD-416A-B352-1A1C3BBB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77B2-C318-4AB9-AB42-A4CBB83D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4841-50B5-4337-98CB-16C04273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60E85-3FD1-4A0B-B25F-ACC9C547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74D-447E-46EC-B631-31287600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7AAB-D1A6-464C-9EA3-245BA6F8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69CF-16F8-4B9F-908A-768730F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6927-F9E2-4842-BD3D-AC6B107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1788-7A7F-42BA-979B-5E18785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53BB-67AB-4EFD-993B-89A6FDF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534B-9BFC-4038-8367-ED9229DE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FA5D-114A-4084-A3AB-7F287EFE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254E-79B1-4546-AD86-B7058FF1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63C5-2B72-468B-AE83-9861711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D8CE-0586-44FD-B406-950CC055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575-BA29-489F-8168-010654F7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878A-09D0-457E-BBFA-1A39D225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6656-B3B6-41AD-B5E6-41B7BCD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A41C-D24E-4F69-9890-455AFF0A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E350-E8D9-4635-967B-E2BB4A0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AD17-E734-4EE4-ABBC-7DD43459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9C4D-1ED6-44C4-B1F1-ADFE1D3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31C2-46C5-4529-BC5B-50FD040A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B5CF-60AA-4F4A-A2B2-8A0C3F51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00919-D644-48A9-B366-170F9A94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19A3-AF61-4071-B118-4995B5C4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1D0-0ED1-48AF-B9EA-C32E2A0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45F1D-5C79-43AA-8BE5-3CE85EE4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CDDFD-2D2B-4143-85A9-5D90A3DC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6FCA8-4555-4DA5-AC6D-73B3EE23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9A1E3-9775-4AE9-8F28-7C64F78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FC15-5A0E-4073-8F23-54A76D1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A12E-C1A8-4921-B74C-AF88FC9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7C5E-20DB-40A8-BF54-9997BB1E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1406C-01F0-4DD7-A084-2E0E2598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2783-468E-4978-8C57-74BE062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1CF3-38AA-421F-8CF0-34545035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201-4CAC-46B8-A265-FF4C086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352D3-8A14-4C28-9D17-57BAB4FF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49614-26DE-4523-857F-E1041ABC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EEF1-EE56-4639-8A3D-5C7BEB59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9D548-9445-4871-B6F6-B14D038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FA8B3-1C47-48AA-8FA4-EEE700B4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3E81-0C6D-407D-B5BA-6457D9B8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DBBAA-DCBD-4B73-B89D-34B938D3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0BBB9-7496-419C-92EA-A7869B4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9719-9E10-4251-B282-ADF2CBFF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6136-225E-4C4F-81FD-39A9CE8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742-EB65-4A64-8F23-087CD7C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17BD-91CA-4A09-9911-59D24F8E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BD04-C5D0-463A-8385-E711DE9D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6C9B-0890-4569-882D-E715AA45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F1D9-E9BA-4467-A286-D52F3B87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5E1B3-481A-49C8-ABEB-48C36DED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22B9-B5AF-45A4-833F-D53ECE19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60F1-F909-4934-B340-575819B2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191EB-994A-470A-A4B0-8B6738FB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11AA-2BAF-44C9-A737-1AEDA7C3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509D-21BC-4A57-B066-D4B69BA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115-E7F3-49CB-9111-FE50D0A9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0750-DABD-4A59-A813-786DAB3C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CFE4-81F8-4AA2-9462-DF10A6B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E884-37DD-4E0E-AC6A-8D775B4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82C6-D23A-4134-9034-973761F6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3325A-1896-4632-B5F2-D825C466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36C39-BEC8-43CB-B884-8591DD51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E5DC7-BA97-47BC-ABF0-03EE08A7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EB3E-39EE-4AAB-BB7C-420EC5CE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FF109-8668-41AE-B9D4-81659285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BB8BE-BCF7-4833-A29B-3FB653E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091-A4AD-439A-A78E-A756256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06F8D-4DDC-41FF-BAA1-469A2B2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FDEDA-0259-4ABF-BCD1-68788DC0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72380-2AB0-46A0-B0EE-9677528A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946E-E995-4640-ADF4-E93067D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7D51-9F87-4A2F-BF88-D9182B0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05983-AF5B-4E3B-B750-56739D29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7146-C286-4F76-A9CE-C833703B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DA086-FFF1-4A1A-9C6E-FCC2FD95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B0417-B376-4E0D-97AF-F499BB31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04513-083A-4C81-8C98-13E8AEE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616B-EEBC-4369-9013-B19A068EF9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294A-583A-40AC-9F32-3DD134AAD0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A56-9FEB-4974-9F3E-5CA2E51C5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D906-15DE-4D59-8A43-F9A10B83D5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21E-67F3-442A-BE95-95BCD6509E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7927-D6E7-484B-A8BC-700E382FEA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5B96-7103-430B-9E32-C785DDF8B1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D128-5A76-4894-B225-3886D33A38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748-4016-482D-92C6-9D32A49DDC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D826-E268-4705-B5DC-77198FABA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3528-5684-43E1-A4EF-0A10733E80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games.whoyo.com.cn/Pics/jingse/20050818/4348.shtm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2052"/>
          <p:cNvSpPr txBox="1"/>
          <p:nvPr/>
        </p:nvSpPr>
        <p:spPr>
          <a:xfrm>
            <a:off x="1476360" y="1557360"/>
            <a:ext cx="59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沙田山居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2" name="矩形 2053"/>
          <p:cNvSpPr txBox="1"/>
          <p:nvPr/>
        </p:nvSpPr>
        <p:spPr>
          <a:xfrm>
            <a:off x="2843280" y="4797360"/>
            <a:ext cx="180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余光中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53" name="xiangchou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19459" descr="23169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21509" descr="200581812215024190967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图片 26634" descr="图片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71683" descr="halon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矩形 71684"/>
          <p:cNvSpPr txBox="1"/>
          <p:nvPr/>
        </p:nvSpPr>
        <p:spPr>
          <a:xfrm>
            <a:off x="2771640" y="1700280"/>
            <a:ext cx="475308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美文赏析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49157" descr="halon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5791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语言的诗意美探究小结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53272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运用比喻、拟人等修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运用叠音词，有音乐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诵之上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运用诗化的语言或化用古诗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暗用典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55302" descr="qianshu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文本框 55298"/>
          <p:cNvSpPr/>
          <p:nvPr/>
        </p:nvSpPr>
        <p:spPr>
          <a:xfrm>
            <a:off x="838080" y="11430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文本框 55299"/>
          <p:cNvSpPr/>
          <p:nvPr/>
        </p:nvSpPr>
        <p:spPr>
          <a:xfrm>
            <a:off x="539640" y="2565360"/>
            <a:ext cx="2952720" cy="19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海围着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山围着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燕尾形箭头 55300"/>
          <p:cNvSpPr/>
          <p:nvPr/>
        </p:nvSpPr>
        <p:spPr>
          <a:xfrm>
            <a:off x="3780000" y="371628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文本框 55301"/>
          <p:cNvSpPr/>
          <p:nvPr/>
        </p:nvSpPr>
        <p:spPr>
          <a:xfrm>
            <a:off x="4932360" y="1197000"/>
            <a:ext cx="392436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沙田山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峰回路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的朝朝暮暮，日起日落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月望月朔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全在此中度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26625"/>
          <p:cNvSpPr txBox="1"/>
          <p:nvPr/>
        </p:nvSpPr>
        <p:spPr>
          <a:xfrm>
            <a:off x="2124000" y="1066680"/>
            <a:ext cx="4535640" cy="13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人为的骚音</a:t>
            </a:r>
            <a:endParaRPr b="0" lang="en-US" sz="4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0" name="文本框 26626"/>
          <p:cNvSpPr/>
          <p:nvPr/>
        </p:nvSpPr>
        <p:spPr>
          <a:xfrm>
            <a:off x="1258920" y="5805360"/>
            <a:ext cx="6553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情思：好景虽美而乡愁难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58392" descr="MountainB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文本框 58369"/>
          <p:cNvSpPr/>
          <p:nvPr/>
        </p:nvSpPr>
        <p:spPr>
          <a:xfrm>
            <a:off x="550440" y="6858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书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文本框 58370"/>
          <p:cNvSpPr/>
          <p:nvPr/>
        </p:nvSpPr>
        <p:spPr>
          <a:xfrm>
            <a:off x="2302920" y="6858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阳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58371"/>
          <p:cNvSpPr/>
          <p:nvPr/>
        </p:nvSpPr>
        <p:spPr>
          <a:xfrm>
            <a:off x="3901680" y="685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文本框 58372"/>
          <p:cNvSpPr/>
          <p:nvPr/>
        </p:nvSpPr>
        <p:spPr>
          <a:xfrm>
            <a:off x="4847760" y="685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文本框 58373"/>
          <p:cNvSpPr/>
          <p:nvPr/>
        </p:nvSpPr>
        <p:spPr>
          <a:xfrm>
            <a:off x="5838480" y="685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文本框 58374"/>
          <p:cNvSpPr/>
          <p:nvPr/>
        </p:nvSpPr>
        <p:spPr>
          <a:xfrm>
            <a:off x="7103520" y="6858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大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文本框 58375"/>
          <p:cNvSpPr/>
          <p:nvPr/>
        </p:nvSpPr>
        <p:spPr>
          <a:xfrm>
            <a:off x="626400" y="2604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心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58376"/>
          <p:cNvSpPr/>
          <p:nvPr/>
        </p:nvSpPr>
        <p:spPr>
          <a:xfrm>
            <a:off x="2775240" y="2604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九广铁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文本框 58377"/>
          <p:cNvSpPr/>
          <p:nvPr/>
        </p:nvSpPr>
        <p:spPr>
          <a:xfrm>
            <a:off x="5808240" y="2604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大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文本框 58378"/>
          <p:cNvSpPr/>
          <p:nvPr/>
        </p:nvSpPr>
        <p:spPr>
          <a:xfrm>
            <a:off x="304920" y="4343400"/>
            <a:ext cx="405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传统文化的认同与眷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文本框 58379"/>
          <p:cNvSpPr/>
          <p:nvPr/>
        </p:nvSpPr>
        <p:spPr>
          <a:xfrm>
            <a:off x="5884200" y="4648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大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右箭头 58380"/>
          <p:cNvSpPr/>
          <p:nvPr/>
        </p:nvSpPr>
        <p:spPr>
          <a:xfrm>
            <a:off x="1676520" y="838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右箭头 58381"/>
          <p:cNvSpPr/>
          <p:nvPr/>
        </p:nvSpPr>
        <p:spPr>
          <a:xfrm>
            <a:off x="3429000" y="838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右箭头 58382"/>
          <p:cNvSpPr/>
          <p:nvPr/>
        </p:nvSpPr>
        <p:spPr>
          <a:xfrm>
            <a:off x="4419720" y="8380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右箭头 58383"/>
          <p:cNvSpPr/>
          <p:nvPr/>
        </p:nvSpPr>
        <p:spPr>
          <a:xfrm>
            <a:off x="5410080" y="83808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右箭头 58384"/>
          <p:cNvSpPr/>
          <p:nvPr/>
        </p:nvSpPr>
        <p:spPr>
          <a:xfrm>
            <a:off x="6553080" y="83808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右箭头 58385"/>
          <p:cNvSpPr/>
          <p:nvPr/>
        </p:nvSpPr>
        <p:spPr>
          <a:xfrm>
            <a:off x="1828800" y="2743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右箭头 58386"/>
          <p:cNvSpPr/>
          <p:nvPr/>
        </p:nvSpPr>
        <p:spPr>
          <a:xfrm>
            <a:off x="5029200" y="2743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右箭头 58387"/>
          <p:cNvSpPr/>
          <p:nvPr/>
        </p:nvSpPr>
        <p:spPr>
          <a:xfrm>
            <a:off x="4419720" y="4724280"/>
            <a:ext cx="990360" cy="762120"/>
          </a:xfrm>
          <a:prstGeom prst="rightArrow">
            <a:avLst>
              <a:gd name="adj1" fmla="val 50000"/>
              <a:gd name="adj2" fmla="val 324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右大括号 58388"/>
          <p:cNvSpPr/>
          <p:nvPr/>
        </p:nvSpPr>
        <p:spPr>
          <a:xfrm>
            <a:off x="8153280" y="1066680"/>
            <a:ext cx="306360" cy="4343400"/>
          </a:xfrm>
          <a:custGeom>
            <a:avLst/>
            <a:gdLst>
              <a:gd name="textAreaLeft" fmla="*/ 0 w 306360"/>
              <a:gd name="textAreaRight" fmla="*/ 110520 w 3063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58389"/>
          <p:cNvSpPr/>
          <p:nvPr/>
        </p:nvSpPr>
        <p:spPr>
          <a:xfrm>
            <a:off x="8212320" y="1656000"/>
            <a:ext cx="118584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乡     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5734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文本框 57346"/>
          <p:cNvSpPr/>
          <p:nvPr/>
        </p:nvSpPr>
        <p:spPr>
          <a:xfrm>
            <a:off x="6724800" y="457200"/>
            <a:ext cx="100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华文行楷"/>
              </a:rPr>
              <a:t>烧我成灰，我的汉魂唐魄仍然萦绕着那一片厚土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57347"/>
          <p:cNvSpPr/>
          <p:nvPr/>
        </p:nvSpPr>
        <p:spPr>
          <a:xfrm>
            <a:off x="3432960" y="3429000"/>
            <a:ext cx="1399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余光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4506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316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矩形 45060"/>
          <p:cNvSpPr txBox="1"/>
          <p:nvPr/>
        </p:nvSpPr>
        <p:spPr>
          <a:xfrm>
            <a:off x="611280" y="765000"/>
            <a:ext cx="3527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诗意美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7" name="矩形 45061"/>
          <p:cNvSpPr txBox="1"/>
          <p:nvPr/>
        </p:nvSpPr>
        <p:spPr>
          <a:xfrm>
            <a:off x="684360" y="2637000"/>
            <a:ext cx="381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情思美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61443" descr="halong11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文本框 61444"/>
          <p:cNvSpPr/>
          <p:nvPr/>
        </p:nvSpPr>
        <p:spPr>
          <a:xfrm>
            <a:off x="3635280" y="0"/>
            <a:ext cx="6427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给我一瓢长江水啊长江水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那酒一样的长江水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那醉酒的滋味是乡愁的滋味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给我一瓢长江水啊长江水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给我一掌海棠红啊海棠红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那血一样的海棠红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那沸血的烧痛是乡愁的烧痛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给我一掌海棠红啊海棠红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给我一片雪花白啊雪花白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那信一样的雪花白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那家信的等待是乡愁的等待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给我一片雪花白啊雪花白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给我一朵腊梅香啊腊梅香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那母亲一样的腊梅香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那母亲的芬芳是乡土的芬芳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给我一朵腊梅香啊腊梅香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矩形 61445"/>
          <p:cNvSpPr txBox="1"/>
          <p:nvPr/>
        </p:nvSpPr>
        <p:spPr>
          <a:xfrm>
            <a:off x="611280" y="620640"/>
            <a:ext cx="259236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乡愁四韵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60421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文本框 60417"/>
          <p:cNvSpPr/>
          <p:nvPr/>
        </p:nvSpPr>
        <p:spPr>
          <a:xfrm>
            <a:off x="1371600" y="380880"/>
            <a:ext cx="746748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闻雁    韦应物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园渺何处？归思方悠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淮南秋夜雨，高斋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阳城里见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欲作家书意万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恐匆匆说不尽，行人临发又开封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十五夜望月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中庭地白树栖鸦，冷露无声湿桂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今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明人尽望，不知秋思落谁家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60418"/>
          <p:cNvSpPr/>
          <p:nvPr/>
        </p:nvSpPr>
        <p:spPr>
          <a:xfrm>
            <a:off x="689760" y="2209680"/>
            <a:ext cx="13993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乡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12290"/>
          <p:cNvSpPr txBox="1"/>
          <p:nvPr/>
        </p:nvSpPr>
        <p:spPr>
          <a:xfrm>
            <a:off x="1835280" y="2421000"/>
            <a:ext cx="4895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整体感知</a:t>
            </a:r>
            <a:endParaRPr b="0" lang="en-US" sz="4400" spc="-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30724" descr="20041031Lamma_06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68609" descr="20053202358462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文本框 9217"/>
          <p:cNvSpPr/>
          <p:nvPr/>
        </p:nvSpPr>
        <p:spPr>
          <a:xfrm>
            <a:off x="228600" y="304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9218"/>
          <p:cNvSpPr/>
          <p:nvPr/>
        </p:nvSpPr>
        <p:spPr>
          <a:xfrm>
            <a:off x="304920" y="220968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66563" descr="20041031Lamma_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66566" descr="f6724bc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7411" descr="dan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04:06:36Z</dcterms:created>
  <dc:creator>mao</dc:creator>
  <dc:description/>
  <dc:language>en-US</dc:language>
  <cp:lastModifiedBy>admin</cp:lastModifiedBy>
  <dcterms:modified xsi:type="dcterms:W3CDTF">2019-05-31T10:28:13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