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C2D-1FAC-429C-9F35-41573BBE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BFE-9C9C-4C0D-AACB-DEFDC562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668-5522-4E66-BAE1-2E027D0A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5B1B-D0F9-41EC-85C1-88B6B60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D77-D807-42F3-988D-4CEE7051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D50-AE4E-46FD-B5F4-FD4C9BE7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A93-A4AE-443C-823C-E3F69F74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AE-8C58-42C8-979A-9CDDB247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9C9-3E51-4A63-8384-0D33A8D8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98B-92FF-49E9-B32A-8A30A71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C07-4BD6-4338-BD7A-697BEC8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A41-B2EF-4E01-8A66-8EF76BE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06E-3CC7-42F2-A793-0C9B64D7C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836640"/>
            <a:ext cx="88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古希腊有位哲学家曾经说过“世上不可能有两片完全相同的叶子”，换句话，以上的梦想都只能是空想，没有实现的可能。但是，现在情况却有了变化，有一种新兴生物技术“克隆”，或许可以做到这一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那么克隆是什么呢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它神奇在哪里呢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今天，就让我们一起走近——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43480" y="378936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Arial"/>
                <a:ea typeface="楷体_GB2312"/>
              </a:rPr>
              <a:t>神奇的克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0920" y="771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42120" y="836640"/>
            <a:ext cx="3701880" cy="468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5435640" cy="46958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635280" y="5516640"/>
            <a:ext cx="3118320" cy="469440"/>
            <a:chOff x="3635280" y="5516640"/>
            <a:chExt cx="3118320" cy="469440"/>
          </a:xfrm>
        </p:grpSpPr>
        <p:sp>
          <p:nvSpPr>
            <p:cNvPr id="47" name=""/>
            <p:cNvSpPr/>
            <p:nvPr/>
          </p:nvSpPr>
          <p:spPr>
            <a:xfrm>
              <a:off x="4847760" y="5526360"/>
              <a:ext cx="1905840" cy="459720"/>
            </a:xfrm>
            <a:prstGeom prst="rect">
              <a:avLst/>
            </a:prstGeom>
            <a:solidFill>
              <a:srgbClr val="ff0000">
                <a:alpha val="8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克隆羊多莉视频链接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5280" y="5516640"/>
              <a:ext cx="649440" cy="468360"/>
            </a:xfrm>
            <a:custGeom>
              <a:avLst/>
              <a:gdLst>
                <a:gd name="textAreaLeft" fmla="*/ 30240 w 649440"/>
                <a:gd name="textAreaRight" fmla="*/ 619200 w 649440"/>
                <a:gd name="textAreaTop" fmla="*/ 30240 h 468360"/>
                <a:gd name="textAreaBottom" fmla="*/ 438120 h 468360"/>
              </a:gdLst>
              <a:ahLst/>
              <a:rect l="textAreaLeft" t="textAreaTop" r="textAreaRight" b="textAreaBottom"/>
              <a:pathLst>
                <a:path w="29945" h="21600">
                  <a:moveTo>
                    <a:pt x="0" y="0"/>
                  </a:moveTo>
                  <a:lnTo>
                    <a:pt x="29945" y="0"/>
                  </a:lnTo>
                  <a:lnTo>
                    <a:pt x="29945" y="21600"/>
                  </a:lnTo>
                  <a:lnTo>
                    <a:pt x="0" y="21600"/>
                  </a:lnTo>
                  <a:close/>
                </a:path>
                <a:path fill="lightenLess" w="29945" h="21600">
                  <a:moveTo>
                    <a:pt x="0" y="0"/>
                  </a:moveTo>
                  <a:lnTo>
                    <a:pt x="29945" y="0"/>
                  </a:lnTo>
                  <a:lnTo>
                    <a:pt x="28545" y="1400"/>
                  </a:lnTo>
                  <a:lnTo>
                    <a:pt x="1400" y="1400"/>
                  </a:lnTo>
                  <a:close/>
                </a:path>
                <a:path fill="darken" w="29945" h="21600">
                  <a:moveTo>
                    <a:pt x="29945" y="0"/>
                  </a:moveTo>
                  <a:lnTo>
                    <a:pt x="29945" y="21600"/>
                  </a:lnTo>
                  <a:lnTo>
                    <a:pt x="28545" y="20200"/>
                  </a:lnTo>
                  <a:lnTo>
                    <a:pt x="28545" y="1400"/>
                  </a:lnTo>
                  <a:close/>
                </a:path>
                <a:path fill="darkenLess" w="29945" h="21600">
                  <a:moveTo>
                    <a:pt x="2994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545" y="20200"/>
                  </a:lnTo>
                  <a:close/>
                </a:path>
                <a:path fill="lighten" w="2994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945" h="21600">
                  <a:moveTo>
                    <a:pt x="7966" y="7301"/>
                  </a:moveTo>
                  <a:lnTo>
                    <a:pt x="8880" y="7301"/>
                  </a:lnTo>
                  <a:lnTo>
                    <a:pt x="9263" y="7667"/>
                  </a:lnTo>
                  <a:lnTo>
                    <a:pt x="18471" y="7667"/>
                  </a:lnTo>
                  <a:lnTo>
                    <a:pt x="19028" y="8224"/>
                  </a:lnTo>
                  <a:lnTo>
                    <a:pt x="19028" y="8772"/>
                  </a:lnTo>
                  <a:lnTo>
                    <a:pt x="20873" y="8772"/>
                  </a:lnTo>
                  <a:lnTo>
                    <a:pt x="21239" y="8224"/>
                  </a:lnTo>
                  <a:lnTo>
                    <a:pt x="21979" y="8224"/>
                  </a:lnTo>
                  <a:lnTo>
                    <a:pt x="21979" y="13376"/>
                  </a:lnTo>
                  <a:lnTo>
                    <a:pt x="21239" y="13376"/>
                  </a:lnTo>
                  <a:lnTo>
                    <a:pt x="20873" y="12828"/>
                  </a:lnTo>
                  <a:lnTo>
                    <a:pt x="19028" y="12828"/>
                  </a:lnTo>
                  <a:lnTo>
                    <a:pt x="19028" y="14107"/>
                  </a:lnTo>
                  <a:lnTo>
                    <a:pt x="9445" y="14107"/>
                  </a:lnTo>
                  <a:lnTo>
                    <a:pt x="9445" y="9877"/>
                  </a:lnTo>
                  <a:lnTo>
                    <a:pt x="9263" y="9877"/>
                  </a:lnTo>
                  <a:lnTo>
                    <a:pt x="8880" y="10243"/>
                  </a:lnTo>
                  <a:lnTo>
                    <a:pt x="7966" y="1024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f4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神奇的克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西游记》里的孙大圣，紧急关头常常拔下一把毫毛，再吹一口气，毫毛立刻变成了一群和自己一模一样的孙悟空。这当然是神话，不过用今天的科学名词来讲，那就是孙悟空能够快速地克隆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知道，高等动物一般要通过雄性和雌性生殖细胞的结合，才能繁衍后代，人们把这种繁殖叫做有性繁殖。换句话说，每只动物都有自己的爸爸妈妈。如果不经过两性细胞结合而直接繁衍后代，就叫无性繁殖，也称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植物都有先天克隆的本领。例如，从一棵大树上剪下几根枝条插进土里，枝条就会长成一株株活泼可爱的小柳树；把马铃薯切成许多小块种进地里，就能收获许多新鲜的马铃薯；把仙人掌切成几块，每块落地不久就会生根，长成新的仙人掌……此外，一些植物还可以通过压条或嫁接培育后代。凡此种种，都是植物的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些单细胞微生物，如细菌，经过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左右的时间，就可以一分为二，再分为四个、八个……这就是低等生物的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，高等生物可不可以克隆呢？从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开始，科学家在这方面进行了卓有成效的研究。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6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英国科学家成功地克隆出了世界上的一只克隆羊。这是一项了不起的成就，轰动了当时的科学界。科学家借用一名乡村歌手的名字，给这只克隆羊起名为“多利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隆技术是一项可以造福于人类的科技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将克隆技术与其他科技成果结合，可以根据需要培育出优质、高产的粮食、蔬菜新品种；也可以培育大量品质优良的家畜，大大提高了饲养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隆技术还可以挽救一些濒危物种，让一些濒临灭绝的动物免遭厄运，从而调节大自然的生态平衡。人们利用克隆技术能够培植人体的皮肤进行植皮手术；能够“制造”出人的耳朵、软骨、肝脏和心脏等人体“配件”，一旦病人需要，就能重新“装配”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奇的克隆技术正向人类展示它诱人的前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0"/>
            <a:ext cx="934920" cy="404640"/>
          </a:xfrm>
          <a:custGeom>
            <a:avLst/>
            <a:gdLst>
              <a:gd name="textAreaLeft" fmla="*/ 25920 w 934920"/>
              <a:gd name="textAreaRight" fmla="*/ 909000 w 934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9882" h="21600">
                <a:moveTo>
                  <a:pt x="0" y="0"/>
                </a:moveTo>
                <a:lnTo>
                  <a:pt x="49882" y="0"/>
                </a:lnTo>
                <a:lnTo>
                  <a:pt x="49882" y="21600"/>
                </a:lnTo>
                <a:lnTo>
                  <a:pt x="0" y="21600"/>
                </a:lnTo>
                <a:close/>
              </a:path>
              <a:path fill="lightenLess" w="49882" h="21600">
                <a:moveTo>
                  <a:pt x="0" y="0"/>
                </a:moveTo>
                <a:lnTo>
                  <a:pt x="49882" y="0"/>
                </a:lnTo>
                <a:lnTo>
                  <a:pt x="48482" y="1400"/>
                </a:lnTo>
                <a:lnTo>
                  <a:pt x="1400" y="1400"/>
                </a:lnTo>
                <a:close/>
              </a:path>
              <a:path fill="darken" w="49882" h="21600">
                <a:moveTo>
                  <a:pt x="49882" y="0"/>
                </a:moveTo>
                <a:lnTo>
                  <a:pt x="49882" y="21600"/>
                </a:lnTo>
                <a:lnTo>
                  <a:pt x="48482" y="20200"/>
                </a:lnTo>
                <a:lnTo>
                  <a:pt x="48482" y="1400"/>
                </a:lnTo>
                <a:close/>
              </a:path>
              <a:path fill="darkenLess" w="49882" h="21600">
                <a:moveTo>
                  <a:pt x="498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82" y="20200"/>
                </a:lnTo>
                <a:close/>
              </a:path>
              <a:path fill="lighten" w="498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882" h="21600">
                <a:moveTo>
                  <a:pt x="17934" y="8406"/>
                </a:moveTo>
                <a:lnTo>
                  <a:pt x="22365" y="8406"/>
                </a:lnTo>
                <a:lnTo>
                  <a:pt x="26786" y="3794"/>
                </a:lnTo>
                <a:lnTo>
                  <a:pt x="26786" y="17806"/>
                </a:lnTo>
                <a:lnTo>
                  <a:pt x="22365" y="13194"/>
                </a:lnTo>
                <a:lnTo>
                  <a:pt x="17934" y="13194"/>
                </a:lnTo>
                <a:close/>
              </a:path>
              <a:path fill="darken" w="49882" h="21600">
                <a:moveTo>
                  <a:pt x="28440" y="10800"/>
                </a:moveTo>
                <a:lnTo>
                  <a:pt x="31947" y="10800"/>
                </a:lnTo>
              </a:path>
              <a:path fill="darken" w="49882" h="21600">
                <a:moveTo>
                  <a:pt x="28440" y="8406"/>
                </a:moveTo>
                <a:lnTo>
                  <a:pt x="31947" y="5639"/>
                </a:lnTo>
              </a:path>
              <a:path fill="darken" w="49882" h="21600">
                <a:moveTo>
                  <a:pt x="28440" y="13194"/>
                </a:moveTo>
                <a:lnTo>
                  <a:pt x="31947" y="15961"/>
                </a:lnTo>
              </a:path>
            </a:pathLst>
          </a:custGeom>
          <a:solidFill>
            <a:srgbClr val="ff00ff">
              <a:alpha val="82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7920"/>
            <a:ext cx="3492360" cy="76428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读书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975400"/>
            <a:ext cx="7775640" cy="15562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按照自己喜欢的方式读课文，读清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标出自然段，理清文章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过联系上下文和工具书理解词语，不理解的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7920"/>
            <a:ext cx="3492360" cy="76428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生字新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2100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  马铃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细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  效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物种  濒临灭绝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前景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成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99736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bīn                                    yòu                zh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33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lì                  shǔ         jūn      jià           sì              l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81080" y="2061720"/>
            <a:ext cx="27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繁       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嫁       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卓有成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濒       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7920"/>
            <a:ext cx="3492360" cy="76428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词语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2060640"/>
            <a:ext cx="73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物产生新的个体，以传宗接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要繁殖的植物的枝或芽接到另一种植物上，使它们结合在一起，成为一个独立生长的植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绩、效果显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近死亡或灭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60640"/>
            <a:ext cx="91440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科普短文重在“普”，内容不单要蕴含知识，文字方面更要能让普通老百姓看得懂，并带有一定的趣味性。作者一般从常见且容易理解的现象写起，将高深的科学技术说得生动形象，明白晓畅。本文列举《西游记》孙悟空这个妇孺皆知的形象，就是符合了这个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900000"/>
            <a:ext cx="2556000" cy="764280"/>
          </a:xfrm>
          <a:prstGeom prst="rect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54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730520"/>
            <a:ext cx="9144000" cy="1068840"/>
          </a:xfrm>
          <a:prstGeom prst="rect">
            <a:avLst/>
          </a:prstGeom>
          <a:solidFill>
            <a:srgbClr val="00ff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课文一开始就告诉大家克隆是无性繁殖，直接将第二段作为开头，怎么样？孙悟空的例子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7640" y="2645640"/>
            <a:ext cx="6121440" cy="5205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心栽花花不开，无心插柳柳成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 </cp:lastModifiedBy>
  <dcterms:modified xsi:type="dcterms:W3CDTF">2011-02-22T13:19:43Z</dcterms:modified>
  <cp:revision>158</cp:revision>
  <dc:subject/>
  <dc:title>幻灯片 1</dc:title>
</cp:coreProperties>
</file>