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0B5-03B4-419F-94E0-A39075CE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753-5F88-4F4A-A7F4-A1788A30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BF4-3179-4EF4-A6BC-DDB7D043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988-3D4E-40A2-A6BE-C8905292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F79-D030-42D7-A0FD-20C082D8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C56-BB37-4696-9249-79CFFAF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8A4-2261-4576-9685-0E56CA3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0EB-01EB-4249-A5CB-74626528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86E-7D41-4607-8792-572E0282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EDC-7885-4444-B9F0-BCC6088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20F-3E2A-41A5-B52E-BB0847A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4E5-929A-4AF7-81FD-C58043F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EB42-56DD-4F28-80DF-AE478C1D3F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2060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、神奇的克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能够“制造”出人的耳朵、软骨、肝脏和心脏等人体“配件”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20640"/>
            <a:ext cx="8136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克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也叫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无性繁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也就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经过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两性细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结合而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直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繁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后代。它是一项可以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福于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黑体"/>
              </a:rPr>
              <a:t>人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的科学技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692280"/>
            <a:ext cx="87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许多植物都有先天克隆的本领：例如：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____,____,___……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此外，一些植物还可以通过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___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培育后代</a:t>
            </a: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54160" y="866880"/>
            <a:ext cx="68374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3747960" cy="518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76500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，英国科学家成功地克隆出了世界上第一只克隆羊——“多利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319280" cy="611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765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这是我国成功克隆的小型猪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1197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克隆技术得到发展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它是怎样造福人类的呢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907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人们将克隆技术与其他科技成果结合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可以根据需要培育出优质、高产的粮食、蔬菜新品种；也可以培育大量品质优良的家畜，在在提高饲养效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83664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克隆技术还可以挽救一些濒危物种，让一些濒临灭绝的动物免遭厄运，从而调节大自然的生态平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3:53:19Z</dcterms:created>
  <dc:creator>YlmF</dc:creator>
  <dc:description/>
  <dc:language>en-US</dc:language>
  <cp:lastModifiedBy>YlmF</cp:lastModifiedBy>
  <dcterms:modified xsi:type="dcterms:W3CDTF">2008-03-15T04:43:32Z</dcterms:modified>
  <cp:revision>3</cp:revision>
  <dc:subject/>
  <dc:title>幻灯片 1</dc:title>
</cp:coreProperties>
</file>