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whoosh.wav" ContentType="audio/x-wav"/>
  <Override PartName="/ppt/media/image2.png" ContentType="image/png"/>
  <Override PartName="/ppt/media/camera.wav" ContentType="audio/x-wav"/>
  <Override PartName="/ppt/media/image3.jpeg" ContentType="image/jpeg"/>
  <Override PartName="/ppt/media/applause.wav" ContentType="audio/x-wav"/>
  <Override PartName="/ppt/media/type.wav" ContentType="audio/x-wav"/>
  <Override PartName="/ppt/media/cashreg.wav" ContentType="audio/x-wav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A5A0-942F-4513-8740-FFC1A7882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A811-5560-4712-A302-F2BCC1869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687F-53FD-4B0E-B87E-62DCDE7F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3883-4815-463B-BFB5-C5BE4622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0691-316A-46F9-8FF6-83AEB581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C93-A2DD-4AE3-9DAC-A55311FD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E4FB-C1F2-4164-8F18-1CC33D3B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ABD6-6634-47C1-A11B-173F3BF3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B91-3734-4512-B3D7-8C9C5956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4FC8-3148-4010-A7D6-91404928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9AC-7731-4846-BD6A-1B7AC52C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D687-4201-4EEB-8B92-5C5623D8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E19-A07C-4ADA-8688-F11E112A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5C3-C9DD-4016-A693-2AFD61D4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51A9-B6B6-492E-8A2F-F742CE851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992160" y="533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鄂教版六年级语文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752480" y="2590920"/>
            <a:ext cx="24386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少年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4648320" y="2590920"/>
            <a:ext cx="2457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旅行队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950200" y="4419720"/>
            <a:ext cx="257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姚集小学  肖玉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7"/>
          <p:cNvSpPr txBox="1"/>
          <p:nvPr/>
        </p:nvSpPr>
        <p:spPr>
          <a:xfrm>
            <a:off x="609480" y="1371600"/>
            <a:ext cx="3276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总结学习方法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85800" y="23623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细读文章，了解大体内容，标出不懂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85800" y="3429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抓住重点词句理解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685800" y="409896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有感情地朗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7"/>
          <p:cNvSpPr/>
          <p:nvPr/>
        </p:nvSpPr>
        <p:spPr>
          <a:xfrm>
            <a:off x="457200" y="19810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华文中宋"/>
              </a:rPr>
              <a:t>       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华文中宋"/>
              </a:rPr>
              <a:t>请从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华文中宋"/>
              </a:rPr>
              <a:t>《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华文中宋"/>
              </a:rPr>
              <a:t>老师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华文中宋"/>
              </a:rPr>
              <a:t>》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华文中宋"/>
              </a:rPr>
              <a:t>、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华文中宋"/>
              </a:rPr>
              <a:t>《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华文中宋"/>
              </a:rPr>
              <a:t>小纸船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华文中宋"/>
              </a:rPr>
              <a:t>》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华文中宋"/>
              </a:rPr>
              <a:t>、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华文中宋"/>
              </a:rPr>
              <a:t>《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华文中宋"/>
              </a:rPr>
              <a:t>标本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华文中宋"/>
              </a:rPr>
              <a:t>》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华文中宋"/>
              </a:rPr>
              <a:t>、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华文中宋"/>
              </a:rPr>
              <a:t>《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华文中宋"/>
              </a:rPr>
              <a:t>听广播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华文中宋"/>
              </a:rPr>
              <a:t>》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华文中宋"/>
              </a:rPr>
              <a:t>中选择你最喜欢的一组诗，细细品味。画出给你体会的句子或词，把你的体会写下来，不懂的地方做上记号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7"/>
          <p:cNvSpPr txBox="1"/>
          <p:nvPr/>
        </p:nvSpPr>
        <p:spPr>
          <a:xfrm>
            <a:off x="762120" y="13716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隶书"/>
              </a:rPr>
              <a:t>理解重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隶书"/>
              <a:ea typeface="隶书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0" y="23623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  <a:ea typeface="隶书"/>
              </a:rPr>
              <a:t>《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小纸船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09480" y="3352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华文中宋"/>
              </a:rPr>
              <a:t>     </a:t>
            </a:r>
            <a:r>
              <a:rPr b="0" lang="en-US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“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华文中宋"/>
              </a:rPr>
              <a:t>看！连一只小纸船都漂得这么久，这么远！</a:t>
            </a:r>
            <a:r>
              <a:rPr b="0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”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华文中宋"/>
              </a:rPr>
              <a:t>更何况怎样？“这么久，这么远”你体会到什么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7"/>
          <p:cNvSpPr txBox="1"/>
          <p:nvPr/>
        </p:nvSpPr>
        <p:spPr>
          <a:xfrm>
            <a:off x="762120" y="13716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隶书"/>
              </a:rPr>
              <a:t>理解重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隶书"/>
              <a:ea typeface="隶书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0" y="23623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  <a:ea typeface="隶书"/>
              </a:rPr>
              <a:t>《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老师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09480" y="30639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华文中宋"/>
              </a:rPr>
              <a:t>     </a:t>
            </a:r>
            <a:r>
              <a:rPr b="0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“</a:t>
            </a:r>
            <a:r>
              <a:rPr b="0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你能在这个地方</a:t>
            </a:r>
            <a:r>
              <a:rPr b="0" lang="en-US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……”</a:t>
            </a:r>
            <a:r>
              <a:rPr b="0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石头、树、鱼都有学问，你体会到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"/>
          <p:cNvSpPr/>
          <p:nvPr/>
        </p:nvSpPr>
        <p:spPr>
          <a:xfrm>
            <a:off x="2770920" y="482616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生活处处皆学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7"/>
          <p:cNvSpPr txBox="1"/>
          <p:nvPr/>
        </p:nvSpPr>
        <p:spPr>
          <a:xfrm>
            <a:off x="762120" y="13716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隶书"/>
              </a:rPr>
              <a:t>理解重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隶书"/>
              <a:ea typeface="隶书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0" y="23623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  <a:ea typeface="隶书"/>
              </a:rPr>
              <a:t>《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老师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09480" y="30639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华文中宋"/>
              </a:rPr>
              <a:t>     </a:t>
            </a:r>
            <a:r>
              <a:rPr b="0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“</a:t>
            </a:r>
            <a:r>
              <a:rPr b="0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这多有趣呀！不知道的，我们都要知道。”“我们都要知道”表明旅行队什么心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4966920" y="4826160"/>
            <a:ext cx="5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渴求知识、战胜困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7"/>
          <p:cNvSpPr txBox="1"/>
          <p:nvPr/>
        </p:nvSpPr>
        <p:spPr>
          <a:xfrm>
            <a:off x="762120" y="13716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隶书"/>
              </a:rPr>
              <a:t>理解重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隶书"/>
              <a:ea typeface="隶书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0" y="23623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  <a:ea typeface="隶书"/>
              </a:rPr>
              <a:t>《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老师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09480" y="306396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华文中宋"/>
              </a:rPr>
              <a:t>     </a:t>
            </a:r>
            <a:r>
              <a:rPr b="0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“</a:t>
            </a:r>
            <a:r>
              <a:rPr b="0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从“亲爱的老师，生活的老师，你快把我们养大吧！</a:t>
            </a:r>
            <a:r>
              <a:rPr b="0" lang="en-US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……</a:t>
            </a:r>
            <a:r>
              <a:rPr b="0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最重要的是先让我们看到许多困难，然后才看到成功</a:t>
            </a:r>
            <a:r>
              <a:rPr b="0" lang="en-US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……</a:t>
            </a:r>
            <a:r>
              <a:rPr b="0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得到快乐！”中你体会到什么？（</a:t>
            </a:r>
            <a:r>
              <a:rPr b="0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渴望成长，甘受历练。</a:t>
            </a:r>
            <a:r>
              <a:rPr b="0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7"/>
          <p:cNvSpPr txBox="1"/>
          <p:nvPr/>
        </p:nvSpPr>
        <p:spPr>
          <a:xfrm>
            <a:off x="-28440" y="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隶书"/>
              </a:rPr>
              <a:t>理解重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隶书"/>
              <a:ea typeface="隶书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224080" y="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  <a:ea typeface="隶书"/>
              </a:rPr>
              <a:t>《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隶书"/>
              </a:rPr>
              <a:t>小纸船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74560" y="5842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华文中宋"/>
              </a:rPr>
              <a:t>     </a:t>
            </a:r>
            <a:r>
              <a:rPr b="0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“</a:t>
            </a:r>
            <a:r>
              <a:rPr b="0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我们来到半山的小溪边，用</a:t>
            </a:r>
            <a:r>
              <a:rPr b="0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五色彩纸</a:t>
            </a:r>
            <a:r>
              <a:rPr b="0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折成</a:t>
            </a:r>
            <a:r>
              <a:rPr b="0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各种各样</a:t>
            </a:r>
            <a:r>
              <a:rPr b="0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的</a:t>
            </a:r>
            <a:r>
              <a:rPr b="0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小船</a:t>
            </a:r>
            <a:r>
              <a:rPr b="0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，让它随着微风，顺着水流，离开我们吧。</a:t>
            </a:r>
            <a:r>
              <a:rPr b="0" lang="en-US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”</a:t>
            </a:r>
            <a:r>
              <a:rPr b="0" lang="zh-CN" sz="3600" spc="-1" strike="noStrike">
                <a:solidFill>
                  <a:srgbClr val="000066"/>
                </a:solidFill>
                <a:latin typeface="华文中宋"/>
                <a:ea typeface="华文中宋"/>
              </a:rPr>
              <a:t>你体会到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243000" y="3002040"/>
            <a:ext cx="82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五彩折纸”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少年幻想的美丽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小纸船”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少年的志向与理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各种各样”：说明了少年的志向不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7"/>
          <p:cNvSpPr txBox="1"/>
          <p:nvPr/>
        </p:nvSpPr>
        <p:spPr>
          <a:xfrm>
            <a:off x="609480" y="1447920"/>
            <a:ext cx="2286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隶书"/>
              </a:rPr>
              <a:t>理解重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隶书"/>
              <a:ea typeface="隶书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80880" y="24382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标本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838080" y="33526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不要让一些无用的东西占去了地方</a:t>
            </a:r>
            <a:r>
              <a:rPr b="1" lang="en-US" sz="3200" spc="-1" strike="noStrike">
                <a:solidFill>
                  <a:srgbClr val="990000"/>
                </a:solidFill>
                <a:latin typeface="宋体"/>
              </a:rPr>
              <a:t>……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。什么是“无用的东西”？应该记住哪些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7"/>
          <p:cNvSpPr txBox="1"/>
          <p:nvPr/>
        </p:nvSpPr>
        <p:spPr>
          <a:xfrm>
            <a:off x="380880" y="70488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隶书"/>
              </a:rPr>
              <a:t>理解重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隶书"/>
              <a:ea typeface="隶书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429000" y="62064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　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旅行者之歌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36520" y="1600200"/>
            <a:ext cx="7620120" cy="25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少年旅行队队员们一路唱着欢乐的歌走来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隶书"/>
              </a:rPr>
              <a:t>——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齐读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旅行者之歌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  <a:ea typeface="隶书"/>
              </a:rPr>
              <a:t>》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。结合课文说一说你对“长久的忠实于生活的旅行者”的理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从大自然中获得人生的启迪，并给人们传递知识、智慧和一切美好的东西。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7"/>
          <p:cNvSpPr/>
          <p:nvPr/>
        </p:nvSpPr>
        <p:spPr>
          <a:xfrm>
            <a:off x="380880" y="20574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少年旅行队队员们一路唱着欢乐的歌走来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齐读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旅行者之歌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。结合课文说一说你对“长久的忠实于生活的旅行者”的理解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304920" y="1371600"/>
            <a:ext cx="8001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同学们，你们外出旅行过吗？你们觉得旅行的过程中最大的收获是什么？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38080" y="30481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华文中宋"/>
              </a:rPr>
              <a:t>有一支和你们一样喜欢旅行的少年旅行队，感受到了旅行的快乐，让我们与他们一起分享快乐吧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华文中宋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"/>
          <p:cNvSpPr/>
          <p:nvPr/>
        </p:nvSpPr>
        <p:spPr>
          <a:xfrm>
            <a:off x="304920" y="990720"/>
            <a:ext cx="876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少年旅行队的含义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：首先指由少年组成的一支旅行队；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本文指的是少年旅行队到大自然中、生活中去旅行，收获许多东西；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联系全文，我们还能体会到，少年是人生之旅的开端，理应不断探索，就像小船要在海洋里开始探索之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152280" y="1295280"/>
            <a:ext cx="85345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标题的作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小标题是文章要点清晰，层次清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每个小标题概括性强，突出了各部分的核心内容和丰富意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五个小标题是文章的思路，抒情的脉络，串缀全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7"/>
          <p:cNvSpPr/>
          <p:nvPr/>
        </p:nvSpPr>
        <p:spPr>
          <a:xfrm>
            <a:off x="380880" y="21337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少年旅行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一组散文诗，它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纸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旅行者之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首诗组成。这五首散文诗既相对独立，又有内在的联系。该组诗以少年旅行队的远足旅行为线索，写了旅行队队员们在旅行中的所见、所闻、所做、所感，抒发了队员们热爱自然，热爱生活的思想感情，表达了他们渴望到生活的海洋里探索求知，在生活实践中锻炼成长的美好心愿。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8"/>
          <p:cNvSpPr txBox="1"/>
          <p:nvPr/>
        </p:nvSpPr>
        <p:spPr>
          <a:xfrm>
            <a:off x="685800" y="114300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隶书"/>
              </a:rPr>
              <a:t>课文小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隶书"/>
              <a:ea typeface="隶书"/>
            </a:endParaRPr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WordArt 4" descr=""/>
          <p:cNvPicPr/>
          <p:nvPr/>
        </p:nvPicPr>
        <p:blipFill>
          <a:blip r:embed="rId2"/>
          <a:stretch/>
        </p:blipFill>
        <p:spPr>
          <a:xfrm>
            <a:off x="2066760" y="2517840"/>
            <a:ext cx="4284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4114800" y="27432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4343400" y="2254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b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0"/>
          <p:cNvSpPr/>
          <p:nvPr/>
        </p:nvSpPr>
        <p:spPr>
          <a:xfrm>
            <a:off x="1143000" y="21337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3" descr="复件 思考"/>
          <p:cNvPicPr/>
          <p:nvPr/>
        </p:nvPicPr>
        <p:blipFill>
          <a:blip r:embed="rId2"/>
          <a:stretch/>
        </p:blipFill>
        <p:spPr>
          <a:xfrm>
            <a:off x="1371600" y="9907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58" name="WordArt 29"/>
          <p:cNvSpPr txBox="1"/>
          <p:nvPr/>
        </p:nvSpPr>
        <p:spPr>
          <a:xfrm>
            <a:off x="2362320" y="114300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隶书"/>
              </a:rPr>
              <a:t>我会认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0" y="304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少年旅行队在生活的海洋探索，在知识的海洋探索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2176920" y="2438280"/>
            <a:ext cx="3472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在全文中的作用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点明了文章主旨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统领全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533520" y="2560680"/>
            <a:ext cx="81532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少年旅行队出发了！我们赶快跟上他们的步伐！请同学们自己有感情地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出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这一部分，看看你能读懂什么？从中体会到什么？不懂的地方提出来。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990720" y="160020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隶书"/>
              </a:rPr>
              <a:t>交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7"/>
          <p:cNvSpPr/>
          <p:nvPr/>
        </p:nvSpPr>
        <p:spPr>
          <a:xfrm>
            <a:off x="380880" y="231444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们这是到生活里去，到一个知识的世界里去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838080" y="1371600"/>
            <a:ext cx="2362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句子分析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838080" y="38098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到“生活里去”“知识的世界里去”代表什么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2"/>
          <p:cNvSpPr/>
          <p:nvPr/>
        </p:nvSpPr>
        <p:spPr>
          <a:xfrm>
            <a:off x="3962520" y="2895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4419720" y="2895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4"/>
          <p:cNvSpPr/>
          <p:nvPr/>
        </p:nvSpPr>
        <p:spPr>
          <a:xfrm>
            <a:off x="4876920" y="2895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5"/>
          <p:cNvSpPr/>
          <p:nvPr/>
        </p:nvSpPr>
        <p:spPr>
          <a:xfrm>
            <a:off x="5334120" y="2895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6"/>
          <p:cNvSpPr/>
          <p:nvPr/>
        </p:nvSpPr>
        <p:spPr>
          <a:xfrm>
            <a:off x="609480" y="3429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7"/>
          <p:cNvSpPr/>
          <p:nvPr/>
        </p:nvSpPr>
        <p:spPr>
          <a:xfrm>
            <a:off x="1066680" y="3429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8"/>
          <p:cNvSpPr/>
          <p:nvPr/>
        </p:nvSpPr>
        <p:spPr>
          <a:xfrm>
            <a:off x="1523880" y="3429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9"/>
          <p:cNvSpPr/>
          <p:nvPr/>
        </p:nvSpPr>
        <p:spPr>
          <a:xfrm>
            <a:off x="1981080" y="3429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0"/>
          <p:cNvSpPr/>
          <p:nvPr/>
        </p:nvSpPr>
        <p:spPr>
          <a:xfrm>
            <a:off x="2438280" y="34290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7"/>
          <p:cNvSpPr/>
          <p:nvPr/>
        </p:nvSpPr>
        <p:spPr>
          <a:xfrm>
            <a:off x="304920" y="144792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就这样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我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永远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出发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长久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地在知识的世界里远足</a:t>
            </a:r>
            <a:r>
              <a:rPr b="1" lang="en-US" sz="3200" spc="-1" strike="noStrike">
                <a:solidFill>
                  <a:srgbClr val="99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今天走到这里，把知识带走了，明天我们又出发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838080" y="342900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华文中宋"/>
              </a:rPr>
              <a:t>      </a:t>
            </a:r>
            <a:r>
              <a:rPr b="0" lang="en-US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“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华文中宋"/>
              </a:rPr>
              <a:t>永远</a:t>
            </a:r>
            <a:r>
              <a:rPr b="0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”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华文中宋"/>
              </a:rPr>
              <a:t>、</a:t>
            </a:r>
            <a:r>
              <a:rPr b="0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“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华文中宋"/>
              </a:rPr>
              <a:t>长久</a:t>
            </a:r>
            <a:r>
              <a:rPr b="0" lang="zh-CN" sz="3200" spc="-1" strike="noStrike">
                <a:solidFill>
                  <a:srgbClr val="003300"/>
                </a:solidFill>
                <a:latin typeface="华文中宋"/>
                <a:ea typeface="华文中宋"/>
              </a:rPr>
              <a:t>”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华文中宋"/>
              </a:rPr>
              <a:t> 说明什么？从中你体会到了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1"/>
          <p:cNvSpPr/>
          <p:nvPr/>
        </p:nvSpPr>
        <p:spPr>
          <a:xfrm>
            <a:off x="152280" y="0"/>
            <a:ext cx="8991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都准备好了吗？没有忘记带昆虫网吗？没有忘记带标本箱吗？没有忘记带笔记本吗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一个问句和后面几个问句有何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仿写一段话：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762120" y="190512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谁能美美地读，读出旅行队员们出发前的期待与渴望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8"/>
          <p:cNvSpPr txBox="1"/>
          <p:nvPr/>
        </p:nvSpPr>
        <p:spPr>
          <a:xfrm>
            <a:off x="914400" y="838080"/>
            <a:ext cx="1828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读课文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0" name="Picture 10" descr="QQ截图未命名"/>
          <p:cNvPicPr/>
          <p:nvPr/>
        </p:nvPicPr>
        <p:blipFill>
          <a:blip r:embed="rId2"/>
          <a:stretch/>
        </p:blipFill>
        <p:spPr>
          <a:xfrm>
            <a:off x="2438280" y="3429000"/>
            <a:ext cx="415296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7-11-13T04:57:47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