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2-03-11T18:07:40.829000000" idx="1">
    <p:pos x="5326" y="109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B03-4EF7-41C9-BF6D-1E78551A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5D3-2AC4-469F-B18F-B94919E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F55-5692-423B-9D8F-9E5529EF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EFC-6700-486F-A913-8AD9FDD0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0ED-CE94-4C0C-94B5-0CB6749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218-4D88-4869-A211-5C271EC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791-5B90-4031-A793-2EE3CEC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752-842D-4F93-A890-2557A09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936-0BBB-4ECB-9595-4155885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428-E017-494A-A09A-EEDE885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938-4C89-41E6-983F-9E5E5AB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9AD3-D308-46C8-BE44-7841F21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E28-04C6-4DE0-84DB-B7C73AF065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10.xml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952960" y="3368520"/>
            <a:ext cx="5040360" cy="985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41400">
                  <a:solidFill>
                    <a:srgbClr val="ffcc99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少年旅行队</a:t>
            </a:r>
            <a:endParaRPr b="1" lang="en-US" sz="6600" spc="1" strike="noStrike">
              <a:ln w="41400">
                <a:solidFill>
                  <a:srgbClr val="ffcc99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836640"/>
            <a:ext cx="84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标本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让一些无用的东西占去了地方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65720"/>
            <a:ext cx="1008000" cy="52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36000" y="6165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505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记忆的箱子里，什么是无用的东西？我们应该记住哪些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333360"/>
            <a:ext cx="8136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旅行者之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愿意当一个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长久的忠实于生活的旅行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在大山和海洋之间行走，我跨过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山岭、河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和无数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小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。我要去找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大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做朋友，找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海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做朋友，找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河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跟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道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做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山使我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坚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、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镇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让我长得像一片茂盛的树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大海使我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心胸开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热情汹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有的河流，使我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灵巧活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，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永远前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愿意一生在这些地方行走，从它们那里去寻找这些东西，分送到每一个人的心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以我愿意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当一个长久的忠实于生活的旅行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3880" y="838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少年旅行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752480"/>
            <a:ext cx="6782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期待与激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生活处处皆学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纸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未来的憧憬与梦想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采集、研究、保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旅行者之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忠实于生活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热爱自然、热爱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1125360"/>
            <a:ext cx="518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32000" y="1125360"/>
            <a:ext cx="4680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31680">
                  <a:solidFill>
                    <a:srgbClr val="ff99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成功之路</a:t>
            </a:r>
            <a:endParaRPr b="1" lang="en-US" sz="6000" spc="1" strike="noStrike">
              <a:ln w="31680">
                <a:solidFill>
                  <a:srgbClr val="ff99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6345360"/>
            <a:ext cx="5126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44224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少年旅行队带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带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发，去探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探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057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读懂了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部分，这部分讲述的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352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找到了这一部分的突破口——这一部分的重点词语是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 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我的理解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669960"/>
            <a:ext cx="838188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ūnchóngwǎng   diàoqǐ     diàoyú     gèbēnqiánch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虫网      钓起   钓鱼    各奔前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iǎodé      chūnxiǎo     bùzǐ            xiōngyǒ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晓得    春晓     簿子     汹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liànliànbùsh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恋恋不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1268280"/>
            <a:ext cx="8964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学习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初读了解大意并质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以重点词句为突破口理解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联系全文，展开丰富的想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有感情地朗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623736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32000" y="623736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59280" y="6237360"/>
            <a:ext cx="762120" cy="3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516720" y="6237360"/>
            <a:ext cx="762120" cy="333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7640" y="61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165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6165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616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8172360" y="6237360"/>
            <a:ext cx="762120" cy="33336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谁来说一说，少年旅行队的含义是什么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057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从哪几个方面写了旅行队在旅途中的所闻、所做、所想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048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出发、老师、小纸船、标本、旅行者之歌）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609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宋体"/>
                <a:ea typeface="隶书"/>
              </a:rPr>
              <a:t>学习《出发》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少年旅行队出发了！我们赶快跟上他们的步伐！请同学们自己有感情地读《出发》这一部分，看看你能读懂什么？从中体会到什么？不懂的地方提出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971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全班交流。重点理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是到生活里去，到一个知识的世界里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里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的世界里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代表什么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永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说明什么？从中你体会到了什么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谁能美美地读，读出旅行队员们出发前的期待与渴望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1447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请同学们运用以上的学习方法，从《老师》、《小纸船》、《标本》、《旅行者之歌》中选择自己最喜欢的，同桌之间互相讲解。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476280"/>
            <a:ext cx="82803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老师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老师，生活的老师，你快把我们养大吧！告诉我们这个，又告诉我们那个。最重要的是先让我们看到许多困难，然后才看到成功。让我们经历许多艰苦，而又让我们在劳动的时候，得到快乐！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65720"/>
            <a:ext cx="1008000" cy="520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136000" y="6165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孩子们对知识的渴望，对成长的渴望，他们不畏困难，勇敢面对生活挑战的勇气，以及对生活的深刻理解——只有经历风雨，才会见到彩虹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54936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2472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纸船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！连一只小纸船都漂得这么久，这么远！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65720"/>
            <a:ext cx="1008000" cy="52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8136000" y="6165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7339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诗人托物言志，写出了少年队员们对美好未来的憧憬与梦想。借纸船来放飞自己的梦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125360"/>
            <a:ext cx="864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“这种联系”指的是：在旅途中，孩子们暂时离开了亲人，来到了大自然，虽然大自然与外界的联系不再便捷，但他们的心里却永远关心着祖国，祖国也融入到他们的血液里。孩子们通过广播了解国家大事，关注国家发展，由此表达了少年们热爱祖国的思想感情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65720"/>
            <a:ext cx="1008000" cy="52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36000" y="6165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04920"/>
            <a:ext cx="81532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听广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种联系在我们的心里，在我们的血液里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1:07:22Z</dcterms:created>
  <dc:creator/>
  <dc:description/>
  <cp:keywords/>
  <dc:language>en-US</dc:language>
  <cp:lastModifiedBy>微软用户</cp:lastModifiedBy>
  <dcterms:modified xsi:type="dcterms:W3CDTF">2017-11-13T04:47:48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3000000000001024120</vt:lpwstr>
  </property>
</Properties>
</file>