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F11-58E0-4567-99CA-FD8973B0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4E46-804A-44CE-A7B1-3E2B6A61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F31-842D-4A36-AD4F-6BDAC53D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F31-F4E1-4823-A00B-C1B53EE4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C184-3128-4F21-AA04-990665ED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1998-8643-4E0D-A464-4E0849B3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76EA-CB13-4446-98E6-2478623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7411-4ADF-48D3-B0E2-855DE2FC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6031-098E-4EEC-83E8-AF0736EB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F462-758C-47B5-AF60-3507BF92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02C0-3A2D-4EBD-BFAD-7F8B70E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E06-376D-49FA-BE6A-ED620713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7249-4C55-45A5-AA3F-E73F52F4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2F83-B6E3-4770-8BA7-E06BF83D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7B94-BB42-4D92-A0C1-EB934333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5A7B-DDFB-40AC-876A-4CD82DFF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7905-9F4C-4256-9CC1-094FB515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C31-9DC6-4E51-A55C-DFB12BD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C1D-482A-42FC-AC6C-D4F51390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5E7-380A-4486-A1F7-C9790D33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DD6-0D51-451D-BB1D-16D64A24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F7B-853C-4132-AA51-CFF65C5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4FD-92E2-4F79-90AD-E0FBAC33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5CA-818C-4220-A7CD-4DCCEF33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1674-C119-4475-BA1B-894994DC29B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861F-E71C-41B0-ADD3-17E1B14538F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50002" t="48369" r="7814" b="9382"/>
          <a:stretch/>
        </p:blipFill>
        <p:spPr>
          <a:xfrm>
            <a:off x="152280" y="609480"/>
            <a:ext cx="8839440" cy="5791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429000" y="3657600"/>
            <a:ext cx="49766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少年旅行队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6640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请同学们用这种学习方法，从《老师》《小纸船》《听广播》《标本》中选择你最喜欢的，细细品味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828800" y="1523880"/>
            <a:ext cx="3048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会自学了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57200" y="1523880"/>
            <a:ext cx="108576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0481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362320" y="1371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117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《老师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04812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从“亲爱的老师，生活的老师，你快把我们养大吧！……最重要的是先让我们看到许多困难，然后才看到成功……得到快乐！”中你体会到什么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143000" y="1143000"/>
            <a:ext cx="9907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362320" y="1371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3623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《小纸船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352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     “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看！连一只小纸船都漂得这么久，这么远！”更何况怎样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143000" y="1143000"/>
            <a:ext cx="9907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1371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3623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《听广播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3526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这种联系在我们的心里，在我们的血液里……”这里的“联系”指的是什么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1143000" y="1143000"/>
            <a:ext cx="9907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1371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438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《标本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33526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不要让一些无用的东西占去了地方……”什么是“无用的东西”？应该记住哪些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143000" y="1143000"/>
            <a:ext cx="9907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0574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少年旅行队队员们一路唱着欢乐的歌走来——齐读《旅行者之歌》。结合课文说一说你对“长久的忠实于生活的旅行者”的理解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924680" y="914400"/>
            <a:ext cx="1006560" cy="1295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2880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《少年旅行队》是一组散文诗，它由《出发》《老师》《小纸船》《听广播》《标本》《旅行者之歌》六首诗组成。这六首散文诗既相对独立，又有内在的联系。该组诗以少年旅行队的远足旅行为线索，写了旅行队队员们在旅行中的所见、所闻、所做、所感，抒发了队员们热爱自然，热爱生活的思想感情，表达了他们渴望到生活的海洋里探索求知，在生活实践中锻炼成长的美好心愿。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523880" y="11430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隶书"/>
              </a:rPr>
              <a:t>课文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隶书"/>
              <a:ea typeface="隶书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57200" y="1066680"/>
            <a:ext cx="8888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2734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、背诵《旅行者之歌》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24368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、有感情地朗读课文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41133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、将文中的好词佳句积累下来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00200" y="144792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课外作业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80880" y="1143000"/>
            <a:ext cx="10810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69920" y="609480"/>
            <a:ext cx="8804160" cy="5943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809880" y="152388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谢谢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52280" y="609480"/>
            <a:ext cx="8839440" cy="5943600"/>
            <a:chOff x="152280" y="609480"/>
            <a:chExt cx="8839440" cy="5943600"/>
          </a:xfrm>
        </p:grpSpPr>
        <p:sp>
          <p:nvSpPr>
            <p:cNvPr id="84" name=""/>
            <p:cNvSpPr/>
            <p:nvPr/>
          </p:nvSpPr>
          <p:spPr>
            <a:xfrm>
              <a:off x="152280" y="609480"/>
              <a:ext cx="8839440" cy="5867640"/>
            </a:xfrm>
            <a:prstGeom prst="rect">
              <a:avLst/>
            </a:prstGeom>
            <a:solidFill>
              <a:srgbClr val="ffa67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rcRect l="0" t="60608" r="0" b="27272"/>
            <a:stretch/>
          </p:blipFill>
          <p:spPr>
            <a:xfrm>
              <a:off x="152280" y="5410080"/>
              <a:ext cx="883944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7365960" y="914400"/>
              <a:ext cx="12430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52280" y="609480"/>
              <a:ext cx="8839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2280" y="6324480"/>
              <a:ext cx="8839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920" y="1371600"/>
            <a:ext cx="7162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同学们，你们外出旅行过吗？你们觉得旅行的过程中最大的收获是什么？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0481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华文中宋"/>
              </a:rPr>
              <a:t>有一支和你们一样喜欢旅行的少年旅行队，感受到了旅行的快乐，让我们与他们一起分享快乐吧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华文中宋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905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华文中宋"/>
              </a:rPr>
              <a:t>      “……</a:t>
            </a:r>
            <a:r>
              <a:rPr b="0" lang="zh-CN" sz="3600" spc="-1" strike="noStrike">
                <a:solidFill>
                  <a:srgbClr val="990000"/>
                </a:solidFill>
                <a:latin typeface="Arial"/>
                <a:ea typeface="华文中宋"/>
              </a:rPr>
              <a:t>少年旅行队在生活的海洋探索，在知识的海洋探索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3733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诗人从哪几方面写了旅行队在旅途中的所闻、所做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10098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5606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少年旅行队出发了！我们赶快跟上他们的步伐！请同学们自己有感情地读《出发》这一部分，看看你能读懂什么？从中体会到什么？不懂的地方提出来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9320" y="1447920"/>
            <a:ext cx="1447560" cy="682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971800" y="160020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交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1444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    “</a:t>
            </a:r>
            <a:r>
              <a:rPr b="0" lang="zh-CN" sz="3600" spc="-1" strike="noStrike">
                <a:solidFill>
                  <a:srgbClr val="003300"/>
                </a:solidFill>
                <a:latin typeface="黑体"/>
                <a:ea typeface="黑体"/>
              </a:rPr>
              <a:t>我们这是到生活里去，到一个知识的世界里去。”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44792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句子分析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80880" y="1295280"/>
            <a:ext cx="1009800" cy="819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38080" y="38098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到“生活里去”“知识的世界里去”代表什么？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479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就这样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我们永远出发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长久地在知识的世界里远足……今天走到这里，把知识带走了，明天我们又出发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4290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      “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永远”“长久” 说明什么？从中你体会到了什么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934320" y="2895480"/>
            <a:ext cx="1023840" cy="1123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7800" y="1523880"/>
            <a:ext cx="838080" cy="4572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1523880"/>
            <a:ext cx="914400" cy="4572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8954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隶书"/>
              </a:rPr>
              <a:t>谁能美美地读，读出旅行队员们出发前的期待与渴望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752480" y="175248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读课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7200" y="1676520"/>
            <a:ext cx="1009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765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“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我们不停地探寻，要走遍生活，走遍这个无边的知识世界……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40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990000"/>
                </a:solidFill>
                <a:latin typeface="华文中宋"/>
                <a:ea typeface="华文中宋"/>
              </a:rPr>
              <a:t>句中的“……”表示什么？ 说一说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76520" y="3505320"/>
            <a:ext cx="14000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考考你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762120" y="3657600"/>
            <a:ext cx="6570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280" y="609480"/>
            <a:ext cx="8839440" cy="5867640"/>
          </a:xfrm>
          <a:prstGeom prst="rect">
            <a:avLst/>
          </a:prstGeom>
          <a:solidFill>
            <a:srgbClr val="ffa67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0" t="60608" r="0" b="27272"/>
          <a:stretch/>
        </p:blipFill>
        <p:spPr>
          <a:xfrm>
            <a:off x="152280" y="5410080"/>
            <a:ext cx="8839440" cy="1067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365960" y="914400"/>
            <a:ext cx="1243080" cy="160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609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6324480"/>
            <a:ext cx="88394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90920" y="1447920"/>
            <a:ext cx="3276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总结学习方法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362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细读文章，了解大体内容，标出不懂的问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429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抓住重点词句理解课文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409896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由课文留白处展开合理的想象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800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有感情地朗读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1143000" y="1295280"/>
            <a:ext cx="10098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31T09:30:5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