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E5B-4BF3-477C-ABF0-F131AE03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29A-E1D5-4460-BA33-A3BC9822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05E-AC45-478E-8D98-1B8EFE19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8C5-9749-41DE-B3E0-304BE0A5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DD7-577F-48BC-8D6F-89EE46A5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51F-544B-4F4E-AA63-9AA5DE7C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A2A-11E4-443A-9148-B0510702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3F0-B0FE-405A-A884-35E3E03B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216-7638-4A53-93AD-CD3915E6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413-7D8B-4DCB-945A-053336D2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F54-E680-415E-AB98-2FCAF279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145-2B9F-40DD-A46C-C22C48C2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312F-5717-49AE-AB30-B9DF56C701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76360" y="907920"/>
            <a:ext cx="374508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“木叶”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39040" y="5877000"/>
            <a:ext cx="804960" cy="981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492360" y="4292640"/>
            <a:ext cx="4496040" cy="16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湖南省桃江县一中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   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    </a:t>
            </a: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彭 丰 良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4374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读第四段，请思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木”一般用在什么场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秋风叶落的季节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品味诗句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秋月照层岭，寒风扫高木。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”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高树多悲风，海水扬其波。”比较诗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高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与 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高树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不同意味。（</a:t>
            </a:r>
            <a:r>
              <a:rPr b="1" lang="zh-CN" sz="4400" spc="-1" strike="noStrike" u="sng">
                <a:solidFill>
                  <a:srgbClr val="333399"/>
                </a:solidFill>
                <a:uFillTx/>
                <a:latin typeface="Arial"/>
              </a:rPr>
              <a:t>方法提示：朗读感悟，划出文中关键词句，相互讨论交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04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076720" y="549360"/>
            <a:ext cx="381636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秋月照层岭，寒风扫高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——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吴均《答柳恽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4459800">
            <a:off x="5635440" y="3805200"/>
            <a:ext cx="2825640" cy="1209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落木千山</a:t>
            </a:r>
            <a:endParaRPr b="1" lang="en-US" sz="4400" spc="1" strike="noStrike">
              <a:ln w="12600">
                <a:solidFill>
                  <a:srgbClr val="c4b596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26920" y="476280"/>
            <a:ext cx="1582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空阔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38560" y="765000"/>
            <a:ext cx="41054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zh-CN" sz="4800" spc="-1" strike="noStrike" u="sng">
                <a:solidFill>
                  <a:srgbClr val="cc3300"/>
                </a:solidFill>
                <a:uFillTx/>
                <a:latin typeface="Arial"/>
              </a:rPr>
              <a:t>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多悲风，海水扬其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—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曹植《野田黄雀行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260280"/>
            <a:ext cx="151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饱满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8" name=""/>
          <p:cNvSpPr txBox="1"/>
          <p:nvPr/>
        </p:nvSpPr>
        <p:spPr>
          <a:xfrm rot="5400000">
            <a:off x="5505840" y="4079160"/>
            <a:ext cx="3025800" cy="11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枝叶繁茂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688000" y="4998960"/>
            <a:ext cx="34560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高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多悲风，海水扬其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   —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曹植《野田黄雀行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4998960"/>
            <a:ext cx="345600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秋月照层岭，寒风扫高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吴均《答柳恽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4427640" cy="4103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859280" cy="4103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396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说说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作者引用以上诗句作用何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76720" y="1628640"/>
            <a:ext cx="1150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木</a:t>
            </a:r>
            <a:endParaRPr b="1" lang="en-US" sz="6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572000" y="1341360"/>
            <a:ext cx="4572000" cy="5516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606920" cy="5589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1700280"/>
            <a:ext cx="7489800" cy="283716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它“木”比“树”更显得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Arial"/>
              </a:rPr>
              <a:t>单纯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，仿佛本身就含有一个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Arial"/>
              </a:rPr>
              <a:t>落叶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的因素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333360"/>
            <a:ext cx="532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8900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木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”的第一个艺术特征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精读课文第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段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概括“木”在形象上的第二个特征（</a:t>
            </a:r>
            <a:r>
              <a:rPr b="1" i="1" lang="zh-CN" sz="5400" spc="-1" strike="noStrike" u="sng">
                <a:solidFill>
                  <a:srgbClr val="0066ff"/>
                </a:solidFill>
                <a:uFillTx/>
                <a:latin typeface="Arial"/>
              </a:rPr>
              <a:t>请先听读这段前面的内容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572000" y="1341360"/>
            <a:ext cx="4572000" cy="5516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606920" cy="5589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1989000"/>
            <a:ext cx="7920000" cy="22874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木”不但让我们容易想起树干，而且还会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</a:rPr>
              <a:t>带来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“木”所暗示的颜色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</a:rPr>
              <a:t>，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它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</a:rPr>
              <a:t>可能是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透着黄色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，而且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</a:rPr>
              <a:t>在触觉上它可能是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干燥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</a:rPr>
              <a:t>的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而不是湿润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333360"/>
            <a:ext cx="532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6028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木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”的第二个艺术特征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820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根据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”的形象特征，品味探讨诗句“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袅袅兮秋风，洞庭波兮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木叶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下。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和“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柔条纷冉冉，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落叶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何翩翩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。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中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木叶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落叶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”的不同意味（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Arial"/>
              </a:rPr>
              <a:t>方法提示：朗读感悟，抓关键词句，相互讨论，合作探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62064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235440" y="0"/>
            <a:ext cx="3253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袅袅兮秋风，洞庭波兮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木叶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         ——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屈原《九歌 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0464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Times New Roman"/>
              </a:rPr>
              <a:t>木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11280" y="378000"/>
            <a:ext cx="8136720" cy="6478560"/>
            <a:chOff x="611280" y="378000"/>
            <a:chExt cx="8136720" cy="6478560"/>
          </a:xfrm>
        </p:grpSpPr>
        <p:grpSp>
          <p:nvGrpSpPr>
            <p:cNvPr id="46" name=""/>
            <p:cNvGrpSpPr/>
            <p:nvPr/>
          </p:nvGrpSpPr>
          <p:grpSpPr>
            <a:xfrm>
              <a:off x="1035000" y="472680"/>
              <a:ext cx="7713000" cy="6383880"/>
              <a:chOff x="1035000" y="472680"/>
              <a:chExt cx="7713000" cy="638388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035000" y="472680"/>
                <a:ext cx="7633080" cy="6383880"/>
                <a:chOff x="1035000" y="472680"/>
                <a:chExt cx="7633080" cy="6383880"/>
              </a:xfrm>
            </p:grpSpPr>
            <p:pic>
              <p:nvPicPr>
                <p:cNvPr id="4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35000" y="949320"/>
                  <a:ext cx="7361280" cy="512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7209000" y="1711440"/>
                  <a:ext cx="611280" cy="36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59080" y="3045240"/>
                  <a:ext cx="763200" cy="190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" name=""/>
                <p:cNvSpPr/>
                <p:nvPr/>
              </p:nvSpPr>
              <p:spPr>
                <a:xfrm>
                  <a:off x="8329320" y="472680"/>
                  <a:ext cx="338760" cy="6383880"/>
                </a:xfrm>
                <a:prstGeom prst="rect">
                  <a:avLst/>
                </a:prstGeom>
                <a:solidFill>
                  <a:srgbClr val="b84c2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" name=""/>
              <p:cNvSpPr/>
              <p:nvPr/>
            </p:nvSpPr>
            <p:spPr>
              <a:xfrm>
                <a:off x="8244360" y="758520"/>
                <a:ext cx="503640" cy="5812560"/>
              </a:xfrm>
              <a:prstGeom prst="rect">
                <a:avLst/>
              </a:prstGeom>
              <a:solidFill>
                <a:srgbClr val="fff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11280" y="378000"/>
              <a:ext cx="508320" cy="6383880"/>
              <a:chOff x="611280" y="378000"/>
              <a:chExt cx="508320" cy="6383880"/>
            </a:xfrm>
          </p:grpSpPr>
          <p:sp>
            <p:nvSpPr>
              <p:cNvPr id="54" name=""/>
              <p:cNvSpPr/>
              <p:nvPr/>
            </p:nvSpPr>
            <p:spPr>
              <a:xfrm>
                <a:off x="695880" y="378000"/>
                <a:ext cx="338760" cy="6383880"/>
              </a:xfrm>
              <a:prstGeom prst="rect">
                <a:avLst/>
              </a:prstGeom>
              <a:solidFill>
                <a:srgbClr val="b84c2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11280" y="663840"/>
                <a:ext cx="508320" cy="5812200"/>
              </a:xfrm>
              <a:prstGeom prst="rect">
                <a:avLst/>
              </a:prstGeom>
              <a:solidFill>
                <a:srgbClr val="fff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2124000" y="0"/>
            <a:ext cx="5040360" cy="1700280"/>
          </a:xfrm>
          <a:prstGeom prst="wedgeRoundRectCallout">
            <a:avLst>
              <a:gd name="adj1" fmla="val 14407"/>
              <a:gd name="adj2" fmla="val 161111"/>
              <a:gd name="adj3" fmla="val 16667"/>
            </a:avLst>
          </a:prstGeom>
          <a:solidFill>
            <a:srgbClr val="fff4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诗中作者为何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不用“落叶”与“落花”，而用“落木”与“落红”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1916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无边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Arial"/>
              </a:rPr>
              <a:t>落木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萧萧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8280"/>
            <a:ext cx="5329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尽长江滚滚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357336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Arial"/>
              </a:rPr>
              <a:t>落红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不是无情物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436572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化作春泥更护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00" y="1484280"/>
            <a:ext cx="8506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诗词填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7680" y="549360"/>
            <a:ext cx="265968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柔条纷冉冉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落叶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何翩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曹植《美女篇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73000" y="836640"/>
            <a:ext cx="26182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落 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486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填写下表，归纳比较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“（落）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（叶）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树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（叶）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不同意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6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20640"/>
            <a:ext cx="9144000" cy="54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981000"/>
          <a:ext cx="9144000" cy="4862520"/>
        </p:xfrm>
        <a:graphic>
          <a:graphicData uri="http://schemas.openxmlformats.org/drawingml/2006/table">
            <a:tbl>
              <a:tblPr/>
              <a:tblGrid>
                <a:gridCol w="1187280"/>
                <a:gridCol w="936720"/>
                <a:gridCol w="935280"/>
                <a:gridCol w="1441440"/>
                <a:gridCol w="1008000"/>
                <a:gridCol w="1150920"/>
                <a:gridCol w="248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意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场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外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颜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质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意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联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落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)       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木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叶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树</a:t>
                      </a: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叶</a:t>
                      </a: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332000" y="371628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春夏之交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1557360"/>
            <a:ext cx="93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秋风叶落</a:t>
            </a:r>
            <a:r>
              <a:rPr b="1" lang="zh-CN" sz="24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1413000"/>
            <a:ext cx="93672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脱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叶子</a:t>
            </a:r>
            <a:r>
              <a:rPr b="1" lang="zh-CN" sz="2400" spc="-1" strike="noStrike">
                <a:solidFill>
                  <a:srgbClr val="6699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95640" y="3716280"/>
            <a:ext cx="936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枝叶繁茂</a:t>
            </a:r>
            <a:r>
              <a:rPr b="1" lang="zh-CN" sz="4000" spc="-1" strike="noStrike">
                <a:solidFill>
                  <a:srgbClr val="6699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4365720"/>
            <a:ext cx="108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3933720"/>
            <a:ext cx="136836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叶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褐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干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198900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干燥</a:t>
            </a:r>
            <a:r>
              <a:rPr b="1" lang="zh-CN" sz="24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3716280"/>
            <a:ext cx="863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饱含水分</a:t>
            </a:r>
            <a:r>
              <a:rPr b="1" lang="zh-CN" sz="4000" spc="-1" strike="noStrike">
                <a:solidFill>
                  <a:srgbClr val="6699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162864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阔疏朗</a:t>
            </a:r>
            <a:r>
              <a:rPr b="1" lang="zh-CN" sz="2000" spc="-1" strike="noStrike">
                <a:solidFill>
                  <a:srgbClr val="669900"/>
                </a:solidFill>
                <a:latin typeface="Times New Roman"/>
                <a:ea typeface="华文行楷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3716280"/>
            <a:ext cx="863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饱满绵密</a:t>
            </a:r>
            <a:r>
              <a:rPr b="1" lang="zh-CN" sz="4000" spc="-1" strike="noStrike">
                <a:solidFill>
                  <a:srgbClr val="6699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1700280"/>
            <a:ext cx="234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离人的叹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游子的漂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秋的性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04000" y="5157720"/>
            <a:ext cx="187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4005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密密层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浓阴满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3760" y="1916280"/>
            <a:ext cx="1399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枯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0" y="2852640"/>
            <a:ext cx="136836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1989000"/>
            <a:ext cx="1368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640" y="1197000"/>
            <a:ext cx="230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8e3e6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暗示性</a:t>
            </a:r>
            <a:endParaRPr b="1" lang="en-US" sz="6000" spc="1" strike="noStrike">
              <a:ln w="9360">
                <a:solidFill>
                  <a:srgbClr val="8e3e6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2781360"/>
            <a:ext cx="1297080" cy="720720"/>
          </a:xfrm>
          <a:prstGeom prst="line">
            <a:avLst/>
          </a:prstGeom>
          <a:ln w="57240">
            <a:solidFill>
              <a:srgbClr val="8e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3280" y="3789360"/>
            <a:ext cx="2881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诗歌语言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549360"/>
            <a:ext cx="4968720" cy="1191240"/>
          </a:xfrm>
          <a:prstGeom prst="rect">
            <a:avLst/>
          </a:prstGeom>
          <a:noFill/>
          <a:ln w="9360">
            <a:solidFill>
              <a:srgbClr val="8e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仿佛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是概念的影子，常常躲在概念的背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我们不留心就不会察觉它的存在。敏感而有修养的诗人们正在于能认识语言形象中一切潜在的力量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把这些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潜在的力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与概念中的意义交织组合起来，成为丰富多彩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一言难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的言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4360" y="2997360"/>
            <a:ext cx="2085840" cy="30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启发性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感染性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58920" y="1700280"/>
            <a:ext cx="1441440" cy="64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木 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1989000"/>
            <a:ext cx="301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157720"/>
            <a:ext cx="1511640" cy="64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树 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516640"/>
            <a:ext cx="352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413000"/>
            <a:ext cx="1368720" cy="11912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疏 朗空 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4869000"/>
            <a:ext cx="1368360" cy="1739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绵 密   饱 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3429000"/>
            <a:ext cx="2087640" cy="64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相去无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3357720"/>
            <a:ext cx="2041560" cy="64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字千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227664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79640" y="4076640"/>
            <a:ext cx="144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300720" y="2276640"/>
            <a:ext cx="79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4076640"/>
            <a:ext cx="7920" cy="10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3657600"/>
            <a:ext cx="67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3657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076640"/>
            <a:ext cx="28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6720" y="3357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64040" y="2781360"/>
            <a:ext cx="1277640" cy="18730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暗 示 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272520"/>
            <a:ext cx="3600360" cy="82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全 文 总 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5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03640" y="404640"/>
            <a:ext cx="2449440" cy="702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700280"/>
            <a:ext cx="2232000" cy="1312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问题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—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997360"/>
            <a:ext cx="0" cy="1366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4797360"/>
            <a:ext cx="673200" cy="863640"/>
          </a:xfrm>
          <a:custGeom>
            <a:avLst/>
            <a:gdLst>
              <a:gd name="textAreaLeft" fmla="*/ 0 w 673200"/>
              <a:gd name="textAreaRight" fmla="*/ 673560 w 673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1628640"/>
            <a:ext cx="2447640" cy="1434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析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—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16360" y="2997360"/>
            <a:ext cx="0" cy="1368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4365720"/>
            <a:ext cx="244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析“木”的两个艺术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724280"/>
            <a:ext cx="647640" cy="936720"/>
          </a:xfrm>
          <a:custGeom>
            <a:avLst/>
            <a:gdLst>
              <a:gd name="textAreaLeft" fmla="*/ 0 w 647640"/>
              <a:gd name="textAreaRight" fmla="*/ 648000 w 647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1628640"/>
            <a:ext cx="2627280" cy="1434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结全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67640" y="2924280"/>
            <a:ext cx="0" cy="1366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8000" y="4292640"/>
            <a:ext cx="2232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艺术领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一字之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相隔千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59280" y="404640"/>
            <a:ext cx="28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全文思 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4292640"/>
            <a:ext cx="244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木叶”为古代诗人所钟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48000" y="259560"/>
            <a:ext cx="2376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拓展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42560" y="1557360"/>
            <a:ext cx="67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体味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下列诗句中各意象潜在暗含的意义，把它们各自表达的情感连线起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34136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梧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更兼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细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到黄昏、点点滴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0500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羌笛何须怨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幼圆"/>
                <a:ea typeface="幼圆"/>
              </a:rPr>
              <a:t>杨柳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春风不度玉门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3860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忧愁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13413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幼圆"/>
              </a:rPr>
              <a:t>离别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 rot="20872800">
            <a:off x="5746680" y="1832400"/>
            <a:ext cx="1360440" cy="37620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0"/>
                </a:moveTo>
                <a:lnTo>
                  <a:pt x="480" y="432"/>
                </a:lnTo>
              </a:path>
            </a:pathLst>
          </a:custGeom>
          <a:solidFill>
            <a:srgbClr val="cc0000"/>
          </a:solidFill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1700280"/>
            <a:ext cx="2874960" cy="23382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3573360"/>
            <a:ext cx="2592360" cy="216072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2767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64832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夜闻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幼圆"/>
              </a:rPr>
              <a:t>归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生相思，病入新年感物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41008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采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幼圆"/>
              </a:rPr>
              <a:t>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东篱下，悠然见南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8620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期间旦暮为何物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幼圆"/>
                <a:ea typeface="幼圆"/>
              </a:rPr>
              <a:t>杜鹃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啼血猿哀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2133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怨恨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24080" y="2565360"/>
            <a:ext cx="3969000" cy="162576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29973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思念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653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脱俗之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932360" y="3357720"/>
            <a:ext cx="2136600" cy="136656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572000" y="4868640"/>
            <a:ext cx="2496960" cy="86508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068640"/>
            <a:ext cx="56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幼圆"/>
              </a:rPr>
              <a:t>墙角数枝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隶书"/>
                <a:ea typeface="幼圆"/>
              </a:rPr>
              <a:t>梅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幼圆"/>
              </a:rPr>
              <a:t>，凌寒独自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20000" y="5445000"/>
            <a:ext cx="26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圣洁 坚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419640" y="0"/>
            <a:ext cx="2376360" cy="70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3385440"/>
            <a:ext cx="946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1341360"/>
            <a:ext cx="7559640" cy="4176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、搜集有关含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月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”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梅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”等     意象的古典诗词。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、在班上进行交流。        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、认真品味欣赏，就自己所得谈谈感悟，写成小论文。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-720"/>
            <a:ext cx="2376360" cy="703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课后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547640" y="836640"/>
            <a:ext cx="63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宋体"/>
              </a:rPr>
              <a:t>谢谢指导！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596360" y="5157720"/>
            <a:ext cx="73800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3" dur="16512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59280" y="5300640"/>
            <a:ext cx="1295280" cy="78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003640" y="1484280"/>
            <a:ext cx="3888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说“木叶”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43640" y="3860640"/>
            <a:ext cx="244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—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林 庚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08360" y="333360"/>
            <a:ext cx="54356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林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1910—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静希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我国现当代著名学者，诗人，文史学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3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毕业于清华大学中文系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3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出版了第一本自由体诗集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《夜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林庚先生历任厦门大学，燕京大学，北京大学中文系教授，出版过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《春野与窗》《问路集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六部新诗集及古典文学专著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《诗人李白》《中国文学简史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290760" cy="4824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475560"/>
            <a:ext cx="23763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走近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请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快速浏览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文章第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段，说说文中引用大量诗句是为了说明一个什么现象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50920" y="333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新宋体"/>
                <a:ea typeface="新宋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新宋体"/>
                <a:ea typeface="新宋体"/>
              </a:rPr>
              <a:t>现   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981000"/>
            <a:ext cx="0" cy="18288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396720" y="2492280"/>
            <a:ext cx="95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</a:rPr>
              <a:t>“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Arial"/>
              </a:rPr>
              <a:t>木叶</a:t>
            </a: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</a:rPr>
              <a:t>” 为历代诗人所钟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720" y="3573360"/>
            <a:ext cx="8747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在古诗中，诗人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极少用“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树叶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常用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木叶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”甚至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落木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”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原因何在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</a:rPr>
              <a:t>木叶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”到“</a:t>
            </a: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</a:rPr>
              <a:t>落木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”，其与“</a:t>
            </a:r>
            <a:r>
              <a:rPr b="1" lang="zh-CN" sz="6600" spc="-1" strike="noStrike" u="sng">
                <a:solidFill>
                  <a:srgbClr val="0000ff"/>
                </a:solidFill>
                <a:uFillTx/>
                <a:latin typeface="Arial"/>
              </a:rPr>
              <a:t>树叶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”或“</a:t>
            </a:r>
            <a:r>
              <a:rPr b="1" lang="zh-CN" sz="6600" spc="-1" strike="noStrike" u="sng">
                <a:solidFill>
                  <a:srgbClr val="0000ff"/>
                </a:solidFill>
                <a:uFillTx/>
                <a:latin typeface="Arial"/>
              </a:rPr>
              <a:t>落叶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”的不同，其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</a:rPr>
              <a:t>关键点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在哪？（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请从第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段中找答案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新宋体"/>
                <a:ea typeface="新宋体"/>
              </a:rPr>
              <a:t>关 键 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63640" y="3516480"/>
            <a:ext cx="6337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在“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木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”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916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重点研读探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7:59:13Z</dcterms:created>
  <dc:creator>高克利</dc:creator>
  <dc:description/>
  <dc:language>en-US</dc:language>
  <cp:lastModifiedBy>zmj</cp:lastModifiedBy>
  <dcterms:modified xsi:type="dcterms:W3CDTF">2008-11-28T10:23:49Z</dcterms:modified>
  <cp:revision>400</cp:revision>
  <dc:subject/>
  <dc:title>《说“木叶》</dc:title>
</cp:coreProperties>
</file>