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9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6.gif" ContentType="image/gif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15.gif" ContentType="image/gi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257B-4CF0-49DE-A18E-86B6EEB98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A1F6-A322-47E0-993A-45725CE0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7541-B701-48AA-95B6-3A7B79922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17EB-0707-4695-A861-1845CC89E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F61A-C1AE-4333-A052-94A135AB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DF69-1194-462D-B1EE-A80DE323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692D-AFF0-4152-BE13-57D39EA6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07CB-E607-47D4-A900-CED73A22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E3C9-AD98-4913-BE48-7BFCACFF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102B-7C57-43B1-A341-95BD44DE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D8C9-0B3E-46DC-A32A-EFCA1AE9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B61D-7865-4D5B-B50D-AA62D7C5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05A9-880C-49B9-8591-11AE991257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video" Target="file:///tmp/home/.config/libreoffice/4/user/gallery/&#24050;&#24405;&#19979;&#30340;&#22768;&#38899;" TargetMode="External"/><Relationship Id="rId4" Type="http://schemas.microsoft.com/office/2007/relationships/media" Target="file:///tmp/home/.config/libreoffice/4/user/gallery/&#24050;&#24405;&#19979;&#30340;&#22768;&#38899;" TargetMode="External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362320" y="3123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隶书"/>
              </a:rPr>
              <a:t>铁  凝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 rot="21420600">
            <a:off x="1064880" y="674640"/>
            <a:ext cx="7389720" cy="191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6148"/>
                <a:gd name="adj2" fmla="val -20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华文新魏"/>
              </a:rPr>
              <a:t>生命与和平相爱</a:t>
            </a:r>
            <a:endParaRPr b="1" lang="en-US" sz="2400" spc="1" strike="noStrike">
              <a:ln w="255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62784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制作人：孙振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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22360" cy="2819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286000" y="0"/>
            <a:ext cx="1879560" cy="2819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114800" y="228600"/>
            <a:ext cx="2114640" cy="2819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0" y="2895480"/>
            <a:ext cx="2440080" cy="2819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2438280" y="3124080"/>
            <a:ext cx="3329280" cy="3733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76720" y="0"/>
            <a:ext cx="586728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教学目标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 通过阅读认识犹太人的民族精神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 了解犹太人的才能和愿望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 概括出戴维的优秀才能，并进一步归纳出其优秀才能的根源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 探究课文逐步深入地描写人物的写法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 体会文章语言凝重的特点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-360" y="533520"/>
            <a:ext cx="842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阅读全文，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黑体"/>
              </a:rPr>
              <a:t>分组讨论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：</a:t>
            </a:r>
            <a:br>
              <a:rPr sz="40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 弄清散文写的一个人是谁，一个家庭是哪一个家庭，一个民族是哪一个民族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 找出文章中能清晰地体现作者写作思路的几个关键句子，理清文章思路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 讨论课后“思考和练习”第二题的第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两个问题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7621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精读课文第一部分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 朗读第一段，概括主要内容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 在前面整体感知的基础上，讨论“开头为什么从‘迫害’‘杀戮’说起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62120" y="838080"/>
            <a:ext cx="419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3657600" cy="2514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-1066680" y="5410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724360" y="551664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914400"/>
            <a:ext cx="3733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朗读课文第二部分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 讨论“课文从哪些方面充分展现戴维的语言才能？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 讨论课文除了表现戴维的语言才能外，还表现了他的什么才能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6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14400" y="0"/>
            <a:ext cx="6019920" cy="33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996633"/>
                </a:solidFill>
                <a:latin typeface="Times New Roman"/>
                <a:ea typeface="隶书"/>
              </a:rPr>
              <a:t>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        </a:t>
            </a:r>
            <a:r>
              <a:rPr b="1" lang="zh-CN" sz="6000" spc="-1" strike="noStrike">
                <a:solidFill>
                  <a:srgbClr val="008000"/>
                </a:solidFill>
                <a:latin typeface="华文新魏"/>
                <a:ea typeface="华文新魏"/>
              </a:rPr>
              <a:t>思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．精读课文第三部分，讨论、归纳戴维具有优秀才能的根源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．结合全文讨论犹太人的民族精神，了解犹太人的才能和愿望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．探究课文逐步深入地描写人物的写法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．体会文章语言凝中的特点和丰富的内涵。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8077320" y="0"/>
            <a:ext cx="1066680" cy="914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19520" cy="114300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676520" y="1752480"/>
            <a:ext cx="44956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总结全文。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 逐步深入地描写人物的写法。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 语言凝重的特点和丰富的内涵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981080" y="1295280"/>
            <a:ext cx="50292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谢谢大家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sp>
        <p:nvSpPr>
          <p:cNvPr id="64" name=""/>
          <p:cNvSpPr txBox="1"/>
          <p:nvPr/>
        </p:nvSpPr>
        <p:spPr>
          <a:xfrm rot="5400000">
            <a:off x="6476400" y="3200400"/>
            <a:ext cx="3657600" cy="1066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宋体"/>
              </a:rPr>
              <a:t>再见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宋体"/>
              <a:ea typeface="宋体"/>
            </a:endParaRPr>
          </a:p>
        </p:txBody>
      </p: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0T10:08:01Z</dcterms:created>
  <dc:creator>szk</dc:creator>
  <dc:description/>
  <dc:language>en-US</dc:language>
  <cp:lastModifiedBy>zzz</cp:lastModifiedBy>
  <dcterms:modified xsi:type="dcterms:W3CDTF">2007-11-01T15:27:47Z</dcterms:modified>
  <cp:revision>28</cp:revision>
  <dc:subject/>
  <dc:title> </dc:title>
</cp:coreProperties>
</file>