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projctor.wav" ContentType="audio/x-wav"/>
  <Override PartName="/ppt/media/image22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3.png" ContentType="image/pn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3.jpeg" ContentType="image/jpeg"/>
  <Override PartName="/ppt/media/image34.gif" ContentType="image/gif"/>
  <Override PartName="/ppt/media/camera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chimes.wav" ContentType="audio/x-wav"/>
  <Override PartName="/ppt/media/image16.jpeg" ContentType="image/jpeg"/>
  <Override PartName="/ppt/media/image32.jpeg" ContentType="image/jpeg"/>
  <Override PartName="/ppt/media/image24.gif" ContentType="image/gif"/>
  <Override PartName="/ppt/media/image2.jpeg" ContentType="image/jpeg"/>
  <Override PartName="/ppt/media/image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1D3-1F1A-4DB6-8558-F1E0AEC7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5F7-40B2-4240-8406-CD0982F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D52-376E-4E6F-B19E-EF10F3A6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DF7-4AE7-456E-B12A-F1A0D72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154E-C0C6-41BA-8E7F-8ECA5836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9312-F841-4676-A062-D3AABF2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8FAE-4679-4CDB-ACB5-2FC13974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D0E6-02E2-4A79-94E1-C77DD285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4DFB-6A24-42D8-B8F7-01C17765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0717-36F0-452F-97CD-565DCD29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4C6E-7740-4285-94D8-D5FEA53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E12-6A51-44B0-988D-795153D9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568-4B97-42A8-BF36-33ACCD3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7B0-4D58-464C-97DB-271B2E3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379-C1B2-4BBA-919F-BC702C6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658-E9A1-4A41-BE22-2188CE99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AD92-E02A-4735-8A45-D42CA132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BEA9-2119-47B4-AE82-AE0949A7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E1F5-D5F8-442A-8264-306082A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7954-23CF-4879-88AB-05E5DCD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0656-166F-4315-9900-B114567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AB8F-95CC-4D0A-AC8D-A804C284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186-9F41-4951-9011-DBFFE5D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8242-533C-4852-A045-8BF4F11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A2EC-9715-4D0A-A279-4FDDB6F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FDE6-C399-4B77-94ED-914390F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E5AD-80CE-4D5D-A1B7-194037B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86BF-563C-4947-A54A-490DB80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4E58-D326-41E0-A511-EAD65A67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AF31-D2F5-447C-B319-22992DF2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946-D652-415F-AECF-C6CD49C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8CF-5272-496F-BE96-BF8BF5D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35A-B0B1-404F-BED6-D336289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771-0995-4FAD-97B2-EF272E7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091-B6F8-4392-B35E-7B4A878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070-07AC-4513-85C1-90224E7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7BE-872E-419C-93B3-65BB6A89F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5BC0-5855-463A-9C1C-6324F122773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2F3-DE75-4226-AE8C-C889FF8900E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48320" y="45720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童年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50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amond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plus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3129" r="0" b="97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认识生活中的枸杞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1c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1cda"/>
                </a:solidFill>
                <a:latin typeface="Arial"/>
              </a:rPr>
              <a:t>落叶灌木枸杞的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71c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1cda"/>
                </a:solidFill>
                <a:latin typeface="Arial"/>
              </a:rPr>
              <a:t>形状：圆形或椭圆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71c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1cda"/>
                </a:solidFill>
                <a:latin typeface="Arial"/>
              </a:rPr>
              <a:t>颜色：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71c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1cda"/>
                </a:solidFill>
                <a:latin typeface="Arial"/>
              </a:rPr>
              <a:t>功用：入药（明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71c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1cda"/>
                </a:solidFill>
                <a:latin typeface="Arial"/>
              </a:rPr>
              <a:t>主产地：宁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85800" y="4572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0020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一、体会课文生动、细致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二、理解文中对话的深刻含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三、明确珍惜时间、抓住生命的重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要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30492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21932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留意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段景物描写的句子，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受景物描写背后蕴含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分析三叔设下的五个谜语，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三叔的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对比我遇到三叔前后发生的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化，体会变化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、细读文中有关太阳的文字，明确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语句中深刻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春天的小山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66680" y="16002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少时，虚度年华，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老时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                                              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            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858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三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2440" y="2971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</a:rPr>
              <a:t>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38098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遇到三叔之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遇到三叔之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267080"/>
            <a:ext cx="327672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63800" y="3809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5257800"/>
            <a:ext cx="327672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63800" y="4800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55627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请 从 书 中 举 例 说 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 rot="945600">
            <a:off x="5082840" y="304560"/>
            <a:ext cx="3832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宋体"/>
              </a:rPr>
              <a:t>人物分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知难而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浅尝辄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2438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秒必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4040" y="243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深入钻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438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知难而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70360" y="38862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贪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逃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不爱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热爱大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刻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好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发奋图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14600" y="2133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8288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3300"/>
                </a:solidFill>
                <a:latin typeface="宋体"/>
              </a:rPr>
              <a:t>同桌结伴朗读“我”与三叔的第二次对话，品味文中有关太阳的语句，体会句子中所指的太阳的深刻含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22860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00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宋体"/>
              </a:rPr>
              <a:t>朗读思考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0000"/>
                  </a:gs>
                  <a:gs pos="100000">
                    <a:srgbClr val="ffff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plit dir="in" orient="horz"/>
    <p:sndAc>
      <p:stSnd>
        <p:snd r:embed="rId2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3908520" cy="6629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 rot="5400000">
            <a:off x="-876600" y="28573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52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仿宋_GB2312"/>
              </a:rPr>
              <a:t>三颗枸杞豆</a:t>
            </a:r>
            <a:endParaRPr b="0" i="1" lang="en-US" sz="48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5715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作、 讲授：罗妙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85104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时太阳快要西沉。透过林隙，我看见它像一个红色的车轮，就要滚进西边的山沟里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45600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“太阳能捉住吗？”我天真的问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能！能呀！我以前老是忘记了去捉它，让它在我头顶溜走了几千次，上万次，我仍没有想到要捉住它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8600" y="712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“太阳里有火，一定很烫手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啊，有点烫手，还得费点力气。但把它一捉到手，就变了，变成一个圆圆的金盘子，里面放满了五彩的宝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3654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他忽然俯下身，用手捏住我的脸蛋。我疼得差点叫起来，他一点儿没有觉察到我的痛楚，口里喃喃地说：“这也是太阳？这也是太阳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14400" y="1554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颗枸杞豆对于三叔的象征意义：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22096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生命终结的句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一生惨痛的教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191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切事物的起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4592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三颗枸杞豆对于“我”的象征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53000" y="533520"/>
            <a:ext cx="211428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枸杞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30492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76520" y="1824120"/>
            <a:ext cx="5790960" cy="25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畅谈感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55200" y="2438280"/>
            <a:ext cx="67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人的一生应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这样度过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19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75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153280" cy="594360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05" name=""/>
          <p:cNvSpPr/>
          <p:nvPr/>
        </p:nvSpPr>
        <p:spPr>
          <a:xfrm>
            <a:off x="2438280" y="533520"/>
            <a:ext cx="50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要有目标和追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  <p:sndAc>
      <p:stSnd>
        <p:snd r:embed="rId3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86728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14" name=""/>
          <p:cNvSpPr/>
          <p:nvPr/>
        </p:nvSpPr>
        <p:spPr>
          <a:xfrm>
            <a:off x="3303000" y="457200"/>
            <a:ext cx="2820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幼圆"/>
              </a:rPr>
              <a:t>多给自己充充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3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153640" cy="579132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24" name=""/>
          <p:cNvSpPr/>
          <p:nvPr/>
        </p:nvSpPr>
        <p:spPr>
          <a:xfrm>
            <a:off x="3197880" y="533520"/>
            <a:ext cx="318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保持高度的自信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366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2"/>
    <p:sndAc>
      <p:stSnd>
        <p:snd r:embed="rId3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7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8077320" cy="586728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34" name=""/>
          <p:cNvSpPr/>
          <p:nvPr/>
        </p:nvSpPr>
        <p:spPr>
          <a:xfrm>
            <a:off x="3379320" y="838080"/>
            <a:ext cx="2820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幼圆"/>
              </a:rPr>
              <a:t>具备胆识和勇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892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3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3"/>
    <p:sndAc>
      <p:stSnd>
        <p:snd r:embed="rId3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8001000" cy="579096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44" name=""/>
          <p:cNvSpPr/>
          <p:nvPr/>
        </p:nvSpPr>
        <p:spPr>
          <a:xfrm>
            <a:off x="4024800" y="304920"/>
            <a:ext cx="172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幼圆"/>
              </a:rPr>
              <a:t>乐于助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894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4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/>
    <p:sndAc>
      <p:stSnd>
        <p:snd r:embed="rId3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8001000" cy="579096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54" name=""/>
          <p:cNvSpPr/>
          <p:nvPr/>
        </p:nvSpPr>
        <p:spPr>
          <a:xfrm>
            <a:off x="2864160" y="533520"/>
            <a:ext cx="3551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幼圆"/>
              </a:rPr>
              <a:t>学会和别人分享喜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64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5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  <p:sndAc>
      <p:stSnd>
        <p:snd r:embed="rId3" name="chimes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24680" cy="571500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64" name=""/>
          <p:cNvSpPr/>
          <p:nvPr/>
        </p:nvSpPr>
        <p:spPr>
          <a:xfrm>
            <a:off x="2738880" y="696960"/>
            <a:ext cx="428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学会和各种人愉快的相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07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6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  <p:sndAc>
      <p:stSnd>
        <p:snd r:embed="rId3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8001000" cy="579096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74" name=""/>
          <p:cNvSpPr/>
          <p:nvPr/>
        </p:nvSpPr>
        <p:spPr>
          <a:xfrm>
            <a:off x="4101120" y="457200"/>
            <a:ext cx="172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幼圆"/>
              </a:rPr>
              <a:t>尊重弱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750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  <p:sndAc>
      <p:stSnd>
        <p:snd r:embed="rId3" name="chimes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5791320"/>
          </a:xfrm>
          <a:prstGeom prst="rect">
            <a:avLst/>
          </a:prstGeom>
          <a:ln w="127080">
            <a:solidFill>
              <a:srgbClr val="000080"/>
            </a:solidFill>
            <a:prstDash val="sysDot"/>
            <a:miter/>
          </a:ln>
        </p:spPr>
      </p:pic>
      <p:sp>
        <p:nvSpPr>
          <p:cNvPr id="284" name=""/>
          <p:cNvSpPr/>
          <p:nvPr/>
        </p:nvSpPr>
        <p:spPr>
          <a:xfrm>
            <a:off x="505728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幼圆"/>
              </a:rPr>
              <a:t>微笑着面对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grpSp>
          <p:nvGrpSpPr>
            <p:cNvPr id="28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324480"/>
                <a:ext cx="5943600" cy="76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0" y="6476400"/>
                <a:ext cx="9144000" cy="7596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609480" y="2666880"/>
                <a:ext cx="76320" cy="41911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457200" y="0"/>
                <a:ext cx="76320" cy="68580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76320" y="6237360"/>
              <a:ext cx="9144000" cy="46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  <p:sndAc>
      <p:stSnd>
        <p:snd r:embed="rId3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666880" y="685800"/>
            <a:ext cx="5943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你积累过有关珍惜时间的名言警句吗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41360"/>
            <a:ext cx="6629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白头后的痛苦与叹息，都是在年轻时无聊的时光里写成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                       —— 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萨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莫等闲，白了少年头，空悲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                        —— 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岳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放弃时间的人，时间也放弃了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                —— 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富兰克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黑发不知勤学早，白首方悔读书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                     ——</a:t>
            </a:r>
            <a:r>
              <a:rPr b="1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颜真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7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462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7207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人最宝贵的是生命，生命对于每个人只有一次，人的一生应该这样度过：当他回首往事的时候，他不会因为虚度年华而悔恨，也不会因为碌碌无为而羞愧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——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保尔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·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柯察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后思考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如果你是文中的“我”，在你成为一名植物学家之后，回到三叔的坟前，你最想对他说些什么？如果让你给三叔立一块墓碑，你想在上面刻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后思考：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大家静心想一想：在你十多年的生命历程中有没有留下一些遗憾的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0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呢？你打算怎样把它充实？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Arial"/>
              </a:rPr>
              <a:t>真诚的祝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者的祝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2590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ahoma"/>
              </a:rPr>
              <a:t>希望读者抓住时间，珍惜生命，少壮多努力，以免老大徒伤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4267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但愿我们学习课文的过程，就是接受心灵洗礼的过程。希望同学们找到生活中的枸杞豆，自我砥砺，奋发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581280"/>
            <a:ext cx="4648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老师的祝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3" name="chimes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7621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世上总有人抛弃了理想，理想却从来不抛弃任何人。 珍惜时间，把握今天，每一个无愧的今天，将铸就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金色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的成功的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明天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96320" y="5562720"/>
            <a:ext cx="28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师生共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7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62520" y="53352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明日复明日，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明日何其多！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我生待明日，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万事成蹉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26240" y="380880"/>
            <a:ext cx="22550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c0039"/>
                </a:solidFill>
                <a:latin typeface="华文行楷"/>
                <a:ea typeface="华文行楷"/>
              </a:rPr>
              <a:t>明 日 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962520" y="3962520"/>
            <a:ext cx="510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朝看水东流，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暮看日西落，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百年明日能几何？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（请君）听我明日歌。</a:t>
            </a:r>
            <a:r>
              <a:rPr b="0" lang="zh-CN" sz="1800" spc="-1" strike="noStrike">
                <a:solidFill>
                  <a:srgbClr val="8c0039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6520" y="281628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世人若被明日累， 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华文行楷"/>
                <a:ea typeface="华文行楷"/>
              </a:rPr>
              <a:t>春去秋来老将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4400" y="3809880"/>
            <a:ext cx="1102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c0039"/>
                </a:solidFill>
                <a:latin typeface="华文行楷"/>
                <a:ea typeface="华文行楷"/>
              </a:rPr>
              <a:t>明</a:t>
            </a:r>
            <a:r>
              <a:rPr b="0" lang="zh-CN" sz="2400" spc="-1" strike="noStrike">
                <a:solidFill>
                  <a:srgbClr val="8c0039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8c0039"/>
                </a:solidFill>
                <a:latin typeface="华文行楷"/>
                <a:ea typeface="华文行楷"/>
              </a:rPr>
              <a:t>文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224026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6">
                                  <p:stCondLst>
                                    <p:cond delay="30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6">
                                  <p:stCondLst>
                                    <p:cond delay="4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6">
                                  <p:stCondLst>
                                    <p:cond delay="66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c003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514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5c"/>
                </a:solidFill>
                <a:latin typeface="Arial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5c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219320" y="1523880"/>
            <a:ext cx="426708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 谢 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2120" y="457200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敬 请 指 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           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009.04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ircle/>
    <p:sndAc>
      <p:stSnd>
        <p:snd r:embed="rId3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84056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mb dir="horz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ircle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9-04-25T04:47:21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