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1.jpeg" ContentType="image/jpeg"/>
  <Override PartName="/ppt/media/camera.wav" ContentType="audio/x-wav"/>
  <Override PartName="/ppt/media/image21.jpeg" ContentType="image/jpeg"/>
  <Override PartName="/ppt/media/image9.png" ContentType="image/png"/>
  <Override PartName="/ppt/media/projctor.wav" ContentType="audio/x-wav"/>
  <Override PartName="/ppt/media/image5.jpeg" ContentType="image/jpeg"/>
  <Override PartName="/ppt/media/image4.jpeg" ContentType="image/jpeg"/>
  <Override PartName="/ppt/media/image22.gif" ContentType="image/gif"/>
  <Override PartName="/ppt/media/image3.jpeg" ContentType="image/jpeg"/>
  <Override PartName="/ppt/media/image12.gif" ContentType="image/gif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16.jpeg" ContentType="image/jpeg"/>
  <Override PartName="/ppt/media/chimes.wav" ContentType="audio/x-wav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C6E-9C43-4E3D-8E54-4E1D3289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176-E294-4210-A21A-C39A3ABE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8A2-FC84-48AC-85A9-4A59F619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748-F99B-4417-B307-37576427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D8ED5-F7F8-445E-907B-A82EE6A4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A09EC-6F6B-4299-8F44-7ABDABE7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C44A0-EB37-44CB-8623-7079ADC4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4DB0E-1CE6-4040-92A7-8E1CF9B8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6B6D1-99EF-4ECF-A3B5-8040B96A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6FDE2-F4AE-4E99-8E81-6BDAC378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324AD-9A9A-40E5-A57A-5C51A4CC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82E-6D76-4627-824F-990D2E69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BA4F9-687F-4BEC-B171-A399C16F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1918F-B89C-478C-8ABC-3AD802AE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73EFA-DA3F-4923-8A8C-62B268AC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CFED7-2534-452C-84CF-7887FDE0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52C64-79B0-4E56-B9E4-497147D1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DD9-D2EC-4ABD-9419-735F0278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ECB-B3A1-4DED-B7F1-7CF2761E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563-9E10-45CE-85CF-4C13AB51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5AC-5174-4490-880A-4DD2A909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C45-392D-4208-A0DD-FA7F3618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EFF-4D2D-49B7-8791-05329540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91E-90A9-4BF9-8560-1A5F4B5E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ACF1-A719-446A-9B1D-DAB5F00174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3552-8AD8-4837-AA07-DDE02623D22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07013011542581"/>
          <p:cNvPicPr/>
          <p:nvPr/>
        </p:nvPicPr>
        <p:blipFill>
          <a:blip r:embed="rId1"/>
          <a:stretch/>
        </p:blipFill>
        <p:spPr>
          <a:xfrm>
            <a:off x="3940200" y="0"/>
            <a:ext cx="3908520" cy="6629400"/>
          </a:xfrm>
          <a:prstGeom prst="rect">
            <a:avLst/>
          </a:prstGeom>
          <a:ln w="0">
            <a:noFill/>
          </a:ln>
        </p:spPr>
      </p:pic>
      <p:sp>
        <p:nvSpPr>
          <p:cNvPr id="84" name="WordArt 3"/>
          <p:cNvSpPr txBox="1"/>
          <p:nvPr/>
        </p:nvSpPr>
        <p:spPr>
          <a:xfrm rot="5400000">
            <a:off x="-876600" y="285732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三颗枸杞豆</a:t>
            </a:r>
            <a:endParaRPr b="0" i="1" lang="en-US" sz="48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0920" y="620640"/>
            <a:ext cx="889308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(1)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初遇三叔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高兴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惊讶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呆呆、乏味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发现了一个秘密：人临死的时候对一切都很留恋。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想念可敬的三叔、不逃学了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(2)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再遇三叔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奇怪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不解地上的图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悲伤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了解三叔一生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沉默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听到新的人生评价者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探寻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太阳、金盘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为三叔的人生悲伤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想抓住太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心路历程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00612171809186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2514600" y="21337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914400" y="182880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003300"/>
                </a:solidFill>
                <a:latin typeface="宋体"/>
              </a:rPr>
              <a:t>同桌结伴朗读“我</a:t>
            </a: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”</a:t>
            </a:r>
            <a:r>
              <a:rPr b="1" lang="zh-CN" sz="5400" spc="-1" strike="noStrike">
                <a:solidFill>
                  <a:srgbClr val="003300"/>
                </a:solidFill>
                <a:latin typeface="宋体"/>
              </a:rPr>
              <a:t>与三叔的第二次对话，品味文中有关太阳的语句，体会句子中所指的太阳的深刻含义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304920" y="228600"/>
            <a:ext cx="3886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ff0000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宋体"/>
              </a:rPr>
              <a:t>朗读思考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50000">
                    <a:srgbClr val="ff0000"/>
                  </a:gs>
                  <a:gs pos="100000">
                    <a:srgbClr val="ffff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00612171809186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380880" y="85104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时太阳快要西沉。透过林隙，我看见它像一个红色的车轮，就要滚进西边的山沟里去了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80880" y="3456000"/>
            <a:ext cx="8458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“太阳能捉住吗？”我天真的问道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能！能呀！我以前老是忘记了去捉它，让它在我头顶溜走了几千次，上万次，我仍没有想到要捉住它！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200612171809186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228600" y="712800"/>
            <a:ext cx="8610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太阳里有火，一定很烫手吧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是啊，有点烫手，还得费点力气。但把它一捉到手，就变了，变成一个圆圆的金盘子，里面放满了五彩的宝石。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3654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他忽然俯下身，用手捏住我的脸蛋。我疼得差点叫起来，他一点儿没有觉察到我的痛楚，口里喃喃地说：“这也是太阳？这也是太阳！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914400" y="15541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颗枸杞豆对于三叔的象征意义：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752480" y="2209680"/>
            <a:ext cx="49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生命终结的句号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一生惨痛的教训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828800" y="4191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一切事物的起点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838080" y="345924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三颗枸杞豆对于“我”的象征意义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3753000" y="533520"/>
            <a:ext cx="211428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枸杞豆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1143000" y="304920"/>
            <a:ext cx="1981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多味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rill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WordArt 3"/>
          <p:cNvSpPr txBox="1"/>
          <p:nvPr/>
        </p:nvSpPr>
        <p:spPr>
          <a:xfrm>
            <a:off x="1676520" y="1824120"/>
            <a:ext cx="5790960" cy="25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畅谈感想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55200" y="2438280"/>
            <a:ext cx="67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人的一生应该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这样度过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grpSp>
          <p:nvGrpSpPr>
            <p:cNvPr id="149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50" name="Rectangle 5"/>
              <p:cNvSpPr/>
              <p:nvPr/>
            </p:nvSpPr>
            <p:spPr>
              <a:xfrm>
                <a:off x="0" y="6324480"/>
                <a:ext cx="5943600" cy="763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" name="Rectangle 6"/>
              <p:cNvSpPr/>
              <p:nvPr/>
            </p:nvSpPr>
            <p:spPr>
              <a:xfrm flipV="1">
                <a:off x="0" y="6476400"/>
                <a:ext cx="9144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 flipH="1">
                <a:off x="609480" y="2666880"/>
                <a:ext cx="76320" cy="41911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Rectangle 8"/>
              <p:cNvSpPr/>
              <p:nvPr/>
            </p:nvSpPr>
            <p:spPr>
              <a:xfrm flipH="1">
                <a:off x="457200" y="0"/>
                <a:ext cx="76320" cy="68580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154" name="Picture 9" descr="l-18"/>
            <p:cNvPicPr/>
            <p:nvPr/>
          </p:nvPicPr>
          <p:blipFill>
            <a:blip r:embed="rId1"/>
            <a:stretch/>
          </p:blipFill>
          <p:spPr>
            <a:xfrm>
              <a:off x="76320" y="6237360"/>
              <a:ext cx="914400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  <p:sndAc>
      <p:stSnd>
        <p:snd r:embed="rId2" name="chimes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75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75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2_1544_8"/>
          <p:cNvPicPr/>
          <p:nvPr/>
        </p:nvPicPr>
        <p:blipFill>
          <a:blip r:embed="rId1"/>
          <a:stretch/>
        </p:blipFill>
        <p:spPr>
          <a:xfrm>
            <a:off x="685800" y="228600"/>
            <a:ext cx="8001000" cy="586728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156" name="Text Box 3"/>
          <p:cNvSpPr/>
          <p:nvPr/>
        </p:nvSpPr>
        <p:spPr>
          <a:xfrm>
            <a:off x="3303000" y="457200"/>
            <a:ext cx="2820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幼圆"/>
              </a:rPr>
              <a:t>多给自己充充电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117880" y="162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grpSp>
          <p:nvGrpSpPr>
            <p:cNvPr id="159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60" name="Rectangle 7"/>
              <p:cNvSpPr/>
              <p:nvPr/>
            </p:nvSpPr>
            <p:spPr>
              <a:xfrm>
                <a:off x="0" y="6324480"/>
                <a:ext cx="5943600" cy="763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Rectangle 8"/>
              <p:cNvSpPr/>
              <p:nvPr/>
            </p:nvSpPr>
            <p:spPr>
              <a:xfrm flipV="1">
                <a:off x="0" y="6476400"/>
                <a:ext cx="9144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Rectangle 9"/>
              <p:cNvSpPr/>
              <p:nvPr/>
            </p:nvSpPr>
            <p:spPr>
              <a:xfrm flipH="1">
                <a:off x="609480" y="2666880"/>
                <a:ext cx="76320" cy="41911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Rectangle 10"/>
              <p:cNvSpPr/>
              <p:nvPr/>
            </p:nvSpPr>
            <p:spPr>
              <a:xfrm flipH="1">
                <a:off x="457200" y="0"/>
                <a:ext cx="76320" cy="68580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164" name="Picture 11" descr="l-18"/>
            <p:cNvPicPr/>
            <p:nvPr/>
          </p:nvPicPr>
          <p:blipFill>
            <a:blip r:embed="rId2"/>
            <a:stretch/>
          </p:blipFill>
          <p:spPr>
            <a:xfrm>
              <a:off x="76320" y="6237360"/>
              <a:ext cx="914400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  <p:sndAc>
      <p:stSnd>
        <p:snd r:embed="rId3" name="chimes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2_1544_6"/>
          <p:cNvPicPr/>
          <p:nvPr/>
        </p:nvPicPr>
        <p:blipFill>
          <a:blip r:embed="rId1"/>
          <a:stretch/>
        </p:blipFill>
        <p:spPr>
          <a:xfrm>
            <a:off x="838080" y="228600"/>
            <a:ext cx="8153640" cy="579132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166" name="Text Box 3"/>
          <p:cNvSpPr/>
          <p:nvPr/>
        </p:nvSpPr>
        <p:spPr>
          <a:xfrm>
            <a:off x="3197880" y="533520"/>
            <a:ext cx="3186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幼圆"/>
              </a:rPr>
              <a:t>保持高度的自信心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736640" y="1925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grpSp>
          <p:nvGrpSpPr>
            <p:cNvPr id="169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70" name="Rectangle 7"/>
              <p:cNvSpPr/>
              <p:nvPr/>
            </p:nvSpPr>
            <p:spPr>
              <a:xfrm>
                <a:off x="0" y="6324480"/>
                <a:ext cx="5943600" cy="763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Rectangle 8"/>
              <p:cNvSpPr/>
              <p:nvPr/>
            </p:nvSpPr>
            <p:spPr>
              <a:xfrm flipV="1">
                <a:off x="0" y="6476400"/>
                <a:ext cx="9144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Rectangle 9"/>
              <p:cNvSpPr/>
              <p:nvPr/>
            </p:nvSpPr>
            <p:spPr>
              <a:xfrm flipH="1">
                <a:off x="609480" y="2666880"/>
                <a:ext cx="76320" cy="41911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Rectangle 10"/>
              <p:cNvSpPr/>
              <p:nvPr/>
            </p:nvSpPr>
            <p:spPr>
              <a:xfrm flipH="1">
                <a:off x="457200" y="0"/>
                <a:ext cx="76320" cy="68580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174" name="Picture 11" descr="l-18"/>
            <p:cNvPicPr/>
            <p:nvPr/>
          </p:nvPicPr>
          <p:blipFill>
            <a:blip r:embed="rId2"/>
            <a:stretch/>
          </p:blipFill>
          <p:spPr>
            <a:xfrm>
              <a:off x="76320" y="6237360"/>
              <a:ext cx="914400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  <p:sndAc>
      <p:stSnd>
        <p:snd r:embed="rId3" name="chimes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2_1544_3"/>
          <p:cNvPicPr/>
          <p:nvPr/>
        </p:nvPicPr>
        <p:blipFill>
          <a:blip r:embed="rId1"/>
          <a:stretch/>
        </p:blipFill>
        <p:spPr>
          <a:xfrm>
            <a:off x="838080" y="987480"/>
            <a:ext cx="8077320" cy="518472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176" name="Text Box 3"/>
          <p:cNvSpPr/>
          <p:nvPr/>
        </p:nvSpPr>
        <p:spPr>
          <a:xfrm>
            <a:off x="3379320" y="838080"/>
            <a:ext cx="2820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幼圆"/>
              </a:rPr>
              <a:t>具备胆识和勇气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88928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grpSp>
          <p:nvGrpSpPr>
            <p:cNvPr id="179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80" name="Rectangle 7"/>
              <p:cNvSpPr/>
              <p:nvPr/>
            </p:nvSpPr>
            <p:spPr>
              <a:xfrm>
                <a:off x="0" y="6324480"/>
                <a:ext cx="5943600" cy="763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Rectangle 8"/>
              <p:cNvSpPr/>
              <p:nvPr/>
            </p:nvSpPr>
            <p:spPr>
              <a:xfrm flipV="1">
                <a:off x="0" y="6476400"/>
                <a:ext cx="9144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Rectangle 9"/>
              <p:cNvSpPr/>
              <p:nvPr/>
            </p:nvSpPr>
            <p:spPr>
              <a:xfrm flipH="1">
                <a:off x="609480" y="2666880"/>
                <a:ext cx="76320" cy="41911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Rectangle 10"/>
              <p:cNvSpPr/>
              <p:nvPr/>
            </p:nvSpPr>
            <p:spPr>
              <a:xfrm flipH="1">
                <a:off x="457200" y="0"/>
                <a:ext cx="76320" cy="68580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184" name="Picture 11" descr="l-18"/>
            <p:cNvPicPr/>
            <p:nvPr/>
          </p:nvPicPr>
          <p:blipFill>
            <a:blip r:embed="rId2"/>
            <a:stretch/>
          </p:blipFill>
          <p:spPr>
            <a:xfrm>
              <a:off x="76320" y="6237360"/>
              <a:ext cx="914400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  <p:sndAc>
      <p:stSnd>
        <p:snd r:embed="rId3" name="chimes.wav"/>
      </p:stSnd>
    </p:sndAc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gouqi[1]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2_1544_5"/>
          <p:cNvPicPr/>
          <p:nvPr/>
        </p:nvPicPr>
        <p:blipFill>
          <a:blip r:embed="rId1"/>
          <a:srcRect l="0" t="0" r="0" b="6578"/>
          <a:stretch/>
        </p:blipFill>
        <p:spPr>
          <a:xfrm>
            <a:off x="914400" y="304920"/>
            <a:ext cx="8001000" cy="541008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186" name="Text Box 3"/>
          <p:cNvSpPr/>
          <p:nvPr/>
        </p:nvSpPr>
        <p:spPr>
          <a:xfrm>
            <a:off x="4101120" y="457200"/>
            <a:ext cx="1722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幼圆"/>
              </a:rPr>
              <a:t>尊重弱者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5750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grpSp>
          <p:nvGrpSpPr>
            <p:cNvPr id="189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90" name="Rectangle 7"/>
              <p:cNvSpPr/>
              <p:nvPr/>
            </p:nvSpPr>
            <p:spPr>
              <a:xfrm>
                <a:off x="0" y="6324480"/>
                <a:ext cx="5943600" cy="763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Rectangle 8"/>
              <p:cNvSpPr/>
              <p:nvPr/>
            </p:nvSpPr>
            <p:spPr>
              <a:xfrm flipV="1">
                <a:off x="0" y="6476400"/>
                <a:ext cx="9144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Rectangle 9"/>
              <p:cNvSpPr/>
              <p:nvPr/>
            </p:nvSpPr>
            <p:spPr>
              <a:xfrm flipH="1">
                <a:off x="609480" y="2666880"/>
                <a:ext cx="76320" cy="41911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Rectangle 10"/>
              <p:cNvSpPr/>
              <p:nvPr/>
            </p:nvSpPr>
            <p:spPr>
              <a:xfrm flipH="1">
                <a:off x="457200" y="0"/>
                <a:ext cx="76320" cy="68580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194" name="Picture 11" descr="l-18"/>
            <p:cNvPicPr/>
            <p:nvPr/>
          </p:nvPicPr>
          <p:blipFill>
            <a:blip r:embed="rId2"/>
            <a:stretch/>
          </p:blipFill>
          <p:spPr>
            <a:xfrm>
              <a:off x="76320" y="6237360"/>
              <a:ext cx="914400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  <p:sndAc>
      <p:stSnd>
        <p:snd r:embed="rId3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2_1544"/>
          <p:cNvPicPr/>
          <p:nvPr/>
        </p:nvPicPr>
        <p:blipFill>
          <a:blip r:embed="rId1"/>
          <a:srcRect l="0" t="0" r="0" b="7864"/>
          <a:stretch/>
        </p:blipFill>
        <p:spPr>
          <a:xfrm>
            <a:off x="900000" y="1341360"/>
            <a:ext cx="6264360" cy="444492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196" name="Text Box 3"/>
          <p:cNvSpPr/>
          <p:nvPr/>
        </p:nvSpPr>
        <p:spPr>
          <a:xfrm>
            <a:off x="2195640" y="476280"/>
            <a:ext cx="381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要有目标和追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0" y="0"/>
            <a:ext cx="26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4028040" y="304920"/>
            <a:ext cx="1722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乐于助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48948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2_1544_12"/>
          <p:cNvPicPr/>
          <p:nvPr/>
        </p:nvPicPr>
        <p:blipFill>
          <a:blip r:embed="rId1"/>
          <a:stretch/>
        </p:blipFill>
        <p:spPr>
          <a:xfrm>
            <a:off x="900000" y="1749600"/>
            <a:ext cx="6696360" cy="491940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grpSp>
        <p:nvGrpSpPr>
          <p:cNvPr id="201" name="Group 5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grpSp>
          <p:nvGrpSpPr>
            <p:cNvPr id="202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03" name="Rectangle 7"/>
              <p:cNvSpPr/>
              <p:nvPr/>
            </p:nvSpPr>
            <p:spPr>
              <a:xfrm>
                <a:off x="0" y="6324480"/>
                <a:ext cx="5943600" cy="763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Rectangle 8"/>
              <p:cNvSpPr/>
              <p:nvPr/>
            </p:nvSpPr>
            <p:spPr>
              <a:xfrm flipV="1">
                <a:off x="0" y="6476400"/>
                <a:ext cx="9144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Rectangle 9"/>
              <p:cNvSpPr/>
              <p:nvPr/>
            </p:nvSpPr>
            <p:spPr>
              <a:xfrm flipH="1">
                <a:off x="609480" y="2666880"/>
                <a:ext cx="76320" cy="41911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Rectangle 10"/>
              <p:cNvSpPr/>
              <p:nvPr/>
            </p:nvSpPr>
            <p:spPr>
              <a:xfrm flipH="1">
                <a:off x="457200" y="0"/>
                <a:ext cx="76320" cy="68580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207" name="Picture 11" descr="l-18"/>
            <p:cNvPicPr/>
            <p:nvPr/>
          </p:nvPicPr>
          <p:blipFill>
            <a:blip r:embed="rId2"/>
            <a:stretch/>
          </p:blipFill>
          <p:spPr>
            <a:xfrm>
              <a:off x="76320" y="6237360"/>
              <a:ext cx="914400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2_1544_16"/>
          <p:cNvPicPr/>
          <p:nvPr/>
        </p:nvPicPr>
        <p:blipFill>
          <a:blip r:embed="rId1"/>
          <a:srcRect l="0" t="0" r="0" b="10862"/>
          <a:stretch/>
        </p:blipFill>
        <p:spPr>
          <a:xfrm>
            <a:off x="1258920" y="1828800"/>
            <a:ext cx="5919840" cy="431496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209" name="Text Box 3"/>
          <p:cNvSpPr/>
          <p:nvPr/>
        </p:nvSpPr>
        <p:spPr>
          <a:xfrm>
            <a:off x="2050920" y="692280"/>
            <a:ext cx="51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学会和别人分享喜悦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2_1544_21"/>
          <p:cNvPicPr/>
          <p:nvPr/>
        </p:nvPicPr>
        <p:blipFill>
          <a:blip r:embed="rId1"/>
          <a:stretch/>
        </p:blipFill>
        <p:spPr>
          <a:xfrm>
            <a:off x="1116000" y="1484280"/>
            <a:ext cx="5904000" cy="511344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211" name="Text Box 3"/>
          <p:cNvSpPr/>
          <p:nvPr/>
        </p:nvSpPr>
        <p:spPr>
          <a:xfrm>
            <a:off x="1042920" y="549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学会和各种人愉快的相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2_1544_25"/>
          <p:cNvPicPr/>
          <p:nvPr/>
        </p:nvPicPr>
        <p:blipFill>
          <a:blip r:embed="rId1"/>
          <a:stretch/>
        </p:blipFill>
        <p:spPr>
          <a:xfrm>
            <a:off x="1042920" y="1700280"/>
            <a:ext cx="7201080" cy="475308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213" name="Text Box 3"/>
          <p:cNvSpPr/>
          <p:nvPr/>
        </p:nvSpPr>
        <p:spPr>
          <a:xfrm>
            <a:off x="1476360" y="76500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微笑着面对生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2666880" y="685800"/>
            <a:ext cx="59436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积累过有关珍惜时间的名言警句吗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5" name="Picture 3" descr="Q_011"/>
          <p:cNvPicPr/>
          <p:nvPr/>
        </p:nvPicPr>
        <p:blipFill>
          <a:blip r:embed="rId1"/>
          <a:stretch/>
        </p:blipFill>
        <p:spPr>
          <a:xfrm>
            <a:off x="4952880" y="41911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50920" y="907920"/>
            <a:ext cx="88930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</a:t>
            </a:r>
            <a:r>
              <a:rPr b="1" lang="zh-CN" sz="3000" spc="-1" strike="noStrike">
                <a:solidFill>
                  <a:srgbClr val="ffff00"/>
                </a:solidFill>
                <a:latin typeface="华文行楷"/>
                <a:ea typeface="华文行楷"/>
              </a:rPr>
              <a:t>白头后的痛苦与叹息，都是在年轻时无聊的时光里写成的。       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——</a:t>
            </a:r>
            <a:r>
              <a:rPr b="1" lang="en-US" sz="30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r>
              <a:rPr b="1" lang="zh-CN" sz="3000" spc="-1" strike="noStrike">
                <a:solidFill>
                  <a:srgbClr val="ffff00"/>
                </a:solidFill>
                <a:latin typeface="华文行楷"/>
                <a:ea typeface="华文行楷"/>
              </a:rPr>
              <a:t>萨迪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r>
              <a:rPr b="1" lang="zh-CN" sz="3000" spc="-1" strike="noStrike">
                <a:solidFill>
                  <a:srgbClr val="ffff00"/>
                </a:solidFill>
                <a:latin typeface="华文行楷"/>
                <a:ea typeface="华文行楷"/>
              </a:rPr>
              <a:t>莫等闲，白了少年头，空悲切。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——</a:t>
            </a:r>
            <a:r>
              <a:rPr b="1" lang="en-US" sz="30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r>
              <a:rPr b="1" lang="zh-CN" sz="3000" spc="-1" strike="noStrike">
                <a:solidFill>
                  <a:srgbClr val="ffff00"/>
                </a:solidFill>
                <a:latin typeface="华文行楷"/>
                <a:ea typeface="华文行楷"/>
              </a:rPr>
              <a:t>岳飞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放弃时间的人，时间也放弃了他。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——</a:t>
            </a:r>
            <a:r>
              <a:rPr b="1" lang="en-US" sz="30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r>
              <a:rPr b="1" lang="zh-CN" sz="3000" spc="-1" strike="noStrike">
                <a:solidFill>
                  <a:srgbClr val="ffff00"/>
                </a:solidFill>
                <a:latin typeface="华文行楷"/>
                <a:ea typeface="华文行楷"/>
              </a:rPr>
              <a:t>富兰克林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华文行楷"/>
                <a:ea typeface="华文行楷"/>
              </a:rPr>
              <a:t>黑发不知勤学早，白首方悔读书迟。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——</a:t>
            </a:r>
            <a:r>
              <a:rPr b="1" lang="zh-CN" sz="3000" spc="-1" strike="noStrike">
                <a:solidFill>
                  <a:srgbClr val="ffff00"/>
                </a:solidFill>
                <a:latin typeface="华文行楷"/>
                <a:ea typeface="华文行楷"/>
              </a:rPr>
              <a:t>颜真卿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4628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18900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</a:t>
            </a:r>
            <a:r>
              <a:rPr b="0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人最宝贵的是生命，生命对于每个人只有一次，人的一生应该这样度过：当他回首往事的时候，他不会因为虚度年华而悔恨，也不会因为碌碌无为而羞愧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——</a:t>
            </a:r>
            <a:r>
              <a:rPr b="0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保尔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·</a:t>
            </a:r>
            <a:r>
              <a:rPr b="0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柯察金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课后思考</a:t>
            </a:r>
            <a:r>
              <a:rPr b="0" lang="zh-CN" sz="4400" spc="-1" strike="noStrike">
                <a:solidFill>
                  <a:srgbClr val="006633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、如果你是文中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我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，在你成为一名植物学家之后，回到三叔的坟前，你最想对他说些什么？如果让你给三叔立一块墓碑，你想在上面刻些什么呢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15565f0c0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课后思考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、大家静心想一想：在你十多年的生命历程中有没有留下一些遗憾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呢？你打算怎样把它充实？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00"/>
                </a:solidFill>
                <a:latin typeface="Tahoma"/>
              </a:rPr>
              <a:t>真诚的祝愿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作者的祝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143000" y="2590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希望读者抓住时间，珍惜生命，少壮多努力，以免老大徒伤悲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43000" y="42670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但愿我们学习课文的过程，就是接受心灵洗礼的过程。希望同学们找到生活中的枸杞豆，自我砥砺，奋发努力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838080" y="3581280"/>
            <a:ext cx="4648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老师的祝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3" name="chimes.wav"/>
      </p:stSnd>
    </p:sndAc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161616"/>
                </a:solidFill>
                <a:latin typeface="Tahoma"/>
              </a:rPr>
              <a:t>谢谢观赏！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4c7a857c227e432249e03c1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你有没有掌握这些词语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686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枸杞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g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ǒ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uq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ǐ         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一绺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li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ǔ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鲜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xi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ǎ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为人知     腻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ì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味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颓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u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唐             殷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y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ā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叶鞘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qi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à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桦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hu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à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木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半晌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h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ǎ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g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口头禅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h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一摞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lu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ò            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癌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ahoma"/>
              </a:rPr>
              <a:t>认识生活中的枸杞豆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落叶灌木枸杞的果实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形状：圆形或椭圆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颜色：红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功用：入药（明目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主产地：宁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枸杞2"/>
          <p:cNvPicPr/>
          <p:nvPr/>
        </p:nvPicPr>
        <p:blipFill>
          <a:blip r:embed="rId1"/>
          <a:stretch/>
        </p:blipFill>
        <p:spPr>
          <a:xfrm>
            <a:off x="4800600" y="1905120"/>
            <a:ext cx="3733920" cy="43434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那么你们能否告诉老师，我们文中的三颗枸杞豆是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幼圆"/>
              </a:rPr>
              <a:t>三颗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怎样的枸杞豆？给下面的句子填上适当的词语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90720" y="2590920"/>
            <a:ext cx="701028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              ) </a:t>
            </a:r>
            <a:r>
              <a:rPr b="1" i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三颗枸杞豆</a:t>
            </a:r>
            <a:r>
              <a:rPr b="1" i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              ) </a:t>
            </a:r>
            <a:r>
              <a:rPr b="1" i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三颗枸杞豆</a:t>
            </a:r>
            <a:r>
              <a:rPr b="1" i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              ) </a:t>
            </a:r>
            <a:r>
              <a:rPr b="1" i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三颗枸杞豆</a:t>
            </a:r>
            <a:r>
              <a:rPr b="1" i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              ) </a:t>
            </a:r>
            <a:r>
              <a:rPr b="1" i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三颗枸杞豆</a:t>
            </a:r>
            <a:r>
              <a:rPr b="1" i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              ) </a:t>
            </a:r>
            <a:r>
              <a:rPr b="1" i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三颗枸杞豆</a:t>
            </a:r>
            <a:r>
              <a:rPr b="1" i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</a:t>
            </a:r>
            <a:r>
              <a:rPr b="1" lang="en-US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371600" y="25909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三叔送我的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219320" y="3352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富有教育意义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295280" y="40384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有深刻涵义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371600" y="4876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征服我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447920" y="5638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催我奋进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380880" y="30492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主学习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38080" y="1219320"/>
            <a:ext cx="7620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留意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段景物描写的句子，感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受景物描写背后蕴含的感情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、分析三叔设下的几个谜语，感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三叔的人物形象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对比我遇到三叔前后发生的变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化，体会变化的原因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4 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、细读文中有关太阳的文字，明确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语句中深刻的含义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1066680" y="1600200"/>
            <a:ext cx="7391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ahoma"/>
              </a:rPr>
              <a:t>少时，虚度年华，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ahoma"/>
              </a:rPr>
              <a:t>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ahoma"/>
              </a:rPr>
              <a:t>老时，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ahoma"/>
              </a:rPr>
              <a:t>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ahoma"/>
              </a:rPr>
              <a:t>，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ahoma"/>
              </a:rPr>
              <a:t>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ahoma"/>
              </a:rPr>
              <a:t>。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ahoma"/>
              </a:rPr>
              <a:t>                                                                    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ahoma"/>
              </a:rPr>
              <a:t>           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3520" y="68580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三叔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892440" y="2971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ahoma"/>
              </a:rPr>
              <a:t>我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43000" y="38098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遇到三叔之前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遇到三叔之后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4038480" y="4267080"/>
            <a:ext cx="327672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7363800" y="38098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4038480" y="5257800"/>
            <a:ext cx="327672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7363800" y="48006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651040" y="556272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请 从 书 中 举 例 说 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WordArt 12" descr=""/>
          <p:cNvPicPr/>
          <p:nvPr/>
        </p:nvPicPr>
        <p:blipFill>
          <a:blip r:embed="rId2"/>
          <a:stretch/>
        </p:blipFill>
        <p:spPr>
          <a:xfrm>
            <a:off x="4913280" y="-201600"/>
            <a:ext cx="4091040" cy="2152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>
            <a:off x="43434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知难而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867280" y="1676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浅尝辄止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590920" y="2438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分秒必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6134040" y="243828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深入钻研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495680" y="24382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知难而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870360" y="388620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贪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472428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逃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41008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不爱学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781680" y="3886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热爱大自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4038480" y="4876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刻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4952880" y="4876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好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5867280" y="4876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发奋图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  <p:sndAc>
      <p:stSnd>
        <p:snd r:embed="rId3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08:05:29Z</dcterms:created>
  <dc:creator/>
  <dc:description/>
  <dc:language>en-US</dc:language>
  <cp:lastModifiedBy/>
  <dcterms:modified xsi:type="dcterms:W3CDTF">2014-04-19T02:32:53Z</dcterms:modified>
  <cp:revision>1</cp:revision>
  <dc:subject/>
  <dc:title/>
</cp:coreProperties>
</file>