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chimes.wav" ContentType="audio/x-wav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3DE3-AC0B-424E-8466-03FC82E2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0BFC-D06E-446B-82A0-E7B62CBB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F60F-B630-4DDE-B35A-923BB60B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D9E8-B007-4F83-B7E1-C32AC573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79F4-9EB9-4856-A6CE-6A4D851D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244-D268-4BAC-B209-BB0557D1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FA20-1244-4CBA-82F8-53EC762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9CD7-7CC8-424B-9972-D90CF9E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061-F1B1-4D3C-894A-19E14FD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E3B8-D17D-4BD9-B918-5EAF149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C75-C942-4F33-83EE-B763B88B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0FEE-452D-49BF-95CF-1DE8BB7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DA9-C61B-4FFE-98EA-EFE0ABD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6BD-69B3-4E9D-BFC4-2B55F2E5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B70-653E-4989-BFC5-D60145F4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F4EE-461F-493D-BDE9-2868670E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F0A-C714-420E-A012-4050FB2E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1BCC-A898-4B69-88DE-F83979F1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F450-B148-4A3C-B5D1-4666892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4AD7-1535-4F11-9676-ACC0FFEE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A02F-4C78-4E84-8C42-11EE1A7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BFD1-E381-437D-9425-5E19875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F5C2-065A-47DE-94B7-EDA45CC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9546-5EFC-491F-9A54-71F6BDC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5985-169B-4403-BB5E-621CEB589E9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CFF1-CDAF-4C91-B861-56AAAB451C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6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 rot="5400000">
            <a:off x="4787280" y="278100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+mn-ea"/>
              </a:rPr>
              <a:t>涉江采芙蓉</a:t>
            </a:r>
            <a:endParaRPr b="0" lang="en-US" sz="8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+mn-ea"/>
              <a:ea typeface="+mn-ea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5364000" y="3068640"/>
            <a:ext cx="576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書法家淡古印"/>
              </a:rPr>
              <a:t>古诗十九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5"/>
          <p:cNvSpPr/>
          <p:nvPr/>
        </p:nvSpPr>
        <p:spPr>
          <a:xfrm>
            <a:off x="0" y="-171360"/>
            <a:ext cx="8531280" cy="652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42000"/>
            </a:blip>
            <a:srcRect/>
            <a:stretch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Verdana"/>
                <a:ea typeface="方正舒体"/>
              </a:rPr>
              <a:t>问题探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85880" y="714240"/>
            <a:ext cx="7488000" cy="21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一些诗评家大都认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主人公是女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理由有三：当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男子游宦京师洛阳，远离江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女子采莲是旧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芙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怜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文人独立创作的作品，可以用</a:t>
            </a:r>
            <a:r>
              <a:rPr b="0" lang="zh-CN" sz="3200" spc="-1" strike="noStrike" u="sng">
                <a:solidFill>
                  <a:srgbClr val="98bf1d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悬想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方式，以女子的口吻来写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思念的应该是双方，正如李清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剪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种相思，两处闲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诗中有游子思乡思亲之缠绵，也有闺女思念情人之真挚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1258920" y="5877000"/>
            <a:ext cx="6337440" cy="504720"/>
          </a:xfrm>
          <a:prstGeom prst="plus">
            <a:avLst>
              <a:gd name="adj" fmla="val 25000"/>
            </a:avLst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619280" y="6021360"/>
            <a:ext cx="4608360" cy="432000"/>
          </a:xfrm>
          <a:prstGeom prst="plus">
            <a:avLst>
              <a:gd name="adj" fmla="val 25000"/>
            </a:avLst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1258920" y="5950080"/>
            <a:ext cx="5400720" cy="9079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000080" y="5667480"/>
            <a:ext cx="7488360" cy="7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8bf1d"/>
                </a:solidFill>
                <a:uFillTx/>
                <a:latin typeface="方正北魏楷书简体"/>
                <a:ea typeface="方正北魏楷书简体"/>
                <a:hlinkClick r:id="rId3" action="ppaction://hlinksldjump"/>
              </a:rPr>
              <a:t>主旨：表达远隔两地的爱人互相思念的哀伤与惆怅之情。</a:t>
            </a:r>
            <a:r>
              <a:rPr b="0" lang="zh-CN" sz="3600" spc="-1" strike="noStrike" u="sng">
                <a:solidFill>
                  <a:srgbClr val="98bf1d"/>
                </a:solidFill>
                <a:uFillTx/>
                <a:latin typeface="方正彩云简体"/>
                <a:ea typeface="方正彩云简体"/>
                <a:hlinkClick r:id="rId4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7"/>
          <p:cNvPicPr/>
          <p:nvPr/>
        </p:nvPicPr>
        <p:blipFill>
          <a:blip r:embed="rId1"/>
          <a:stretch/>
        </p:blipFill>
        <p:spPr>
          <a:xfrm>
            <a:off x="-252360" y="2133720"/>
            <a:ext cx="3297240" cy="4871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-541440" y="189000"/>
            <a:ext cx="5292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依景情，析手法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492360" y="2924280"/>
            <a:ext cx="54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欣赏诗中的两幅图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47920" y="6094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932360" y="2781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位怅立船头的女子。她与众多女子的嬉笑不同，她注视着手中的芙蓉默然无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采莲图"/>
          <p:cNvPicPr/>
          <p:nvPr/>
        </p:nvPicPr>
        <p:blipFill>
          <a:blip r:embed="rId1"/>
          <a:stretch/>
        </p:blipFill>
        <p:spPr>
          <a:xfrm>
            <a:off x="0" y="304920"/>
            <a:ext cx="4694400" cy="6148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4932360" y="16286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画面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9"/>
          <p:cNvPicPr/>
          <p:nvPr/>
        </p:nvPicPr>
        <p:blipFill>
          <a:blip r:embed="rId1"/>
          <a:stretch/>
        </p:blipFill>
        <p:spPr>
          <a:xfrm>
            <a:off x="58680" y="380880"/>
            <a:ext cx="3813120" cy="5924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4211640" y="270828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身在“远道”的游子。四处张望着，看着回家的路无边无际，忧愁不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11640" y="141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画面二（</a:t>
            </a:r>
            <a:r>
              <a:rPr b="1" lang="zh-CN" sz="1600" spc="-1" strike="noStrike">
                <a:solidFill>
                  <a:srgbClr val="d7181f"/>
                </a:solidFill>
                <a:latin typeface="Arial"/>
                <a:ea typeface="宋体"/>
              </a:rPr>
              <a:t>想象  虚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4211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诗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两个画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不是先后的，而是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分隔、同时显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一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是痛苦的妻子，正手拈芙蓉、仰望远天，身后是密密的荷叶，红丽的荷花，衬着她飘拂的衣裙，显得那样的孤独凄清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一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是脑海中隐隐约约摇晃着返身回望的丈夫的身影，那一闪而隐的面容，竟是那般愁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图片1_副本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6294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 rot="12423600">
            <a:off x="6732360" y="1412640"/>
            <a:ext cx="792000" cy="352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88200 h 352440"/>
              <a:gd name="textAreaBottom" fmla="*/ 264600 h 352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>
              <a:alpha val="82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717480" y="620640"/>
            <a:ext cx="7740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76535"/>
                </a:solidFill>
                <a:latin typeface="Arial"/>
                <a:ea typeface="宋体"/>
              </a:rPr>
              <a:t>还顾望旧乡，长路漫浩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763560" y="571680"/>
            <a:ext cx="1979640" cy="936360"/>
          </a:xfrm>
          <a:prstGeom prst="ellipse">
            <a:avLst/>
          </a:prstGeom>
          <a:noFill/>
          <a:ln w="28440">
            <a:solidFill>
              <a:srgbClr val="d7181f"/>
            </a:solidFill>
            <a:miter/>
          </a:ln>
          <a:effectLst>
            <a:outerShdw dist="17819" dir="2700000" blurRad="0" rotWithShape="0">
              <a:srgbClr val="810e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752480" y="1557360"/>
            <a:ext cx="0" cy="2303280"/>
          </a:xfrm>
          <a:prstGeom prst="line">
            <a:avLst/>
          </a:prstGeom>
          <a:ln w="9360">
            <a:solidFill>
              <a:srgbClr val="d718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62120" y="3946680"/>
            <a:ext cx="226836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一种相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两处闲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03360" y="1628640"/>
            <a:ext cx="7092720" cy="0"/>
          </a:xfrm>
          <a:prstGeom prst="line">
            <a:avLst/>
          </a:prstGeom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867280" y="1628640"/>
            <a:ext cx="0" cy="34560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>
            <a:hlinkClick r:id="rId1" action="ppaction://hlinksldjump"/>
          </p:cNvPr>
          <p:cNvSpPr/>
          <p:nvPr/>
        </p:nvSpPr>
        <p:spPr>
          <a:xfrm>
            <a:off x="7236000" y="2637000"/>
            <a:ext cx="6714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女子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334120" y="522936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2514600" y="5334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从对方写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-612720" y="-458640"/>
            <a:ext cx="5292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依景情，析手法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1268280"/>
            <a:ext cx="7164360" cy="316872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5b73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对写法”（落笔对方）的“悬想”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对写法”法又谓主客移位，是我国古典诗歌中的一种特殊的表现手法。简单说就是自己思念对方，却说对方不忘自己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{</a:t>
            </a:r>
            <a:r>
              <a:rPr b="1" lang="zh-CN" sz="3200" spc="-1" strike="noStrike" u="sng">
                <a:solidFill>
                  <a:srgbClr val="d7181f"/>
                </a:solidFill>
                <a:uFillTx/>
                <a:latin typeface="Verdana"/>
                <a:ea typeface="宋体"/>
              </a:rPr>
              <a:t>虚写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}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Verdana"/>
                <a:ea typeface="宋体"/>
              </a:rPr>
              <a:t>（</a:t>
            </a:r>
            <a:r>
              <a:rPr b="1" lang="zh-CN" sz="3600" spc="-1" strike="noStrike">
                <a:solidFill>
                  <a:srgbClr val="d7181f"/>
                </a:solidFill>
                <a:latin typeface="Arial"/>
                <a:ea typeface="宋体"/>
              </a:rPr>
              <a:t>虚实结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图片1_副本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67280" y="3471840"/>
            <a:ext cx="417672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这种从对方写起的虚写的方式，简单说就是自己思念对方，却说对方不忘思念自己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893880" y="1981080"/>
            <a:ext cx="7488000" cy="345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bf1d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月夜（杜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今夜鄜州月， 闺中只独看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遥怜小儿女， 未解忆长安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 香雾云鬟湿， 清辉玉臂寒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 何时倚虚幌， 双照泪痕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杜甫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月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的前四句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</a:rPr>
              <a:t>今夜鄜州月</a:t>
            </a:r>
            <a:r>
              <a:rPr b="1" lang="en-US" sz="2800" spc="-1" strike="noStrike">
                <a:solidFill>
                  <a:srgbClr val="d7181f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</a:rPr>
              <a:t>闺中只独看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181f"/>
                </a:solidFill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</a:rPr>
              <a:t>遥怜小儿女</a:t>
            </a:r>
            <a:r>
              <a:rPr b="1" lang="en-US" sz="2800" spc="-1" strike="noStrike">
                <a:solidFill>
                  <a:srgbClr val="d7181f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d7181f"/>
                </a:solidFill>
                <a:latin typeface="Verdana"/>
              </a:rPr>
              <a:t>未解忆长</a:t>
            </a:r>
            <a:r>
              <a:rPr b="0" lang="zh-CN" sz="2800" spc="-1" strike="noStrike">
                <a:solidFill>
                  <a:srgbClr val="d7181f"/>
                </a:solidFill>
                <a:latin typeface="Verdana"/>
              </a:rPr>
              <a:t>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此诗是诗人在安史之乱时身陷长安时思念妻子儿女之作，原本是诗人思念妻子儿女，而诗人却采用了“对写法”。从对方落墨，想像妻子在月夜里如何对月思念自己，而孩子还不懂得母亲为何要思念长安。有评论家说：“公本思家，偏想家人思己。”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高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除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旅馆寒灯独不眠，客心何事转凄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故乡今夜思千里，愁鬓明朝又一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本是自己思念千里之外的故乡亲人，却说故乡的亲人思念千里之外的自己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王维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九月九日忆山东兄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独在异乡为异客，每逢佳节倍思亲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98bf1d"/>
                </a:solidFill>
                <a:latin typeface="Verdana"/>
              </a:rPr>
              <a:t>遥知兄弟登高处，遍插茱萸少一人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本是自己到了佳节便加倍地思念家乡的亲人，可作者不说自己想念家乡的兄弟，却说家乡的兄弟想念自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1763640" y="2205000"/>
            <a:ext cx="5832720" cy="1294920"/>
            <a:chOff x="1763640" y="2205000"/>
            <a:chExt cx="5832720" cy="1294920"/>
          </a:xfrm>
        </p:grpSpPr>
        <p:sp>
          <p:nvSpPr>
            <p:cNvPr id="91" name="AutoShape 4"/>
            <p:cNvSpPr/>
            <p:nvPr/>
          </p:nvSpPr>
          <p:spPr>
            <a:xfrm>
              <a:off x="1763640" y="2205000"/>
              <a:ext cx="5832720" cy="1294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"/>
            <p:cNvGrpSpPr/>
            <p:nvPr/>
          </p:nvGrpSpPr>
          <p:grpSpPr>
            <a:xfrm>
              <a:off x="1777680" y="2245320"/>
              <a:ext cx="5811120" cy="1197000"/>
              <a:chOff x="1777680" y="2245320"/>
              <a:chExt cx="5811120" cy="119700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1777680" y="3132360"/>
                <a:ext cx="5811120" cy="309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7"/>
              <p:cNvSpPr/>
              <p:nvPr/>
            </p:nvSpPr>
            <p:spPr>
              <a:xfrm>
                <a:off x="1777680" y="2245320"/>
                <a:ext cx="5811120" cy="31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8"/>
          <p:cNvGrpSpPr/>
          <p:nvPr/>
        </p:nvGrpSpPr>
        <p:grpSpPr>
          <a:xfrm>
            <a:off x="1763640" y="3645000"/>
            <a:ext cx="5832720" cy="647640"/>
            <a:chOff x="1763640" y="3645000"/>
            <a:chExt cx="5832720" cy="647640"/>
          </a:xfrm>
        </p:grpSpPr>
        <p:sp>
          <p:nvSpPr>
            <p:cNvPr id="96" name="AutoShape 9"/>
            <p:cNvSpPr/>
            <p:nvPr/>
          </p:nvSpPr>
          <p:spPr>
            <a:xfrm>
              <a:off x="1763640" y="3645000"/>
              <a:ext cx="5832720" cy="64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0"/>
            <p:cNvGrpSpPr/>
            <p:nvPr/>
          </p:nvGrpSpPr>
          <p:grpSpPr>
            <a:xfrm>
              <a:off x="1777680" y="3665160"/>
              <a:ext cx="5811120" cy="598680"/>
              <a:chOff x="1777680" y="3665160"/>
              <a:chExt cx="5811120" cy="598680"/>
            </a:xfrm>
          </p:grpSpPr>
          <p:sp>
            <p:nvSpPr>
              <p:cNvPr id="98" name="AutoShape 11"/>
              <p:cNvSpPr/>
              <p:nvPr/>
            </p:nvSpPr>
            <p:spPr>
              <a:xfrm>
                <a:off x="1777680" y="4109040"/>
                <a:ext cx="5811120" cy="15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12"/>
              <p:cNvSpPr/>
              <p:nvPr/>
            </p:nvSpPr>
            <p:spPr>
              <a:xfrm>
                <a:off x="1777680" y="3665160"/>
                <a:ext cx="5811120" cy="15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3"/>
          <p:cNvGrpSpPr/>
          <p:nvPr/>
        </p:nvGrpSpPr>
        <p:grpSpPr>
          <a:xfrm>
            <a:off x="1763640" y="4508640"/>
            <a:ext cx="5832720" cy="720720"/>
            <a:chOff x="1763640" y="4508640"/>
            <a:chExt cx="5832720" cy="720720"/>
          </a:xfrm>
        </p:grpSpPr>
        <p:sp>
          <p:nvSpPr>
            <p:cNvPr id="101" name="AutoShape 14"/>
            <p:cNvSpPr/>
            <p:nvPr/>
          </p:nvSpPr>
          <p:spPr>
            <a:xfrm>
              <a:off x="1763640" y="4508640"/>
              <a:ext cx="5832720" cy="720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5"/>
            <p:cNvGrpSpPr/>
            <p:nvPr/>
          </p:nvGrpSpPr>
          <p:grpSpPr>
            <a:xfrm>
              <a:off x="1777680" y="4530960"/>
              <a:ext cx="5811120" cy="666000"/>
              <a:chOff x="1777680" y="4530960"/>
              <a:chExt cx="5811120" cy="666000"/>
            </a:xfrm>
          </p:grpSpPr>
          <p:sp>
            <p:nvSpPr>
              <p:cNvPr id="103" name="AutoShape 16"/>
              <p:cNvSpPr/>
              <p:nvPr/>
            </p:nvSpPr>
            <p:spPr>
              <a:xfrm>
                <a:off x="1777680" y="5024520"/>
                <a:ext cx="5811120" cy="17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17"/>
              <p:cNvSpPr/>
              <p:nvPr/>
            </p:nvSpPr>
            <p:spPr>
              <a:xfrm>
                <a:off x="1777680" y="4530960"/>
                <a:ext cx="5811120" cy="172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8"/>
          <p:cNvGrpSpPr/>
          <p:nvPr/>
        </p:nvGrpSpPr>
        <p:grpSpPr>
          <a:xfrm>
            <a:off x="1763640" y="765000"/>
            <a:ext cx="5832720" cy="1223640"/>
            <a:chOff x="1763640" y="765000"/>
            <a:chExt cx="5832720" cy="1223640"/>
          </a:xfrm>
        </p:grpSpPr>
        <p:sp>
          <p:nvSpPr>
            <p:cNvPr id="106" name="AutoShape 19"/>
            <p:cNvSpPr/>
            <p:nvPr/>
          </p:nvSpPr>
          <p:spPr>
            <a:xfrm>
              <a:off x="1763640" y="765000"/>
              <a:ext cx="5832720" cy="1223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0"/>
            <p:cNvGrpSpPr/>
            <p:nvPr/>
          </p:nvGrpSpPr>
          <p:grpSpPr>
            <a:xfrm>
              <a:off x="1777680" y="802800"/>
              <a:ext cx="5811120" cy="1131120"/>
              <a:chOff x="1777680" y="802800"/>
              <a:chExt cx="5811120" cy="1131120"/>
            </a:xfrm>
          </p:grpSpPr>
          <p:sp>
            <p:nvSpPr>
              <p:cNvPr id="108" name="AutoShape 21"/>
              <p:cNvSpPr/>
              <p:nvPr/>
            </p:nvSpPr>
            <p:spPr>
              <a:xfrm>
                <a:off x="1777680" y="1641240"/>
                <a:ext cx="5811120" cy="29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22"/>
              <p:cNvSpPr/>
              <p:nvPr/>
            </p:nvSpPr>
            <p:spPr>
              <a:xfrm>
                <a:off x="1777680" y="802800"/>
                <a:ext cx="5811120" cy="29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Text Box 23"/>
          <p:cNvSpPr/>
          <p:nvPr/>
        </p:nvSpPr>
        <p:spPr>
          <a:xfrm>
            <a:off x="2268360" y="1052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汉代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华文新魏"/>
              </a:rPr>
              <a:t>无名作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作品合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2771640" y="227664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言诗成熟期的代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誉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6699"/>
                </a:solidFill>
                <a:latin typeface="华文新魏"/>
                <a:ea typeface="华文新魏"/>
              </a:rPr>
              <a:t>五言之冠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340000" y="3716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平浅质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的文字展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484360" y="458136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南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萧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合收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文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692360" y="45086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5280" y="3645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619280" y="2349360"/>
            <a:ext cx="10810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63640" y="98100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1"/>
          <p:cNvSpPr/>
          <p:nvPr/>
        </p:nvSpPr>
        <p:spPr>
          <a:xfrm>
            <a:off x="1979640" y="465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2050920" y="1052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2124000" y="2565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2195640" y="3716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-564120" y="1197000"/>
            <a:ext cx="1826280" cy="403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書法家淡古印"/>
              </a:rPr>
              <a:t>古诗十九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3381480" y="403560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0" y="5286240"/>
            <a:ext cx="871524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诗十九首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思想内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矢志伤时、人生无常的感慨。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世态的炎凉与人情的冷暖。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游子思妇们离别相思之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白居易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邯郸冬至夜思家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98bf1d"/>
                </a:solidFill>
                <a:latin typeface="Verdana"/>
              </a:rPr>
              <a:t>邯郸驿里逢冬至</a:t>
            </a:r>
            <a:r>
              <a:rPr b="1" lang="en-US" sz="3200" spc="-1" strike="noStrike">
                <a:solidFill>
                  <a:srgbClr val="98bf1d"/>
                </a:solidFill>
                <a:latin typeface="Verdana"/>
              </a:rPr>
              <a:t>, </a:t>
            </a:r>
            <a:r>
              <a:rPr b="1" lang="zh-CN" sz="3200" spc="-1" strike="noStrike">
                <a:solidFill>
                  <a:srgbClr val="98bf1d"/>
                </a:solidFill>
                <a:latin typeface="Verdana"/>
              </a:rPr>
              <a:t>抱膝灯前影伴身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bf1d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98bf1d"/>
                </a:solidFill>
                <a:latin typeface="Verdana"/>
              </a:rPr>
              <a:t>想得家中夜深坐</a:t>
            </a:r>
            <a:r>
              <a:rPr b="1" lang="en-US" sz="3200" spc="-1" strike="noStrike">
                <a:solidFill>
                  <a:srgbClr val="98bf1d"/>
                </a:solidFill>
                <a:latin typeface="Verdana"/>
              </a:rPr>
              <a:t>, </a:t>
            </a:r>
            <a:r>
              <a:rPr b="1" lang="zh-CN" sz="3200" spc="-1" strike="noStrike">
                <a:solidFill>
                  <a:srgbClr val="98bf1d"/>
                </a:solidFill>
                <a:latin typeface="Verdana"/>
              </a:rPr>
              <a:t>还应说着远行人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前两句写冬至之夜，诗人羁留他乡的孤独冷清的生活画面。思乡之情，不言而喻。可诗人不说自己思念家人，却想像家人于冬至节的深夜还坐在一起念叨着自己。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11280" y="692280"/>
            <a:ext cx="7705800" cy="1739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绝句（杜甫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江碧鸟逾白，山青花欲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今春看又过，何日是归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24000" y="2852640"/>
            <a:ext cx="8351640" cy="642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的前两句勾画了一幅幅浓丽的春日画面，极言春光融洽。如此美景，何以思归？原来这是以乐景写哀情。如此谋诗，才能写出诗人归心殷切：以客观景物与主观感受的鲜明对照，反衬诗人思乡之情更加浓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4427640" y="6248520"/>
            <a:ext cx="3816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以乐景衬哀情</a:t>
            </a:r>
            <a:endParaRPr b="0" lang="en-US" sz="8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-612720" y="-717480"/>
            <a:ext cx="5292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依景情，析手法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3bce_1176754344"/>
          <p:cNvPicPr/>
          <p:nvPr/>
        </p:nvPicPr>
        <p:blipFill>
          <a:blip r:embed="rId1">
            <a:lum bright="12000"/>
          </a:blip>
          <a:srcRect l="0" t="0" r="0" b="5149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1752480" y="28195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涉江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芙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兰泽多芳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981080" y="4343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两句描绘的是什么画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形标注 4"/>
          <p:cNvSpPr/>
          <p:nvPr/>
        </p:nvSpPr>
        <p:spPr>
          <a:xfrm>
            <a:off x="1905120" y="457200"/>
            <a:ext cx="6781680" cy="2133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华文仿宋"/>
                <a:ea typeface="华文仿宋"/>
              </a:rPr>
              <a:t>荷花，又称莲花，古人也名之为藕花、芙蓉、菡萏、净友、芰荷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057400" y="51814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个场景是什么氛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3bce_1176754344"/>
          <p:cNvPicPr/>
          <p:nvPr/>
        </p:nvPicPr>
        <p:blipFill>
          <a:blip r:embed="rId1">
            <a:lum bright="12000"/>
          </a:blip>
          <a:srcRect l="0" t="0" r="0" b="5149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468360" y="4572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忽然想起采莲的事情来了。采莲是江南的旧俗，似乎很早就有，而六朝时为盛；从诗歌里可以约略知道。采莲的是少年的女子，她们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荡着小船，唱着艳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的。采莲人不用说很多，还有看采莲的人。那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季节，也是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风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季节。梁元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采莲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里说得好：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于是妖童媛女，荡舟心许；鷁首徐回，兼传羽杯；棹将移而藻挂，船欲动而萍开。尔其纤腰束素，迁延顾步；夏始春余，叶嫩花初，恐沾裳而浅笑，畏倾船而敛裾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可见当时嬉游的光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5393520"/>
            <a:ext cx="4932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6633"/>
                </a:solidFill>
                <a:latin typeface="Arial"/>
                <a:ea typeface="黑体"/>
              </a:rPr>
              <a:t>意境总结：那是一个夏日，花香日暖，江上芙蓉朵朵，赏心悦目，一幅纯美静谧的画面，一个高洁优雅的意境。这样的意境，意在表达感情的纯洁和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1005281247dc7cf17e9ada1f5e"/>
          <p:cNvPicPr/>
          <p:nvPr/>
        </p:nvPicPr>
        <p:blipFill>
          <a:blip r:embed="rId1"/>
          <a:stretch/>
        </p:blipFill>
        <p:spPr>
          <a:xfrm>
            <a:off x="-181080" y="0"/>
            <a:ext cx="5040360" cy="4292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2274880761775948886"/>
          <p:cNvPicPr/>
          <p:nvPr/>
        </p:nvPicPr>
        <p:blipFill>
          <a:blip r:embed="rId2"/>
          <a:stretch/>
        </p:blipFill>
        <p:spPr>
          <a:xfrm>
            <a:off x="5003640" y="0"/>
            <a:ext cx="43927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3bce_1176754344"/>
          <p:cNvPicPr/>
          <p:nvPr/>
        </p:nvPicPr>
        <p:blipFill>
          <a:blip r:embed="rId1">
            <a:lum bright="12000"/>
          </a:blip>
          <a:srcRect l="0" t="0" r="0" b="5149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1752480" y="1295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涉江采芙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兰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芳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457200" y="2133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描写“兰泽”和“芳草”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274680" y="3432240"/>
            <a:ext cx="8640720" cy="8982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环境描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意在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造清幽美好的意境。（从侧面烘托主人公形象的雅致、高尚和所表达感情的纯洁和美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7"/>
          <p:cNvPicPr/>
          <p:nvPr/>
        </p:nvPicPr>
        <p:blipFill>
          <a:blip r:embed="rId1"/>
          <a:stretch/>
        </p:blipFill>
        <p:spPr>
          <a:xfrm>
            <a:off x="-252360" y="2133720"/>
            <a:ext cx="3297240" cy="48718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-541440" y="189000"/>
            <a:ext cx="5292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依景情，析手法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564000" y="1557360"/>
            <a:ext cx="5400720" cy="34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写作手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借景抒情（以乐景衬哀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虚实结合   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白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214200" y="-428760"/>
            <a:ext cx="4680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4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找意象，品意境。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79280" y="1197000"/>
            <a:ext cx="842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⑴</a:t>
            </a: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下面请找出本诗中的意象有哪些？分析形成了什么样的意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24000" y="2349360"/>
            <a:ext cx="7127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兰泽、芳草、芙蓉、长路、旧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50920" y="3357720"/>
            <a:ext cx="867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⑵</a:t>
            </a:r>
            <a:r>
              <a:rPr b="1" lang="zh-CN" sz="2800" spc="-1" strike="noStrike">
                <a:solidFill>
                  <a:srgbClr val="51944e"/>
                </a:solidFill>
                <a:latin typeface="Times New Roman"/>
                <a:ea typeface="宋体"/>
              </a:rPr>
              <a:t>其中哪个意象是最重要的？这对全诗意境的营造有什么作用？</a:t>
            </a:r>
            <a:r>
              <a:rPr b="1" lang="zh-CN" sz="2800" spc="-1" strike="noStrike">
                <a:solidFill>
                  <a:srgbClr val="51944e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50920" y="4292640"/>
            <a:ext cx="295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芙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5013000"/>
            <a:ext cx="82072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芙蓉意象：荷花、莲花、芙蕖、菡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0" y="5667480"/>
            <a:ext cx="8532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楷体_GB2312"/>
                <a:ea typeface="楷体_GB2312"/>
              </a:rPr>
              <a:t>特点： 品质高洁   气质优雅  姿态优美             仪表庄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2007823145122423"/>
          <p:cNvPicPr/>
          <p:nvPr/>
        </p:nvPicPr>
        <p:blipFill>
          <a:blip r:embed="rId1"/>
          <a:stretch/>
        </p:blipFill>
        <p:spPr>
          <a:xfrm>
            <a:off x="7620120" y="487692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68360" y="189000"/>
            <a:ext cx="8229600" cy="18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1944e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荷花，又称莲花，古人也名之为藕花、芙蓉、菡萏、净友、芰荷等。以荷入文者，有周敦颐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爱莲说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予独爱莲之出淤泥而不染，濯清涟而不妖，中通外直，不蔓不枝，香远益清，亭亭静植，可远观而不可亵玩焉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此以荷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喻君子圣洁之风范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，且已成定说。以荷入诗者，有丁鹤年的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采莲曲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莲开花复水，莲谢藕在泥。不学青萍叶，随波东复西。朝采并蒂莲，暮绾同心结。不学杨柳枝，含颦送离别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此以荷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喻爱情之坚贞真挚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。以荷入词者，有李清照的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如梦令</a:t>
            </a:r>
            <a:r>
              <a:rPr b="1" lang="en-US" sz="2800" spc="-1" strike="noStrike">
                <a:solidFill>
                  <a:srgbClr val="51944e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常记溪亭日暮，沉醉不知归路。兴尽晚回舟，误入藕花深处。争渡，争渡，惊起一滩鸥鹭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51944e"/>
                </a:solidFill>
                <a:latin typeface="Arial"/>
                <a:ea typeface="黑体"/>
              </a:rPr>
              <a:t> 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此以荷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喻意境之静谧悠闲</a:t>
            </a:r>
            <a:r>
              <a:rPr b="1" lang="zh-CN" sz="2800" spc="-1" strike="noStrike">
                <a:solidFill>
                  <a:srgbClr val="51944e"/>
                </a:solidFill>
                <a:latin typeface="黑体"/>
                <a:ea typeface="黑体"/>
              </a:rPr>
              <a:t>。由以上几例分析可以见出：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荷花更多被作为一种情感意象来使用，表示一种圣洁、坚贞与宁静的意味。</a:t>
            </a:r>
            <a:r>
              <a:rPr b="1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5393520"/>
            <a:ext cx="4932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6633"/>
                </a:solidFill>
                <a:latin typeface="Arial"/>
                <a:ea typeface="黑体"/>
              </a:rPr>
              <a:t>意境总结：那是一个夏日，花香日暖，江上芙蓉朵朵，赏心悦目，一幅纯美静谧的画面，一个高洁优雅的意境。这样的意境，意在表达感情的纯洁和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1005281247dc7cf17e9ada1f5e"/>
          <p:cNvPicPr/>
          <p:nvPr/>
        </p:nvPicPr>
        <p:blipFill>
          <a:blip r:embed="rId1"/>
          <a:stretch/>
        </p:blipFill>
        <p:spPr>
          <a:xfrm>
            <a:off x="4932360" y="333360"/>
            <a:ext cx="4211640" cy="6381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250920" y="620640"/>
            <a:ext cx="38894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芙蓉”“兰泽”“芳草”等意象。描述了抒情主人公涉江采摘芙蓉的情景，营造的是轻松欢快的氛围。 “芙蓉”“兰泽”“芳草”等意象，表达出诗人情怀的高雅，感情的纯洁、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-397440" y="1268280"/>
            <a:ext cx="8588880" cy="47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涉江采芙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诗十九首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涉江采芙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兰泽多芳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采之欲</a:t>
            </a:r>
            <a:r>
              <a:rPr b="1" lang="zh-CN" sz="4800" spc="-1" strike="noStrike" u="sng">
                <a:solidFill>
                  <a:srgbClr val="000099"/>
                </a:solidFill>
                <a:uFillTx/>
                <a:latin typeface="Times New Roman"/>
                <a:ea typeface="华文行楷"/>
              </a:rPr>
              <a:t>遗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所思在远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还顾望旧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长路漫浩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同心而离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忧伤以终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50920" y="1197000"/>
            <a:ext cx="7920000" cy="489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6948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最后两句除了表达主人公黯然痛苦的心情，还能体会到什么？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1628640"/>
            <a:ext cx="723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能让人深切地感受到两个彼此相爱的人的真挚笃厚的感情。因爱之深才思之深，因爱之长久才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终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忧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250920" y="3284640"/>
            <a:ext cx="6659640" cy="93636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11280" y="3213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试对这首诗的艺术特点加以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826920" y="4508640"/>
            <a:ext cx="6840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隶书"/>
                <a:ea typeface="华文隶书"/>
              </a:rPr>
              <a:t>一是意境高洁、清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隶书"/>
                <a:ea typeface="华文隶书"/>
              </a:rPr>
              <a:t>二是含蓄不尽，余味悠长。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181080" y="1052640"/>
            <a:ext cx="9577440" cy="5805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0"/>
            <a:ext cx="8839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  <a:ea typeface="方正姚体"/>
              </a:rPr>
              <a:t>运用联想和想象描摹诗歌的画面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812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36025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333360"/>
            <a:ext cx="8785440" cy="1833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涉江采芙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纵使江水溅湿了衣衫，我依然要采得江中那最美丽的莲。这淡雅的莲花，挺拔的枝叶，像极了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远方的爱人，记得我们曾许下的诺言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死生契阔，与子成说，执子之手，与子偕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对你的思恋，一天又一天，莲花开落，等在季节里的容颜日渐凋零，却依然不见你那熟悉的面庞。    为何我回望故乡的双眸这样氤氲？归家的路途遥遥无尽，时光在这条路上设下了重重陷阱 ，我日思夜想的人儿啊！怎样才能飞到你的身旁？曾经沧海，蜡炬成灰。此生，无法执子之手，就这样孤独终老吧。</a:t>
            </a:r>
            <a:r>
              <a:rPr b="1" lang="zh-CN" sz="33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涉江采芙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是一首绝美的诗，看到他，就像看到了一种中国式乡情、亲情、爱情的缩影，横亘于历史时空之中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涉江采芙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文字绝没有浮躁的华美，仅用清淡自然地笔触，写出了一世的悲苦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尽管千年前的那个采莲的人和被他思念的人都早已消失了。但是，只要有人，只要有诗，只要有四季的变换，在这世间就会存在着一种思慕的情怀，永远也不会改变，永远也不会消失。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8360" y="333360"/>
            <a:ext cx="2808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行楷"/>
                <a:ea typeface="华文行楷"/>
              </a:rPr>
              <a:t>结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1,-81,27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-65,-10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052640"/>
            <a:ext cx="9144000" cy="4395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是生与死的距离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是我站在你面前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不知道我爱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是我站在你面前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不知道我爱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是爱到痴迷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却不能说我爱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是我不能说我爱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是想你痛彻心脾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却只能深埋心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界上最远的距离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是我不能说我想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是彼此相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/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却不能够在一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泰戈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836640"/>
            <a:ext cx="7777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莲的心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（ 席慕蓉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                                        现在   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朵盛开的夏莲                最美丽的时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希望                                  重门却已深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看见现在的我                在芬芳的笑靥之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霜还不曾来侵蚀                谁人知我莲的心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雨还未滴落                        无缘的你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青涩的季节又已离我远去      不是来得太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已亭亭   不忧 亦不惧         就是 太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1150920"/>
            <a:ext cx="59356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芙蓉意象：又名荷花、莲花、芙蕖、菡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808000"/>
            <a:ext cx="723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君子之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敦颐“予独爱莲之出淤泥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染，濯清涟而不妖，中通外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蔓不枝，香远益清，亭亭净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远观而不可亵玩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，花之君子者也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5472000"/>
            <a:ext cx="532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5879" r="0" b="0"/>
          <a:stretch/>
        </p:blipFill>
        <p:spPr>
          <a:xfrm>
            <a:off x="6443640" y="476280"/>
            <a:ext cx="2700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11280" y="-360"/>
            <a:ext cx="44132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佳人之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549360"/>
            <a:ext cx="69134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采莲曲二首（其二）　王昌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荷叶罗裙一色裁，芙蓉向脸两边开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乱入池中看不见，闻歌始觉有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83560" y="1998000"/>
            <a:ext cx="307476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沙扬娜拉一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赠日本女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徐志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最是那一低头的温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象一朵水莲花不胜凉风的娇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道一声珍重，道一声珍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那一声珍重里有蜜甜的忧愁</a:t>
            </a:r>
            <a:r>
              <a:rPr b="0" lang="en-US" sz="3200" spc="-1" strike="noStrike">
                <a:solidFill>
                  <a:srgbClr val="996633"/>
                </a:solidFill>
                <a:latin typeface="黑体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沙扬娜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0" r="4633" b="13797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031720" y="1773000"/>
            <a:ext cx="2658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西洲曲</a:t>
            </a:r>
            <a:r>
              <a:rPr b="1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南朝乐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2709000"/>
            <a:ext cx="33847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采莲南塘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莲花过人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低头弄莲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莲子青如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5960" y="1676160"/>
            <a:ext cx="78984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爱情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836640"/>
            <a:ext cx="8229600" cy="384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荷的意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荷花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喻君子圣洁之风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荷花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喻美好纯洁的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荷花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喻爱情之坚贞真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以上几例分析可以看出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荷花更多被作为一种情感意象来使用，表达一种纯洁、坚贞与宁静的意味，为全诗营造了高洁清幽的意境。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sds2232"/>
          <p:cNvPicPr/>
          <p:nvPr/>
        </p:nvPicPr>
        <p:blipFill>
          <a:blip r:embed="rId1"/>
          <a:srcRect l="0" t="0" r="4633" b="13797"/>
          <a:stretch/>
        </p:blipFill>
        <p:spPr>
          <a:xfrm>
            <a:off x="-18108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348000" y="2781360"/>
            <a:ext cx="525636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  <a:ea typeface="宋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86040" y="2590920"/>
            <a:ext cx="1525680" cy="9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541600" y="2565360"/>
            <a:ext cx="1525680" cy="30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4859280" y="2133720"/>
            <a:ext cx="320040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启体"/>
              </a:rPr>
              <a:t>诗歌鉴赏的方法</a:t>
            </a:r>
            <a:endParaRPr b="0" lang="en-US" sz="8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启体"/>
              <a:ea typeface="迷你简启体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635280" y="2781360"/>
            <a:ext cx="4824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读顺畅，通大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059280" y="3068640"/>
            <a:ext cx="5435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找诗眼，抓主旨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203640" y="3933720"/>
            <a:ext cx="5292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依景情，析手法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3780000" y="4869000"/>
            <a:ext cx="4679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4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找意象，品意境。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357120"/>
            <a:ext cx="4376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诗歌艺术特点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芙蓉”“兰泽”“芳草”等意象，使全诗意境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高洁、清幽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该诗处处都是未知，究竟故乡何在？诗人身处何处？恋人何如？是否重聚？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皆未点出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但当诗人把这一切都淡化后，诗中的情感就很自然地被突显出来，引人想象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这就是诗意所在：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含蓄不尽、余味悠长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268360" y="1268280"/>
            <a:ext cx="4464000" cy="3024000"/>
            <a:chOff x="2268360" y="1268280"/>
            <a:chExt cx="4464000" cy="3024000"/>
          </a:xfrm>
        </p:grpSpPr>
        <p:sp>
          <p:nvSpPr>
            <p:cNvPr id="266" name=""/>
            <p:cNvSpPr/>
            <p:nvPr/>
          </p:nvSpPr>
          <p:spPr>
            <a:xfrm>
              <a:off x="2268360" y="1268280"/>
              <a:ext cx="4464000" cy="302400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2920" y="2017440"/>
              <a:ext cx="331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这首诗的作者是采莲的女子，还是另有其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556000" y="5013360"/>
            <a:ext cx="4319640" cy="581400"/>
          </a:xfrm>
          <a:prstGeom prst="rect">
            <a:avLst/>
          </a:prstGeom>
          <a:solidFill>
            <a:srgbClr val="ffd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诗歌的主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此诗的主人公应该是位女子，全诗所抒写的，乃是故乡妻子思念丈夫的深切忧伤。但倘若把此诗的作者，也认定是这女子，那就错了。马茂元先生说得好：“文人诗与民歌不同，其中思妇词也出于游子的虚拟。”因此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涉江采芙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最终仍是游子思乡之作，只是在表现游子的苦闷、忧伤时，采用了“思妇调”的“虚拟”方式：“在穷愁潦倒的客愁中，通过自身的感受，设想到家室的离思，因而把一性质的苦闷，从两种不同角度表现出来”（马茂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古诗十九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〉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。从这一点看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涉江采芙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为表现游子思乡的苦闷，不仅虚拟了全篇的“思妇”之词，而且在虚拟中又借思妇口吻，“悬想”出游子“还顾望旧乡”的情景。这样的诗情抒写，就不只是“婉曲”，简直是奇想了！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0" y="333360"/>
            <a:ext cx="4824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读顺畅，通大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14200" y="304920"/>
            <a:ext cx="8501040" cy="619596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000080" y="1071720"/>
            <a:ext cx="792000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渡过江去采摘荷花，生有兰草的沼地长着香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采摘荷花送给谁呢？所思念的人在遥远的长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回头看那故乡啊，漫长的道路无边无际又渺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感情深厚却两地分居，在愁苦忧伤中慢慢变老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612720" y="-387360"/>
            <a:ext cx="5435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找诗眼，抓主旨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928800"/>
            <a:ext cx="8896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⑴</a:t>
            </a:r>
            <a:r>
              <a:rPr b="1" lang="zh-CN" sz="3200" spc="-1" strike="noStrike">
                <a:solidFill>
                  <a:srgbClr val="336600"/>
                </a:solidFill>
                <a:latin typeface="宋体"/>
                <a:ea typeface="宋体"/>
              </a:rPr>
              <a:t>什么是“诗眼”？找出本诗“诗眼”并根据“诗眼”概括主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8"/>
          <p:cNvGrpSpPr/>
          <p:nvPr/>
        </p:nvGrpSpPr>
        <p:grpSpPr>
          <a:xfrm>
            <a:off x="250920" y="1989000"/>
            <a:ext cx="8642160" cy="936720"/>
            <a:chOff x="250920" y="1989000"/>
            <a:chExt cx="8642160" cy="936720"/>
          </a:xfrm>
        </p:grpSpPr>
        <p:sp>
          <p:nvSpPr>
            <p:cNvPr id="142" name="AutoShape 6"/>
            <p:cNvSpPr/>
            <p:nvPr/>
          </p:nvSpPr>
          <p:spPr>
            <a:xfrm>
              <a:off x="250920" y="1989000"/>
              <a:ext cx="8642160" cy="936720"/>
            </a:xfrm>
            <a:prstGeom prst="horizontalScroll">
              <a:avLst>
                <a:gd name="adj" fmla="val 125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323640" y="2133360"/>
              <a:ext cx="8352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40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诗眼：指作品中点睛传神之笔。（形式有二）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9" descr="20060723214907538"/>
          <p:cNvPicPr/>
          <p:nvPr/>
        </p:nvPicPr>
        <p:blipFill>
          <a:blip r:embed="rId1"/>
          <a:stretch/>
        </p:blipFill>
        <p:spPr>
          <a:xfrm>
            <a:off x="0" y="2752560"/>
            <a:ext cx="2938320" cy="410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3000240" y="3071880"/>
            <a:ext cx="5867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词句中最精炼传神的某个字；②全篇最关键的词句，是一篇诗词的主旨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71840" y="5214960"/>
            <a:ext cx="6572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本诗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方正北魏楷书简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诗眼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方正北魏楷书简体"/>
              </a:rPr>
              <a:t>”</a:t>
            </a:r>
            <a:r>
              <a:rPr b="1" lang="zh-CN" sz="44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方正北魏楷书简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方正北魏楷书简体"/>
                <a:ea typeface="方正北魏楷书简体"/>
              </a:rPr>
              <a:t>忧伤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方正北魏楷书简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1280" y="4797360"/>
            <a:ext cx="3959280" cy="459720"/>
          </a:xfrm>
          <a:prstGeom prst="rect">
            <a:avLst/>
          </a:prstGeom>
          <a:solidFill>
            <a:srgbClr val="9bf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离居终老之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76720" y="2924280"/>
            <a:ext cx="2592360" cy="1512720"/>
            <a:chOff x="3276720" y="2924280"/>
            <a:chExt cx="2592360" cy="1512720"/>
          </a:xfrm>
        </p:grpSpPr>
        <p:sp>
          <p:nvSpPr>
            <p:cNvPr id="150" name=""/>
            <p:cNvSpPr/>
            <p:nvPr/>
          </p:nvSpPr>
          <p:spPr>
            <a:xfrm>
              <a:off x="3276720" y="2924280"/>
              <a:ext cx="2592360" cy="1512720"/>
            </a:xfrm>
            <a:prstGeom prst="ellipse">
              <a:avLst/>
            </a:prstGeom>
            <a:solidFill>
              <a:srgbClr val="9bf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92360" y="314172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天地之间一声幽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492360" y="4941720"/>
            <a:ext cx="2592360" cy="1512720"/>
            <a:chOff x="3492360" y="4941720"/>
            <a:chExt cx="2592360" cy="1512720"/>
          </a:xfrm>
        </p:grpSpPr>
        <p:sp>
          <p:nvSpPr>
            <p:cNvPr id="154" name=""/>
            <p:cNvSpPr/>
            <p:nvPr/>
          </p:nvSpPr>
          <p:spPr>
            <a:xfrm>
              <a:off x="3492360" y="4941720"/>
              <a:ext cx="2592360" cy="1512720"/>
            </a:xfrm>
            <a:prstGeom prst="ellipse">
              <a:avLst/>
            </a:prstGeom>
            <a:solidFill>
              <a:srgbClr val="9bf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000" y="515916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天地之间一声幽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03640" y="2421000"/>
            <a:ext cx="3097080" cy="2492280"/>
            <a:chOff x="3203640" y="2421000"/>
            <a:chExt cx="3097080" cy="2492280"/>
          </a:xfrm>
        </p:grpSpPr>
        <p:sp>
          <p:nvSpPr>
            <p:cNvPr id="157" name=""/>
            <p:cNvSpPr/>
            <p:nvPr/>
          </p:nvSpPr>
          <p:spPr>
            <a:xfrm>
              <a:off x="3203640" y="2421000"/>
              <a:ext cx="3097080" cy="2492280"/>
            </a:xfrm>
            <a:custGeom>
              <a:avLst/>
              <a:gdLst>
                <a:gd name="textAreaLeft" fmla="*/ 727920 w 3097080"/>
                <a:gd name="textAreaRight" fmla="*/ 2367000 w 3097080"/>
                <a:gd name="textAreaTop" fmla="*/ 293040 h 2492280"/>
                <a:gd name="textAreaBottom" fmla="*/ 1563480 h 2492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2200" y="2708280"/>
              <a:ext cx="266400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6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同心而离居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6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忧伤以终老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3bce_1176754344"/>
          <p:cNvPicPr/>
          <p:nvPr/>
        </p:nvPicPr>
        <p:blipFill>
          <a:blip r:embed="rId1">
            <a:lum bright="12000"/>
          </a:blip>
          <a:srcRect l="0" t="0" r="0" b="51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685800" y="1219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同心而离居，忧伤以终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6705720" y="1295280"/>
            <a:ext cx="1828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12"/>
              </a:avLst>
            </a:prstTxWarp>
            <a:no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天各一方</a:t>
            </a:r>
            <a:endParaRPr b="0" lang="en-US" sz="8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忧伤难遣</a:t>
            </a:r>
            <a:endParaRPr b="0" lang="en-US" sz="8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85800" y="2362320"/>
            <a:ext cx="7924680" cy="5205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心而离居，忧伤以终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这两句表达了主人公怎样的心情？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5800" y="3809880"/>
            <a:ext cx="8001000" cy="642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达主人公黯然痛苦的心情。还能让人深切地感受到两个彼此相爱的人的真挚笃厚的感情。因爱之深才思之深，因爱之长久才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终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忧伤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24360" y="980640"/>
            <a:ext cx="87836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3366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336600"/>
                </a:solidFill>
                <a:latin typeface="宋体"/>
                <a:ea typeface="宋体"/>
              </a:rPr>
              <a:t>）问题探究：关于</a:t>
            </a:r>
            <a:r>
              <a:rPr b="1" lang="en-US" sz="3600" spc="-1" strike="noStrike">
                <a:solidFill>
                  <a:srgbClr val="3366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336600"/>
                </a:solidFill>
                <a:latin typeface="宋体"/>
                <a:ea typeface="宋体"/>
              </a:rPr>
              <a:t>涉江采芙蓉</a:t>
            </a:r>
            <a:r>
              <a:rPr b="1" lang="en-US" sz="3600" spc="-1" strike="noStrike">
                <a:solidFill>
                  <a:srgbClr val="3366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336600"/>
                </a:solidFill>
                <a:latin typeface="宋体"/>
                <a:ea typeface="宋体"/>
              </a:rPr>
              <a:t>，有人认为抒情主人公是男性，“涉江”者和“还顾”者都是男子，也有人认为抒情主人公是女性，“涉江”者是女子，“还顾”者则是“所思”的男子。你怎么看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-612720" y="-387360"/>
            <a:ext cx="5435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  <a:ea typeface="宋体"/>
              </a:rPr>
              <a:t>找诗眼，抓主旨；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68360" y="4292640"/>
            <a:ext cx="453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游子思乡怀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68360" y="5373720"/>
            <a:ext cx="5905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女子思夫怀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User</cp:lastModifiedBy>
  <dcterms:modified xsi:type="dcterms:W3CDTF">2014-12-07T08:26:16Z</dcterms:modified>
  <cp:revision>26</cp:revision>
  <dc:subject/>
  <dc:title>幻灯片 1</dc:title>
</cp:coreProperties>
</file>