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094-7B45-44F7-B077-2790AC88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00A-68E0-4DA9-B96D-1A1A639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F5D-1CE3-42C5-A0C8-22AC23FF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23D-7C4C-4133-AC3F-A287F7A2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3B7-565D-4A7A-8F87-C1E4FC6B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D41-02FB-4990-B555-81B95E3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646-3879-4E8C-A7C1-11AE326B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83D-56C6-4FCF-8A3F-967B4B1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20C-3FD6-4DB0-A03E-9B9412D0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5C8-FBD5-4B5C-8948-CED778C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CE4-49AA-4810-9281-1D718F8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FFD-3DD1-4C6B-8BFF-A69CAFB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6A0-34F1-4109-A309-588A2A148E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1197000"/>
            <a:ext cx="80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惊心动魄，可谓几乎一字千金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钟嵘《诗品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83664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0"/>
            <a:ext cx="507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采之欲遗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所思在远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4076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44370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采了莲花要送给谁呢？想要送给那远方的爱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这两句的语气如何？你从“远道”一词品出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1989000"/>
            <a:ext cx="5003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问自答，语气缓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远道”为下面的情绪转折透露一些消息。把人物放在美好、欢乐的采莲背景上，抒写独自怀远的忧伤，正具有以“乐”衬“哀”的强烈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859280" y="549360"/>
            <a:ext cx="403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90792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65560" y="260280"/>
            <a:ext cx="1870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长路漫浩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还顾望旧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37512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回头望望远处的故乡，却又长路漫漫无边无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32360" y="0"/>
            <a:ext cx="42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两句里有哪些意象？这些意象包含着作者怎样的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旧乡”“长路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旧乡”在“漫漫”长路的那头，看不到也望不着，“旧乡”的爱人此时也正凝眸相望吗？相爱却不得相见，浓浓的相思之情溢于言表。这两句将“远道”意思说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两句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还顾”“漫浩浩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两词运用巧妙，请简要分析，谈谈这样写有什么作用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还顾“一词动作感和画面感很强，让人仿佛看到主人公孤单、忧愁、怅惘地立在船头，徒劳地往故乡的那个方向张望，他看到了什么？是他不敢去仔细计算的迢迢的路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漫浩浩”一词，读起来给人以路途绵延无尽的感觉。故乡在哪儿？“所思”在哪儿？抒情主人公感情痛苦到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这两句并没有直接点明主人公的痛苦，这样，给读者留下了很大的想象的空间，具有含蓄不尽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34080" y="260280"/>
            <a:ext cx="45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5960" y="0"/>
            <a:ext cx="85068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同心而离居，忧伤以终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29360" y="189000"/>
            <a:ext cx="458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1557360"/>
            <a:ext cx="28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漂泊异乡两地相思，在思念的愁苦中忧伤以致终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3176640"/>
            <a:ext cx="3456000" cy="356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9072360" cy="311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32000" y="54936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0"/>
            <a:ext cx="475308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鹊桥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宋 秦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纤云弄巧，飞星传恨，银汉迢迢暗度。金风玉露一相逢，便胜却人间无数。柔情似水，佳期如梦，忍顾鹊桥归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两情若是久长时，又岂在朝朝暮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59640" y="260280"/>
            <a:ext cx="458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9360" y="189000"/>
            <a:ext cx="458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2060640"/>
            <a:ext cx="3672000" cy="2808360"/>
          </a:xfrm>
          <a:prstGeom prst="ellipse">
            <a:avLst/>
          </a:prstGeom>
          <a:solidFill>
            <a:srgbClr val="9bff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地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声幽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1844640"/>
            <a:ext cx="2879640" cy="3745080"/>
          </a:xfrm>
          <a:prstGeom prst="ellipse">
            <a:avLst/>
          </a:prstGeom>
          <a:solidFill>
            <a:srgbClr val="b9b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2781360"/>
            <a:ext cx="194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思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难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229360"/>
            <a:ext cx="5113440" cy="703440"/>
          </a:xfrm>
          <a:prstGeom prst="rect">
            <a:avLst/>
          </a:prstGeom>
          <a:solidFill>
            <a:srgbClr val="9bff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离居终老之苦，黯然之情令人销魂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89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心而离居，忧伤以终老” 这两句表达了主人公怎样的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3544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51280" y="189000"/>
            <a:ext cx="504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诗歌中的抒情主人公表达感情的方式是什么？其目的是什么？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349360"/>
            <a:ext cx="5076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达感情的方式是：采摘芙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目的是：“遗”远方的“同心”者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以花草赠亲朋是古人常有的一种行为，你怎样理解这种行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秦楼月，年年柳色，灞陵伤别。”（李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人送别，折柳相赠，意欲“挽留”。以“柳”与“留”谐音，象征友情绵长，永志不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渡欲牵游子棹，离亭留赠旅人鞭”（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周志蕙）描摹折柳赠别之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红豆生南国，春来发几枝。愿君多采撷，此物最相思。” （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王维《相思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采花折柳赠亲朋是古人传情达意的方式，一方面是传达了对亲朋的关怀、思念等感情，另一方面又寄托了对亲朋的美好祝愿。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23960" y="0"/>
            <a:ext cx="13993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00"/>
                </a:solidFill>
                <a:latin typeface="Bookshelf Symbol 7"/>
                <a:ea typeface="Bookshelf Symbol 7"/>
              </a:rPr>
              <a:t>涉江采芙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877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龙岩市高级中学  卢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5600" y="2205000"/>
            <a:ext cx="789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《古诗十九首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涉江采芙蓉》里写“采芙蓉”赠给所思之人，这对全诗在营造意境上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芙蓉就是荷花，荷花给人清幽、高洁的感觉。屈原的作品里也视“荷”为香草，认为她具有美好的品质。因此，写采芙蓉送给所思之人，营造了清幽高洁的意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78000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8360" y="47628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读完这首诗，你认为这首诗的主要表达了什么思想感情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314172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游子思念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爱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家乡</a:t>
            </a: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的思想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0360" y="404640"/>
            <a:ext cx="45352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本诗采取了什么表达手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借景抒情，白描手法。 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如何把握古诗的思想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7336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628640"/>
            <a:ext cx="7848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通过朗读，直接品味诗歌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通过分析，抓取意象，透过意象把握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寻找诗中关于文章主旨的表达情感的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836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-243000"/>
            <a:ext cx="86756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拓展研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们一起看看《古诗十九首》中的《庭中有奇树》一诗，谈谈这首诗和课文在写作手法上有何异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492280"/>
            <a:ext cx="784836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庭中有奇树，绿叶发华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攀条折其荣，将以遗所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馨香盈怀袖，路远莫致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此物何足贵，但感别经时。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异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两首诗歌所寄托的外物有所不同，《涉江采芙蓉》借“芙蓉”“兰泽”“芳草”的幽香等美好欢乐的情景来以乐景衬哀情；而《庭中有奇树》则是以树为寄托物。另外《涉江采芙蓉》的结句哀伤不止，而《庭中有奇树》则自我宽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22100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0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两首诗都采用了先扬后抑的写法。前面六句，诗人对于花、树（意象）的珍奇美丽极力赞扬，最后两句点明了全诗主题。两首诗歌都意境高洁、清幽；含蓄不尽，余味悠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476280"/>
            <a:ext cx="273672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907920"/>
            <a:ext cx="5400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背诵课文《涉江采芙蓉》，并准备默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完成《优化设计》上的本课练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0920" y="549360"/>
            <a:ext cx="655308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指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 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文学常识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183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《古诗十九首》是梁代萧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文选》“杂诗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标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包括汉代无名氏所作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五言诗。清代沈德潜说“古诗十九首，不必一人之辞，一时之作。大率逐臣弃妻，朋友阔绝，游子他乡，死生新故之感。或寓言，或显言，或反复言。初无奇辟之思，惊险之句，而西京古诗，皆在其下。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文学常识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“古诗”的原意是古代人所作的诗。它与两汉乐府歌辞并称，专指汉代无名氏所作的五言诗，形成一个特定含义的专类名称。并且发展为泛指后来具有“古诗”艺术特点的一种诗体。初唐以后，产生了近体诗，其中有五言律诗、五言绝句。唐代以前的五言诗体便统称为“五言古诗”或“五古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文学常识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萧统，南朝梁代兰陵人，文学家，梁武帝（萧衍）的长子。《文选》是我国最早的一部各类文学作品的选集，收集秦汉以来的文学作品，共三十卷，也称《昭明文选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文史常识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、五言诗，古代诗歌体裁。全篇由五字句构成的诗。汉代以前，偶有五言的诗句，但没有完整的五言诗。五言诗是在两汉民谣和乐府民歌中首先产生和发展起来的。据《汉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五行志》和《尹赏传》所引西汉成帝时歌谣，已成为完整的五言形式；东汉时的《陌上桑》《江南可采莲》等，已是比较成熟的五言作品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东汉末年无名氏《古诗十九首》的出现，标志着五言诗已经达到成熟阶段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至建安和魏晋南北朝时期，五言诗已“居文词之要”（钟嵘《诗品》）成为最盛行的诗体，出现了大批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765000"/>
            <a:ext cx="864252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Arial"/>
              </a:rPr>
              <a:t>涉江采芙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涉江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采芙蓉，兰泽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多芳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采之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欲遗谁？所思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在远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还顾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望旧乡，长路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漫浩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同心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而离居，忧伤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以终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涉江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采芙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兰泽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多芳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18900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涉江采芙蓉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兰泽多芳草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71628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渡过江水去采那朵莲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兰草生长的沼泽地长满芳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189000"/>
            <a:ext cx="80661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两句诗有哪些意象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芙蓉”“兰泽”“芳草”等意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描述了怎样的情景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描述了抒情主人公涉江采摘芙蓉的情景，营造的是轻松欢快的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表达了抒情主人公怎样的感情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3141720"/>
            <a:ext cx="8532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芙蓉”“兰泽”“芳草”等意象，表达出诗人情怀的高雅，感情的纯洁、美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9:46:23Z</dcterms:created>
  <dc:creator>雨林木风</dc:creator>
  <dc:description/>
  <dc:language>en-US</dc:language>
  <cp:lastModifiedBy>zmj</cp:lastModifiedBy>
  <dcterms:modified xsi:type="dcterms:W3CDTF">2008-12-29T01:46:48Z</dcterms:modified>
  <cp:revision>54</cp:revision>
  <dc:subject/>
  <dc:title>幻灯片 1</dc:title>
</cp:coreProperties>
</file>