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5.png" ContentType="image/png"/>
  <Override PartName="/ppt/media/image46.wmf" ContentType="image/x-wmf"/>
  <Override PartName="/ppt/media/image47.wmf" ContentType="image/x-wmf"/>
  <Override PartName="/ppt/media/image2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8.png" ContentType="image/png"/>
  <Override PartName="/ppt/media/image8.jpeg" ContentType="image/jpeg"/>
  <Override PartName="/ppt/media/image5.jpeg" ContentType="image/jpeg"/>
  <Override PartName="/ppt/media/image48.wmf" ContentType="image/x-wmf"/>
  <Override PartName="/ppt/media/image4.png" ContentType="image/png"/>
  <Override PartName="/ppt/media/image34.png" ContentType="image/png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900-5698-4227-8C70-01195D5BC2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040F-2D62-48FB-99CF-3F42D6C5EC0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BFC5-8746-4154-8E3E-60B64548F0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CBB7-6DA7-4B25-8735-A6563CEA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0E67-5E53-433F-B8D2-2E94A78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6C48-E395-4148-BF4B-A34D0F94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5A9F-9C68-456E-A3F1-7D5123F3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C397-0758-4CA9-8307-1AA8D76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18A2-6311-4E19-97FE-BBADDD06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DB4-C722-4D36-A37E-A64F51E5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5E4-C957-44CF-926C-004B674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5289-5B0C-4406-910A-BAEE3955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9486-E8E3-4EAE-9B04-B57FB71F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D83-B38C-4E9D-82F0-5520AB3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387C-B6B9-418E-8730-848542D3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1599-F943-4A24-8F19-1B65F8A8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955A-6DAB-47E7-861D-98D4858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22DC-CA1C-48C0-B253-73C2626E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E376-75B2-4E28-920E-4BEA3EB6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0B2C-E0AD-4EE2-A63A-9382A996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D61E-C30C-4EDC-9698-EC67F5B3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644A-A836-42DE-AFA5-C3953225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DF77-CECD-46FB-B7FE-78D9F1F4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FBE7-E8E3-4323-B0E7-9EAC003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1D64-41D3-42C7-929C-05CB844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4623-A4AB-4EED-BB64-0D8484B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9A86-1122-4DD2-8344-F753FE28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F15-CF8A-48F1-BE01-F41F917EDAD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3FBC-78C2-4526-BB68-6DF9172303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6.png"/><Relationship Id="rId10" Type="http://schemas.openxmlformats.org/officeDocument/2006/relationships/image" Target="../media/image38.png"/><Relationship Id="rId11" Type="http://schemas.openxmlformats.org/officeDocument/2006/relationships/image" Target="../media/image34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8.wmf"/><Relationship Id="rId4" Type="http://schemas.openxmlformats.org/officeDocument/2006/relationships/image" Target="../media/image40.png"/><Relationship Id="rId5" Type="http://schemas.openxmlformats.org/officeDocument/2006/relationships/image" Target="../media/image42.png"/><Relationship Id="rId6" Type="http://schemas.openxmlformats.org/officeDocument/2006/relationships/image" Target="../media/image28.wmf"/><Relationship Id="rId7" Type="http://schemas.openxmlformats.org/officeDocument/2006/relationships/image" Target="../media/image40.png"/><Relationship Id="rId8" Type="http://schemas.openxmlformats.org/officeDocument/2006/relationships/image" Target="../media/image42.png"/><Relationship Id="rId9" Type="http://schemas.openxmlformats.org/officeDocument/2006/relationships/image" Target="../media/image28.wmf"/><Relationship Id="rId10" Type="http://schemas.openxmlformats.org/officeDocument/2006/relationships/image" Target="../media/image40.png"/><Relationship Id="rId11" Type="http://schemas.openxmlformats.org/officeDocument/2006/relationships/image" Target="../media/image42.png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4787280" y="278100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涉江采芙蓉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7020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宋体"/>
              </a:rPr>
              <a:t>Speak of the devil    and he will come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宋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说曹操曹操到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3645000"/>
            <a:ext cx="4608360" cy="143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 rot="5400000">
            <a:off x="5112360" y="2529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51944e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短   歌   行</a:t>
            </a:r>
            <a:endParaRPr b="1" i="1" lang="en-US" sz="4800" spc="1" strike="noStrike">
              <a:ln w="9360">
                <a:solidFill>
                  <a:srgbClr val="99cc00"/>
                </a:solidFill>
                <a:miter/>
              </a:ln>
              <a:solidFill>
                <a:srgbClr val="51944e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3500280"/>
            <a:ext cx="11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曹  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60280"/>
            <a:ext cx="457200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afc3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260280"/>
            <a:ext cx="22334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00d200">
                    <a:alpha val="82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曹  操  </a:t>
            </a:r>
            <a:endParaRPr b="0" lang="en-US" sz="4800" spc="1" strike="noStrike"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00d200">
                  <a:alpha val="82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42920" y="1413000"/>
            <a:ext cx="343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(155---220)</a:t>
            </a:r>
            <a:r>
              <a:rPr b="1" lang="zh-CN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沛</a:t>
            </a:r>
            <a:endParaRPr b="1" lang="en-US" sz="4400" spc="1" strike="noStrike">
              <a:ln w="9360">
                <a:solidFill>
                  <a:srgbClr val="b7ffb7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9280" y="2421000"/>
            <a:ext cx="4172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国谯郡人</a:t>
            </a:r>
            <a:r>
              <a:rPr b="1" lang="en-US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,</a:t>
            </a:r>
            <a:r>
              <a:rPr b="1" lang="zh-CN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是三国</a:t>
            </a:r>
            <a:endParaRPr b="1" lang="en-US" sz="4400" spc="1" strike="noStrike">
              <a:ln w="9360">
                <a:solidFill>
                  <a:srgbClr val="b7ffb7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3500280"/>
            <a:ext cx="5143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时期杰出的政治家、</a:t>
            </a:r>
            <a:endParaRPr b="1" lang="en-US" sz="4400" spc="1" strike="noStrike">
              <a:ln w="9360">
                <a:solidFill>
                  <a:srgbClr val="b7ffb7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4653000"/>
            <a:ext cx="55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军事家和文学家，</a:t>
            </a:r>
            <a:endParaRPr b="1" lang="en-US" sz="4400" spc="1" strike="noStrike">
              <a:ln w="9360">
                <a:solidFill>
                  <a:srgbClr val="b7ffb7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b7ffb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    </a:t>
            </a:r>
            <a:endParaRPr b="1" lang="en-US" sz="4400" spc="1" strike="noStrike">
              <a:ln w="9360">
                <a:solidFill>
                  <a:srgbClr val="b7ffb7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42829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5445000"/>
            <a:ext cx="6672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建安文学的代表人物之一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700280"/>
            <a:ext cx="76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据考证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这首诗作于曹操晚年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大败赤壁之战后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当年曹操已经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53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岁了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年事渐高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面对战乱连年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统一中原的事业仍未完成的社会现实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因而忧愁幽思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苦闷煎熬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但他并不灰心 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仍以统一天下为己任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决心广泛廷揽人才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招纳贤士致力于建功立业</a:t>
            </a:r>
            <a:r>
              <a:rPr b="1" lang="en-US" sz="2800" spc="-1" strike="noStrike">
                <a:solidFill>
                  <a:srgbClr val="3366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620640"/>
            <a:ext cx="4618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1bafc3"/>
                  </a:solidFill>
                  <a:miter/>
                </a:ln>
                <a:solidFill>
                  <a:srgbClr val="0083a2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《短歌行》创作背景</a:t>
            </a:r>
            <a:endParaRPr b="0" lang="en-US" sz="1800" spc="1" strike="noStrike">
              <a:ln w="19080">
                <a:solidFill>
                  <a:srgbClr val="1bafc3"/>
                </a:solidFill>
                <a:miter/>
              </a:ln>
              <a:solidFill>
                <a:srgbClr val="0083a2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3589920" y="4581360"/>
            <a:ext cx="587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46ade"/>
                </a:solidFill>
                <a:latin typeface="Arial"/>
                <a:ea typeface="宋体"/>
              </a:rPr>
              <a:t>你认为本诗的情感着眼点在哪一个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24680" y="537372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991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09036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78120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81f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d7181f"/>
                </a:solidFill>
                <a:latin typeface="Verdana"/>
                <a:ea typeface="宋体"/>
              </a:rPr>
              <a:t>设问开头，破空而来，表达诗人对人生的思考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81f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d7181f"/>
                </a:solidFill>
                <a:latin typeface="Verdana"/>
                <a:ea typeface="宋体"/>
              </a:rPr>
              <a:t>运用“朝露”为喻，表达年华易失的感慨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81f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d7181f"/>
                </a:solidFill>
                <a:latin typeface="Verdana"/>
                <a:ea typeface="宋体"/>
              </a:rPr>
              <a:t>以造酒的杜康代酒，形象突出，引人联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第一层 ：对酒当歌，人生几何？譬如朝露，去日苦多。慨当以慷，忧思难忘。何以解忧？唯有杜康。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292640"/>
            <a:ext cx="7561440" cy="1373760"/>
          </a:xfrm>
          <a:prstGeom prst="rect">
            <a:avLst/>
          </a:prstGeom>
          <a:solidFill>
            <a:srgbClr val="00cc66"/>
          </a:solidFill>
          <a:ln w="0">
            <a:noFill/>
          </a:ln>
          <a:effectLst>
            <a:outerShdw dist="17819" dir="2700000" blurRad="0" rotWithShape="0">
              <a:srgbClr val="00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补充：不直接说某人或某事物的名称，借同它密切相关的名称去代替，这种辞格叫借代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叫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换名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。它重在事物的相关性。作用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可以引人联想，使表达收到形象突出，特点鲜明，具体生动的效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7334280" cy="142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1944e"/>
                </a:solidFill>
                <a:latin typeface="Verdana"/>
                <a:ea typeface="黑体"/>
              </a:rPr>
              <a:t>第二层：青青子衿，悠悠我心。但为君故，沉吟至今。呦呦鹿鸣，食野之苹。我有嘉宾，鼓瑟吹笙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典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语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诗经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郑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子衿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原文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青子衿，悠悠我心 ，纵我不往，子宁不嗣音？”这原是一首情诗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诗句的大意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情人青色的衣衿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令我情思悠长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纵然我没有去你那里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道你就不能和我保持联系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呦呦鹿鸣，食野之苹。我有嘉宾，鼓瑟吹笙。”原是周代宴请宾客的诗句。写求贤既得，故尽礼娱宾。这里用以表达</a:t>
            </a:r>
            <a:r>
              <a:rPr b="1" lang="zh-CN" sz="2800" spc="-1" strike="noStrike">
                <a:solidFill>
                  <a:srgbClr val="51944e"/>
                </a:solidFill>
                <a:latin typeface="楷体_GB2312"/>
                <a:ea typeface="楷体_GB2312"/>
              </a:rPr>
              <a:t>对贤才的礼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212360" y="980280"/>
            <a:ext cx="1224000" cy="216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51944e"/>
          </a:solidFill>
          <a:ln w="0">
            <a:noFill/>
          </a:ln>
          <a:effectLst>
            <a:outerShdw dist="17819" dir="2700000" blurRad="0" rotWithShape="0">
              <a:srgbClr val="3058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3716280"/>
            <a:ext cx="976320" cy="28728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51944e"/>
          </a:solidFill>
          <a:ln w="0">
            <a:noFill/>
          </a:ln>
          <a:effectLst>
            <a:outerShdw dist="17819" dir="2700000" blurRad="0" rotWithShape="0">
              <a:srgbClr val="3058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0"/>
            <a:ext cx="3887640" cy="4762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  <a:effectLst>
            <a:outerShdw dist="17819" dir="2700000" blurRad="0" rotWithShape="0">
              <a:srgbClr val="00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0760" y="3573360"/>
            <a:ext cx="25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求贤不得，故反复沉吟</a:t>
            </a:r>
            <a:r>
              <a:rPr b="1" lang="en-US" sz="2800" spc="-1" strike="noStrike">
                <a:solidFill>
                  <a:srgbClr val="51944e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1294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1944e"/>
                </a:solidFill>
                <a:latin typeface="Verdana"/>
                <a:ea typeface="黑体"/>
              </a:rPr>
              <a:t>第三层：明明如月，何时可掇？忧从中来，不可断绝。越陌度阡，枉用相存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552320"/>
            <a:ext cx="779616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比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楷体_GB2312"/>
              </a:rPr>
              <a:t>将贤才喻为明月，恰如其分地表达渴望贤才来归的心意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在这还没有实现的情况下，才“忧从中来，不可断绝”。这四句诗仍是写“忧”，从情感上照应第一节。“越陌度阡”四句句意呼应第二节，仍是想象贤才归已时的欢快场面。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200720" cy="11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1944e"/>
                </a:solidFill>
                <a:latin typeface="Verdana"/>
                <a:ea typeface="黑体"/>
              </a:rPr>
              <a:t>第四层：月明星稀，乌鹊南飞。绕树三匝，何枝可依？山不厌高，海不厌深。周公吐哺，天下归心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“乌鹊”无 枝可依类比在三国鼎立的局面下，有些人才犹豫不决，彷徨不知何去何从。表达出对人才的渴望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后四句用典说明自己渴望多纳贤才 ，殷勤地接待贤才。表达作者胸怀大志，一统天下的愿望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4005360"/>
            <a:ext cx="81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不厌高，海不厌深。”借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管子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势解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语，诗意比喻执政者能宽宏大量，广纳贤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暗喻曹操自己像山一样不厌其多容纳土壤，像水一样不厌其大而容纳众水，表明要宽宏大量，广纳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476280"/>
            <a:ext cx="3961080" cy="576360"/>
          </a:xfrm>
          <a:prstGeom prst="rect">
            <a:avLst/>
          </a:prstGeom>
          <a:noFill/>
          <a:ln w="28440">
            <a:solidFill>
              <a:srgbClr val="51944e"/>
            </a:solidFill>
            <a:miter/>
          </a:ln>
          <a:effectLst>
            <a:outerShdw dist="17819" dir="2700000" blurRad="0" rotWithShape="0">
              <a:srgbClr val="3058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08720" y="76500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32720" y="765000"/>
            <a:ext cx="0" cy="410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100720" y="4869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Verdana"/>
                <a:ea typeface="黑体"/>
              </a:rPr>
              <a:t>合作探究，感受诗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四节诗歌的主要内容：  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层：时光易逝  人生苦短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层：渴望贤才  礼遇嘉宾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层：渴盼人才  忧思难解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层：虚心纳士  竭尽诚心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741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全诗着眼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全诗落脚点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从人生的感慨过渡到政治理想，心境由狭变阔，情绪由低沉到高昂，因此从全诗高度来看，这也是一种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先抑后扬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写法。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920" y="1176480"/>
            <a:ext cx="124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忧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功业、人才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70720" y="2276640"/>
            <a:ext cx="164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志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一统天下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23493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"/>
          <p:cNvGrpSpPr/>
          <p:nvPr/>
        </p:nvGrpSpPr>
        <p:grpSpPr>
          <a:xfrm>
            <a:off x="1763640" y="2205000"/>
            <a:ext cx="5832720" cy="1294920"/>
            <a:chOff x="1763640" y="2205000"/>
            <a:chExt cx="5832720" cy="1294920"/>
          </a:xfrm>
        </p:grpSpPr>
        <p:sp>
          <p:nvSpPr>
            <p:cNvPr id="97" name="AutoShape 4"/>
            <p:cNvSpPr/>
            <p:nvPr/>
          </p:nvSpPr>
          <p:spPr>
            <a:xfrm>
              <a:off x="1763640" y="2205000"/>
              <a:ext cx="5832720" cy="1294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5"/>
            <p:cNvGrpSpPr/>
            <p:nvPr/>
          </p:nvGrpSpPr>
          <p:grpSpPr>
            <a:xfrm>
              <a:off x="1777680" y="2245320"/>
              <a:ext cx="5811120" cy="1197000"/>
              <a:chOff x="1777680" y="2245320"/>
              <a:chExt cx="5811120" cy="1197000"/>
            </a:xfrm>
          </p:grpSpPr>
          <p:sp>
            <p:nvSpPr>
              <p:cNvPr id="99" name="AutoShape 6"/>
              <p:cNvSpPr/>
              <p:nvPr/>
            </p:nvSpPr>
            <p:spPr>
              <a:xfrm>
                <a:off x="1777680" y="3132360"/>
                <a:ext cx="5811120" cy="309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7"/>
              <p:cNvSpPr/>
              <p:nvPr/>
            </p:nvSpPr>
            <p:spPr>
              <a:xfrm>
                <a:off x="1777680" y="2245320"/>
                <a:ext cx="5811120" cy="31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8"/>
          <p:cNvGrpSpPr/>
          <p:nvPr/>
        </p:nvGrpSpPr>
        <p:grpSpPr>
          <a:xfrm>
            <a:off x="1763640" y="3645000"/>
            <a:ext cx="5832720" cy="647640"/>
            <a:chOff x="1763640" y="3645000"/>
            <a:chExt cx="5832720" cy="647640"/>
          </a:xfrm>
        </p:grpSpPr>
        <p:sp>
          <p:nvSpPr>
            <p:cNvPr id="102" name="AutoShape 9"/>
            <p:cNvSpPr/>
            <p:nvPr/>
          </p:nvSpPr>
          <p:spPr>
            <a:xfrm>
              <a:off x="1763640" y="3645000"/>
              <a:ext cx="5832720" cy="647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0"/>
            <p:cNvGrpSpPr/>
            <p:nvPr/>
          </p:nvGrpSpPr>
          <p:grpSpPr>
            <a:xfrm>
              <a:off x="1777680" y="3665160"/>
              <a:ext cx="5811120" cy="598680"/>
              <a:chOff x="1777680" y="3665160"/>
              <a:chExt cx="5811120" cy="598680"/>
            </a:xfrm>
          </p:grpSpPr>
          <p:sp>
            <p:nvSpPr>
              <p:cNvPr id="104" name="AutoShape 11"/>
              <p:cNvSpPr/>
              <p:nvPr/>
            </p:nvSpPr>
            <p:spPr>
              <a:xfrm>
                <a:off x="1777680" y="4109040"/>
                <a:ext cx="5811120" cy="15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2"/>
              <p:cNvSpPr/>
              <p:nvPr/>
            </p:nvSpPr>
            <p:spPr>
              <a:xfrm>
                <a:off x="1777680" y="3665160"/>
                <a:ext cx="5811120" cy="15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13"/>
          <p:cNvGrpSpPr/>
          <p:nvPr/>
        </p:nvGrpSpPr>
        <p:grpSpPr>
          <a:xfrm>
            <a:off x="1763640" y="4508640"/>
            <a:ext cx="5832720" cy="720720"/>
            <a:chOff x="1763640" y="4508640"/>
            <a:chExt cx="5832720" cy="720720"/>
          </a:xfrm>
        </p:grpSpPr>
        <p:sp>
          <p:nvSpPr>
            <p:cNvPr id="107" name="AutoShape 14"/>
            <p:cNvSpPr/>
            <p:nvPr/>
          </p:nvSpPr>
          <p:spPr>
            <a:xfrm>
              <a:off x="1763640" y="4508640"/>
              <a:ext cx="5832720" cy="720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5"/>
            <p:cNvGrpSpPr/>
            <p:nvPr/>
          </p:nvGrpSpPr>
          <p:grpSpPr>
            <a:xfrm>
              <a:off x="1777680" y="4530960"/>
              <a:ext cx="5811120" cy="666000"/>
              <a:chOff x="1777680" y="4530960"/>
              <a:chExt cx="5811120" cy="666000"/>
            </a:xfrm>
          </p:grpSpPr>
          <p:sp>
            <p:nvSpPr>
              <p:cNvPr id="109" name="AutoShape 16"/>
              <p:cNvSpPr/>
              <p:nvPr/>
            </p:nvSpPr>
            <p:spPr>
              <a:xfrm>
                <a:off x="1777680" y="5024520"/>
                <a:ext cx="5811120" cy="17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17"/>
              <p:cNvSpPr/>
              <p:nvPr/>
            </p:nvSpPr>
            <p:spPr>
              <a:xfrm>
                <a:off x="1777680" y="4530960"/>
                <a:ext cx="5811120" cy="172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18"/>
          <p:cNvGrpSpPr/>
          <p:nvPr/>
        </p:nvGrpSpPr>
        <p:grpSpPr>
          <a:xfrm>
            <a:off x="1763640" y="765000"/>
            <a:ext cx="5832720" cy="1223640"/>
            <a:chOff x="1763640" y="765000"/>
            <a:chExt cx="5832720" cy="1223640"/>
          </a:xfrm>
        </p:grpSpPr>
        <p:sp>
          <p:nvSpPr>
            <p:cNvPr id="112" name="AutoShape 19"/>
            <p:cNvSpPr/>
            <p:nvPr/>
          </p:nvSpPr>
          <p:spPr>
            <a:xfrm>
              <a:off x="1763640" y="765000"/>
              <a:ext cx="5832720" cy="1223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20"/>
            <p:cNvGrpSpPr/>
            <p:nvPr/>
          </p:nvGrpSpPr>
          <p:grpSpPr>
            <a:xfrm>
              <a:off x="1777680" y="802800"/>
              <a:ext cx="5811120" cy="1131120"/>
              <a:chOff x="1777680" y="802800"/>
              <a:chExt cx="5811120" cy="1131120"/>
            </a:xfrm>
          </p:grpSpPr>
          <p:sp>
            <p:nvSpPr>
              <p:cNvPr id="114" name="AutoShape 21"/>
              <p:cNvSpPr/>
              <p:nvPr/>
            </p:nvSpPr>
            <p:spPr>
              <a:xfrm>
                <a:off x="1777680" y="1641240"/>
                <a:ext cx="5811120" cy="29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22"/>
              <p:cNvSpPr/>
              <p:nvPr/>
            </p:nvSpPr>
            <p:spPr>
              <a:xfrm>
                <a:off x="1777680" y="802800"/>
                <a:ext cx="5811120" cy="29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23"/>
          <p:cNvSpPr/>
          <p:nvPr/>
        </p:nvSpPr>
        <p:spPr>
          <a:xfrm>
            <a:off x="2268360" y="1052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汉代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华文新魏"/>
              </a:rPr>
              <a:t>无名作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作品合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771640" y="227664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言诗成熟期的代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誉为“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五言之冠冕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340000" y="3716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平浅质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文字展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484360" y="4581360"/>
            <a:ext cx="53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南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萧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合收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文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692360" y="45086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5280" y="3645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619280" y="2349360"/>
            <a:ext cx="108108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63640" y="98100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1"/>
          <p:cNvSpPr/>
          <p:nvPr/>
        </p:nvSpPr>
        <p:spPr>
          <a:xfrm>
            <a:off x="1979640" y="465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2050920" y="1052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2124000" y="2565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2195640" y="3716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840" y="585360"/>
            <a:ext cx="1003320" cy="4765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古诗十九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1480" y="403560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探究综合，迁移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也就是这建安十三年，曹操率大军南下，列阵长江，想一举消灭孙权和刘备的势力。赤壁大战前夕，酒宴众文武，喝酒到半夜，忽然听到乌鸦声往南飞鸣而去，曹操感此景而持长槊唱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短歌行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在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国演义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的曹操是个奸雄的形象，如曹操借刀杀杨修等，曹操的名言就是“宁教我负天下人，天下人不可负我”。所以后人觉得曹操是“治世之能臣，乱世之奸雄”，京剧中曹操的白脸形象（在戏剧中白脸代表坏人），曹操是一个奸诈、阴险、嫉妒的人。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．面对这截然不同的评价，你是如何有什么看法？请以“曹公，我想对你说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……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题写一段真情告白，字数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字左右，写得比较有激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792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参考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51944e"/>
                </a:solidFill>
                <a:latin typeface="楷体_GB2312"/>
                <a:ea typeface="楷体_GB2312"/>
              </a:rPr>
              <a:t>曹公，人说你是治世之能臣也好，还是乱世之奸雄也罢，历史自有公论。你是一个才华横溢的诗人，你登高必赋，且多慷慨悲凉之句。景仰你，是因为你有一位英雄主义者的豪情壮志；敬佩你，更是因为你是人生的斗士。“一万年太久，只争朝夕”，吟诵你的诗句，磨砺着我万千豪情</a:t>
            </a:r>
            <a:r>
              <a:rPr b="1" lang="zh-CN" sz="2800" spc="-1" strike="noStrike">
                <a:solidFill>
                  <a:srgbClr val="51944e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628320" y="907920"/>
            <a:ext cx="7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2960" y="2781360"/>
            <a:ext cx="59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7273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Verdana"/>
                <a:ea typeface="华文隶书"/>
              </a:rPr>
              <a:t>了解几个问题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4114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、从何而归；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、为何而归；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、归向何处；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、归去如何。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427640" y="1700280"/>
            <a:ext cx="3336480" cy="4585320"/>
            <a:chOff x="4427640" y="1700280"/>
            <a:chExt cx="3336480" cy="4585320"/>
          </a:xfrm>
        </p:grpSpPr>
        <p:sp>
          <p:nvSpPr>
            <p:cNvPr id="206" name=""/>
            <p:cNvSpPr/>
            <p:nvPr/>
          </p:nvSpPr>
          <p:spPr>
            <a:xfrm>
              <a:off x="4952520" y="5765040"/>
              <a:ext cx="281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ff"/>
                  </a:solidFill>
                  <a:latin typeface="Arial"/>
                  <a:ea typeface="宋体"/>
                </a:rPr>
                <a:t>陶渊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4427640" y="1700280"/>
              <a:ext cx="2538000" cy="390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991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20861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66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、从何而归？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628280" y="1125000"/>
            <a:ext cx="3504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确：官场。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诗人将官场说成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“尘网”、“樊笼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349360"/>
            <a:ext cx="354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官场生活的厌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5867280" y="1699920"/>
            <a:ext cx="647640" cy="648000"/>
          </a:xfrm>
          <a:custGeom>
            <a:avLst/>
            <a:gdLst>
              <a:gd name="textAreaLeft" fmla="*/ 0 w 647640"/>
              <a:gd name="textAreaRight" fmla="*/ 648000 w 64764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924280"/>
            <a:ext cx="665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、为何而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04680" y="4508280"/>
            <a:ext cx="50454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本性爱田园。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由于官场的黑暗，无自由，无法实现抱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作者归隐田园为独善其身。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1872720" y="3645000"/>
            <a:ext cx="42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联系作者、背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8874000" y="6219720"/>
            <a:ext cx="540000" cy="638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38280"/>
              <a:gd name="textAreaBottom" fmla="*/ 603360 h 638280"/>
            </a:gdLst>
            <a:ahLst/>
            <a:rect l="textAreaLeft" t="textAreaTop" r="textAreaRight" b="textAreaBottom"/>
            <a:pathLst>
              <a:path w="21600" h="25529">
                <a:moveTo>
                  <a:pt x="0" y="0"/>
                </a:moveTo>
                <a:lnTo>
                  <a:pt x="21600" y="0"/>
                </a:lnTo>
                <a:lnTo>
                  <a:pt x="21600" y="25529"/>
                </a:lnTo>
                <a:lnTo>
                  <a:pt x="0" y="25529"/>
                </a:lnTo>
                <a:close/>
              </a:path>
              <a:path fill="lightenLess" w="21600" h="255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29">
                <a:moveTo>
                  <a:pt x="21600" y="0"/>
                </a:moveTo>
                <a:lnTo>
                  <a:pt x="21600" y="25529"/>
                </a:lnTo>
                <a:lnTo>
                  <a:pt x="20200" y="24129"/>
                </a:lnTo>
                <a:lnTo>
                  <a:pt x="20200" y="1400"/>
                </a:lnTo>
                <a:close/>
              </a:path>
              <a:path fill="darkenLess" w="21600" h="25529">
                <a:moveTo>
                  <a:pt x="21600" y="25529"/>
                </a:moveTo>
                <a:lnTo>
                  <a:pt x="0" y="25529"/>
                </a:lnTo>
                <a:lnTo>
                  <a:pt x="1400" y="24129"/>
                </a:lnTo>
                <a:lnTo>
                  <a:pt x="20200" y="24129"/>
                </a:lnTo>
                <a:close/>
              </a:path>
              <a:path fill="lighten" w="21600" h="25529">
                <a:moveTo>
                  <a:pt x="0" y="255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29"/>
                </a:lnTo>
                <a:close/>
              </a:path>
              <a:path fill="darken" w="21600" h="25529">
                <a:moveTo>
                  <a:pt x="14299" y="12764"/>
                </a:moveTo>
                <a:lnTo>
                  <a:pt x="3794" y="19771"/>
                </a:lnTo>
                <a:lnTo>
                  <a:pt x="3794" y="5758"/>
                </a:lnTo>
                <a:close/>
              </a:path>
              <a:path fill="darken" w="21600" h="25529">
                <a:moveTo>
                  <a:pt x="16144" y="5758"/>
                </a:moveTo>
                <a:lnTo>
                  <a:pt x="16144" y="19771"/>
                </a:lnTo>
                <a:lnTo>
                  <a:pt x="17806" y="19771"/>
                </a:lnTo>
                <a:lnTo>
                  <a:pt x="17806" y="5758"/>
                </a:lnTo>
                <a:close/>
              </a:path>
            </a:pathLst>
          </a:custGeom>
          <a:solidFill>
            <a:srgbClr val="98bf1d"/>
          </a:solidFill>
          <a:ln w="0">
            <a:noFill/>
          </a:ln>
          <a:effectLst>
            <a:outerShdw dist="17819" dir="2700000" blurRad="0" rotWithShape="0">
              <a:srgbClr val="5a72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76360" y="260280"/>
            <a:ext cx="4392720" cy="1152720"/>
          </a:xfrm>
          <a:custGeom>
            <a:avLst/>
            <a:gdLst>
              <a:gd name="textAreaLeft" fmla="*/ 1098000 w 4392720"/>
              <a:gd name="textAreaRight" fmla="*/ 3294720 w 4392720"/>
              <a:gd name="textAreaTop" fmla="*/ 3384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98bf1d"/>
          </a:solidFill>
          <a:ln w="0">
            <a:noFill/>
          </a:ln>
          <a:effectLst>
            <a:outerShdw dist="17819" dir="2700000" blurRad="0" rotWithShape="0">
              <a:srgbClr val="5a72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42920" y="189000"/>
            <a:ext cx="237636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作者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552320"/>
            <a:ext cx="678816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陶渊明，东晋时期文学家。名潜，字元亮。陶渊明出身于没落的仕宦家庭。由于儒道思想的矛盾性，时官时隐，举棋不定。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以后，陶渊明因时局动荡，仕途险恶，以及官场政治腐败，门阀制度森严，而对现实极端不满，毅然辞官归隐，与官场彻底决裂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8874000" y="6637320"/>
            <a:ext cx="540000" cy="439920"/>
          </a:xfrm>
          <a:custGeom>
            <a:avLst/>
            <a:gdLst>
              <a:gd name="textAreaLeft" fmla="*/ 28440 w 540000"/>
              <a:gd name="textAreaRight" fmla="*/ 511560 w 540000"/>
              <a:gd name="textAreaTop" fmla="*/ 28440 h 439920"/>
              <a:gd name="textAreaBottom" fmla="*/ 411480 h 439920"/>
            </a:gdLst>
            <a:ahLst/>
            <a:rect l="textAreaLeft" t="textAreaTop" r="textAreaRight" b="textAreaBottom"/>
            <a:pathLst>
              <a:path w="26510" h="21600">
                <a:moveTo>
                  <a:pt x="0" y="0"/>
                </a:moveTo>
                <a:lnTo>
                  <a:pt x="26510" y="0"/>
                </a:lnTo>
                <a:lnTo>
                  <a:pt x="26510" y="21600"/>
                </a:lnTo>
                <a:lnTo>
                  <a:pt x="0" y="21600"/>
                </a:lnTo>
                <a:close/>
              </a:path>
              <a:path fill="lightenLess" w="26510" h="21600">
                <a:moveTo>
                  <a:pt x="0" y="0"/>
                </a:moveTo>
                <a:lnTo>
                  <a:pt x="26510" y="0"/>
                </a:lnTo>
                <a:lnTo>
                  <a:pt x="25110" y="1400"/>
                </a:lnTo>
                <a:lnTo>
                  <a:pt x="1400" y="1400"/>
                </a:lnTo>
                <a:close/>
              </a:path>
              <a:path fill="darken" w="26510" h="21600">
                <a:moveTo>
                  <a:pt x="26510" y="0"/>
                </a:moveTo>
                <a:lnTo>
                  <a:pt x="26510" y="21600"/>
                </a:lnTo>
                <a:lnTo>
                  <a:pt x="25110" y="20200"/>
                </a:lnTo>
                <a:lnTo>
                  <a:pt x="25110" y="1400"/>
                </a:lnTo>
                <a:close/>
              </a:path>
              <a:path fill="darkenLess" w="26510" h="21600">
                <a:moveTo>
                  <a:pt x="26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10" y="20200"/>
                </a:lnTo>
                <a:close/>
              </a:path>
              <a:path fill="lighten" w="26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10" h="21600">
                <a:moveTo>
                  <a:pt x="9756" y="10800"/>
                </a:moveTo>
                <a:lnTo>
                  <a:pt x="20261" y="3794"/>
                </a:lnTo>
                <a:lnTo>
                  <a:pt x="20261" y="17806"/>
                </a:lnTo>
                <a:close/>
              </a:path>
              <a:path fill="darken" w="26510" h="21600">
                <a:moveTo>
                  <a:pt x="6248" y="3794"/>
                </a:moveTo>
                <a:lnTo>
                  <a:pt x="7911" y="3794"/>
                </a:lnTo>
                <a:lnTo>
                  <a:pt x="7911" y="17806"/>
                </a:lnTo>
                <a:lnTo>
                  <a:pt x="6248" y="17806"/>
                </a:lnTo>
                <a:close/>
              </a:path>
            </a:pathLst>
          </a:custGeom>
          <a:solidFill>
            <a:srgbClr val="98bf1d"/>
          </a:solidFill>
          <a:ln w="0">
            <a:noFill/>
          </a:ln>
          <a:effectLst>
            <a:outerShdw dist="17819" dir="2700000" blurRad="0" rotWithShape="0">
              <a:srgbClr val="5a72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262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思考：如何理解“羁鸟恋旧林，池鱼思故渊。”？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7308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“羁鸟”是笼中的鸟；“池鱼”是池塘中的鱼。这二者的特点是失去自由，失去最适合它们生活的环境，只会觉得痛苦。也暗示作者在官场就如同“羁鸟”、“池鱼”一般，失去自由。说明作者身在海，宦而心系田园的心情，以唤起人们对自由的向往。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317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、归向何处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437840" y="980280"/>
            <a:ext cx="567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确：园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57360"/>
            <a:ext cx="730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、找出描写田园生活情景的句子？用自己的话描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909600"/>
            <a:ext cx="66974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如： “榆柳荫后檐，桃李罗堂前。暧暧远人村，依依墟里烟。狗吠深巷中，鸡鸣桑树颠。” （参考：屋后榆柳树影婆娑，浓阴覆地，习习清风平息心中焦虑。眼前桃李芬芳，弄姿堂前，唤起心中欢欣。极目远眺，炊烟融入暮霭，侧耳谛听，依稀听得犬吠鸡鸣。）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765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归去如何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2773800"/>
            <a:ext cx="687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确：“户庭无尘杂，虚室有余闲。”有“无丝竹之乱耳，无案牍之劳神”之感。作者是在写自己宁静、闲适的生活状态，和那种轻松、平和、喜悦之情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291280" y="39736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3422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33760" y="32004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3300"/>
                </a:solidFill>
                <a:latin typeface="Arial"/>
                <a:ea typeface="宋体"/>
              </a:rPr>
              <a:t>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733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3300"/>
                </a:solidFill>
                <a:latin typeface="Arial"/>
                <a:ea typeface="宋体"/>
              </a:rPr>
              <a:t>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7080" y="24876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田园</a:t>
            </a:r>
            <a:r>
              <a:rPr b="1" lang="zh-CN" sz="3200" spc="-1" strike="noStrike">
                <a:solidFill>
                  <a:srgbClr val="98bf1d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3284640"/>
            <a:ext cx="187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土地  草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榆柳  桃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村庄   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狗     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3360" y="2347920"/>
            <a:ext cx="2139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官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尘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樊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3" descr=""/>
          <p:cNvPicPr/>
          <p:nvPr/>
        </p:nvPicPr>
        <p:blipFill>
          <a:blip r:embed="rId1"/>
          <a:stretch/>
        </p:blipFill>
        <p:spPr>
          <a:xfrm>
            <a:off x="3238560" y="2635200"/>
            <a:ext cx="1644480" cy="3114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H="1">
            <a:off x="2050560" y="36576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39276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4000" y="2703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幽雅恬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04920" y="152280"/>
            <a:ext cx="8458200" cy="1981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32080" y="50148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归 园 田 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397440" y="1268280"/>
            <a:ext cx="8588880" cy="475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涉江采芙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古诗十九首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涉江采芙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兰泽多芳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采之欲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所思在远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还顾望旧乡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路漫浩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心而离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忧伤以终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197000"/>
            <a:ext cx="7920000" cy="489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043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043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总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7881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诗人从自己的本性出发，写自己热爱田园，之后写到田园美，然后表达了自己愉快、舒畅的心情，对归返田园生活做了总结和赞美，同时也对官场做了否定。 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由于文人的这种特殊情节，所以陶渊明在与官场决裂的时候定是做了很强的思想斗争，做出这样的选择也是不容易的。虽然他在田园中找到了一份宁静和快乐，但其内心必有一丝酸涩。</a:t>
            </a:r>
            <a:r>
              <a:rPr b="1" lang="zh-CN" sz="32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00"/>
                </a:solidFill>
                <a:latin typeface="Verdana"/>
                <a:ea typeface="华文新魏"/>
              </a:rPr>
              <a:t>讨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6427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方正舒体"/>
                <a:ea typeface="方正舒体"/>
              </a:rPr>
              <a:t>陶渊明的归隐，是否可行？在当今时代是否可以提倡？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336600"/>
                </a:solidFill>
                <a:latin typeface="方正舒体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 rot="5400000">
            <a:off x="5328000" y="2169000"/>
            <a:ext cx="302400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254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AutoShape 7"/>
            <p:cNvGrpSpPr/>
            <p:nvPr/>
          </p:nvGrpSpPr>
          <p:grpSpPr>
            <a:xfrm>
              <a:off x="3548160" y="2182680"/>
              <a:ext cx="140760" cy="341280"/>
              <a:chOff x="3548160" y="2182680"/>
              <a:chExt cx="140760" cy="341280"/>
            </a:xfrm>
          </p:grpSpPr>
          <p:pic>
            <p:nvPicPr>
              <p:cNvPr id="256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816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365328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AutoShape 8"/>
            <p:cNvGrpSpPr/>
            <p:nvPr/>
          </p:nvGrpSpPr>
          <p:grpSpPr>
            <a:xfrm>
              <a:off x="859320" y="2182680"/>
              <a:ext cx="140760" cy="341280"/>
              <a:chOff x="859320" y="2182680"/>
              <a:chExt cx="140760" cy="341280"/>
            </a:xfrm>
          </p:grpSpPr>
          <p:pic>
            <p:nvPicPr>
              <p:cNvPr id="259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593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87660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262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AutoShape 11"/>
            <p:cNvGrpSpPr/>
            <p:nvPr/>
          </p:nvGrpSpPr>
          <p:grpSpPr>
            <a:xfrm>
              <a:off x="8039520" y="2182680"/>
              <a:ext cx="140400" cy="341280"/>
              <a:chOff x="8039520" y="2182680"/>
              <a:chExt cx="140400" cy="341280"/>
            </a:xfrm>
          </p:grpSpPr>
          <p:pic>
            <p:nvPicPr>
              <p:cNvPr id="264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520" y="2182680"/>
                <a:ext cx="14040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AutoShape 12"/>
            <p:cNvGrpSpPr/>
            <p:nvPr/>
          </p:nvGrpSpPr>
          <p:grpSpPr>
            <a:xfrm>
              <a:off x="5357880" y="2182680"/>
              <a:ext cx="140400" cy="341280"/>
              <a:chOff x="5357880" y="2182680"/>
              <a:chExt cx="140400" cy="341280"/>
            </a:xfrm>
          </p:grpSpPr>
          <p:pic>
            <p:nvPicPr>
              <p:cNvPr id="267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40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56059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55947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573264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573264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1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278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3"/>
            <p:cNvSpPr/>
            <p:nvPr/>
          </p:nvSpPr>
          <p:spPr>
            <a:xfrm>
              <a:off x="5504400" y="29095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4"/>
          <p:cNvGrpSpPr/>
          <p:nvPr/>
        </p:nvGrpSpPr>
        <p:grpSpPr>
          <a:xfrm>
            <a:off x="5491080" y="4186080"/>
            <a:ext cx="168480" cy="168480"/>
            <a:chOff x="5491080" y="4186080"/>
            <a:chExt cx="168480" cy="168480"/>
          </a:xfrm>
        </p:grpSpPr>
        <p:sp>
          <p:nvSpPr>
            <p:cNvPr id="281" name="Oval 25"/>
            <p:cNvSpPr/>
            <p:nvPr/>
          </p:nvSpPr>
          <p:spPr>
            <a:xfrm>
              <a:off x="5491080" y="41860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6"/>
            <p:cNvSpPr/>
            <p:nvPr/>
          </p:nvSpPr>
          <p:spPr>
            <a:xfrm>
              <a:off x="5504400" y="42001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52657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2970360"/>
            <a:ext cx="9144000" cy="142560"/>
            <a:chOff x="0" y="2970360"/>
            <a:chExt cx="9144000" cy="142560"/>
          </a:xfrm>
        </p:grpSpPr>
        <p:sp>
          <p:nvSpPr>
            <p:cNvPr id="295" name="Rectangle 3"/>
            <p:cNvSpPr/>
            <p:nvPr/>
          </p:nvSpPr>
          <p:spPr>
            <a:xfrm>
              <a:off x="0" y="297036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0" y="304632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"/>
          <p:cNvGrpSpPr/>
          <p:nvPr/>
        </p:nvGrpSpPr>
        <p:grpSpPr>
          <a:xfrm>
            <a:off x="6462720" y="2198520"/>
            <a:ext cx="2379600" cy="3832920"/>
            <a:chOff x="6462720" y="2198520"/>
            <a:chExt cx="2379600" cy="3832920"/>
          </a:xfrm>
        </p:grpSpPr>
        <p:grpSp>
          <p:nvGrpSpPr>
            <p:cNvPr id="298" name="Group 6"/>
            <p:cNvGrpSpPr/>
            <p:nvPr/>
          </p:nvGrpSpPr>
          <p:grpSpPr>
            <a:xfrm>
              <a:off x="7138440" y="3351960"/>
              <a:ext cx="1703880" cy="2679480"/>
              <a:chOff x="7138440" y="3351960"/>
              <a:chExt cx="1703880" cy="2679480"/>
            </a:xfrm>
          </p:grpSpPr>
          <p:grpSp>
            <p:nvGrpSpPr>
              <p:cNvPr id="299" name="Group 7"/>
              <p:cNvGrpSpPr/>
              <p:nvPr/>
            </p:nvGrpSpPr>
            <p:grpSpPr>
              <a:xfrm>
                <a:off x="7138440" y="3530520"/>
                <a:ext cx="1577160" cy="2500920"/>
                <a:chOff x="7138440" y="3530520"/>
                <a:chExt cx="1577160" cy="2500920"/>
              </a:xfrm>
            </p:grpSpPr>
            <p:sp>
              <p:nvSpPr>
                <p:cNvPr id="300" name="Freeform 8"/>
                <p:cNvSpPr/>
                <p:nvPr/>
              </p:nvSpPr>
              <p:spPr>
                <a:xfrm rot="3876600">
                  <a:off x="6674760" y="4502160"/>
                  <a:ext cx="2503800" cy="557640"/>
                </a:xfrm>
                <a:prstGeom prst="pie">
                  <a:avLst/>
                </a:pr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9"/>
                <p:cNvSpPr/>
                <p:nvPr/>
              </p:nvSpPr>
              <p:spPr>
                <a:xfrm rot="3876600">
                  <a:off x="8179560" y="547056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10"/>
              <p:cNvGrpSpPr/>
              <p:nvPr/>
            </p:nvGrpSpPr>
            <p:grpSpPr>
              <a:xfrm>
                <a:off x="7632360" y="3351960"/>
                <a:ext cx="1209960" cy="1919160"/>
                <a:chOff x="7632360" y="3351960"/>
                <a:chExt cx="1209960" cy="1919160"/>
              </a:xfrm>
            </p:grpSpPr>
            <p:sp>
              <p:nvSpPr>
                <p:cNvPr id="303" name="Freeform 11"/>
                <p:cNvSpPr/>
                <p:nvPr/>
              </p:nvSpPr>
              <p:spPr>
                <a:xfrm flipV="1" rot="3876600">
                  <a:off x="7276680" y="4096800"/>
                  <a:ext cx="1921320" cy="42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12"/>
                <p:cNvSpPr/>
                <p:nvPr/>
              </p:nvSpPr>
              <p:spPr>
                <a:xfrm flipV="1" rot="3876600">
                  <a:off x="8413560" y="48488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5" name="Oval 13"/>
            <p:cNvSpPr/>
            <p:nvPr/>
          </p:nvSpPr>
          <p:spPr>
            <a:xfrm>
              <a:off x="6462720" y="219852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"/>
            <p:cNvSpPr/>
            <p:nvPr/>
          </p:nvSpPr>
          <p:spPr>
            <a:xfrm>
              <a:off x="6467400" y="2203200"/>
              <a:ext cx="1730520" cy="17272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5"/>
            <p:cNvSpPr/>
            <p:nvPr/>
          </p:nvSpPr>
          <p:spPr>
            <a:xfrm>
              <a:off x="6558120" y="231120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6"/>
            <p:cNvSpPr/>
            <p:nvPr/>
          </p:nvSpPr>
          <p:spPr>
            <a:xfrm>
              <a:off x="6553080" y="2303280"/>
              <a:ext cx="1501920" cy="150012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7"/>
            <p:cNvSpPr/>
            <p:nvPr/>
          </p:nvSpPr>
          <p:spPr>
            <a:xfrm>
              <a:off x="6632640" y="238752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8"/>
            <p:cNvGrpSpPr/>
            <p:nvPr/>
          </p:nvGrpSpPr>
          <p:grpSpPr>
            <a:xfrm>
              <a:off x="6662880" y="2408040"/>
              <a:ext cx="1311120" cy="1309680"/>
              <a:chOff x="6662880" y="2408040"/>
              <a:chExt cx="1311120" cy="1309680"/>
            </a:xfrm>
          </p:grpSpPr>
          <p:sp>
            <p:nvSpPr>
              <p:cNvPr id="311" name="Oval 19"/>
              <p:cNvSpPr/>
              <p:nvPr/>
            </p:nvSpPr>
            <p:spPr>
              <a:xfrm>
                <a:off x="6662880" y="240804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20"/>
              <p:cNvSpPr/>
              <p:nvPr/>
            </p:nvSpPr>
            <p:spPr>
              <a:xfrm>
                <a:off x="6679440" y="2415240"/>
                <a:ext cx="1279800" cy="1277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21"/>
              <p:cNvSpPr/>
              <p:nvPr/>
            </p:nvSpPr>
            <p:spPr>
              <a:xfrm>
                <a:off x="6693120" y="242784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22"/>
              <p:cNvSpPr/>
              <p:nvPr/>
            </p:nvSpPr>
            <p:spPr>
              <a:xfrm>
                <a:off x="6764400" y="246132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23"/>
            <p:cNvSpPr/>
            <p:nvPr/>
          </p:nvSpPr>
          <p:spPr>
            <a:xfrm rot="3925800">
              <a:off x="7144920" y="4460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4"/>
            <p:cNvSpPr/>
            <p:nvPr/>
          </p:nvSpPr>
          <p:spPr>
            <a:xfrm rot="3925800">
              <a:off x="7650720" y="4171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5"/>
          <p:cNvGrpSpPr/>
          <p:nvPr/>
        </p:nvGrpSpPr>
        <p:grpSpPr>
          <a:xfrm>
            <a:off x="4495680" y="2327400"/>
            <a:ext cx="2145240" cy="3505680"/>
            <a:chOff x="4495680" y="2327400"/>
            <a:chExt cx="2145240" cy="3505680"/>
          </a:xfrm>
        </p:grpSpPr>
        <p:grpSp>
          <p:nvGrpSpPr>
            <p:cNvPr id="318" name="Group 26"/>
            <p:cNvGrpSpPr/>
            <p:nvPr/>
          </p:nvGrpSpPr>
          <p:grpSpPr>
            <a:xfrm>
              <a:off x="4936680" y="3153600"/>
              <a:ext cx="1704240" cy="2679480"/>
              <a:chOff x="4936680" y="3153600"/>
              <a:chExt cx="1704240" cy="2679480"/>
            </a:xfrm>
          </p:grpSpPr>
          <p:grpSp>
            <p:nvGrpSpPr>
              <p:cNvPr id="319" name="Group 27"/>
              <p:cNvGrpSpPr/>
              <p:nvPr/>
            </p:nvGrpSpPr>
            <p:grpSpPr>
              <a:xfrm>
                <a:off x="4936680" y="3332520"/>
                <a:ext cx="1577160" cy="2500560"/>
                <a:chOff x="4936680" y="3332520"/>
                <a:chExt cx="1577160" cy="2500560"/>
              </a:xfrm>
            </p:grpSpPr>
            <p:sp>
              <p:nvSpPr>
                <p:cNvPr id="320" name="Freeform 28"/>
                <p:cNvSpPr/>
                <p:nvPr/>
              </p:nvSpPr>
              <p:spPr>
                <a:xfrm rot="3876600">
                  <a:off x="447336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9"/>
                <p:cNvSpPr/>
                <p:nvPr/>
              </p:nvSpPr>
              <p:spPr>
                <a:xfrm rot="3876600">
                  <a:off x="597780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30"/>
              <p:cNvGrpSpPr/>
              <p:nvPr/>
            </p:nvGrpSpPr>
            <p:grpSpPr>
              <a:xfrm>
                <a:off x="5430600" y="3153600"/>
                <a:ext cx="1210320" cy="1918800"/>
                <a:chOff x="5430600" y="3153600"/>
                <a:chExt cx="1210320" cy="1918800"/>
              </a:xfrm>
            </p:grpSpPr>
            <p:sp>
              <p:nvSpPr>
                <p:cNvPr id="323" name="Freeform 31"/>
                <p:cNvSpPr/>
                <p:nvPr/>
              </p:nvSpPr>
              <p:spPr>
                <a:xfrm flipV="1" rot="3876600">
                  <a:off x="507528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32"/>
                <p:cNvSpPr/>
                <p:nvPr/>
              </p:nvSpPr>
              <p:spPr>
                <a:xfrm flipV="1" rot="3876600">
                  <a:off x="621252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5" name="Text Box 33"/>
            <p:cNvSpPr/>
            <p:nvPr/>
          </p:nvSpPr>
          <p:spPr>
            <a:xfrm rot="3925800">
              <a:off x="49352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4"/>
            <p:cNvSpPr/>
            <p:nvPr/>
          </p:nvSpPr>
          <p:spPr>
            <a:xfrm rot="3925800">
              <a:off x="54410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5"/>
            <p:cNvSpPr/>
            <p:nvPr/>
          </p:nvSpPr>
          <p:spPr>
            <a:xfrm>
              <a:off x="44956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6"/>
            <p:cNvSpPr/>
            <p:nvPr/>
          </p:nvSpPr>
          <p:spPr>
            <a:xfrm>
              <a:off x="44956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7"/>
            <p:cNvSpPr/>
            <p:nvPr/>
          </p:nvSpPr>
          <p:spPr>
            <a:xfrm>
              <a:off x="45864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38"/>
            <p:cNvSpPr/>
            <p:nvPr/>
          </p:nvSpPr>
          <p:spPr>
            <a:xfrm>
              <a:off x="45720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9"/>
            <p:cNvSpPr/>
            <p:nvPr/>
          </p:nvSpPr>
          <p:spPr>
            <a:xfrm>
              <a:off x="46483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40"/>
            <p:cNvGrpSpPr/>
            <p:nvPr/>
          </p:nvGrpSpPr>
          <p:grpSpPr>
            <a:xfrm>
              <a:off x="4672080" y="2502000"/>
              <a:ext cx="1090440" cy="1106640"/>
              <a:chOff x="4672080" y="2502000"/>
              <a:chExt cx="1090440" cy="1106640"/>
            </a:xfrm>
          </p:grpSpPr>
          <p:sp>
            <p:nvSpPr>
              <p:cNvPr id="333" name="Oval 41"/>
              <p:cNvSpPr/>
              <p:nvPr/>
            </p:nvSpPr>
            <p:spPr>
              <a:xfrm>
                <a:off x="46720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42"/>
              <p:cNvSpPr/>
              <p:nvPr/>
            </p:nvSpPr>
            <p:spPr>
              <a:xfrm>
                <a:off x="46857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43"/>
              <p:cNvSpPr/>
              <p:nvPr/>
            </p:nvSpPr>
            <p:spPr>
              <a:xfrm>
                <a:off x="46972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44"/>
              <p:cNvSpPr/>
              <p:nvPr/>
            </p:nvSpPr>
            <p:spPr>
              <a:xfrm>
                <a:off x="47563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46"/>
          <p:cNvGrpSpPr/>
          <p:nvPr/>
        </p:nvGrpSpPr>
        <p:grpSpPr>
          <a:xfrm>
            <a:off x="2438280" y="2327400"/>
            <a:ext cx="2145240" cy="3505680"/>
            <a:chOff x="2438280" y="2327400"/>
            <a:chExt cx="2145240" cy="3505680"/>
          </a:xfrm>
        </p:grpSpPr>
        <p:grpSp>
          <p:nvGrpSpPr>
            <p:cNvPr id="339" name="Group 47"/>
            <p:cNvGrpSpPr/>
            <p:nvPr/>
          </p:nvGrpSpPr>
          <p:grpSpPr>
            <a:xfrm>
              <a:off x="2879280" y="3153600"/>
              <a:ext cx="1704240" cy="2679480"/>
              <a:chOff x="2879280" y="3153600"/>
              <a:chExt cx="1704240" cy="2679480"/>
            </a:xfrm>
          </p:grpSpPr>
          <p:grpSp>
            <p:nvGrpSpPr>
              <p:cNvPr id="340" name="Group 48"/>
              <p:cNvGrpSpPr/>
              <p:nvPr/>
            </p:nvGrpSpPr>
            <p:grpSpPr>
              <a:xfrm>
                <a:off x="2879280" y="3332520"/>
                <a:ext cx="1577160" cy="2500560"/>
                <a:chOff x="2879280" y="3332520"/>
                <a:chExt cx="1577160" cy="2500560"/>
              </a:xfrm>
            </p:grpSpPr>
            <p:sp>
              <p:nvSpPr>
                <p:cNvPr id="341" name="Freeform 49"/>
                <p:cNvSpPr/>
                <p:nvPr/>
              </p:nvSpPr>
              <p:spPr>
                <a:xfrm rot="3876600">
                  <a:off x="241596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50"/>
                <p:cNvSpPr/>
                <p:nvPr/>
              </p:nvSpPr>
              <p:spPr>
                <a:xfrm rot="3876600">
                  <a:off x="392040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51"/>
              <p:cNvGrpSpPr/>
              <p:nvPr/>
            </p:nvGrpSpPr>
            <p:grpSpPr>
              <a:xfrm>
                <a:off x="3373200" y="3153600"/>
                <a:ext cx="1210320" cy="1918800"/>
                <a:chOff x="3373200" y="3153600"/>
                <a:chExt cx="1210320" cy="1918800"/>
              </a:xfrm>
            </p:grpSpPr>
            <p:sp>
              <p:nvSpPr>
                <p:cNvPr id="344" name="Freeform 52"/>
                <p:cNvSpPr/>
                <p:nvPr/>
              </p:nvSpPr>
              <p:spPr>
                <a:xfrm flipV="1" rot="3876600">
                  <a:off x="301788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53"/>
                <p:cNvSpPr/>
                <p:nvPr/>
              </p:nvSpPr>
              <p:spPr>
                <a:xfrm flipV="1" rot="3876600">
                  <a:off x="415512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6" name="Text Box 54"/>
            <p:cNvSpPr/>
            <p:nvPr/>
          </p:nvSpPr>
          <p:spPr>
            <a:xfrm rot="3925800">
              <a:off x="287784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55"/>
            <p:cNvSpPr/>
            <p:nvPr/>
          </p:nvSpPr>
          <p:spPr>
            <a:xfrm rot="3925800">
              <a:off x="338364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6"/>
            <p:cNvSpPr/>
            <p:nvPr/>
          </p:nvSpPr>
          <p:spPr>
            <a:xfrm>
              <a:off x="243828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7"/>
            <p:cNvSpPr/>
            <p:nvPr/>
          </p:nvSpPr>
          <p:spPr>
            <a:xfrm>
              <a:off x="243828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8"/>
            <p:cNvSpPr/>
            <p:nvPr/>
          </p:nvSpPr>
          <p:spPr>
            <a:xfrm>
              <a:off x="252900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9"/>
            <p:cNvSpPr/>
            <p:nvPr/>
          </p:nvSpPr>
          <p:spPr>
            <a:xfrm>
              <a:off x="251460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60"/>
            <p:cNvSpPr/>
            <p:nvPr/>
          </p:nvSpPr>
          <p:spPr>
            <a:xfrm>
              <a:off x="259092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61"/>
            <p:cNvGrpSpPr/>
            <p:nvPr/>
          </p:nvGrpSpPr>
          <p:grpSpPr>
            <a:xfrm>
              <a:off x="2614680" y="2502000"/>
              <a:ext cx="1090440" cy="1106640"/>
              <a:chOff x="2614680" y="2502000"/>
              <a:chExt cx="1090440" cy="1106640"/>
            </a:xfrm>
          </p:grpSpPr>
          <p:sp>
            <p:nvSpPr>
              <p:cNvPr id="354" name="Oval 62"/>
              <p:cNvSpPr/>
              <p:nvPr/>
            </p:nvSpPr>
            <p:spPr>
              <a:xfrm>
                <a:off x="261468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63"/>
              <p:cNvSpPr/>
              <p:nvPr/>
            </p:nvSpPr>
            <p:spPr>
              <a:xfrm>
                <a:off x="262836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64"/>
              <p:cNvSpPr/>
              <p:nvPr/>
            </p:nvSpPr>
            <p:spPr>
              <a:xfrm>
                <a:off x="263988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65"/>
              <p:cNvSpPr/>
              <p:nvPr/>
            </p:nvSpPr>
            <p:spPr>
              <a:xfrm>
                <a:off x="269892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Group 66"/>
          <p:cNvGrpSpPr/>
          <p:nvPr/>
        </p:nvGrpSpPr>
        <p:grpSpPr>
          <a:xfrm>
            <a:off x="457200" y="2327400"/>
            <a:ext cx="2145240" cy="3505680"/>
            <a:chOff x="457200" y="2327400"/>
            <a:chExt cx="2145240" cy="3505680"/>
          </a:xfrm>
        </p:grpSpPr>
        <p:grpSp>
          <p:nvGrpSpPr>
            <p:cNvPr id="359" name="Group 67"/>
            <p:cNvGrpSpPr/>
            <p:nvPr/>
          </p:nvGrpSpPr>
          <p:grpSpPr>
            <a:xfrm>
              <a:off x="898200" y="3153600"/>
              <a:ext cx="1704240" cy="2679480"/>
              <a:chOff x="898200" y="3153600"/>
              <a:chExt cx="1704240" cy="2679480"/>
            </a:xfrm>
          </p:grpSpPr>
          <p:grpSp>
            <p:nvGrpSpPr>
              <p:cNvPr id="360" name="Group 68"/>
              <p:cNvGrpSpPr/>
              <p:nvPr/>
            </p:nvGrpSpPr>
            <p:grpSpPr>
              <a:xfrm>
                <a:off x="898200" y="3332520"/>
                <a:ext cx="1577160" cy="2500560"/>
                <a:chOff x="898200" y="3332520"/>
                <a:chExt cx="1577160" cy="2500560"/>
              </a:xfrm>
            </p:grpSpPr>
            <p:sp>
              <p:nvSpPr>
                <p:cNvPr id="361" name="Freeform 69"/>
                <p:cNvSpPr/>
                <p:nvPr/>
              </p:nvSpPr>
              <p:spPr>
                <a:xfrm rot="3876600">
                  <a:off x="434880" y="4303800"/>
                  <a:ext cx="2503440" cy="557640"/>
                </a:xfrm>
                <a:prstGeom prst="pie">
                  <a:avLst/>
                </a:pr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70"/>
                <p:cNvSpPr/>
                <p:nvPr/>
              </p:nvSpPr>
              <p:spPr>
                <a:xfrm rot="3876600">
                  <a:off x="1939320" y="5272200"/>
                  <a:ext cx="393480" cy="4561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Group 71"/>
              <p:cNvGrpSpPr/>
              <p:nvPr/>
            </p:nvGrpSpPr>
            <p:grpSpPr>
              <a:xfrm>
                <a:off x="1392120" y="3153600"/>
                <a:ext cx="1210320" cy="1918800"/>
                <a:chOff x="1392120" y="3153600"/>
                <a:chExt cx="1210320" cy="1918800"/>
              </a:xfrm>
            </p:grpSpPr>
            <p:sp>
              <p:nvSpPr>
                <p:cNvPr id="364" name="Freeform 72"/>
                <p:cNvSpPr/>
                <p:nvPr/>
              </p:nvSpPr>
              <p:spPr>
                <a:xfrm flipV="1" rot="3876600">
                  <a:off x="1036800" y="3899160"/>
                  <a:ext cx="1920960" cy="42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73"/>
                <p:cNvSpPr/>
                <p:nvPr/>
              </p:nvSpPr>
              <p:spPr>
                <a:xfrm flipV="1" rot="3876600">
                  <a:off x="2174040" y="4650120"/>
                  <a:ext cx="301680" cy="350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Text Box 74"/>
            <p:cNvSpPr/>
            <p:nvPr/>
          </p:nvSpPr>
          <p:spPr>
            <a:xfrm rot="3925800">
              <a:off x="896760" y="4182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5"/>
            <p:cNvSpPr/>
            <p:nvPr/>
          </p:nvSpPr>
          <p:spPr>
            <a:xfrm rot="3925800">
              <a:off x="1402560" y="3894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6"/>
            <p:cNvSpPr/>
            <p:nvPr/>
          </p:nvSpPr>
          <p:spPr>
            <a:xfrm>
              <a:off x="457200" y="23274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7"/>
            <p:cNvSpPr/>
            <p:nvPr/>
          </p:nvSpPr>
          <p:spPr>
            <a:xfrm>
              <a:off x="457200" y="235116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8"/>
            <p:cNvSpPr/>
            <p:nvPr/>
          </p:nvSpPr>
          <p:spPr>
            <a:xfrm>
              <a:off x="547920" y="2422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9"/>
            <p:cNvSpPr/>
            <p:nvPr/>
          </p:nvSpPr>
          <p:spPr>
            <a:xfrm>
              <a:off x="533520" y="243216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80"/>
            <p:cNvSpPr/>
            <p:nvPr/>
          </p:nvSpPr>
          <p:spPr>
            <a:xfrm>
              <a:off x="609840" y="249408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81"/>
            <p:cNvGrpSpPr/>
            <p:nvPr/>
          </p:nvGrpSpPr>
          <p:grpSpPr>
            <a:xfrm>
              <a:off x="633600" y="2502000"/>
              <a:ext cx="1090440" cy="1106640"/>
              <a:chOff x="633600" y="2502000"/>
              <a:chExt cx="1090440" cy="1106640"/>
            </a:xfrm>
          </p:grpSpPr>
          <p:sp>
            <p:nvSpPr>
              <p:cNvPr id="374" name="Oval 82"/>
              <p:cNvSpPr/>
              <p:nvPr/>
            </p:nvSpPr>
            <p:spPr>
              <a:xfrm>
                <a:off x="633600" y="250200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83"/>
              <p:cNvSpPr/>
              <p:nvPr/>
            </p:nvSpPr>
            <p:spPr>
              <a:xfrm>
                <a:off x="647280" y="250812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84"/>
              <p:cNvSpPr/>
              <p:nvPr/>
            </p:nvSpPr>
            <p:spPr>
              <a:xfrm>
                <a:off x="658800" y="251856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85"/>
              <p:cNvSpPr/>
              <p:nvPr/>
            </p:nvSpPr>
            <p:spPr>
              <a:xfrm>
                <a:off x="717840" y="254700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Text Box 86"/>
          <p:cNvSpPr/>
          <p:nvPr/>
        </p:nvSpPr>
        <p:spPr>
          <a:xfrm>
            <a:off x="83448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82204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0"/>
          <p:cNvSpPr/>
          <p:nvPr/>
        </p:nvSpPr>
        <p:spPr>
          <a:xfrm>
            <a:off x="4917600" y="2916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1"/>
          <p:cNvSpPr/>
          <p:nvPr/>
        </p:nvSpPr>
        <p:spPr>
          <a:xfrm>
            <a:off x="6889320" y="287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2"/>
          <p:cNvSpPr/>
          <p:nvPr/>
        </p:nvSpPr>
        <p:spPr>
          <a:xfrm>
            <a:off x="609480" y="1523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402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8bf1d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46ade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bafc3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1768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08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2538360" y="279864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4"/>
          <p:cNvSpPr/>
          <p:nvPr/>
        </p:nvSpPr>
        <p:spPr>
          <a:xfrm>
            <a:off x="4457880" y="273384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5"/>
          <p:cNvSpPr/>
          <p:nvPr/>
        </p:nvSpPr>
        <p:spPr>
          <a:xfrm flipH="1">
            <a:off x="4857840" y="279864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433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"/>
            <p:cNvSpPr/>
            <p:nvPr/>
          </p:nvSpPr>
          <p:spPr>
            <a:xfrm>
              <a:off x="2262240" y="16858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437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>
              <a:off x="4041720" y="1685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440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>
              <a:off x="5829120" y="169524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8"/>
          <p:cNvGrpSpPr/>
          <p:nvPr/>
        </p:nvGrpSpPr>
        <p:grpSpPr>
          <a:xfrm>
            <a:off x="838080" y="4038480"/>
            <a:ext cx="7021800" cy="1936800"/>
            <a:chOff x="838080" y="4038480"/>
            <a:chExt cx="7021800" cy="1936800"/>
          </a:xfrm>
        </p:grpSpPr>
        <p:sp>
          <p:nvSpPr>
            <p:cNvPr id="445" name="AutoShape 19"/>
            <p:cNvSpPr/>
            <p:nvPr/>
          </p:nvSpPr>
          <p:spPr>
            <a:xfrm>
              <a:off x="231156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0"/>
            <p:cNvSpPr/>
            <p:nvPr/>
          </p:nvSpPr>
          <p:spPr>
            <a:xfrm>
              <a:off x="283068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7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22"/>
            <p:cNvSpPr/>
            <p:nvPr/>
          </p:nvSpPr>
          <p:spPr>
            <a:xfrm>
              <a:off x="114624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457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1"/>
            <p:cNvSpPr/>
            <p:nvPr/>
          </p:nvSpPr>
          <p:spPr>
            <a:xfrm>
              <a:off x="124920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460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4"/>
            <p:cNvSpPr/>
            <p:nvPr/>
          </p:nvSpPr>
          <p:spPr>
            <a:xfrm>
              <a:off x="286848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463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7"/>
            <p:cNvSpPr/>
            <p:nvPr/>
          </p:nvSpPr>
          <p:spPr>
            <a:xfrm>
              <a:off x="4485960" y="491904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466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20"/>
            <p:cNvSpPr/>
            <p:nvPr/>
          </p:nvSpPr>
          <p:spPr>
            <a:xfrm>
              <a:off x="6102360" y="49190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477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480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483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486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489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492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495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498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501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504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507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510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513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516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519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522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525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528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Verdana"/>
                <a:ea typeface="华文新魏"/>
              </a:rPr>
              <a:t>诗歌鉴赏品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252720" y="263664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181f"/>
                </a:solidFill>
                <a:latin typeface="Verdana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d7181f"/>
                </a:solidFill>
                <a:latin typeface="Verdana"/>
                <a:ea typeface="楷体_GB2312"/>
              </a:rPr>
              <a:t>中国人民很早对于自然就有很深的爱好，对自然的爱与对人的爱往往紧密地联系在一起。古代人送给最亲爱的人的礼物往往不是什么金银珠宝，而是一株花或是一棵芳草，送别时总是折一枝柳条送给远行的人，远行的人为了表示对好朋友的思念，逢到驿使就托带一枝梅花给他。这种生活情调是简朴的，也是美好的。正如王维的</a:t>
            </a:r>
            <a:r>
              <a:rPr b="1" lang="en-US" sz="2400" spc="-1" strike="noStrike">
                <a:solidFill>
                  <a:srgbClr val="d7181f"/>
                </a:solidFill>
                <a:latin typeface="Verdana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d7181f"/>
                </a:solidFill>
                <a:latin typeface="Verdana"/>
                <a:ea typeface="楷体_GB2312"/>
              </a:rPr>
              <a:t>相思</a:t>
            </a:r>
            <a:r>
              <a:rPr b="1" lang="en-US" sz="2400" spc="-1" strike="noStrike">
                <a:solidFill>
                  <a:srgbClr val="d7181f"/>
                </a:solidFill>
                <a:latin typeface="Verdana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d7181f"/>
                </a:solidFill>
                <a:latin typeface="Verdana"/>
                <a:ea typeface="楷体_GB2312"/>
              </a:rPr>
              <a:t>所写：“红豆生南国，春来发几枝。愿君多采撷，此物最相思。”采花折柳，这正是古人传情达意的方式，一方面是传达了对亲朋的关怀、思念等感情，另一方面又寄托了对亲朋的美好祝愿。</a:t>
            </a:r>
            <a:r>
              <a:rPr b="1" lang="zh-CN" sz="2400" spc="-1" strike="noStrike">
                <a:solidFill>
                  <a:srgbClr val="51944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3094200" y="549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944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51944e"/>
                </a:solidFill>
                <a:latin typeface="Times New Roman"/>
                <a:ea typeface="宋体"/>
              </a:rPr>
              <a:t>、诗歌中的抒情主人公表达感情的方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944e"/>
                </a:solidFill>
                <a:latin typeface="Times New Roman"/>
                <a:ea typeface="宋体"/>
              </a:rPr>
              <a:t>其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286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提示：方式是试图采摘芙蓉，目的是“遗”远方的“同心”者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538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3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542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546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0" name="Group 3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551" name="AutoShape 4"/>
            <p:cNvSpPr/>
            <p:nvPr/>
          </p:nvSpPr>
          <p:spPr>
            <a:xfrm>
              <a:off x="1863720" y="4459320"/>
              <a:ext cx="5492880" cy="39168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AutoShape 5"/>
            <p:cNvGrpSpPr/>
            <p:nvPr/>
          </p:nvGrpSpPr>
          <p:grpSpPr>
            <a:xfrm>
              <a:off x="7174800" y="4461840"/>
              <a:ext cx="176760" cy="395640"/>
              <a:chOff x="7174800" y="4461840"/>
              <a:chExt cx="176760" cy="395640"/>
            </a:xfrm>
          </p:grpSpPr>
          <p:pic>
            <p:nvPicPr>
              <p:cNvPr id="553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461840"/>
                <a:ext cx="17676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7316640" y="4599720"/>
                <a:ext cx="18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AutoShape 6"/>
            <p:cNvGrpSpPr/>
            <p:nvPr/>
          </p:nvGrpSpPr>
          <p:grpSpPr>
            <a:xfrm>
              <a:off x="1871640" y="4485600"/>
              <a:ext cx="115200" cy="329040"/>
              <a:chOff x="1871640" y="4485600"/>
              <a:chExt cx="115200" cy="329040"/>
            </a:xfrm>
          </p:grpSpPr>
          <p:pic>
            <p:nvPicPr>
              <p:cNvPr id="556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85600"/>
                <a:ext cx="11520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1884240" y="4594680"/>
                <a:ext cx="162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AutoShape 7"/>
            <p:cNvSpPr/>
            <p:nvPr/>
          </p:nvSpPr>
          <p:spPr>
            <a:xfrm>
              <a:off x="1879200" y="4465800"/>
              <a:ext cx="5452920" cy="30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8"/>
          <p:cNvGrpSpPr/>
          <p:nvPr/>
        </p:nvGrpSpPr>
        <p:grpSpPr>
          <a:xfrm>
            <a:off x="1414440" y="3911760"/>
            <a:ext cx="6391440" cy="397800"/>
            <a:chOff x="1414440" y="3911760"/>
            <a:chExt cx="6391440" cy="397800"/>
          </a:xfrm>
        </p:grpSpPr>
        <p:sp>
          <p:nvSpPr>
            <p:cNvPr id="560" name="AutoShape 9"/>
            <p:cNvSpPr/>
            <p:nvPr/>
          </p:nvSpPr>
          <p:spPr>
            <a:xfrm>
              <a:off x="1414440" y="3911760"/>
              <a:ext cx="6391440" cy="39276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AutoShape 10"/>
            <p:cNvGrpSpPr/>
            <p:nvPr/>
          </p:nvGrpSpPr>
          <p:grpSpPr>
            <a:xfrm>
              <a:off x="7595640" y="3912840"/>
              <a:ext cx="200520" cy="396720"/>
              <a:chOff x="7595640" y="3912840"/>
              <a:chExt cx="200520" cy="396720"/>
            </a:xfrm>
          </p:grpSpPr>
          <p:pic>
            <p:nvPicPr>
              <p:cNvPr id="562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912840"/>
                <a:ext cx="20052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7759080" y="405216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AutoShape 11"/>
            <p:cNvGrpSpPr/>
            <p:nvPr/>
          </p:nvGrpSpPr>
          <p:grpSpPr>
            <a:xfrm>
              <a:off x="1425960" y="3936960"/>
              <a:ext cx="134280" cy="329760"/>
              <a:chOff x="1425960" y="3936960"/>
              <a:chExt cx="134280" cy="329760"/>
            </a:xfrm>
          </p:grpSpPr>
          <p:pic>
            <p:nvPicPr>
              <p:cNvPr id="565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5960" y="3936960"/>
                <a:ext cx="13428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1437840" y="40471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AutoShape 12"/>
            <p:cNvSpPr/>
            <p:nvPr/>
          </p:nvSpPr>
          <p:spPr>
            <a:xfrm>
              <a:off x="1432800" y="3918240"/>
              <a:ext cx="63450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569" name="AutoShape 14"/>
            <p:cNvSpPr/>
            <p:nvPr/>
          </p:nvSpPr>
          <p:spPr>
            <a:xfrm>
              <a:off x="990720" y="331776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AutoShape 15"/>
            <p:cNvGrpSpPr/>
            <p:nvPr/>
          </p:nvGrpSpPr>
          <p:grpSpPr>
            <a:xfrm>
              <a:off x="7991280" y="3321720"/>
              <a:ext cx="226080" cy="394560"/>
              <a:chOff x="7991280" y="3321720"/>
              <a:chExt cx="226080" cy="394560"/>
            </a:xfrm>
          </p:grpSpPr>
          <p:pic>
            <p:nvPicPr>
              <p:cNvPr id="571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321720"/>
                <a:ext cx="226080" cy="3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"/>
              <p:cNvSpPr/>
              <p:nvPr/>
            </p:nvSpPr>
            <p:spPr>
              <a:xfrm>
                <a:off x="8177040" y="345996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AutoShape 16"/>
            <p:cNvGrpSpPr/>
            <p:nvPr/>
          </p:nvGrpSpPr>
          <p:grpSpPr>
            <a:xfrm>
              <a:off x="999360" y="3345840"/>
              <a:ext cx="152280" cy="333720"/>
              <a:chOff x="999360" y="3345840"/>
              <a:chExt cx="152280" cy="333720"/>
            </a:xfrm>
          </p:grpSpPr>
          <p:pic>
            <p:nvPicPr>
              <p:cNvPr id="574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345840"/>
                <a:ext cx="152280" cy="3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1017000" y="345492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AutoShape 17"/>
            <p:cNvSpPr/>
            <p:nvPr/>
          </p:nvSpPr>
          <p:spPr>
            <a:xfrm>
              <a:off x="1011240" y="332424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8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578" name="AutoShape 19"/>
            <p:cNvSpPr/>
            <p:nvPr/>
          </p:nvSpPr>
          <p:spPr>
            <a:xfrm>
              <a:off x="685800" y="2658960"/>
              <a:ext cx="7848360" cy="43200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AutoShape 20"/>
            <p:cNvGrpSpPr/>
            <p:nvPr/>
          </p:nvGrpSpPr>
          <p:grpSpPr>
            <a:xfrm>
              <a:off x="8277840" y="2663280"/>
              <a:ext cx="243360" cy="433800"/>
              <a:chOff x="8277840" y="2663280"/>
              <a:chExt cx="243360" cy="433800"/>
            </a:xfrm>
          </p:grpSpPr>
          <p:pic>
            <p:nvPicPr>
              <p:cNvPr id="580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7840" y="2663280"/>
                <a:ext cx="243360" cy="4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" name=""/>
              <p:cNvSpPr/>
              <p:nvPr/>
            </p:nvSpPr>
            <p:spPr>
              <a:xfrm>
                <a:off x="8476920" y="2814120"/>
                <a:ext cx="2628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AutoShape 21"/>
            <p:cNvGrpSpPr/>
            <p:nvPr/>
          </p:nvGrpSpPr>
          <p:grpSpPr>
            <a:xfrm>
              <a:off x="700200" y="2694240"/>
              <a:ext cx="164880" cy="353880"/>
              <a:chOff x="700200" y="2694240"/>
              <a:chExt cx="164880" cy="353880"/>
            </a:xfrm>
          </p:grpSpPr>
          <p:pic>
            <p:nvPicPr>
              <p:cNvPr id="583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200" y="2694240"/>
                <a:ext cx="16488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>
                <a:off x="714240" y="2809440"/>
                <a:ext cx="234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AutoShape 22"/>
            <p:cNvSpPr/>
            <p:nvPr/>
          </p:nvSpPr>
          <p:spPr>
            <a:xfrm>
              <a:off x="708120" y="2666160"/>
              <a:ext cx="7791480" cy="33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9"/>
          <p:cNvGrpSpPr/>
          <p:nvPr/>
        </p:nvGrpSpPr>
        <p:grpSpPr>
          <a:xfrm>
            <a:off x="4016520" y="1523880"/>
            <a:ext cx="1161720" cy="1231920"/>
            <a:chOff x="4016520" y="1523880"/>
            <a:chExt cx="1161720" cy="1231920"/>
          </a:xfrm>
        </p:grpSpPr>
        <p:grpSp>
          <p:nvGrpSpPr>
            <p:cNvPr id="603" name="Group 40"/>
            <p:cNvGrpSpPr/>
            <p:nvPr/>
          </p:nvGrpSpPr>
          <p:grpSpPr>
            <a:xfrm>
              <a:off x="4016520" y="1523880"/>
              <a:ext cx="1161720" cy="1231920"/>
              <a:chOff x="4016520" y="1523880"/>
              <a:chExt cx="1161720" cy="1231920"/>
            </a:xfrm>
          </p:grpSpPr>
          <p:pic>
            <p:nvPicPr>
              <p:cNvPr id="604" name="Picture 42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21920" y="1529280"/>
                <a:ext cx="1156320" cy="113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5" name="Oval 43"/>
              <p:cNvGrpSpPr/>
              <p:nvPr/>
            </p:nvGrpSpPr>
            <p:grpSpPr>
              <a:xfrm>
                <a:off x="4016520" y="1523880"/>
                <a:ext cx="1158480" cy="1147320"/>
                <a:chOff x="4016520" y="1523880"/>
                <a:chExt cx="1158480" cy="1147320"/>
              </a:xfrm>
            </p:grpSpPr>
            <p:pic>
              <p:nvPicPr>
                <p:cNvPr id="606" name="Oval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016520" y="1523880"/>
                  <a:ext cx="1158480" cy="114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7" name=""/>
                <p:cNvSpPr/>
                <p:nvPr/>
              </p:nvSpPr>
              <p:spPr>
                <a:xfrm>
                  <a:off x="4189680" y="1695960"/>
                  <a:ext cx="812160" cy="80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8" name="Picture 44" descr="Picture2"/>
            <p:cNvPicPr/>
            <p:nvPr/>
          </p:nvPicPr>
          <p:blipFill>
            <a:blip r:embed="rId11"/>
            <a:stretch/>
          </p:blipFill>
          <p:spPr>
            <a:xfrm>
              <a:off x="4132080" y="15350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3467160" y="2711520"/>
            <a:ext cx="422892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3454560" y="39052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/>
          <p:cNvSpPr/>
          <p:nvPr/>
        </p:nvSpPr>
        <p:spPr>
          <a:xfrm>
            <a:off x="3432240" y="49975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4162320" y="290844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4170240" y="40640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4160880" y="5178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"/>
          <p:cNvSpPr/>
          <p:nvPr/>
        </p:nvSpPr>
        <p:spPr>
          <a:xfrm>
            <a:off x="3578400" y="30733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0"/>
          <p:cNvSpPr/>
          <p:nvPr/>
        </p:nvSpPr>
        <p:spPr>
          <a:xfrm>
            <a:off x="3586320" y="41655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1"/>
          <p:cNvSpPr/>
          <p:nvPr/>
        </p:nvSpPr>
        <p:spPr>
          <a:xfrm>
            <a:off x="3576600" y="53085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2"/>
          <p:cNvSpPr/>
          <p:nvPr/>
        </p:nvSpPr>
        <p:spPr>
          <a:xfrm>
            <a:off x="1295280" y="1447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13"/>
          <p:cNvGrpSpPr/>
          <p:nvPr/>
        </p:nvGrpSpPr>
        <p:grpSpPr>
          <a:xfrm>
            <a:off x="1295280" y="4721400"/>
            <a:ext cx="2295360" cy="1365120"/>
            <a:chOff x="1295280" y="4721400"/>
            <a:chExt cx="2295360" cy="1365120"/>
          </a:xfrm>
        </p:grpSpPr>
        <p:sp>
          <p:nvSpPr>
            <p:cNvPr id="623" name="Oval 14"/>
            <p:cNvSpPr/>
            <p:nvPr/>
          </p:nvSpPr>
          <p:spPr>
            <a:xfrm>
              <a:off x="1295280" y="57556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15"/>
            <p:cNvSpPr/>
            <p:nvPr/>
          </p:nvSpPr>
          <p:spPr>
            <a:xfrm>
              <a:off x="1299240" y="472140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6"/>
          <p:cNvGrpSpPr/>
          <p:nvPr/>
        </p:nvGrpSpPr>
        <p:grpSpPr>
          <a:xfrm>
            <a:off x="1295280" y="3629160"/>
            <a:ext cx="2295360" cy="1365120"/>
            <a:chOff x="1295280" y="3629160"/>
            <a:chExt cx="2295360" cy="1365120"/>
          </a:xfrm>
        </p:grpSpPr>
        <p:sp>
          <p:nvSpPr>
            <p:cNvPr id="626" name="Oval 17"/>
            <p:cNvSpPr/>
            <p:nvPr/>
          </p:nvSpPr>
          <p:spPr>
            <a:xfrm>
              <a:off x="1295280" y="466344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18"/>
            <p:cNvSpPr/>
            <p:nvPr/>
          </p:nvSpPr>
          <p:spPr>
            <a:xfrm>
              <a:off x="1299240" y="362916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9"/>
          <p:cNvGrpSpPr/>
          <p:nvPr/>
        </p:nvGrpSpPr>
        <p:grpSpPr>
          <a:xfrm>
            <a:off x="1295280" y="2533680"/>
            <a:ext cx="2295360" cy="1365120"/>
            <a:chOff x="1295280" y="2533680"/>
            <a:chExt cx="2295360" cy="1365120"/>
          </a:xfrm>
        </p:grpSpPr>
        <p:sp>
          <p:nvSpPr>
            <p:cNvPr id="629" name="Oval 20"/>
            <p:cNvSpPr/>
            <p:nvPr/>
          </p:nvSpPr>
          <p:spPr>
            <a:xfrm>
              <a:off x="1295280" y="35679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21"/>
            <p:cNvSpPr/>
            <p:nvPr/>
          </p:nvSpPr>
          <p:spPr>
            <a:xfrm>
              <a:off x="1299240" y="25336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1378080" y="29113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3"/>
          <p:cNvSpPr/>
          <p:nvPr/>
        </p:nvSpPr>
        <p:spPr>
          <a:xfrm>
            <a:off x="1378080" y="4083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4"/>
          <p:cNvSpPr/>
          <p:nvPr/>
        </p:nvSpPr>
        <p:spPr>
          <a:xfrm>
            <a:off x="1378080" y="51814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639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640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prstGeom prst="pie">
                <a:avLst/>
              </a:pr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644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prstGeom prst="pie">
                <a:avLst/>
              </a:pr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648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652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prstGeom prst="pie">
                <a:avLst/>
              </a:pr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667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670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673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676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Freeform 3"/>
          <p:cNvSpPr/>
          <p:nvPr/>
        </p:nvSpPr>
        <p:spPr>
          <a:xfrm>
            <a:off x="604800" y="2727360"/>
            <a:ext cx="7999560" cy="24764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4"/>
          <p:cNvGrpSpPr/>
          <p:nvPr/>
        </p:nvGrpSpPr>
        <p:grpSpPr>
          <a:xfrm>
            <a:off x="1170000" y="3930480"/>
            <a:ext cx="1133640" cy="1044360"/>
            <a:chOff x="1170000" y="3930480"/>
            <a:chExt cx="1133640" cy="1044360"/>
          </a:xfrm>
        </p:grpSpPr>
        <p:sp>
          <p:nvSpPr>
            <p:cNvPr id="691" name="Freeform 5"/>
            <p:cNvSpPr/>
            <p:nvPr/>
          </p:nvSpPr>
          <p:spPr>
            <a:xfrm>
              <a:off x="1281960" y="4735080"/>
              <a:ext cx="441720" cy="2264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>
              <a:off x="1585440" y="465228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7"/>
            <p:cNvSpPr/>
            <p:nvPr/>
          </p:nvSpPr>
          <p:spPr>
            <a:xfrm>
              <a:off x="1899000" y="4787280"/>
              <a:ext cx="404640" cy="187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"/>
            <p:cNvSpPr/>
            <p:nvPr/>
          </p:nvSpPr>
          <p:spPr>
            <a:xfrm>
              <a:off x="1170000" y="4212360"/>
              <a:ext cx="29520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9"/>
            <p:cNvSpPr/>
            <p:nvPr/>
          </p:nvSpPr>
          <p:spPr>
            <a:xfrm>
              <a:off x="1454760" y="3930480"/>
              <a:ext cx="371520" cy="93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"/>
            <p:cNvSpPr/>
            <p:nvPr/>
          </p:nvSpPr>
          <p:spPr>
            <a:xfrm>
              <a:off x="1794960" y="4228200"/>
              <a:ext cx="294840" cy="74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7" name="Picture 11" descr="161"/>
          <p:cNvPicPr/>
          <p:nvPr/>
        </p:nvPicPr>
        <p:blipFill>
          <a:blip r:embed="rId2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2" descr="232"/>
          <p:cNvPicPr/>
          <p:nvPr/>
        </p:nvPicPr>
        <p:blipFill>
          <a:blip r:embed="rId3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3" descr="133"/>
          <p:cNvPicPr/>
          <p:nvPr/>
        </p:nvPicPr>
        <p:blipFill>
          <a:blip r:embed="rId4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700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701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AutoShape 16"/>
            <p:cNvGrpSpPr/>
            <p:nvPr/>
          </p:nvGrpSpPr>
          <p:grpSpPr>
            <a:xfrm>
              <a:off x="2242800" y="5315760"/>
              <a:ext cx="97560" cy="275040"/>
              <a:chOff x="2242800" y="5315760"/>
              <a:chExt cx="97560" cy="275040"/>
            </a:xfrm>
          </p:grpSpPr>
          <p:pic>
            <p:nvPicPr>
              <p:cNvPr id="703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2314080" y="54079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AutoShape 17"/>
            <p:cNvGrpSpPr/>
            <p:nvPr/>
          </p:nvGrpSpPr>
          <p:grpSpPr>
            <a:xfrm>
              <a:off x="536400" y="5315760"/>
              <a:ext cx="97560" cy="275040"/>
              <a:chOff x="536400" y="5315760"/>
              <a:chExt cx="97560" cy="275040"/>
            </a:xfrm>
          </p:grpSpPr>
          <p:pic>
            <p:nvPicPr>
              <p:cNvPr id="706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3157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549360" y="54075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74640" y="15238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0"/>
          <p:cNvSpPr/>
          <p:nvPr/>
        </p:nvSpPr>
        <p:spPr>
          <a:xfrm>
            <a:off x="604800" y="56498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2725560" y="49482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2"/>
          <p:cNvSpPr/>
          <p:nvPr/>
        </p:nvSpPr>
        <p:spPr>
          <a:xfrm>
            <a:off x="4729320" y="412128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3"/>
          <p:cNvSpPr/>
          <p:nvPr/>
        </p:nvSpPr>
        <p:spPr>
          <a:xfrm>
            <a:off x="6834240" y="32940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715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AutoShape 26"/>
            <p:cNvGrpSpPr/>
            <p:nvPr/>
          </p:nvGrpSpPr>
          <p:grpSpPr>
            <a:xfrm>
              <a:off x="4377240" y="4517280"/>
              <a:ext cx="91440" cy="274320"/>
              <a:chOff x="4377240" y="4517280"/>
              <a:chExt cx="91440" cy="274320"/>
            </a:xfrm>
          </p:grpSpPr>
          <p:pic>
            <p:nvPicPr>
              <p:cNvPr id="717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8" name=""/>
              <p:cNvSpPr/>
              <p:nvPr/>
            </p:nvSpPr>
            <p:spPr>
              <a:xfrm>
                <a:off x="4445280" y="460872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AutoShape 27"/>
            <p:cNvGrpSpPr/>
            <p:nvPr/>
          </p:nvGrpSpPr>
          <p:grpSpPr>
            <a:xfrm>
              <a:off x="2670120" y="4517280"/>
              <a:ext cx="91440" cy="274320"/>
              <a:chOff x="2670120" y="4517280"/>
              <a:chExt cx="91440" cy="274320"/>
            </a:xfrm>
          </p:grpSpPr>
          <p:pic>
            <p:nvPicPr>
              <p:cNvPr id="720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517280"/>
                <a:ext cx="9144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>
                <a:off x="2679840" y="460836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724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AutoShape 31"/>
            <p:cNvGrpSpPr/>
            <p:nvPr/>
          </p:nvGrpSpPr>
          <p:grpSpPr>
            <a:xfrm>
              <a:off x="6406920" y="3705840"/>
              <a:ext cx="91440" cy="274680"/>
              <a:chOff x="6406920" y="3705840"/>
              <a:chExt cx="91440" cy="274680"/>
            </a:xfrm>
          </p:grpSpPr>
          <p:pic>
            <p:nvPicPr>
              <p:cNvPr id="726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7058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7" name=""/>
              <p:cNvSpPr/>
              <p:nvPr/>
            </p:nvSpPr>
            <p:spPr>
              <a:xfrm>
                <a:off x="6475320" y="3795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AutoShape 32"/>
            <p:cNvGrpSpPr/>
            <p:nvPr/>
          </p:nvGrpSpPr>
          <p:grpSpPr>
            <a:xfrm>
              <a:off x="4699800" y="3705840"/>
              <a:ext cx="91440" cy="268200"/>
              <a:chOff x="4699800" y="3705840"/>
              <a:chExt cx="91440" cy="268200"/>
            </a:xfrm>
          </p:grpSpPr>
          <p:pic>
            <p:nvPicPr>
              <p:cNvPr id="729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70584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"/>
              <p:cNvSpPr/>
              <p:nvPr/>
            </p:nvSpPr>
            <p:spPr>
              <a:xfrm>
                <a:off x="4709880" y="3795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733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AutoShape 36"/>
            <p:cNvGrpSpPr/>
            <p:nvPr/>
          </p:nvGrpSpPr>
          <p:grpSpPr>
            <a:xfrm>
              <a:off x="8522280" y="2913840"/>
              <a:ext cx="97560" cy="275040"/>
              <a:chOff x="8522280" y="2913840"/>
              <a:chExt cx="97560" cy="275040"/>
            </a:xfrm>
          </p:grpSpPr>
          <p:pic>
            <p:nvPicPr>
              <p:cNvPr id="735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91384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>
                <a:off x="8593200" y="300600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AutoShape 37"/>
            <p:cNvGrpSpPr/>
            <p:nvPr/>
          </p:nvGrpSpPr>
          <p:grpSpPr>
            <a:xfrm>
              <a:off x="6814800" y="2913840"/>
              <a:ext cx="91440" cy="275040"/>
              <a:chOff x="6814800" y="2913840"/>
              <a:chExt cx="91440" cy="275040"/>
            </a:xfrm>
          </p:grpSpPr>
          <p:pic>
            <p:nvPicPr>
              <p:cNvPr id="738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91384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>
                <a:off x="6827400" y="30056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Text Box 18"/>
          <p:cNvSpPr/>
          <p:nvPr/>
        </p:nvSpPr>
        <p:spPr>
          <a:xfrm>
            <a:off x="6835680" y="287172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43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765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766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3c4086"/>
                  </a:gs>
                  <a:gs pos="50000">
                    <a:srgbClr val="646ade"/>
                  </a:gs>
                  <a:gs pos="100000">
                    <a:srgbClr val="3c4086"/>
                  </a:gs>
                </a:gsLst>
                <a:lin ang="824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5c7312"/>
                  </a:gs>
                  <a:gs pos="50000">
                    <a:srgbClr val="98bf1d"/>
                  </a:gs>
                  <a:gs pos="100000">
                    <a:srgbClr val="5c731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106a76"/>
                  </a:gs>
                  <a:gs pos="50000">
                    <a:srgbClr val="1bafc3"/>
                  </a:gs>
                  <a:gs pos="100000">
                    <a:srgbClr val="106a76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46ad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646ade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1bafc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1bafc3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8bf1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8bf1d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2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783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"/>
            <p:cNvSpPr/>
            <p:nvPr/>
          </p:nvSpPr>
          <p:spPr>
            <a:xfrm>
              <a:off x="6720120" y="5101200"/>
              <a:ext cx="1833840" cy="9900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787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791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4"/>
            <p:cNvSpPr/>
            <p:nvPr/>
          </p:nvSpPr>
          <p:spPr>
            <a:xfrm flipV="1">
              <a:off x="2655360" y="5382000"/>
              <a:ext cx="1865160" cy="4104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"/>
            <p:cNvSpPr/>
            <p:nvPr/>
          </p:nvSpPr>
          <p:spPr>
            <a:xfrm>
              <a:off x="2665080" y="2183760"/>
              <a:ext cx="1841760" cy="31320"/>
            </a:xfrm>
            <a:prstGeom prst="pie">
              <a:avLst/>
            </a:pr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16"/>
          <p:cNvGrpSpPr/>
          <p:nvPr/>
        </p:nvGrpSpPr>
        <p:grpSpPr>
          <a:xfrm>
            <a:off x="3063960" y="1676520"/>
            <a:ext cx="1064880" cy="1065240"/>
            <a:chOff x="3063960" y="1676520"/>
            <a:chExt cx="1064880" cy="1065240"/>
          </a:xfrm>
        </p:grpSpPr>
        <p:pic>
          <p:nvPicPr>
            <p:cNvPr id="796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6840" y="1681920"/>
              <a:ext cx="1062000" cy="104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7" name="Oval 18"/>
            <p:cNvGrpSpPr/>
            <p:nvPr/>
          </p:nvGrpSpPr>
          <p:grpSpPr>
            <a:xfrm>
              <a:off x="3063960" y="1676520"/>
              <a:ext cx="1063440" cy="1065240"/>
              <a:chOff x="3063960" y="1676520"/>
              <a:chExt cx="1063440" cy="1065240"/>
            </a:xfrm>
          </p:grpSpPr>
          <p:pic>
            <p:nvPicPr>
              <p:cNvPr id="798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3960" y="16765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>
                <a:off x="3222000" y="1836360"/>
                <a:ext cx="7455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0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72680" y="1692000"/>
              <a:ext cx="8391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1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802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3"/>
            <p:cNvSpPr/>
            <p:nvPr/>
          </p:nvSpPr>
          <p:spPr>
            <a:xfrm flipV="1">
              <a:off x="4761720" y="5382000"/>
              <a:ext cx="1865520" cy="41040"/>
            </a:xfrm>
            <a:prstGeom prst="pie">
              <a:avLst/>
            </a:pr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4"/>
            <p:cNvSpPr/>
            <p:nvPr/>
          </p:nvSpPr>
          <p:spPr>
            <a:xfrm>
              <a:off x="4771440" y="2183760"/>
              <a:ext cx="1842120" cy="31320"/>
            </a:xfrm>
            <a:prstGeom prst="pie">
              <a:avLst/>
            </a:pr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25"/>
          <p:cNvGrpSpPr/>
          <p:nvPr/>
        </p:nvGrpSpPr>
        <p:grpSpPr>
          <a:xfrm>
            <a:off x="5159520" y="1676520"/>
            <a:ext cx="1063440" cy="1065240"/>
            <a:chOff x="5159520" y="1676520"/>
            <a:chExt cx="1063440" cy="1065240"/>
          </a:xfrm>
        </p:grpSpPr>
        <p:pic>
          <p:nvPicPr>
            <p:cNvPr id="807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7080" y="1681920"/>
              <a:ext cx="1054440" cy="104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8" name="Oval 27"/>
            <p:cNvGrpSpPr/>
            <p:nvPr/>
          </p:nvGrpSpPr>
          <p:grpSpPr>
            <a:xfrm>
              <a:off x="5159520" y="1676520"/>
              <a:ext cx="1063440" cy="1065240"/>
              <a:chOff x="5159520" y="1676520"/>
              <a:chExt cx="1063440" cy="1065240"/>
            </a:xfrm>
          </p:grpSpPr>
          <p:pic>
            <p:nvPicPr>
              <p:cNvPr id="809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"/>
              <p:cNvSpPr/>
              <p:nvPr/>
            </p:nvSpPr>
            <p:spPr>
              <a:xfrm>
                <a:off x="5320800" y="1836360"/>
                <a:ext cx="7401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1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71840" y="1692000"/>
              <a:ext cx="83304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2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813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102080" y="2291040"/>
              <a:ext cx="10573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4" name="Oval 31"/>
            <p:cNvGrpSpPr/>
            <p:nvPr/>
          </p:nvGrpSpPr>
          <p:grpSpPr>
            <a:xfrm>
              <a:off x="7095960" y="2282760"/>
              <a:ext cx="1065240" cy="1065240"/>
              <a:chOff x="7095960" y="2282760"/>
              <a:chExt cx="1065240" cy="1065240"/>
            </a:xfrm>
          </p:grpSpPr>
          <p:pic>
            <p:nvPicPr>
              <p:cNvPr id="815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7256160" y="244548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7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7200" y="230112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8" name="Group 33"/>
          <p:cNvGrpSpPr/>
          <p:nvPr/>
        </p:nvGrpSpPr>
        <p:grpSpPr>
          <a:xfrm>
            <a:off x="1074600" y="2282760"/>
            <a:ext cx="1065240" cy="1065240"/>
            <a:chOff x="1074600" y="2282760"/>
            <a:chExt cx="1065240" cy="1065240"/>
          </a:xfrm>
        </p:grpSpPr>
        <p:pic>
          <p:nvPicPr>
            <p:cNvPr id="819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82160" y="2291040"/>
              <a:ext cx="105732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0" name="Oval 35"/>
            <p:cNvGrpSpPr/>
            <p:nvPr/>
          </p:nvGrpSpPr>
          <p:grpSpPr>
            <a:xfrm>
              <a:off x="1074600" y="2282760"/>
              <a:ext cx="1065240" cy="1065240"/>
              <a:chOff x="1074600" y="2282760"/>
              <a:chExt cx="1065240" cy="1065240"/>
            </a:xfrm>
          </p:grpSpPr>
          <p:pic>
            <p:nvPicPr>
              <p:cNvPr id="821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1236240" y="244548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3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7280" y="230112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835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836" name="AutoShape 3"/>
            <p:cNvSpPr/>
            <p:nvPr/>
          </p:nvSpPr>
          <p:spPr>
            <a:xfrm flipV="1">
              <a:off x="1181160" y="920520"/>
              <a:ext cx="6819840" cy="497520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"/>
            <p:cNvSpPr/>
            <p:nvPr/>
          </p:nvSpPr>
          <p:spPr>
            <a:xfrm flipV="1">
              <a:off x="1666440" y="1304640"/>
              <a:ext cx="5792400" cy="422568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5"/>
            <p:cNvSpPr/>
            <p:nvPr/>
          </p:nvSpPr>
          <p:spPr>
            <a:xfrm flipV="1">
              <a:off x="2097720" y="1547280"/>
              <a:ext cx="4975200" cy="362916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6"/>
            <p:cNvSpPr/>
            <p:nvPr/>
          </p:nvSpPr>
          <p:spPr>
            <a:xfrm flipV="1">
              <a:off x="2642760" y="2066040"/>
              <a:ext cx="3807360" cy="2777040"/>
            </a:xfrm>
            <a:prstGeom prst="pie">
              <a:avLst/>
            </a:pr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2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843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5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846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7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849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0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1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855" name="Freeform 41"/>
            <p:cNvSpPr/>
            <p:nvPr/>
          </p:nvSpPr>
          <p:spPr>
            <a:xfrm>
              <a:off x="4859640" y="3629520"/>
              <a:ext cx="534240" cy="3139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2"/>
            <p:cNvSpPr/>
            <p:nvPr/>
          </p:nvSpPr>
          <p:spPr>
            <a:xfrm>
              <a:off x="5226840" y="3514680"/>
              <a:ext cx="585000" cy="3085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3"/>
            <p:cNvSpPr/>
            <p:nvPr/>
          </p:nvSpPr>
          <p:spPr>
            <a:xfrm>
              <a:off x="5605920" y="3702240"/>
              <a:ext cx="489600" cy="2599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4"/>
            <p:cNvSpPr/>
            <p:nvPr/>
          </p:nvSpPr>
          <p:spPr>
            <a:xfrm>
              <a:off x="4724280" y="2905200"/>
              <a:ext cx="357120" cy="10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5"/>
            <p:cNvSpPr/>
            <p:nvPr/>
          </p:nvSpPr>
          <p:spPr>
            <a:xfrm>
              <a:off x="5068800" y="2514600"/>
              <a:ext cx="449640" cy="130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6"/>
            <p:cNvSpPr/>
            <p:nvPr/>
          </p:nvSpPr>
          <p:spPr>
            <a:xfrm>
              <a:off x="5480280" y="2927160"/>
              <a:ext cx="356760" cy="10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1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楷体_GB2312"/>
              </a:rPr>
              <a:t>明确：这是环境描写，意在从侧面烘托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楷体_GB2312"/>
              </a:rPr>
              <a:t>人公形象的雅洁和所表达感情的纯洁和美好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389040" y="2924280"/>
            <a:ext cx="1340280" cy="10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  <a:ea typeface="宋体"/>
              </a:rPr>
              <a:t>３、三、四句一问一答，在诗歌中具有怎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  <a:ea typeface="宋体"/>
              </a:rPr>
              <a:t>表达作用？</a:t>
            </a:r>
            <a:r>
              <a:rPr b="0" lang="zh-CN" sz="2800" spc="-1" strike="noStrike">
                <a:solidFill>
                  <a:srgbClr val="3366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6760" y="333360"/>
            <a:ext cx="3844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b3f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  <a:ea typeface="宋体"/>
              </a:rPr>
              <a:t>２、 诗歌描写“多芳草”的“兰泽”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  <a:ea typeface="宋体"/>
              </a:rPr>
              <a:t>艺术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0766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明确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诗歌讲究“起、承、转、合”，这两句在结构上是暗转过渡，为表现主人公的情绪由欢欣洋溢转变为下面的黯然销魂作铺垫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868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874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879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885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9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890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5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896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0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901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6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7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3"/>
          <p:cNvCxnSpPr>
            <a:endCxn id="934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936" name="AutoShape 4"/>
          <p:cNvCxnSpPr>
            <a:endCxn id="934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937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945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952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957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 flipH="1">
            <a:off x="5361840" y="551808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"/>
          <p:cNvSpPr/>
          <p:nvPr/>
        </p:nvSpPr>
        <p:spPr>
          <a:xfrm flipH="1" flipV="1">
            <a:off x="4829040" y="5486400"/>
            <a:ext cx="5335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114300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"/>
          <p:cNvSpPr/>
          <p:nvPr/>
        </p:nvSpPr>
        <p:spPr>
          <a:xfrm>
            <a:off x="114300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6"/>
          <p:cNvSpPr/>
          <p:nvPr/>
        </p:nvSpPr>
        <p:spPr>
          <a:xfrm>
            <a:off x="114300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7"/>
          <p:cNvSpPr/>
          <p:nvPr/>
        </p:nvSpPr>
        <p:spPr>
          <a:xfrm>
            <a:off x="114300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8"/>
          <p:cNvSpPr/>
          <p:nvPr/>
        </p:nvSpPr>
        <p:spPr>
          <a:xfrm>
            <a:off x="114300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Line 10"/>
          <p:cNvSpPr/>
          <p:nvPr/>
        </p:nvSpPr>
        <p:spPr>
          <a:xfrm flipH="1">
            <a:off x="1231560" y="6291360"/>
            <a:ext cx="18543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1"/>
          <p:cNvSpPr/>
          <p:nvPr/>
        </p:nvSpPr>
        <p:spPr>
          <a:xfrm flipH="1">
            <a:off x="1142640" y="55087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2"/>
          <p:cNvSpPr/>
          <p:nvPr/>
        </p:nvSpPr>
        <p:spPr>
          <a:xfrm flipH="1">
            <a:off x="1142640" y="46674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3"/>
          <p:cNvSpPr/>
          <p:nvPr/>
        </p:nvSpPr>
        <p:spPr>
          <a:xfrm flipH="1">
            <a:off x="1142640" y="383868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14"/>
          <p:cNvSpPr/>
          <p:nvPr/>
        </p:nvSpPr>
        <p:spPr>
          <a:xfrm flipH="1">
            <a:off x="1143000" y="30052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15"/>
          <p:cNvSpPr/>
          <p:nvPr/>
        </p:nvSpPr>
        <p:spPr>
          <a:xfrm flipH="1">
            <a:off x="1143000" y="228600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6"/>
          <p:cNvSpPr/>
          <p:nvPr/>
        </p:nvSpPr>
        <p:spPr>
          <a:xfrm>
            <a:off x="1392120" y="22939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7"/>
          <p:cNvSpPr/>
          <p:nvPr/>
        </p:nvSpPr>
        <p:spPr>
          <a:xfrm>
            <a:off x="1398600" y="29718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8"/>
          <p:cNvSpPr/>
          <p:nvPr/>
        </p:nvSpPr>
        <p:spPr>
          <a:xfrm>
            <a:off x="1398600" y="38131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9"/>
          <p:cNvSpPr/>
          <p:nvPr/>
        </p:nvSpPr>
        <p:spPr>
          <a:xfrm>
            <a:off x="1398600" y="46544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20"/>
          <p:cNvSpPr/>
          <p:nvPr/>
        </p:nvSpPr>
        <p:spPr>
          <a:xfrm>
            <a:off x="1398600" y="549576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21"/>
          <p:cNvSpPr/>
          <p:nvPr/>
        </p:nvSpPr>
        <p:spPr>
          <a:xfrm>
            <a:off x="1532880" y="2438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22"/>
          <p:cNvSpPr/>
          <p:nvPr/>
        </p:nvSpPr>
        <p:spPr>
          <a:xfrm>
            <a:off x="1532880" y="3260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3"/>
          <p:cNvSpPr/>
          <p:nvPr/>
        </p:nvSpPr>
        <p:spPr>
          <a:xfrm>
            <a:off x="1532880" y="4081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4"/>
          <p:cNvSpPr/>
          <p:nvPr/>
        </p:nvSpPr>
        <p:spPr>
          <a:xfrm>
            <a:off x="1532880" y="49039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5"/>
          <p:cNvSpPr/>
          <p:nvPr/>
        </p:nvSpPr>
        <p:spPr>
          <a:xfrm>
            <a:off x="1532880" y="57261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26"/>
          <p:cNvGrpSpPr/>
          <p:nvPr/>
        </p:nvGrpSpPr>
        <p:grpSpPr>
          <a:xfrm>
            <a:off x="3102120" y="2286000"/>
            <a:ext cx="4622400" cy="4030200"/>
            <a:chOff x="3102120" y="2286000"/>
            <a:chExt cx="4622400" cy="4030200"/>
          </a:xfrm>
        </p:grpSpPr>
        <p:sp>
          <p:nvSpPr>
            <p:cNvPr id="991" name="Freeform 27"/>
            <p:cNvSpPr/>
            <p:nvPr/>
          </p:nvSpPr>
          <p:spPr>
            <a:xfrm>
              <a:off x="6909120" y="5079600"/>
              <a:ext cx="815400" cy="1235160"/>
            </a:xfrm>
            <a:prstGeom prst="pie">
              <a:avLst/>
            </a:pr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8"/>
            <p:cNvSpPr/>
            <p:nvPr/>
          </p:nvSpPr>
          <p:spPr>
            <a:xfrm>
              <a:off x="3471480" y="5079600"/>
              <a:ext cx="3798720" cy="52632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9"/>
            <p:cNvSpPr/>
            <p:nvPr/>
          </p:nvSpPr>
          <p:spPr>
            <a:xfrm>
              <a:off x="3102120" y="5603040"/>
              <a:ext cx="4193280" cy="71316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0"/>
            <p:cNvSpPr/>
            <p:nvPr/>
          </p:nvSpPr>
          <p:spPr>
            <a:xfrm>
              <a:off x="6483600" y="4380480"/>
              <a:ext cx="720360" cy="1118160"/>
            </a:xfrm>
            <a:prstGeom prst="pie">
              <a:avLst/>
            </a:pr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1"/>
            <p:cNvSpPr/>
            <p:nvPr/>
          </p:nvSpPr>
          <p:spPr>
            <a:xfrm>
              <a:off x="3903120" y="4380480"/>
              <a:ext cx="2853720" cy="39348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2"/>
            <p:cNvSpPr/>
            <p:nvPr/>
          </p:nvSpPr>
          <p:spPr>
            <a:xfrm>
              <a:off x="3542040" y="4772880"/>
              <a:ext cx="3313080" cy="7257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3"/>
            <p:cNvSpPr/>
            <p:nvPr/>
          </p:nvSpPr>
          <p:spPr>
            <a:xfrm>
              <a:off x="6057720" y="3688200"/>
              <a:ext cx="630720" cy="971280"/>
            </a:xfrm>
            <a:prstGeom prst="pie">
              <a:avLst/>
            </a:pr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4"/>
            <p:cNvSpPr/>
            <p:nvPr/>
          </p:nvSpPr>
          <p:spPr>
            <a:xfrm>
              <a:off x="4332600" y="3688200"/>
              <a:ext cx="1905120" cy="262440"/>
            </a:xfrm>
            <a:prstGeom prst="pi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5"/>
            <p:cNvSpPr/>
            <p:nvPr/>
          </p:nvSpPr>
          <p:spPr>
            <a:xfrm>
              <a:off x="3965400" y="3949560"/>
              <a:ext cx="2465280" cy="71028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6"/>
            <p:cNvSpPr/>
            <p:nvPr/>
          </p:nvSpPr>
          <p:spPr>
            <a:xfrm>
              <a:off x="5627520" y="2986560"/>
              <a:ext cx="543240" cy="846000"/>
            </a:xfrm>
            <a:prstGeom prst="pie">
              <a:avLst/>
            </a:pr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7"/>
            <p:cNvSpPr/>
            <p:nvPr/>
          </p:nvSpPr>
          <p:spPr>
            <a:xfrm>
              <a:off x="4768920" y="2986560"/>
              <a:ext cx="950760" cy="126720"/>
            </a:xfrm>
            <a:prstGeom prst="pi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8"/>
            <p:cNvSpPr/>
            <p:nvPr/>
          </p:nvSpPr>
          <p:spPr>
            <a:xfrm>
              <a:off x="4394880" y="3112200"/>
              <a:ext cx="1605600" cy="7203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9"/>
            <p:cNvSpPr/>
            <p:nvPr/>
          </p:nvSpPr>
          <p:spPr>
            <a:xfrm>
              <a:off x="5193360" y="2286000"/>
              <a:ext cx="459000" cy="716040"/>
            </a:xfrm>
            <a:prstGeom prst="pie">
              <a:avLst/>
            </a:pr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0"/>
            <p:cNvSpPr/>
            <p:nvPr/>
          </p:nvSpPr>
          <p:spPr>
            <a:xfrm>
              <a:off x="4821480" y="2286000"/>
              <a:ext cx="744480" cy="716040"/>
            </a:xfrm>
            <a:prstGeom prst="pie">
              <a:avLst/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41"/>
            <p:cNvSpPr/>
            <p:nvPr/>
          </p:nvSpPr>
          <p:spPr>
            <a:xfrm>
              <a:off x="4899240" y="2639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42"/>
            <p:cNvSpPr/>
            <p:nvPr/>
          </p:nvSpPr>
          <p:spPr>
            <a:xfrm>
              <a:off x="4899240" y="3394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43"/>
            <p:cNvSpPr/>
            <p:nvPr/>
          </p:nvSpPr>
          <p:spPr>
            <a:xfrm>
              <a:off x="4873320" y="4190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44"/>
            <p:cNvSpPr/>
            <p:nvPr/>
          </p:nvSpPr>
          <p:spPr>
            <a:xfrm>
              <a:off x="4847400" y="49881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45"/>
            <p:cNvSpPr/>
            <p:nvPr/>
          </p:nvSpPr>
          <p:spPr>
            <a:xfrm>
              <a:off x="4795920" y="5762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Rectangle 46"/>
          <p:cNvSpPr/>
          <p:nvPr/>
        </p:nvSpPr>
        <p:spPr>
          <a:xfrm>
            <a:off x="1247760" y="137160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1014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6"/>
            <p:cNvSpPr/>
            <p:nvPr/>
          </p:nvSpPr>
          <p:spPr>
            <a:xfrm rot="5400000">
              <a:off x="2423520" y="26449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AutoShape 17"/>
          <p:cNvCxnSpPr>
            <a:stCxn id="1022" idx="3"/>
            <a:endCxn id="1023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027" name="AutoShape 18"/>
          <p:cNvCxnSpPr>
            <a:stCxn id="1023" idx="3"/>
            <a:endCxn id="1024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028" name="AutoShape 19"/>
          <p:cNvCxnSpPr>
            <a:stCxn id="1024" idx="3"/>
            <a:endCxn id="1025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029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1042" name="Freeform 6"/>
            <p:cNvSpPr/>
            <p:nvPr/>
          </p:nvSpPr>
          <p:spPr>
            <a:xfrm>
              <a:off x="2349360" y="3910320"/>
              <a:ext cx="660600" cy="93132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7"/>
            <p:cNvSpPr/>
            <p:nvPr/>
          </p:nvSpPr>
          <p:spPr>
            <a:xfrm flipH="1">
              <a:off x="2544480" y="3684600"/>
              <a:ext cx="22176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1058" name="Freeform 22"/>
            <p:cNvSpPr/>
            <p:nvPr/>
          </p:nvSpPr>
          <p:spPr>
            <a:xfrm>
              <a:off x="3201840" y="3486960"/>
              <a:ext cx="969840" cy="136404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1062" name="Freeform 26"/>
            <p:cNvSpPr/>
            <p:nvPr/>
          </p:nvSpPr>
          <p:spPr>
            <a:xfrm>
              <a:off x="1511280" y="4103640"/>
              <a:ext cx="519120" cy="733320"/>
            </a:xfrm>
            <a:prstGeom prst="pi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27"/>
            <p:cNvSpPr/>
            <p:nvPr/>
          </p:nvSpPr>
          <p:spPr>
            <a:xfrm flipH="1">
              <a:off x="1664640" y="3925800"/>
              <a:ext cx="17424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1066" name="Freeform 30"/>
            <p:cNvSpPr/>
            <p:nvPr/>
          </p:nvSpPr>
          <p:spPr>
            <a:xfrm>
              <a:off x="6902280" y="3426480"/>
              <a:ext cx="851040" cy="140076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1"/>
            <p:cNvSpPr/>
            <p:nvPr/>
          </p:nvSpPr>
          <p:spPr>
            <a:xfrm>
              <a:off x="7154640" y="3129120"/>
              <a:ext cx="30708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1070" name="Freeform 34"/>
            <p:cNvSpPr/>
            <p:nvPr/>
          </p:nvSpPr>
          <p:spPr>
            <a:xfrm>
              <a:off x="5962680" y="3649680"/>
              <a:ext cx="717480" cy="118224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1073" name="Freeform 37"/>
            <p:cNvSpPr/>
            <p:nvPr/>
          </p:nvSpPr>
          <p:spPr>
            <a:xfrm>
              <a:off x="5126040" y="3958560"/>
              <a:ext cx="533520" cy="878400"/>
            </a:xfrm>
            <a:prstGeom prst="pi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38"/>
            <p:cNvSpPr/>
            <p:nvPr/>
          </p:nvSpPr>
          <p:spPr>
            <a:xfrm>
              <a:off x="5284080" y="3772080"/>
              <a:ext cx="19224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1096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20"/>
            <p:cNvSpPr/>
            <p:nvPr/>
          </p:nvSpPr>
          <p:spPr>
            <a:xfrm>
              <a:off x="132552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1099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AutoShape 23"/>
            <p:cNvSpPr/>
            <p:nvPr/>
          </p:nvSpPr>
          <p:spPr>
            <a:xfrm>
              <a:off x="294480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1102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AutoShape 26"/>
            <p:cNvSpPr/>
            <p:nvPr/>
          </p:nvSpPr>
          <p:spPr>
            <a:xfrm>
              <a:off x="456228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1105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29"/>
            <p:cNvSpPr/>
            <p:nvPr/>
          </p:nvSpPr>
          <p:spPr>
            <a:xfrm>
              <a:off x="6178320" y="42652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1116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1119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1122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1125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1128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1131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1134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1137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1140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1143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1146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1149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1152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1155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1158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1161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1164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1167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Freeform 2"/>
          <p:cNvSpPr/>
          <p:nvPr/>
        </p:nvSpPr>
        <p:spPr>
          <a:xfrm flipH="1">
            <a:off x="2103480" y="1371600"/>
            <a:ext cx="2341440" cy="1962000"/>
          </a:xfrm>
          <a:prstGeom prst="pie">
            <a:avLst/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3"/>
          <p:cNvSpPr/>
          <p:nvPr/>
        </p:nvSpPr>
        <p:spPr>
          <a:xfrm>
            <a:off x="4564080" y="1371600"/>
            <a:ext cx="2341440" cy="1962000"/>
          </a:xfrm>
          <a:prstGeom prst="pie">
            <a:avLst/>
          </a:pr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4"/>
          <p:cNvSpPr/>
          <p:nvPr/>
        </p:nvSpPr>
        <p:spPr>
          <a:xfrm>
            <a:off x="2103480" y="3462480"/>
            <a:ext cx="2341440" cy="1962000"/>
          </a:xfrm>
          <a:prstGeom prst="pie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5"/>
          <p:cNvSpPr/>
          <p:nvPr/>
        </p:nvSpPr>
        <p:spPr>
          <a:xfrm flipH="1">
            <a:off x="4564080" y="3462480"/>
            <a:ext cx="2341440" cy="1962000"/>
          </a:xfrm>
          <a:prstGeom prst="pie">
            <a:avLst/>
          </a:pr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5" name="Group 3"/>
          <p:cNvGrpSpPr/>
          <p:nvPr/>
        </p:nvGrpSpPr>
        <p:grpSpPr>
          <a:xfrm>
            <a:off x="1447920" y="1828800"/>
            <a:ext cx="6400080" cy="3361680"/>
            <a:chOff x="1447920" y="1828800"/>
            <a:chExt cx="6400080" cy="3361680"/>
          </a:xfrm>
        </p:grpSpPr>
        <p:grpSp>
          <p:nvGrpSpPr>
            <p:cNvPr id="1186" name="Group 4"/>
            <p:cNvGrpSpPr/>
            <p:nvPr/>
          </p:nvGrpSpPr>
          <p:grpSpPr>
            <a:xfrm>
              <a:off x="1447920" y="1887480"/>
              <a:ext cx="4260600" cy="3303000"/>
              <a:chOff x="1447920" y="1887480"/>
              <a:chExt cx="4260600" cy="3303000"/>
            </a:xfrm>
          </p:grpSpPr>
          <p:sp>
            <p:nvSpPr>
              <p:cNvPr id="1187" name="Freeform 5"/>
              <p:cNvSpPr/>
              <p:nvPr/>
            </p:nvSpPr>
            <p:spPr>
              <a:xfrm>
                <a:off x="2116800" y="1917720"/>
                <a:ext cx="244440" cy="100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"/>
              <p:cNvSpPr/>
              <p:nvPr/>
            </p:nvSpPr>
            <p:spPr>
              <a:xfrm>
                <a:off x="2270520" y="1970280"/>
                <a:ext cx="75240" cy="33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"/>
              <p:cNvSpPr/>
              <p:nvPr/>
            </p:nvSpPr>
            <p:spPr>
              <a:xfrm>
                <a:off x="1809000" y="2403000"/>
                <a:ext cx="172080" cy="209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8"/>
              <p:cNvSpPr/>
              <p:nvPr/>
            </p:nvSpPr>
            <p:spPr>
              <a:xfrm>
                <a:off x="1724760" y="2477880"/>
                <a:ext cx="109080" cy="108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9"/>
              <p:cNvSpPr/>
              <p:nvPr/>
            </p:nvSpPr>
            <p:spPr>
              <a:xfrm>
                <a:off x="4331880" y="4285440"/>
                <a:ext cx="747360" cy="786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0"/>
              <p:cNvSpPr/>
              <p:nvPr/>
            </p:nvSpPr>
            <p:spPr>
              <a:xfrm>
                <a:off x="4564080" y="3870360"/>
                <a:ext cx="502920" cy="33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1"/>
              <p:cNvSpPr/>
              <p:nvPr/>
            </p:nvSpPr>
            <p:spPr>
              <a:xfrm>
                <a:off x="4578120" y="3873240"/>
                <a:ext cx="490320" cy="335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2"/>
              <p:cNvSpPr/>
              <p:nvPr/>
            </p:nvSpPr>
            <p:spPr>
              <a:xfrm>
                <a:off x="4941000" y="5098320"/>
                <a:ext cx="70560" cy="92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3"/>
              <p:cNvSpPr/>
              <p:nvPr/>
            </p:nvSpPr>
            <p:spPr>
              <a:xfrm>
                <a:off x="5154840" y="4956120"/>
                <a:ext cx="258480" cy="13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4"/>
              <p:cNvSpPr/>
              <p:nvPr/>
            </p:nvSpPr>
            <p:spPr>
              <a:xfrm>
                <a:off x="5422680" y="4876200"/>
                <a:ext cx="164160" cy="145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5"/>
              <p:cNvSpPr/>
              <p:nvPr/>
            </p:nvSpPr>
            <p:spPr>
              <a:xfrm>
                <a:off x="5510160" y="4810680"/>
                <a:ext cx="5832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6"/>
              <p:cNvSpPr/>
              <p:nvPr/>
            </p:nvSpPr>
            <p:spPr>
              <a:xfrm>
                <a:off x="2844360" y="4049280"/>
                <a:ext cx="193680" cy="31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7"/>
              <p:cNvSpPr/>
              <p:nvPr/>
            </p:nvSpPr>
            <p:spPr>
              <a:xfrm>
                <a:off x="3682800" y="3552480"/>
                <a:ext cx="77040" cy="97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8"/>
              <p:cNvSpPr/>
              <p:nvPr/>
            </p:nvSpPr>
            <p:spPr>
              <a:xfrm>
                <a:off x="4156560" y="3646800"/>
                <a:ext cx="175320" cy="29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9"/>
              <p:cNvSpPr/>
              <p:nvPr/>
            </p:nvSpPr>
            <p:spPr>
              <a:xfrm>
                <a:off x="4008960" y="3555720"/>
                <a:ext cx="113400" cy="217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20"/>
              <p:cNvSpPr/>
              <p:nvPr/>
            </p:nvSpPr>
            <p:spPr>
              <a:xfrm>
                <a:off x="4086000" y="3729960"/>
                <a:ext cx="62640" cy="20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21"/>
              <p:cNvSpPr/>
              <p:nvPr/>
            </p:nvSpPr>
            <p:spPr>
              <a:xfrm>
                <a:off x="4156560" y="3948840"/>
                <a:ext cx="10296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22"/>
              <p:cNvSpPr/>
              <p:nvPr/>
            </p:nvSpPr>
            <p:spPr>
              <a:xfrm>
                <a:off x="4321080" y="3796920"/>
                <a:ext cx="130680" cy="186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23"/>
              <p:cNvSpPr/>
              <p:nvPr/>
            </p:nvSpPr>
            <p:spPr>
              <a:xfrm>
                <a:off x="4327200" y="3143880"/>
                <a:ext cx="34920" cy="113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24"/>
              <p:cNvSpPr/>
              <p:nvPr/>
            </p:nvSpPr>
            <p:spPr>
              <a:xfrm>
                <a:off x="4350240" y="3332520"/>
                <a:ext cx="95040" cy="188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25"/>
              <p:cNvSpPr/>
              <p:nvPr/>
            </p:nvSpPr>
            <p:spPr>
              <a:xfrm>
                <a:off x="4367520" y="3570120"/>
                <a:ext cx="99720" cy="126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26"/>
              <p:cNvSpPr/>
              <p:nvPr/>
            </p:nvSpPr>
            <p:spPr>
              <a:xfrm>
                <a:off x="4487040" y="3793680"/>
                <a:ext cx="44640" cy="78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27"/>
              <p:cNvSpPr/>
              <p:nvPr/>
            </p:nvSpPr>
            <p:spPr>
              <a:xfrm>
                <a:off x="4461120" y="3924720"/>
                <a:ext cx="288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28"/>
              <p:cNvSpPr/>
              <p:nvPr/>
            </p:nvSpPr>
            <p:spPr>
              <a:xfrm>
                <a:off x="4504320" y="3908520"/>
                <a:ext cx="70560" cy="59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9"/>
              <p:cNvSpPr/>
              <p:nvPr/>
            </p:nvSpPr>
            <p:spPr>
              <a:xfrm>
                <a:off x="4613400" y="4020480"/>
                <a:ext cx="36720" cy="52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30"/>
              <p:cNvSpPr/>
              <p:nvPr/>
            </p:nvSpPr>
            <p:spPr>
              <a:xfrm>
                <a:off x="5033520" y="3953520"/>
                <a:ext cx="72000" cy="74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31"/>
              <p:cNvSpPr/>
              <p:nvPr/>
            </p:nvSpPr>
            <p:spPr>
              <a:xfrm>
                <a:off x="4407120" y="4047480"/>
                <a:ext cx="72000" cy="79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32"/>
              <p:cNvSpPr/>
              <p:nvPr/>
            </p:nvSpPr>
            <p:spPr>
              <a:xfrm>
                <a:off x="4330440" y="4078080"/>
                <a:ext cx="5040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33"/>
              <p:cNvSpPr/>
              <p:nvPr/>
            </p:nvSpPr>
            <p:spPr>
              <a:xfrm>
                <a:off x="4298040" y="4031640"/>
                <a:ext cx="3672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34"/>
              <p:cNvSpPr/>
              <p:nvPr/>
            </p:nvSpPr>
            <p:spPr>
              <a:xfrm>
                <a:off x="4350240" y="4049280"/>
                <a:ext cx="5364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35"/>
              <p:cNvSpPr/>
              <p:nvPr/>
            </p:nvSpPr>
            <p:spPr>
              <a:xfrm>
                <a:off x="4273560" y="3520800"/>
                <a:ext cx="42840" cy="87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36"/>
              <p:cNvSpPr/>
              <p:nvPr/>
            </p:nvSpPr>
            <p:spPr>
              <a:xfrm>
                <a:off x="4353480" y="3506040"/>
                <a:ext cx="3060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37"/>
              <p:cNvSpPr/>
              <p:nvPr/>
            </p:nvSpPr>
            <p:spPr>
              <a:xfrm>
                <a:off x="4388760" y="3479040"/>
                <a:ext cx="15120" cy="39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38"/>
              <p:cNvSpPr/>
              <p:nvPr/>
            </p:nvSpPr>
            <p:spPr>
              <a:xfrm>
                <a:off x="4404240" y="3498120"/>
                <a:ext cx="33480" cy="76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39"/>
              <p:cNvSpPr/>
              <p:nvPr/>
            </p:nvSpPr>
            <p:spPr>
              <a:xfrm>
                <a:off x="3981240" y="3608280"/>
                <a:ext cx="1836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40"/>
              <p:cNvSpPr/>
              <p:nvPr/>
            </p:nvSpPr>
            <p:spPr>
              <a:xfrm>
                <a:off x="3964320" y="357192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41"/>
              <p:cNvSpPr/>
              <p:nvPr/>
            </p:nvSpPr>
            <p:spPr>
              <a:xfrm>
                <a:off x="3958200" y="3543120"/>
                <a:ext cx="18000" cy="21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42"/>
              <p:cNvSpPr/>
              <p:nvPr/>
            </p:nvSpPr>
            <p:spPr>
              <a:xfrm>
                <a:off x="3990240" y="3490200"/>
                <a:ext cx="1692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43"/>
              <p:cNvSpPr/>
              <p:nvPr/>
            </p:nvSpPr>
            <p:spPr>
              <a:xfrm>
                <a:off x="3942720" y="3519000"/>
                <a:ext cx="24480" cy="2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44"/>
              <p:cNvSpPr/>
              <p:nvPr/>
            </p:nvSpPr>
            <p:spPr>
              <a:xfrm>
                <a:off x="5261040" y="4510800"/>
                <a:ext cx="70200" cy="93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45"/>
              <p:cNvSpPr/>
              <p:nvPr/>
            </p:nvSpPr>
            <p:spPr>
              <a:xfrm>
                <a:off x="5625720" y="4432320"/>
                <a:ext cx="82800" cy="73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46"/>
              <p:cNvSpPr/>
              <p:nvPr/>
            </p:nvSpPr>
            <p:spPr>
              <a:xfrm>
                <a:off x="5373000" y="4392720"/>
                <a:ext cx="25920" cy="36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47"/>
              <p:cNvSpPr/>
              <p:nvPr/>
            </p:nvSpPr>
            <p:spPr>
              <a:xfrm>
                <a:off x="5359680" y="4357440"/>
                <a:ext cx="3204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48"/>
              <p:cNvSpPr/>
              <p:nvPr/>
            </p:nvSpPr>
            <p:spPr>
              <a:xfrm>
                <a:off x="5119560" y="4049280"/>
                <a:ext cx="36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49"/>
              <p:cNvSpPr/>
              <p:nvPr/>
            </p:nvSpPr>
            <p:spPr>
              <a:xfrm>
                <a:off x="5171760" y="4117680"/>
                <a:ext cx="4140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50"/>
              <p:cNvSpPr/>
              <p:nvPr/>
            </p:nvSpPr>
            <p:spPr>
              <a:xfrm>
                <a:off x="5214600" y="4217040"/>
                <a:ext cx="4464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"/>
              <p:cNvSpPr/>
              <p:nvPr/>
            </p:nvSpPr>
            <p:spPr>
              <a:xfrm>
                <a:off x="5268960" y="4200840"/>
                <a:ext cx="4464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52"/>
              <p:cNvSpPr/>
              <p:nvPr/>
            </p:nvSpPr>
            <p:spPr>
              <a:xfrm>
                <a:off x="5253480" y="4143600"/>
                <a:ext cx="3960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3"/>
              <p:cNvSpPr/>
              <p:nvPr/>
            </p:nvSpPr>
            <p:spPr>
              <a:xfrm>
                <a:off x="5211720" y="4105080"/>
                <a:ext cx="417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4"/>
              <p:cNvSpPr/>
              <p:nvPr/>
            </p:nvSpPr>
            <p:spPr>
              <a:xfrm>
                <a:off x="5160960" y="4079520"/>
                <a:ext cx="3816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5"/>
              <p:cNvSpPr/>
              <p:nvPr/>
            </p:nvSpPr>
            <p:spPr>
              <a:xfrm>
                <a:off x="5224320" y="4162680"/>
                <a:ext cx="3816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6"/>
              <p:cNvSpPr/>
              <p:nvPr/>
            </p:nvSpPr>
            <p:spPr>
              <a:xfrm>
                <a:off x="2736720" y="1989360"/>
                <a:ext cx="221400" cy="170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57"/>
              <p:cNvSpPr/>
              <p:nvPr/>
            </p:nvSpPr>
            <p:spPr>
              <a:xfrm>
                <a:off x="2868840" y="2153880"/>
                <a:ext cx="6300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8"/>
              <p:cNvSpPr/>
              <p:nvPr/>
            </p:nvSpPr>
            <p:spPr>
              <a:xfrm>
                <a:off x="3192120" y="1906560"/>
                <a:ext cx="6588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9"/>
              <p:cNvSpPr/>
              <p:nvPr/>
            </p:nvSpPr>
            <p:spPr>
              <a:xfrm>
                <a:off x="3239640" y="1927080"/>
                <a:ext cx="7848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0"/>
              <p:cNvSpPr/>
              <p:nvPr/>
            </p:nvSpPr>
            <p:spPr>
              <a:xfrm>
                <a:off x="3324600" y="1931760"/>
                <a:ext cx="79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1"/>
              <p:cNvSpPr/>
              <p:nvPr/>
            </p:nvSpPr>
            <p:spPr>
              <a:xfrm>
                <a:off x="3875040" y="1974960"/>
                <a:ext cx="13824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2"/>
              <p:cNvSpPr/>
              <p:nvPr/>
            </p:nvSpPr>
            <p:spPr>
              <a:xfrm>
                <a:off x="4016520" y="1973520"/>
                <a:ext cx="720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3"/>
              <p:cNvSpPr/>
              <p:nvPr/>
            </p:nvSpPr>
            <p:spPr>
              <a:xfrm>
                <a:off x="3984480" y="2019960"/>
                <a:ext cx="5796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4"/>
              <p:cNvSpPr/>
              <p:nvPr/>
            </p:nvSpPr>
            <p:spPr>
              <a:xfrm>
                <a:off x="4381200" y="2375640"/>
                <a:ext cx="119880" cy="180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5"/>
              <p:cNvSpPr/>
              <p:nvPr/>
            </p:nvSpPr>
            <p:spPr>
              <a:xfrm>
                <a:off x="4478040" y="2562480"/>
                <a:ext cx="86040" cy="124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6"/>
              <p:cNvSpPr/>
              <p:nvPr/>
            </p:nvSpPr>
            <p:spPr>
              <a:xfrm>
                <a:off x="4421160" y="2690280"/>
                <a:ext cx="170280" cy="29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"/>
              <p:cNvSpPr/>
              <p:nvPr/>
            </p:nvSpPr>
            <p:spPr>
              <a:xfrm>
                <a:off x="2747520" y="1888920"/>
                <a:ext cx="81360" cy="47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8"/>
              <p:cNvSpPr/>
              <p:nvPr/>
            </p:nvSpPr>
            <p:spPr>
              <a:xfrm>
                <a:off x="2578320" y="1903320"/>
                <a:ext cx="30600" cy="34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9"/>
              <p:cNvSpPr/>
              <p:nvPr/>
            </p:nvSpPr>
            <p:spPr>
              <a:xfrm>
                <a:off x="2616840" y="1901520"/>
                <a:ext cx="58320" cy="43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70"/>
              <p:cNvSpPr/>
              <p:nvPr/>
            </p:nvSpPr>
            <p:spPr>
              <a:xfrm>
                <a:off x="2713680" y="1887480"/>
                <a:ext cx="30600" cy="25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71"/>
              <p:cNvSpPr/>
              <p:nvPr/>
            </p:nvSpPr>
            <p:spPr>
              <a:xfrm>
                <a:off x="2684520" y="1915920"/>
                <a:ext cx="22680" cy="2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72"/>
              <p:cNvSpPr/>
              <p:nvPr/>
            </p:nvSpPr>
            <p:spPr>
              <a:xfrm>
                <a:off x="4482720" y="1941480"/>
                <a:ext cx="27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73"/>
              <p:cNvSpPr/>
              <p:nvPr/>
            </p:nvSpPr>
            <p:spPr>
              <a:xfrm>
                <a:off x="3089160" y="4250160"/>
                <a:ext cx="4752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74"/>
              <p:cNvSpPr/>
              <p:nvPr/>
            </p:nvSpPr>
            <p:spPr>
              <a:xfrm>
                <a:off x="3152160" y="423900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75"/>
              <p:cNvSpPr/>
              <p:nvPr/>
            </p:nvSpPr>
            <p:spPr>
              <a:xfrm>
                <a:off x="3045960" y="399492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76"/>
              <p:cNvSpPr/>
              <p:nvPr/>
            </p:nvSpPr>
            <p:spPr>
              <a:xfrm>
                <a:off x="3139920" y="3878280"/>
                <a:ext cx="18000" cy="2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77"/>
              <p:cNvSpPr/>
              <p:nvPr/>
            </p:nvSpPr>
            <p:spPr>
              <a:xfrm>
                <a:off x="3102840" y="3876480"/>
                <a:ext cx="1656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78"/>
              <p:cNvSpPr/>
              <p:nvPr/>
            </p:nvSpPr>
            <p:spPr>
              <a:xfrm>
                <a:off x="3084480" y="391176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79"/>
              <p:cNvSpPr/>
              <p:nvPr/>
            </p:nvSpPr>
            <p:spPr>
              <a:xfrm>
                <a:off x="3045960" y="396612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80"/>
              <p:cNvSpPr/>
              <p:nvPr/>
            </p:nvSpPr>
            <p:spPr>
              <a:xfrm>
                <a:off x="3075120" y="394560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81"/>
              <p:cNvSpPr/>
              <p:nvPr/>
            </p:nvSpPr>
            <p:spPr>
              <a:xfrm>
                <a:off x="1919880" y="237420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82"/>
              <p:cNvSpPr/>
              <p:nvPr/>
            </p:nvSpPr>
            <p:spPr>
              <a:xfrm>
                <a:off x="1447920" y="1974960"/>
                <a:ext cx="3248640" cy="26136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Group 83"/>
            <p:cNvGrpSpPr/>
            <p:nvPr/>
          </p:nvGrpSpPr>
          <p:grpSpPr>
            <a:xfrm>
              <a:off x="4965840" y="1828800"/>
              <a:ext cx="2882160" cy="3231000"/>
              <a:chOff x="4965840" y="1828800"/>
              <a:chExt cx="2882160" cy="3231000"/>
            </a:xfrm>
          </p:grpSpPr>
          <p:sp>
            <p:nvSpPr>
              <p:cNvPr id="1266" name="Freeform 84"/>
              <p:cNvSpPr/>
              <p:nvPr/>
            </p:nvSpPr>
            <p:spPr>
              <a:xfrm>
                <a:off x="5090040" y="1978560"/>
                <a:ext cx="1997640" cy="3081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5"/>
              <p:cNvSpPr/>
              <p:nvPr/>
            </p:nvSpPr>
            <p:spPr>
              <a:xfrm>
                <a:off x="5027040" y="2272680"/>
                <a:ext cx="5400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6"/>
              <p:cNvSpPr/>
              <p:nvPr/>
            </p:nvSpPr>
            <p:spPr>
              <a:xfrm>
                <a:off x="5511600" y="2467440"/>
                <a:ext cx="61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87"/>
              <p:cNvSpPr/>
              <p:nvPr/>
            </p:nvSpPr>
            <p:spPr>
              <a:xfrm>
                <a:off x="6743520" y="2556720"/>
                <a:ext cx="155520" cy="117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88"/>
              <p:cNvSpPr/>
              <p:nvPr/>
            </p:nvSpPr>
            <p:spPr>
              <a:xfrm>
                <a:off x="5996160" y="3168360"/>
                <a:ext cx="249120" cy="133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9"/>
              <p:cNvSpPr/>
              <p:nvPr/>
            </p:nvSpPr>
            <p:spPr>
              <a:xfrm>
                <a:off x="6202080" y="3270240"/>
                <a:ext cx="155520" cy="63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90"/>
              <p:cNvSpPr/>
              <p:nvPr/>
            </p:nvSpPr>
            <p:spPr>
              <a:xfrm>
                <a:off x="6366960" y="331020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91"/>
              <p:cNvSpPr/>
              <p:nvPr/>
            </p:nvSpPr>
            <p:spPr>
              <a:xfrm>
                <a:off x="6456240" y="3314880"/>
                <a:ext cx="1836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92"/>
              <p:cNvSpPr/>
              <p:nvPr/>
            </p:nvSpPr>
            <p:spPr>
              <a:xfrm>
                <a:off x="6166800" y="1970640"/>
                <a:ext cx="284400" cy="13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93"/>
              <p:cNvSpPr/>
              <p:nvPr/>
            </p:nvSpPr>
            <p:spPr>
              <a:xfrm>
                <a:off x="6292800" y="1905480"/>
                <a:ext cx="230760" cy="95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94"/>
              <p:cNvSpPr/>
              <p:nvPr/>
            </p:nvSpPr>
            <p:spPr>
              <a:xfrm>
                <a:off x="6615720" y="2016720"/>
                <a:ext cx="367560" cy="30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95"/>
              <p:cNvSpPr/>
              <p:nvPr/>
            </p:nvSpPr>
            <p:spPr>
              <a:xfrm>
                <a:off x="6613200" y="1886040"/>
                <a:ext cx="687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96"/>
              <p:cNvSpPr/>
              <p:nvPr/>
            </p:nvSpPr>
            <p:spPr>
              <a:xfrm>
                <a:off x="6480360" y="1997640"/>
                <a:ext cx="102960" cy="65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97"/>
              <p:cNvSpPr/>
              <p:nvPr/>
            </p:nvSpPr>
            <p:spPr>
              <a:xfrm>
                <a:off x="6588360" y="2010600"/>
                <a:ext cx="8460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98"/>
              <p:cNvSpPr/>
              <p:nvPr/>
            </p:nvSpPr>
            <p:spPr>
              <a:xfrm>
                <a:off x="6542280" y="1953000"/>
                <a:ext cx="1011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99"/>
              <p:cNvSpPr/>
              <p:nvPr/>
            </p:nvSpPr>
            <p:spPr>
              <a:xfrm>
                <a:off x="6499080" y="1902240"/>
                <a:ext cx="6912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00"/>
              <p:cNvSpPr/>
              <p:nvPr/>
            </p:nvSpPr>
            <p:spPr>
              <a:xfrm>
                <a:off x="6679080" y="1906920"/>
                <a:ext cx="179640" cy="122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101"/>
              <p:cNvSpPr/>
              <p:nvPr/>
            </p:nvSpPr>
            <p:spPr>
              <a:xfrm>
                <a:off x="4965840" y="2296440"/>
                <a:ext cx="3960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102"/>
              <p:cNvSpPr/>
              <p:nvPr/>
            </p:nvSpPr>
            <p:spPr>
              <a:xfrm>
                <a:off x="6159240" y="310896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103"/>
              <p:cNvSpPr/>
              <p:nvPr/>
            </p:nvSpPr>
            <p:spPr>
              <a:xfrm>
                <a:off x="6163920" y="314892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104"/>
              <p:cNvSpPr/>
              <p:nvPr/>
            </p:nvSpPr>
            <p:spPr>
              <a:xfrm>
                <a:off x="6485400" y="3358080"/>
                <a:ext cx="2412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105"/>
              <p:cNvSpPr/>
              <p:nvPr/>
            </p:nvSpPr>
            <p:spPr>
              <a:xfrm>
                <a:off x="6680880" y="258840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106"/>
              <p:cNvSpPr/>
              <p:nvPr/>
            </p:nvSpPr>
            <p:spPr>
              <a:xfrm>
                <a:off x="6523920" y="226260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107"/>
              <p:cNvSpPr/>
              <p:nvPr/>
            </p:nvSpPr>
            <p:spPr>
              <a:xfrm>
                <a:off x="6625440" y="1978560"/>
                <a:ext cx="6120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08"/>
              <p:cNvSpPr/>
              <p:nvPr/>
            </p:nvSpPr>
            <p:spPr>
              <a:xfrm>
                <a:off x="6725520" y="21495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109"/>
              <p:cNvSpPr/>
              <p:nvPr/>
            </p:nvSpPr>
            <p:spPr>
              <a:xfrm>
                <a:off x="6749640" y="1828800"/>
                <a:ext cx="1098360" cy="55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10"/>
              <p:cNvSpPr/>
              <p:nvPr/>
            </p:nvSpPr>
            <p:spPr>
              <a:xfrm>
                <a:off x="7086600" y="212076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111"/>
              <p:cNvSpPr/>
              <p:nvPr/>
            </p:nvSpPr>
            <p:spPr>
              <a:xfrm>
                <a:off x="7533000" y="2226240"/>
                <a:ext cx="20124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112"/>
              <p:cNvSpPr/>
              <p:nvPr/>
            </p:nvSpPr>
            <p:spPr>
              <a:xfrm>
                <a:off x="7691400" y="196740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113"/>
              <p:cNvSpPr/>
              <p:nvPr/>
            </p:nvSpPr>
            <p:spPr>
              <a:xfrm>
                <a:off x="7822080" y="231876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96" name="Object 114"/>
          <p:cNvGraphicFramePr/>
          <p:nvPr/>
        </p:nvGraphicFramePr>
        <p:xfrm>
          <a:off x="1101600" y="22273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7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2273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98" name="Object 115"/>
          <p:cNvGraphicFramePr/>
          <p:nvPr/>
        </p:nvGraphicFramePr>
        <p:xfrm>
          <a:off x="6054840" y="26827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9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4840" y="26827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00" name="Object 116"/>
          <p:cNvGraphicFramePr/>
          <p:nvPr/>
        </p:nvGraphicFramePr>
        <p:xfrm>
          <a:off x="3691080" y="3219480"/>
          <a:ext cx="16570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1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1080" y="3219480"/>
                    <a:ext cx="165708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02" name="Line 117"/>
          <p:cNvSpPr/>
          <p:nvPr/>
        </p:nvSpPr>
        <p:spPr>
          <a:xfrm>
            <a:off x="1066680" y="503856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9"/>
          <p:cNvSpPr/>
          <p:nvPr/>
        </p:nvSpPr>
        <p:spPr>
          <a:xfrm>
            <a:off x="1371600" y="51372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119"/>
          <p:cNvSpPr/>
          <p:nvPr/>
        </p:nvSpPr>
        <p:spPr>
          <a:xfrm>
            <a:off x="4572000" y="503856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120"/>
          <p:cNvSpPr/>
          <p:nvPr/>
        </p:nvSpPr>
        <p:spPr>
          <a:xfrm>
            <a:off x="609480" y="17524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121"/>
          <p:cNvSpPr/>
          <p:nvPr/>
        </p:nvSpPr>
        <p:spPr>
          <a:xfrm>
            <a:off x="3048120" y="27432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122"/>
          <p:cNvSpPr/>
          <p:nvPr/>
        </p:nvSpPr>
        <p:spPr>
          <a:xfrm>
            <a:off x="6172200" y="221940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123"/>
          <p:cNvSpPr/>
          <p:nvPr/>
        </p:nvSpPr>
        <p:spPr>
          <a:xfrm>
            <a:off x="4800600" y="5167440"/>
            <a:ext cx="18108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24"/>
          <p:cNvSpPr/>
          <p:nvPr/>
        </p:nvSpPr>
        <p:spPr>
          <a:xfrm>
            <a:off x="5015880" y="51102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25"/>
          <p:cNvSpPr/>
          <p:nvPr/>
        </p:nvSpPr>
        <p:spPr>
          <a:xfrm>
            <a:off x="4800600" y="5492880"/>
            <a:ext cx="18108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26"/>
          <p:cNvSpPr/>
          <p:nvPr/>
        </p:nvSpPr>
        <p:spPr>
          <a:xfrm>
            <a:off x="5015880" y="545292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27"/>
          <p:cNvSpPr/>
          <p:nvPr/>
        </p:nvSpPr>
        <p:spPr>
          <a:xfrm>
            <a:off x="4800600" y="581508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28"/>
          <p:cNvSpPr/>
          <p:nvPr/>
        </p:nvSpPr>
        <p:spPr>
          <a:xfrm>
            <a:off x="5015880" y="57578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2464920" y="3594240"/>
            <a:ext cx="1789200" cy="407520"/>
            <a:chOff x="2464920" y="3594240"/>
            <a:chExt cx="1789200" cy="407520"/>
          </a:xfrm>
        </p:grpSpPr>
        <p:sp>
          <p:nvSpPr>
            <p:cNvPr id="1317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2464920" y="3651840"/>
              <a:ext cx="97560" cy="320400"/>
              <a:chOff x="2464920" y="3651840"/>
              <a:chExt cx="97560" cy="320400"/>
            </a:xfrm>
          </p:grpSpPr>
          <p:sp>
            <p:nvSpPr>
              <p:cNvPr id="1319" name="AutoShape 7"/>
              <p:cNvSpPr/>
              <p:nvPr/>
            </p:nvSpPr>
            <p:spPr>
              <a:xfrm flipV="1" rot="21333000">
                <a:off x="24771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8"/>
              <p:cNvSpPr/>
              <p:nvPr/>
            </p:nvSpPr>
            <p:spPr>
              <a:xfrm flipV="1" rot="21333000">
                <a:off x="24818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9"/>
              <p:cNvSpPr/>
              <p:nvPr/>
            </p:nvSpPr>
            <p:spPr>
              <a:xfrm flipV="1" rot="21333000">
                <a:off x="24800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10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1323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12"/>
              <p:cNvSpPr/>
              <p:nvPr/>
            </p:nvSpPr>
            <p:spPr>
              <a:xfrm flipH="1" flipV="1" rot="267000">
                <a:off x="41864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AutoShape 13"/>
              <p:cNvSpPr/>
              <p:nvPr/>
            </p:nvSpPr>
            <p:spPr>
              <a:xfrm flipH="1" flipV="1" rot="267000">
                <a:off x="42069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6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5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7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Group 30"/>
          <p:cNvGrpSpPr/>
          <p:nvPr/>
        </p:nvGrpSpPr>
        <p:grpSpPr>
          <a:xfrm>
            <a:off x="501120" y="3594240"/>
            <a:ext cx="1789200" cy="407520"/>
            <a:chOff x="501120" y="3594240"/>
            <a:chExt cx="1789200" cy="407520"/>
          </a:xfrm>
        </p:grpSpPr>
        <p:sp>
          <p:nvSpPr>
            <p:cNvPr id="1343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4" name="Group 32"/>
            <p:cNvGrpSpPr/>
            <p:nvPr/>
          </p:nvGrpSpPr>
          <p:grpSpPr>
            <a:xfrm>
              <a:off x="501120" y="3651840"/>
              <a:ext cx="97560" cy="320400"/>
              <a:chOff x="501120" y="3651840"/>
              <a:chExt cx="97560" cy="320400"/>
            </a:xfrm>
          </p:grpSpPr>
          <p:sp>
            <p:nvSpPr>
              <p:cNvPr id="1345" name="AutoShape 33"/>
              <p:cNvSpPr/>
              <p:nvPr/>
            </p:nvSpPr>
            <p:spPr>
              <a:xfrm flipV="1" rot="21333000">
                <a:off x="51336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AutoShape 34"/>
              <p:cNvSpPr/>
              <p:nvPr/>
            </p:nvSpPr>
            <p:spPr>
              <a:xfrm flipV="1" rot="21333000">
                <a:off x="51804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AutoShape 35"/>
              <p:cNvSpPr/>
              <p:nvPr/>
            </p:nvSpPr>
            <p:spPr>
              <a:xfrm flipV="1" rot="21333000">
                <a:off x="51624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8" name="Group 36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1349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38"/>
              <p:cNvSpPr/>
              <p:nvPr/>
            </p:nvSpPr>
            <p:spPr>
              <a:xfrm flipH="1" flipV="1" rot="267000">
                <a:off x="222264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39"/>
              <p:cNvSpPr/>
              <p:nvPr/>
            </p:nvSpPr>
            <p:spPr>
              <a:xfrm flipH="1" flipV="1" rot="267000">
                <a:off x="224316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2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676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3" name="Group 41"/>
          <p:cNvGrpSpPr/>
          <p:nvPr/>
        </p:nvGrpSpPr>
        <p:grpSpPr>
          <a:xfrm>
            <a:off x="4585680" y="3594240"/>
            <a:ext cx="1787760" cy="407520"/>
            <a:chOff x="4585680" y="3594240"/>
            <a:chExt cx="1787760" cy="407520"/>
          </a:xfrm>
        </p:grpSpPr>
        <p:sp>
          <p:nvSpPr>
            <p:cNvPr id="1354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5" name="Group 43"/>
            <p:cNvGrpSpPr/>
            <p:nvPr/>
          </p:nvGrpSpPr>
          <p:grpSpPr>
            <a:xfrm>
              <a:off x="4585680" y="3651840"/>
              <a:ext cx="97560" cy="320400"/>
              <a:chOff x="4585680" y="3651840"/>
              <a:chExt cx="97560" cy="320400"/>
            </a:xfrm>
          </p:grpSpPr>
          <p:sp>
            <p:nvSpPr>
              <p:cNvPr id="1356" name="AutoShape 44"/>
              <p:cNvSpPr/>
              <p:nvPr/>
            </p:nvSpPr>
            <p:spPr>
              <a:xfrm flipV="1" rot="21333000">
                <a:off x="459792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AutoShape 45"/>
              <p:cNvSpPr/>
              <p:nvPr/>
            </p:nvSpPr>
            <p:spPr>
              <a:xfrm flipV="1" rot="21333000">
                <a:off x="460260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AutoShape 46"/>
              <p:cNvSpPr/>
              <p:nvPr/>
            </p:nvSpPr>
            <p:spPr>
              <a:xfrm flipV="1" rot="21333000">
                <a:off x="460080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9" name="Group 47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1360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49"/>
              <p:cNvSpPr/>
              <p:nvPr/>
            </p:nvSpPr>
            <p:spPr>
              <a:xfrm flipH="1" flipV="1" rot="267000">
                <a:off x="630576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50"/>
              <p:cNvSpPr/>
              <p:nvPr/>
            </p:nvSpPr>
            <p:spPr>
              <a:xfrm flipH="1" flipV="1" rot="267000">
                <a:off x="632628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3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600" y="29210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4" name="Group 52"/>
          <p:cNvGrpSpPr/>
          <p:nvPr/>
        </p:nvGrpSpPr>
        <p:grpSpPr>
          <a:xfrm>
            <a:off x="6541560" y="3594240"/>
            <a:ext cx="1789200" cy="407520"/>
            <a:chOff x="6541560" y="3594240"/>
            <a:chExt cx="1789200" cy="407520"/>
          </a:xfrm>
        </p:grpSpPr>
        <p:sp>
          <p:nvSpPr>
            <p:cNvPr id="1365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6" name="Group 54"/>
            <p:cNvGrpSpPr/>
            <p:nvPr/>
          </p:nvGrpSpPr>
          <p:grpSpPr>
            <a:xfrm>
              <a:off x="6541560" y="3651840"/>
              <a:ext cx="97560" cy="320400"/>
              <a:chOff x="6541560" y="3651840"/>
              <a:chExt cx="97560" cy="320400"/>
            </a:xfrm>
          </p:grpSpPr>
          <p:sp>
            <p:nvSpPr>
              <p:cNvPr id="1367" name="AutoShape 55"/>
              <p:cNvSpPr/>
              <p:nvPr/>
            </p:nvSpPr>
            <p:spPr>
              <a:xfrm flipV="1" rot="21333000">
                <a:off x="6553800" y="365400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56"/>
              <p:cNvSpPr/>
              <p:nvPr/>
            </p:nvSpPr>
            <p:spPr>
              <a:xfrm flipV="1" rot="21333000">
                <a:off x="6558480" y="367812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AutoShape 57"/>
              <p:cNvSpPr/>
              <p:nvPr/>
            </p:nvSpPr>
            <p:spPr>
              <a:xfrm flipV="1" rot="21333000">
                <a:off x="6556680" y="371268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0" name="Group 58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1371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60"/>
              <p:cNvSpPr/>
              <p:nvPr/>
            </p:nvSpPr>
            <p:spPr>
              <a:xfrm flipH="1" flipV="1" rot="267000">
                <a:off x="8263080" y="367452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AutoShape 61"/>
              <p:cNvSpPr/>
              <p:nvPr/>
            </p:nvSpPr>
            <p:spPr>
              <a:xfrm flipH="1" flipV="1" rot="267000">
                <a:off x="8283600" y="371268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4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200" y="29203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75" name="AutoShape 63"/>
          <p:cNvCxnSpPr>
            <a:stCxn id="1376" idx="2"/>
          </p:cNvCxnSpPr>
          <p:nvPr/>
        </p:nvCxnSpPr>
        <p:spPr>
          <a:xfrm rot="5400000">
            <a:off x="3015720" y="132372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7" name="AutoShape 64"/>
          <p:cNvCxnSpPr>
            <a:stCxn id="1376" idx="2"/>
          </p:cNvCxnSpPr>
          <p:nvPr/>
        </p:nvCxnSpPr>
        <p:spPr>
          <a:xfrm flipH="1" rot="16200000">
            <a:off x="5078160" y="134424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78" name="Group 65"/>
          <p:cNvGrpSpPr/>
          <p:nvPr/>
        </p:nvGrpSpPr>
        <p:grpSpPr>
          <a:xfrm>
            <a:off x="6078600" y="1219320"/>
            <a:ext cx="1484280" cy="366120"/>
            <a:chOff x="6078600" y="1219320"/>
            <a:chExt cx="1484280" cy="366120"/>
          </a:xfrm>
        </p:grpSpPr>
        <p:sp>
          <p:nvSpPr>
            <p:cNvPr id="1379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Group 67"/>
            <p:cNvGrpSpPr/>
            <p:nvPr/>
          </p:nvGrpSpPr>
          <p:grpSpPr>
            <a:xfrm>
              <a:off x="6078600" y="1271520"/>
              <a:ext cx="82080" cy="288000"/>
              <a:chOff x="6078600" y="1271520"/>
              <a:chExt cx="82080" cy="288000"/>
            </a:xfrm>
          </p:grpSpPr>
          <p:sp>
            <p:nvSpPr>
              <p:cNvPr id="1381" name="AutoShape 68"/>
              <p:cNvSpPr/>
              <p:nvPr/>
            </p:nvSpPr>
            <p:spPr>
              <a:xfrm flipV="1" rot="21333000">
                <a:off x="6089400" y="127332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AutoShape 69"/>
              <p:cNvSpPr/>
              <p:nvPr/>
            </p:nvSpPr>
            <p:spPr>
              <a:xfrm flipV="1" rot="21333000">
                <a:off x="6093360" y="129456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70"/>
              <p:cNvSpPr/>
              <p:nvPr/>
            </p:nvSpPr>
            <p:spPr>
              <a:xfrm flipV="1" rot="21333000">
                <a:off x="6091560" y="1325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Group 71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1385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AutoShape 73"/>
              <p:cNvSpPr/>
              <p:nvPr/>
            </p:nvSpPr>
            <p:spPr>
              <a:xfrm flipH="1" flipV="1" rot="267000">
                <a:off x="7507080" y="129132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74"/>
              <p:cNvSpPr/>
              <p:nvPr/>
            </p:nvSpPr>
            <p:spPr>
              <a:xfrm flipH="1" flipV="1" rot="267000">
                <a:off x="7523640" y="1324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8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9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Group 76"/>
          <p:cNvGrpSpPr/>
          <p:nvPr/>
        </p:nvGrpSpPr>
        <p:grpSpPr>
          <a:xfrm>
            <a:off x="6078600" y="1825560"/>
            <a:ext cx="1484280" cy="366480"/>
            <a:chOff x="6078600" y="1825560"/>
            <a:chExt cx="1484280" cy="366480"/>
          </a:xfrm>
        </p:grpSpPr>
        <p:sp>
          <p:nvSpPr>
            <p:cNvPr id="1390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1" name="Group 78"/>
            <p:cNvGrpSpPr/>
            <p:nvPr/>
          </p:nvGrpSpPr>
          <p:grpSpPr>
            <a:xfrm>
              <a:off x="6078600" y="1877400"/>
              <a:ext cx="82080" cy="288360"/>
              <a:chOff x="6078600" y="1877400"/>
              <a:chExt cx="82080" cy="288360"/>
            </a:xfrm>
          </p:grpSpPr>
          <p:sp>
            <p:nvSpPr>
              <p:cNvPr id="1392" name="AutoShape 79"/>
              <p:cNvSpPr/>
              <p:nvPr/>
            </p:nvSpPr>
            <p:spPr>
              <a:xfrm flipV="1" rot="21333000">
                <a:off x="6089400" y="187884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AutoShape 80"/>
              <p:cNvSpPr/>
              <p:nvPr/>
            </p:nvSpPr>
            <p:spPr>
              <a:xfrm flipV="1" rot="21333000">
                <a:off x="6093360" y="190008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AutoShape 81"/>
              <p:cNvSpPr/>
              <p:nvPr/>
            </p:nvSpPr>
            <p:spPr>
              <a:xfrm flipV="1" rot="21333000">
                <a:off x="6091560" y="193176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82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1396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AutoShape 84"/>
              <p:cNvSpPr/>
              <p:nvPr/>
            </p:nvSpPr>
            <p:spPr>
              <a:xfrm flipH="1" flipV="1" rot="267000">
                <a:off x="7506360" y="18986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85"/>
              <p:cNvSpPr/>
              <p:nvPr/>
            </p:nvSpPr>
            <p:spPr>
              <a:xfrm flipH="1" flipV="1" rot="267000">
                <a:off x="7523640" y="193104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9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000" y="127584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00" name="AutoShape 87"/>
          <p:cNvCxnSpPr/>
          <p:nvPr/>
        </p:nvCxnSpPr>
        <p:spPr>
          <a:xfrm rot="5400000">
            <a:off x="1567080" y="286272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1" name="AutoShape 88"/>
          <p:cNvCxnSpPr/>
          <p:nvPr/>
        </p:nvCxnSpPr>
        <p:spPr>
          <a:xfrm flipH="1" rot="16200000">
            <a:off x="2544120" y="28087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02" name="Group 89"/>
          <p:cNvGrpSpPr/>
          <p:nvPr/>
        </p:nvGrpSpPr>
        <p:grpSpPr>
          <a:xfrm>
            <a:off x="1304280" y="2695680"/>
            <a:ext cx="2048760" cy="364680"/>
            <a:chOff x="1304280" y="2695680"/>
            <a:chExt cx="2048760" cy="364680"/>
          </a:xfrm>
        </p:grpSpPr>
        <p:sp>
          <p:nvSpPr>
            <p:cNvPr id="1403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4" name="Group 91"/>
            <p:cNvGrpSpPr/>
            <p:nvPr/>
          </p:nvGrpSpPr>
          <p:grpSpPr>
            <a:xfrm>
              <a:off x="1304280" y="2746800"/>
              <a:ext cx="105120" cy="288720"/>
              <a:chOff x="1304280" y="2746800"/>
              <a:chExt cx="105120" cy="288720"/>
            </a:xfrm>
          </p:grpSpPr>
          <p:sp>
            <p:nvSpPr>
              <p:cNvPr id="1405" name="AutoShape 92"/>
              <p:cNvSpPr/>
              <p:nvPr/>
            </p:nvSpPr>
            <p:spPr>
              <a:xfrm flipV="1" rot="21333000">
                <a:off x="131508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utoShape 93"/>
              <p:cNvSpPr/>
              <p:nvPr/>
            </p:nvSpPr>
            <p:spPr>
              <a:xfrm flipV="1" rot="21333000">
                <a:off x="131976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94"/>
              <p:cNvSpPr/>
              <p:nvPr/>
            </p:nvSpPr>
            <p:spPr>
              <a:xfrm flipV="1" rot="21333000">
                <a:off x="131724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1409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97"/>
              <p:cNvSpPr/>
              <p:nvPr/>
            </p:nvSpPr>
            <p:spPr>
              <a:xfrm flipH="1" flipV="1" rot="267000">
                <a:off x="327852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98"/>
              <p:cNvSpPr/>
              <p:nvPr/>
            </p:nvSpPr>
            <p:spPr>
              <a:xfrm flipH="1" flipV="1" rot="267000">
                <a:off x="330192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2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320" y="1887480"/>
              <a:ext cx="22608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413" name="AutoShape 100"/>
          <p:cNvCxnSpPr/>
          <p:nvPr/>
        </p:nvCxnSpPr>
        <p:spPr>
          <a:xfrm rot="5400000">
            <a:off x="5668920" y="2841840"/>
            <a:ext cx="561240" cy="96300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4" name="AutoShape 101"/>
          <p:cNvCxnSpPr/>
          <p:nvPr/>
        </p:nvCxnSpPr>
        <p:spPr>
          <a:xfrm flipH="1" rot="16200000">
            <a:off x="6645960" y="282708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5" name="AutoShape 102"/>
          <p:cNvCxnSpPr>
            <a:stCxn id="1376" idx="3"/>
            <a:endCxn id="1381" idx="1"/>
          </p:cNvCxnSpPr>
          <p:nvPr/>
        </p:nvCxnSpPr>
        <p:spPr>
          <a:xfrm flipV="1">
            <a:off x="5111280" y="141696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6" name="AutoShape 103"/>
          <p:cNvCxnSpPr>
            <a:stCxn id="1376" idx="3"/>
            <a:endCxn id="1392" idx="1"/>
          </p:cNvCxnSpPr>
          <p:nvPr/>
        </p:nvCxnSpPr>
        <p:spPr>
          <a:xfrm>
            <a:off x="5111280" y="169992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417" name="Group 104"/>
          <p:cNvGrpSpPr/>
          <p:nvPr/>
        </p:nvGrpSpPr>
        <p:grpSpPr>
          <a:xfrm>
            <a:off x="5425200" y="2695680"/>
            <a:ext cx="2050920" cy="364680"/>
            <a:chOff x="5425200" y="2695680"/>
            <a:chExt cx="2050920" cy="364680"/>
          </a:xfrm>
        </p:grpSpPr>
        <p:sp>
          <p:nvSpPr>
            <p:cNvPr id="1418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9" name="Group 106"/>
            <p:cNvGrpSpPr/>
            <p:nvPr/>
          </p:nvGrpSpPr>
          <p:grpSpPr>
            <a:xfrm>
              <a:off x="5425200" y="2746800"/>
              <a:ext cx="105120" cy="288720"/>
              <a:chOff x="5425200" y="2746800"/>
              <a:chExt cx="105120" cy="288720"/>
            </a:xfrm>
          </p:grpSpPr>
          <p:sp>
            <p:nvSpPr>
              <p:cNvPr id="1420" name="AutoShape 107"/>
              <p:cNvSpPr/>
              <p:nvPr/>
            </p:nvSpPr>
            <p:spPr>
              <a:xfrm flipV="1" rot="21333000">
                <a:off x="5436000" y="27493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AutoShape 108"/>
              <p:cNvSpPr/>
              <p:nvPr/>
            </p:nvSpPr>
            <p:spPr>
              <a:xfrm flipV="1" rot="21333000">
                <a:off x="5440680" y="27709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AutoShape 109"/>
              <p:cNvSpPr/>
              <p:nvPr/>
            </p:nvSpPr>
            <p:spPr>
              <a:xfrm flipV="1" rot="21333000">
                <a:off x="5438160" y="28015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1424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utoShape 112"/>
              <p:cNvSpPr/>
              <p:nvPr/>
            </p:nvSpPr>
            <p:spPr>
              <a:xfrm flipH="1" flipV="1" rot="267000">
                <a:off x="7401600" y="276804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utoShape 113"/>
              <p:cNvSpPr/>
              <p:nvPr/>
            </p:nvSpPr>
            <p:spPr>
              <a:xfrm flipH="1" flipV="1" rot="267000">
                <a:off x="7425000" y="280152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7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76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8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1376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3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832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4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73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诗人真是看到芙蓉芳草才想到“所思在远道”的吗？如果不是，诗人为什么要这样写？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1916280"/>
            <a:ext cx="4608360" cy="46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“所思”是时时刻刻在他心头的，“涉江采芙蓉”也是为了她，如果诗首就开门见山地把她表出，诗就平淡无味了。这句话是全诗发展的顶点，顶点同时也是转折点，一方面替上文的发展暂时作一结束，一方面为下文的发展作一伏线，所以照例是要摆在中间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252360" y="2133720"/>
            <a:ext cx="3297240" cy="4871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659280" y="-89640"/>
            <a:ext cx="57636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宋体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826560" y="3141720"/>
            <a:ext cx="48596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770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５、五、六句的“还顾”、“漫浩浩”具有怎样的表达作用？</a:t>
            </a:r>
            <a:r>
              <a:rPr b="0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06064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顾”一词，动作性和画面感很强，可以清晰地表现了主人公孤独、忧愁、怅惘的形象和心情。“漫浩浩”一词是写主人公与环顾所见“旧乡”的距离，给人以路途绵延无尽的感觉。这两个词含蓄地传达了主人公极度痛苦的心情，可是，这两句并没有直接点明主人公的痛苦，这样就给读者留下了很大的想象空间，具有含蓄不尽的艺术效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6948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６、最后两句除了表达主人公黯然痛苦的心情，还能体会到什么？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628640"/>
            <a:ext cx="7238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能让人深切地感受到两个彼此相爱的人的真挚笃厚的感情。因爱之深才思之深，因爱之长久才有“终老”之“忧伤”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284640"/>
            <a:ext cx="6659640" cy="936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213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试对这首诗的艺术特点加以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4508640"/>
            <a:ext cx="6840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隶书"/>
                <a:ea typeface="华文隶书"/>
              </a:rPr>
              <a:t>一是意境高洁、清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隶书"/>
                <a:ea typeface="华文隶书"/>
              </a:rPr>
              <a:t>二是含蓄不尽，余味悠长。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Verdana"/>
                <a:ea typeface="方正舒体"/>
              </a:rPr>
              <a:t>问题探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147080" cy="50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Verdana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336600"/>
                </a:solidFill>
                <a:latin typeface="Verdana"/>
                <a:ea typeface="华文新魏"/>
              </a:rPr>
              <a:t>关于</a:t>
            </a:r>
            <a:r>
              <a:rPr b="1" lang="en-US" sz="3600" spc="-1" strike="noStrike">
                <a:solidFill>
                  <a:srgbClr val="336600"/>
                </a:solidFill>
                <a:latin typeface="Verdana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336600"/>
                </a:solidFill>
                <a:latin typeface="Verdana"/>
                <a:ea typeface="华文新魏"/>
              </a:rPr>
              <a:t>涉江采芙蓉</a:t>
            </a:r>
            <a:r>
              <a:rPr b="1" lang="en-US" sz="3600" spc="-1" strike="noStrike">
                <a:solidFill>
                  <a:srgbClr val="336600"/>
                </a:solidFill>
                <a:latin typeface="Verdana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336600"/>
                </a:solidFill>
                <a:latin typeface="Verdana"/>
                <a:ea typeface="华文新魏"/>
              </a:rPr>
              <a:t>，有人认为抒情主人公是男性，“涉江”者和“环顾”者都是男子，也有人认为抒情主人公是女性，“涉江”者是女子，“还顾”者则是“所思”的男子。你怎么看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2556000" cy="2924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zmj</cp:lastModifiedBy>
  <dcterms:modified xsi:type="dcterms:W3CDTF">2010-01-03T09:20:31Z</dcterms:modified>
  <cp:revision>19</cp:revision>
  <dc:subject/>
  <dc:title>幻灯片 1</dc:title>
</cp:coreProperties>
</file>