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26.png" ContentType="image/png"/>
  <Override PartName="/ppt/media/image3.gif" ContentType="image/gif"/>
  <Override PartName="/ppt/media/image33.gif" ContentType="image/gif"/>
  <Override PartName="/ppt/media/image17.jpeg" ContentType="image/jpeg"/>
  <Override PartName="/ppt/media/image15.wmf" ContentType="image/x-wmf"/>
  <Override PartName="/ppt/media/image19.gif" ContentType="image/gif"/>
  <Override PartName="/ppt/media/image14.jpeg" ContentType="image/jpeg"/>
  <Override PartName="/ppt/media/image18.gif" ContentType="image/gif"/>
  <Override PartName="/ppt/media/image13.jpeg" ContentType="image/jpeg"/>
  <Override PartName="/ppt/media/image12.wmf" ContentType="image/x-wmf"/>
  <Override PartName="/ppt/media/image8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29.gif" ContentType="image/gif"/>
  <Override PartName="/ppt/media/image30.gif" ContentType="image/gif"/>
  <Override PartName="/ppt/media/image7.jpeg" ContentType="image/jpeg"/>
  <Override PartName="/ppt/media/image5.gif" ContentType="image/gif"/>
  <Override PartName="/ppt/media/image35.png" ContentType="image/png"/>
  <Override PartName="/ppt/media/hammer.wav" ContentType="audio/x-wav"/>
  <Override PartName="/ppt/media/CHIMES.WAV" ContentType="audio/x-wav"/>
  <Override PartName="/ppt/media/image37.jpeg" ContentType="image/jpeg"/>
  <Override PartName="/ppt/media/click.wav" ContentType="audio/x-wav"/>
  <Override PartName="/ppt/media/type.wav" ContentType="audio/x-wav"/>
  <Override PartName="/ppt/media/image38.gif" ContentType="image/gif"/>
  <Override PartName="/ppt/media/image9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2.gif" ContentType="image/gif"/>
  <Override PartName="/ppt/media/image2.gif" ContentType="image/gif"/>
  <Override PartName="/ppt/media/image32.gif" ContentType="image/gif"/>
  <Override PartName="/ppt/media/image25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gif" ContentType="image/gif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B3-D92F-4073-83BB-036909B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EE9-A584-4417-8C35-E26A5831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C58-EFAA-4633-8C37-195850A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676-5894-4E00-97A4-3D0A7CCF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E8A-27B5-4817-89C3-688E54F9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BB8-463E-4908-AFED-F7FD354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AA8-082F-48DF-8F03-1734F90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BBB-22D2-4066-B862-9BD0BCA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60D-66E8-41FE-8BC7-028DACD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633-1365-4DA9-B962-35BBA7A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28D-F668-47FD-97D2-30D22493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D26-4F25-473F-AAD6-473B07A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B7CA-CB36-4356-BFF5-34648358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-1,5,&#24187;&#28783;&#29255; 5" TargetMode="External"/><Relationship Id="rId3" Type="http://schemas.openxmlformats.org/officeDocument/2006/relationships/hyperlink" Target="257,6,&#24187;&#28783;&#29255; 6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25-2&#38472;&#22826;&#19992;&#19982;&#21451;&#26399;.WAV" TargetMode="Externa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audio" Target="../media/hammer.wav"/><Relationship Id="rId7" Type="http://schemas.openxmlformats.org/officeDocument/2006/relationships/audio" Target="../media/click.wav"/><Relationship Id="rId8" Type="http://schemas.openxmlformats.org/officeDocument/2006/relationships/audio" Target="../media/hammer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-1,5,&#24187;&#28783;&#29255; 5" TargetMode="External"/><Relationship Id="rId3" Type="http://schemas.openxmlformats.org/officeDocument/2006/relationships/hyperlink" Target="-1,3,&#24187;&#28783;&#29255; 3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887400" y="679320"/>
            <a:ext cx="7056360" cy="2049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5-1"/>
          <p:cNvPicPr/>
          <p:nvPr/>
        </p:nvPicPr>
        <p:blipFill>
          <a:blip r:embed="rId2"/>
          <a:stretch/>
        </p:blipFill>
        <p:spPr>
          <a:xfrm>
            <a:off x="2928960" y="2571840"/>
            <a:ext cx="1800360" cy="72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25-2"/>
          <p:cNvPicPr/>
          <p:nvPr/>
        </p:nvPicPr>
        <p:blipFill>
          <a:blip r:embed="rId3"/>
          <a:stretch/>
        </p:blipFill>
        <p:spPr>
          <a:xfrm>
            <a:off x="2286000" y="3500280"/>
            <a:ext cx="46432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642960" y="50734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当易手游站             教师：当易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228600"/>
            <a:ext cx="914400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谢太傅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寒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内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，与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儿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讲论文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俄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雪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，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欣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曰：“白雪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纷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何所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兄子胡儿曰：“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撒盐空中差可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”兄女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/>
              </a:rPr>
              <a:t>未若柳絮因风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”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大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乐。即公大兄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奕女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左将军王凝之妻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81080" y="762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寒冷的雪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657600" y="762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家庭聚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9528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家中年轻一代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不久，一会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67652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高兴的样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1500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纷纷扬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77724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83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差不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7913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相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049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比不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457200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高兴地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457200"/>
            <a:ext cx="2514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内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讲论文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俄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欣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何所似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差可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未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52480" y="533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09680" y="533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用诗的形式来叙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124080" y="1295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家庭聚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743200" y="2133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讲解诗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3200" y="2895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久，一会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90920" y="4572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像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743200" y="3809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兴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66688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差不多可以相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124080" y="6216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比不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038280" y="2209680"/>
            <a:ext cx="1826280" cy="3886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华文新魏"/>
              </a:rPr>
              <a:t>抢答释词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62120" y="1371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一个寒冷的雪天，谢太傅把家人聚会在一起，跟子侄辈的人谈诗论文。忽然间，雪下得紧了，太傅高兴地说：“这纷纷扬扬的大雪像什么呢？”他哥哥的长子胡儿说；“跟把盐撒在空中差不多。”他哥哥的女儿道韫说：“不如比作风把柳絮吹得满天飞舞。”太傅高兴得笑了起来。道韫是太傅大哥谢无奕的女儿、左将军王凝之的妻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3808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翻译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L00393_"/>
          <p:cNvPicPr/>
          <p:nvPr/>
        </p:nvPicPr>
        <p:blipFill>
          <a:blip r:embed="rId2"/>
          <a:stretch/>
        </p:blipFill>
        <p:spPr>
          <a:xfrm>
            <a:off x="7772400" y="6095880"/>
            <a:ext cx="3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39720" y="83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质疑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62120" y="190512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请同学们按学习小组进行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合作探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互问互答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各小组分别提出课文有关的疑难问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考考对方。看哪一小组能考住对方，而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被对方考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214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你认为“公大笑乐”该如何理解？谢太傅到底认为谁回答得最好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286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你认为把雪比作盐，比作柳絮，到底哪一个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SO01380_"/>
          <p:cNvPicPr/>
          <p:nvPr/>
        </p:nvPicPr>
        <p:blipFill>
          <a:blip r:embed="rId2"/>
          <a:stretch/>
        </p:blipFill>
        <p:spPr>
          <a:xfrm>
            <a:off x="8825040" y="6502320"/>
            <a:ext cx="318960" cy="355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214200" y="144180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谢太傅对以上两个答案没有给出明确的答案，只是“大笑而已”，十分耐人寻味，营造了一种融洽、欢快、轻松、温馨的家庭气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85840" y="33876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示例（</a:t>
            </a:r>
            <a:r>
              <a:rPr b="1" lang="en-US" sz="2400" spc="-1" strike="noStrike">
                <a:solidFill>
                  <a:srgbClr val="3333cc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）“撒盐”一喻好：雪的颜色和下落之态都跟盐比较接近，而柳絮呈灰白色，在风中往往上扬，甚至飞得很高很远，跟雪的飘舞方式不同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比喻形似。</a:t>
            </a: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写物必须先求得形似而达于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神似，形似</a:t>
            </a: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是基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）“柳絮”一喻好，它给人以春天即将到来的感觉，有深刻的意蕴，而“撒盐”一喻所缺的恰恰是意蕴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比喻神似。</a:t>
            </a:r>
            <a:r>
              <a:rPr b="1" lang="zh-CN" sz="2400" spc="-1" strike="noStrike">
                <a:solidFill>
                  <a:srgbClr val="3333cc"/>
                </a:solidFill>
                <a:latin typeface="Calibri"/>
              </a:rPr>
              <a:t>好的诗句要有意象，意象是物象和意蕴的统一，“柳絮”大有深意。还可以用“鹅毛”、“蒲公英的孩子”等比喻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214200" y="56437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咏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交代了谢道韫的身份，有什么用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60735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Calibri"/>
              </a:rPr>
              <a:t>表达一中赞扬和敬佩之情，暗示谢太傅更赞赏谢道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M_001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7391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980880" y="1981080"/>
            <a:ext cx="21913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ccff"/>
                </a:solidFill>
                <a:latin typeface="Monotype Corsiva"/>
                <a:ea typeface="隶书"/>
              </a:rPr>
              <a:t>拓展延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228600" y="19810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你能否再举几例古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吟咏白雪时用的比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的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R_038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990720" y="167652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钱强在放学回家的路上与同学打架，钱强的好朋友李辉看到后立即上去帮各式各样钱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刘丰在体育课上扭伤了脚，林健送刘丰去医务室治疗，又回教室将老师布置的语文作业题抄下来，给刘丰送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郑伟有道题不会做，想拿马捷的作业本抄袭。马捷不同意，而是给他讲解做题的方法，要他自己去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pic004"/>
          <p:cNvPicPr/>
          <p:nvPr/>
        </p:nvPicPr>
        <p:blipFill>
          <a:blip r:embed="rId2"/>
          <a:stretch/>
        </p:blipFill>
        <p:spPr>
          <a:xfrm>
            <a:off x="769608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915520" y="1905120"/>
            <a:ext cx="109476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14400" y="1920960"/>
            <a:ext cx="822816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白雪却嫌春色晚，故穿庭树作飞花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韩愈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春雪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忽如一夜春风来，千树万树梨花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岑参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白雪歌送武判官归京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燕山雪花大如席，片片吹落轩辕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北风行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六出飞花入户时，坐看青竹变琼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高群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onotype Corsiva"/>
              </a:rPr>
              <a:t>对雪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_8"/>
          <p:cNvPicPr/>
          <p:nvPr/>
        </p:nvPicPr>
        <p:blipFill>
          <a:blip r:embed="rId1"/>
          <a:stretch/>
        </p:blipFill>
        <p:spPr>
          <a:xfrm>
            <a:off x="5562720" y="762120"/>
            <a:ext cx="2666880" cy="1922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187280" y="2209680"/>
            <a:ext cx="67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友情是两颗心之间的碰撞，而不是一颗心对另一颗心的敲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－－鲁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FR_07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_8"/>
          <p:cNvPicPr/>
          <p:nvPr/>
        </p:nvPicPr>
        <p:blipFill>
          <a:blip r:embed="rId3"/>
          <a:stretch/>
        </p:blipFill>
        <p:spPr>
          <a:xfrm>
            <a:off x="5562720" y="762120"/>
            <a:ext cx="2666880" cy="1922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1676520" y="22096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730600" y="1634760"/>
            <a:ext cx="5461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219320" y="2301840"/>
            <a:ext cx="870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生活中不是没有美，而是缺少发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美的的眼睛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罗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22440" y="388620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在你的眼中怎样的比喻才是好的比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219320" y="6858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运用比喻，想像写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33" name="Group 4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7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137" name="Rectangle 8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9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Picture 14" descr="123"/>
          <p:cNvPicPr/>
          <p:nvPr/>
        </p:nvPicPr>
        <p:blipFill>
          <a:blip r:embed="rId2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6"/>
          <p:cNvSpPr/>
          <p:nvPr/>
        </p:nvSpPr>
        <p:spPr>
          <a:xfrm>
            <a:off x="914400" y="2514600"/>
            <a:ext cx="752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归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平时写比喻句时最基本的要做到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“形似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然后不断追求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“神似”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的境界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图片3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25-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09440"/>
            <a:ext cx="4321080" cy="10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25"/>
          <p:cNvPicPr/>
          <p:nvPr/>
        </p:nvPicPr>
        <p:blipFill>
          <a:blip r:embed="rId4"/>
          <a:stretch/>
        </p:blipFill>
        <p:spPr>
          <a:xfrm>
            <a:off x="7524720" y="6450120"/>
            <a:ext cx="161928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779400" y="215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4200" y="163728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一、知识与技能：了解有关《世说新语》的文学常识；积累常见文言词语，能借助注释和工具书理解课文的基本见容。（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重点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214200" y="26431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过程与方法：反复朗读，背诵课文；提高阅读浅易文言文的能力，学习课文摹景状物的方法。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285840" y="43578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情感态度与价值观：深入体会古人家庭生活的雅趣，学习古代少年的智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初读课文，整体感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51200" y="4290840"/>
            <a:ext cx="5897520" cy="13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sh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尊君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fǒ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161520" y="1628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2b2b2"/>
                </a:solidFill>
                <a:latin typeface="Arial"/>
              </a:rPr>
              <a:t>陈太丘与友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80880" y="4572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陈太丘与友期行，期日中，过中不至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03480" y="2001960"/>
            <a:ext cx="2000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895480" y="1981080"/>
            <a:ext cx="259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午时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04920" y="4038480"/>
            <a:ext cx="84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陈太丘跟一位朋友约定一同出门，约好正午时碰头。正午已过，不见（那朋友）来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685800" y="838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太丘舍去，去后乃至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301400" y="2001960"/>
            <a:ext cx="546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024000" y="1986120"/>
            <a:ext cx="109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舍弃，放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离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038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太丘不再等候就走了。（太丘）走后，（那人）才来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228600" y="5335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元方时年七岁，门外戏。客问元方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377720" y="2117880"/>
            <a:ext cx="54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160800" y="2081160"/>
            <a:ext cx="109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时，那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嬉戏，玩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4038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太丘的长子陈元方那年七岁，当时正在门外玩。那人便问元方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04920" y="533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不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答曰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待君久不至，已去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30000" y="1925640"/>
            <a:ext cx="546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尊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君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818960" y="1889280"/>
            <a:ext cx="2046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别人父亲的一种尊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“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彼此尊称，相当于“您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437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“你爸爸在家吗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?”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元方）答道：“等您好久都不来，（他）已经走了。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PA0003"/>
          <p:cNvPicPr/>
          <p:nvPr/>
        </p:nvPicPr>
        <p:blipFill>
          <a:blip r:embed="rId2"/>
          <a:srcRect l="16675" t="16688" r="16675" b="16688"/>
          <a:stretch/>
        </p:blipFill>
        <p:spPr>
          <a:xfrm>
            <a:off x="7848720" y="624852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14200" y="22860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古人称呼上的原则：称人时尊重对方，对外人称呼自己人时谦逊有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24880" y="3200400"/>
            <a:ext cx="10342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称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亲属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23880" y="1905120"/>
            <a:ext cx="533520" cy="3276360"/>
          </a:xfrm>
          <a:custGeom>
            <a:avLst/>
            <a:gdLst>
              <a:gd name="textAreaLeft" fmla="*/ 340920 w 533520"/>
              <a:gd name="textAreaRight" fmla="*/ 533880 w 53352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13372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别人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4191120" y="1523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3962520" y="16765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368960" y="1523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652360" y="1447920"/>
            <a:ext cx="109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尊君，令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令堂，令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4368960" y="228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72328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令郎，令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36896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5921640" y="3017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尊夫人，贤内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540160" y="4572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3962520" y="40384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44528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5855040" y="388620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家父，家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445280" y="4572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856480" y="4648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犬子，小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4445280" y="5410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932800" y="5486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拙荆，内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6" descr="PA079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72400" y="58672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806120" y="380880"/>
            <a:ext cx="5477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友人便怒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非人哉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与人期行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相委而去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088640" y="1981080"/>
            <a:ext cx="546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571760" y="2071800"/>
            <a:ext cx="7358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语气词，表感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表示行为作用的对象，可指代一、二、三人称。此处指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舍弃，丢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那人便发起脾气来，骂道：“真不是东西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跟别人约好一块儿走，却把别人丢下，自个儿走了。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15228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元方曰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君与家君期日中。日中不至，则是无信；对子骂父，则是无礼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98560" y="23828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15800" y="2382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04920" y="3657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元方说：“您跟我爸爸约好正午一同出发，（您）正午不到，就是不讲信用；对（人家）儿子骂（他的）父亲，就是失礼。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228600" y="533520"/>
            <a:ext cx="9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友人惭，下车引之，元方入门不顾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44200" y="1697040"/>
            <a:ext cx="546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013120" y="1676520"/>
            <a:ext cx="729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惭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头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365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译文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那人感到惭愧，便从车里下来，想跟元方握手（表示友好），元方连头也不回地走进了自家的大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00040" y="1519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52280" y="765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陈太丘跟一位朋友约定一同出门，约好正午时碰头。正午已过，不见那朋友来，太丘不再等候就走了。太丘走后，那人才来。太丘的长子陈方元那年七岁，当时正在门外玩。那人便问元方：“你爸爸在家吗？”元方答道：“等您好久都不来，他已经走了。”那人便发起脾气来，骂道：“真不是东西！跟别人约好一块儿走，却把别人丢下，自个儿走了。”元方说：“您跟我爸爸约好正午一同出发，您正午不到，就是不讲信用；对人家的儿子骂他的父亲，就是失礼。”那人感到惭愧，便从车里下来，跟元方握手，元方连头也不回地走进了自家的大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瑞士雪景"/>
          <p:cNvPicPr/>
          <p:nvPr/>
        </p:nvPicPr>
        <p:blipFill>
          <a:blip r:embed="rId1"/>
          <a:stretch/>
        </p:blipFill>
        <p:spPr>
          <a:xfrm>
            <a:off x="0" y="-228600"/>
            <a:ext cx="9990000" cy="7337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774800" y="175248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343400" y="762120"/>
            <a:ext cx="4495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没枝没叶没人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夜北风银花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花儿随风漫天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天地山河全变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 rot="20281800">
            <a:off x="914400" y="914400"/>
            <a:ext cx="2529000" cy="51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99ccff"/>
                  </a:solidFill>
                  <a:prstDash val="sysDot"/>
                  <a:round/>
                </a:ln>
                <a:solidFill>
                  <a:srgbClr val="ff6600"/>
                </a:solidFill>
                <a:latin typeface="宋体"/>
              </a:rPr>
              <a:t>想一想</a:t>
            </a:r>
            <a:endParaRPr b="1" lang="en-US" sz="5400" spc="1" strike="noStrike">
              <a:ln w="9360">
                <a:solidFill>
                  <a:srgbClr val="99ccff"/>
                </a:solidFill>
                <a:prstDash val="sysDot"/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211" name="Picture 3" descr="170"/>
          <p:cNvPicPr/>
          <p:nvPr/>
        </p:nvPicPr>
        <p:blipFill>
          <a:blip r:embed="rId1"/>
          <a:stretch/>
        </p:blipFill>
        <p:spPr>
          <a:xfrm>
            <a:off x="6705720" y="380880"/>
            <a:ext cx="1393560" cy="1371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4034880" y="2057400"/>
            <a:ext cx="1745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元方义正辞严地指出了父亲朋友的哪两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错误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067120" y="3236760"/>
            <a:ext cx="25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31c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b31cf"/>
                </a:solidFill>
                <a:latin typeface="Times New Roman"/>
              </a:rPr>
              <a:t>无信”     “无礼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71680" y="38577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元方是一个怎样的孩子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14280" y="4572000"/>
            <a:ext cx="58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31cf"/>
                </a:solidFill>
                <a:latin typeface="Times New Roman"/>
              </a:rPr>
              <a:t>聪颖        机智       懂得为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8" descr="xing xing "/>
          <p:cNvPicPr/>
          <p:nvPr/>
        </p:nvPicPr>
        <p:blipFill>
          <a:blip r:embed="rId2"/>
          <a:stretch/>
        </p:blipFill>
        <p:spPr>
          <a:xfrm>
            <a:off x="8458200" y="60199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xing xing "/>
          <p:cNvPicPr/>
          <p:nvPr/>
        </p:nvPicPr>
        <p:blipFill>
          <a:blip r:embed="rId3"/>
          <a:stretch/>
        </p:blipFill>
        <p:spPr>
          <a:xfrm>
            <a:off x="7467480" y="502920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xing xing "/>
          <p:cNvPicPr/>
          <p:nvPr/>
        </p:nvPicPr>
        <p:blipFill>
          <a:blip r:embed="rId4"/>
          <a:stretch/>
        </p:blipFill>
        <p:spPr>
          <a:xfrm>
            <a:off x="7620120" y="571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xing xing "/>
          <p:cNvPicPr/>
          <p:nvPr/>
        </p:nvPicPr>
        <p:blipFill>
          <a:blip r:embed="rId5"/>
          <a:stretch/>
        </p:blipFill>
        <p:spPr>
          <a:xfrm>
            <a:off x="8458200" y="46483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3"/>
          <p:cNvSpPr/>
          <p:nvPr/>
        </p:nvSpPr>
        <p:spPr>
          <a:xfrm>
            <a:off x="785880" y="52862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故事中，我们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90480" y="2271600"/>
            <a:ext cx="816768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元方“入门不顾”是否失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谈谈你的看法，写到日记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762120" y="609480"/>
            <a:ext cx="4876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7343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99cc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海阔天空</a:t>
            </a:r>
            <a:endParaRPr b="0" i="1" lang="en-US" sz="6000" spc="1" strike="noStrike">
              <a:ln w="9360">
                <a:solidFill>
                  <a:srgbClr val="ff99cc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3" name="Picture 4" descr="gif002"/>
          <p:cNvPicPr/>
          <p:nvPr/>
        </p:nvPicPr>
        <p:blipFill>
          <a:blip r:embed="rId1"/>
          <a:stretch/>
        </p:blipFill>
        <p:spPr>
          <a:xfrm>
            <a:off x="5410080" y="5486400"/>
            <a:ext cx="15750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RX_009"/>
          <p:cNvPicPr/>
          <p:nvPr/>
        </p:nvPicPr>
        <p:blipFill>
          <a:blip r:embed="rId2"/>
          <a:stretch/>
        </p:blipFill>
        <p:spPr>
          <a:xfrm>
            <a:off x="7696080" y="4952880"/>
            <a:ext cx="839880" cy="156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line08"/>
          <p:cNvPicPr/>
          <p:nvPr/>
        </p:nvPicPr>
        <p:blipFill>
          <a:blip r:embed="rId3"/>
          <a:stretch/>
        </p:blipFill>
        <p:spPr>
          <a:xfrm>
            <a:off x="3581280" y="6548400"/>
            <a:ext cx="5410440" cy="745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7"/>
          <p:cNvSpPr txBox="1"/>
          <p:nvPr/>
        </p:nvSpPr>
        <p:spPr>
          <a:xfrm rot="10792800">
            <a:off x="837720" y="1523160"/>
            <a:ext cx="4724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33333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ffff"/>
                  </a:solidFill>
                  <a:prstDash val="sysDot"/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空天阔海</a:t>
            </a:r>
            <a:endParaRPr b="0" lang="en-US" sz="4800" spc="1" strike="noStrike">
              <a:ln w="9360">
                <a:solidFill>
                  <a:srgbClr val="00ffff"/>
                </a:solidFill>
                <a:prstDash val="sysDot"/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hecker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0" y="609480"/>
            <a:ext cx="914400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巩固训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谢太傅寒雪日内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儿女讲论文义。”这一句总述了谢太傅家人咏雪的背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用原文填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地点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人物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事件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解释下列加横线的词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俄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                 ）（              ）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撒盐空中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（                 ）（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未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柳絮因风起（         ）       与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儿女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讲论文义（              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对于谢太傅的题目，兄子与兄女分别给出什么答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翻译句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撒盐空中差可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未若柳絮因风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193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BD14866_"/>
          <p:cNvPicPr/>
          <p:nvPr/>
        </p:nvPicPr>
        <p:blipFill>
          <a:blip r:embed="rId2"/>
          <a:stretch/>
        </p:blipFill>
        <p:spPr>
          <a:xfrm>
            <a:off x="8229600" y="64008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838080" y="20574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04920" y="137160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</a:rPr>
              <a:t>补上句中省略的人物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陈太丘与友期行，期日中，（    ）过中不至，太丘舍（   ）去，（          ）去后（  ）乃至。元方时年七岁，门外戏。客问元方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尊君在不？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答曰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        ）待君久不至，已去。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4"/>
          <p:cNvPicPr/>
          <p:nvPr/>
        </p:nvPicPr>
        <p:blipFill>
          <a:blip r:embed="rId1"/>
          <a:stretch/>
        </p:blipFill>
        <p:spPr>
          <a:xfrm>
            <a:off x="75438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80880" y="15238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</a:rPr>
              <a:t>补上句中省略的人物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陈太丘与友期行，期日中，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过中不至，太丘舍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去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陈太丘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去后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友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乃至。元方时年七岁，门外戏。客问元方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尊君在不？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元方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答曰：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家君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）待君久不至，已去。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09480" y="45720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4"/>
          <p:cNvPicPr/>
          <p:nvPr/>
        </p:nvPicPr>
        <p:blipFill>
          <a:blip r:embed="rId1"/>
          <a:stretch/>
        </p:blipFill>
        <p:spPr>
          <a:xfrm>
            <a:off x="75438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相信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39" name="Group 4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7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43" name="Rectangle 8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9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Rectangle 13"/>
          <p:cNvSpPr/>
          <p:nvPr/>
        </p:nvSpPr>
        <p:spPr>
          <a:xfrm>
            <a:off x="533520" y="1981080"/>
            <a:ext cx="8305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4" descr="123"/>
          <p:cNvPicPr/>
          <p:nvPr/>
        </p:nvPicPr>
        <p:blipFill>
          <a:blip r:embed="rId2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-1143000" y="1600200"/>
            <a:ext cx="179229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英语中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母，请你从除下面例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以外的剩下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大写字母中任选两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发挥想象，仿写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句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一座金字塔，是进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两个联结的心，是友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未满的月牙儿，是缺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18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619280" y="2708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在理解的基础上背诵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547640" y="141300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翻译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619280" y="400536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在日常生活中，我们应该怎样营造一个和睦、轻松、融洽的家庭气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22860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咏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2133720" y="1600200"/>
            <a:ext cx="914400" cy="2743200"/>
          </a:xfrm>
          <a:custGeom>
            <a:avLst/>
            <a:gdLst>
              <a:gd name="textAreaLeft" fmla="*/ 584280 w 914400"/>
              <a:gd name="textAreaRight" fmla="*/ 914760 w 9144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048120" y="1143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撒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905120" y="3733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600200" y="2666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91440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何所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97180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柳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80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352680" y="24382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5562720" y="220968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大笑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2"/>
          <p:cNvSpPr/>
          <p:nvPr/>
        </p:nvSpPr>
        <p:spPr>
          <a:xfrm>
            <a:off x="7772400" y="1143000"/>
            <a:ext cx="762120" cy="3581280"/>
          </a:xfrm>
          <a:custGeom>
            <a:avLst/>
            <a:gdLst>
              <a:gd name="textAreaLeft" fmla="*/ 0 w 762120"/>
              <a:gd name="textAreaRight" fmla="*/ 275040 w 7621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701028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70102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0866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融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8534520" y="236232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亲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f321"/>
          <p:cNvPicPr/>
          <p:nvPr/>
        </p:nvPicPr>
        <p:blipFill>
          <a:blip r:embed="rId2"/>
          <a:stretch/>
        </p:blipFill>
        <p:spPr>
          <a:xfrm>
            <a:off x="7924680" y="6248520"/>
            <a:ext cx="121932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8"/>
          <p:cNvSpPr/>
          <p:nvPr/>
        </p:nvSpPr>
        <p:spPr>
          <a:xfrm>
            <a:off x="6324480" y="1752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4008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4771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33920" y="121932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差可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886200" y="426708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未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5105520" y="1600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4"/>
          <p:cNvSpPr/>
          <p:nvPr/>
        </p:nvSpPr>
        <p:spPr>
          <a:xfrm flipV="1">
            <a:off x="5181480" y="35809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5"/>
          <p:cNvSpPr/>
          <p:nvPr/>
        </p:nvSpPr>
        <p:spPr>
          <a:xfrm flipV="1">
            <a:off x="6019920" y="1447560"/>
            <a:ext cx="990360" cy="1447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6"/>
          <p:cNvSpPr/>
          <p:nvPr/>
        </p:nvSpPr>
        <p:spPr>
          <a:xfrm>
            <a:off x="60199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6019920" y="2895480"/>
            <a:ext cx="990360" cy="1524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8"/>
          <p:cNvSpPr/>
          <p:nvPr/>
        </p:nvSpPr>
        <p:spPr>
          <a:xfrm flipV="1">
            <a:off x="46483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46483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4419720" y="24382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 flipV="1">
            <a:off x="35812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3581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2"/>
          <p:cNvSpPr/>
          <p:nvPr/>
        </p:nvSpPr>
        <p:spPr>
          <a:xfrm>
            <a:off x="500040" y="428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板书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28728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文言基础知识积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93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一、生难字识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傅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ù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   骤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hòu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   絮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ù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  差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ā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  撒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ǎ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214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二、通假字识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尊君在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不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？         不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)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</a:rPr>
              <a:t>否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音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ǒu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；义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</a:rPr>
              <a:t>表否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14200" y="351180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三、古今异义词识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儿女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讲论文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古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泛指小辈，抱括侄儿、侄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儿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今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专指子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285920" y="4786200"/>
            <a:ext cx="90360" cy="1000080"/>
          </a:xfrm>
          <a:custGeom>
            <a:avLst/>
            <a:gdLst>
              <a:gd name="textAreaLeft" fmla="*/ 57960 w 90360"/>
              <a:gd name="textAreaRight" fmla="*/ 90720 w 9036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85840" y="23652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四、多义词识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尊君在不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同“否”，表示否定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待君久不至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副词，表示否定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85840" y="366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未若柳絮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因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风起。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太丘舍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古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趁、乘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      古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因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今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因为开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           今义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928800" y="2857680"/>
            <a:ext cx="214200" cy="10713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2200 h 1071360"/>
              <a:gd name="textAreaBottom" fmla="*/ 101916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86"/>
                  <a:pt x="10800" y="3372"/>
                </a:cubicBezTo>
                <a:lnTo>
                  <a:pt x="10800" y="7428"/>
                </a:lnTo>
                <a:cubicBezTo>
                  <a:pt x="10800" y="9114"/>
                  <a:pt x="5400" y="10800"/>
                  <a:pt x="0" y="10800"/>
                </a:cubicBezTo>
                <a:cubicBezTo>
                  <a:pt x="5400" y="10800"/>
                  <a:pt x="10800" y="12486"/>
                  <a:pt x="10800" y="14172"/>
                </a:cubicBezTo>
                <a:lnTo>
                  <a:pt x="10800" y="18228"/>
                </a:lnTo>
                <a:cubicBezTo>
                  <a:pt x="10800" y="199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14200" y="433800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五、特殊句式识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、倒装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白雪纷纷何所似？（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疑问代词作宾语，宾语前置，“何所似”应作“所似何”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、省略句。（在文言文中一般易省略主语和宾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兄女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）即公大兄无奕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君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）日中不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152360" y="1038240"/>
            <a:ext cx="90720" cy="1000080"/>
          </a:xfrm>
          <a:custGeom>
            <a:avLst/>
            <a:gdLst>
              <a:gd name="textAreaLeft" fmla="*/ 57960 w 90720"/>
              <a:gd name="textAreaRight" fmla="*/ 91080 w 9072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5286240" y="1214280"/>
            <a:ext cx="90720" cy="1000440"/>
          </a:xfrm>
          <a:custGeom>
            <a:avLst/>
            <a:gdLst>
              <a:gd name="textAreaLeft" fmla="*/ 57960 w 90720"/>
              <a:gd name="textAreaRight" fmla="*/ 91080 w 90720"/>
              <a:gd name="textAreaTop" fmla="*/ 25920 h 1000440"/>
              <a:gd name="textAreaBottom" fmla="*/ 974520 h 100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2542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27"/>
          <p:cNvSpPr/>
          <p:nvPr/>
        </p:nvSpPr>
        <p:spPr>
          <a:xfrm>
            <a:off x="3276720" y="685800"/>
            <a:ext cx="263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咏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塞北的雪.wma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71680" y="3475080"/>
            <a:ext cx="82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咏”，歌咏、赞美。“咏雪”即歌咏白雪，标题概括了文章的主要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26"/>
          <p:cNvSpPr/>
          <p:nvPr/>
        </p:nvSpPr>
        <p:spPr>
          <a:xfrm>
            <a:off x="0" y="3049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刘义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3~44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南朝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学家。彭城人。宋宗室，袭封临川王，曾任南兖州刺史。爱好文学，招纳文士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xjfg01-pic07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38080" y="4572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世说新语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共八卷，分德行、言语、政事、文学等三十六门，反映当时士族的思想、生活等。篇幅短小，语言简练，辞意隽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à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永。鲁迅称其为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一部名士底（的）教科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《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咏雪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选自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言语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一门，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陈太丘与友期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选自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方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一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228600"/>
            <a:ext cx="914400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谢太傅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寒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内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，与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儿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讲论文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俄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雪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，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欣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曰：“白雪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纷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何所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兄子胡儿曰：“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撒盐空中差可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”兄女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/>
              </a:rPr>
              <a:t>未若柳絮因风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”公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大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乐。即公大兄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奕女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左将军王凝之妻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657600" y="7621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285920" y="100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143760" y="3500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858080" y="9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00076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143760" y="2214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5:48:25Z</dcterms:created>
  <dc:creator>语文备课大师【全免费】</dc:creator>
  <dc:description>语文备课大师【全免费】</dc:description>
  <dc:language>en-US</dc:language>
  <cp:lastModifiedBy>admin</cp:lastModifiedBy>
  <dcterms:modified xsi:type="dcterms:W3CDTF">2019-06-04T10:15:21Z</dcterms:modified>
  <cp:revision>69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