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.png" ContentType="image/png"/>
  <Override PartName="/ppt/media/image8.jpeg" ContentType="image/jpeg"/>
  <Override PartName="/ppt/media/image11.gif" ContentType="image/gif"/>
  <Override PartName="/ppt/media/image14.png" ContentType="image/png"/>
  <Override PartName="/ppt/media/image26.jpeg" ContentType="image/jpeg"/>
  <Override PartName="/ppt/media/image7.gif" ContentType="image/gif"/>
  <Override PartName="/ppt/media/image9.gif" ContentType="image/gif"/>
  <Override PartName="/ppt/media/image12.png" ContentType="image/png"/>
  <Override PartName="/ppt/media/image10.gif" ContentType="image/gif"/>
  <Override PartName="/ppt/media/image13.png" ContentType="image/png"/>
  <Override PartName="/ppt/media/cashreg.wav" ContentType="audio/x-wav"/>
  <Override PartName="/ppt/media/image27.jpeg" ContentType="image/jpeg"/>
  <Override PartName="/ppt/media/image28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gif" ContentType="image/gif"/>
  <Override PartName="/ppt/media/image15.png" ContentType="image/png"/>
  <Override PartName="/ppt/media/image6.gif" ContentType="image/gif"/>
  <Override PartName="/ppt/media/chimes.wav" ContentType="audio/x-wav"/>
  <Override PartName="/ppt/media/image16.png" ContentType="image/png"/>
  <Override PartName="/ppt/media/camera.wav" ContentType="audio/x-wav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332-193D-4E4C-802E-2D8C378280FE}" type="slidenum">
              <a:rPr b="0" lang="zh-CN" sz="1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导入，并激发学生的兴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11F-35FD-463D-96BD-16628CC1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73D-83BA-4360-8773-5118461A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CAD-5753-4CDA-B454-9B99AEB5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70D-969D-4A7D-ACA4-5DA97601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4291-9DE1-4F27-A0E2-3E81277A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F97-F9A8-41B1-B464-FBB9627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67CB-17A6-40BA-833E-1B9C725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BBB-485E-44F3-823D-D6547ED3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B69A-93DB-4621-AC59-1C7BBC34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7A1-ABF5-46AE-80A3-A26A208E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57F4-9E89-4A5D-B97E-E6BB590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9DF-9E9C-4E9D-8B3B-7670CCBB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EB5-A957-4A03-BE46-3932E83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EB21-DF8C-4937-93C8-E196CE1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07DE-5DE5-4CD5-9D94-7930271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125C-F02E-4094-B5C2-DC37445F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E8C1-6295-40A8-9A83-61BA6954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101-B14E-44A3-B0B2-FFB4D84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8AC-B939-4A73-B2F4-9A0AAF2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114-3AFB-48EA-8019-18B2D9E3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794-8EA7-4C74-84A5-09826039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357-8F06-480B-9485-E6E93B4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7E3-752B-40C5-9843-9D416B8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7F5-FB87-4737-B60D-D004C09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248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r>
              <a:rPr b="1" i="1" lang="zh-CN" sz="2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934320" y="4724280"/>
            <a:ext cx="2209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B7D6-909E-4597-9D3A-6CFDF5A4279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" Target="slide1.xml"/><Relationship Id="rId7" Type="http://schemas.openxmlformats.org/officeDocument/2006/relationships/image" Target="../media/image10.gif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0.gif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1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" Target="slide1.xml"/><Relationship Id="rId6" Type="http://schemas.openxmlformats.org/officeDocument/2006/relationships/image" Target="../media/image10.gif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10.gif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248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r>
              <a:rPr b="1" i="1" lang="zh-CN" sz="2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、四个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3505320"/>
          <a:ext cx="91440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0" y="836640"/>
          <a:ext cx="312408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6640"/>
                    <a:ext cx="3124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1844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99"/>
                </a:solidFill>
                <a:latin typeface="华文隶书"/>
                <a:ea typeface="华文隶书"/>
              </a:rPr>
              <a:t>18</a:t>
            </a:r>
            <a:r>
              <a:rPr b="1" lang="zh-CN" sz="8000" spc="-1" strike="noStrike">
                <a:solidFill>
                  <a:srgbClr val="cc0099"/>
                </a:solidFill>
                <a:latin typeface="华文隶书"/>
                <a:ea typeface="华文隶书"/>
              </a:rPr>
              <a:t>、</a:t>
            </a:r>
            <a:r>
              <a:rPr b="1" i="1" lang="zh-CN" sz="80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四</a:t>
            </a:r>
            <a:r>
              <a:rPr b="1" i="1" lang="zh-CN" sz="8000" spc="-1" strike="noStrike">
                <a:solidFill>
                  <a:srgbClr val="f2440e"/>
                </a:solidFill>
                <a:latin typeface="华文隶书"/>
                <a:ea typeface="华文隶书"/>
              </a:rPr>
              <a:t>个</a:t>
            </a:r>
            <a:r>
              <a:rPr b="1" i="1" lang="zh-CN" sz="8000" spc="-1" strike="noStrike">
                <a:solidFill>
                  <a:srgbClr val="cc0000"/>
                </a:solidFill>
                <a:latin typeface="华文隶书"/>
                <a:ea typeface="华文隶书"/>
              </a:rPr>
              <a:t>太</a:t>
            </a:r>
            <a:r>
              <a:rPr b="1" i="1" lang="zh-CN" sz="8000" spc="-1" strike="noStrike">
                <a:solidFill>
                  <a:srgbClr val="16168e"/>
                </a:solidFill>
                <a:latin typeface="华文隶书"/>
                <a:ea typeface="华文隶书"/>
              </a:rPr>
              <a:t>阳</a:t>
            </a:r>
            <a:br>
              <a:rPr sz="8000"/>
            </a:b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5486400"/>
            <a:ext cx="4950000" cy="59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09480" y="51055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68800" y="32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Times New Roman"/>
              </a:rPr>
              <a:t>点此播放视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0" y="236232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800600" y="380880"/>
          <a:ext cx="34005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3400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286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红红的太阳，照亮冬天。阳光温暖着小朋友冻僵的手和脸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908000" cy="2377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860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0" y="236232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800600" y="380880"/>
          <a:ext cx="34005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3400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2286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32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红红的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太阳，照亮冬天。阳光温暖着小朋友冻僵的手和脸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908000" cy="23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22860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236232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800600" y="380880"/>
          <a:ext cx="34005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3400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286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32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红红的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太阳，照亮冬天。阳光</a:t>
            </a:r>
            <a:r>
              <a:rPr b="1" lang="zh-CN" sz="32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温暖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着小朋友冻僵的手和脸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908000" cy="2377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22860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220968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0" y="304920"/>
          <a:ext cx="464832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46483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3809880" y="1066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春天，春天的太阳该画什么颜色呢？噢，画个彩色的。因为春天是个多彩的季节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79120" y="60199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0" y="510552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220968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0" y="304920"/>
          <a:ext cx="464832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46483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9880" y="1066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春天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，春天的太阳该画什么颜色呢？噢，画个彩色的。因为春天是个多彩的季节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79120" y="60199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0" y="510552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0" y="220968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0" y="304920"/>
          <a:ext cx="464832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46483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09880" y="1066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春天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，春天的太阳该画什么颜色呢？噢，画个彩色的。因为春天是个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多彩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的季节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9120" y="60199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0" y="5105520"/>
            <a:ext cx="4950000" cy="517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7772400" y="53341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个太阳第二课时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0" t="0" r="0" b="6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6094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我会读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2209680"/>
            <a:ext cx="6934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牵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挂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街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道   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伙伴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尝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甜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温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暖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冰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冻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脸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上   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该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为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季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0" t="0" r="0" b="6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5315" t="13915" r="54297" b="59413"/>
          <a:stretch/>
        </p:blipFill>
        <p:spPr>
          <a:xfrm>
            <a:off x="1219320" y="380880"/>
            <a:ext cx="7010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720" y="1660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东西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596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街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道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2480" y="1660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熟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6480" y="1660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小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伙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3840" y="3444840"/>
            <a:ext cx="9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尝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一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596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香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甜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248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温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暖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4960" y="344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冷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08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洗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5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应</a:t>
            </a: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0844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因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84960" y="5165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440e"/>
                </a:solidFill>
                <a:latin typeface="Times New Roman"/>
                <a:ea typeface="楷体_GB2312"/>
              </a:rPr>
              <a:t>季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71200" y="1111320"/>
            <a:ext cx="7530120" cy="642600"/>
            <a:chOff x="1771200" y="1111320"/>
            <a:chExt cx="7530120" cy="642600"/>
          </a:xfrm>
        </p:grpSpPr>
        <p:sp>
          <p:nvSpPr>
            <p:cNvPr id="121" name=""/>
            <p:cNvSpPr/>
            <p:nvPr/>
          </p:nvSpPr>
          <p:spPr>
            <a:xfrm>
              <a:off x="1771200" y="1111320"/>
              <a:ext cx="10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guà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53720" y="111132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jiē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47280" y="1111320"/>
              <a:ext cx="96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cc"/>
                  </a:solidFill>
                  <a:latin typeface="Comic Sans MS"/>
                </a:rPr>
                <a:t>shú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5920" y="1111320"/>
              <a:ext cx="20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huǒ bàn</a:t>
              </a:r>
              <a:r>
                <a:rPr b="0" lang="en-US" sz="36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447920" y="2819520"/>
            <a:ext cx="7030800" cy="1068840"/>
            <a:chOff x="1447920" y="2819520"/>
            <a:chExt cx="7030800" cy="1068840"/>
          </a:xfrm>
        </p:grpSpPr>
        <p:sp>
          <p:nvSpPr>
            <p:cNvPr id="126" name=""/>
            <p:cNvSpPr/>
            <p:nvPr/>
          </p:nvSpPr>
          <p:spPr>
            <a:xfrm>
              <a:off x="1447920" y="2819520"/>
              <a:ext cx="1276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Comic Sans MS"/>
                </a:rPr>
                <a:t>cháng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920" y="2827080"/>
              <a:ext cx="10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tián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52960" y="28270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  <a:ea typeface="华文中宋"/>
                </a:rPr>
                <a:t>wēn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4800" y="2827080"/>
              <a:ext cx="13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dòng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03840" y="4616280"/>
            <a:ext cx="5584680" cy="642600"/>
            <a:chOff x="2103840" y="4616280"/>
            <a:chExt cx="5584680" cy="642600"/>
          </a:xfrm>
        </p:grpSpPr>
        <p:sp>
          <p:nvSpPr>
            <p:cNvPr id="131" name=""/>
            <p:cNvSpPr/>
            <p:nvPr/>
          </p:nvSpPr>
          <p:spPr>
            <a:xfrm>
              <a:off x="2103840" y="4616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liǎn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6440" y="461628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gāi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66160" y="4616280"/>
              <a:ext cx="81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yīn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3080" y="4616280"/>
              <a:ext cx="4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Comic Sans MS"/>
                </a:rPr>
                <a:t>jì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853920"/>
            <a:ext cx="2666880" cy="42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3480" y="594360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772400" y="5105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1333" t="18154" r="69072" b="46124"/>
          <a:stretch/>
        </p:blipFill>
        <p:spPr>
          <a:xfrm>
            <a:off x="0" y="0"/>
            <a:ext cx="4876920" cy="6629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343400" y="304920"/>
            <a:ext cx="4572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我画了个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4800" spc="-1" strike="noStrike" u="sng">
                <a:solidFill>
                  <a:srgbClr val="5b5249"/>
                </a:solidFill>
                <a:uFillTx/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的太阳，挂在</a:t>
            </a:r>
            <a:r>
              <a:rPr b="0" lang="zh-CN" sz="4800" spc="-1" strike="noStrike" u="sng">
                <a:solidFill>
                  <a:srgbClr val="5b5249"/>
                </a:solidFill>
                <a:uFillTx/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的天空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33"/>
                </a:solidFill>
                <a:latin typeface="Arial"/>
              </a:rPr>
              <a:t>绿绿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2133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夏天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42670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到处一片清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72160" t="9229" r="10618" b="50005"/>
          <a:stretch/>
        </p:blipFill>
        <p:spPr>
          <a:xfrm>
            <a:off x="228600" y="0"/>
            <a:ext cx="391176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267080" y="533520"/>
            <a:ext cx="4343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我画了个 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的太阳，照亮         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15238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红红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2438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冬天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42670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温暖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34039" t="5339" r="47668" b="69425"/>
          <a:stretch/>
        </p:blipFill>
        <p:spPr>
          <a:xfrm>
            <a:off x="228600" y="0"/>
            <a:ext cx="4613400" cy="6553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19720" y="609480"/>
            <a:ext cx="449568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我画了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的太阳，送给       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16765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金黄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25146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秋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44197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果的香甜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38923" t="20879" r="25387" b="3394"/>
          <a:stretch/>
        </p:blipFill>
        <p:spPr>
          <a:xfrm>
            <a:off x="0" y="0"/>
            <a:ext cx="4646520" cy="6705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724280" y="60948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5b5249"/>
                </a:solidFill>
                <a:latin typeface="Arial"/>
              </a:rPr>
              <a:t>春天，画个        的，因为春天是个            的季节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10080" y="1371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彩色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895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多彩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70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我画了个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的太阳，送给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，因为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2590920" cy="1371600"/>
            <a:chOff x="0" y="0"/>
            <a:chExt cx="2590920" cy="1371600"/>
          </a:xfrm>
        </p:grpSpPr>
        <p:sp>
          <p:nvSpPr>
            <p:cNvPr id="351" name=""/>
            <p:cNvSpPr/>
            <p:nvPr/>
          </p:nvSpPr>
          <p:spPr>
            <a:xfrm>
              <a:off x="0" y="0"/>
              <a:ext cx="2590920" cy="1371600"/>
            </a:xfrm>
            <a:prstGeom prst="cloudCallout">
              <a:avLst>
                <a:gd name="adj1" fmla="val -17203"/>
                <a:gd name="adj2" fmla="val 100115"/>
              </a:avLst>
            </a:prstGeom>
            <a:solidFill>
              <a:srgbClr val="fac164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69720" y="228600"/>
              <a:ext cx="2022840" cy="1054080"/>
              <a:chOff x="369720" y="228600"/>
              <a:chExt cx="2022840" cy="1054080"/>
            </a:xfrm>
          </p:grpSpPr>
          <p:sp>
            <p:nvSpPr>
              <p:cNvPr id="353" name=""/>
              <p:cNvSpPr/>
              <p:nvPr/>
            </p:nvSpPr>
            <p:spPr>
              <a:xfrm>
                <a:off x="369720" y="380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b5249"/>
                    </a:solidFill>
                    <a:latin typeface="Times New Roman"/>
                    <a:ea typeface="华文琥珀"/>
                  </a:rPr>
                  <a:t>我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60120" y="2286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b5249"/>
                    </a:solidFill>
                    <a:latin typeface="Times New Roman"/>
                    <a:ea typeface="华文琥珀"/>
                  </a:rPr>
                  <a:t>来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58680" y="762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b5249"/>
                    </a:solidFill>
                    <a:latin typeface="Times New Roman"/>
                    <a:ea typeface="华文琥珀"/>
                  </a:rPr>
                  <a:t>连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66280" y="61452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b5249"/>
                    </a:solidFill>
                    <a:latin typeface="Times New Roman"/>
                    <a:ea typeface="华文琥珀"/>
                  </a:rPr>
                  <a:t>一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98360" y="304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b5249"/>
                    </a:solidFill>
                    <a:latin typeface="Times New Roman"/>
                    <a:ea typeface="华文琥珀"/>
                  </a:rPr>
                  <a:t>连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236232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85800" y="571500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668680" y="1050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绿绿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48440" y="9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太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868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白白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8680" y="2514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红红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48440" y="1812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草坪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4844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云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8680" y="3657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多彩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86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金黄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68680" y="5334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青青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8440" y="3733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假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484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季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48440" y="5334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落叶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1447920"/>
            <a:ext cx="2209680" cy="76176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2209680"/>
            <a:ext cx="2057400" cy="68580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62520" y="1447560"/>
            <a:ext cx="2133360" cy="144756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2520" y="4038480"/>
            <a:ext cx="2057400" cy="83844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962160" y="4876920"/>
            <a:ext cx="2057400" cy="76176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962520" y="4190760"/>
            <a:ext cx="2057400" cy="1523880"/>
          </a:xfrm>
          <a:prstGeom prst="line">
            <a:avLst/>
          </a:prstGeom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353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　　你还会画什么样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　　的太阳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送给谁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58920" y="2708280"/>
            <a:ext cx="727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32000" y="907920"/>
            <a:ext cx="25923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拓展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2" name=""/>
          <p:cNvSpPr/>
          <p:nvPr/>
        </p:nvSpPr>
        <p:spPr>
          <a:xfrm>
            <a:off x="269208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Times New Roman"/>
              </a:rPr>
              <a:t>点此播放视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549360"/>
          <a:ext cx="746604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746604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905120" y="25146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02800" y="3049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Wingdings 2"/>
                <a:ea typeface="Wingdings 2"/>
              </a:rPr>
              <a:t>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31760" y="60199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8280" y="114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苹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36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果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1080" y="4851360"/>
            <a:ext cx="799920" cy="1066680"/>
          </a:xfrm>
          <a:custGeom>
            <a:avLst/>
            <a:gdLst/>
            <a:ahLst/>
            <a:rect l="l" t="t" r="r" b="b"/>
            <a:pathLst>
              <a:path w="504" h="672">
                <a:moveTo>
                  <a:pt x="72" y="16"/>
                </a:moveTo>
                <a:cubicBezTo>
                  <a:pt x="72" y="0"/>
                  <a:pt x="0" y="416"/>
                  <a:pt x="72" y="496"/>
                </a:cubicBezTo>
                <a:cubicBezTo>
                  <a:pt x="144" y="576"/>
                  <a:pt x="504" y="480"/>
                  <a:pt x="504" y="496"/>
                </a:cubicBezTo>
                <a:cubicBezTo>
                  <a:pt x="504" y="512"/>
                  <a:pt x="144" y="672"/>
                  <a:pt x="72" y="592"/>
                </a:cubicBezTo>
                <a:cubicBezTo>
                  <a:pt x="0" y="512"/>
                  <a:pt x="72" y="32"/>
                  <a:pt x="72" y="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92840" y="4851360"/>
            <a:ext cx="243000" cy="541440"/>
          </a:xfrm>
          <a:custGeom>
            <a:avLst/>
            <a:gdLst/>
            <a:ahLst/>
            <a:rect l="l" t="t" r="r" b="b"/>
            <a:pathLst>
              <a:path w="153" h="341">
                <a:moveTo>
                  <a:pt x="59" y="0"/>
                </a:moveTo>
                <a:cubicBezTo>
                  <a:pt x="47" y="35"/>
                  <a:pt x="35" y="71"/>
                  <a:pt x="23" y="106"/>
                </a:cubicBezTo>
                <a:cubicBezTo>
                  <a:pt x="19" y="118"/>
                  <a:pt x="16" y="129"/>
                  <a:pt x="12" y="141"/>
                </a:cubicBezTo>
                <a:cubicBezTo>
                  <a:pt x="8" y="153"/>
                  <a:pt x="0" y="177"/>
                  <a:pt x="0" y="177"/>
                </a:cubicBezTo>
                <a:cubicBezTo>
                  <a:pt x="9" y="212"/>
                  <a:pt x="15" y="269"/>
                  <a:pt x="47" y="294"/>
                </a:cubicBezTo>
                <a:cubicBezTo>
                  <a:pt x="57" y="302"/>
                  <a:pt x="71" y="300"/>
                  <a:pt x="82" y="306"/>
                </a:cubicBezTo>
                <a:cubicBezTo>
                  <a:pt x="94" y="312"/>
                  <a:pt x="104" y="323"/>
                  <a:pt x="117" y="329"/>
                </a:cubicBezTo>
                <a:cubicBezTo>
                  <a:pt x="128" y="335"/>
                  <a:pt x="153" y="341"/>
                  <a:pt x="153" y="341"/>
                </a:cubicBezTo>
                <a:lnTo>
                  <a:pt x="59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77040" y="4160880"/>
            <a:ext cx="646200" cy="507960"/>
          </a:xfrm>
          <a:custGeom>
            <a:avLst/>
            <a:gdLst/>
            <a:ahLst/>
            <a:rect l="l" t="t" r="r" b="b"/>
            <a:pathLst>
              <a:path w="407" h="320">
                <a:moveTo>
                  <a:pt x="189" y="24"/>
                </a:moveTo>
                <a:cubicBezTo>
                  <a:pt x="217" y="17"/>
                  <a:pt x="243" y="0"/>
                  <a:pt x="271" y="0"/>
                </a:cubicBezTo>
                <a:cubicBezTo>
                  <a:pt x="312" y="0"/>
                  <a:pt x="356" y="26"/>
                  <a:pt x="388" y="47"/>
                </a:cubicBezTo>
                <a:cubicBezTo>
                  <a:pt x="400" y="105"/>
                  <a:pt x="407" y="169"/>
                  <a:pt x="377" y="224"/>
                </a:cubicBezTo>
                <a:cubicBezTo>
                  <a:pt x="364" y="249"/>
                  <a:pt x="346" y="271"/>
                  <a:pt x="330" y="294"/>
                </a:cubicBezTo>
                <a:cubicBezTo>
                  <a:pt x="316" y="315"/>
                  <a:pt x="259" y="318"/>
                  <a:pt x="259" y="318"/>
                </a:cubicBezTo>
                <a:cubicBezTo>
                  <a:pt x="228" y="314"/>
                  <a:pt x="165" y="306"/>
                  <a:pt x="165" y="306"/>
                </a:cubicBezTo>
                <a:lnTo>
                  <a:pt x="120" y="211"/>
                </a:lnTo>
                <a:cubicBezTo>
                  <a:pt x="136" y="243"/>
                  <a:pt x="164" y="271"/>
                  <a:pt x="168" y="307"/>
                </a:cubicBezTo>
                <a:cubicBezTo>
                  <a:pt x="170" y="320"/>
                  <a:pt x="142" y="300"/>
                  <a:pt x="130" y="294"/>
                </a:cubicBezTo>
                <a:cubicBezTo>
                  <a:pt x="105" y="280"/>
                  <a:pt x="83" y="263"/>
                  <a:pt x="59" y="247"/>
                </a:cubicBezTo>
                <a:cubicBezTo>
                  <a:pt x="47" y="239"/>
                  <a:pt x="24" y="224"/>
                  <a:pt x="24" y="224"/>
                </a:cubicBezTo>
                <a:cubicBezTo>
                  <a:pt x="16" y="183"/>
                  <a:pt x="0" y="147"/>
                  <a:pt x="24" y="106"/>
                </a:cubicBezTo>
                <a:cubicBezTo>
                  <a:pt x="37" y="84"/>
                  <a:pt x="123" y="61"/>
                  <a:pt x="130" y="59"/>
                </a:cubicBezTo>
                <a:cubicBezTo>
                  <a:pt x="142" y="55"/>
                  <a:pt x="165" y="47"/>
                  <a:pt x="165" y="47"/>
                </a:cubicBezTo>
                <a:cubicBezTo>
                  <a:pt x="212" y="63"/>
                  <a:pt x="204" y="71"/>
                  <a:pt x="189" y="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0040" y="4521240"/>
            <a:ext cx="372960" cy="722160"/>
          </a:xfrm>
          <a:custGeom>
            <a:avLst/>
            <a:gdLst/>
            <a:ahLst/>
            <a:rect l="l" t="t" r="r" b="b"/>
            <a:pathLst>
              <a:path w="235" h="455">
                <a:moveTo>
                  <a:pt x="0" y="67"/>
                </a:moveTo>
                <a:cubicBezTo>
                  <a:pt x="46" y="0"/>
                  <a:pt x="57" y="20"/>
                  <a:pt x="141" y="32"/>
                </a:cubicBezTo>
                <a:cubicBezTo>
                  <a:pt x="149" y="44"/>
                  <a:pt x="155" y="57"/>
                  <a:pt x="165" y="67"/>
                </a:cubicBezTo>
                <a:cubicBezTo>
                  <a:pt x="175" y="77"/>
                  <a:pt x="192" y="79"/>
                  <a:pt x="200" y="91"/>
                </a:cubicBezTo>
                <a:cubicBezTo>
                  <a:pt x="206" y="100"/>
                  <a:pt x="228" y="174"/>
                  <a:pt x="235" y="197"/>
                </a:cubicBezTo>
                <a:cubicBezTo>
                  <a:pt x="223" y="320"/>
                  <a:pt x="223" y="396"/>
                  <a:pt x="106" y="45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238880" y="4191120"/>
            <a:ext cx="1218960" cy="365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107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10752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3657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79640" y="2852280"/>
            <a:ext cx="863640" cy="1184760"/>
            <a:chOff x="1979640" y="2852280"/>
            <a:chExt cx="863640" cy="1184760"/>
          </a:xfrm>
        </p:grpSpPr>
        <p:grpSp>
          <p:nvGrpSpPr>
            <p:cNvPr id="153" name=""/>
            <p:cNvGrpSpPr/>
            <p:nvPr/>
          </p:nvGrpSpPr>
          <p:grpSpPr>
            <a:xfrm>
              <a:off x="1979640" y="2852280"/>
              <a:ext cx="863640" cy="1184760"/>
              <a:chOff x="1979640" y="2852280"/>
              <a:chExt cx="863640" cy="1184760"/>
            </a:xfrm>
          </p:grpSpPr>
          <p:sp>
            <p:nvSpPr>
              <p:cNvPr id="154" name=""/>
              <p:cNvSpPr/>
              <p:nvPr/>
            </p:nvSpPr>
            <p:spPr>
              <a:xfrm>
                <a:off x="1979640" y="306864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08240" y="3240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2340000" y="285228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050920" y="3284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温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195640" y="1700280"/>
            <a:ext cx="863640" cy="1183680"/>
            <a:chOff x="2195640" y="1700280"/>
            <a:chExt cx="863640" cy="1183680"/>
          </a:xfrm>
        </p:grpSpPr>
        <p:grpSp>
          <p:nvGrpSpPr>
            <p:cNvPr id="159" name=""/>
            <p:cNvGrpSpPr/>
            <p:nvPr/>
          </p:nvGrpSpPr>
          <p:grpSpPr>
            <a:xfrm>
              <a:off x="2195640" y="1700280"/>
              <a:ext cx="863640" cy="1183680"/>
              <a:chOff x="2195640" y="1700280"/>
              <a:chExt cx="863640" cy="11836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95640" y="1915920"/>
                <a:ext cx="863640" cy="96804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24240" y="208728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2556000" y="1700280"/>
                <a:ext cx="71280" cy="35856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268360" y="21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冻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132000" y="2204640"/>
            <a:ext cx="863640" cy="1184760"/>
            <a:chOff x="3132000" y="2204640"/>
            <a:chExt cx="863640" cy="1184760"/>
          </a:xfrm>
        </p:grpSpPr>
        <p:grpSp>
          <p:nvGrpSpPr>
            <p:cNvPr id="165" name=""/>
            <p:cNvGrpSpPr/>
            <p:nvPr/>
          </p:nvGrpSpPr>
          <p:grpSpPr>
            <a:xfrm>
              <a:off x="3132000" y="2204640"/>
              <a:ext cx="863640" cy="1184760"/>
              <a:chOff x="3132000" y="2204640"/>
              <a:chExt cx="863640" cy="1184760"/>
            </a:xfrm>
          </p:grpSpPr>
          <p:sp>
            <p:nvSpPr>
              <p:cNvPr id="166" name=""/>
              <p:cNvSpPr/>
              <p:nvPr/>
            </p:nvSpPr>
            <p:spPr>
              <a:xfrm>
                <a:off x="3132000" y="242100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60600" y="259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3492360" y="220464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203640" y="2637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挂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87640" y="3357720"/>
            <a:ext cx="863640" cy="1183680"/>
            <a:chOff x="2987640" y="3357720"/>
            <a:chExt cx="863640" cy="1183680"/>
          </a:xfrm>
        </p:grpSpPr>
        <p:grpSp>
          <p:nvGrpSpPr>
            <p:cNvPr id="171" name=""/>
            <p:cNvGrpSpPr/>
            <p:nvPr/>
          </p:nvGrpSpPr>
          <p:grpSpPr>
            <a:xfrm>
              <a:off x="2987640" y="3357720"/>
              <a:ext cx="863640" cy="1183680"/>
              <a:chOff x="2987640" y="3357720"/>
              <a:chExt cx="863640" cy="1183680"/>
            </a:xfrm>
          </p:grpSpPr>
          <p:sp>
            <p:nvSpPr>
              <p:cNvPr id="172" name=""/>
              <p:cNvSpPr/>
              <p:nvPr/>
            </p:nvSpPr>
            <p:spPr>
              <a:xfrm>
                <a:off x="2987640" y="3573360"/>
                <a:ext cx="863640" cy="96804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16240" y="374472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3348000" y="3357720"/>
                <a:ext cx="71280" cy="35856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132000" y="3789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熟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64000" y="2781360"/>
            <a:ext cx="863640" cy="1183680"/>
            <a:chOff x="5364000" y="2781360"/>
            <a:chExt cx="863640" cy="1183680"/>
          </a:xfrm>
        </p:grpSpPr>
        <p:grpSp>
          <p:nvGrpSpPr>
            <p:cNvPr id="177" name=""/>
            <p:cNvGrpSpPr/>
            <p:nvPr/>
          </p:nvGrpSpPr>
          <p:grpSpPr>
            <a:xfrm>
              <a:off x="5364000" y="2781360"/>
              <a:ext cx="863640" cy="1183680"/>
              <a:chOff x="5364000" y="2781360"/>
              <a:chExt cx="863640" cy="1183680"/>
            </a:xfrm>
          </p:grpSpPr>
          <p:sp>
            <p:nvSpPr>
              <p:cNvPr id="178" name=""/>
              <p:cNvSpPr/>
              <p:nvPr/>
            </p:nvSpPr>
            <p:spPr>
              <a:xfrm>
                <a:off x="5364000" y="2997000"/>
                <a:ext cx="863640" cy="96804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92600" y="316836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5724360" y="2781360"/>
                <a:ext cx="71280" cy="35856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435640" y="3213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伙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00720" y="2997360"/>
            <a:ext cx="863640" cy="1183680"/>
            <a:chOff x="6300720" y="2997360"/>
            <a:chExt cx="863640" cy="1183680"/>
          </a:xfrm>
        </p:grpSpPr>
        <p:grpSp>
          <p:nvGrpSpPr>
            <p:cNvPr id="183" name=""/>
            <p:cNvGrpSpPr/>
            <p:nvPr/>
          </p:nvGrpSpPr>
          <p:grpSpPr>
            <a:xfrm>
              <a:off x="6300720" y="2997360"/>
              <a:ext cx="863640" cy="1183680"/>
              <a:chOff x="6300720" y="2997360"/>
              <a:chExt cx="863640" cy="1183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300720" y="3213000"/>
                <a:ext cx="863640" cy="96804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29320" y="338436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6661080" y="2997360"/>
                <a:ext cx="71280" cy="35856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37236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伴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11640" y="1628280"/>
            <a:ext cx="863640" cy="1184760"/>
            <a:chOff x="4211640" y="1628280"/>
            <a:chExt cx="863640" cy="1184760"/>
          </a:xfrm>
        </p:grpSpPr>
        <p:grpSp>
          <p:nvGrpSpPr>
            <p:cNvPr id="189" name=""/>
            <p:cNvGrpSpPr/>
            <p:nvPr/>
          </p:nvGrpSpPr>
          <p:grpSpPr>
            <a:xfrm>
              <a:off x="4211640" y="1628280"/>
              <a:ext cx="863640" cy="1184760"/>
              <a:chOff x="4211640" y="1628280"/>
              <a:chExt cx="863640" cy="1184760"/>
            </a:xfrm>
          </p:grpSpPr>
          <p:sp>
            <p:nvSpPr>
              <p:cNvPr id="190" name=""/>
              <p:cNvSpPr/>
              <p:nvPr/>
            </p:nvSpPr>
            <p:spPr>
              <a:xfrm>
                <a:off x="4211640" y="184464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40240" y="2016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4572000" y="162828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356000" y="206064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尝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724360" y="1483920"/>
            <a:ext cx="863640" cy="1184760"/>
            <a:chOff x="5724360" y="1483920"/>
            <a:chExt cx="863640" cy="1184760"/>
          </a:xfrm>
        </p:grpSpPr>
        <p:grpSp>
          <p:nvGrpSpPr>
            <p:cNvPr id="195" name=""/>
            <p:cNvGrpSpPr/>
            <p:nvPr/>
          </p:nvGrpSpPr>
          <p:grpSpPr>
            <a:xfrm>
              <a:off x="5724360" y="1483920"/>
              <a:ext cx="863640" cy="1184760"/>
              <a:chOff x="5724360" y="1483920"/>
              <a:chExt cx="863640" cy="1184760"/>
            </a:xfrm>
          </p:grpSpPr>
          <p:sp>
            <p:nvSpPr>
              <p:cNvPr id="196" name=""/>
              <p:cNvSpPr/>
              <p:nvPr/>
            </p:nvSpPr>
            <p:spPr>
              <a:xfrm>
                <a:off x="5724360" y="170028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52960" y="187164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6084720" y="148392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796000" y="1844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甜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588000" y="1916280"/>
            <a:ext cx="863640" cy="1183680"/>
            <a:chOff x="6588000" y="1916280"/>
            <a:chExt cx="863640" cy="1183680"/>
          </a:xfrm>
        </p:grpSpPr>
        <p:grpSp>
          <p:nvGrpSpPr>
            <p:cNvPr id="201" name=""/>
            <p:cNvGrpSpPr/>
            <p:nvPr/>
          </p:nvGrpSpPr>
          <p:grpSpPr>
            <a:xfrm>
              <a:off x="6588000" y="1916280"/>
              <a:ext cx="863640" cy="1183680"/>
              <a:chOff x="6588000" y="1916280"/>
              <a:chExt cx="863640" cy="118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6588000" y="2131920"/>
                <a:ext cx="863640" cy="96804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16600" y="2303280"/>
                <a:ext cx="430200" cy="7128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6948360" y="1916280"/>
                <a:ext cx="71280" cy="35856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732720" y="234936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季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076720" y="764640"/>
            <a:ext cx="863640" cy="1184760"/>
            <a:chOff x="5076720" y="764640"/>
            <a:chExt cx="863640" cy="1184760"/>
          </a:xfrm>
        </p:grpSpPr>
        <p:grpSp>
          <p:nvGrpSpPr>
            <p:cNvPr id="207" name=""/>
            <p:cNvGrpSpPr/>
            <p:nvPr/>
          </p:nvGrpSpPr>
          <p:grpSpPr>
            <a:xfrm>
              <a:off x="5076720" y="764640"/>
              <a:ext cx="863640" cy="1184760"/>
              <a:chOff x="5076720" y="764640"/>
              <a:chExt cx="863640" cy="1184760"/>
            </a:xfrm>
          </p:grpSpPr>
          <p:sp>
            <p:nvSpPr>
              <p:cNvPr id="208" name=""/>
              <p:cNvSpPr/>
              <p:nvPr/>
            </p:nvSpPr>
            <p:spPr>
              <a:xfrm>
                <a:off x="5076720" y="98100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05320" y="115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5437080" y="76464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219640" y="119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因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451640" y="2204640"/>
            <a:ext cx="863640" cy="1184760"/>
            <a:chOff x="7451640" y="2204640"/>
            <a:chExt cx="863640" cy="1184760"/>
          </a:xfrm>
        </p:grpSpPr>
        <p:grpSp>
          <p:nvGrpSpPr>
            <p:cNvPr id="213" name=""/>
            <p:cNvGrpSpPr/>
            <p:nvPr/>
          </p:nvGrpSpPr>
          <p:grpSpPr>
            <a:xfrm>
              <a:off x="7451640" y="2204640"/>
              <a:ext cx="863640" cy="1184760"/>
              <a:chOff x="7451640" y="2204640"/>
              <a:chExt cx="863640" cy="1184760"/>
            </a:xfrm>
          </p:grpSpPr>
          <p:sp>
            <p:nvSpPr>
              <p:cNvPr id="214" name=""/>
              <p:cNvSpPr/>
              <p:nvPr/>
            </p:nvSpPr>
            <p:spPr>
              <a:xfrm>
                <a:off x="7451640" y="242100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80240" y="259236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7812000" y="220464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596360" y="2565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该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640" y="620280"/>
            <a:ext cx="863640" cy="1184760"/>
            <a:chOff x="3995640" y="620280"/>
            <a:chExt cx="863640" cy="1184760"/>
          </a:xfrm>
        </p:grpSpPr>
        <p:grpSp>
          <p:nvGrpSpPr>
            <p:cNvPr id="219" name=""/>
            <p:cNvGrpSpPr/>
            <p:nvPr/>
          </p:nvGrpSpPr>
          <p:grpSpPr>
            <a:xfrm>
              <a:off x="3995640" y="620280"/>
              <a:ext cx="863640" cy="1184760"/>
              <a:chOff x="3995640" y="620280"/>
              <a:chExt cx="863640" cy="1184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995640" y="83664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24240" y="100800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4356000" y="62028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140360" y="105264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脸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132000" y="907560"/>
            <a:ext cx="863640" cy="1184760"/>
            <a:chOff x="3132000" y="907560"/>
            <a:chExt cx="863640" cy="1184760"/>
          </a:xfrm>
        </p:grpSpPr>
        <p:grpSp>
          <p:nvGrpSpPr>
            <p:cNvPr id="225" name=""/>
            <p:cNvGrpSpPr/>
            <p:nvPr/>
          </p:nvGrpSpPr>
          <p:grpSpPr>
            <a:xfrm>
              <a:off x="3132000" y="907560"/>
              <a:ext cx="863640" cy="1184760"/>
              <a:chOff x="3132000" y="907560"/>
              <a:chExt cx="863640" cy="1184760"/>
            </a:xfrm>
          </p:grpSpPr>
          <p:sp>
            <p:nvSpPr>
              <p:cNvPr id="226" name=""/>
              <p:cNvSpPr/>
              <p:nvPr/>
            </p:nvSpPr>
            <p:spPr>
              <a:xfrm>
                <a:off x="3132000" y="1123920"/>
                <a:ext cx="863640" cy="968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60600" y="1295280"/>
                <a:ext cx="430200" cy="71640"/>
              </a:xfrm>
              <a:custGeom>
                <a:avLst/>
                <a:gdLst/>
                <a:ahLst/>
                <a:rect l="l" t="t" r="r" b="b"/>
                <a:pathLst>
                  <a:path w="271" h="45">
                    <a:moveTo>
                      <a:pt x="0" y="0"/>
                    </a:moveTo>
                    <a:cubicBezTo>
                      <a:pt x="81" y="26"/>
                      <a:pt x="48" y="9"/>
                      <a:pt x="102" y="45"/>
                    </a:cubicBezTo>
                    <a:cubicBezTo>
                      <a:pt x="241" y="31"/>
                      <a:pt x="184" y="44"/>
                      <a:pt x="271" y="0"/>
                    </a:cubicBezTo>
                  </a:path>
                </a:pathLst>
              </a:custGeom>
              <a:noFill/>
              <a:ln w="38160">
                <a:solidFill>
                  <a:srgbClr val="5b52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920" bIns="25920" anchor="t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3492360" y="907560"/>
                <a:ext cx="71280" cy="358920"/>
              </a:xfrm>
              <a:prstGeom prst="line">
                <a:avLst/>
              </a:prstGeom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276720" y="126828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街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415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2190600"/>
          <a:ext cx="914400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0600"/>
                    <a:ext cx="91440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457200"/>
          <a:ext cx="472428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4724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124080" y="106668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绿绿的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太阳，挂在</a:t>
            </a:r>
            <a:br>
              <a:rPr sz="3200"/>
            </a:br>
            <a:r>
              <a:rPr b="1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夏天的天空。高山、田野、街道、校园，到处一片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清凉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1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905120"/>
          <a:ext cx="9144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0" y="333360"/>
          <a:ext cx="36576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3657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048120" y="609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金黄的太阳，送给秋天。果园里，果子熟了。金黄的落叶忙着邀请小伙伴，请他们尝尝水果的香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0" y="1905120"/>
          <a:ext cx="9144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0" y="333360"/>
          <a:ext cx="36576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3657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048120" y="609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金黄的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太阳，送给秋天。果园里，果子熟了。金黄的落叶忙着邀请小伙伴，请他们尝尝水果的香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905120"/>
          <a:ext cx="9144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0" y="333360"/>
          <a:ext cx="36576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3657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048120" y="609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我画了个金黄的太阳，送给秋天。果园里，果子熟了。金黄的落叶忙着邀请小伙伴，请他们尝尝水果的香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43560" y="64008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18</a:t>
            </a:r>
            <a:r>
              <a:rPr b="1" i="1" lang="zh-CN" sz="2400" spc="-1" strike="noStrike">
                <a:solidFill>
                  <a:srgbClr val="008080"/>
                </a:solidFill>
                <a:latin typeface="华文新魏"/>
                <a:ea typeface="华文新魏"/>
              </a:rPr>
              <a:t>、四个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06280" y="601992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9T02:04:02Z</dcterms:modified>
  <cp:revision>63</cp:revision>
  <dc:subject/>
  <dc:title>PowerPoint 演示文稿</dc:title>
</cp:coreProperties>
</file>