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7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e1e2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e1e2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e1e20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e1e2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Microsoft Sans Serif"/>
              </a:rPr>
              <a:t>Click to edit the title text format</a:t>
            </a: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lvl="5" marL="2057400" indent="-228600">
              <a:spcBef>
                <a:spcPts val="601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lvl="6" marL="2057400" indent="-228600">
              <a:spcBef>
                <a:spcPts val="601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Microsoft Sans Serif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4720" y="4842000"/>
            <a:ext cx="7772400" cy="892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1e2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1e1e2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hyperlink" Target="file:///tmp/home/.config/libreoffice/4/user/gallery/&#39118;&#22768;" TargetMode="External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625920"/>
            <a:ext cx="4419720" cy="3155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-28440" y="-19080"/>
            <a:ext cx="4335480" cy="3514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419720" y="0"/>
            <a:ext cx="4800600" cy="35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小检测</a:t>
            </a:r>
            <a:endParaRPr b="1" lang="en-US" sz="48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Comic Sans MS"/>
              </a:rPr>
              <a:t>shú</a:t>
            </a:r>
            <a:r>
              <a:rPr b="0" lang="en-US" sz="3600" spc="-1" strike="noStrike">
                <a:solidFill>
                  <a:srgbClr val="333333"/>
                </a:solidFill>
                <a:latin typeface="Microsoft Sans Serif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Microsoft Sans Serif"/>
              </a:rPr>
              <a:t> </a:t>
            </a:r>
            <a:r>
              <a:rPr b="0" lang="zh-CN" sz="3600" spc="-1" strike="noStrike">
                <a:solidFill>
                  <a:srgbClr val="cc00cc"/>
                </a:solidFill>
                <a:latin typeface="Comic Sans MS"/>
              </a:rPr>
              <a:t>bàn jiē huǒ cháng guà </a:t>
            </a:r>
            <a:r>
              <a:rPr b="0" lang="zh-CN" sz="3600" spc="-1" strike="noStrike">
                <a:solidFill>
                  <a:srgbClr val="cc00cc"/>
                </a:solidFill>
                <a:latin typeface="Gungsuh"/>
                <a:ea typeface="Gungsuh"/>
              </a:rPr>
              <a:t>tián</a:t>
            </a:r>
            <a:r>
              <a:rPr b="0" lang="zh-CN" sz="3600" spc="-1" strike="noStrike">
                <a:solidFill>
                  <a:srgbClr val="cc00cc"/>
                </a:solidFill>
                <a:latin typeface="Gungsuh"/>
                <a:ea typeface="宋体"/>
              </a:rPr>
              <a:t>  </a:t>
            </a:r>
            <a:r>
              <a:rPr b="0" lang="zh-CN" sz="3600" spc="-1" strike="noStrike">
                <a:solidFill>
                  <a:srgbClr val="cc00cc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Microsoft Sans Serif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Microsoft Sans Serif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Microsoft Sans Serif"/>
              </a:rPr>
              <a:t>街        伙    挂      熟        甜       尝          伴</a:t>
            </a:r>
            <a:endParaRPr b="0" lang="en-US" sz="2800" spc="-1" strike="noStrike">
              <a:solidFill>
                <a:srgbClr val="333333"/>
              </a:solidFill>
              <a:latin typeface="Microsoft Sans Serif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804000" y="134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340000" y="134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134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4067280" y="134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4932360" y="134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5867280" y="1341360"/>
            <a:ext cx="857520" cy="800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7740720" y="1268280"/>
            <a:ext cx="857160" cy="80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3213000"/>
            <a:ext cx="2448000" cy="187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27640" y="3213000"/>
            <a:ext cx="2736720" cy="187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971640" y="3284640"/>
            <a:ext cx="1728720" cy="172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35280" y="3213000"/>
            <a:ext cx="1730160" cy="180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213000"/>
            <a:ext cx="934920" cy="187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948000" y="3213000"/>
            <a:ext cx="1079640" cy="187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3213000"/>
            <a:ext cx="5832360" cy="187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56000" y="3212640"/>
            <a:ext cx="3384360" cy="187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3141720"/>
            <a:ext cx="1008360" cy="201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785880" y="714240"/>
            <a:ext cx="857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温和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929120" y="7142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冻 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857160" y="2714760"/>
            <a:ext cx="85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该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6072120" y="7142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东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928800" y="4429080"/>
            <a:ext cx="85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园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1857240" y="2714760"/>
            <a:ext cx="85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孩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6072120" y="264312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李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4929120" y="264312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f5f5f"/>
                </a:solidFill>
                <a:latin typeface="Times New Roman"/>
              </a:rPr>
              <a:t>季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6143760" y="442908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困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29080" y="42926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因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1908000" y="4437000"/>
            <a:ext cx="85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团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3060720" y="765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ùn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3714840" y="714240"/>
            <a:ext cx="85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色  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3060720" y="692280"/>
            <a:ext cx="857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cc00ff"/>
                </a:solidFill>
                <a:latin typeface="Times New Roman"/>
              </a:rPr>
              <a:t>愠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区分形近字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>
            <a:off x="785880" y="7142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为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4929120" y="7142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脸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1928880" y="7142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办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857160" y="27147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阳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6084720" y="692280"/>
            <a:ext cx="78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检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857240" y="27147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阴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6072120" y="264312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先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4929120" y="264312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f5f5f"/>
                </a:solidFill>
                <a:latin typeface="Times New Roman"/>
              </a:rPr>
              <a:t>光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5869080" y="620640"/>
            <a:ext cx="17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Times New Roman"/>
              </a:rPr>
              <a:t>j</a:t>
            </a:r>
            <a:r>
              <a:rPr b="0" lang="en-US" sz="48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ǎn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6786720" y="714240"/>
            <a:ext cx="78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查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193840" y="990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7231680" y="632448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</a:rPr>
              <a:t>、四个太阳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1447920" y="10256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1447920" y="10256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1447920" y="21686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2666880" y="10256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057400" y="10256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447920" y="155880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937040" y="990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4191120" y="10256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4191120" y="10256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6" name="Line 22"/>
          <p:cNvSpPr/>
          <p:nvPr/>
        </p:nvSpPr>
        <p:spPr>
          <a:xfrm>
            <a:off x="4191120" y="21686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5410080" y="10256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4800600" y="10256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4191120" y="155880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7604280" y="1031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6858000" y="106668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6858000" y="1066680"/>
            <a:ext cx="12193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6858000" y="2209680"/>
            <a:ext cx="12193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8077320" y="106668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7467480" y="106668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6858000" y="1600200"/>
            <a:ext cx="121932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7" name="Text Box 40"/>
          <p:cNvSpPr/>
          <p:nvPr/>
        </p:nvSpPr>
        <p:spPr>
          <a:xfrm>
            <a:off x="2193840" y="3962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8" name="Line 41"/>
          <p:cNvSpPr/>
          <p:nvPr/>
        </p:nvSpPr>
        <p:spPr>
          <a:xfrm>
            <a:off x="144792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9" name="Line 42"/>
          <p:cNvSpPr/>
          <p:nvPr/>
        </p:nvSpPr>
        <p:spPr>
          <a:xfrm>
            <a:off x="1447920" y="39974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0" name="Line 43"/>
          <p:cNvSpPr/>
          <p:nvPr/>
        </p:nvSpPr>
        <p:spPr>
          <a:xfrm>
            <a:off x="1447920" y="51404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1" name="Line 44"/>
          <p:cNvSpPr/>
          <p:nvPr/>
        </p:nvSpPr>
        <p:spPr>
          <a:xfrm>
            <a:off x="266688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2" name="Line 45"/>
          <p:cNvSpPr/>
          <p:nvPr/>
        </p:nvSpPr>
        <p:spPr>
          <a:xfrm>
            <a:off x="205740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3" name="Line 46"/>
          <p:cNvSpPr/>
          <p:nvPr/>
        </p:nvSpPr>
        <p:spPr>
          <a:xfrm>
            <a:off x="1447920" y="453060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4" name="Text Box 47"/>
          <p:cNvSpPr/>
          <p:nvPr/>
        </p:nvSpPr>
        <p:spPr>
          <a:xfrm>
            <a:off x="4937040" y="3962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5" name="Line 48"/>
          <p:cNvSpPr/>
          <p:nvPr/>
        </p:nvSpPr>
        <p:spPr>
          <a:xfrm>
            <a:off x="419112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4191120" y="39974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4191120" y="514044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541008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480060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4191120" y="4530600"/>
            <a:ext cx="121896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1" name="Text Box 54"/>
          <p:cNvSpPr/>
          <p:nvPr/>
        </p:nvSpPr>
        <p:spPr>
          <a:xfrm>
            <a:off x="7604280" y="3962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685800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6858000" y="3997440"/>
            <a:ext cx="12193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4" name="Line 57"/>
          <p:cNvSpPr/>
          <p:nvPr/>
        </p:nvSpPr>
        <p:spPr>
          <a:xfrm>
            <a:off x="6858000" y="5140440"/>
            <a:ext cx="12193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5" name="Line 58"/>
          <p:cNvSpPr/>
          <p:nvPr/>
        </p:nvSpPr>
        <p:spPr>
          <a:xfrm>
            <a:off x="807732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6" name="Line 59"/>
          <p:cNvSpPr/>
          <p:nvPr/>
        </p:nvSpPr>
        <p:spPr>
          <a:xfrm>
            <a:off x="7467480" y="3997440"/>
            <a:ext cx="0" cy="114300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7" name="Line 60"/>
          <p:cNvSpPr/>
          <p:nvPr/>
        </p:nvSpPr>
        <p:spPr>
          <a:xfrm>
            <a:off x="6858000" y="4530600"/>
            <a:ext cx="121932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8" name="Text Box 63"/>
          <p:cNvSpPr/>
          <p:nvPr/>
        </p:nvSpPr>
        <p:spPr>
          <a:xfrm>
            <a:off x="4451760" y="9428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因</a:t>
            </a:r>
            <a:endParaRPr b="0" lang="en-US" sz="7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9" name="Text Box 64"/>
          <p:cNvSpPr/>
          <p:nvPr/>
        </p:nvSpPr>
        <p:spPr>
          <a:xfrm>
            <a:off x="1523880" y="990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园</a:t>
            </a:r>
            <a:endParaRPr b="0" lang="en-US" sz="7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0" name="Text Box 67"/>
          <p:cNvSpPr/>
          <p:nvPr/>
        </p:nvSpPr>
        <p:spPr>
          <a:xfrm>
            <a:off x="170856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脸</a:t>
            </a:r>
            <a:endParaRPr b="0" lang="en-US" sz="7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1" name="Text Box 68"/>
          <p:cNvSpPr/>
          <p:nvPr/>
        </p:nvSpPr>
        <p:spPr>
          <a:xfrm>
            <a:off x="44200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阳</a:t>
            </a:r>
            <a:endParaRPr b="0" lang="en-US" sz="7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2" name="Text Box 69"/>
          <p:cNvSpPr/>
          <p:nvPr/>
        </p:nvSpPr>
        <p:spPr>
          <a:xfrm>
            <a:off x="711864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光</a:t>
            </a:r>
            <a:endParaRPr b="0" lang="en-US" sz="7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3" name="Text Box 72"/>
          <p:cNvSpPr/>
          <p:nvPr/>
        </p:nvSpPr>
        <p:spPr>
          <a:xfrm>
            <a:off x="1887480" y="243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园、花园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4" name="Text Box 73"/>
          <p:cNvSpPr/>
          <p:nvPr/>
        </p:nvSpPr>
        <p:spPr>
          <a:xfrm>
            <a:off x="4630680" y="243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、原因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5" name="Text Box 74"/>
          <p:cNvSpPr/>
          <p:nvPr/>
        </p:nvSpPr>
        <p:spPr>
          <a:xfrm>
            <a:off x="7475400" y="243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、因为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6" name="Text Box 75"/>
          <p:cNvSpPr/>
          <p:nvPr/>
        </p:nvSpPr>
        <p:spPr>
          <a:xfrm>
            <a:off x="1887480" y="5410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脸蛋、洗脸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7" name="Text Box 76"/>
          <p:cNvSpPr/>
          <p:nvPr/>
        </p:nvSpPr>
        <p:spPr>
          <a:xfrm>
            <a:off x="4630680" y="5410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、阳台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8" name="Text Box 77"/>
          <p:cNvSpPr/>
          <p:nvPr/>
        </p:nvSpPr>
        <p:spPr>
          <a:xfrm>
            <a:off x="7449840" y="5410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亮、光明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249" name="Picture 86" descr="C:\My Documents\小王\太阳5.gif"/>
          <p:cNvPicPr/>
          <p:nvPr/>
        </p:nvPicPr>
        <p:blipFill>
          <a:blip r:embed="rId1"/>
          <a:stretch/>
        </p:blipFill>
        <p:spPr>
          <a:xfrm>
            <a:off x="511200" y="594360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8"/>
          <p:cNvSpPr/>
          <p:nvPr/>
        </p:nvSpPr>
        <p:spPr>
          <a:xfrm>
            <a:off x="7086960" y="99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为</a:t>
            </a:r>
            <a:endParaRPr b="0" lang="en-US" sz="7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icrosoft Sans Serif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0" t="0" r="0" b="6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rcRect l="5315" t="13915" r="54297" b="59413"/>
          <a:stretch/>
        </p:blipFill>
        <p:spPr>
          <a:xfrm>
            <a:off x="1219320" y="380880"/>
            <a:ext cx="7010280" cy="647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1080" y="3552840"/>
            <a:ext cx="9001080" cy="3301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1773360"/>
            <a:ext cx="3122640" cy="2590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1557000"/>
            <a:ext cx="763272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99"/>
                </a:solidFill>
                <a:latin typeface="华文隶书"/>
                <a:ea typeface="华文隶书"/>
              </a:rPr>
              <a:t>18</a:t>
            </a:r>
            <a:r>
              <a:rPr b="1" lang="zh-CN" sz="6600" spc="-1" strike="noStrike">
                <a:solidFill>
                  <a:srgbClr val="cc0099"/>
                </a:solidFill>
                <a:latin typeface="华文隶书"/>
                <a:ea typeface="华文隶书"/>
              </a:rPr>
              <a:t>、</a:t>
            </a:r>
            <a:r>
              <a:rPr b="1" i="1" lang="zh-CN" sz="6600" spc="-1" strike="noStrike">
                <a:solidFill>
                  <a:srgbClr val="006600"/>
                </a:solidFill>
                <a:latin typeface="华文隶书"/>
                <a:ea typeface="华文隶书"/>
              </a:rPr>
              <a:t>四</a:t>
            </a:r>
            <a:r>
              <a:rPr b="1" i="1" lang="zh-CN" sz="6600" spc="-1" strike="noStrike">
                <a:solidFill>
                  <a:srgbClr val="f2440e"/>
                </a:solidFill>
                <a:latin typeface="华文隶书"/>
                <a:ea typeface="华文隶书"/>
              </a:rPr>
              <a:t>个</a:t>
            </a:r>
            <a:r>
              <a:rPr b="1" i="1" lang="zh-CN" sz="6600" spc="-1" strike="noStrike">
                <a:solidFill>
                  <a:srgbClr val="cc0000"/>
                </a:solidFill>
                <a:latin typeface="华文隶书"/>
                <a:ea typeface="华文隶书"/>
              </a:rPr>
              <a:t>太</a:t>
            </a:r>
            <a:r>
              <a:rPr b="1" i="1" lang="zh-CN" sz="6600" spc="-1" strike="noStrike">
                <a:solidFill>
                  <a:srgbClr val="16168e"/>
                </a:solidFill>
                <a:latin typeface="华文隶书"/>
                <a:ea typeface="华文隶书"/>
              </a:rPr>
              <a:t>阳</a:t>
            </a:r>
            <a:br>
              <a:rPr sz="6600"/>
            </a:br>
            <a:endParaRPr b="1" lang="en-US" sz="6600" spc="-1" strike="noStrike">
              <a:solidFill>
                <a:srgbClr val="333333"/>
              </a:solidFill>
              <a:latin typeface="Microsoft Sans Serif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5486400"/>
            <a:ext cx="4950000" cy="59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609480" y="51055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88000" y="32846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802080" y="907920"/>
            <a:ext cx="6886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f5f5f"/>
                </a:solidFill>
                <a:latin typeface="Microsoft Sans Serif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5f5f5f"/>
                </a:solidFill>
                <a:latin typeface="Microsoft Sans Serif"/>
                <a:ea typeface="楷体_GB2312"/>
              </a:rPr>
              <a:t>学习目标：</a:t>
            </a:r>
            <a:endParaRPr b="1" lang="en-US" sz="60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把课文读通顺。</a:t>
            </a:r>
            <a:endParaRPr b="0" lang="en-US" sz="48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会认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3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个生字。会写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个      生字。</a:t>
            </a:r>
            <a:endParaRPr b="0" lang="en-US" sz="48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2206800"/>
            <a:ext cx="633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比一比：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比谁能把课文读通顺。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f5f5f"/>
                </a:solidFill>
                <a:latin typeface="Microsoft Sans Serif"/>
                <a:ea typeface="楷体_GB2312"/>
              </a:rPr>
              <a:t>自读指导：</a:t>
            </a:r>
            <a:endParaRPr b="1" lang="en-US" sz="6600" spc="-1" strike="noStrike">
              <a:solidFill>
                <a:srgbClr val="333333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数数课文有几个自然段，</a:t>
            </a:r>
            <a:endParaRPr b="0" lang="en-US" sz="4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标上序号。</a:t>
            </a:r>
            <a:endParaRPr b="0" lang="en-US" sz="4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轻声读通课文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圈出不认识         </a:t>
            </a:r>
            <a:endParaRPr b="0" lang="en-US" sz="4400" spc="-1" strike="noStrike">
              <a:solidFill>
                <a:srgbClr val="333333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字。</a:t>
            </a:r>
            <a:endParaRPr b="0" lang="en-US" sz="4400" spc="-1" strike="noStrike">
              <a:solidFill>
                <a:srgbClr val="333333"/>
              </a:solidFill>
              <a:latin typeface="Microsoft Sans Serif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2494080"/>
            <a:ext cx="633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比一比：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比谁认的词语多，得分高。</a:t>
            </a:r>
            <a:endParaRPr b="0" lang="en-US" sz="4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2720" y="1660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挂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东西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5960" y="1660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街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道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32480" y="1660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熟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人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86480" y="1660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小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伙伴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03840" y="3444840"/>
            <a:ext cx="9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尝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一尝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596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香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甜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3248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温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暖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8496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冷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冻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084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洗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脸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596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应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该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844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因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为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8496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季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节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05680" y="1197000"/>
            <a:ext cx="7412400" cy="642600"/>
            <a:chOff x="1705680" y="1197000"/>
            <a:chExt cx="7412400" cy="642600"/>
          </a:xfrm>
        </p:grpSpPr>
        <p:sp>
          <p:nvSpPr>
            <p:cNvPr id="104" name=""/>
            <p:cNvSpPr/>
            <p:nvPr/>
          </p:nvSpPr>
          <p:spPr>
            <a:xfrm>
              <a:off x="1705680" y="1197000"/>
              <a:ext cx="10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guà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2200" y="119700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jiē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5520" y="1197000"/>
              <a:ext cx="96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shú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42680" y="1197000"/>
              <a:ext cx="207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huǒ bàn</a:t>
              </a:r>
              <a:r>
                <a:rPr b="0" lang="en-US" sz="3600" spc="-1" strike="noStrike">
                  <a:solidFill>
                    <a:srgbClr val="5f5f5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03280" y="2709720"/>
            <a:ext cx="7229520" cy="1068840"/>
            <a:chOff x="1403280" y="2709720"/>
            <a:chExt cx="7229520" cy="1068840"/>
          </a:xfrm>
        </p:grpSpPr>
        <p:sp>
          <p:nvSpPr>
            <p:cNvPr id="109" name=""/>
            <p:cNvSpPr/>
            <p:nvPr/>
          </p:nvSpPr>
          <p:spPr>
            <a:xfrm>
              <a:off x="1403280" y="2709720"/>
              <a:ext cx="131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cc"/>
                  </a:solidFill>
                  <a:latin typeface="Comic Sans MS"/>
                </a:rPr>
                <a:t>cháng</a:t>
              </a:r>
              <a:endParaRPr b="0" lang="en-US" sz="32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33360" y="2717640"/>
              <a:ext cx="10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cc"/>
                  </a:solidFill>
                  <a:latin typeface="Gungsuh"/>
                  <a:ea typeface="Gungsuh"/>
                </a:rPr>
                <a:t>tián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75000" y="271764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8880" y="2717640"/>
              <a:ext cx="130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dòng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03840" y="4616280"/>
            <a:ext cx="5585040" cy="642600"/>
            <a:chOff x="2103840" y="4616280"/>
            <a:chExt cx="5585040" cy="642600"/>
          </a:xfrm>
        </p:grpSpPr>
        <p:sp>
          <p:nvSpPr>
            <p:cNvPr id="114" name=""/>
            <p:cNvSpPr/>
            <p:nvPr/>
          </p:nvSpPr>
          <p:spPr>
            <a:xfrm>
              <a:off x="2103840" y="4616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liǎn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06440" y="4616280"/>
              <a:ext cx="8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gāi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66160" y="4616280"/>
              <a:ext cx="81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yīn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73440" y="4616280"/>
              <a:ext cx="41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jì</a:t>
              </a:r>
              <a:endParaRPr b="0" lang="en-US" sz="36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853920"/>
            <a:ext cx="266688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3480" y="594360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772400" y="5105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65800" y="2925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  <a:ea typeface="华文中宋"/>
              </a:rPr>
              <a:t>wēn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25640" y="1557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挂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东西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55960" y="1660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街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道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32480" y="1660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熟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人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61080" y="1628640"/>
            <a:ext cx="212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小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伙伴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3840" y="3444840"/>
            <a:ext cx="9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尝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一尝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012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香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甜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756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温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暖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8496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冷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冻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084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洗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脸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96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应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该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0844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因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为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8496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季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节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08000" y="1197000"/>
            <a:ext cx="7396200" cy="641160"/>
            <a:chOff x="1908000" y="1197000"/>
            <a:chExt cx="7396200" cy="641160"/>
          </a:xfrm>
        </p:grpSpPr>
        <p:sp>
          <p:nvSpPr>
            <p:cNvPr id="135" name=""/>
            <p:cNvSpPr/>
            <p:nvPr/>
          </p:nvSpPr>
          <p:spPr>
            <a:xfrm>
              <a:off x="1908000" y="1197000"/>
              <a:ext cx="898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3120" y="1197000"/>
              <a:ext cx="725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0680" y="1197000"/>
              <a:ext cx="908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94400" y="1197000"/>
              <a:ext cx="1909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853920"/>
            <a:ext cx="2666880" cy="420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924360" y="189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7772400" y="5105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50920" y="620640"/>
            <a:ext cx="8458920" cy="5473440"/>
            <a:chOff x="250920" y="620640"/>
            <a:chExt cx="8458920" cy="5473440"/>
          </a:xfrm>
        </p:grpSpPr>
        <p:pic>
          <p:nvPicPr>
            <p:cNvPr id="143" name="Picture 3" descr="底"/>
            <p:cNvPicPr/>
            <p:nvPr/>
          </p:nvPicPr>
          <p:blipFill>
            <a:blip r:embed="rId2"/>
            <a:srcRect l="54818" t="0" r="2755" b="0"/>
            <a:stretch/>
          </p:blipFill>
          <p:spPr>
            <a:xfrm>
              <a:off x="5198040" y="620640"/>
              <a:ext cx="3511800" cy="54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" descr="底"/>
            <p:cNvPicPr/>
            <p:nvPr/>
          </p:nvPicPr>
          <p:blipFill>
            <a:blip r:embed="rId3"/>
            <a:srcRect l="0" t="0" r="40277" b="0"/>
            <a:stretch/>
          </p:blipFill>
          <p:spPr>
            <a:xfrm>
              <a:off x="250920" y="620640"/>
              <a:ext cx="4943880" cy="54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1627200" y="2347920"/>
            <a:ext cx="6324120" cy="1695600"/>
            <a:chOff x="1627200" y="2347920"/>
            <a:chExt cx="6324120" cy="1695600"/>
          </a:xfrm>
        </p:grpSpPr>
        <p:sp>
          <p:nvSpPr>
            <p:cNvPr id="146" name="Line 6"/>
            <p:cNvSpPr/>
            <p:nvPr/>
          </p:nvSpPr>
          <p:spPr>
            <a:xfrm>
              <a:off x="1627200" y="4043520"/>
              <a:ext cx="63241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>
              <a:off x="1627200" y="2347920"/>
              <a:ext cx="63241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48" name="Rectangle 8"/>
          <p:cNvSpPr/>
          <p:nvPr/>
        </p:nvSpPr>
        <p:spPr>
          <a:xfrm>
            <a:off x="1547640" y="2276640"/>
            <a:ext cx="6369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挂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街  熟  伙  伴  尝   甜  温  冻  脸  该  因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季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71640" y="333360"/>
            <a:ext cx="4572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桌合作交流识字方法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26:40Z</dcterms:created>
  <dc:creator>Administrator</dc:creator>
  <dc:description/>
  <dc:language>en-US</dc:language>
  <cp:lastModifiedBy>User</cp:lastModifiedBy>
  <dcterms:modified xsi:type="dcterms:W3CDTF">2014-04-10T12:24:15Z</dcterms:modified>
  <cp:revision>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