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61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AA3-BEC4-41C0-B073-18CBC3964CE4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ftr" idx="62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 type="sldNum" idx="63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BBF6-BB87-46FF-AF76-632929A14C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灯片编号占位符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988A-CE5D-4120-8326-60FD7B3617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灯片编号占位符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990-5ACC-463B-A997-89A8A899DB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7726-81D0-47C9-AA03-327D337F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08C7-E32C-46C2-AB48-AB311EBC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9E69-6F96-47D7-BF95-C72FACE0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A7FB9-DB9D-46C5-B655-1BC964F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AB5C-FD62-4E6C-92AA-0BD396AE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50B67-8D86-4B6C-810D-EAF4D5C1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B8BD-AD52-4F69-B44A-0F932BA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53D6-FA6E-4681-83CB-B6C29C21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E5EB3-CD03-4423-AA1C-088F4422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C6C5D-DD5B-4A74-8FCF-92626296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784EC-5158-41D6-9ADF-F4A82FB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B4DF-0D93-4C98-87B3-D98ADF20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891F-7ABD-44D0-96EB-35A31EAA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81BF-035A-4D0A-9BA7-EEE86821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15DA-A823-4E52-A796-34C21EF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A7C3-1F4D-45A0-BAD9-B9315DE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6CE8-11C1-47FD-8768-A0A3B008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C5F3-1EFC-427B-8BA3-0A00E64B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DAA4F-1FDF-4416-8C82-304127D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EBA1-3E3F-482A-B549-2F3CA717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0CDC5-5779-40C5-930B-F4318580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B42E0-51A0-47FD-9906-45381285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B7D2B-451A-4C0B-81CE-2A16F072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A9E1F-BDA7-4D17-8315-45C3AEB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82BF8-A5E5-49F1-BE69-45B7C490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4EFBA-9AFE-4655-BBA6-A5BF2C8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B6A37-B2E6-4476-A9BF-54E7F54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172D7-7D7D-47CD-9F82-7734BDDF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C334-1EE5-4442-ADF1-D0ED2A5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581BE-FDDB-4DB6-A79D-DEAC01B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7881B-C433-4B1A-980B-1819A640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C1DCF-D8EB-4736-8EBB-29BB2181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482C2-BD30-4CD2-80E2-9715742D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AE0D8-ED3A-4377-9AFE-6C9E2836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3DE56-DD64-4549-A9F0-E701BCEE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594AF-1A97-48D0-BC3F-EF7A182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9D10C-9F96-4680-A9AD-833035BE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E4AE-D655-467A-ABD3-65F5C203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7C71A-0197-46BF-ACB5-AA61873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D9C0B-F7C0-4F6E-9E49-E47DC05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2BDB6-AA1C-4530-95E6-6D7B8574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B8272-3773-457B-8111-7F0DF04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38271-450C-4C2D-85C0-A7B6E30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595FB-3E0A-4D52-805B-4E159B27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CB19-9158-44B4-8379-723C88D8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13DC3-AE14-4588-AB0E-0AAD530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B206E-8824-450A-8FF7-02F87435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241C0-8810-4C97-B570-053FCDE6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72D20-F52B-4CA4-891F-B6F9D2FB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F522C-FABA-4ED9-A353-8A85B3F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FA7DA-B9B2-4E51-BA41-202AB3E5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2FDBC-DA40-4484-AC89-BE9A8FA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2C3D2-48EA-4246-AC86-D1D1929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9BDD2-2FCB-4E96-907D-7164AAC8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71C7A-010D-4A0D-B9A4-932EB9F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D12B8-FE0D-4E9E-9032-0FF4D281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D941-9063-454E-85E4-F4777BDE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1FAB5-FAB7-42CB-AA61-A55B4506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2227B-9263-4B2A-A6B5-D9E9B42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E9ED9-4187-4B3F-9883-2640DF6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1A181-D164-468D-85F7-DA7E1820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46F88-8297-469E-B49F-A985737B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B7E11-8648-44EC-BF94-4A4D7CE8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CE005-05CF-4E95-B803-9EB29BA8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AF227-BDD8-4CB1-8000-62FB80D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EA0CD-B9F6-46E9-B94D-9BFDC76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48E0B-66D1-40E4-A6E4-C0C18AF6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D3C19-42F3-4E79-AC50-7D5D9B40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4115F-A95D-45F4-96D9-40A42FD4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4C2E3-0982-4C64-BF8E-0C24518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CD49D-19B4-4BB5-9063-03C193D5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78FBB-1C23-4E97-A2DC-75D245EB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A1040-0A8A-45C4-AC8A-03EF630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9C457-B258-49A6-9732-8506B6C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A7A12-68C0-4C13-93DF-309290FF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F7C82-D5D6-4FE7-8A62-665A133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5D369-0E79-4BB8-884B-F9C92DC3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7455A-3FF3-4121-BBD7-CF08609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BCD71-6C91-4A39-9D66-5DC38278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23384-91CA-4404-AAB3-A2665CB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C17D3-B799-4058-8E28-7F067975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5DF01-DC45-4C5E-89E0-762A8BC1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D2CDB-8818-44DF-A8FF-62F0162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A556B-AA34-412D-84DE-F04484A5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4FD43-AB7C-4DC2-AD6C-676F5F82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6F9BD-18A6-48CA-B359-2414700A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26183-C3B2-4D2D-BB94-C0B362EE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54B2A-C554-4197-9409-917BDB9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23886-29FC-4D63-8941-EA23E23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A390A-EA32-401C-A394-58F7CBF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51507-300E-4230-BAA3-6660FCE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24DF5-A40D-4E7E-BBFC-AAC2770A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BA01D-17D5-4E87-9159-BD8CD196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F3C28-91AB-4514-8BCE-A3C7F4B4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0C601-88D3-4283-ABF2-FC64C968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51186-9B8B-4B27-8D02-E7E7F0BB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8E5F8-3DED-4894-A8EC-1DBBEDC7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850D6-B1EB-482F-8570-4D7AC3E6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320FE-7427-4661-BFD0-6FBDEE2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09901-BC02-4D41-A3DA-B0E33042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E9D72-8F76-4C68-8683-B4F6B4A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D9C6F-2069-453F-807D-A8973AE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C4548-AF50-4152-A6B5-A8140009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CC132-9D6C-4413-B85A-AA45CC4A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B55F4-1914-4996-B032-98E2A7F1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27223-4A2A-42D2-891A-6E9C0FAF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86B31-A629-4C23-8737-EBF07D5F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24D80-6852-4A10-B82D-9538C6C7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09761-462A-4492-968D-1AF61024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4CFFC-05FF-4FB7-9572-F2027263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79015-1A87-409B-83C7-BC28D0C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ECB21-8E38-48C3-87D2-DF495271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2B97D-47D6-4BC5-9EC1-AB4F0E5C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220B8-9A37-4A3D-87DB-0B556AE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04E3E-D8D2-4DB8-AA7B-5C25B58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1F55C-ED0A-4404-9884-0324112A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3B9BD-F204-4A1B-8456-EF2519D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AE2FE-51D9-4184-8635-E1028653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972CB-4321-4295-8D61-2E9317CE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807B7-68CD-4A92-8098-CDC0175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C7885-F6C0-434D-83D9-52567CA7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CE7FE-A98E-4EE3-AF6A-6815D4D9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2C264-45C7-4C12-82CE-C4AC3C2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E647D-F394-444C-98FE-ABB5E84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7B2F7-1542-4FE4-833E-3175AE4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AACE9-FB30-4F82-BEAA-3521462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1755E-EEEC-4947-906F-D1164D6C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C9B16-E2AC-4DE1-A00D-4D42F002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11E46-E16F-4045-8D73-A2102B77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4AA6E-3878-48D9-9DD6-036BDBF1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41FE0-7A95-4E5F-AB34-DB88F083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50329-B5D5-4AAE-948E-58D567A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72F21-D5CB-4C75-A4B6-B5F295B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C0CAB-8353-4352-A2C1-C85DCD8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6BF0C-2051-4618-9B22-DB84C30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9B8ED-7155-4BCA-8CF1-C22AA7F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3502F-3939-427F-B191-0A96296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48162-0760-4503-98A1-8AC7BC8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1CDE7-BBE1-46FD-A493-D9BAC3E4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2B7A7-0D68-4606-8571-AB685ED2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E06CA-C3B6-4240-9A0F-BE1EF97B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84A05-0F82-4852-865D-C0731746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08F70-5519-4668-9820-B6C3E96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B0163-ADB6-4CF2-848E-287F9B6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E3D15-B650-459C-93AC-1503A59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09272-9532-465A-A21E-D6B9FB7C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A5F48-D4F4-4070-8D5C-30DEDA0B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55231-4E03-4E5F-84BD-09E4332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F09CC-0982-40F7-B39D-0FCA958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1E1C9-09BB-4936-97F7-CD94B9C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D02-5A61-4542-8C1C-5577326C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2ECC5-C466-492D-BF90-2F242F2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FB769-5A96-4ECA-B949-6ADA26E9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040CC-2997-461D-96D6-557D65A6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822E2-8BB4-4365-A123-8FA38D93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517451-5C7A-47D2-89F4-AAFBDEB6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B18912-00DE-4351-9E91-6343ECE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7C015-0C9A-444D-B054-1A8FB382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BDBF0-B87D-45C2-859F-25C36482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B3E10-C667-4161-94C2-CCD617ED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F26D9-1E37-49BA-942E-2CEE100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4DB-3206-41C4-A95C-E960B44C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FC304-E66D-4491-8E9C-AA1CB48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9EB42-074D-43C3-8E11-777F33A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7C36F-B751-440E-8492-C7B4C4E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42284-3A35-4391-842B-DBC39998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B2803-4D02-4978-96D7-692BAC3F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934-2468-494E-953F-1B66D844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DD8-0929-4F57-ACC6-CF60BC4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428-CEFC-4B25-9C91-1990E8BE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FF8-9457-4454-A4CE-AF725ED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F38-56F1-4D00-9237-BB155FE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943-5658-43F8-ACCD-0126386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D46-266E-4745-90A7-564C0B9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B13-F295-408C-BDF4-32E2B8A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281-42B5-4F3B-BBC0-DA09E6CE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66A-A5E1-4189-9404-E8BECAFC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0BC6-4C13-49DA-A016-DA7DBC3E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CAEA-5C27-4039-BC39-A45D888C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6721-65F3-48AA-8C8C-6372DCDE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E8B3-BC46-463D-87CD-9B58277C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B82-51A5-4844-B0CC-88071EA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174D-0A6D-4635-AA2B-8F7C3A4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C42F-198A-4C9A-9725-5C88A1A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97EE-F093-4F0D-95BC-60C55CD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734B-4C8D-47B7-B3A4-2C4C213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383D-B134-466A-B0CD-8F73BA7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E757-D136-4342-98C0-47599C6B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7331-28F0-45F9-BB48-475E3361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A3CD-DF26-4355-993E-5E647555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7AA0-3271-4CEF-BA3E-72409A45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9175-AD02-4ED1-B485-42DA550F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3A5F-C6C6-49DE-A3BE-E3CB9F93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D669-EC93-41D7-9B04-8A80D5D3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0B99-23F0-481F-B79E-D868432C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0C3E-F478-48E9-94E5-3985825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B2E6-6E3F-4C83-8BE5-7576138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F86A-A017-42F9-9288-7D9D7C84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EE4C-1BE6-4C4F-8725-A45718B4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A853-06C6-4C5E-A784-998839F0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C311-E2F6-4534-8209-7058EC98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957B-E121-4E98-B20C-0679FE17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9D24-D8F2-41AB-A054-9B3DEEBE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9D4F-4E31-4EEA-A95A-49C7E5B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5120-847E-448D-80CF-0EF6E5B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9A38-43D7-45DA-AE74-60272FB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C052-8FF2-4BD4-A442-EF49229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143F-CDF2-466B-BEF9-87F080B4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CD20-DD0C-4AE0-9D48-A130419E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207F-AD0E-4963-96AD-20CBDF5E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220C-AA9E-4955-9265-8E126BF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A878-8DFC-4A60-BB58-40751529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059D-8566-43D6-BFF6-8B7D4EBA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103F6-5F8B-4209-ABA2-4FD85240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1658-6BD9-4D7E-B356-E010C1D8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6002-71FE-4BAD-9EFB-39675120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9F4C-A1B7-4558-B7FB-6FEC1BD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800D-7E56-4272-8717-59634DEB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FE8F-96DF-4385-B1E9-965C5BF1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D91C-EFC5-4473-9B01-28E1806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1B32-8D8E-48A7-BF2F-42E7B3B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06BA-8B18-4649-A4EB-95124EA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5A2B-747B-401C-AFEE-F872105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AC215-50ED-4753-858E-96F00C69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776A-D9CE-4C41-8E57-617F7D72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9357-7330-4284-B633-F162C28D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18CE-9884-4BFE-B70B-4EDC8EE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85E2-3F20-4EB9-8FCE-E945048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BCF65-CB9F-4C1F-B36B-230BFED5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8F97-1049-4B6F-9E6A-DBB3C61B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A824-6388-4B1F-B5ED-FEDBFBA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9DED-1AED-457F-8B38-30EA8AF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262B1-3367-4CDA-8FA7-65358AF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68A2-9183-4BD0-B988-4F569125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DE60E-A431-4515-8A67-5E7D99B9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BE2E2-49E2-49FD-9C39-A13A8883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B115-E6E0-4CB1-8118-707B8729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03B05-2C0F-4FF5-9315-861F7D9E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D90F-3E0A-4086-86AE-2001821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F4C2-E226-42D4-AF28-CBC4F82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7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8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4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4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2FA-E3F7-4A02-835E-A728A18DAA4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1FB-8D38-4BB9-8CDD-70E9DA4F2C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4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4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CBB5-8553-4469-84CA-E55F8E93437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1A4-8201-4019-A9A0-6F696509DB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13FD-49BF-4476-BB67-11F5C944C47E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5A41-943E-4117-B340-F106C81A13E1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8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A9F-AC68-40A6-953D-BD38FD4D8B3D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45CD-E976-4DBF-9772-49D3DCBF49AF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520-07C3-4AC0-875A-418103BCEB5D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E33-E6AA-4F74-BD67-910D580E3DCF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676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679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7E1-2EC6-4BFC-AD0B-92E9E55FC742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4AC-D08A-4047-9FFE-3AE6541DBFEB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72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4C7-41A1-4301-A640-FF3429CE47B3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7117-5578-483F-BCFB-29CA5627F93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312-1046-42A4-ACD4-78681B24646F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F001-57A2-43C5-97F7-75B88450DB93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81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CE80-EC37-4ABE-89AB-A96F5055E0EE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F034-6F82-4652-B248-9C4C09049439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859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0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C4D-FC9E-4363-834F-A7F159C2D130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FC53-3859-484D-B293-7371D0588FC8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904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5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E457-0F3B-4172-A24B-17D6F182012B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0877-6157-463E-B565-41CE1E091D3F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949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0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8937-4492-46AD-B72E-9D5589C246B9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DE34-1811-4A79-AB1C-DD6808523BEB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6A2-3318-4598-AF62-7A7FE8F5F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7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998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0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BE2-B539-4996-8B67-B826976972A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EC1-E944-4E01-8CB6-2A0E0BE460D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1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542B-B167-448D-AD8B-51AD00800B4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2B51-D8B5-4FDA-ABFF-0BAD61025ED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1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887-38FE-46F3-8A43-3C299C70B19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B3DE-7303-4739-B80F-CC7E20D1B01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F54-48D5-4572-849F-741EA866E6F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D87E-E736-4EC5-B094-BA04BED190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2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52E7-86F7-471E-8203-C17890EA2AD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4CB3-0100-422B-BF84-742C362AD7E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3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3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147C-ADCD-4AE2-9D4D-8D3E6390EBE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B29-DC1E-4A5C-991D-794A3B8C74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3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8841-7D07-41EC-922E-6D23AF0D77F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D0BF-ADD9-4BBF-93AB-9BD3E8A1221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0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文本框 1"/>
          <p:cNvSpPr/>
          <p:nvPr/>
        </p:nvSpPr>
        <p:spPr>
          <a:xfrm>
            <a:off x="957240" y="2357280"/>
            <a:ext cx="72295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*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顾茅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罗贯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文本框 9382"/>
          <p:cNvSpPr/>
          <p:nvPr/>
        </p:nvSpPr>
        <p:spPr>
          <a:xfrm>
            <a:off x="333360" y="1093680"/>
            <a:ext cx="827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雷贯耳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文本框 1"/>
          <p:cNvSpPr/>
          <p:nvPr/>
        </p:nvSpPr>
        <p:spPr>
          <a:xfrm>
            <a:off x="333360" y="3073320"/>
            <a:ext cx="82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贤如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文本框 2"/>
          <p:cNvSpPr/>
          <p:nvPr/>
        </p:nvSpPr>
        <p:spPr>
          <a:xfrm>
            <a:off x="333360" y="4027320"/>
            <a:ext cx="827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顿开茅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矩形 4"/>
          <p:cNvSpPr/>
          <p:nvPr/>
        </p:nvSpPr>
        <p:spPr>
          <a:xfrm>
            <a:off x="2530440" y="1001880"/>
            <a:ext cx="6037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是响亮得像雷声传进耳朵里。形容人的名声大，也形容声音巨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矩形 5"/>
          <p:cNvSpPr/>
          <p:nvPr/>
        </p:nvSpPr>
        <p:spPr>
          <a:xfrm>
            <a:off x="2592360" y="3119400"/>
            <a:ext cx="54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喻迫切地想延致有才德的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矩形 6"/>
          <p:cNvSpPr/>
          <p:nvPr/>
        </p:nvSpPr>
        <p:spPr>
          <a:xfrm>
            <a:off x="2556000" y="4146480"/>
            <a:ext cx="6300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喻受到启发，思想豁然开窍，立刻明白了某个道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19"/>
          <p:cNvGrpSpPr/>
          <p:nvPr/>
        </p:nvGrpSpPr>
        <p:grpSpPr>
          <a:xfrm>
            <a:off x="716040" y="851040"/>
            <a:ext cx="3236400" cy="836640"/>
            <a:chOff x="716040" y="851040"/>
            <a:chExt cx="3236400" cy="836640"/>
          </a:xfrm>
        </p:grpSpPr>
        <p:pic>
          <p:nvPicPr>
            <p:cNvPr id="108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716040" y="851040"/>
              <a:ext cx="3236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文本框 2"/>
            <p:cNvSpPr/>
            <p:nvPr/>
          </p:nvSpPr>
          <p:spPr>
            <a:xfrm>
              <a:off x="1363680" y="932040"/>
              <a:ext cx="230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8" name="文本框 1"/>
          <p:cNvSpPr/>
          <p:nvPr/>
        </p:nvSpPr>
        <p:spPr>
          <a:xfrm>
            <a:off x="396720" y="1873080"/>
            <a:ext cx="63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说文本可分为几个部分，简要概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文本框 2"/>
          <p:cNvSpPr/>
          <p:nvPr/>
        </p:nvSpPr>
        <p:spPr>
          <a:xfrm>
            <a:off x="396720" y="2492280"/>
            <a:ext cx="8218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第一部分：刘备第三次拜访诸葛亮的过程。适逢诸葛亮正在午睡，于是刘备立于厅前等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2"/>
          <p:cNvSpPr/>
          <p:nvPr/>
        </p:nvSpPr>
        <p:spPr>
          <a:xfrm>
            <a:off x="396720" y="4044960"/>
            <a:ext cx="8218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第二部分：诸葛亮醒后，刘备咨以天下之事并邀之出山辅助的过程。这便是著名的“隆中对”部分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19"/>
          <p:cNvGrpSpPr/>
          <p:nvPr/>
        </p:nvGrpSpPr>
        <p:grpSpPr>
          <a:xfrm>
            <a:off x="439560" y="977760"/>
            <a:ext cx="2976480" cy="868320"/>
            <a:chOff x="439560" y="977760"/>
            <a:chExt cx="2976480" cy="868320"/>
          </a:xfrm>
        </p:grpSpPr>
        <p:pic>
          <p:nvPicPr>
            <p:cNvPr id="109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39560" y="977760"/>
              <a:ext cx="297648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文本框 2"/>
            <p:cNvSpPr/>
            <p:nvPr/>
          </p:nvSpPr>
          <p:spPr>
            <a:xfrm>
              <a:off x="1127880" y="1065960"/>
              <a:ext cx="22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人物形象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文本框 1"/>
          <p:cNvSpPr/>
          <p:nvPr/>
        </p:nvSpPr>
        <p:spPr>
          <a:xfrm>
            <a:off x="379440" y="1685880"/>
            <a:ext cx="80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结合课文分析：诸葛亮、刘备、张飞各自有怎样的性格特征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5" name="图片 2" descr=""/>
          <p:cNvPicPr/>
          <p:nvPr/>
        </p:nvPicPr>
        <p:blipFill>
          <a:blip r:embed="rId2"/>
          <a:stretch/>
        </p:blipFill>
        <p:spPr>
          <a:xfrm>
            <a:off x="2146320" y="3236760"/>
            <a:ext cx="485280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文本框 1"/>
          <p:cNvSpPr/>
          <p:nvPr/>
        </p:nvSpPr>
        <p:spPr>
          <a:xfrm>
            <a:off x="398520" y="9414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诸葛亮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文本框 2"/>
          <p:cNvSpPr/>
          <p:nvPr/>
        </p:nvSpPr>
        <p:spPr>
          <a:xfrm>
            <a:off x="255600" y="1550880"/>
            <a:ext cx="8780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高风亮节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诸葛亮有一身才华，却甘心做“南阳野人”，刘皇叔若非一片赤诚，不能邀其出山，可见其本心也不愿流落世俗，是高风亮节之行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②仁心爱人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皇叔为天下苍生计，诸葛亮方表示愿效犬马之劳，这是儒者大义，足见其一片仁义。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聪睿过人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句“大梦谁先觉？平生我自知”是智慧的宣言，不出茅庐，而已知“三分天下”，足见诸葛亮之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文本框 1"/>
          <p:cNvSpPr/>
          <p:nvPr/>
        </p:nvSpPr>
        <p:spPr>
          <a:xfrm>
            <a:off x="507960" y="137484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刘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文本框 2"/>
          <p:cNvSpPr/>
          <p:nvPr/>
        </p:nvSpPr>
        <p:spPr>
          <a:xfrm>
            <a:off x="3494160" y="1965240"/>
            <a:ext cx="53719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仁心爱人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备求贤若渴，非是为了一己之私，在诸葛亮未应出山时，刘备泣曰“先生不出，如苍生何”，是为苍生计，以此可见其仁人之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0" name="图片 1" descr=""/>
          <p:cNvPicPr/>
          <p:nvPr/>
        </p:nvPicPr>
        <p:blipFill>
          <a:blip r:embed="rId1"/>
          <a:stretch/>
        </p:blipFill>
        <p:spPr>
          <a:xfrm>
            <a:off x="507960" y="2016000"/>
            <a:ext cx="2874960" cy="38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文本框 2"/>
          <p:cNvSpPr/>
          <p:nvPr/>
        </p:nvSpPr>
        <p:spPr>
          <a:xfrm>
            <a:off x="336600" y="1604880"/>
            <a:ext cx="8299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诚心求贤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备为见得诸葛亮，不顾贵胄身份，“凡三往”，可见其求贤之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虚心求教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备自知谋略不足，因此请见诸葛亮，言“开备愚鲁而赐教”，可见其请教虚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待人宽和有耐心；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张飞表现出急性子时，刘备表现出的是一种耐心与宽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有远大的政治抱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文本框 1"/>
          <p:cNvSpPr/>
          <p:nvPr/>
        </p:nvSpPr>
        <p:spPr>
          <a:xfrm>
            <a:off x="398520" y="89676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张飞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2"/>
          <p:cNvSpPr/>
          <p:nvPr/>
        </p:nvSpPr>
        <p:spPr>
          <a:xfrm>
            <a:off x="407880" y="1916280"/>
            <a:ext cx="29498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鲁莽、直爽，直扬言将诸葛亮“用一条麻绳缚将来”，足见其行事鲁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Picture 3" descr=""/>
          <p:cNvPicPr/>
          <p:nvPr/>
        </p:nvPicPr>
        <p:blipFill>
          <a:blip r:embed="rId1"/>
          <a:stretch/>
        </p:blipFill>
        <p:spPr>
          <a:xfrm>
            <a:off x="3844800" y="1541520"/>
            <a:ext cx="4697640" cy="46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482760" y="2228760"/>
            <a:ext cx="808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读：“又立了一个时辰，孔明才醒……以成鼎足之势，然后可图中原也。”完成以下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6" name="Group 19"/>
          <p:cNvGrpSpPr/>
          <p:nvPr/>
        </p:nvGrpSpPr>
        <p:grpSpPr>
          <a:xfrm>
            <a:off x="476280" y="1033560"/>
            <a:ext cx="2955600" cy="945720"/>
            <a:chOff x="476280" y="1033560"/>
            <a:chExt cx="2955600" cy="945720"/>
          </a:xfrm>
        </p:grpSpPr>
        <p:pic>
          <p:nvPicPr>
            <p:cNvPr id="110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76280" y="1033560"/>
              <a:ext cx="295560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文本框 2"/>
            <p:cNvSpPr/>
            <p:nvPr/>
          </p:nvSpPr>
          <p:spPr>
            <a:xfrm>
              <a:off x="1194120" y="111060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矩形 6"/>
          <p:cNvSpPr/>
          <p:nvPr/>
        </p:nvSpPr>
        <p:spPr>
          <a:xfrm>
            <a:off x="417600" y="898560"/>
            <a:ext cx="8039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全文内容，说一说你对诸葛亮所吟的四句诗的理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文本框 2"/>
          <p:cNvSpPr/>
          <p:nvPr/>
        </p:nvSpPr>
        <p:spPr>
          <a:xfrm>
            <a:off x="417600" y="2254320"/>
            <a:ext cx="81709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大梦谁先觉？平生我自知”：暗示诸葛亮“未出茅庐，已知三分天下” 的雄才大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草堂春睡足，窗外日迟迟”：写出了诸葛亮淡泊名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2"/>
          <p:cNvSpPr/>
          <p:nvPr/>
        </p:nvSpPr>
        <p:spPr>
          <a:xfrm>
            <a:off x="901800" y="518796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这四句诗为下文故事情节的发展做了铺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矩形 6"/>
          <p:cNvSpPr/>
          <p:nvPr/>
        </p:nvSpPr>
        <p:spPr>
          <a:xfrm>
            <a:off x="399960" y="1195560"/>
            <a:ext cx="8467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作者安排通过刘备的视线写诸葛亮的相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文本框 2"/>
          <p:cNvSpPr/>
          <p:nvPr/>
        </p:nvSpPr>
        <p:spPr>
          <a:xfrm>
            <a:off x="174600" y="1979640"/>
            <a:ext cx="626436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玄德见孔明身长八尺，面如冠玉，头戴纶巾，身披鹤氅，飘飘然有神仙之概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方面写出诸葛亮的气宇轩昂、神异不凡，另一方面更加坚定了刘备对诸葛亮的信任，确实有将相之才，又为下文的一再邀请做了铺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6551640" y="2116080"/>
            <a:ext cx="2592360" cy="39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文本框 1"/>
          <p:cNvSpPr/>
          <p:nvPr/>
        </p:nvSpPr>
        <p:spPr>
          <a:xfrm>
            <a:off x="355680" y="2116080"/>
            <a:ext cx="8296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梳理文章，理清文脉结构，体会情节的一波三折，品味精炼畅达的语言。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抓文章塑造人物的关键语句，分析人物形象，把握人物性格特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8" name="Group 19"/>
          <p:cNvGrpSpPr/>
          <p:nvPr/>
        </p:nvGrpSpPr>
        <p:grpSpPr>
          <a:xfrm>
            <a:off x="160200" y="887400"/>
            <a:ext cx="3155760" cy="923400"/>
            <a:chOff x="160200" y="887400"/>
            <a:chExt cx="3155760" cy="923400"/>
          </a:xfrm>
        </p:grpSpPr>
        <p:pic>
          <p:nvPicPr>
            <p:cNvPr id="104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887400"/>
              <a:ext cx="315576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2"/>
            <p:cNvSpPr/>
            <p:nvPr/>
          </p:nvSpPr>
          <p:spPr>
            <a:xfrm>
              <a:off x="889920" y="950040"/>
              <a:ext cx="22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6"/>
          <p:cNvSpPr/>
          <p:nvPr/>
        </p:nvSpPr>
        <p:spPr>
          <a:xfrm>
            <a:off x="291960" y="1031760"/>
            <a:ext cx="8359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诸葛亮为刘备分析天下大势的内容被后人称作“隆中对”，请你说说“隆中对”是如何帮助刘备分析大下大势的，“隆中对”的内容有何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2"/>
          <p:cNvSpPr/>
          <p:nvPr/>
        </p:nvSpPr>
        <p:spPr>
          <a:xfrm>
            <a:off x="314280" y="3370320"/>
            <a:ext cx="83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可对此战略布局做详细分析，绘制地图，感受诸葛亮之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文本框 1"/>
          <p:cNvSpPr/>
          <p:nvPr/>
        </p:nvSpPr>
        <p:spPr>
          <a:xfrm>
            <a:off x="1359000" y="1184400"/>
            <a:ext cx="6426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曹操，诚不可与争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孙权，可以为援而不可图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荆州，可争，作为根据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益州，可图，作为根据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1"/>
          <p:cNvSpPr/>
          <p:nvPr/>
        </p:nvSpPr>
        <p:spPr>
          <a:xfrm>
            <a:off x="3051000" y="4346640"/>
            <a:ext cx="27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成霸业，兴汉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下箭头 2"/>
          <p:cNvSpPr/>
          <p:nvPr/>
        </p:nvSpPr>
        <p:spPr>
          <a:xfrm>
            <a:off x="4282920" y="4348080"/>
            <a:ext cx="578160" cy="45108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rcRect l="12068" t="0" r="0" b="8034"/>
          <a:stretch/>
        </p:blipFill>
        <p:spPr>
          <a:xfrm>
            <a:off x="528480" y="1235160"/>
            <a:ext cx="816300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矩形 6"/>
          <p:cNvSpPr/>
          <p:nvPr/>
        </p:nvSpPr>
        <p:spPr>
          <a:xfrm>
            <a:off x="291960" y="1031760"/>
            <a:ext cx="8463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写刘备听完了诸葛亮对天下大势的分析后，说“先生之言，顿开茅塞，使备如拨云雾而睹青天”，这句话有什么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文本框 2"/>
          <p:cNvSpPr/>
          <p:nvPr/>
        </p:nvSpPr>
        <p:spPr>
          <a:xfrm>
            <a:off x="338040" y="3394080"/>
            <a:ext cx="83138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侧面烘托诸葛亮神机妙算、足智多谋。诸葛亮对天下大势的分析，也让刘备找到了实现宏愿的途径，兴复汉室有了可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2"/>
          <p:cNvSpPr/>
          <p:nvPr/>
        </p:nvSpPr>
        <p:spPr>
          <a:xfrm>
            <a:off x="498600" y="654120"/>
            <a:ext cx="8435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Rectangle 3"/>
          <p:cNvSpPr/>
          <p:nvPr/>
        </p:nvSpPr>
        <p:spPr>
          <a:xfrm>
            <a:off x="503280" y="1389240"/>
            <a:ext cx="864072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明确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上路之前：张飞嚷道：“这次用不着大哥亲自去。他如果不来，我只要用一根麻绳就把他捆来了！”刘备生气地说：“你一点儿也不懂尊重人才，这次你就不用去了！”刘备责备张飞是因为怕张飞的鲁莽误了他的大事，通过比较朗读突出了他对诸葛亮的敬重，对贤才的渴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0" lang="zh-CN" sz="2800" spc="-1" strike="noStrike">
                <a:solidFill>
                  <a:srgbClr val="44546a"/>
                </a:solidFill>
                <a:latin typeface="楷体"/>
                <a:ea typeface="楷体"/>
              </a:rPr>
              <a:t>“下马步行、轻轻敲门、轻轻走、恭恭敬敬、等了半晌、又等了一个时辰、快步走进”等重点词语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细节描写</a:t>
            </a:r>
            <a:r>
              <a:rPr b="0" lang="zh-CN" sz="2800" spc="-1" strike="noStrike">
                <a:solidFill>
                  <a:srgbClr val="44546a"/>
                </a:solidFill>
                <a:latin typeface="楷体"/>
                <a:ea typeface="楷体"/>
              </a:rPr>
              <a:t>可感悟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刘备对人才的敬重、虔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Box 4"/>
          <p:cNvSpPr/>
          <p:nvPr/>
        </p:nvSpPr>
        <p:spPr>
          <a:xfrm>
            <a:off x="2251440" y="1122840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六月初四正午；黄泥冈松树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矩形 4"/>
          <p:cNvSpPr/>
          <p:nvPr/>
        </p:nvSpPr>
        <p:spPr>
          <a:xfrm>
            <a:off x="826920" y="806400"/>
            <a:ext cx="78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些地方可以看出刘备对诸葛亮的敬重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Picture 6" descr=""/>
          <p:cNvPicPr/>
          <p:nvPr/>
        </p:nvPicPr>
        <p:blipFill>
          <a:blip r:embed="rId1"/>
          <a:stretch/>
        </p:blipFill>
        <p:spPr>
          <a:xfrm>
            <a:off x="851040" y="4846680"/>
            <a:ext cx="2805120" cy="213048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3" descr=""/>
          <p:cNvPicPr/>
          <p:nvPr/>
        </p:nvPicPr>
        <p:blipFill>
          <a:blip r:embed="rId2"/>
          <a:stretch/>
        </p:blipFill>
        <p:spPr>
          <a:xfrm>
            <a:off x="4329000" y="4832280"/>
            <a:ext cx="34419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矩形 7"/>
          <p:cNvSpPr/>
          <p:nvPr/>
        </p:nvSpPr>
        <p:spPr>
          <a:xfrm>
            <a:off x="287280" y="3306600"/>
            <a:ext cx="860580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属于铺垫渲染。例如，首段刘关张三人的不同意见；路遇诸葛均；阶下侍立等昼寝的诸葛亮醒来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在出场前对诸葛亮的烘托、渲染，增加了故事的张力和神秘感，极大地激发了读者的阅读兴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"/>
          <p:cNvSpPr/>
          <p:nvPr/>
        </p:nvSpPr>
        <p:spPr>
          <a:xfrm>
            <a:off x="501480" y="2128680"/>
            <a:ext cx="8141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文章内容，说一说诸葛亮的出场属于哪一种，这样写有什么好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Group 19"/>
          <p:cNvGrpSpPr/>
          <p:nvPr/>
        </p:nvGrpSpPr>
        <p:grpSpPr>
          <a:xfrm>
            <a:off x="438120" y="952560"/>
            <a:ext cx="3093840" cy="817560"/>
            <a:chOff x="438120" y="952560"/>
            <a:chExt cx="3093840" cy="817560"/>
          </a:xfrm>
        </p:grpSpPr>
        <p:pic>
          <p:nvPicPr>
            <p:cNvPr id="113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38120" y="952560"/>
              <a:ext cx="3093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文本框 2"/>
            <p:cNvSpPr/>
            <p:nvPr/>
          </p:nvSpPr>
          <p:spPr>
            <a:xfrm>
              <a:off x="1153440" y="1041480"/>
              <a:ext cx="22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艺术特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矩形 4"/>
          <p:cNvSpPr/>
          <p:nvPr/>
        </p:nvSpPr>
        <p:spPr>
          <a:xfrm>
            <a:off x="523800" y="941400"/>
            <a:ext cx="8096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用诗句作结，请结合文章内容，说一说这样写的好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矩形 1"/>
          <p:cNvSpPr/>
          <p:nvPr/>
        </p:nvSpPr>
        <p:spPr>
          <a:xfrm>
            <a:off x="1177920" y="2405160"/>
            <a:ext cx="678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豫州当日叹孤穷，何幸南阳有卧龙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欲识他年分鼎处，先生笑指画图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未升腾思退步，功成应忆去时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只因先主丁宁后，星落秋风五丈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2" descr=""/>
          <p:cNvPicPr/>
          <p:nvPr/>
        </p:nvPicPr>
        <p:blipFill>
          <a:blip r:embed="rId1"/>
          <a:stretch/>
        </p:blipFill>
        <p:spPr>
          <a:xfrm>
            <a:off x="671400" y="2592360"/>
            <a:ext cx="7802640" cy="3595680"/>
          </a:xfrm>
          <a:prstGeom prst="rect">
            <a:avLst/>
          </a:prstGeom>
          <a:ln w="0">
            <a:noFill/>
          </a:ln>
        </p:spPr>
      </p:pic>
      <p:sp>
        <p:nvSpPr>
          <p:cNvPr id="1137" name="Text Box 4"/>
          <p:cNvSpPr/>
          <p:nvPr/>
        </p:nvSpPr>
        <p:spPr>
          <a:xfrm>
            <a:off x="596880" y="901800"/>
            <a:ext cx="795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善用诗句对所叙之事，所刻画之人进行评点，又为后面的故事埋下了伏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矩形 4"/>
          <p:cNvSpPr/>
          <p:nvPr/>
        </p:nvSpPr>
        <p:spPr>
          <a:xfrm>
            <a:off x="523800" y="1152360"/>
            <a:ext cx="8096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所学课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智取生辰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比，本文的语言并不是纯粹的白话语言，而是通俗语，请你说说为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语言不用白话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矩形 1"/>
          <p:cNvSpPr/>
          <p:nvPr/>
        </p:nvSpPr>
        <p:spPr>
          <a:xfrm>
            <a:off x="1039680" y="3719520"/>
            <a:ext cx="56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涉及史料，难以用白话演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矩形 4"/>
          <p:cNvSpPr/>
          <p:nvPr/>
        </p:nvSpPr>
        <p:spPr>
          <a:xfrm>
            <a:off x="431640" y="1890720"/>
            <a:ext cx="71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探究《三顾茅庐》故事经久不衰之秘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矩形 15"/>
          <p:cNvSpPr/>
          <p:nvPr/>
        </p:nvSpPr>
        <p:spPr>
          <a:xfrm>
            <a:off x="431640" y="2674800"/>
            <a:ext cx="8245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《三顾茅庐》的情节在史书中仅有寥寥几笔，但在罗贯中笔下，这个故事丰润起来，并随着《三国演义》的感染力一同为人熟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2" name="Group 19"/>
          <p:cNvGrpSpPr/>
          <p:nvPr/>
        </p:nvGrpSpPr>
        <p:grpSpPr>
          <a:xfrm>
            <a:off x="476280" y="1014480"/>
            <a:ext cx="3219120" cy="666720"/>
            <a:chOff x="476280" y="1014480"/>
            <a:chExt cx="3219120" cy="666720"/>
          </a:xfrm>
        </p:grpSpPr>
        <p:pic>
          <p:nvPicPr>
            <p:cNvPr id="1143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76280" y="1014480"/>
              <a:ext cx="32191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文本框 2"/>
            <p:cNvSpPr/>
            <p:nvPr/>
          </p:nvSpPr>
          <p:spPr>
            <a:xfrm>
              <a:off x="1260360" y="1026360"/>
              <a:ext cx="214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拓展延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文本框 1"/>
          <p:cNvSpPr/>
          <p:nvPr/>
        </p:nvSpPr>
        <p:spPr>
          <a:xfrm>
            <a:off x="365040" y="1422360"/>
            <a:ext cx="8296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刘备的贤明与诸葛亮的智慧，学习古人“以天下为己任”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罗贯中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相关文学常识，感受中国古典小说的丰富底蕴，培养阅读中国古典小说的兴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矩形 15"/>
          <p:cNvSpPr/>
          <p:nvPr/>
        </p:nvSpPr>
        <p:spPr>
          <a:xfrm>
            <a:off x="318960" y="1413000"/>
            <a:ext cx="831060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《三顾茅庐》的“隆中对”部分，表现了诸葛亮之智，又因其类似于总纲内容，给人深刻印象，因此经久不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③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古代士人都有一个择贤主而事的梦，求贤若渴也是贤君的表现，这正是士大夫乃至平民百姓的理想，因此传唱不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矩形 5"/>
          <p:cNvSpPr/>
          <p:nvPr/>
        </p:nvSpPr>
        <p:spPr>
          <a:xfrm>
            <a:off x="1554120" y="2476440"/>
            <a:ext cx="603576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刘备：   求贤若渴  志向远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诸葛亮： 才略高超  淡泊名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飞：   言行鲁莽  性格直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7" name="Group 19"/>
          <p:cNvGrpSpPr/>
          <p:nvPr/>
        </p:nvGrpSpPr>
        <p:grpSpPr>
          <a:xfrm>
            <a:off x="287280" y="988920"/>
            <a:ext cx="2868480" cy="826920"/>
            <a:chOff x="287280" y="988920"/>
            <a:chExt cx="2868480" cy="826920"/>
          </a:xfrm>
        </p:grpSpPr>
        <p:pic>
          <p:nvPicPr>
            <p:cNvPr id="114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287280" y="988920"/>
              <a:ext cx="28684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文本框 2"/>
            <p:cNvSpPr/>
            <p:nvPr/>
          </p:nvSpPr>
          <p:spPr>
            <a:xfrm>
              <a:off x="950760" y="1040040"/>
              <a:ext cx="21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0" name="矩形 4"/>
          <p:cNvSpPr/>
          <p:nvPr/>
        </p:nvSpPr>
        <p:spPr>
          <a:xfrm>
            <a:off x="3583080" y="158112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顾茅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文本框 2"/>
          <p:cNvSpPr/>
          <p:nvPr/>
        </p:nvSpPr>
        <p:spPr>
          <a:xfrm>
            <a:off x="216000" y="1728720"/>
            <a:ext cx="8812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罗贯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－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4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），名本，字贯中，山西并州太原人，号湖海散人。他是元末明初小说家、戏曲家，是中国章回小说的鼻祖，代表作《三国演义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3" name="Group 19"/>
          <p:cNvGrpSpPr/>
          <p:nvPr/>
        </p:nvGrpSpPr>
        <p:grpSpPr>
          <a:xfrm>
            <a:off x="415800" y="887400"/>
            <a:ext cx="3106440" cy="806040"/>
            <a:chOff x="415800" y="887400"/>
            <a:chExt cx="3106440" cy="806040"/>
          </a:xfrm>
        </p:grpSpPr>
        <p:pic>
          <p:nvPicPr>
            <p:cNvPr id="1054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15800" y="887400"/>
              <a:ext cx="2890800" cy="80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文本框 2"/>
            <p:cNvSpPr/>
            <p:nvPr/>
          </p:nvSpPr>
          <p:spPr>
            <a:xfrm>
              <a:off x="690840" y="924120"/>
              <a:ext cx="283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6" name="矩形 5"/>
          <p:cNvSpPr/>
          <p:nvPr/>
        </p:nvSpPr>
        <p:spPr>
          <a:xfrm>
            <a:off x="338040" y="3676680"/>
            <a:ext cx="8521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罗贯中生于元末社会动乱之时，有自己的理想，不苟同于流俗，曾参与反元的起义斗争。明朝建立之后，专心致力于文学创作。今存署名由罗贯中编著的小说有《三国志通俗演义》《残唐五代史演义》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文本框 2"/>
          <p:cNvSpPr/>
          <p:nvPr/>
        </p:nvSpPr>
        <p:spPr>
          <a:xfrm>
            <a:off x="420840" y="2286000"/>
            <a:ext cx="80071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国演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国志演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我国第一部长篇章回体历史演义小说。所谓“历史演义”，就是用通俗的语言，将争战兴废、朝代更替等为基干的历史题材，组织、敷演成完整的故事，并以此表明了一定的政治思想、道德观念和美学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8" name="Group 19"/>
          <p:cNvGrpSpPr/>
          <p:nvPr/>
        </p:nvGrpSpPr>
        <p:grpSpPr>
          <a:xfrm>
            <a:off x="376200" y="1049400"/>
            <a:ext cx="2939760" cy="823320"/>
            <a:chOff x="376200" y="1049400"/>
            <a:chExt cx="2939760" cy="823320"/>
          </a:xfrm>
        </p:grpSpPr>
        <p:pic>
          <p:nvPicPr>
            <p:cNvPr id="105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376200" y="1049400"/>
              <a:ext cx="2939760" cy="8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文本框 2"/>
            <p:cNvSpPr/>
            <p:nvPr/>
          </p:nvSpPr>
          <p:spPr>
            <a:xfrm>
              <a:off x="1055880" y="1084680"/>
              <a:ext cx="217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相关介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文本框 2"/>
          <p:cNvSpPr/>
          <p:nvPr/>
        </p:nvSpPr>
        <p:spPr>
          <a:xfrm>
            <a:off x="206280" y="1371600"/>
            <a:ext cx="84805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种独特的文学样式受到了素重历史传统的中国人民的喜爱，所以明代“自罗贯中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国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书，以国史演为通俗演义，汪洋百馀回，为世所尚，嗣是效颦者日众，因而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诸刻，其浩瀚与正史分签并架”，形成了一个创作历史演义的传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文本框 2"/>
          <p:cNvSpPr/>
          <p:nvPr/>
        </p:nvSpPr>
        <p:spPr>
          <a:xfrm>
            <a:off x="430200" y="2178000"/>
            <a:ext cx="80074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节选自名著《三国演义》的第三十八回“定三分隆中决策　战长江孙氏报仇”，当时有宏图大志的刘备依附于刘表，屯驻在新野，徐庶被曹操所骗，去曹营前荐诸葛“有经天纬地之才，盖天下一人也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422280" y="1157400"/>
            <a:ext cx="2866680" cy="698400"/>
            <a:chOff x="422280" y="1157400"/>
            <a:chExt cx="2866680" cy="698400"/>
          </a:xfrm>
        </p:grpSpPr>
        <p:pic>
          <p:nvPicPr>
            <p:cNvPr id="1064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22280" y="1157400"/>
              <a:ext cx="286668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文本框 2"/>
            <p:cNvSpPr/>
            <p:nvPr/>
          </p:nvSpPr>
          <p:spPr>
            <a:xfrm>
              <a:off x="1059840" y="117468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背景介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文本框 2"/>
          <p:cNvSpPr/>
          <p:nvPr/>
        </p:nvSpPr>
        <p:spPr>
          <a:xfrm>
            <a:off x="379440" y="1166760"/>
            <a:ext cx="8242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刘备又遇到司马徽，司马徽对诸葛亮的评价是：“可比兴周八百年之姜子牙，旺汉四百年之张子房。”两人的荐语，更引起了刘备拜见诸葛亮的兴趣。一顾茅庐遇崔州平，论天下事；二顾茅庐遇诸葛均、黄承彦，留下书信。课文从三顾茅庐开始写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文本框 9378"/>
          <p:cNvSpPr/>
          <p:nvPr/>
        </p:nvSpPr>
        <p:spPr>
          <a:xfrm>
            <a:off x="933480" y="2455920"/>
            <a:ext cx="7250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谒   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氅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赧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沔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恤   箪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鄙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贱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9382"/>
          <p:cNvSpPr/>
          <p:nvPr/>
        </p:nvSpPr>
        <p:spPr>
          <a:xfrm>
            <a:off x="1236600" y="190008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文本框 9384"/>
          <p:cNvSpPr/>
          <p:nvPr/>
        </p:nvSpPr>
        <p:spPr>
          <a:xfrm>
            <a:off x="2008080" y="1954080"/>
            <a:ext cx="9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文本框 9385"/>
          <p:cNvSpPr/>
          <p:nvPr/>
        </p:nvSpPr>
        <p:spPr>
          <a:xfrm>
            <a:off x="5002200" y="1990800"/>
            <a:ext cx="9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n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9386"/>
          <p:cNvSpPr/>
          <p:nvPr/>
        </p:nvSpPr>
        <p:spPr>
          <a:xfrm>
            <a:off x="2475000" y="3603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文本框 9388"/>
          <p:cNvSpPr/>
          <p:nvPr/>
        </p:nvSpPr>
        <p:spPr>
          <a:xfrm>
            <a:off x="3613320" y="195408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ǎ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9388"/>
          <p:cNvSpPr/>
          <p:nvPr/>
        </p:nvSpPr>
        <p:spPr>
          <a:xfrm>
            <a:off x="3416400" y="35766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"/>
          <p:cNvSpPr/>
          <p:nvPr/>
        </p:nvSpPr>
        <p:spPr>
          <a:xfrm>
            <a:off x="798480" y="36036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i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Group 19"/>
          <p:cNvGrpSpPr/>
          <p:nvPr/>
        </p:nvGrpSpPr>
        <p:grpSpPr>
          <a:xfrm>
            <a:off x="241200" y="1030320"/>
            <a:ext cx="3066840" cy="717120"/>
            <a:chOff x="241200" y="1030320"/>
            <a:chExt cx="3066840" cy="717120"/>
          </a:xfrm>
        </p:grpSpPr>
        <p:pic>
          <p:nvPicPr>
            <p:cNvPr id="107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241200" y="1047600"/>
              <a:ext cx="28605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文本框 2"/>
            <p:cNvSpPr/>
            <p:nvPr/>
          </p:nvSpPr>
          <p:spPr>
            <a:xfrm>
              <a:off x="680760" y="1030320"/>
              <a:ext cx="26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8" name="文本框 9388"/>
          <p:cNvSpPr/>
          <p:nvPr/>
        </p:nvSpPr>
        <p:spPr>
          <a:xfrm>
            <a:off x="4616280" y="354168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6T08:23:00Z</dcterms:created>
  <dc:creator/>
  <dc:description/>
  <cp:keywords/>
  <dc:language>en-US</dc:language>
  <cp:lastModifiedBy>微软用户</cp:lastModifiedBy>
  <dcterms:modified xsi:type="dcterms:W3CDTF">2018-09-05T09:44:1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