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FAB-0AAC-4768-9FF8-FA509343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B51-CFC6-4B08-9050-00F68184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0BE-3F4B-43E6-9FB5-71C05DBD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53B-682E-4A52-83F9-42F82286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DD4-0FCC-4420-9B0B-72F3AC5B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734-86F1-4149-9A2F-7820E54B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C61-8CDE-4D93-912F-F1FF72E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DD6-8D7B-41C5-AE3A-7FFD54F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7C8-3A82-44AA-8C69-510E4F19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B70-67F9-4176-BD27-50054B6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98B-A9D9-43F1-9851-BA0CF85C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4FB-327B-4B3A-A43E-9A623B6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B9D-8630-4410-9CA3-B6D49390BD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aike.so.com/create/edit/?eid=5328205&amp;sid=5563377&amp;secid=3" TargetMode="External"/><Relationship Id="rId2" Type="http://schemas.openxmlformats.org/officeDocument/2006/relationships/hyperlink" Target="http://baike.so.com/doc/5328205.html" TargetMode="External"/><Relationship Id="rId3" Type="http://schemas.openxmlformats.org/officeDocument/2006/relationships/hyperlink" Target="http://baike.so.com/doc/6431787.html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enwen.sogou.com/z/Search.e?sp=S&#30178;&#30142;&amp;ch=w.search.yjjlink&amp;cid=w.search.yjjlink" TargetMode="External"/><Relationship Id="rId2" Type="http://schemas.openxmlformats.org/officeDocument/2006/relationships/hyperlink" Target="http://wenwen.sogou.com/z/Search.e?sp=S&#12298;&#27721;&#20070;&#12299;&amp;ch=w.search.yjjlink&amp;cid=w.search.yjjlink" TargetMode="External"/><Relationship Id="rId3" Type="http://schemas.openxmlformats.org/officeDocument/2006/relationships/hyperlink" Target="http://wenwen.sogou.com/z/Search.e?sp=S&#12298;&#27721;&#20070;&#12299;&amp;ch=w.search.yjjlink&amp;cid=w.search.yjjlink" TargetMode="External"/><Relationship Id="rId4" Type="http://schemas.openxmlformats.org/officeDocument/2006/relationships/hyperlink" Target="http://wenwen.sogou.com/z/Search.e?sp=S&#12298;&#27721;&#20070;&#12299;&amp;ch=w.search.yjjlink&amp;cid=w.search.yjjlink" TargetMode="External"/><Relationship Id="rId5" Type="http://schemas.openxmlformats.org/officeDocument/2006/relationships/hyperlink" Target="http://wenwen.sogou.com/z/Search.e?sp=S&#12298;&#31036;&#35760;&#12299;&amp;ch=w.search.yjjlink&amp;cid=w.search.yjjlink" TargetMode="External"/><Relationship Id="rId6" Type="http://schemas.openxmlformats.org/officeDocument/2006/relationships/hyperlink" Target="http://wenwen.sogou.com/z/Search.e?sp=S&#12298;&#31036;&#35760;&#12299;&amp;ch=w.search.yjjlink&amp;cid=w.search.yjjlink" TargetMode="External"/><Relationship Id="rId7" Type="http://schemas.openxmlformats.org/officeDocument/2006/relationships/hyperlink" Target="http://wenwen.sogou.com/z/Search.e?sp=S&#12298;&#31036;&#35760;&#12299;&amp;ch=w.search.yjjlink&amp;cid=w.search.yjjlink" TargetMode="External"/><Relationship Id="rId8" Type="http://schemas.openxmlformats.org/officeDocument/2006/relationships/hyperlink" Target="http://wenwen.sogou.com/z/Search.e?sp=S&#20845;&#38892;&amp;ch=w.search.yjjlink&amp;cid=w.search.yjjlink" TargetMode="External"/><Relationship Id="rId9" Type="http://schemas.openxmlformats.org/officeDocument/2006/relationships/hyperlink" Target="http://wenwen.sogou.com/z/Search.e?sp=S&#12298;&#21830;&#21531;&#20070;&#12299;&amp;ch=w.search.yjjlink&amp;cid=w.search.yjjlink" TargetMode="External"/><Relationship Id="rId10" Type="http://schemas.openxmlformats.org/officeDocument/2006/relationships/hyperlink" Target="http://wenwen.sogou.com/z/Search.e?sp=S&#12298;&#21830;&#21531;&#20070;&#12299;&amp;ch=w.search.yjjlink&amp;cid=w.search.yjjlink" TargetMode="External"/><Relationship Id="rId11" Type="http://schemas.openxmlformats.org/officeDocument/2006/relationships/hyperlink" Target="http://wenwen.sogou.com/z/Search.e?sp=S&#12298;&#21830;&#21531;&#20070;&#12299;&amp;ch=w.search.yjjlink&amp;cid=w.search.yjjlink" TargetMode="External"/><Relationship Id="rId12" Type="http://schemas.openxmlformats.org/officeDocument/2006/relationships/hyperlink" Target="http://wenwen.sogou.com/z/Search.e?sp=S&#12298;&#38889;&#38750;&#23376;&#12299;&amp;ch=w.search.yjjlink&amp;cid=w.search.yjjlink" TargetMode="External"/><Relationship Id="rId13" Type="http://schemas.openxmlformats.org/officeDocument/2006/relationships/hyperlink" Target="http://wenwen.sogou.com/z/Search.e?sp=S&#12298;&#38889;&#38750;&#23376;&#12299;&amp;ch=w.search.yjjlink&amp;cid=w.search.yjjlink" TargetMode="External"/><Relationship Id="rId14" Type="http://schemas.openxmlformats.org/officeDocument/2006/relationships/hyperlink" Target="http://wenwen.sogou.com/z/Search.e?sp=S&#12298;&#38889;&#38750;&#23376;&#12299;&amp;ch=w.search.yjjlink&amp;cid=w.search.yjjlink" TargetMode="External"/><Relationship Id="rId15" Type="http://schemas.openxmlformats.org/officeDocument/2006/relationships/hyperlink" Target="http://wenwen.sogou.com/z/Search.e?sp=S&#12298;&#31649;&#23376;&#12299;&amp;ch=w.search.yjjlink&amp;cid=w.search.yjjlink" TargetMode="External"/><Relationship Id="rId16" Type="http://schemas.openxmlformats.org/officeDocument/2006/relationships/hyperlink" Target="http://wenwen.sogou.com/z/Search.e?sp=S&#12298;&#31649;&#23376;&#12299;&amp;ch=w.search.yjjlink&amp;cid=w.search.yjjlink" TargetMode="External"/><Relationship Id="rId17" Type="http://schemas.openxmlformats.org/officeDocument/2006/relationships/hyperlink" Target="http://wenwen.sogou.com/z/Search.e?sp=S&#12298;&#31649;&#23376;&#12299;&amp;ch=w.search.yjjlink&amp;cid=w.search.yjjlink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0"/>
            <a:ext cx="8076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三顾茅庐</a:t>
            </a:r>
            <a:endParaRPr b="1" lang="en-US" sz="96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黑体"/>
              </a:rPr>
              <a:t>诸葛亮出山后，刘备把他当做自己的老师，两人同桌吃饭，同榻睡觉，一起讨论天下大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781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76500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581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404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404"/>
                </a:solidFill>
                <a:latin typeface="Arial"/>
              </a:rPr>
              <a:t>刘备高兴地对关羽、张飞说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：“我得到诸葛先生，就像鱼儿得到水一样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060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诸葛亮分析了群雄纷争的形势，提出了三分天下，最后取胜的策略。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刘备听了茅塞顿开，像拨开了云雾见到了青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3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再读课文，思考：刘备三顾茅庐请出了诸葛亮，他得到诸葛亮的辅助了吗？你从文中哪些地方看出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712800"/>
            <a:ext cx="7410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得到诸葛先生，就像鱼儿得到水一样啊！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7160" y="4059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20480" y="40734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这句话用了什么修辞方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3960" y="52293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把什么比作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285264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如鱼得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5560" y="762120"/>
            <a:ext cx="349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他们来到隆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只见那里的山冈蜿蜒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伏，好像一条等待时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腾飞的卧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27160" y="4059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4720" y="4221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这句话用了什么修辞方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0240" y="4941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把什么比作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诸葛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3958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8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诞生于琅邪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0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因刘备三顾茅庐，而出山辅之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0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说服孙权抵御曹操于赤壁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被封军师将军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被封蜀国丞相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2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讨伐南蛮，将其平定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2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上出师表，初出祈山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2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街亭失守，斩马谡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3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发明木牛流马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3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：病逝五丈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62680" y="1700280"/>
            <a:ext cx="298116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d04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600200"/>
            <a:ext cx="7162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古隆中的景点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410080" cy="495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485040" y="685800"/>
            <a:ext cx="2911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隆中牌坊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建于清光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十九年（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元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893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年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是隆中的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志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82240" cy="3989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7640" y="4444920"/>
            <a:ext cx="609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顾堂：建于清康熙五十八年（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71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），是刘备“三顾茅庐”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诸葛亮作《隆中对》的纪念堂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5181840" cy="5029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52040" y="406440"/>
            <a:ext cx="2630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武侯祠：始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于晋朝（约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6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祀奉诸葛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祠宇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5105520" cy="4800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75360" y="254160"/>
            <a:ext cx="2911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诸葛草庐：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98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重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仿汉建筑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当年刘备“三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茅庐“，诸葛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此作《隆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对》。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7200" y="533520"/>
            <a:ext cx="495288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219000" y="254160"/>
            <a:ext cx="219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老龙洞：是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处泉水溶洞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诸葛亮当年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耕陇亩，引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水灌溉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380880" y="3049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20200" y="177840"/>
            <a:ext cx="2777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抱膝亭：建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清康熙五十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（公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7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），是后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凭吊诸葛亮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膝长吟之处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457200" y="38088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30960" y="1778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腾龙阁：位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隆中山巅。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一座内高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层，外观五层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气势雄伟的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阁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80880" y="0"/>
            <a:ext cx="51818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19480" y="1371600"/>
            <a:ext cx="2911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隆中书院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公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98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建，原为武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王学业堂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380880" y="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60000" y="4368960"/>
            <a:ext cx="48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六角井：是诸葛亮当年隐居隆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时生活用水井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533520" y="609480"/>
            <a:ext cx="495288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94960" y="558720"/>
            <a:ext cx="219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虹桥：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诸葛亮隐居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时出入必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之桥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0" y="30492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79120" y="1143000"/>
            <a:ext cx="219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躬耕田：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山与隆中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之间的诸葛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庙冲的一百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亩田地。当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诸葛亮躬耕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亩于此地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0" y="-380880"/>
            <a:ext cx="518148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66400" y="406440"/>
            <a:ext cx="3246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卧龙深处：建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清雍正七年（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72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年），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传诸葛亮常在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交友聚会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1440" y="476280"/>
            <a:ext cx="74325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那里的山冈蜿蜒起伏，好象一条等待时机腾飞的卧龙。冈前几片送林疏疏朗朗，潺潺的溪流清澈见底，茂密的竹林青翠欲滴，景色秀丽宜人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_x000b__x000c_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34080"/>
            <a:ext cx="11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人物性格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编辑本段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笼络豪杰，深得人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刘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寡言少语，喜怒不形于色，能谦恭待人，城府极深。刘备年轻时师从东汉大儒卢植不爱读书，喜欢弄狗骑马，喜欢结交豪爽之士。因此，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青年时代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就有不少年轻人争相依附他，这是他性格的优点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刘备宽仁、忠厚、慈善、好施、善于收买、笼络人心。刘备入蜀后，实行拉拢当地豪门士族的政策，发还他们的田地和房屋，鼓励发展农业生产，因而深得民心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识人善用，君臣融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刘备礼贤下士，慧眼识才。在爱才、用才上，尽管刘备、曹操、孙权三人有共同的特点，但刘备比他们两人更胜一筹，在用人方面，毛主席曾对人评价：“刘备这个人会用人，能团结人，终成大事。这是他成功的关键。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陈寿也评价刘备为：“先主之弘毅宽厚，知人待士，盖有高祖之风，英雄之器焉”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刘备创业之初，势单力薄，颠沛流离。虽然两次占据徐州，但都最终失败，但是他注意收买人心，不论什么情况，他都以民为先。后来，三顾茅庐得诸葛亮，有了著名的“隆中对”，形成自己的立国纲要。他一生重用诸葛亮，如鱼得水，共谋大业。他在乡党之中得到后来勇冠三军的关羽、张飞，重用行伍出身的魏延，成功地镇守了汉中这个战略重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从另一方面说明刘备知人善任的本色，很会笼络人心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坚忍不拔，终成大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刘备性格中还有坚韧不拔、屡败屡战的优点。刘备创业之初，艰辛异常，东奔西走如丧家之犬，依靠袁绍时，受到节制，依附曹操时，曹操众谋臣想诛杀他。曹操两次都免杀，并以礼相待，后他又趁机逃脱，联吴拒曹。他也曾依赖刘表，却被刘表暗地里提防，忍辱存身，以图称霸。可见他有坚韧不拔、锲而不舍的精神，是一个打不败、拖不垮的硬骨头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宽以待人，心胸广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夷陵之战中，刘备大军溃败，部将黄权再不得已的情况下，率军投降曹魏，当时大臣们都劝刘备将黄权全家满门抄斩，刘备却说，黄权投降曹魏是不得以的举动，还说：“黄权并没有辜负我，是我辜负了黄权！”，身居高位，有如此广阔的胸襟，实为难得，所以后世人都以宽以待人评价刘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刘备遗诏：朕初疾但下痢耳，后转杂他病。人五十不称夭，年已六十有馀，何所复恨，不复自伤，但以卿兄弟为念。勿以恶小而为之，勿以善小而不为。惟贤惟德，能服于人。汝父德薄勿效之。可读汉书礼记，间暇历观诸子及六韬、商君书，益人意智。闻丞相为写申韩、管子、六韬一通已毕，未送道亡，可自更求闻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最初只是得了一点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痢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已，后来转而得了其他的病，恐怕难以挽救自己了。五十岁死的人不能称为夭折，我已经六十多了，又有什么可遗憾的呢？所以不再为自己感伤，只是惦念你们兄弟。射援先生来了，说丞相（诸葛亮）惊叹你的智慧和气量，有很大的进步，远比他所期望的要好，要真是这样，我又有什么可忧虑的啊！努力啊，努力！不要因为坏事很小而去做，不要因为善事很小而不去做。只有拥有才能和高尚品德，才能使别人信服。你父亲我德行不深厚，你不要效仿。可以读一下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《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汉书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《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礼记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有空时系统读一下先秦诸子著作以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六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《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商君书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对人的思想和智慧会有很大帮助。听说丞相已经为你抄写完一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申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《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韩非子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《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管子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还没给你，就在路上丢失了，你自己可以再找有学问的人学习这些东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932360" y="213372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4720" y="2709720"/>
            <a:ext cx="23428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华文中宋"/>
              </a:rPr>
              <a:t>推荐书目</a:t>
            </a:r>
            <a:endParaRPr b="0" lang="en-US" sz="3200" spc="-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24360" y="692280"/>
            <a:ext cx="40640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25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让我们交流一下自主学习的收获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9000"/>
            <a:ext cx="8064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读一读，说说重点字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顾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茅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蜿蜒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起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青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欲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秀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宜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群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纷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塞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顿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6504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学习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、自由朗读课文，读准字音，读通句子，读懂每一个自然段的段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、思考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刘备为什么要三顾茅庐请诸葛亮出山呢？刘备三顾茅庐请诸葛亮出山，让你从中体会到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（找出文中相关的语句，画一画，读一读，然后把你的收获在小组中交流交流。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自读课文，按一下顺序说说在刘备第三次去隆中请诸葛亮出山前后的过程中，哪些地方具体表现了他是诚心诚意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708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出发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78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将到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869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到达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05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出山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924280"/>
            <a:ext cx="289080" cy="2174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705" h="21600">
                <a:moveTo>
                  <a:pt x="0" y="0"/>
                </a:moveTo>
                <a:lnTo>
                  <a:pt x="28705" y="0"/>
                </a:lnTo>
                <a:lnTo>
                  <a:pt x="28705" y="21600"/>
                </a:lnTo>
                <a:lnTo>
                  <a:pt x="0" y="21600"/>
                </a:lnTo>
                <a:close/>
              </a:path>
              <a:path fill="lightenLess" w="28705" h="21600">
                <a:moveTo>
                  <a:pt x="0" y="0"/>
                </a:moveTo>
                <a:lnTo>
                  <a:pt x="28705" y="0"/>
                </a:lnTo>
                <a:lnTo>
                  <a:pt x="27305" y="1400"/>
                </a:lnTo>
                <a:lnTo>
                  <a:pt x="1400" y="1400"/>
                </a:lnTo>
                <a:close/>
              </a:path>
              <a:path fill="darken" w="28705" h="21600">
                <a:moveTo>
                  <a:pt x="28705" y="0"/>
                </a:moveTo>
                <a:lnTo>
                  <a:pt x="28705" y="21600"/>
                </a:lnTo>
                <a:lnTo>
                  <a:pt x="27305" y="20200"/>
                </a:lnTo>
                <a:lnTo>
                  <a:pt x="27305" y="1400"/>
                </a:lnTo>
                <a:close/>
              </a:path>
              <a:path fill="darkenLess" w="28705" h="21600">
                <a:moveTo>
                  <a:pt x="28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5" y="20200"/>
                </a:lnTo>
                <a:close/>
              </a:path>
              <a:path fill="lighten" w="28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5" h="21600">
                <a:moveTo>
                  <a:pt x="7346" y="10800"/>
                </a:moveTo>
                <a:lnTo>
                  <a:pt x="21359" y="3794"/>
                </a:lnTo>
                <a:lnTo>
                  <a:pt x="2135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8464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3" y="10800"/>
                </a:moveTo>
                <a:lnTo>
                  <a:pt x="21436" y="3794"/>
                </a:lnTo>
                <a:lnTo>
                  <a:pt x="2143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09300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10800"/>
                </a:moveTo>
                <a:lnTo>
                  <a:pt x="21460" y="3794"/>
                </a:lnTo>
                <a:lnTo>
                  <a:pt x="214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076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54936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ˎ̥"/>
              </a:rPr>
              <a:t>张飞嚷道：</a:t>
            </a:r>
            <a:r>
              <a:rPr b="1" lang="zh-CN" sz="4400" spc="-1" strike="noStrike">
                <a:solidFill>
                  <a:srgbClr val="cc0000"/>
                </a:solidFill>
                <a:latin typeface="ˎ̥"/>
              </a:rPr>
              <a:t>“这次用不着大哥亲自去。他如果不来，我只要用一根麻绳就把他捆来了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573360"/>
            <a:ext cx="756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刘备生气地说</a:t>
            </a:r>
            <a:r>
              <a:rPr b="1" lang="zh-CN" sz="4400" spc="-1" strike="noStrike">
                <a:solidFill>
                  <a:srgbClr val="c80000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c80000"/>
                </a:solidFill>
                <a:latin typeface="ˎ̥"/>
              </a:rPr>
              <a:t>“你一点儿也不懂尊重人才，这次你就不要去了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85080" y="6381720"/>
            <a:ext cx="1079640" cy="4762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97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离诸葛亮的住处还有半里多路，刘备就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</a:rPr>
              <a:t>下马步行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。到了诸葛亮的家，刘备上前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Times New Roman"/>
              </a:rPr>
              <a:t>轻轻敲门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刘备让童子不要惊醒先生，吩咐关羽、张飞在门口休息，自己轻轻地走进去，恭恭敬敬地站在草堂的台阶下等候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3789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●       ●      ●      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刘备听了茅塞顿开，像拨开云雾见到了青天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86900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拨云见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6-04T23:38:32Z</dcterms:modified>
  <cp:revision>32</cp:revision>
  <dc:subject/>
  <dc:title>PowerPoint Presentation</dc:title>
</cp:coreProperties>
</file>