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F08-637A-4138-BD18-35E03D03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375-2EE5-44EA-A02B-62D356E1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E2C-7E35-4FA2-B3E9-6C8CA40D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336-6BA0-481A-A3A0-4291A9D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9E86-2807-4620-8C81-F80BE82B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2E7-928F-405C-AD35-30D9FB17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8F1-B326-41ED-AA86-D5FDE93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EBC9-94A5-46EA-A276-8C10B69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8949-E461-4B04-AAD5-54F048E7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9B1-A041-489C-8C00-F8864B48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47F-D892-459A-9239-3F44665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760-3D88-41D4-A044-CF8AA30A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8351-7A13-4BC1-800E-43FDE82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DCC9-CCB2-4BB7-B882-87A2F77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EB9C-16E5-4336-8CC9-06C9B435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548-C613-4FD2-8E62-3A18518C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19B-4CE1-4946-A0C6-6F4150A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B9F-AB4B-4CA6-BA31-797CDAE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D05-C706-49AC-8B07-63CA5BB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68F-D9D8-4CF7-BC6C-002F3FB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04E-4E88-4B35-B1B3-329A0C0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576-0C50-4746-B184-687DBD2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05E-00A9-4C09-8185-62F42EA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B92-EF19-4419-8B00-75629E8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57B-B096-4353-AE02-3D5031372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9C53-969D-432F-8B79-B3A249109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4580" descr="20093260654897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4577" descr="兰"/>
          <p:cNvPicPr/>
          <p:nvPr/>
        </p:nvPicPr>
        <p:blipFill>
          <a:blip r:embed="rId2"/>
          <a:stretch/>
        </p:blipFill>
        <p:spPr>
          <a:xfrm>
            <a:off x="380880" y="609480"/>
            <a:ext cx="4267440" cy="57913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24578"/>
          <p:cNvSpPr/>
          <p:nvPr/>
        </p:nvSpPr>
        <p:spPr>
          <a:xfrm>
            <a:off x="304920" y="4572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579"/>
          <p:cNvSpPr/>
          <p:nvPr/>
        </p:nvSpPr>
        <p:spPr>
          <a:xfrm>
            <a:off x="4648320" y="990720"/>
            <a:ext cx="4114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郑思肖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字忆翁，号所南。南宋诗人、画家。宋亡后隐居苏州。他一生反对元朝，言论激烈，态度坚决，还常以“泪泉和墨写离骚”，抒发自己亡国之恨的情怀，一直为后世文人画家所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740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410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4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7412" descr="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7413"/>
          <p:cNvSpPr/>
          <p:nvPr/>
        </p:nvSpPr>
        <p:spPr>
          <a:xfrm>
            <a:off x="1143000" y="838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失 根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的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兰 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414"/>
          <p:cNvSpPr/>
          <p:nvPr/>
        </p:nvSpPr>
        <p:spPr>
          <a:xfrm>
            <a:off x="2590920" y="32004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陈 之 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2529" descr=""/>
          <p:cNvPicPr/>
          <p:nvPr/>
        </p:nvPicPr>
        <p:blipFill>
          <a:blip r:embed="rId1"/>
          <a:stretch/>
        </p:blipFill>
        <p:spPr>
          <a:xfrm>
            <a:off x="28440" y="2552760"/>
            <a:ext cx="5859720" cy="43052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22530"/>
          <p:cNvSpPr/>
          <p:nvPr/>
        </p:nvSpPr>
        <p:spPr>
          <a:xfrm>
            <a:off x="1539720" y="1152360"/>
            <a:ext cx="725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、朗读课文，熟记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、理解本文以“失根的兰花”为题的深刻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、品味文章语言，体会作者在本文中所寄托的思乡爱国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571680" y="231840"/>
            <a:ext cx="56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7651" descr=""/>
          <p:cNvPicPr/>
          <p:nvPr/>
        </p:nvPicPr>
        <p:blipFill>
          <a:blip r:embed="rId1"/>
          <a:stretch/>
        </p:blipFill>
        <p:spPr>
          <a:xfrm>
            <a:off x="-14400" y="2625840"/>
            <a:ext cx="5859720" cy="43052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7652"/>
          <p:cNvSpPr/>
          <p:nvPr/>
        </p:nvSpPr>
        <p:spPr>
          <a:xfrm>
            <a:off x="184320" y="2952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幽幽芝兰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7653"/>
          <p:cNvSpPr/>
          <p:nvPr/>
        </p:nvSpPr>
        <p:spPr>
          <a:xfrm>
            <a:off x="639720" y="1512720"/>
            <a:ext cx="8504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失根的兰花”中“兰花”指什么？为何以兰花为题目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"/>
          <p:cNvSpPr/>
          <p:nvPr/>
        </p:nvSpPr>
        <p:spPr>
          <a:xfrm>
            <a:off x="1417680" y="3630600"/>
            <a:ext cx="77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6642" descr="标记点1"/>
          <p:cNvPicPr/>
          <p:nvPr/>
        </p:nvPicPr>
        <p:blipFill>
          <a:blip r:embed="rId1"/>
          <a:stretch/>
        </p:blipFill>
        <p:spPr>
          <a:xfrm>
            <a:off x="6019920" y="4724280"/>
            <a:ext cx="320400" cy="152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6643" descr="标记点1"/>
          <p:cNvPicPr/>
          <p:nvPr/>
        </p:nvPicPr>
        <p:blipFill>
          <a:blip r:embed="rId2"/>
          <a:stretch/>
        </p:blipFill>
        <p:spPr>
          <a:xfrm>
            <a:off x="2590920" y="4800600"/>
            <a:ext cx="320400" cy="1522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" descr=""/>
          <p:cNvPicPr/>
          <p:nvPr/>
        </p:nvPicPr>
        <p:blipFill>
          <a:blip r:embed="rId3"/>
          <a:srcRect l="-46" t="25957" r="4547" b="25154"/>
          <a:stretch/>
        </p:blipFill>
        <p:spPr>
          <a:xfrm>
            <a:off x="-4680" y="1781280"/>
            <a:ext cx="8740800" cy="33559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172"/>
          <p:cNvSpPr/>
          <p:nvPr/>
        </p:nvSpPr>
        <p:spPr>
          <a:xfrm>
            <a:off x="914400" y="4795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173"/>
          <p:cNvSpPr/>
          <p:nvPr/>
        </p:nvSpPr>
        <p:spPr>
          <a:xfrm>
            <a:off x="152388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7174"/>
          <p:cNvSpPr/>
          <p:nvPr/>
        </p:nvSpPr>
        <p:spPr>
          <a:xfrm>
            <a:off x="1074600" y="4572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主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3"/>
          <p:cNvSpPr/>
          <p:nvPr/>
        </p:nvSpPr>
        <p:spPr>
          <a:xfrm>
            <a:off x="304920" y="304920"/>
            <a:ext cx="45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380880" y="137160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速读课文，文中从哪些方面体现出作者的思乡爱国之情？请用简洁的语言加以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7651" descr=""/>
          <p:cNvPicPr/>
          <p:nvPr/>
        </p:nvPicPr>
        <p:blipFill>
          <a:blip r:embed="rId1"/>
          <a:stretch/>
        </p:blipFill>
        <p:spPr>
          <a:xfrm>
            <a:off x="0" y="3048120"/>
            <a:ext cx="5859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1747" descr=""/>
          <p:cNvPicPr/>
          <p:nvPr/>
        </p:nvPicPr>
        <p:blipFill>
          <a:blip r:embed="rId1"/>
          <a:stretch/>
        </p:blipFill>
        <p:spPr>
          <a:xfrm>
            <a:off x="-68400" y="3043080"/>
            <a:ext cx="5230800" cy="38433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31748"/>
          <p:cNvSpPr/>
          <p:nvPr/>
        </p:nvSpPr>
        <p:spPr>
          <a:xfrm>
            <a:off x="1143000" y="3808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1750"/>
          <p:cNvSpPr/>
          <p:nvPr/>
        </p:nvSpPr>
        <p:spPr>
          <a:xfrm>
            <a:off x="990720" y="304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1752"/>
          <p:cNvSpPr/>
          <p:nvPr/>
        </p:nvSpPr>
        <p:spPr>
          <a:xfrm>
            <a:off x="1066680" y="304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1754"/>
          <p:cNvSpPr/>
          <p:nvPr/>
        </p:nvSpPr>
        <p:spPr>
          <a:xfrm>
            <a:off x="446040" y="46656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合作探究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1756"/>
          <p:cNvSpPr/>
          <p:nvPr/>
        </p:nvSpPr>
        <p:spPr>
          <a:xfrm>
            <a:off x="990720" y="169380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品味文章语言，有哪些词句打动了你的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采用“换一换、改一改、品一品”的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从词语、修辞、句式等多角度入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注意圈点批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3521160" y="5119560"/>
            <a:ext cx="50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喜欢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__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段的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__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句，原因是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__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7651" descr=""/>
          <p:cNvPicPr/>
          <p:nvPr/>
        </p:nvPicPr>
        <p:blipFill>
          <a:blip r:embed="rId1"/>
          <a:stretch/>
        </p:blipFill>
        <p:spPr>
          <a:xfrm>
            <a:off x="-14400" y="2625840"/>
            <a:ext cx="5859720" cy="43052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7652"/>
          <p:cNvSpPr/>
          <p:nvPr/>
        </p:nvSpPr>
        <p:spPr>
          <a:xfrm>
            <a:off x="184320" y="2952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幽幽芝兰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7653"/>
          <p:cNvSpPr/>
          <p:nvPr/>
        </p:nvSpPr>
        <p:spPr>
          <a:xfrm>
            <a:off x="639720" y="1512720"/>
            <a:ext cx="8504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失根的兰花”中“兰花”指什么？为何以兰花为题目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1417680" y="3630600"/>
            <a:ext cx="77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45059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5060"/>
          <p:cNvSpPr/>
          <p:nvPr/>
        </p:nvSpPr>
        <p:spPr>
          <a:xfrm>
            <a:off x="0" y="1522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拓展提高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4036"/>
          <p:cNvSpPr/>
          <p:nvPr/>
        </p:nvSpPr>
        <p:spPr>
          <a:xfrm>
            <a:off x="476280" y="1076400"/>
            <a:ext cx="81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身为中学生，如何用我们自己的方式表达对祖国的热爱之情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7T13:38:13Z</dcterms:created>
  <dc:creator/>
  <dc:description/>
  <dc:language>en-US</dc:language>
  <cp:lastModifiedBy>lubo</cp:lastModifiedBy>
  <dcterms:modified xsi:type="dcterms:W3CDTF">2018-05-23T00:17:21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  <property fmtid="{D5CDD505-2E9C-101B-9397-08002B2CF9AE}" pid="3" name="Version">
    <vt:r8>1</vt:r8>
  </property>
</Properties>
</file>