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23CD-80F4-473A-B7C4-072FBEA4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EE4E-0D1F-4B51-AC79-DC845F9E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D3E0-43F6-45BE-97EB-FBDBC4EE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6160-0BFD-4CC1-953B-F6E8831F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6239-E0D2-4DFA-BAF5-C8C9B450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EA8-5184-4CAC-B94C-C4E0CE61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28E7-4D14-48BD-81CA-97631D6E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6821-912A-4304-95A9-F1D84129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76B4-8366-48A6-92E8-DE5DD6BC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B3EC-8160-4F12-A776-899CA45F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2547-1E9A-491F-AB51-DF50BF4B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9AF6-4A39-4924-B47F-BE7BB441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A116-177B-4FDE-A72F-60DA435A13E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1CF2-1EAF-49AA-A9A5-84A11897A9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3000" y="83808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Times New Roman"/>
                <a:ea typeface="隶书"/>
              </a:rPr>
              <a:t>失 根</a:t>
            </a: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  </a:t>
            </a: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隶书"/>
              </a:rPr>
              <a:t>的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 </a:t>
            </a:r>
            <a:r>
              <a:rPr b="0" lang="zh-CN" sz="8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兰 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32004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陈 之 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138240" y="0"/>
            <a:ext cx="9134640" cy="7620120"/>
          </a:xfrm>
          <a:prstGeom prst="rect">
            <a:avLst/>
          </a:prstGeom>
          <a:ln w="0">
            <a:noFill/>
          </a:ln>
        </p:spPr>
      </p:pic>
      <p:pic>
        <p:nvPicPr>
          <p:cNvPr id="45" name="406_我的中国心" descr=""/>
          <p:cNvPicPr/>
          <p:nvPr/>
        </p:nvPicPr>
        <p:blipFill>
          <a:blip r:embed="rId3"/>
          <a:stretch/>
        </p:blipFill>
        <p:spPr>
          <a:xfrm>
            <a:off x="7848720" y="5641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034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5013360" cy="4876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09680" y="1981080"/>
            <a:ext cx="6172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朗读课文，理解题目含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品读语言，体会作者情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8088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Arial"/>
                <a:ea typeface="隶书"/>
              </a:rPr>
              <a:t>活动任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552760"/>
            <a:ext cx="5859360" cy="4305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47920" y="2514600"/>
            <a:ext cx="6400800" cy="63972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36232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速读课文，找出文中“兰花”指什么？“失根的兰花”又是什么意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01600" y="446040"/>
            <a:ext cx="6747120" cy="960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latin typeface="宋体"/>
              </a:rPr>
              <a:t>知幽兰，根着何处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66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4427640"/>
            <a:ext cx="3333600" cy="2449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7632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写作背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7760" y="11430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陈之藩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(1925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年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6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月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19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日——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2012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年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月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25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日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，字范生，河北省霸州市人，曾赴美、英留学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陈之藩为了他所献身的事业半生漂泊奔波于异域他乡。文章写于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20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世纪三四十年代，中国遭受日本侵略，作者当时在美国留学，“洋装虽然穿在身，心依然是中国心”的他对当时的中国和自己的处境有感而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4406760" cy="3238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81080" y="2286000"/>
            <a:ext cx="6096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28954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7524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品读课文，找出文中你喜欢的句子，并说说你喜欢的理由，以下列的句式展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65760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我喜欢——（句、段），因为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7840" y="320760"/>
            <a:ext cx="789948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品兰语，情系家国</a:t>
            </a:r>
            <a:endParaRPr b="0" lang="en-US" sz="1800" spc="-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760" y="200160"/>
            <a:ext cx="82296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因为背景变了，花的颜色也褪了，人的感情也落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760" y="923760"/>
            <a:ext cx="48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泪，不知为什么流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760" y="1913040"/>
            <a:ext cx="87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我所谓的到处可以为家，是因为蚕未离开那片桑叶，等到离开国土一步，即到处均不可以为家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2760" y="318780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国，就是根，没有国的人，是没有根的草，不待风雨折磨，即行枯萎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 rot="10800000">
            <a:off x="212760" y="4541760"/>
            <a:ext cx="470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身可辱，家可破，国不可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3578400" cy="2629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8600" y="8380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身可辱，家可破，国不可亡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190512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身可辱，家可破，国不可亡！国不可亡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12880" y="327672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身可辱，家可破，国不可亡！国不可亡！国不可亡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871800"/>
            <a:ext cx="4064040" cy="2986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0880" y="45720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悟兰魂，永存中国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765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作者借兰花表白自己的爱国之心，那我们也用三言两语，用自己喜欢的事物表白自己的中国心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63400" y="411120"/>
            <a:ext cx="350856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河山只在我梦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祖国已多年未清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可是不管怎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也改变不了我的中国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洋装虽然穿在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我心依然是中国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我的祖先早已把我的一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烙上中国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2200" y="411120"/>
            <a:ext cx="3703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长江   长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黄山   黄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在我胸中重千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无论何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无论何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心中一样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流在心里的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澎湃着中华的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就算生在他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也改变不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我的中国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406_我的中国心" descr=""/>
          <p:cNvPicPr/>
          <p:nvPr/>
        </p:nvPicPr>
        <p:blipFill>
          <a:blip r:embed="rId1"/>
          <a:stretch/>
        </p:blipFill>
        <p:spPr>
          <a:xfrm>
            <a:off x="8705880" y="6291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90345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未知用户</cp:lastModifiedBy>
  <dcterms:modified xsi:type="dcterms:W3CDTF">2014-11-24T15:11:14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