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gif" ContentType="image/gif"/>
  <Override PartName="/ppt/media/chimes.wav" ContentType="audio/x-wav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189-A678-45A6-8E9B-35934D08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62D-F5E4-4214-AF21-A1EEE35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DA1-6A89-4F7E-8AFD-1BD7F165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F81-F01D-4B8F-BC3D-42FEA569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059-D088-4FC0-A50B-8C0630B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B89-AF9D-4463-9D35-8DC043E3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191-FE92-433F-A75A-6A4832AE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A57-4D56-4AF6-AC5B-B65B6066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4FB-89FD-4694-9782-EE0DD49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F08-D3E5-483A-9715-E767EB4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791-F0B6-47E7-AAC9-BCB929F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B5F-ED24-48D9-AA5E-DD44EF8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3B9-F61C-460F-A458-9A605FA07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838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失 根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的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兰 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32004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陈 之 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228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兰花气质高雅，四季常青，有花中君子的美誉。文人画士以“兰”为题材抒发自己的情怀，你知道与兰有关的诗句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05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气若兰兮长不改，志若兰兮终不移。   —— 孔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为草当作兰，幽兰香飘远。           —— 李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花中真君子，风姿寄高雅。           —— 张学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幽兰在深谷，本自无人识。只为馨香重，求者遍山隅。  ——陈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兰花词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兰友——良友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兰心蕙性——喻女子善良贤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兰芳石坚——喻高风亮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芝兰玉树——喻才貌出众、资质纯美之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2057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国，就是根，没有国的人，是没有根的草，不待风雨折磨，即自行枯萎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6094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点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762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作者托物言志，以历史故事破题，表现了深厚的历史文化素质。在这里巧妙地运用了郑思肖画兰的历史故事，以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根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”喻故土，以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兰花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”喻作者本人，以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失根的兰花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”比喻身处异国的炎黄子孙及其悲哀的处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3808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04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04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808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品一品，语言意蕴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28600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画出你认为比较优美的句子，并简要分析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画出你不理解的句子，小组交流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95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048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处境和人的处境是何等的类似！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类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法，巧妙地表达出一种思乡爱国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304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赏析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219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花搬到美国来，我们看着不顺眼；人搬到美国来，也同样的不安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29000" y="3808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52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沁凉如水的夏夜中，有牛郎织女的故事，才显得星光晶亮；在群山万壑中，有竹篱茅舍，才显得诗意盎然；在晨曦的原野中，有拙重的老牛，才显得纯朴可爱。祖国的山河，不仅是花木，还有可感可泣的故事，可吟可咏的诗歌，是儿童的喧哗笑语与祖宗的肃静墓庐，把它点缀得美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3526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山河、花木属于自然景观，故事、诗歌属于文化景观。 “祖宗的肃静墓庐”暗喻祖宗过去所创造的文化，而“儿童的喧哗笑语”则暗喻儿童代表着现在和将来的文化。这些丰富的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意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组成了一幅幅生动的画面，在作者心目中，祖国的自然景观美，文化景观也美；祖先传承下来的东西美，儿童将会创造的新文化会更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072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人生如絮，飘零在万紫千红的春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038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喻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动形象的道出了失去根的游子的内心愁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304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赏析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43828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隶书"/>
              </a:rPr>
              <a:t>山河破碎风飘絮，身世浮沉雨打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隶书"/>
              </a:rPr>
              <a:t>                             ——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隶书"/>
              </a:rPr>
              <a:t>文天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800" y="8380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9907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不是有人说，“头可断，血可流，身不可辱”吗？我觉得应该是：“身可辱，家可破，国不可亡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666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辱” “家破”仅仅带给人以空间上的不定感和心理的不安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而“国亡”却让人的精神失去了全部的支撑。这句话表现了作者刻骨铭心的思乡爱国之情。“国不可亡”振聋发聩，令人欣慰，作者这种置国家、民族生死存亡于个人生死与家庭之上的精神，令每一位渴望祖国统一的炎黄子孙为之振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304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赏析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畅谈收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1337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文章通过作者看花而引起的对自己经历的回顾，妙用修辞，巧选意象 抒写了自己漂泊异乡之苦，表达了作者深沉真挚的思乡爱国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522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练一练，拓展提高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34290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生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447920"/>
            <a:ext cx="72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本文以“萍”“絮”来比喻自己的人生，想象一下，人生还可以比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505320" y="4267080"/>
            <a:ext cx="53316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7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33720" y="16002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看鱼、看云、看树………写一段话，先说明看此物的缘由、经过，再书写心中的感受，引发议论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0492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写一写，借物抒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838080"/>
            <a:ext cx="662940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课堂小结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洋装虽然穿在身，我心依然是中国心”读着陈之藩的散文，犹如漫游在美丽的江水中，身心俱清。让我们记住他吧！永远铭记这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美文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05920" y="5638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9126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9480" y="457200"/>
            <a:ext cx="769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板书设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失根的兰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妙用修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对比、比喻、类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爱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思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巧选意象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2895480"/>
            <a:ext cx="431640" cy="266724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2133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月是故乡明</a:t>
            </a:r>
            <a:r>
              <a:rPr b="1" i="1" lang="zh-CN" sz="7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8862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Arial"/>
                <a:ea typeface="隶书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562720" cy="5410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17524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陈之藩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，河北人，作家。现任香港中文大学教授。散文有《蔚蓝的天》《旅美小简》《在春风里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8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隶书"/>
              </a:rPr>
              <a:t>介绍作者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981080" y="152280"/>
            <a:ext cx="5486400" cy="1782720"/>
            <a:chOff x="1981080" y="152280"/>
            <a:chExt cx="5486400" cy="178272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981080" y="152280"/>
              <a:ext cx="548640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590560" y="838080"/>
              <a:ext cx="4648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读准下列加点字的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447920" y="2514600"/>
            <a:ext cx="6400800" cy="231156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栏      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坍塌    喧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曦        幢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山万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意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凉如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320400" cy="15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3124080"/>
            <a:ext cx="320400" cy="15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114800" y="3124080"/>
            <a:ext cx="320760" cy="15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419720" y="3962520"/>
            <a:ext cx="320400" cy="152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133720" y="3962520"/>
            <a:ext cx="320400" cy="15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553080" y="3124080"/>
            <a:ext cx="320760" cy="152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019920" y="3124080"/>
            <a:ext cx="320400" cy="15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6019920" y="4724280"/>
            <a:ext cx="320400" cy="1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590920" y="4800600"/>
            <a:ext cx="320400" cy="15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7391520" y="3962520"/>
            <a:ext cx="320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762120"/>
            <a:ext cx="70106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朗读课文，理解本文以“失根的兰花”为题的深刻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揣摩语言，学习本文通过多种修辞和丰富意象来巧抒乡愁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体会作者在本文中所寄托的思乡爱国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83808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读一读，整体感知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286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文章主要表达了什么主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657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通过作者看花而引起的对自己经历的回顾，抒写了自己漂泊异乡之苦，表达了作者深沉真挚的思乡爱国之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228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快速读课文，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295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作者少年离家时与到美国后的感受有何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为什么会有这种不同？（请从文中找到一个字，围绕这个字来概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352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作者十几岁离开家，从未因见到与故乡相同或不同的事物而想起过家，从未感觉伤感：“到处可以为家”；自至美国，情感突然变了。在白天的生活中，不爱看与家乡不同的东西，而又不敢看与故乡相同的东西：“到处均不可以为家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410080"/>
            <a:ext cx="4876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这个字是“根”。未出国门是“有根”，离开国门即成了“失根的兰花”了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191120"/>
            <a:ext cx="914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3808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议一议，题目含义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133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题目“失根的兰花”中“兰花”指什么？“失根的兰花”又是什么意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426744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45720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990720"/>
            <a:ext cx="426708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郑思肖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字忆翁，号所南。南宋诗人、画家。宋亡后隐居苏州。他一生反对元朝，言论激烈，态度坚决，还常以“泪泉和墨写离骚”，抒发自己亡国之恨的情怀，一直为后世文人画家所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</cp:lastModifiedBy>
  <dcterms:modified xsi:type="dcterms:W3CDTF">2013-04-01T01:31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