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8.gif" ContentType="image/gif"/>
  <Override PartName="/ppt/media/image30.jpeg" ContentType="image/jpeg"/>
  <Override PartName="/ppt/media/image55.png" ContentType="image/png"/>
  <Override PartName="/ppt/media/image20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7.jpeg" ContentType="image/jpeg"/>
  <Override PartName="/ppt/media/image65.gif" ContentType="image/gif"/>
  <Override PartName="/ppt/media/image42.gif" ContentType="image/gif"/>
  <Override PartName="/ppt/media/image41.jpeg" ContentType="image/jpeg"/>
  <Override PartName="/ppt/media/image40.jpeg" ContentType="image/jpeg"/>
  <Override PartName="/ppt/media/image57.png" ContentType="image/png"/>
  <Override PartName="/ppt/media/image36.jpeg" ContentType="image/jpeg"/>
  <Override PartName="/ppt/media/image10.png" ContentType="image/png"/>
  <Override PartName="/ppt/media/image38.jpeg" ContentType="image/jpeg"/>
  <Override PartName="/ppt/media/image35.gif" ContentType="image/gif"/>
  <Override PartName="/ppt/media/image29.jpeg" ContentType="image/jpeg"/>
  <Override PartName="/ppt/media/image13.gif" ContentType="image/gif"/>
  <Override PartName="/ppt/media/image4.png" ContentType="image/png"/>
  <Override PartName="/ppt/media/image16.png" ContentType="image/png"/>
  <Override PartName="/ppt/media/image1.png" ContentType="image/png"/>
  <Override PartName="/ppt/media/image14.gif" ContentType="image/gif"/>
  <Override PartName="/ppt/media/image31.jpeg" ContentType="image/jpeg"/>
  <Override PartName="/ppt/media/image68.gif" ContentType="image/gif"/>
  <Override PartName="/ppt/media/image28.gif" ContentType="image/gif"/>
  <Override PartName="/ppt/media/image52.png" ContentType="image/png"/>
  <Override PartName="/ppt/media/image50.jpeg" ContentType="image/jpeg"/>
  <Override PartName="/ppt/media/image21.jpeg" ContentType="image/jpeg"/>
  <Override PartName="/ppt/media/image25.gif" ContentType="image/gif"/>
  <Override PartName="/ppt/media/image63.png" ContentType="image/png"/>
  <Override PartName="/ppt/media/image60.gif" ContentType="image/gif"/>
  <Override PartName="/ppt/media/image79.png" ContentType="image/png"/>
  <Override PartName="/ppt/media/image70.gif" ContentType="image/gif"/>
  <Override PartName="/ppt/media/image73.png" ContentType="image/png"/>
  <Override PartName="/ppt/media/projctor.wav" ContentType="audio/x-wav"/>
  <Override PartName="/ppt/media/image76.png" ContentType="image/png"/>
  <Override PartName="/ppt/media/image75.gif" ContentType="image/gif"/>
  <Override PartName="/ppt/media/image78.png" ContentType="image/png"/>
  <Override PartName="/ppt/media/image74.gif" ContentType="image/gif"/>
  <Override PartName="/ppt/media/image77.png" ContentType="image/png"/>
  <Override PartName="/ppt/media/image59.gif" ContentType="image/gif"/>
  <Override PartName="/ppt/media/image22.gif" ContentType="image/gif"/>
  <Override PartName="/ppt/media/image61.gif" ContentType="image/gif"/>
  <Override PartName="/ppt/media/image71.gif" ContentType="image/gif"/>
  <Override PartName="/ppt/media/image67.gif" ContentType="image/gif"/>
  <Override PartName="/ppt/media/image66.gif" ContentType="image/gif"/>
  <Override PartName="/ppt/media/image69.png" ContentType="image/png"/>
  <Override PartName="/ppt/media/image72.jpeg" ContentType="image/jpeg"/>
  <Override PartName="/ppt/media/image2.png" ContentType="image/png"/>
  <Override PartName="/ppt/media/image64.gif" ContentType="image/gif"/>
  <Override PartName="/ppt/media/image62.png" ContentType="image/png"/>
  <Override PartName="/ppt/media/image26.png" ContentType="image/png"/>
  <Override PartName="/ppt/media/image23.gif" ContentType="image/gif"/>
  <Override PartName="/ppt/media/image3.png" ContentType="image/png"/>
  <Override PartName="/ppt/media/image56.jpeg" ContentType="image/jpeg"/>
  <Override PartName="/ppt/media/image33.jpeg" ContentType="image/jpeg"/>
  <Override PartName="/ppt/media/image27.png" ContentType="image/png"/>
  <Override PartName="/ppt/media/image24.gif" ContentType="image/gif"/>
  <Override PartName="/ppt/media/image32.jpeg" ContentType="image/jpeg"/>
  <Override PartName="/ppt/media/image18.png" ContentType="image/png"/>
  <Override PartName="/ppt/media/image15.gif" ContentType="image/gif"/>
  <Override PartName="/ppt/media/image6.png" ContentType="image/png"/>
  <Override PartName="/ppt/media/image43.gif" ContentType="image/gif"/>
  <Override PartName="/ppt/media/image11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44.gif" ContentType="image/gif"/>
  <Override PartName="/ppt/media/image12.png" ContentType="image/png"/>
  <Override PartName="/ppt/media/image17.gif" ContentType="image/gif"/>
  <Override PartName="/ppt/media/image8.png" ContentType="image/png"/>
  <Override PartName="/ppt/media/image48.png" ContentType="image/png"/>
  <Override PartName="/ppt/media/image45.gif" ContentType="image/gif"/>
  <Override PartName="/ppt/media/image9.png" ContentType="image/png"/>
  <Override PartName="/ppt/media/image49.png" ContentType="image/png"/>
  <Override PartName="/ppt/media/image46.gif" ContentType="image/gif"/>
  <Override PartName="/ppt/media/image5.wmf" ContentType="image/x-wmf"/>
  <Override PartName="/ppt/media/image3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61B-AA9B-4F39-A20C-EA67525B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5BA-299C-48A7-BB89-78CCBBF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1610F-A915-47A4-ADD9-624B9BBA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4C534-3D98-4BA5-A7B7-E823E7E3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920BC-CC68-489B-8551-D0EFE05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2EF7E-0F61-473D-8309-626804E7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31309-CC62-400B-B75D-AD7AB9F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D21AE-C43D-4190-82F0-852E8E5F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CFC8C-EEC3-4C53-BF05-A78905ED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4CDD5-4A59-4206-8D68-235C526D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4673A-A155-4900-8697-F0C1C483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04273-6432-4891-AC14-79772384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3AD-CB9E-4400-BF82-4F70AE59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A6C90-BA44-436B-B818-BF27362C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61BB2-3571-42E9-AD82-0A032FEB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51DCC-1054-4EEF-B559-D17C930E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CF8C8-9FCA-4D0F-9C26-8DC702CA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96573-4FDF-48C9-94B8-24ED3774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F4D80-2AA3-4F77-936D-D72E145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ADA7F-49F2-4065-BDEE-463BF6A8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33312-790A-4783-8A0D-9A1ED76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4BCDA-A60E-448D-9733-938C45C3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1155B-167C-4163-A5C4-13B02BA9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7E0-DA93-4F56-9AD4-054CC5AD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44D54-579B-405B-9C07-30E92241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69A59-FB81-4F62-8E1B-E93FE53E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540AF-189D-40A8-92F5-95F75FE8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90BF6-2B8D-47BF-93B2-B6FEBDE6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D09FE-4449-4B7B-9957-6C413E03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8C805-821B-4D12-8CC7-777B638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069F9-A0C5-45A3-B827-3E679B24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981A4-D04A-45B5-93DB-07A0556D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0C957-A06D-4FDC-B890-DEF1B90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43E07-50C6-4C91-AC60-26477E66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9FA68-03EB-4B5B-BC32-E34716B3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FB06-99F3-466C-AB90-BE34D31C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F5092-5AFB-4954-91C0-4B44E6E0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09DFD-F92A-4C7A-8E89-1666E7B7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F082A-1B0C-4EDE-811B-C6337CFA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91B59-2389-4A67-A5A0-DBB6BFD2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242FA-4D7A-4B6F-A385-4465B991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FF7AB-A83C-49C9-A12C-B413EAF3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0F427-4F7B-49E5-959F-F4A0158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3F69B-2B6B-43FF-91E7-4362F33F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DD045-DE99-4724-8307-92AE545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DCD79-84D0-4A05-9F4A-329C9A8C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0CEDB-B783-4046-B645-5899BED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0847D-7019-411D-990B-0AD7AA48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E0DCF-BEA0-476E-988F-A442830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DF312-25F0-460F-BDBD-E150ED95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A69A3-610B-440E-862F-B950CDD0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61B34-B797-4158-9D20-E30C3710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5210B-FF25-4495-A28E-AD1453D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EB057-5B3E-4734-BCFA-0C03DFA7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EF63C-C866-4630-8297-0F8B31B1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5606A-84DD-4BCE-87C3-4C8DF0ED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25961-CED2-44B3-944E-0B7D1224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51DCC-51FD-4907-8D52-21EE7A22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C0594-B652-47F0-BF2A-E5931492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5C5BA-A93B-4854-9AC8-B3FD849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0AEBA-13D9-4974-9484-C612A12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0770E-7D59-4496-81A3-FEB23836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00088-3BC1-4014-A139-80AFFB92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891A0-26E1-4300-834A-BC172E73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FF6FA-A3F9-4815-BA60-0786BA67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69517-569D-4A93-A021-607B09D0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28634-39BF-4B84-8376-02FF29FE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4FC37-B5A3-4A7A-BA99-0DDEF420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819-A784-44AB-8F27-F7BFFFD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BB8BD-A708-4A93-A338-3C838536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24292-330C-44C4-AB6B-5DD32C3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9B87C-3898-4A31-B6FA-A60EFAE7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4C635-16F4-44AB-83AD-7DC2F90A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F7490-5E3B-449B-8CF9-9DA91073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407E-6C5C-4E54-BB0C-12308E53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CE18-9493-4209-8E45-4534304E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2626-1FA1-466B-9EF9-5DED1AB7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0E6B-3250-4F23-A39C-75CC8ACF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0BFE-DA9D-47CE-BCE4-C9546E22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0B9-EAA1-44DF-8389-9CD9D36C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0AE1-F0E6-40D3-96CE-EBB46668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0F8F-BA79-4140-A3B9-AB9D6CB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8A1F-DE50-4A24-934A-564B751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63F5-4676-41E8-B68B-99C8FA0B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DD19-1B86-4D20-8496-B1B2EB64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9EC3-E624-4D4B-A034-79B55300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B738-E37B-4C45-AE12-BC9FBE4C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2C0E-FA09-4971-A066-3178EE5D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D35D-B29A-457E-B7E2-12BF5E43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2C56-A6CD-40EF-ABA0-A5E1A43D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8B9-6BE0-43B1-BBB4-020CD714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4046-D6A4-49D2-B7A6-32D9A9ED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AE8C-583C-4413-A36E-CB93F5ED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C9625-4D0A-45B8-B134-C911992F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36F27-5BD0-4B27-8F94-2003604F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93C2-13D4-49DC-A41D-7E8FD63F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302D5-D568-46E3-B4A0-888003D3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79DC-E2DB-4620-95FB-5D41034E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FBDDA-E9A2-4C25-89E4-A627AC0A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31A7-1F73-4C42-8E79-63EC4EE5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B32F7-188F-4382-AF63-0D3E77EF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297-84A5-48E1-9743-65B7C002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2FF01-5275-42B5-865E-FB6F5189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4E82-A65D-42EC-89C4-458A60F2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E1B2-DE2F-40EF-82A3-560D019E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EECDD-CDCC-4223-8838-E3D2A39F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EB781-0601-408F-A737-C0A4BB7F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CE97A-DFBB-450C-810E-B1B5F38F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2F03D-77C5-4482-8E41-0652D38B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3C46-4E2F-44CF-9C07-A67985A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A43E6-D786-4795-8ACA-14CDB8C0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676C-B89C-44B8-A6AB-67555E68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594-5383-451E-A54F-88C7DCCE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10FE-3C93-43BB-8488-AAFFC7A8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E05CC-89DD-44D8-8800-BC73ED5B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F90BA-B785-4181-9CFC-B008E842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8DCE9-DACE-4434-8C61-45726ECD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19E0-B121-4168-B751-7084CF2B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A1B89-0B9C-4C64-A0D7-AAFBC9B2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D4774-F79E-4CB7-B76A-76C3AAAC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44925-B783-477B-86BF-05B52B0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1FE59-A4F1-45C0-BA09-0943101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40A5-00D2-4B9E-B196-609E5DCC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6E3-585D-4404-A697-E17E5B1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8B1D5-B5EB-4795-998A-7CAD6E00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BDFD-F820-4D98-9345-AF286CCE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B1024-364E-4E9F-9903-CA4C41D1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311B8-BF4A-497D-B118-D75AB15F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53D47-51C8-414F-9F7B-BF0C8F7D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A90E8-49C0-4A98-BC44-912C59B4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4B96D-FFB4-4B0E-AD85-54E86753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07C4F-4813-41B9-811F-39398D5E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E05CF-F971-449D-86E1-5E5DB90D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41520-0BDD-4831-9952-D6C3783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68D-4496-4AA8-873B-68E92D6A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E1CDC-8F73-480A-9A4D-886A6C3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04DF6-A5FA-41F4-A536-BC231AF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7C7D4-041B-468C-91F9-086E56C8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7B7A9-26CE-48BC-A77C-51B7333B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20A69-AFEF-47D7-BAB0-77D366AD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63B7C-B801-413C-9DEC-AC312C8F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BDBF9-5DA3-4308-9C1A-9854340B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A45F-FF82-494B-A265-C40F0259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0A612-8621-4C14-AD45-58A6E2F9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24B0F-7A47-4025-858D-BD7407EF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616-132E-4659-8815-67F935D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59786-DF7D-4737-BE50-9F198C5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FA05B-CDD0-4FA7-A19E-0D59E70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49C8-6086-455E-915C-32D92D67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BA279-72B0-42D1-AD5B-D76E3DB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9ACA9-FD9E-4E6C-AB59-B02733B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740AE-DE49-4ED3-8C6A-5A17E2DE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9D048-F78A-4B2E-88FF-704FCC6C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00CD2-50EE-482D-97BA-7EAD1F49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D6D1E-0682-402E-B380-226FD010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635D7-63D2-4F26-8F00-8D871C0F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97.xml"/><Relationship Id="rId32" Type="http://schemas.openxmlformats.org/officeDocument/2006/relationships/slideLayout" Target="../slideLayouts/slideLayout98.xml"/><Relationship Id="rId33" Type="http://schemas.openxmlformats.org/officeDocument/2006/relationships/slideLayout" Target="../slideLayouts/slideLayout99.xml"/><Relationship Id="rId34" Type="http://schemas.openxmlformats.org/officeDocument/2006/relationships/slideLayout" Target="../slideLayouts/slideLayout100.xml"/><Relationship Id="rId35" Type="http://schemas.openxmlformats.org/officeDocument/2006/relationships/slideLayout" Target="../slideLayouts/slideLayout101.xml"/><Relationship Id="rId36" Type="http://schemas.openxmlformats.org/officeDocument/2006/relationships/slideLayout" Target="../slideLayouts/slideLayout102.xml"/><Relationship Id="rId37" Type="http://schemas.openxmlformats.org/officeDocument/2006/relationships/slideLayout" Target="../slideLayouts/slideLayout103.xml"/><Relationship Id="rId38" Type="http://schemas.openxmlformats.org/officeDocument/2006/relationships/slideLayout" Target="../slideLayouts/slideLayout104.xml"/><Relationship Id="rId39" Type="http://schemas.openxmlformats.org/officeDocument/2006/relationships/slideLayout" Target="../slideLayouts/slideLayout105.xml"/><Relationship Id="rId40" Type="http://schemas.openxmlformats.org/officeDocument/2006/relationships/slideLayout" Target="../slideLayouts/slideLayout106.xml"/><Relationship Id="rId41" Type="http://schemas.openxmlformats.org/officeDocument/2006/relationships/slideLayout" Target="../slideLayouts/slideLayout107.xml"/><Relationship Id="rId4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7A74-FCC6-4658-BDDF-677E6C70922F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9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295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4BFA-2312-4824-9FD4-E4796B19AF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5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295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1CBF-4700-4AC7-B87C-B75DBFC692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E2C9-6637-442A-A619-EDA01B71F78D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8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DE13-7DA9-408C-95A2-2ED1EFFE1E59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733A-EF8C-4617-A5B3-8970DD2E9B9D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24480" y="1295280"/>
            <a:ext cx="182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904760" y="13716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-16452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81040" indent="-16452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81040" indent="-16452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90BC-AA25-4648-A6EB-32DE819A746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8481-9AAE-4A45-B363-47F8E97E38E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title"/>
          </p:nvPr>
        </p:nvSpPr>
        <p:spPr>
          <a:xfrm>
            <a:off x="4800600" y="129528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BCB4-49A5-4E5F-BB8C-EC974FC9F83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5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5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5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6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BE5D-0585-4A85-AB27-91A72597B89B}" type="slidenum"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3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3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4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7A28-B508-4740-877F-896566F345B0}" type="slidenum"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D139-DD1A-41D8-BEC6-A8A183DA86B4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0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71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2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2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F260-DDA7-42F2-9F85-6350EBF801B5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1"/>
    <p:sldLayoutId id="2147483754" r:id="rId32"/>
    <p:sldLayoutId id="2147483755" r:id="rId33"/>
    <p:sldLayoutId id="2147483756" r:id="rId34"/>
    <p:sldLayoutId id="2147483757" r:id="rId35"/>
    <p:sldLayoutId id="2147483758" r:id="rId36"/>
    <p:sldLayoutId id="2147483759" r:id="rId37"/>
    <p:sldLayoutId id="2147483760" r:id="rId38"/>
    <p:sldLayoutId id="2147483761" r:id="rId39"/>
    <p:sldLayoutId id="2147483762" r:id="rId40"/>
    <p:sldLayoutId id="2147483763" r:id="rId41"/>
    <p:sldLayoutId id="2147483764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10.xml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10.xml"/><Relationship Id="rId3" Type="http://schemas.openxmlformats.org/officeDocument/2006/relationships/slide" Target="slide34.xm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10.xm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5.gi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10.xml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" Target="slide49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26.xml"/><Relationship Id="rId11" Type="http://schemas.openxmlformats.org/officeDocument/2006/relationships/slide" Target="slide26.xml"/><Relationship Id="rId12" Type="http://schemas.openxmlformats.org/officeDocument/2006/relationships/slide" Target="slide26.xml"/><Relationship Id="rId13" Type="http://schemas.openxmlformats.org/officeDocument/2006/relationships/slide" Target="slide26.xml"/><Relationship Id="rId14" Type="http://schemas.openxmlformats.org/officeDocument/2006/relationships/slide" Target="slide25.xml"/><Relationship Id="rId15" Type="http://schemas.openxmlformats.org/officeDocument/2006/relationships/slide" Target="slide25.xml"/><Relationship Id="rId16" Type="http://schemas.openxmlformats.org/officeDocument/2006/relationships/slide" Target="slide25.xml"/><Relationship Id="rId17" Type="http://schemas.openxmlformats.org/officeDocument/2006/relationships/slide" Target="slide25.xml"/><Relationship Id="rId18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slide" Target="slide34.xml"/><Relationship Id="rId8" Type="http://schemas.openxmlformats.org/officeDocument/2006/relationships/slide" Target="slide29.xml"/><Relationship Id="rId9" Type="http://schemas.openxmlformats.org/officeDocument/2006/relationships/slide" Target="slide29.xml"/><Relationship Id="rId10" Type="http://schemas.openxmlformats.org/officeDocument/2006/relationships/slide" Target="slide29.xml"/><Relationship Id="rId11" Type="http://schemas.openxmlformats.org/officeDocument/2006/relationships/slide" Target="slide29.xml"/><Relationship Id="rId12" Type="http://schemas.openxmlformats.org/officeDocument/2006/relationships/slide" Target="slide29.xml"/><Relationship Id="rId13" Type="http://schemas.openxmlformats.org/officeDocument/2006/relationships/slide" Target="slide27.xml"/><Relationship Id="rId14" Type="http://schemas.openxmlformats.org/officeDocument/2006/relationships/slide" Target="slide27.xml"/><Relationship Id="rId15" Type="http://schemas.openxmlformats.org/officeDocument/2006/relationships/slide" Target="slide27.xml"/><Relationship Id="rId16" Type="http://schemas.openxmlformats.org/officeDocument/2006/relationships/slide" Target="slide27.xml"/><Relationship Id="rId17" Type="http://schemas.openxmlformats.org/officeDocument/2006/relationships/slide" Target="slide27.xml"/><Relationship Id="rId18" Type="http://schemas.openxmlformats.org/officeDocument/2006/relationships/slide" Target="slide24.xml"/><Relationship Id="rId19" Type="http://schemas.openxmlformats.org/officeDocument/2006/relationships/image" Target="../media/image45.gif"/><Relationship Id="rId20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" Target="slide39.xml"/><Relationship Id="rId13" Type="http://schemas.openxmlformats.org/officeDocument/2006/relationships/slide" Target="slide39.xml"/><Relationship Id="rId14" Type="http://schemas.openxmlformats.org/officeDocument/2006/relationships/slide" Target="slide39.xml"/><Relationship Id="rId15" Type="http://schemas.openxmlformats.org/officeDocument/2006/relationships/slide" Target="slide39.xml"/><Relationship Id="rId16" Type="http://schemas.openxmlformats.org/officeDocument/2006/relationships/slide" Target="slide39.xml"/><Relationship Id="rId17" Type="http://schemas.openxmlformats.org/officeDocument/2006/relationships/slide" Target="slide39.xml"/><Relationship Id="rId18" Type="http://schemas.openxmlformats.org/officeDocument/2006/relationships/slide" Target="slide24.xml"/><Relationship Id="rId19" Type="http://schemas.openxmlformats.org/officeDocument/2006/relationships/image" Target="../media/image46.gif"/><Relationship Id="rId20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7.jpeg"/><Relationship Id="rId3" Type="http://schemas.openxmlformats.org/officeDocument/2006/relationships/slide" Target="slide25.xml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25.xml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4.xml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7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35.xml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7.xml"/><Relationship Id="rId5" Type="http://schemas.openxmlformats.org/officeDocument/2006/relationships/image" Target="../media/image59.gif"/><Relationship Id="rId6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0.gif"/><Relationship Id="rId4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image" Target="../media/image17.gi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36.xml"/><Relationship Id="rId5" Type="http://schemas.openxmlformats.org/officeDocument/2006/relationships/image" Target="../media/image64.gif"/><Relationship Id="rId6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0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45.xml"/><Relationship Id="rId6" Type="http://schemas.openxmlformats.org/officeDocument/2006/relationships/image" Target="../media/image66.gif"/><Relationship Id="rId7" Type="http://schemas.openxmlformats.org/officeDocument/2006/relationships/slideLayout" Target="../slideLayouts/slideLayout10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67.gif"/><Relationship Id="rId3" Type="http://schemas.openxmlformats.org/officeDocument/2006/relationships/slide" Target="slide44.xml"/><Relationship Id="rId4" Type="http://schemas.openxmlformats.org/officeDocument/2006/relationships/image" Target="../media/image68.gif"/><Relationship Id="rId5" Type="http://schemas.openxmlformats.org/officeDocument/2006/relationships/slideLayout" Target="../slideLayouts/slideLayout10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70.gif"/><Relationship Id="rId5" Type="http://schemas.openxmlformats.org/officeDocument/2006/relationships/slideLayout" Target="../slideLayouts/slideLayout13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1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13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74.gif"/><Relationship Id="rId6" Type="http://schemas.openxmlformats.org/officeDocument/2006/relationships/image" Target="../media/image75.gif"/><Relationship Id="rId7" Type="http://schemas.openxmlformats.org/officeDocument/2006/relationships/slideLayout" Target="../slideLayouts/slideLayout13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ng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9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6.xml"/><Relationship Id="rId5" Type="http://schemas.openxmlformats.org/officeDocument/2006/relationships/image" Target="../media/image59.gif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e3e3ff"/>
                </a:solidFill>
                <a:latin typeface="Arial"/>
                <a:ea typeface="標楷體"/>
              </a:rPr>
              <a:t>失根的蘭花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2354400" cy="93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>
            <a:off x="3505320" y="4419720"/>
            <a:ext cx="2354040" cy="93636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3"/>
          <a:stretch/>
        </p:blipFill>
        <p:spPr>
          <a:xfrm>
            <a:off x="6095880" y="4495680"/>
            <a:ext cx="2354400" cy="93672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4"/>
          <a:stretch/>
        </p:blipFill>
        <p:spPr>
          <a:xfrm>
            <a:off x="1066680" y="2286000"/>
            <a:ext cx="6651720" cy="239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268360" y="1557000"/>
            <a:ext cx="9352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注釋補充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779640" y="134136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費城</a:t>
            </a:r>
            <a:r>
              <a:rPr b="1" lang="zh-TW" sz="34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〈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Philadelphia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〉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丁香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來今雨軒 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TW" sz="3400" spc="-1" strike="noStrike" u="sng">
                <a:solidFill>
                  <a:srgbClr val="00cc66"/>
                </a:solidFill>
                <a:uFillTx/>
                <a:latin typeface="Times New Roman"/>
                <a:hlinkClick r:id="rId4" action="ppaction://hlinksldjump"/>
              </a:rPr>
              <a:t>牡丹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 u="sng">
                <a:solidFill>
                  <a:srgbClr val="00cc66"/>
                </a:solidFill>
                <a:uFillTx/>
                <a:latin typeface="Times New Roman"/>
                <a:hlinkClick r:id="rId5" action="ppaction://hlinksldjump"/>
              </a:rPr>
              <a:t>諧趣園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 u="sng">
                <a:solidFill>
                  <a:srgbClr val="00cc66"/>
                </a:solidFill>
                <a:uFillTx/>
                <a:latin typeface="Times New Roman"/>
                <a:hlinkClick r:id="rId6" action="ppaction://hlinksldjump"/>
              </a:rPr>
              <a:t>香山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 u="sng">
                <a:solidFill>
                  <a:srgbClr val="00cc66"/>
                </a:solidFill>
                <a:uFillTx/>
                <a:latin typeface="Times New Roman"/>
                <a:hlinkClick r:id="rId7" action="ppaction://hlinksldjump"/>
              </a:rPr>
              <a:t>牛郎織女的故事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75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75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75"/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75"/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75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75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324480" y="1295280"/>
            <a:ext cx="182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迢迢牽牛星</a:t>
            </a:r>
            <a:br>
              <a:rPr sz="4600"/>
            </a:br>
            <a:r>
              <a:rPr b="1" lang="zh-TW" sz="4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古詩十九首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716000" y="134136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迢迢牽牛星，皎皎河漢女。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纖纖擢素手，札札弄機杍。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終日不成章，泣涕零如雨。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河漢清且淺，相去復幾許？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盈盈一水間，眽眽不得語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4724280"/>
            <a:ext cx="647640" cy="56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6021360"/>
            <a:ext cx="37764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25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9999"/>
                </a:solidFill>
                <a:uFillTx/>
                <a:latin typeface="Arial"/>
                <a:ea typeface="標楷體"/>
                <a:hlinkClick r:id="rId2" action="ppaction://hlinksldjump"/>
              </a:rPr>
              <a:t>園中之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6572160"/>
            <a:ext cx="65502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1916280"/>
            <a:ext cx="42876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題解 </a:t>
            </a: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-- </a:t>
            </a: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失根的蘭花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本文選自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-- </a:t>
            </a:r>
            <a:r>
              <a:rPr b="0" lang="zh-TW" sz="32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1" action="ppaction://hlinksldjump"/>
              </a:rPr>
              <a:t>旅美小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記敘作者飄零異邦，在美國大學裡看到中國的花草而引發故國之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回想年少自認到處可以為家，而今身處異鄉，才深知故土與家國的美好與可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藉宋末畫家</a:t>
            </a:r>
            <a:r>
              <a:rPr b="0" lang="zh-TW" sz="32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2" action="ppaction://hlinksldjump"/>
              </a:rPr>
              <a:t>鄭思肖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「畫蘭不畫土」，抒發深沉的感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3"/>
          <a:stretch/>
        </p:blipFill>
        <p:spPr>
          <a:xfrm>
            <a:off x="1371600" y="5791320"/>
            <a:ext cx="6218280" cy="822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75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75"/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75"/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75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557360"/>
            <a:ext cx="5359320" cy="3668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56000" y="5877000"/>
            <a:ext cx="400032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7596000" y="1268280"/>
            <a:ext cx="617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注釋 </a:t>
            </a:r>
            <a:r>
              <a:rPr b="0" lang="zh-TW" sz="46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2843280" y="1268280"/>
            <a:ext cx="453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ˊ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幢 –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ㄔㄨ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計算房屋數量時所用的語辭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褪 –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ㄊㄨ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脫落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324480" y="1295280"/>
            <a:ext cx="182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注釋 </a:t>
            </a:r>
            <a:r>
              <a:rPr b="0" lang="zh-TW" sz="46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00360" y="141300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坍塌 –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ㄊㄢ  ㄊ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傾倒、毀壞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盎然 –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豐盛盈滿的樣子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1916280"/>
            <a:ext cx="152424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1079640" y="1308960"/>
            <a:ext cx="6984720" cy="5326560"/>
            <a:chOff x="1079640" y="1308960"/>
            <a:chExt cx="6984720" cy="5326560"/>
          </a:xfrm>
        </p:grpSpPr>
        <p:cxnSp>
          <p:nvCxnSpPr>
            <p:cNvPr id="1121" name="_s76804"/>
            <p:cNvCxnSpPr>
              <a:stCxn id="1122" idx="0"/>
              <a:endCxn id="1123" idx="2"/>
            </p:cNvCxnSpPr>
            <p:nvPr/>
          </p:nvCxnSpPr>
          <p:spPr>
            <a:xfrm flipV="1" rot="16200000">
              <a:off x="5658480" y="1259280"/>
              <a:ext cx="194400" cy="2365200"/>
            </a:xfrm>
            <a:prstGeom prst="bentConnector3">
              <a:avLst>
                <a:gd name="adj1" fmla="val 49907"/>
              </a:avLst>
            </a:prstGeom>
            <a:ln w="9360">
              <a:solidFill>
                <a:srgbClr val="af273e"/>
              </a:solidFill>
              <a:miter/>
            </a:ln>
          </p:spPr>
        </p:cxnSp>
        <p:cxnSp>
          <p:nvCxnSpPr>
            <p:cNvPr id="1124" name="_s76805"/>
            <p:cNvCxnSpPr>
              <a:stCxn id="1125" idx="0"/>
              <a:endCxn id="1123" idx="2"/>
            </p:cNvCxnSpPr>
            <p:nvPr/>
          </p:nvCxnSpPr>
          <p:spPr>
            <a:xfrm flipH="1" flipV="1" rot="5400000">
              <a:off x="4475520" y="2441160"/>
              <a:ext cx="194400" cy="2160"/>
            </a:xfrm>
            <a:prstGeom prst="bentConnector3">
              <a:avLst>
                <a:gd name="adj1" fmla="val 49907"/>
              </a:avLst>
            </a:prstGeom>
            <a:ln w="9360">
              <a:solidFill>
                <a:srgbClr val="af273e"/>
              </a:solidFill>
              <a:miter/>
            </a:ln>
          </p:spPr>
        </p:cxnSp>
        <p:cxnSp>
          <p:nvCxnSpPr>
            <p:cNvPr id="1126" name="_s76806"/>
            <p:cNvCxnSpPr>
              <a:stCxn id="1127" idx="0"/>
              <a:endCxn id="1123" idx="2"/>
            </p:cNvCxnSpPr>
            <p:nvPr/>
          </p:nvCxnSpPr>
          <p:spPr>
            <a:xfrm flipH="1" flipV="1" rot="5400000">
              <a:off x="3292920" y="1258560"/>
              <a:ext cx="194400" cy="2367360"/>
            </a:xfrm>
            <a:prstGeom prst="bentConnector3">
              <a:avLst>
                <a:gd name="adj1" fmla="val 49907"/>
              </a:avLst>
            </a:prstGeom>
            <a:ln w="9360">
              <a:solidFill>
                <a:srgbClr val="af273e"/>
              </a:solidFill>
              <a:miter/>
            </a:ln>
          </p:spPr>
        </p:cxnSp>
        <p:sp>
          <p:nvSpPr>
            <p:cNvPr id="1123" name="_s76807"/>
            <p:cNvSpPr/>
            <p:nvPr/>
          </p:nvSpPr>
          <p:spPr>
            <a:xfrm>
              <a:off x="2887200" y="1308960"/>
              <a:ext cx="3369960" cy="10227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400" spc="-1" strike="noStrike">
                  <a:solidFill>
                    <a:srgbClr val="ffffff"/>
                  </a:solidFill>
                  <a:latin typeface="Arial Black"/>
                  <a:ea typeface="標楷體"/>
                </a:rPr>
                <a:t>結構分析表</a:t>
              </a:r>
              <a:r>
                <a:rPr b="0" lang="zh-TW" sz="4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_s76808"/>
            <p:cNvSpPr/>
            <p:nvPr/>
          </p:nvSpPr>
          <p:spPr>
            <a:xfrm>
              <a:off x="1079640" y="2554920"/>
              <a:ext cx="2252520" cy="4080600"/>
            </a:xfrm>
            <a:custGeom>
              <a:avLst/>
              <a:gdLst>
                <a:gd name="textAreaLeft" fmla="*/ 329760 w 2252520"/>
                <a:gd name="textAreaRight" fmla="*/ 1922760 w 2252520"/>
                <a:gd name="textAreaTop" fmla="*/ 329760 h 4080600"/>
                <a:gd name="textAreaBottom" fmla="*/ 3750840 h 4080600"/>
              </a:gdLst>
              <a:ahLst/>
              <a:rect l="textAreaLeft" t="textAreaTop" r="textAreaRight" b="textAreaBottom"/>
              <a:pathLst>
                <a:path w="21600" h="39127">
                  <a:moveTo>
                    <a:pt x="10800" y="0"/>
                  </a:moveTo>
                  <a:arcTo wR="10800" hR="10800" stAng="16200000" swAng="-5400000"/>
                  <a:lnTo>
                    <a:pt x="0" y="28327"/>
                  </a:lnTo>
                  <a:arcTo wR="10800" hR="10800" stAng="10800000" swAng="-5400000"/>
                  <a:lnTo>
                    <a:pt x="10800" y="391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Arial Black"/>
                  <a:hlinkClick r:id="rId1" action="ppaction://hlinksldjump"/>
                </a:rPr>
                <a:t>參</a:t>
              </a:r>
              <a:r>
                <a:rPr b="0" lang="zh-TW" sz="1800" spc="-1" strike="noStrike" u="sng">
                  <a:solidFill>
                    <a:srgbClr val="ff3399"/>
                  </a:solidFill>
                  <a:uFillTx/>
                  <a:latin typeface="Arial Black"/>
                  <a:hlinkClick r:id="rId2" action="ppaction://hlinksldjump"/>
                </a:rPr>
                <a:t>、</a:t>
              </a: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Arial Black"/>
                  <a:hlinkClick r:id="rId3" action="ppaction://hlinksldjump"/>
                </a:rPr>
                <a:t>議論 </a:t>
              </a: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Arial Black"/>
                  <a:hlinkClick r:id="rId4" action="ppaction://hlinksldjump"/>
                </a:rPr>
                <a:t>– 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Arial Black"/>
                  <a:hlinkClick r:id="rId5" action="ppaction://hlinksldjump"/>
                </a:rPr>
                <a:t>以議論作結，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Arial Black"/>
                  <a:hlinkClick r:id="rId6" action="ppaction://hlinksldjump"/>
                </a:rPr>
                <a:t>點出旨意</a:t>
              </a: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Arial Black"/>
                  <a:hlinkClick r:id="rId7" action="ppaction://hlinksldjump"/>
                </a:rPr>
                <a:t> 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_s76809"/>
            <p:cNvSpPr/>
            <p:nvPr/>
          </p:nvSpPr>
          <p:spPr>
            <a:xfrm>
              <a:off x="3445560" y="2554920"/>
              <a:ext cx="2252520" cy="4080600"/>
            </a:xfrm>
            <a:custGeom>
              <a:avLst/>
              <a:gdLst>
                <a:gd name="textAreaLeft" fmla="*/ 329760 w 2252520"/>
                <a:gd name="textAreaRight" fmla="*/ 1922760 w 2252520"/>
                <a:gd name="textAreaTop" fmla="*/ 329760 h 4080600"/>
                <a:gd name="textAreaBottom" fmla="*/ 3750840 h 4080600"/>
              </a:gdLst>
              <a:ahLst/>
              <a:rect l="textAreaLeft" t="textAreaTop" r="textAreaRight" b="textAreaBottom"/>
              <a:pathLst>
                <a:path w="21600" h="39127">
                  <a:moveTo>
                    <a:pt x="10800" y="0"/>
                  </a:moveTo>
                  <a:arcTo wR="10800" hR="10800" stAng="16200000" swAng="-5400000"/>
                  <a:lnTo>
                    <a:pt x="0" y="28327"/>
                  </a:lnTo>
                  <a:arcTo wR="10800" hR="10800" stAng="10800000" swAng="-5400000"/>
                  <a:lnTo>
                    <a:pt x="10800" y="391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新細明體"/>
                  <a:hlinkClick r:id="rId8" action="ppaction://hlinksldjump"/>
                </a:rPr>
                <a:t>貳、抒情 </a:t>
              </a: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新細明體"/>
                  <a:hlinkClick r:id="rId9" action="ppaction://hlinksldjump"/>
                </a:rPr>
                <a:t>– 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新細明體"/>
                  <a:hlinkClick r:id="rId10" action="ppaction://hlinksldjump"/>
                </a:rPr>
                <a:t>由景入情 </a:t>
              </a: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新細明體"/>
                  <a:hlinkClick r:id="rId11" action="ppaction://hlinksldjump"/>
                </a:rPr>
                <a:t>-- 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新細明體"/>
                  <a:hlinkClick r:id="rId12" action="ppaction://hlinksldjump"/>
                </a:rPr>
                <a:t>追溯到往日情懷</a:t>
              </a:r>
              <a:r>
                <a:rPr b="0" lang="zh-TW" sz="1700" spc="-1" strike="noStrike" u="sng">
                  <a:solidFill>
                    <a:srgbClr val="ff3399"/>
                  </a:solidFill>
                  <a:uFillTx/>
                  <a:latin typeface="新細明體"/>
                  <a:hlinkClick r:id="rId13" action="ppaction://hlinksldjump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_s76810"/>
            <p:cNvSpPr/>
            <p:nvPr/>
          </p:nvSpPr>
          <p:spPr>
            <a:xfrm>
              <a:off x="5811840" y="2554920"/>
              <a:ext cx="2252520" cy="4080600"/>
            </a:xfrm>
            <a:custGeom>
              <a:avLst/>
              <a:gdLst>
                <a:gd name="textAreaLeft" fmla="*/ 329760 w 2252520"/>
                <a:gd name="textAreaRight" fmla="*/ 1922760 w 2252520"/>
                <a:gd name="textAreaTop" fmla="*/ 329760 h 4080600"/>
                <a:gd name="textAreaBottom" fmla="*/ 3750840 h 4080600"/>
              </a:gdLst>
              <a:ahLst/>
              <a:rect l="textAreaLeft" t="textAreaTop" r="textAreaRight" b="textAreaBottom"/>
              <a:pathLst>
                <a:path w="21600" h="39127">
                  <a:moveTo>
                    <a:pt x="10800" y="0"/>
                  </a:moveTo>
                  <a:arcTo wR="10800" hR="10800" stAng="16200000" swAng="-5400000"/>
                  <a:lnTo>
                    <a:pt x="0" y="28327"/>
                  </a:lnTo>
                  <a:arcTo wR="10800" hR="10800" stAng="10800000" swAng="-5400000"/>
                  <a:lnTo>
                    <a:pt x="10800" y="391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Arial Black"/>
                  <a:hlinkClick r:id="rId14" action="ppaction://hlinksldjump"/>
                </a:rPr>
                <a:t>壹、寫景 </a:t>
              </a: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Arial Black"/>
                  <a:hlinkClick r:id="rId15" action="ppaction://hlinksldjump"/>
                </a:rPr>
                <a:t>--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300" spc="-1" strike="noStrike" u="sng">
                  <a:solidFill>
                    <a:srgbClr val="ff3399"/>
                  </a:solidFill>
                  <a:uFillTx/>
                  <a:latin typeface="Arial Black"/>
                  <a:hlinkClick r:id="rId16" action="ppaction://hlinksldjump"/>
                </a:rPr>
                <a:t>以眼前景物為基點</a:t>
              </a:r>
              <a:r>
                <a:rPr b="0" lang="zh-TW" sz="1700" spc="-1" strike="noStrike" u="sng">
                  <a:solidFill>
                    <a:srgbClr val="ff3399"/>
                  </a:solidFill>
                  <a:uFillTx/>
                  <a:latin typeface="Arial Black"/>
                  <a:hlinkClick r:id="rId17" action="ppaction://hlinksldjump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 Black"/>
                <a:ea typeface="標楷體"/>
              </a:rPr>
              <a:t>結構分析圖</a:t>
            </a:r>
            <a:br>
              <a:rPr sz="4400"/>
            </a:br>
            <a:r>
              <a:rPr b="1" lang="zh-TW" sz="4400" spc="-1" strike="noStrike">
                <a:solidFill>
                  <a:srgbClr val="ffffff"/>
                </a:solidFill>
                <a:latin typeface="Arial Black"/>
                <a:ea typeface="標楷體"/>
              </a:rPr>
              <a:t>第壹大段 – 寫景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949320" y="1726200"/>
            <a:ext cx="6778440" cy="5167080"/>
            <a:chOff x="949320" y="1726200"/>
            <a:chExt cx="6778440" cy="5167080"/>
          </a:xfrm>
        </p:grpSpPr>
        <p:cxnSp>
          <p:nvCxnSpPr>
            <p:cNvPr id="1130" name="_s77829"/>
            <p:cNvCxnSpPr>
              <a:stCxn id="1131" idx="0"/>
              <a:endCxn id="1132" idx="2"/>
            </p:cNvCxnSpPr>
            <p:nvPr/>
          </p:nvCxnSpPr>
          <p:spPr>
            <a:xfrm flipV="1" rot="16200000">
              <a:off x="5428440" y="1549440"/>
              <a:ext cx="131760" cy="2311920"/>
            </a:xfrm>
            <a:prstGeom prst="bentConnector3">
              <a:avLst>
                <a:gd name="adj1" fmla="val 49315"/>
              </a:avLst>
            </a:prstGeom>
            <a:ln w="9360">
              <a:solidFill>
                <a:srgbClr val="af273e"/>
              </a:solidFill>
              <a:miter/>
            </a:ln>
          </p:spPr>
        </p:cxnSp>
        <p:cxnSp>
          <p:nvCxnSpPr>
            <p:cNvPr id="1133" name="_s77830"/>
            <p:cNvCxnSpPr>
              <a:stCxn id="1134" idx="0"/>
              <a:endCxn id="1132" idx="2"/>
            </p:cNvCxnSpPr>
            <p:nvPr/>
          </p:nvCxnSpPr>
          <p:spPr>
            <a:xfrm flipV="1">
              <a:off x="4338720" y="2639880"/>
              <a:ext cx="2880" cy="131760"/>
            </a:xfrm>
            <a:prstGeom prst="bentConnector2">
              <a:avLst/>
            </a:prstGeom>
            <a:ln w="9360">
              <a:solidFill>
                <a:srgbClr val="af273e"/>
              </a:solidFill>
              <a:miter/>
            </a:ln>
          </p:spPr>
        </p:cxnSp>
        <p:cxnSp>
          <p:nvCxnSpPr>
            <p:cNvPr id="1135" name="_s77831"/>
            <p:cNvCxnSpPr>
              <a:stCxn id="1136" idx="0"/>
              <a:endCxn id="1132" idx="2"/>
            </p:cNvCxnSpPr>
            <p:nvPr/>
          </p:nvCxnSpPr>
          <p:spPr>
            <a:xfrm flipH="1" flipV="1" rot="5400000">
              <a:off x="3117240" y="1549800"/>
              <a:ext cx="131760" cy="2311920"/>
            </a:xfrm>
            <a:prstGeom prst="bentConnector3">
              <a:avLst>
                <a:gd name="adj1" fmla="val 49315"/>
              </a:avLst>
            </a:prstGeom>
            <a:ln w="9360">
              <a:solidFill>
                <a:srgbClr val="af273e"/>
              </a:solidFill>
              <a:miter/>
            </a:ln>
          </p:spPr>
        </p:cxnSp>
        <p:sp>
          <p:nvSpPr>
            <p:cNvPr id="1132" name="_s77832"/>
            <p:cNvSpPr/>
            <p:nvPr/>
          </p:nvSpPr>
          <p:spPr>
            <a:xfrm>
              <a:off x="1054080" y="1726200"/>
              <a:ext cx="6569280" cy="9000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ffffff"/>
                  </a:solidFill>
                  <a:latin typeface="Arial Black"/>
                </a:rPr>
                <a:t>第壹大段→以眼前景物為基點</a:t>
              </a:r>
              <a:r>
                <a:rPr b="0" lang="zh-TW" sz="36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_s77833"/>
            <p:cNvSpPr/>
            <p:nvPr/>
          </p:nvSpPr>
          <p:spPr>
            <a:xfrm>
              <a:off x="949320" y="2784960"/>
              <a:ext cx="2155320" cy="4108320"/>
            </a:xfrm>
            <a:custGeom>
              <a:avLst/>
              <a:gdLst>
                <a:gd name="textAreaLeft" fmla="*/ 315360 w 2155320"/>
                <a:gd name="textAreaRight" fmla="*/ 1839960 w 2155320"/>
                <a:gd name="textAreaTop" fmla="*/ 315360 h 4108320"/>
                <a:gd name="textAreaBottom" fmla="*/ 3792960 h 4108320"/>
              </a:gdLst>
              <a:ahLst/>
              <a:rect l="textAreaLeft" t="textAreaTop" r="textAreaRight" b="textAreaBottom"/>
              <a:pathLst>
                <a:path w="21600" h="41169">
                  <a:moveTo>
                    <a:pt x="10800" y="0"/>
                  </a:moveTo>
                  <a:arcTo wR="10800" hR="10800" stAng="16200000" swAng="-5400000"/>
                  <a:lnTo>
                    <a:pt x="0" y="30369"/>
                  </a:lnTo>
                  <a:arcTo wR="10800" hR="10800" stAng="10800000" swAng="-5400000"/>
                  <a:lnTo>
                    <a:pt x="10800" y="4116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1" action="ppaction://hlinksldjump"/>
                </a:rPr>
                <a:t>(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2" action="ppaction://hlinksldjump"/>
                </a:rPr>
                <a:t>三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3" action="ppaction://hlinksldjump"/>
                </a:rPr>
                <a:t>)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4" action="ppaction://hlinksldjump"/>
                </a:rPr>
                <a:t>喚起了對往事的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5" action="ppaction://hlinksldjump"/>
                </a:rPr>
                <a:t>追憶，為下段開啟了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6" action="ppaction://hlinksldjump"/>
                </a:rPr>
                <a:t>先河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7" action="ppaction://hlinksldjump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_s77834"/>
            <p:cNvSpPr/>
            <p:nvPr/>
          </p:nvSpPr>
          <p:spPr>
            <a:xfrm>
              <a:off x="3260520" y="2784960"/>
              <a:ext cx="2155320" cy="4108320"/>
            </a:xfrm>
            <a:custGeom>
              <a:avLst/>
              <a:gdLst>
                <a:gd name="textAreaLeft" fmla="*/ 315360 w 2155320"/>
                <a:gd name="textAreaRight" fmla="*/ 1839960 w 2155320"/>
                <a:gd name="textAreaTop" fmla="*/ 315360 h 4108320"/>
                <a:gd name="textAreaBottom" fmla="*/ 3792960 h 4108320"/>
              </a:gdLst>
              <a:ahLst/>
              <a:rect l="textAreaLeft" t="textAreaTop" r="textAreaRight" b="textAreaBottom"/>
              <a:pathLst>
                <a:path w="21600" h="41169">
                  <a:moveTo>
                    <a:pt x="10800" y="0"/>
                  </a:moveTo>
                  <a:arcTo wR="10800" hR="10800" stAng="16200000" swAng="-5400000"/>
                  <a:lnTo>
                    <a:pt x="0" y="30369"/>
                  </a:lnTo>
                  <a:arcTo wR="10800" hR="10800" stAng="10800000" swAng="-5400000"/>
                  <a:lnTo>
                    <a:pt x="10800" y="4116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8" action="ppaction://hlinksldjump"/>
                </a:rPr>
                <a:t>(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9" action="ppaction://hlinksldjump"/>
                </a:rPr>
                <a:t>二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10" action="ppaction://hlinksldjump"/>
                </a:rPr>
                <a:t>)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11" action="ppaction://hlinksldjump"/>
                </a:rPr>
                <a:t>導入主題，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12" action="ppaction://hlinksldjump"/>
                </a:rPr>
                <a:t>介紹這裡的花。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_s77835"/>
            <p:cNvSpPr/>
            <p:nvPr/>
          </p:nvSpPr>
          <p:spPr>
            <a:xfrm>
              <a:off x="5571720" y="2784960"/>
              <a:ext cx="2156040" cy="4108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4108320"/>
                <a:gd name="textAreaBottom" fmla="*/ 3792600 h 4108320"/>
              </a:gdLst>
              <a:ahLst/>
              <a:rect l="textAreaLeft" t="textAreaTop" r="textAreaRight" b="textAreaBottom"/>
              <a:pathLst>
                <a:path w="21600" h="41155">
                  <a:moveTo>
                    <a:pt x="10800" y="0"/>
                  </a:moveTo>
                  <a:arcTo wR="10800" hR="10800" stAng="16200000" swAng="-5400000"/>
                  <a:lnTo>
                    <a:pt x="0" y="30355"/>
                  </a:lnTo>
                  <a:arcTo wR="10800" hR="10800" stAng="10800000" swAng="-5400000"/>
                  <a:lnTo>
                    <a:pt x="10800" y="4115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13" action="ppaction://hlinksldjump"/>
                </a:rPr>
                <a:t>(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14" action="ppaction://hlinksldjump"/>
                </a:rPr>
                <a:t>一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15" action="ppaction://hlinksldjump"/>
                </a:rPr>
                <a:t>)</a:t>
              </a: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16" action="ppaction://hlinksldjump"/>
                </a:rPr>
                <a:t>說明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 u="sng">
                  <a:solidFill>
                    <a:srgbClr val="ff3399"/>
                  </a:solidFill>
                  <a:uFillTx/>
                  <a:latin typeface="Arial Black"/>
                  <a:hlinkClick r:id="rId17" action="ppaction://hlinksldjump"/>
                </a:rPr>
                <a:t>寫這篇文章的因緣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37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809880" y="22860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7d47d"/>
                </a:solidFill>
                <a:latin typeface="標楷體"/>
                <a:ea typeface="標楷體"/>
              </a:rPr>
              <a:t>結構分析圖</a:t>
            </a:r>
            <a:br>
              <a:rPr sz="3800"/>
            </a:br>
            <a:r>
              <a:rPr b="0" lang="zh-TW" sz="3800" spc="-1" strike="noStrike">
                <a:solidFill>
                  <a:srgbClr val="f7d47d"/>
                </a:solidFill>
                <a:latin typeface="標楷體"/>
                <a:ea typeface="標楷體"/>
              </a:rPr>
              <a:t>第貳大段 </a:t>
            </a:r>
            <a:r>
              <a:rPr b="0" lang="zh-TW" sz="3800" spc="-1" strike="noStrike">
                <a:solidFill>
                  <a:srgbClr val="f7d47d"/>
                </a:solidFill>
                <a:latin typeface="標楷體"/>
                <a:ea typeface="標楷體"/>
              </a:rPr>
              <a:t>-- </a:t>
            </a:r>
            <a:r>
              <a:rPr b="1" lang="zh-TW" sz="3800" spc="-1" strike="noStrike">
                <a:solidFill>
                  <a:srgbClr val="f7d47d"/>
                </a:solidFill>
                <a:latin typeface="標楷體"/>
                <a:ea typeface="標楷體"/>
              </a:rPr>
              <a:t>抒情</a:t>
            </a:r>
            <a:r>
              <a:rPr b="0" lang="zh-TW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307800" y="1373040"/>
            <a:ext cx="7476480" cy="5668560"/>
            <a:chOff x="307800" y="1373040"/>
            <a:chExt cx="7476480" cy="5668560"/>
          </a:xfrm>
        </p:grpSpPr>
        <p:cxnSp>
          <p:nvCxnSpPr>
            <p:cNvPr id="1140" name="_s80901"/>
            <p:cNvCxnSpPr>
              <a:stCxn id="1141" idx="0"/>
              <a:endCxn id="1142" idx="2"/>
            </p:cNvCxnSpPr>
            <p:nvPr/>
          </p:nvCxnSpPr>
          <p:spPr>
            <a:xfrm flipV="1" rot="16200000">
              <a:off x="5030280" y="2034000"/>
              <a:ext cx="49320" cy="2012040"/>
            </a:xfrm>
            <a:prstGeom prst="bentConnector3">
              <a:avLst>
                <a:gd name="adj1" fmla="val 4779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3" name="_s80902"/>
            <p:cNvCxnSpPr>
              <a:stCxn id="1144" idx="0"/>
              <a:endCxn id="1142" idx="2"/>
            </p:cNvCxnSpPr>
            <p:nvPr/>
          </p:nvCxnSpPr>
          <p:spPr>
            <a:xfrm flipH="1" flipV="1" rot="5400000">
              <a:off x="3015720" y="2030760"/>
              <a:ext cx="49320" cy="2018880"/>
            </a:xfrm>
            <a:prstGeom prst="bentConnector3">
              <a:avLst>
                <a:gd name="adj1" fmla="val 4779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42" name="_s80903"/>
            <p:cNvSpPr/>
            <p:nvPr/>
          </p:nvSpPr>
          <p:spPr>
            <a:xfrm>
              <a:off x="1361160" y="1373040"/>
              <a:ext cx="5373000" cy="16286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193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ffffff"/>
                  </a:solidFill>
                  <a:latin typeface="Arial Black"/>
                </a:rPr>
                <a:t>第貳大段→由景入情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ffffff"/>
                  </a:solidFill>
                  <a:latin typeface="Arial Black"/>
                </a:rPr>
                <a:t>追溯到往日情懷</a:t>
              </a:r>
              <a:r>
                <a:rPr b="0" lang="zh-TW" sz="36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_s80904"/>
            <p:cNvSpPr/>
            <p:nvPr/>
          </p:nvSpPr>
          <p:spPr>
            <a:xfrm>
              <a:off x="307800" y="3079440"/>
              <a:ext cx="3450960" cy="3962160"/>
            </a:xfrm>
            <a:custGeom>
              <a:avLst/>
              <a:gdLst>
                <a:gd name="textAreaLeft" fmla="*/ 505440 w 3450960"/>
                <a:gd name="textAreaRight" fmla="*/ 2945520 w 3450960"/>
                <a:gd name="textAreaTop" fmla="*/ 505440 h 3962160"/>
                <a:gd name="textAreaBottom" fmla="*/ 3456720 h 3962160"/>
              </a:gdLst>
              <a:ahLst/>
              <a:rect l="textAreaLeft" t="textAreaTop" r="textAreaRight" b="textAreaBottom"/>
              <a:pathLst>
                <a:path w="21600" h="24799">
                  <a:moveTo>
                    <a:pt x="10800" y="0"/>
                  </a:moveTo>
                  <a:arcTo wR="10800" hR="10800" stAng="16200000" swAng="-5400000"/>
                  <a:lnTo>
                    <a:pt x="0" y="13999"/>
                  </a:lnTo>
                  <a:arcTo wR="10800" hR="10800" stAng="10800000" swAng="-5400000"/>
                  <a:lnTo>
                    <a:pt x="10800" y="2479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8440">
              <a:solidFill>
                <a:srgbClr val="eb9f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1" action="ppaction://hlinksldjump"/>
                </a:rPr>
                <a:t>(</a:t>
              </a: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2" action="ppaction://hlinksldjump"/>
                </a:rPr>
                <a:t>六、七</a:t>
              </a:r>
              <a:r>
                <a:rPr b="1" lang="zh-TW" sz="2900" spc="-1" strike="noStrike">
                  <a:solidFill>
                    <a:srgbClr val="ffffff"/>
                  </a:solidFill>
                  <a:latin typeface="Arial Black"/>
                </a:rPr>
                <a:t>、</a:t>
              </a: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3" action="ppaction://hlinksldjump"/>
                </a:rPr>
                <a:t>八、九</a:t>
              </a: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4" action="ppaction://hlinksldjump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5" action="ppaction://hlinksldjump"/>
                </a:rPr>
                <a:t>追</a:t>
              </a: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6" action="ppaction://hlinksldjump"/>
                </a:rPr>
                <a:t>憶故國神話、河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7" action="ppaction://hlinksldjump"/>
                </a:rPr>
                <a:t>山、詩歌、田園之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8" action="ppaction://hlinksldjump"/>
                </a:rPr>
                <a:t>美及兒時記憶，表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9" action="ppaction://hlinksldjump"/>
                </a:rPr>
                <a:t>達懷鄉情濃之思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_s80905"/>
            <p:cNvSpPr/>
            <p:nvPr/>
          </p:nvSpPr>
          <p:spPr>
            <a:xfrm>
              <a:off x="4333320" y="3079440"/>
              <a:ext cx="3450960" cy="3962160"/>
            </a:xfrm>
            <a:custGeom>
              <a:avLst/>
              <a:gdLst>
                <a:gd name="textAreaLeft" fmla="*/ 505440 w 3450960"/>
                <a:gd name="textAreaRight" fmla="*/ 2945520 w 3450960"/>
                <a:gd name="textAreaTop" fmla="*/ 505440 h 3962160"/>
                <a:gd name="textAreaBottom" fmla="*/ 3456720 h 3962160"/>
              </a:gdLst>
              <a:ahLst/>
              <a:rect l="textAreaLeft" t="textAreaTop" r="textAreaRight" b="textAreaBottom"/>
              <a:pathLst>
                <a:path w="21600" h="24799">
                  <a:moveTo>
                    <a:pt x="10800" y="0"/>
                  </a:moveTo>
                  <a:arcTo wR="10800" hR="10800" stAng="16200000" swAng="-5400000"/>
                  <a:lnTo>
                    <a:pt x="0" y="13999"/>
                  </a:lnTo>
                  <a:arcTo wR="10800" hR="10800" stAng="10800000" swAng="-5400000"/>
                  <a:lnTo>
                    <a:pt x="10800" y="2479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8440">
              <a:solidFill>
                <a:srgbClr val="eb9f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10" action="ppaction://hlinksldjump"/>
                </a:rPr>
                <a:t>(</a:t>
              </a: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11" action="ppaction://hlinksldjump"/>
                </a:rPr>
                <a:t>四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 Black"/>
                </a:rPr>
                <a:t>、</a:t>
              </a: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12" action="ppaction://hlinksldjump"/>
                </a:rPr>
                <a:t>五</a:t>
              </a: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13" action="ppaction://hlinksldjump"/>
                </a:rPr>
                <a:t>)</a:t>
              </a: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14" action="ppaction://hlinksldjump"/>
                </a:rPr>
                <a:t>追憶少年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15" action="ppaction://hlinksldjump"/>
                </a:rPr>
                <a:t>時到處可以為家，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16" action="ppaction://hlinksldjump"/>
                </a:rPr>
                <a:t>而現在不能到處為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900" spc="-1" strike="noStrike" u="sng">
                  <a:solidFill>
                    <a:srgbClr val="eb9f17"/>
                  </a:solidFill>
                  <a:uFillTx/>
                  <a:latin typeface="Arial Black"/>
                  <a:hlinkClick r:id="rId17" action="ppaction://hlinksldjump"/>
                </a:rPr>
                <a:t>家的原因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45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69720" y="1712880"/>
            <a:ext cx="828720" cy="914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7700760" y="425520"/>
            <a:ext cx="679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失根的蘭花   陳之藩</a:t>
            </a:r>
            <a:r>
              <a:rPr b="0" lang="zh-TW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9120" y="404280"/>
            <a:ext cx="57150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cc00"/>
                </a:solidFill>
                <a:latin typeface="Arial Black"/>
                <a:ea typeface="標楷體"/>
              </a:rPr>
              <a:t>1</a:t>
            </a:r>
            <a:r>
              <a:rPr b="0" lang="zh-TW" sz="3600" spc="-1" strike="noStrike">
                <a:solidFill>
                  <a:srgbClr val="ffcc00"/>
                </a:solidFill>
                <a:latin typeface="新細明體"/>
              </a:rPr>
              <a:t>顧先生一家約我去費城郊區一個小的大學裡看</a:t>
            </a:r>
            <a:r>
              <a:rPr b="1" lang="zh-TW" sz="3600" spc="-1" strike="noStrike">
                <a:solidFill>
                  <a:srgbClr val="ff0000"/>
                </a:solidFill>
                <a:latin typeface="新細明體"/>
              </a:rPr>
              <a:t>花</a:t>
            </a:r>
            <a:r>
              <a:rPr b="0" lang="zh-TW" sz="3600" spc="-1" strike="noStrike">
                <a:solidFill>
                  <a:srgbClr val="ffcc00"/>
                </a:solidFill>
                <a:latin typeface="新細明體"/>
              </a:rPr>
              <a:t>。汽車走了一個鐘頭的樣子，到了校園，</a:t>
            </a:r>
            <a:r>
              <a:rPr b="0" lang="zh-TW" sz="3600" spc="-1" strike="noStrike" u="sng">
                <a:solidFill>
                  <a:srgbClr val="ff3399"/>
                </a:solidFill>
                <a:uFillTx/>
                <a:latin typeface="新細明體"/>
                <a:hlinkClick r:id="rId1" action="ppaction://hlinksldjump"/>
              </a:rPr>
              <a:t>校園美得像首詩，也像幅畫</a:t>
            </a:r>
            <a:r>
              <a:rPr b="0" lang="zh-TW" sz="3600" spc="-1" strike="noStrike">
                <a:solidFill>
                  <a:srgbClr val="ffcc00"/>
                </a:solidFill>
                <a:latin typeface="新細明體"/>
              </a:rPr>
              <a:t>。依山起伏，古樹成蔭，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綠藤爬滿了一幢一幢的小樓，綠草爬滿了一片一片的坡地</a:t>
            </a:r>
            <a:r>
              <a:rPr b="0" lang="zh-TW" sz="3600" spc="-1" strike="noStrike">
                <a:solidFill>
                  <a:srgbClr val="ffcc00"/>
                </a:solidFill>
                <a:latin typeface="新細明體"/>
              </a:rPr>
              <a:t>，除了鳥語，沒有聲音。</a:t>
            </a:r>
            <a:r>
              <a:rPr b="0" lang="zh-TW" sz="3600" spc="-1" strike="noStrike" u="sng">
                <a:solidFill>
                  <a:srgbClr val="ff3399"/>
                </a:solidFill>
                <a:uFillTx/>
                <a:latin typeface="新細明體"/>
                <a:hlinkClick r:id="rId2" action="ppaction://hlinksldjump"/>
              </a:rPr>
              <a:t>像一個夢，一個安靜的夢。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514920" y="301320"/>
            <a:ext cx="19429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校園美得</a:t>
            </a:r>
            <a:r>
              <a:rPr b="0" lang="zh-TW" sz="4800" spc="-1" strike="noStrike">
                <a:solidFill>
                  <a:srgbClr val="00ffff"/>
                </a:solidFill>
                <a:latin typeface="標楷體"/>
                <a:ea typeface="標楷體"/>
              </a:rPr>
              <a:t>像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首詩，也</a:t>
            </a:r>
            <a:r>
              <a:rPr b="0" lang="zh-TW" sz="4800" spc="-1" strike="noStrike">
                <a:solidFill>
                  <a:srgbClr val="00ffff"/>
                </a:solidFill>
                <a:latin typeface="標楷體"/>
                <a:ea typeface="標楷體"/>
              </a:rPr>
              <a:t>像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幅畫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440" y="301320"/>
            <a:ext cx="56768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Arial Black"/>
                <a:ea typeface="標楷體"/>
              </a:rPr>
              <a:t>寫校園的清幽美麗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Arial Black"/>
                <a:ea typeface="標楷體"/>
              </a:rPr>
              <a:t>譬喻兼排比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05320" y="4381560"/>
            <a:ext cx="3800520" cy="247644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1905120" y="380880"/>
            <a:ext cx="1942920" cy="57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ffff"/>
                </a:solidFill>
                <a:latin typeface="標楷體"/>
                <a:ea typeface="標楷體"/>
              </a:rPr>
              <a:t>像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一個夢，一個安靜的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80880" y="457200"/>
            <a:ext cx="14479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 Black"/>
                <a:ea typeface="標楷體"/>
              </a:rPr>
              <a:t>給人感覺寧靜而優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6526080"/>
            <a:ext cx="6400800" cy="33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75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75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548640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TW" sz="3600" spc="-1" strike="noStrike">
                <a:solidFill>
                  <a:srgbClr val="ffcc00"/>
                </a:solidFill>
                <a:latin typeface="新細明體"/>
              </a:rPr>
              <a:t>花圃有兩片，一片是白色的牡丹，一片是白色的</a:t>
            </a:r>
            <a:r>
              <a:rPr b="0" lang="zh-TW" sz="3600" spc="-1" strike="noStrike" u="sng">
                <a:solidFill>
                  <a:srgbClr val="ff3399"/>
                </a:solidFill>
                <a:uFillTx/>
                <a:latin typeface="新細明體"/>
                <a:hlinkClick r:id="rId1" action="ppaction://hlinksldjump"/>
              </a:rPr>
              <a:t>雪球</a:t>
            </a:r>
            <a:r>
              <a:rPr b="0" lang="zh-TW" sz="3600" spc="-1" strike="noStrike">
                <a:solidFill>
                  <a:srgbClr val="ffcc00"/>
                </a:solidFill>
                <a:latin typeface="新細明體"/>
              </a:rPr>
              <a:t>；在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如</a:t>
            </a:r>
            <a:r>
              <a:rPr b="0" lang="zh-TW" sz="3600" spc="-1" strike="noStrike">
                <a:solidFill>
                  <a:srgbClr val="ffcc00"/>
                </a:solidFill>
                <a:latin typeface="新細明體"/>
              </a:rPr>
              <a:t>海的樹叢裡，還有閃爍著</a:t>
            </a:r>
            <a:r>
              <a:rPr b="0" lang="zh-TW" sz="3600" spc="-1" strike="noStrike">
                <a:solidFill>
                  <a:srgbClr val="ffffff"/>
                </a:solidFill>
                <a:latin typeface="新細明體"/>
              </a:rPr>
              <a:t>如</a:t>
            </a:r>
            <a:r>
              <a:rPr b="0" lang="zh-TW" sz="3600" spc="-1" strike="noStrike">
                <a:solidFill>
                  <a:srgbClr val="ffcc00"/>
                </a:solidFill>
                <a:latin typeface="新細明體"/>
              </a:rPr>
              <a:t>星光的丁香，</a:t>
            </a:r>
            <a:r>
              <a:rPr b="0" lang="zh-TW" sz="3600" spc="-1" strike="noStrike" u="sng">
                <a:solidFill>
                  <a:srgbClr val="ff3399"/>
                </a:solidFill>
                <a:uFillTx/>
                <a:latin typeface="新細明體"/>
                <a:hlinkClick r:id="rId2" action="ppaction://hlinksldjump"/>
              </a:rPr>
              <a:t>這些花全是從中國來的吧！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2514600"/>
            <a:ext cx="1522440" cy="1822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ffcc"/>
                </a:solidFill>
                <a:uFillTx/>
                <a:latin typeface="Arial"/>
                <a:ea typeface="標楷體"/>
                <a:hlinkClick r:id="rId1" action="ppaction://hlinksldjump"/>
              </a:rPr>
              <a:t>旅美小簡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是陳之藩在民國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年到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年間的作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首篇即是『月是故鄉明』開宗明義說明自己旅美的心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2"/>
          <a:stretch/>
        </p:blipFill>
        <p:spPr>
          <a:xfrm>
            <a:off x="2971800" y="4495680"/>
            <a:ext cx="324648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75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75"/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0" y="4419720"/>
            <a:ext cx="194328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ccff"/>
                </a:solidFill>
                <a:uFillTx/>
                <a:latin typeface="Arial Black"/>
                <a:ea typeface="標楷體"/>
                <a:hlinkClick r:id="rId2" action="ppaction://hlinksldjump"/>
              </a:rPr>
              <a:t>白牡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>
            <a:hlinkClick r:id="rId2" action="ppaction://hlinksldjump"/>
          </p:cNvPr>
          <p:cNvSpPr/>
          <p:nvPr/>
        </p:nvSpPr>
        <p:spPr>
          <a:xfrm>
            <a:off x="7201080" y="4724280"/>
            <a:ext cx="19429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  <a:ea typeface="標楷體"/>
              </a:rPr>
              <a:t>白牡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3399"/>
                </a:solidFill>
                <a:uFillTx/>
                <a:latin typeface="Arial Black"/>
                <a:hlinkClick r:id="rId1" action="ppaction://hlinksldjump"/>
              </a:rPr>
              <a:t>雪球</a:t>
            </a:r>
            <a:r>
              <a:rPr b="0" lang="zh-TW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 </a:t>
            </a:r>
            <a:r>
              <a:rPr b="1" lang="zh-TW" sz="4400" spc="-1" strike="noStrike">
                <a:solidFill>
                  <a:srgbClr val="ffffff"/>
                </a:solidFill>
                <a:latin typeface="Arial Black"/>
              </a:rPr>
              <a:t>– 又名繡球花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3"/>
          <a:stretch/>
        </p:blipFill>
        <p:spPr>
          <a:xfrm>
            <a:off x="1577880" y="1981080"/>
            <a:ext cx="2024280" cy="198144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4"/>
          <a:stretch/>
        </p:blipFill>
        <p:spPr>
          <a:xfrm>
            <a:off x="5562720" y="1981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5"/>
          <a:stretch/>
        </p:blipFill>
        <p:spPr>
          <a:xfrm>
            <a:off x="5181480" y="4191120"/>
            <a:ext cx="3022560" cy="198108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6"/>
          <a:stretch/>
        </p:blipFill>
        <p:spPr>
          <a:xfrm>
            <a:off x="609480" y="4267080"/>
            <a:ext cx="3810240" cy="185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514920" y="301320"/>
            <a:ext cx="19429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這些花全是從中國來的吧！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440" y="301320"/>
            <a:ext cx="56768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點出作者因為這些花，而引發對故國家鄉的思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藉在異國生長的花朵反映出作者自己遠離國土的悲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600200"/>
            <a:ext cx="3141720" cy="3533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6743520" cy="57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zh-TW" sz="3600" spc="-1" strike="noStrike">
                <a:solidFill>
                  <a:srgbClr val="ffcc00"/>
                </a:solidFill>
                <a:latin typeface="Arial Black"/>
              </a:rPr>
              <a:t>由於這些花，我自然而然的想起北平公園裡的花花朵朵，與這些簡直沒有兩樣，然而，我怎樣也不能把童年時的情感再回憶起來。不知為什麼，我總覺得這些花不該出現在這裡。它們的背景應該是來今雨軒，應該是</a:t>
            </a:r>
            <a:r>
              <a:rPr b="0" lang="zh-TW" sz="3600" spc="-1" strike="noStrike" u="sng">
                <a:solidFill>
                  <a:srgbClr val="ff3399"/>
                </a:solidFill>
                <a:uFillTx/>
                <a:latin typeface="Arial Black"/>
                <a:hlinkClick r:id="rId1" action="ppaction://hlinksldjump"/>
              </a:rPr>
              <a:t>諧趣園</a:t>
            </a:r>
            <a:r>
              <a:rPr b="0" lang="zh-TW" sz="3600" spc="-1" strike="noStrike">
                <a:solidFill>
                  <a:srgbClr val="ffcc00"/>
                </a:solidFill>
                <a:latin typeface="Arial Black"/>
              </a:rPr>
              <a:t>，應該是宮殿階臺，或亭閣柵欄。</a:t>
            </a:r>
            <a:r>
              <a:rPr b="0" lang="zh-TW" sz="36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因為背景變了，花的顏色也褪了，人的感情也落了。淚，不知為什麼流下來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3"/>
          <a:stretch/>
        </p:blipFill>
        <p:spPr>
          <a:xfrm>
            <a:off x="7601040" y="5229360"/>
            <a:ext cx="1542960" cy="86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514920" y="301320"/>
            <a:ext cx="19429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 Black"/>
                <a:ea typeface="標楷體"/>
              </a:rPr>
              <a:t>因為背景變了，花的顏色也褪了，人的感情也落了。淚，不知為什麼流下來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895480" y="380880"/>
            <a:ext cx="2781360" cy="57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觸景生情，將花比人，有同病相憐的哀傷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說出漂泊天涯的無奈與悲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828800"/>
            <a:ext cx="2411640" cy="27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219240" y="227160"/>
            <a:ext cx="737712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十幾歲，就在外面飄流，淚從來也未這樣不知不覺的流過。在異鄉見過與家鄉完全相異的事物，也見過完全相同的事物，同也好，不同也好，我從未因異鄉事物而想到過家。到渭水濱，那水，是我從來沒有看見過的，我感到新奇，並不感覺陌生；到咸陽城，那城，是我從來沒有看見過的，我只感覺它古老，並不感覺傷感。我曾在秦嶺中揀過與香山上同樣紅的楓葉；我也曾在蜀中看到與太廟中同樣老的古松，我並未因而想起過家，雖然那些時候，</a:t>
            </a:r>
            <a:r>
              <a:rPr b="0" lang="zh-TW" sz="3000" spc="-1" strike="noStrike" u="sng">
                <a:solidFill>
                  <a:srgbClr val="eb9f17"/>
                </a:solidFill>
                <a:uFillTx/>
                <a:latin typeface="Arial"/>
                <a:hlinkClick r:id="rId1" action="ppaction://hlinksldjump"/>
              </a:rPr>
              <a:t>我窮苦的像個乞丐，但胸中卻總是有嚼菜根用以自勵的精神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，我曾驕傲的說過自己：「</a:t>
            </a:r>
            <a:r>
              <a:rPr b="0" lang="zh-TW" sz="3000" spc="-1" strike="noStrike" u="sng">
                <a:solidFill>
                  <a:srgbClr val="eb9f17"/>
                </a:solidFill>
                <a:uFillTx/>
                <a:latin typeface="Arial"/>
                <a:hlinkClick r:id="rId2" action="ppaction://hlinksldjump"/>
              </a:rPr>
              <a:t>我，到處可以為家。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」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827680" y="227160"/>
            <a:ext cx="186840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7d47d"/>
                </a:solidFill>
                <a:latin typeface="Arial"/>
                <a:ea typeface="標楷體"/>
              </a:rPr>
              <a:t>我，到處可以為家</a:t>
            </a:r>
            <a:endParaRPr b="0" lang="en-US" sz="4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79640" y="227160"/>
            <a:ext cx="369576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因為沒有離開國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同於顏淵、陶淵明的「一簞食，一瓢飲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有「男兒志在四方」的精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480" y="4191120"/>
            <a:ext cx="89244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094360" y="134640"/>
            <a:ext cx="232416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  <a:ea typeface="標楷體"/>
              </a:rPr>
              <a:t>在夜裡的夢中，常常是家裡的小屋在風雨中坍塌了，或是母親的頭髮一根一根的白了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44520" y="378000"/>
            <a:ext cx="450360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因為「思鄉情切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日有所思，夜有所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/>
          </p:nvPr>
        </p:nvSpPr>
        <p:spPr>
          <a:xfrm>
            <a:off x="1402920" y="227160"/>
            <a:ext cx="576108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5 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然而，自至美國，情感突然變了。在夜裡的夢中，常常是家裡的小屋在風雨中坍塌了，或是母親的頭髮一根一根的白了。在白天的生活中，常常是不愛看與故鄉不同的東西，而又不敢看與故鄉相同的東西。我這時才恍然悟到，我所謂的到處可以為家，是因為蠶未離開那片桑葉，等到離開國土一步，即到處均不可以為家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7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7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ffcc"/>
                </a:solidFill>
                <a:uFillTx/>
                <a:latin typeface="Arial"/>
                <a:ea typeface="標楷體"/>
                <a:hlinkClick r:id="rId1" action="ppaction://hlinksldjump"/>
              </a:rPr>
              <a:t>鄭思肖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宋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末著名的詩人、畫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原名</a:t>
            </a:r>
            <a:r>
              <a:rPr b="0" lang="zh-TW" sz="32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2" action="ppaction://hlinksldjump"/>
              </a:rPr>
              <a:t>宋亡後表現出其忠君愛國的情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參考注釋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14332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projctor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75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75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75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827680" y="227160"/>
            <a:ext cx="186840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  <a:ea typeface="標楷體"/>
              </a:rPr>
              <a:t>不愛看與故鄉不同的東西，而又不敢看與故鄉相同的東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932360" y="227160"/>
            <a:ext cx="74304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表現出思鄉懷國的一體兩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438280" y="271440"/>
            <a:ext cx="186876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843280" y="260280"/>
            <a:ext cx="186840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  <a:ea typeface="標楷體"/>
              </a:rPr>
              <a:t>我這時才恍然悟到，我所謂的到處可以為家，是因為蠶未離開那片桑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293760"/>
            <a:ext cx="280836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以「蠶」比喻自己，以「桑葉」比喻國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指出到處可以為家的原因 – 並沒有離開國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5"/>
          <a:stretch/>
        </p:blipFill>
        <p:spPr>
          <a:xfrm>
            <a:off x="5076720" y="560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6"/>
          <a:stretch/>
        </p:blipFill>
        <p:spPr>
          <a:xfrm>
            <a:off x="1403280" y="5516640"/>
            <a:ext cx="486000" cy="500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4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4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400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4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4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4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827680" y="227160"/>
            <a:ext cx="186840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7d47d"/>
                </a:solidFill>
                <a:latin typeface="Arial"/>
                <a:ea typeface="標楷體"/>
              </a:rPr>
              <a:t>我窮苦的像個乞丐，但胸中卻總是有嚼菜根用以自勵的精神</a:t>
            </a:r>
            <a:endParaRPr b="0" lang="en-US" sz="4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219240" y="227160"/>
            <a:ext cx="545616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安貧樂道、奮發自勵的精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與「貧賤不能移」、「不戚戚於貧賤」的精神相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意近於「斯是陋室，惟吾德馨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86280" y="3795840"/>
            <a:ext cx="571680" cy="6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/>
          </p:nvPr>
        </p:nvSpPr>
        <p:spPr>
          <a:xfrm>
            <a:off x="456840" y="277920"/>
            <a:ext cx="800244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6e6da"/>
                </a:solidFill>
                <a:latin typeface="Verdana"/>
              </a:rPr>
              <a:t>6</a:t>
            </a:r>
            <a:r>
              <a:rPr b="1" lang="zh-TW" sz="3200" spc="-1" strike="noStrike">
                <a:solidFill>
                  <a:srgbClr val="e6e6da"/>
                </a:solidFill>
                <a:latin typeface="Verdana"/>
              </a:rPr>
              <a:t>、</a:t>
            </a:r>
            <a:r>
              <a:rPr b="1" lang="zh-TW" sz="3200" spc="-1" strike="noStrike">
                <a:solidFill>
                  <a:srgbClr val="e6e6da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6e6da"/>
                </a:solidFill>
                <a:latin typeface="Verdana"/>
              </a:rPr>
              <a:t>美國有本很著名的小說，裡面穿插著一個中國人，這個中國人是生在美國的，然而長大之後，他卻留著辮子，說不通的英語，其實他英語說得非常好。有一次，一不小心，將英文很流利的說出來，美國人自然因此知道他是生在美國的，問他，為什麼偏要裝成中國人呢？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33cc33"/>
                </a:solidFill>
                <a:uFillTx/>
                <a:latin typeface="Verdana"/>
                <a:hlinkClick r:id="rId1" action="ppaction://hlinksldjump"/>
              </a:rPr>
              <a:t>他說：「我曾經剪過辮子，穿起西裝，說著流利的英語，然而，我依然不能與你們混合，你們拿另一種眼光看我，我感覺苦痛</a:t>
            </a:r>
            <a:r>
              <a:rPr b="0" lang="zh-TW" sz="3200" spc="-1" strike="noStrike" u="sng">
                <a:solidFill>
                  <a:srgbClr val="33cc33"/>
                </a:solidFill>
                <a:uFillTx/>
                <a:latin typeface="Verdana"/>
                <a:hlinkClick r:id="rId2" action="ppaction://hlinksldjump"/>
              </a:rPr>
              <a:t>……</a:t>
            </a:r>
            <a:r>
              <a:rPr b="0" lang="zh-TW" sz="3200" spc="-1" strike="noStrike" u="sng">
                <a:solidFill>
                  <a:srgbClr val="33cc33"/>
                </a:solidFill>
                <a:uFillTx/>
                <a:latin typeface="Verdana"/>
                <a:hlinkClick r:id="rId3" action="ppaction://hlinksldjump"/>
              </a:rPr>
              <a:t>」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400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400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400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27280" y="333000"/>
            <a:ext cx="205740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3f2d9"/>
                </a:solidFill>
                <a:latin typeface="Arial"/>
                <a:ea typeface="標楷體"/>
              </a:rPr>
              <a:t>他說：「我曾經剪過辮子，穿起西裝，說著流利的英語，然而，我依然不能與你們混合，你們拿另一種眼光看我，我感覺苦痛……」</a:t>
            </a:r>
            <a:endParaRPr b="0" lang="en-US" sz="38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492000" y="182160"/>
            <a:ext cx="180036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6e6da"/>
                </a:solidFill>
                <a:latin typeface="Verdana"/>
              </a:rPr>
              <a:t>說明移民異邦的人，即使適應良好，仍會受到異樣的眼光，無法真的融入異國的社會。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08640"/>
            <a:ext cx="350028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/>
          </p:nvPr>
        </p:nvSpPr>
        <p:spPr>
          <a:xfrm>
            <a:off x="0" y="277920"/>
            <a:ext cx="91440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e6e6da"/>
                </a:solidFill>
                <a:latin typeface="Verdana"/>
              </a:rPr>
              <a:t>8</a:t>
            </a:r>
            <a:r>
              <a:rPr b="1" lang="zh-TW" sz="3000" spc="-1" strike="noStrike">
                <a:solidFill>
                  <a:srgbClr val="e6e6da"/>
                </a:solidFill>
                <a:latin typeface="Verdana"/>
              </a:rPr>
              <a:t>、</a:t>
            </a:r>
            <a:r>
              <a:rPr b="1" lang="zh-TW" sz="3000" spc="-1" strike="noStrike">
                <a:solidFill>
                  <a:srgbClr val="e6e6da"/>
                </a:solidFill>
                <a:latin typeface="Verdana"/>
              </a:rPr>
              <a:t>9</a:t>
            </a:r>
            <a:endParaRPr b="0" lang="en-US" sz="3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e6e6da"/>
                </a:solidFill>
                <a:latin typeface="Verdana"/>
              </a:rPr>
              <a:t>花搬到美國來，我們看著不順眼；人搬到美國來，也是同樣不安心。這時候才憶起，家鄉土地之芬芳，與故土花草的豔麗。我曾記得，八歲時肩起小鐮刀跟著叔父下地去割金黃的麥穗。而今</a:t>
            </a:r>
            <a:r>
              <a:rPr b="0" lang="zh-TW" sz="3000" spc="-1" strike="noStrike" u="sng">
                <a:solidFill>
                  <a:srgbClr val="33cc33"/>
                </a:solidFill>
                <a:uFillTx/>
                <a:latin typeface="Verdana"/>
                <a:hlinkClick r:id="rId1" action="ppaction://hlinksldjump"/>
              </a:rPr>
              <a:t>這童年的彩色版畫</a:t>
            </a:r>
            <a:r>
              <a:rPr b="1" lang="zh-TW" sz="3000" spc="-1" strike="noStrike">
                <a:solidFill>
                  <a:srgbClr val="e6e6da"/>
                </a:solidFill>
                <a:latin typeface="Verdana"/>
              </a:rPr>
              <a:t>，成了我一生中不朽的繪圖。</a:t>
            </a:r>
            <a:endParaRPr b="0" lang="en-US" sz="3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33cc33"/>
                </a:solidFill>
                <a:uFillTx/>
                <a:latin typeface="Verdana"/>
                <a:hlinkClick r:id="rId2" action="ppaction://hlinksldjump"/>
              </a:rPr>
              <a:t>在</a:t>
            </a:r>
            <a:r>
              <a:rPr b="0" lang="zh-TW" sz="3000" spc="-1" strike="noStrike" u="sng">
                <a:solidFill>
                  <a:srgbClr val="33cc33"/>
                </a:solidFill>
                <a:uFillTx/>
                <a:latin typeface="Verdana"/>
                <a:hlinkClick r:id="rId3" action="ppaction://hlinksldjump"/>
              </a:rPr>
              <a:t>沁涼如水</a:t>
            </a:r>
            <a:r>
              <a:rPr b="0" lang="zh-TW" sz="3000" spc="-1" strike="noStrike" u="sng">
                <a:solidFill>
                  <a:srgbClr val="33cc33"/>
                </a:solidFill>
                <a:uFillTx/>
                <a:latin typeface="Verdana"/>
                <a:hlinkClick r:id="rId4" action="ppaction://hlinksldjump"/>
              </a:rPr>
              <a:t>的夏夜中，有</a:t>
            </a:r>
            <a:r>
              <a:rPr b="0" lang="zh-TW" sz="3000" spc="-1" strike="noStrike" u="sng">
                <a:solidFill>
                  <a:srgbClr val="33cc33"/>
                </a:solidFill>
                <a:uFillTx/>
                <a:latin typeface="Verdana"/>
                <a:hlinkClick r:id="rId5" action="ppaction://hlinksldjump"/>
              </a:rPr>
              <a:t>牛郎織女的故事，才顯得星光晶亮；在群山萬壑中，有竹籬茅舍，才顯得詩意盎然。在晨曦的原野中，有拙重的老牛，才顯得純樸可愛。</a:t>
            </a:r>
            <a:r>
              <a:rPr b="1" lang="zh-TW" sz="3000" spc="-1" strike="noStrike">
                <a:solidFill>
                  <a:srgbClr val="e6e6da"/>
                </a:solidFill>
                <a:latin typeface="Verdana"/>
              </a:rPr>
              <a:t>祖國的山河，不僅是花木，還有</a:t>
            </a:r>
            <a:r>
              <a:rPr b="1" lang="zh-TW" sz="3000" spc="-1" strike="noStrike">
                <a:solidFill>
                  <a:srgbClr val="ff0000"/>
                </a:solidFill>
                <a:latin typeface="Verdana"/>
              </a:rPr>
              <a:t>可感可泣的故事，可吟可詠的詩歌</a:t>
            </a:r>
            <a:r>
              <a:rPr b="1" lang="zh-TW" sz="3000" spc="-1" strike="noStrike">
                <a:solidFill>
                  <a:srgbClr val="e6e6da"/>
                </a:solidFill>
                <a:latin typeface="Verdana"/>
              </a:rPr>
              <a:t>，是兒童的喧嘩笑語與祖宗的靜肅墓廬，把它點綴得美麗了。 </a:t>
            </a:r>
            <a:endParaRPr b="0" lang="en-US" sz="30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6"/>
          <a:stretch/>
        </p:blipFill>
        <p:spPr>
          <a:xfrm>
            <a:off x="1332000" y="6165720"/>
            <a:ext cx="5672160" cy="50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7451280" y="-171360"/>
            <a:ext cx="1235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3f2d9"/>
                </a:solidFill>
                <a:latin typeface="Arial"/>
                <a:ea typeface="標楷體"/>
              </a:rPr>
              <a:t>童年的彩色版畫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724360" y="259920"/>
            <a:ext cx="118440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6e6da"/>
                </a:solidFill>
                <a:latin typeface="Verdana"/>
              </a:rPr>
              <a:t>意味著童年的記憶是不朽的，而且多采多姿，永難磨滅。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2160" y="6448320"/>
            <a:ext cx="7315200" cy="28584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2556000" y="260280"/>
            <a:ext cx="20574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3f2d9"/>
                </a:solidFill>
                <a:latin typeface="Arial"/>
                <a:ea typeface="標楷體"/>
              </a:rPr>
              <a:t>牛郎織女的故事、竹籬茅舍、拙重的老牛、兒童的喧嘩笑語、祖宗的靜肅墓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55640" y="333360"/>
            <a:ext cx="11844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均在描述祖國之美，令人懷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300640"/>
            <a:ext cx="1128600" cy="130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39628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古人說，人生如萍，在水上亂流，那是因為古人未出國門，沒有感覺離國之苦，萍總還有水流可藉。以我看，人生如絮，飄零在此萬紫千紅的春天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宋朝畫家思肖畫蘭，連根帶葉均飄於空中，人問其故，他說：「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國土淪亡，根著何處？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」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沒有國的人，是沒有根的草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，不待風雨折磨，即行枯萎了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我十幾歲即無家可歸，並未覺其苦，十幾年後，祖國已破，卻深覺出個中滋味了。不是有人說「頭可斷，血可流，身不可辱」嗎？我覺得應該是「身可辱，家可破，國不可亡。」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4"/>
          <a:stretch/>
        </p:blipFill>
        <p:spPr>
          <a:xfrm>
            <a:off x="8388360" y="5516640"/>
            <a:ext cx="457200" cy="81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10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1000"/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1000"/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7236000" y="277920"/>
            <a:ext cx="14508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人生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如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萍、人生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如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795640" y="277920"/>
            <a:ext cx="13683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形容人飄零異邦，無所憑藉的悲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2"/>
          <a:stretch/>
        </p:blipFill>
        <p:spPr>
          <a:xfrm>
            <a:off x="1403280" y="6308640"/>
            <a:ext cx="6072120" cy="28584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4284720" y="333360"/>
            <a:ext cx="14508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宋朝畫家思肖畫蘭，連根帶葉均飄於空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35280" y="333360"/>
            <a:ext cx="237636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象徵國土的淪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作者因此以「失根的蘭花」來象徵國土淪亡的人心中的悲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6"/>
          <a:stretch/>
        </p:blipFill>
        <p:spPr>
          <a:xfrm>
            <a:off x="5724360" y="1628640"/>
            <a:ext cx="763920" cy="57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2057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頭可斷，血可流，身不可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211280" y="277920"/>
            <a:ext cx="226548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Arial"/>
              </a:rPr>
              <a:t>強調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「人格尊嚴」的重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同於「士可殺，不可辱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340000" y="404640"/>
            <a:ext cx="15112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標楷體"/>
              </a:rPr>
              <a:t>身可辱，家可破，國不可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44440" y="355680"/>
            <a:ext cx="22654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Arial"/>
              </a:rPr>
              <a:t>強調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「國家」的重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同於「覆巢之下無完卵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5"/>
          <a:stretch/>
        </p:blipFill>
        <p:spPr>
          <a:xfrm>
            <a:off x="155520" y="5575320"/>
            <a:ext cx="1128600" cy="132876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6"/>
          <a:stretch/>
        </p:blipFill>
        <p:spPr>
          <a:xfrm>
            <a:off x="5219640" y="5516640"/>
            <a:ext cx="362160" cy="59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800"/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結構分析圖</a:t>
            </a:r>
            <a:br>
              <a:rPr sz="4200"/>
            </a:br>
            <a:r>
              <a:rPr b="0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第參大段 </a:t>
            </a:r>
            <a:r>
              <a:rPr b="0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--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議論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349640" y="1570680"/>
            <a:ext cx="6300720" cy="5086080"/>
            <a:chOff x="1349640" y="1570680"/>
            <a:chExt cx="6300720" cy="5086080"/>
          </a:xfrm>
        </p:grpSpPr>
        <p:cxnSp>
          <p:nvCxnSpPr>
            <p:cNvPr id="1226" name="_s125957"/>
            <p:cNvCxnSpPr>
              <a:stCxn id="1227" idx="0"/>
              <a:endCxn id="1228" idx="2"/>
            </p:cNvCxnSpPr>
            <p:nvPr/>
          </p:nvCxnSpPr>
          <p:spPr>
            <a:xfrm flipH="1" flipV="1" rot="5400000">
              <a:off x="4410360" y="3335040"/>
              <a:ext cx="179640" cy="2160"/>
            </a:xfrm>
            <a:prstGeom prst="bentConnector3">
              <a:avLst>
                <a:gd name="adj1" fmla="val 49397"/>
              </a:avLst>
            </a:prstGeom>
            <a:ln w="9360">
              <a:solidFill>
                <a:srgbClr val="000080"/>
              </a:solidFill>
              <a:miter/>
            </a:ln>
          </p:spPr>
        </p:cxnSp>
        <p:sp>
          <p:nvSpPr>
            <p:cNvPr id="1228" name="_s125958"/>
            <p:cNvSpPr/>
            <p:nvPr/>
          </p:nvSpPr>
          <p:spPr>
            <a:xfrm>
              <a:off x="1349640" y="1570680"/>
              <a:ext cx="6300720" cy="1661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ffffff"/>
                  </a:solidFill>
                  <a:latin typeface="Verdana"/>
                </a:rPr>
                <a:t>第參大段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ffffff"/>
                  </a:solidFill>
                  <a:latin typeface="Verdana"/>
                </a:rPr>
                <a:t>→</a:t>
              </a:r>
              <a:r>
                <a:rPr b="1" lang="zh-TW" sz="3600" spc="-1" strike="noStrike">
                  <a:solidFill>
                    <a:srgbClr val="ffffff"/>
                  </a:solidFill>
                  <a:latin typeface="Verdana"/>
                </a:rPr>
                <a:t>以議論作結，點出旨意。</a:t>
              </a:r>
              <a:r>
                <a:rPr b="0" lang="zh-TW" sz="36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_s125959"/>
            <p:cNvSpPr/>
            <p:nvPr/>
          </p:nvSpPr>
          <p:spPr>
            <a:xfrm>
              <a:off x="3438720" y="3440520"/>
              <a:ext cx="2120760" cy="3216240"/>
            </a:xfrm>
            <a:custGeom>
              <a:avLst/>
              <a:gdLst>
                <a:gd name="textAreaLeft" fmla="*/ 310320 w 2120760"/>
                <a:gd name="textAreaRight" fmla="*/ 1810440 w 2120760"/>
                <a:gd name="textAreaTop" fmla="*/ 310320 h 3216240"/>
                <a:gd name="textAreaBottom" fmla="*/ 2905920 h 3216240"/>
              </a:gdLst>
              <a:ahLst/>
              <a:rect l="textAreaLeft" t="textAreaTop" r="textAreaRight" b="textAreaBottom"/>
              <a:pathLst>
                <a:path w="21600" h="32756">
                  <a:moveTo>
                    <a:pt x="10800" y="0"/>
                  </a:moveTo>
                  <a:arcTo wR="10800" hR="10800" stAng="16200000" swAng="-5400000"/>
                  <a:lnTo>
                    <a:pt x="0" y="21956"/>
                  </a:lnTo>
                  <a:arcTo wR="10800" hR="10800" stAng="10800000" swAng="-5400000"/>
                  <a:lnTo>
                    <a:pt x="10800" y="327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8440">
              <a:solidFill>
                <a:srgbClr val="86d1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ff"/>
                  </a:solidFill>
                  <a:latin typeface="Verdana"/>
                </a:rPr>
                <a:t>由鄭思肖畫蘭 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ff"/>
                  </a:solidFill>
                  <a:latin typeface="Verdana"/>
                </a:rPr>
                <a:t>，點出題旨，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ffffff"/>
                  </a:solidFill>
                  <a:latin typeface="Verdana"/>
                </a:rPr>
                <a:t>並抒發感受</a:t>
              </a:r>
              <a:r>
                <a:rPr b="0" lang="zh-TW" sz="30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ffcc"/>
                </a:solidFill>
                <a:uFillTx/>
                <a:latin typeface="Arial"/>
                <a:ea typeface="標楷體"/>
                <a:hlinkClick r:id="rId1" action="ppaction://hlinksldjump"/>
              </a:rPr>
              <a:t>宋亡後表現出其_x000b_忠君愛國的情操</a:t>
            </a:r>
            <a:r>
              <a:rPr b="0" lang="zh-TW" sz="4400" spc="-1" strike="noStrike" u="sng">
                <a:solidFill>
                  <a:srgbClr val="00ffcc"/>
                </a:solidFill>
                <a:uFillTx/>
                <a:latin typeface="Arial"/>
                <a:ea typeface="標楷體"/>
                <a:hlinkClick r:id="rId2" action="ppaction://hlinksldjump"/>
              </a:rPr>
              <a:t>_x000b_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宋</a:t>
            </a:r>
            <a:r>
              <a:rPr b="0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亡後改名</a:t>
            </a:r>
            <a:r>
              <a:rPr b="0" lang="zh-TW" sz="36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思肖</a:t>
            </a:r>
            <a:r>
              <a:rPr b="0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  → </a:t>
            </a: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形 → 思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一名</a:t>
            </a:r>
            <a:r>
              <a:rPr b="0" lang="zh-TW" sz="36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所南</a:t>
            </a:r>
            <a:r>
              <a:rPr b="0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  → </a:t>
            </a: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義 → 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宋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在南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字</a:t>
            </a:r>
            <a:r>
              <a:rPr b="0" lang="zh-TW" sz="36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憶翁</a:t>
            </a:r>
            <a:r>
              <a:rPr b="0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→ </a:t>
            </a: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音 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堂名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: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本</a:t>
            </a:r>
            <a:r>
              <a:rPr b="0" lang="zh-TW" sz="3600" spc="-1" strike="noStrike">
                <a:solidFill>
                  <a:srgbClr val="ffff66"/>
                </a:solidFill>
                <a:latin typeface="Arial"/>
                <a:ea typeface="標楷體"/>
              </a:rPr>
              <a:t>穴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世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  →  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大</a:t>
            </a:r>
            <a:r>
              <a:rPr b="1" lang="zh-TW" sz="3600" spc="-1" strike="noStrike">
                <a:solidFill>
                  <a:srgbClr val="ffff66"/>
                </a:solidFill>
                <a:latin typeface="標楷體"/>
                <a:ea typeface="標楷體"/>
              </a:rPr>
              <a:t>宋</a:t>
            </a: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世界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 </a:t>
            </a:r>
            <a:r>
              <a:rPr b="0" lang="zh-TW" sz="3600" spc="-1" strike="noStrike" u="sng">
                <a:solidFill>
                  <a:srgbClr val="00ffcc"/>
                </a:solidFill>
                <a:uFillTx/>
                <a:latin typeface="Arial"/>
                <a:ea typeface="標楷體"/>
                <a:hlinkClick r:id="rId3" action="ppaction://hlinksldjump"/>
              </a:rPr>
              <a:t>畫蘭不畫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    </a:t>
            </a: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→  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地為人奪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坐臥不北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2627280" y="5084640"/>
          <a:ext cx="403200" cy="68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5084640"/>
                    <a:ext cx="40320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3348000" y="4797360"/>
          <a:ext cx="611280" cy="101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8000" y="4797360"/>
                    <a:ext cx="6112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  <p:sndAc>
      <p:stSnd>
        <p:snd r:embed="rId8" name="projctor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7d47d"/>
                </a:solidFill>
                <a:latin typeface="Arial"/>
                <a:ea typeface="標楷體"/>
              </a:rPr>
              <a:t>嚼  菜  根</a:t>
            </a:r>
            <a:endParaRPr b="0" lang="en-US" sz="42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263520" y="1598760"/>
          <a:ext cx="7188120" cy="4709880"/>
        </p:xfrm>
        <a:graphic>
          <a:graphicData uri="http://schemas.openxmlformats.org/drawingml/2006/table">
            <a:tbl>
              <a:tblPr/>
              <a:tblGrid>
                <a:gridCol w="3587760"/>
                <a:gridCol w="3600360"/>
              </a:tblGrid>
              <a:tr h="101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相似詞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相反詞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披星戴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享清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櫛風沐雨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安三餐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餐風露宿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4427640" y="5516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5076720" y="5157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3"/>
          <a:stretch/>
        </p:blipFill>
        <p:spPr>
          <a:xfrm>
            <a:off x="5724360" y="5516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4"/>
          <a:stretch/>
        </p:blipFill>
        <p:spPr>
          <a:xfrm>
            <a:off x="6335640" y="53420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827680" y="227160"/>
            <a:ext cx="186840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7d47d"/>
                </a:solidFill>
                <a:latin typeface="Arial"/>
                <a:ea typeface="標楷體"/>
              </a:rPr>
              <a:t>我，到處可以為家</a:t>
            </a:r>
            <a:endParaRPr b="0" lang="en-US" sz="4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79640" y="227160"/>
            <a:ext cx="3695760" cy="58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因為沒有離開國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同於顏淵、陶淵明的「一簞食，一瓢飲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有「男兒志在四方」的精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480" y="4191120"/>
            <a:ext cx="89244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67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作者 </a:t>
            </a: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-- </a:t>
            </a: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陳之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生年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民國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4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籍貫 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河北縣霸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別名 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範生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之藩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4822920" y="1600200"/>
            <a:ext cx="3692520" cy="449568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811440" cy="971640"/>
          </a:xfrm>
          <a:prstGeom prst="rect">
            <a:avLst/>
          </a:prstGeom>
          <a:ln w="0">
            <a:noFill/>
          </a:ln>
        </p:spPr>
      </p:pic>
      <p:pic>
        <p:nvPicPr>
          <p:cNvPr id="1094" name="" descr=""/>
          <p:cNvPicPr/>
          <p:nvPr/>
        </p:nvPicPr>
        <p:blipFill>
          <a:blip r:embed="rId3"/>
          <a:stretch/>
        </p:blipFill>
        <p:spPr>
          <a:xfrm>
            <a:off x="7020000" y="476280"/>
            <a:ext cx="788760" cy="60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projctor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75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75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75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75"/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75"/>
                                        <p:tgtEl>
                                          <p:spTgt spid="1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75"/>
                                        <p:tgtEl>
                                          <p:spTgt spid="10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345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作者 </a:t>
            </a: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-- </a:t>
            </a: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陳之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經歷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國立北洋大學電機系畢業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美國普林斯 頓大學碩士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英國劍橋大學哲學博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曾任教於美國普林斯頓大學、美國波士頓大學教授、 成功大學、 台灣大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現任香港中文大學榮譽教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1285560" cy="571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75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75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75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75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75"/>
                                        <p:tgtEl>
                                          <p:spTgt spid="1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75"/>
                                        <p:tgtEl>
                                          <p:spTgt spid="10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作者 </a:t>
            </a: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-- </a:t>
            </a:r>
            <a:r>
              <a:rPr b="1" lang="zh-TW" sz="4400" spc="-1" strike="noStrike">
                <a:solidFill>
                  <a:srgbClr val="e3e3ff"/>
                </a:solidFill>
                <a:latin typeface="標楷體"/>
                <a:ea typeface="標楷體"/>
              </a:rPr>
              <a:t>陳之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於致力科學之餘寫作散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寫作風格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文字生動、情感真摯、平實中自能感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著有散文集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3200" spc="-1" strike="noStrike">
                <a:solidFill>
                  <a:srgbClr val="ffff66"/>
                </a:solidFill>
                <a:latin typeface="標楷體"/>
                <a:ea typeface="標楷體"/>
              </a:rPr>
              <a:t>旅美小簡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、</a:t>
            </a:r>
            <a:r>
              <a:rPr b="0" lang="zh-TW" sz="3200" spc="-1" strike="noStrike">
                <a:solidFill>
                  <a:srgbClr val="00ffff"/>
                </a:solidFill>
                <a:latin typeface="標楷體"/>
                <a:ea typeface="標楷體"/>
              </a:rPr>
              <a:t>在春風裡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劍河倒影、一星如月。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181480"/>
            <a:ext cx="799920" cy="73188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/>
          <p:cNvPicPr/>
          <p:nvPr/>
        </p:nvPicPr>
        <p:blipFill>
          <a:blip r:embed="rId3"/>
          <a:stretch/>
        </p:blipFill>
        <p:spPr>
          <a:xfrm>
            <a:off x="7315200" y="5410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4"/>
          <a:stretch/>
        </p:blipFill>
        <p:spPr>
          <a:xfrm>
            <a:off x="6781680" y="54100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75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75"/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75"/>
                                        <p:tgtEl>
                                          <p:spTgt spid="10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75"/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75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75"/>
                                        <p:tgtEl>
                                          <p:spTgt spid="10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1:33:51Z</dcterms:created>
  <dc:creator>台北市87年度國中行政電腦</dc:creator>
  <dc:description/>
  <dc:language>en-US</dc:language>
  <cp:lastModifiedBy>user</cp:lastModifiedBy>
  <dcterms:modified xsi:type="dcterms:W3CDTF">2003-02-10T06:36:41Z</dcterms:modified>
  <cp:revision>26</cp:revision>
  <dc:subject/>
  <dc:title>失根的蘭花</dc:title>
</cp:coreProperties>
</file>