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3.gif" ContentType="image/gif"/>
  <Override PartName="/ppt/media/image16.png" ContentType="image/png"/>
  <Override PartName="/ppt/media/image17.png" ContentType="image/png"/>
  <Override PartName="/ppt/media/image8.gif" ContentType="image/gif"/>
  <Override PartName="/ppt/media/image15.gif" ContentType="image/gif"/>
  <Override PartName="/ppt/media/image1.png" ContentType="image/png"/>
  <Override PartName="/ppt/media/image2.wmf" ContentType="image/x-wmf"/>
  <Override PartName="/ppt/media/image3.gif" ContentType="image/gif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png" ContentType="image/png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E48D-76E4-4104-96CE-546D6440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B3C-DF03-4760-BCC3-CFACC53A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B81-27BD-4DC0-A370-C572EE83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39DA-56B5-401B-B9B2-3F79E15F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B32-8104-4C16-8CA5-8A43AE27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E9DB-7040-4330-91B1-55BECCCD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DBED-41AA-4DBB-BFD3-134F10C8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6DC9-057F-472F-BBC7-757C7FCB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3E6E-8310-4D32-9D8A-1F7EC6ED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34E-2481-4AFF-BC09-43D0EB9E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321-A259-4E18-9937-EC342E1F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A0E-1CAC-425C-BA9E-6B6A3AFB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92A6-A79C-4EC8-A0DF-1DDDD349F7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100080" y="863640"/>
            <a:ext cx="900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送杜少府之任蜀州》是作者在长安的时候写的。“少府”，是唐朝对县尉的通称。姓杜的少府将到四川去做官，王勃在长安相送，临别时赠送给他这首送别诗。此诗是送别诗的名作，诗意慰勉友人不要在离别之时悲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2"/>
          <p:cNvSpPr/>
          <p:nvPr/>
        </p:nvSpPr>
        <p:spPr>
          <a:xfrm>
            <a:off x="1031760" y="-39600"/>
            <a:ext cx="591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导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"/>
          <p:cNvPicPr/>
          <p:nvPr/>
        </p:nvPicPr>
        <p:blipFill>
          <a:blip r:embed="rId1"/>
          <a:stretch/>
        </p:blipFill>
        <p:spPr>
          <a:xfrm>
            <a:off x="-34920" y="4773600"/>
            <a:ext cx="9144000" cy="2062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与君离别意，同是宦游人。”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颔联从正面写离情而话语急转，变为劝勉。我和你都是离乡远游以求仕途的人，你去蜀州，我留长安，去和留虽有不同，但此刻的惜别之意却是一样的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1" descr=""/>
          <p:cNvPicPr/>
          <p:nvPr/>
        </p:nvPicPr>
        <p:blipFill>
          <a:blip r:embed="rId1"/>
          <a:stretch/>
        </p:blipFill>
        <p:spPr>
          <a:xfrm>
            <a:off x="0" y="4040280"/>
            <a:ext cx="9144000" cy="2817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海内存知己，天涯若比邻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颈联以理性的议论展现友情和别情的新境界。真正的友情不受时间和空间的阻隔，既是永恒的，也是无所不在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这里诗人忽然将笔锋一转，转而去宽慰那即将远行的友人：“我们分手之后，虽然天各一方，但是不必悲伤。海内有知心的朋友，即使远隔天涯，也像是近邻一样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诗人用广阔博大的胸襟去劝慰友人，表达了诗人相信真挚友情不因时空改变而改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22548" descr="t01791e969b9c2aa868"/>
          <p:cNvPicPr/>
          <p:nvPr/>
        </p:nvPicPr>
        <p:blipFill>
          <a:blip r:embed="rId1"/>
          <a:stretch/>
        </p:blipFill>
        <p:spPr>
          <a:xfrm>
            <a:off x="0" y="0"/>
            <a:ext cx="936720" cy="1185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0"/>
            <a:ext cx="6443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无为在岐路，儿女共沾巾。”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尾联以幽默的口吻劝慰对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此两句就前句的意思再推进一层。离别固然是悲伤的，但互为知己，虽各处天涯，亦似比邻，所以不必像青年男女一样别泪沾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小舟送别.avi" descr=""/>
          <p:cNvPicPr/>
          <p:nvPr/>
        </p:nvPicPr>
        <p:blipFill>
          <a:blip r:embed="rId1"/>
          <a:stretch/>
        </p:blipFill>
        <p:spPr>
          <a:xfrm>
            <a:off x="6516720" y="0"/>
            <a:ext cx="262728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-709560"/>
            <a:ext cx="82296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这首诗表达了诗人什么样的思想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与朋友的惜别之情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积极乐观的人生态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写出和“海内存知己，天涯若比邻。”意境相同的两句古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莫愁前路无知己，天下谁人不识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25652" descr="t0162788caf550573aa"/>
          <p:cNvPicPr/>
          <p:nvPr/>
        </p:nvPicPr>
        <p:blipFill>
          <a:blip r:embed="rId1"/>
          <a:stretch/>
        </p:blipFill>
        <p:spPr>
          <a:xfrm>
            <a:off x="0" y="6189840"/>
            <a:ext cx="9144000" cy="668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分析首联中“辅”和“望” 的表达效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辅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形象地写出了三秦大地护卫着长安的景象，气象雄伟，使诗歌开篇意境开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望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将相隔千里的京城和属地联系起来，表达了对友人的惜别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0" y="4762440"/>
            <a:ext cx="9144000" cy="2095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送杜少府之任蜀州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是长期以来脍炙人口的诗篇，特别是“海内存知己，天涯若比邻”两句，至今还常被人们引用。这首诗写得乐观开朗，没有一般赠别诗常有的那种哀伤和悱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1" descr=""/>
          <p:cNvPicPr/>
          <p:nvPr/>
        </p:nvPicPr>
        <p:blipFill>
          <a:blip r:embed="rId1"/>
          <a:stretch/>
        </p:blipFill>
        <p:spPr>
          <a:xfrm>
            <a:off x="-111240" y="5111640"/>
            <a:ext cx="9255240" cy="1946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30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1376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首诗虽是送别诗，但全诗却无伤感之情。诗人的胸襟开阔，语句豪迈清新，委婉亲切，充分体现了朋友之间真挚深厚的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" descr=""/>
          <p:cNvPicPr/>
          <p:nvPr/>
        </p:nvPicPr>
        <p:blipFill>
          <a:blip r:embed="rId1"/>
          <a:stretch/>
        </p:blipFill>
        <p:spPr>
          <a:xfrm>
            <a:off x="0" y="3740040"/>
            <a:ext cx="9113760" cy="3117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对象 22529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22530"/>
          <p:cNvSpPr/>
          <p:nvPr/>
        </p:nvSpPr>
        <p:spPr>
          <a:xfrm>
            <a:off x="2569680" y="126828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送杜少府之任蜀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2531"/>
          <p:cNvSpPr/>
          <p:nvPr/>
        </p:nvSpPr>
        <p:spPr>
          <a:xfrm>
            <a:off x="6400800" y="285264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王   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22532"/>
          <p:cNvSpPr/>
          <p:nvPr/>
        </p:nvSpPr>
        <p:spPr>
          <a:xfrm>
            <a:off x="2376360" y="-4851360"/>
            <a:ext cx="4572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长亭外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古道边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芳草碧连天</a:t>
            </a:r>
            <a:br>
              <a:rPr sz="2400"/>
            </a:b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晚风扶柳笛声残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夕阳山外山</a:t>
            </a:r>
            <a:br>
              <a:rPr sz="2400"/>
            </a:b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天之涯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地之角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知交半零落</a:t>
            </a:r>
            <a:br>
              <a:rPr sz="2400"/>
            </a:b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一壶浊酒尽余欢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今宵别梦寒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长亭外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古道边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芳草碧连天</a:t>
            </a:r>
            <a:br>
              <a:rPr sz="2400"/>
            </a:b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晚风扶柳笛声残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夕阳山外山</a:t>
            </a:r>
            <a:br>
              <a:rPr sz="2400"/>
            </a:b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天之涯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地之角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知交半零落</a:t>
            </a:r>
            <a:br>
              <a:rPr sz="2400"/>
            </a:b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一壶浊酒尽余欢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今宵别梦寒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天之涯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地之角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知交半零落</a:t>
            </a:r>
            <a:br>
              <a:rPr sz="2400"/>
            </a:b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一壶浊酒尽余欢</a:t>
            </a: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今宵别梦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cc00"/>
                </a:solidFill>
                <a:latin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2533"/>
          <p:cNvSpPr/>
          <p:nvPr/>
        </p:nvSpPr>
        <p:spPr>
          <a:xfrm>
            <a:off x="6877080" y="2924280"/>
            <a:ext cx="86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王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7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30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30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360" y="620640"/>
            <a:ext cx="86979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诗歌朗读的节奏，朗读与背诵诗歌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体味分析诗歌的意蕴，体会其中流露出的作者感情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诗人豁达的心胸和对友情的珍惜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背诵、默写诗歌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8196" descr="t01f90ddd68846f1c6e"/>
          <p:cNvPicPr/>
          <p:nvPr/>
        </p:nvPicPr>
        <p:blipFill>
          <a:blip r:embed="rId1"/>
          <a:stretch/>
        </p:blipFill>
        <p:spPr>
          <a:xfrm>
            <a:off x="6689880" y="4114800"/>
            <a:ext cx="2541600" cy="2743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771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内容占位符 4099" descr="075王勃图"/>
          <p:cNvPicPr/>
          <p:nvPr/>
        </p:nvPicPr>
        <p:blipFill>
          <a:blip r:embed="rId1"/>
          <a:stretch/>
        </p:blipFill>
        <p:spPr>
          <a:xfrm>
            <a:off x="0" y="836640"/>
            <a:ext cx="2411280" cy="602784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4101"/>
          <p:cNvSpPr/>
          <p:nvPr/>
        </p:nvSpPr>
        <p:spPr>
          <a:xfrm>
            <a:off x="2411280" y="260280"/>
            <a:ext cx="6732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王勃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50-67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，字子安。绛州龙门（今山西省河津市）人。唐高宗时应举及第，曾任虢州参军。后往海南探父，不幸溺水而死。年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岁。王勃与杨炯、卢照邻、骆宾王号称“初唐四杰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朗读节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送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杜少府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之任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蜀州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王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城阙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辅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秦，风烟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望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与君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离别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意，同是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宦游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海内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存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知己，天涯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比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无为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歧路，儿女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共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沾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送杜少府之任蜀州朗读.mp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03280" cy="8636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268" descr="t0199adfd4ee74624f3"/>
          <p:cNvPicPr/>
          <p:nvPr/>
        </p:nvPicPr>
        <p:blipFill>
          <a:blip r:embed="rId2"/>
          <a:stretch/>
        </p:blipFill>
        <p:spPr>
          <a:xfrm>
            <a:off x="-90360" y="5732640"/>
            <a:ext cx="9407520" cy="1209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7819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重点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581040"/>
            <a:ext cx="9144000" cy="62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少府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官名，即县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之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到，往。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任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蜀州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今四川省崇庆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城阙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长安，送别之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五津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泛指四川，杜少府上任之地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无为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须，不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岐路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手的路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沾巾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沾湿手巾，指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11278" descr="t016567fd458b952173"/>
          <p:cNvPicPr/>
          <p:nvPr/>
        </p:nvPicPr>
        <p:blipFill>
          <a:blip r:embed="rId1"/>
          <a:stretch/>
        </p:blipFill>
        <p:spPr>
          <a:xfrm>
            <a:off x="7264440" y="4359240"/>
            <a:ext cx="1879560" cy="2498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古代三秦之地，拱护长安城垣宫阙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风烟滚滚，望不到蜀州岷江的五津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与你握手作别时，彼此间心心相印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我都是远离故乡，出外做官之人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海之内只要有了你，知己啊知己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管远隔在天涯海角，都象在一起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别在分手的岐路上，伤心地痛哭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象多情的少年男女，彼此泪落沾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6398" descr="t011032e91af19e35e1"/>
          <p:cNvPicPr/>
          <p:nvPr/>
        </p:nvPicPr>
        <p:blipFill>
          <a:blip r:embed="rId1"/>
          <a:stretch/>
        </p:blipFill>
        <p:spPr>
          <a:xfrm>
            <a:off x="0" y="570564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首联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送别之地，地理形势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颔联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依依话别，相互劝勉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颈联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千古绝唱，豪迈乐观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尾联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哀而不伤，幽默劝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1" descr=""/>
          <p:cNvPicPr/>
          <p:nvPr/>
        </p:nvPicPr>
        <p:blipFill>
          <a:blip r:embed="rId1"/>
          <a:stretch/>
        </p:blipFill>
        <p:spPr>
          <a:xfrm>
            <a:off x="0" y="4392720"/>
            <a:ext cx="9144000" cy="246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赏析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城阙辅三秦，风烟望五津。”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首联点明送别之地和友人的赴任之地，并勾勒出两处的地理形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望”字，将相隔千里的京城和蜀川联系起来。“风烟”突出友人去处的卑湿荒远、上任路途的艰险。 运用借代的修辞手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1" descr=""/>
          <p:cNvPicPr/>
          <p:nvPr/>
        </p:nvPicPr>
        <p:blipFill>
          <a:blip r:embed="rId1"/>
          <a:stretch/>
        </p:blipFill>
        <p:spPr>
          <a:xfrm>
            <a:off x="0" y="5575320"/>
            <a:ext cx="9144000" cy="128268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2542" descr="t012fd18405f0a3bee7"/>
          <p:cNvPicPr/>
          <p:nvPr/>
        </p:nvPicPr>
        <p:blipFill>
          <a:blip r:embed="rId2"/>
          <a:stretch/>
        </p:blipFill>
        <p:spPr>
          <a:xfrm>
            <a:off x="0" y="0"/>
            <a:ext cx="1282680" cy="2174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1T02:51:36Z</dcterms:created>
  <dc:creator>未知用户</dc:creator>
  <dc:description/>
  <dc:language>en-US</dc:language>
  <cp:lastModifiedBy>Administrator</cp:lastModifiedBy>
  <dcterms:modified xsi:type="dcterms:W3CDTF">2018-03-19T15:12:45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950</vt:lpwstr>
  </property>
</Properties>
</file>