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cashreg.wav" ContentType="audio/x-wav"/>
  <Override PartName="/ppt/media/image2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3.png" ContentType="image/png"/>
  <Override PartName="/ppt/media/image13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3B3-107B-47D9-94CE-89FF9766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6AA1-F1CC-4CBD-933C-B54A6E70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58F-73A1-4F21-81D4-AA5F6541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872A-C109-4F2C-816A-4147C017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2620-EBC9-451B-8BE2-D92423C1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7BE2-7C0D-4FF1-9421-F4B9B99E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0997-1133-456A-9A23-99727788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4484-A556-484E-A755-1A7914BB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EC40-21A8-42D7-A193-3B26093B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1093-FA47-4317-AA18-CA9F6600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ADA5-5D6A-47E4-A446-C7B21209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DC3-17CA-4EF1-9C9E-29E9138E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34900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8892-282A-40D5-AC50-12CB7649A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audio" Target="file:///tmp/home/.config/libreoffice/4/user/gallery/breeze.wav" TargetMode="External"/><Relationship Id="rId4" Type="http://schemas.microsoft.com/office/2007/relationships/media" Target="file:///tmp/home/.config/libreoffice/4/user/gallery/breeze.wav" TargetMode="External"/><Relationship Id="rId5" Type="http://schemas.openxmlformats.org/officeDocument/2006/relationships/image" Target="../media/image16.pn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新课导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757224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同学们，你知道这什么地方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5180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国三大名楼（湖北武昌的黄鹤楼、湖南岳阳的岳阳楼、江西南昌的滕王阁）之一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滕王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  <p:sndAc>
      <p:stSnd>
        <p:snd r:embed="rId3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240" y="324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653080" y="190080"/>
            <a:ext cx="300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诗歌朗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u"/>
    <p:sndAc>
      <p:stSnd>
        <p:snd r:embed="rId6" name="cashreg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00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37819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诗歌读音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  <a:ea typeface="宋体"/>
              </a:rPr>
              <a:t>城</a:t>
            </a:r>
            <a:r>
              <a:rPr b="1" lang="zh-CN" sz="4000" spc="-1" strike="noStrike" u="sng">
                <a:solidFill>
                  <a:srgbClr val="9900cc"/>
                </a:solidFill>
                <a:uFillTx/>
                <a:latin typeface="宋体"/>
                <a:ea typeface="宋体"/>
              </a:rPr>
              <a:t>阙</a:t>
            </a:r>
            <a:r>
              <a:rPr b="1" lang="zh-CN" sz="4000" spc="-1" strike="noStrike">
                <a:solidFill>
                  <a:srgbClr val="9900cc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qu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  <a:ea typeface="宋体"/>
              </a:rPr>
              <a:t>五</a:t>
            </a:r>
            <a:r>
              <a:rPr b="1" lang="zh-CN" sz="4000" spc="-1" strike="noStrike" u="sng">
                <a:solidFill>
                  <a:srgbClr val="9900cc"/>
                </a:solidFill>
                <a:uFillTx/>
                <a:latin typeface="宋体"/>
                <a:ea typeface="宋体"/>
              </a:rPr>
              <a:t>津</a:t>
            </a:r>
            <a:r>
              <a:rPr b="1" lang="zh-CN" sz="4000" spc="-1" strike="noStrike">
                <a:solidFill>
                  <a:srgbClr val="9900cc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jī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9900cc"/>
                </a:solidFill>
                <a:uFillTx/>
                <a:latin typeface="宋体"/>
                <a:ea typeface="宋体"/>
              </a:rPr>
              <a:t>宦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  <a:ea typeface="宋体"/>
              </a:rPr>
              <a:t>游人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hu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宋体"/>
                <a:ea typeface="宋体"/>
              </a:rPr>
              <a:t>天</a:t>
            </a:r>
            <a:r>
              <a:rPr b="1" lang="zh-CN" sz="4000" spc="-1" strike="noStrike" u="sng">
                <a:solidFill>
                  <a:srgbClr val="9900cc"/>
                </a:solidFill>
                <a:uFillTx/>
                <a:latin typeface="宋体"/>
                <a:ea typeface="宋体"/>
              </a:rPr>
              <a:t>涯</a:t>
            </a:r>
            <a:r>
              <a:rPr b="1" lang="zh-CN" sz="4000" spc="-1" strike="noStrike">
                <a:solidFill>
                  <a:srgbClr val="9900cc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y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9900cc"/>
                </a:solidFill>
                <a:uFillTx/>
                <a:latin typeface="宋体"/>
                <a:ea typeface="宋体"/>
              </a:rPr>
              <a:t>歧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  <a:ea typeface="宋体"/>
              </a:rPr>
              <a:t>路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q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  <p:sndAc>
      <p:stSnd>
        <p:snd r:embed="rId2" name="cashreg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82600"/>
            <a:ext cx="854064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诗歌节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5736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宋体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宋体"/>
              </a:rPr>
              <a:t>诗歌从内容上可划分为为叙事诗和抒情诗、写景诗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宋体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宋体"/>
              </a:rPr>
              <a:t>从体裁上可分为律诗和绝句，而律诗有八句，绝句四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宋体"/>
              </a:rPr>
              <a:t>划分节奏的规律分别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宋体"/>
              </a:rPr>
              <a:t>五言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二三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宋体"/>
              </a:rPr>
              <a:t>”或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二二一、二一二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宋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宋体"/>
              </a:rPr>
              <a:t>七言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四三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宋体"/>
              </a:rPr>
              <a:t>”或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二二一二、二二二一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宋体"/>
              </a:rPr>
              <a:t>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  <p:sndAc>
      <p:stSnd>
        <p:snd r:embed="rId2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4114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解词释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09b1"/>
                </a:solidFill>
                <a:latin typeface="宋体"/>
                <a:ea typeface="宋体"/>
              </a:rPr>
              <a:t>城阙：</a:t>
            </a:r>
            <a:r>
              <a:rPr b="1" lang="zh-CN" sz="3200" spc="-1" strike="noStrike">
                <a:solidFill>
                  <a:srgbClr val="281f1e"/>
                </a:solidFill>
                <a:latin typeface="宋体"/>
                <a:ea typeface="宋体"/>
              </a:rPr>
              <a:t>指长安，送别之地。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辅：</a:t>
            </a:r>
            <a:r>
              <a:rPr b="1" lang="zh-CN" sz="3200" spc="-1" strike="noStrike">
                <a:solidFill>
                  <a:srgbClr val="281f1e"/>
                </a:solidFill>
                <a:latin typeface="宋体"/>
                <a:ea typeface="宋体"/>
              </a:rPr>
              <a:t>护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09b1"/>
                </a:solidFill>
                <a:latin typeface="宋体"/>
                <a:ea typeface="宋体"/>
              </a:rPr>
              <a:t>三秦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安周围的关中地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09b1"/>
                </a:solidFill>
                <a:latin typeface="宋体"/>
                <a:ea typeface="宋体"/>
              </a:rPr>
              <a:t>五津：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津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渡口；</a:t>
            </a:r>
            <a:r>
              <a:rPr b="1" lang="zh-CN" sz="3200" spc="-1" strike="noStrike">
                <a:solidFill>
                  <a:srgbClr val="1d09b1"/>
                </a:solidFill>
                <a:latin typeface="宋体"/>
                <a:ea typeface="宋体"/>
              </a:rPr>
              <a:t>五津，</a:t>
            </a:r>
            <a:r>
              <a:rPr b="1" lang="zh-CN" sz="3200" spc="-1" strike="noStrike">
                <a:solidFill>
                  <a:srgbClr val="281f1e"/>
                </a:solidFill>
                <a:latin typeface="宋体"/>
                <a:ea typeface="宋体"/>
              </a:rPr>
              <a:t>泛指四川，杜少府上任之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句意：长安城被关中之地护卫着，风烟滚滚，望不到蜀州岷江的五个渡口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3381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09b1"/>
                </a:solidFill>
                <a:latin typeface="楷体_GB2312"/>
                <a:ea typeface="隶书"/>
              </a:rPr>
              <a:t>首联：</a:t>
            </a:r>
            <a:r>
              <a:rPr b="1" lang="zh-CN" sz="4000" spc="-1" strike="noStrike" u="sng">
                <a:solidFill>
                  <a:srgbClr val="1d09b1"/>
                </a:solidFill>
                <a:uFillTx/>
                <a:latin typeface="楷体_GB2312"/>
                <a:ea typeface="隶书"/>
              </a:rPr>
              <a:t>城阙</a:t>
            </a:r>
            <a:r>
              <a:rPr b="1" lang="zh-CN" sz="4000" spc="-1" strike="noStrike">
                <a:solidFill>
                  <a:srgbClr val="1d09b1"/>
                </a:solidFill>
                <a:latin typeface="楷体_GB2312"/>
                <a:ea typeface="隶书"/>
              </a:rPr>
              <a:t>辅</a:t>
            </a:r>
            <a:r>
              <a:rPr b="1" lang="zh-CN" sz="4000" spc="-1" strike="noStrike" u="sng">
                <a:solidFill>
                  <a:srgbClr val="1d09b1"/>
                </a:solidFill>
                <a:uFillTx/>
                <a:latin typeface="楷体_GB2312"/>
                <a:ea typeface="隶书"/>
              </a:rPr>
              <a:t>三秦</a:t>
            </a:r>
            <a:r>
              <a:rPr b="1" lang="zh-CN" sz="4000" spc="-1" strike="noStrike">
                <a:solidFill>
                  <a:srgbClr val="1d09b1"/>
                </a:solidFill>
                <a:latin typeface="楷体_GB2312"/>
                <a:ea typeface="隶书"/>
              </a:rPr>
              <a:t>，风烟望</a:t>
            </a:r>
            <a:r>
              <a:rPr b="1" lang="zh-CN" sz="4000" spc="-1" strike="noStrike" u="sng">
                <a:solidFill>
                  <a:srgbClr val="1d09b1"/>
                </a:solidFill>
                <a:uFillTx/>
                <a:latin typeface="楷体_GB2312"/>
                <a:ea typeface="隶书"/>
              </a:rPr>
              <a:t>五津</a:t>
            </a:r>
            <a:r>
              <a:rPr b="1" lang="zh-CN" sz="4000" spc="-1" strike="noStrike">
                <a:solidFill>
                  <a:srgbClr val="1d09b1"/>
                </a:solidFill>
                <a:latin typeface="楷体_GB2312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5084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点评：</a:t>
            </a:r>
            <a:r>
              <a:rPr b="1" lang="zh-CN" sz="3200" spc="-1" strike="noStrike">
                <a:solidFill>
                  <a:srgbClr val="281f1e"/>
                </a:solidFill>
                <a:latin typeface="楷体_GB2312"/>
              </a:rPr>
              <a:t>叙述了两人一留长安，一往蜀州，将分两地，为下文抒情奠定基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  <p:sndAc>
      <p:stSnd>
        <p:snd r:embed="rId2" name="cashreg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解词释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宦游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出外做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句意：我和你都是离乡远游以求仕途的人，你去蜀州，我留长安，去和留虽有不同，但此刻的惜别之意却是一样的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125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09b1"/>
                </a:solidFill>
                <a:latin typeface="Times New Roman"/>
                <a:ea typeface="隶书"/>
              </a:rPr>
              <a:t>颔联：与君离别意，同是</a:t>
            </a:r>
            <a:r>
              <a:rPr b="1" lang="zh-CN" sz="4000" spc="-1" strike="noStrike" u="sng">
                <a:solidFill>
                  <a:srgbClr val="1d09b1"/>
                </a:solidFill>
                <a:uFillTx/>
                <a:latin typeface="Times New Roman"/>
                <a:ea typeface="隶书"/>
              </a:rPr>
              <a:t>宦游</a:t>
            </a:r>
            <a:r>
              <a:rPr b="1" lang="zh-CN" sz="4000" spc="-1" strike="noStrike">
                <a:solidFill>
                  <a:srgbClr val="1d09b1"/>
                </a:solidFill>
                <a:latin typeface="Times New Roman"/>
                <a:ea typeface="隶书"/>
              </a:rPr>
              <a:t>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46846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点评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诗人和友人都在他乡做官，在异地送别更是让人悲伤，但诗人发语却显得旷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32000" y="40053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  <p:sndAc>
      <p:stSnd>
        <p:snd r:embed="rId2" name="cashreg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解词释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8640" y="2205000"/>
            <a:ext cx="82281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09b1"/>
                </a:solidFill>
                <a:latin typeface="楷体_GB2312"/>
                <a:ea typeface="宋体"/>
              </a:rPr>
              <a:t>海内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四海之内，即全中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宋体"/>
              </a:rPr>
              <a:t>比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紧靠，挨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宋体"/>
              </a:rPr>
              <a:t>比邻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近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句意：四海之内只要有彼此互相理解而情谊深切的朋友，即使远在天涯海角，也像近邻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2049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09b1"/>
                </a:solidFill>
                <a:latin typeface="隶书"/>
                <a:ea typeface="隶书"/>
              </a:rPr>
              <a:t>颈联：</a:t>
            </a:r>
            <a:r>
              <a:rPr b="1" lang="zh-CN" sz="4000" spc="-1" strike="noStrike" u="sng">
                <a:solidFill>
                  <a:srgbClr val="1d09b1"/>
                </a:solidFill>
                <a:uFillTx/>
                <a:latin typeface="隶书"/>
                <a:ea typeface="隶书"/>
              </a:rPr>
              <a:t>海内</a:t>
            </a:r>
            <a:r>
              <a:rPr b="1" lang="zh-CN" sz="4000" spc="-1" strike="noStrike">
                <a:solidFill>
                  <a:srgbClr val="1d09b1"/>
                </a:solidFill>
                <a:latin typeface="隶书"/>
                <a:ea typeface="隶书"/>
              </a:rPr>
              <a:t>存知己，天涯若</a:t>
            </a:r>
            <a:r>
              <a:rPr b="1" lang="zh-CN" sz="4000" spc="-1" strike="noStrike" u="sng">
                <a:solidFill>
                  <a:srgbClr val="1d09b1"/>
                </a:solidFill>
                <a:uFillTx/>
                <a:latin typeface="隶书"/>
                <a:ea typeface="隶书"/>
              </a:rPr>
              <a:t>比邻</a:t>
            </a:r>
            <a:r>
              <a:rPr b="1" lang="zh-CN" sz="4000" spc="-1" strike="noStrike">
                <a:solidFill>
                  <a:srgbClr val="1d09b1"/>
                </a:solidFill>
                <a:latin typeface="隶书"/>
                <a:ea typeface="隶书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4941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点评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诗人笔锋一转，去宽慰那即将远行的友人：“我们虽然天各一方，但不必悲伤。知心朋友，即使远隔天涯，也像是近邻一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  <p:sndAc>
      <p:stSnd>
        <p:snd r:embed="rId2" name="cashreg.wav"/>
      </p:stSnd>
    </p:sndAc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解词释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09700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09b1"/>
                </a:solidFill>
                <a:latin typeface="楷体_GB2312"/>
                <a:ea typeface="宋体"/>
              </a:rPr>
              <a:t>无为：</a:t>
            </a:r>
            <a:r>
              <a:rPr b="1" lang="zh-CN" sz="2800" spc="-1" strike="noStrike">
                <a:solidFill>
                  <a:srgbClr val="281f1e"/>
                </a:solidFill>
                <a:latin typeface="Times New Roman"/>
                <a:ea typeface="宋体"/>
              </a:rPr>
              <a:t>无须，不要。</a:t>
            </a:r>
            <a:r>
              <a:rPr b="1" lang="zh-CN" sz="2800" spc="-1" strike="noStrike">
                <a:solidFill>
                  <a:srgbClr val="1d09b1"/>
                </a:solidFill>
                <a:latin typeface="楷体_GB2312"/>
                <a:ea typeface="宋体"/>
              </a:rPr>
              <a:t>岐路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岔路，</a:t>
            </a:r>
            <a:r>
              <a:rPr b="1" lang="zh-CN" sz="2800" spc="-1" strike="noStrike">
                <a:solidFill>
                  <a:srgbClr val="281f1e"/>
                </a:solidFill>
                <a:latin typeface="楷体_GB2312"/>
                <a:ea typeface="宋体"/>
              </a:rPr>
              <a:t>分手的路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09b1"/>
                </a:solidFill>
                <a:latin typeface="楷体_GB2312"/>
                <a:ea typeface="宋体"/>
              </a:rPr>
              <a:t>儿女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子女，男女，这里特指青年男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09b1"/>
                </a:solidFill>
                <a:latin typeface="楷体_GB2312"/>
                <a:ea typeface="宋体"/>
              </a:rPr>
              <a:t>沾巾：</a:t>
            </a:r>
            <a:r>
              <a:rPr b="1" lang="zh-CN" sz="2800" spc="-1" strike="noStrike">
                <a:solidFill>
                  <a:srgbClr val="281f1e"/>
                </a:solidFill>
                <a:latin typeface="楷体_GB2312"/>
                <a:ea typeface="宋体"/>
              </a:rPr>
              <a:t>沾湿手巾，指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句意：不要在分手的岔道上，像儿女分别那样泪湿袖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05264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09b1"/>
                </a:solidFill>
                <a:latin typeface="Times New Roman"/>
                <a:ea typeface="隶书"/>
              </a:rPr>
              <a:t>尾联：</a:t>
            </a:r>
            <a:r>
              <a:rPr b="1" lang="zh-CN" sz="4000" spc="-1" strike="noStrike" u="sng">
                <a:solidFill>
                  <a:srgbClr val="1d09b1"/>
                </a:solidFill>
                <a:uFillTx/>
                <a:latin typeface="Times New Roman"/>
                <a:ea typeface="隶书"/>
              </a:rPr>
              <a:t>无为</a:t>
            </a:r>
            <a:r>
              <a:rPr b="1" lang="zh-CN" sz="4000" spc="-1" strike="noStrike">
                <a:solidFill>
                  <a:srgbClr val="1d09b1"/>
                </a:solidFill>
                <a:latin typeface="Times New Roman"/>
                <a:ea typeface="隶书"/>
              </a:rPr>
              <a:t>在</a:t>
            </a:r>
            <a:r>
              <a:rPr b="1" lang="zh-CN" sz="4000" spc="-1" strike="noStrike" u="sng">
                <a:solidFill>
                  <a:srgbClr val="1d09b1"/>
                </a:solidFill>
                <a:uFillTx/>
                <a:latin typeface="Times New Roman"/>
                <a:ea typeface="隶书"/>
              </a:rPr>
              <a:t>岐路</a:t>
            </a:r>
            <a:r>
              <a:rPr b="1" lang="zh-CN" sz="4000" spc="-1" strike="noStrike">
                <a:solidFill>
                  <a:srgbClr val="1d09b1"/>
                </a:solidFill>
                <a:latin typeface="Times New Roman"/>
                <a:ea typeface="隶书"/>
              </a:rPr>
              <a:t>，</a:t>
            </a:r>
            <a:r>
              <a:rPr b="1" lang="zh-CN" sz="4000" spc="-1" strike="noStrike" u="sng">
                <a:solidFill>
                  <a:srgbClr val="1d09b1"/>
                </a:solidFill>
                <a:uFillTx/>
                <a:latin typeface="Times New Roman"/>
                <a:ea typeface="隶书"/>
              </a:rPr>
              <a:t>儿女</a:t>
            </a:r>
            <a:r>
              <a:rPr b="1" lang="zh-CN" sz="4000" spc="-1" strike="noStrike">
                <a:solidFill>
                  <a:srgbClr val="1d09b1"/>
                </a:solidFill>
                <a:latin typeface="Times New Roman"/>
                <a:ea typeface="隶书"/>
              </a:rPr>
              <a:t>共</a:t>
            </a:r>
            <a:r>
              <a:rPr b="1" lang="zh-CN" sz="4000" spc="-1" strike="noStrike" u="sng">
                <a:solidFill>
                  <a:srgbClr val="1d09b1"/>
                </a:solidFill>
                <a:uFillTx/>
                <a:latin typeface="Times New Roman"/>
                <a:ea typeface="隶书"/>
              </a:rPr>
              <a:t>沾巾</a:t>
            </a:r>
            <a:r>
              <a:rPr b="1" lang="zh-CN" sz="4000" spc="-1" strike="noStrike">
                <a:solidFill>
                  <a:srgbClr val="1d09b1"/>
                </a:solidFill>
                <a:latin typeface="Times New Roman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76160" y="270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09b1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53680" y="3429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1f1e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4869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点评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此句发语高远，表明真挚的友情不会因距离的远近而有所改变，最后以劝勉作结，更显得这首诗的可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  <p:sndAc>
      <p:stSnd>
        <p:snd r:embed="rId2" name="cashreg.wav"/>
      </p:stSnd>
    </p:sndAc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赏析探究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宋体"/>
              </a:rPr>
              <a:t>、首联“城阙辅三秦，风烟望五津”交代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分别点出送别的地点和行人的去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宋体"/>
              </a:rPr>
              <a:t>、颔联“与君离别意，同是宦游人”表现诗人怎样的情怀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惜别之中显现诗人胸襟的阔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  <p:sndAc>
      <p:stSnd>
        <p:snd r:embed="rId2" name="cashreg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赏析探究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、如何理解颈联“海内存知己，天涯若比邻”这一千古名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这两句是作者的名句，也是唐诗中数一数二的名句。大意是：只要只要四海之内还有一个知己朋友，即使远隔天涯，也犹如近在咫尺。含义极为深刻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既表现了诗人乐观豁达的胸襟和对友人的真挚情谊，也道出了诚挚的友谊可以超越时空界限的哲理，给人以莫大的安慰和鼓舞，因而成为脍炙人口的千古名句。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  <p:sndAc>
      <p:stSnd>
        <p:snd r:embed="rId2" name="cashreg.wav"/>
      </p:stSnd>
    </p:sndAc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赏析探究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、如何理解尾联“无为在歧路，儿女共沾巾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互勉，慰勉友人不要像青年男女一样，为离别泪湿衣巾，而要心胸豁达，坦然面对。足见情深意长，同时，全诗气氛变悲凉为豪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、全诗表达了诗人怎样的思想感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诗歌通过别离赴任友人的宽慰和劝勉，表达了对友情的豁达态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  <p:sndAc>
      <p:stSnd>
        <p:snd r:embed="rId2" name="cashreg.wav"/>
      </p:stSnd>
    </p:sndAc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409160" y="4726080"/>
            <a:ext cx="1277640" cy="17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黄鹤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  <p:sndAc>
      <p:stSnd>
        <p:snd r:embed="rId3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赏析探究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36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．《送杜少府之任蜀州》与《淮上与友人别》这两首诗都写了与友人的惜别之情。比较一下，它们在表达方式与格调上有什么不同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《送杜少府之任蜀州》从大处落笔，气势雄浑，对将要离别的友人是宽慰和劝勉，“海内存知己，天涯若比邻”表达了一种豁达的态度，诗的格调比较昂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《淮上与友人别》就近写景，情景交融，表达的是分别上路、愁上心头的惜别，诗风比较细腻、哀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  <p:sndAc>
      <p:stSnd>
        <p:snd r:embed="rId2" name="cashreg.wav"/>
      </p:stSnd>
    </p:sndAc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课堂总结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宋体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宋体"/>
              </a:rPr>
              <a:t>《送杜少府之任蜀州》是长期以来脍炙人口的诗篇，特别是“海内存知己，天涯若比邻”两句，至今还常被人们引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宋体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  <a:ea typeface="宋体"/>
              </a:rPr>
              <a:t>这首诗写得乐观开朗，没有一般赠别诗常有的那种哀伤和悱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1413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  <p:sndAc>
      <p:stSnd>
        <p:snd r:embed="rId2" name="cashreg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324000" y="44370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WPS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0"/>
          <p:cNvSpPr/>
          <p:nvPr/>
        </p:nvSpPr>
        <p:spPr>
          <a:xfrm>
            <a:off x="7524720" y="5950080"/>
            <a:ext cx="15843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@WPS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@kingsoftw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236000" y="5950080"/>
            <a:ext cx="234720" cy="234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237440" y="62388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445080" y="2997360"/>
            <a:ext cx="2524320" cy="804600"/>
          </a:xfrm>
          <a:prstGeom prst="rect">
            <a:avLst/>
          </a:prstGeom>
          <a:ln w="0">
            <a:noFill/>
          </a:ln>
        </p:spPr>
      </p:pic>
    </p:spTree>
  </p:cSld>
  <p:transition>
    <p:pull dir="u"/>
    <p:sndAc>
      <p:stSnd>
        <p:snd r:embed="rId4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703640" y="441324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岳阳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  <p:sndAc>
      <p:stSnd>
        <p:snd r:embed="rId3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-6480"/>
            <a:ext cx="9158400" cy="6864480"/>
          </a:xfrm>
          <a:prstGeom prst="rect">
            <a:avLst/>
          </a:prstGeom>
          <a:ln w="0">
            <a:noFill/>
          </a:ln>
        </p:spPr>
      </p:pic>
    </p:spTree>
  </p:cSld>
  <p:transition>
    <p:pull dir="u"/>
    <p:sndAc>
      <p:stSnd>
        <p:snd r:embed="rId3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80" y="276120"/>
            <a:ext cx="9107640" cy="6032520"/>
          </a:xfrm>
          <a:prstGeom prst="rect">
            <a:avLst/>
          </a:prstGeom>
          <a:ln w="0">
            <a:noFill/>
          </a:ln>
        </p:spPr>
      </p:pic>
    </p:spTree>
  </p:cSld>
  <p:transition>
    <p:pull dir="u"/>
    <p:sndAc>
      <p:stSnd>
        <p:snd r:embed="rId3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p:transition>
    <p:pull dir="u"/>
    <p:sndAc>
      <p:stSnd>
        <p:snd r:embed="rId3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429080" y="3286080"/>
            <a:ext cx="3003480" cy="1152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260360" y="1233360"/>
            <a:ext cx="61722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隶书"/>
              </a:rPr>
              <a:t>送杜少府之任蜀州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6"/>
          <a:stretch/>
        </p:blipFill>
        <p:spPr>
          <a:xfrm>
            <a:off x="7308720" y="6381720"/>
            <a:ext cx="1654200" cy="358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>
    <p:pull dir="u"/>
    <p:sndAc>
      <p:stSnd>
        <p:snd r:embed="rId7" name="cashreg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题目简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36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少府：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官名，即县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之：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到，往。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任：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上任。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之任：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即赴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蜀州：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今四川省崇庆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宋体"/>
                <a:ea typeface="宋体"/>
              </a:rPr>
              <a:t>这是一首五言律诗，是朋友之间的送别之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离愁别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是古代诗歌中常见的一种主题，由于古代交通不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旦分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会难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就连通信也不容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所以在诗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难免染上凄凉、伤感的色彩。但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此诗则明朗乐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诗中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融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很深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离别之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所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倾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却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慰藉之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不落窠臼。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海内存知己，天涯若比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”是脍炙人口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名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  <p:sndAc>
      <p:stSnd>
        <p:snd r:embed="rId3" name="cashreg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3640" y="190440"/>
            <a:ext cx="2592360" cy="7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走近作者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763560"/>
            <a:ext cx="5256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31"/>
                </a:solidFill>
                <a:latin typeface="华文新魏"/>
                <a:ea typeface="华文新魏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王勃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50-676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zh-CN" sz="3200" spc="-1" strike="noStrike">
                <a:solidFill>
                  <a:srgbClr val="003231"/>
                </a:solidFill>
                <a:latin typeface="华文新魏"/>
                <a:ea typeface="华文新魏"/>
              </a:rPr>
              <a:t>字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子安</a:t>
            </a:r>
            <a:r>
              <a:rPr b="1" lang="zh-CN" sz="3200" spc="-1" strike="noStrike">
                <a:solidFill>
                  <a:srgbClr val="003231"/>
                </a:solidFill>
                <a:latin typeface="华文新魏"/>
                <a:ea typeface="华文新魏"/>
              </a:rPr>
              <a:t>，绛州龙门人，唐高中宗时应举及第，曾任虢州参军。后往海南探父，因溺水，受惊而死。少时即显露才华，与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杨炯、卢照邻、骆宾王</a:t>
            </a:r>
            <a:r>
              <a:rPr b="1" lang="zh-CN" sz="3200" spc="-1" strike="noStrike">
                <a:solidFill>
                  <a:srgbClr val="003231"/>
                </a:solidFill>
                <a:latin typeface="华文新魏"/>
                <a:ea typeface="华文新魏"/>
              </a:rPr>
              <a:t>齐名，并称“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初唐四杰</a:t>
            </a:r>
            <a:r>
              <a:rPr b="1" lang="en-US" sz="3200" spc="-1" strike="noStrike">
                <a:solidFill>
                  <a:srgbClr val="003231"/>
                </a:solidFill>
                <a:latin typeface="华文新魏"/>
                <a:ea typeface="华文新魏"/>
              </a:rPr>
              <a:t>”。其诗偏于描写个人生活，亦有少数抒发政治感慨、隐寓对豪门世族不满之作，风格较为清新，明人辑有《王子安集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25440" y="1197000"/>
            <a:ext cx="2735280" cy="5145120"/>
          </a:xfrm>
          <a:prstGeom prst="rect">
            <a:avLst/>
          </a:prstGeom>
          <a:ln w="0">
            <a:noFill/>
          </a:ln>
        </p:spPr>
      </p:pic>
    </p:spTree>
  </p:cSld>
  <p:transition>
    <p:pull dir="u"/>
    <p:sndAc>
      <p:stSnd>
        <p:snd r:embed="rId3" name="cashreg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9:34:54Z</dcterms:created>
  <dc:creator>Administrator</dc:creator>
  <dc:description/>
  <dc:language>en-US</dc:language>
  <cp:lastModifiedBy/>
  <cp:lastPrinted>1899-12-30T00:00:00Z</cp:lastPrinted>
  <dcterms:modified xsi:type="dcterms:W3CDTF">2013-11-01T12:28:2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