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7A77-65B9-41C1-B9E1-E052726E989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鼠标点击生字，依次出现该字的拼音和组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鼠标点击生字，依次出现该字的拼音和组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C13D-FB46-430C-866A-0A49702E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8FCF-8310-4A63-B966-7D23C19A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E21D-C3D8-4E86-8B6E-EAB9632E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1A8E-6911-4C8D-949E-BA4F6AC5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CF67-0ED2-4E28-BF11-923FCA84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AC02-679A-4AF7-94C3-82D75852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2409-3085-4C1E-BED6-FEBBF40B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6D71-5269-409F-8B94-568CD723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5CE1-FA97-4949-98D8-7405FEF5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15F6-AA47-4AE1-84FD-8A9814ED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8B0F-E3BA-44CC-A4BC-C7AA6733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9DB0-6EB4-4AF9-B8E0-BD60189A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3217-E5FB-481F-980E-C815C990A7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894280" y="0"/>
            <a:ext cx="29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华文行楷"/>
              </a:rPr>
              <a:t>六安市长安小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52280" y="457200"/>
            <a:ext cx="8839440" cy="5943600"/>
            <a:chOff x="152280" y="457200"/>
            <a:chExt cx="8839440" cy="5943600"/>
          </a:xfrm>
        </p:grpSpPr>
        <p:sp>
          <p:nvSpPr>
            <p:cNvPr id="50" name=""/>
            <p:cNvSpPr/>
            <p:nvPr/>
          </p:nvSpPr>
          <p:spPr>
            <a:xfrm>
              <a:off x="152280" y="457200"/>
              <a:ext cx="8839440" cy="594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6248520"/>
              <a:ext cx="88394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2280" y="457200"/>
              <a:ext cx="88394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" descr=""/>
          <p:cNvPicPr/>
          <p:nvPr/>
        </p:nvPicPr>
        <p:blipFill>
          <a:blip r:embed="rId2"/>
          <a:srcRect l="0" t="26100" r="0" b="0"/>
          <a:stretch/>
        </p:blipFill>
        <p:spPr>
          <a:xfrm>
            <a:off x="5486400" y="3932280"/>
            <a:ext cx="3505320" cy="2468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47920" y="274320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940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家有没有看过电视连续剧“西游记”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看过的同学有什么体会，简单地说一说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33228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同学们说得真不错，今天，我们学习的课文就与西游记有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146" name="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2280" y="6400800"/>
              <a:ext cx="88394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2280" y="609480"/>
              <a:ext cx="88394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2"/>
          <a:srcRect l="0" t="26100" r="0" b="0"/>
          <a:stretch/>
        </p:blipFill>
        <p:spPr>
          <a:xfrm>
            <a:off x="5486400" y="3932280"/>
            <a:ext cx="3505320" cy="2468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04920" y="11271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Arial"/>
                <a:ea typeface="隶书"/>
              </a:rPr>
              <a:t>第一次遇见白骨精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孙悟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2743200"/>
            <a:ext cx="7467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孙悟空睁开火眼金睛一看，认出村姑是个妖精，举起金箍棒当头就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3962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唐僧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47242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唐僧责怪悟空无故伤人性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156" name="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2280" y="6400800"/>
              <a:ext cx="88394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2280" y="609480"/>
              <a:ext cx="88394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2"/>
          <a:srcRect l="0" t="26100" r="0" b="0"/>
          <a:stretch/>
        </p:blipFill>
        <p:spPr>
          <a:xfrm>
            <a:off x="5486400" y="3932280"/>
            <a:ext cx="3505320" cy="2468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04920" y="99072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Arial"/>
                <a:ea typeface="隶书"/>
              </a:rPr>
              <a:t>第一次遇见白骨精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981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白骨精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743200"/>
            <a:ext cx="7467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白骨精摇身变作美貌的村姑，拎了一罐斋饭，径直走到唐僧面前，说是特地来请他们用斋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4197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选择自己喜欢的人物，读读相关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165" name="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2280" y="6400800"/>
              <a:ext cx="88394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2280" y="609480"/>
              <a:ext cx="88394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" descr=""/>
          <p:cNvPicPr/>
          <p:nvPr/>
        </p:nvPicPr>
        <p:blipFill>
          <a:blip r:embed="rId2"/>
          <a:srcRect l="0" t="26100" r="0" b="0"/>
          <a:stretch/>
        </p:blipFill>
        <p:spPr>
          <a:xfrm>
            <a:off x="5486400" y="3932280"/>
            <a:ext cx="3505320" cy="24685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920" y="99072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Arial"/>
                <a:ea typeface="隶书"/>
              </a:rPr>
              <a:t>第二次遇见白骨精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21016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白骨精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8954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山坡上闪出一个年满八旬的老妇人，手柱着弯头竹杖，一步一声地哭着走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4572000"/>
            <a:ext cx="5029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了这句话，你想说些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174" name="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2280" y="6400800"/>
              <a:ext cx="88394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2280" y="609480"/>
              <a:ext cx="88394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2"/>
          <a:srcRect l="0" t="26100" r="0" b="0"/>
          <a:stretch/>
        </p:blipFill>
        <p:spPr>
          <a:xfrm>
            <a:off x="5486400" y="3932280"/>
            <a:ext cx="3505320" cy="24685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09480" y="26668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悟空见又是那妖精变的，也不说话，当头就是一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99072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Arial"/>
                <a:ea typeface="隶书"/>
              </a:rPr>
              <a:t>第二次遇见白骨精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981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孙悟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441972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唐僧一见，惊得从马上摔下来，坐在地上，不由分说，一口气念了二十遍紧箍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3657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唐僧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184" name="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2280" y="6400800"/>
              <a:ext cx="88394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2280" y="609480"/>
              <a:ext cx="88394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2"/>
          <a:srcRect l="0" t="26100" r="0" b="0"/>
          <a:stretch/>
        </p:blipFill>
        <p:spPr>
          <a:xfrm>
            <a:off x="5486400" y="3932280"/>
            <a:ext cx="3505320" cy="24685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838080" y="27558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同学们自由读第六段，画出唐僧和孙悟空的对话，同桌练习朗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857240" y="1752480"/>
            <a:ext cx="233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隶书"/>
              </a:rPr>
              <a:t>分角色朗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隶书"/>
              <a:ea typeface="隶书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09480" y="1295280"/>
            <a:ext cx="107640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192" name="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2280" y="6400800"/>
              <a:ext cx="88394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2280" y="609480"/>
              <a:ext cx="88394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2"/>
          <a:srcRect l="0" t="26100" r="0" b="0"/>
          <a:stretch/>
        </p:blipFill>
        <p:spPr>
          <a:xfrm>
            <a:off x="5486400" y="3932280"/>
            <a:ext cx="3505320" cy="2468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04920" y="99072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Arial"/>
                <a:ea typeface="隶书"/>
              </a:rPr>
              <a:t>第三次遇见白骨精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981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白骨精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28195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白骨精不甘心就这样让唐僧走了，又变成一个白发老公公，假装来找他的妻子和女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46483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白骨精为什么要这么做呢？说说你的观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201" name="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2280" y="6400800"/>
              <a:ext cx="88394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2280" y="609480"/>
              <a:ext cx="88394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" descr=""/>
          <p:cNvPicPr/>
          <p:nvPr/>
        </p:nvPicPr>
        <p:blipFill>
          <a:blip r:embed="rId2"/>
          <a:srcRect l="0" t="26100" r="0" b="0"/>
          <a:stretch/>
        </p:blipFill>
        <p:spPr>
          <a:xfrm>
            <a:off x="5486400" y="3932280"/>
            <a:ext cx="3505320" cy="24685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04920" y="99072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Arial"/>
                <a:ea typeface="隶书"/>
              </a:rPr>
              <a:t>第三次遇见白骨精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1981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孙悟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2819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悟空抽出金箍棒，怕师父念咒语，没有立刻动手，暗中叫来众神，让他们在半空中作证。众神在云端看着。悟空抡起金箍棒，一棒打死了妖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209" name="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2280" y="6400800"/>
              <a:ext cx="88394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80" y="609480"/>
              <a:ext cx="88394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2"/>
          <a:srcRect l="0" t="26100" r="0" b="0"/>
          <a:stretch/>
        </p:blipFill>
        <p:spPr>
          <a:xfrm>
            <a:off x="5486400" y="3932280"/>
            <a:ext cx="3505320" cy="24685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80880" y="1981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唐僧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99072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Arial"/>
                <a:ea typeface="隶书"/>
              </a:rPr>
              <a:t>第三次遇见白骨精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28954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唐僧又是如何做的呢？文中并没有介绍，哪位同学知道呀，大胆地说一说自己的观点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217" name="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2280" y="6400800"/>
              <a:ext cx="88394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2280" y="609480"/>
              <a:ext cx="88394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" descr=""/>
          <p:cNvPicPr/>
          <p:nvPr/>
        </p:nvPicPr>
        <p:blipFill>
          <a:blip r:embed="rId2"/>
          <a:srcRect l="0" t="26100" r="0" b="0"/>
          <a:stretch/>
        </p:blipFill>
        <p:spPr>
          <a:xfrm>
            <a:off x="6477120" y="4629240"/>
            <a:ext cx="2514600" cy="17715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85800" y="14479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文中孙悟空打白骨精的三次写法各不相同，这样写有什么好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8018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充分揭露白骨精的诡计多端，表现孙悟空善于识破妖精的诡计、勇敢机智的斗争精神，反映出唐僧人妖不分，善恶不辨的弱点，同时这样写避免了语句的重复，把故事推向高潮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grpSp>
          <p:nvGrpSpPr>
            <p:cNvPr id="224" name=""/>
            <p:cNvGrpSpPr/>
            <p:nvPr/>
          </p:nvGrpSpPr>
          <p:grpSpPr>
            <a:xfrm>
              <a:off x="152280" y="609480"/>
              <a:ext cx="8839440" cy="5943600"/>
              <a:chOff x="152280" y="609480"/>
              <a:chExt cx="8839440" cy="5943600"/>
            </a:xfrm>
          </p:grpSpPr>
          <p:sp>
            <p:nvSpPr>
              <p:cNvPr id="225" name=""/>
              <p:cNvSpPr/>
              <p:nvPr/>
            </p:nvSpPr>
            <p:spPr>
              <a:xfrm>
                <a:off x="152280" y="609480"/>
                <a:ext cx="8839440" cy="594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52280" y="6400800"/>
                <a:ext cx="883944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52280" y="609480"/>
                <a:ext cx="8839440" cy="152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8" name="" descr=""/>
            <p:cNvPicPr/>
            <p:nvPr/>
          </p:nvPicPr>
          <p:blipFill>
            <a:blip r:embed="rId2"/>
            <a:srcRect l="0" t="26100" r="0" b="0"/>
            <a:stretch/>
          </p:blipFill>
          <p:spPr>
            <a:xfrm>
              <a:off x="5486400" y="3932280"/>
              <a:ext cx="3505320" cy="24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"/>
          <p:cNvSpPr/>
          <p:nvPr/>
        </p:nvSpPr>
        <p:spPr>
          <a:xfrm>
            <a:off x="838080" y="17524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同学们四人小组相互复述“三打白骨精”的经过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33526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隶书"/>
              </a:rPr>
              <a:t>      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隶书"/>
              </a:rPr>
              <a:t>同学们齐读描写孙悟空“三打白骨精”经过的几个段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rcRect l="0" t="25451" r="2664" b="2547"/>
          <a:stretch/>
        </p:blipFill>
        <p:spPr>
          <a:xfrm>
            <a:off x="762120" y="1143000"/>
            <a:ext cx="7772400" cy="5226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800600" y="2057400"/>
            <a:ext cx="3681360" cy="60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隶书"/>
              </a:rPr>
              <a:t>三打白骨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隶书"/>
              <a:ea typeface="隶书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5335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a50021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苏教版 六年级 语文 下册 第三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232" name="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2280" y="6400800"/>
              <a:ext cx="88394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2280" y="609480"/>
              <a:ext cx="88394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" descr=""/>
          <p:cNvPicPr/>
          <p:nvPr/>
        </p:nvPicPr>
        <p:blipFill>
          <a:blip r:embed="rId2"/>
          <a:srcRect l="0" t="26100" r="0" b="0"/>
          <a:stretch/>
        </p:blipFill>
        <p:spPr>
          <a:xfrm>
            <a:off x="4952880" y="3557520"/>
            <a:ext cx="4038840" cy="28432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09480" y="28195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过今天的学习，你们有什么体会呢？简单地说一说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828800" y="1828800"/>
            <a:ext cx="1752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隶书"/>
              </a:rPr>
              <a:t>谈体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隶书"/>
              <a:ea typeface="隶书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457200" y="1371600"/>
            <a:ext cx="11541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240" name="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2280" y="6400800"/>
              <a:ext cx="88394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2280" y="609480"/>
              <a:ext cx="88394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" descr=""/>
          <p:cNvPicPr/>
          <p:nvPr/>
        </p:nvPicPr>
        <p:blipFill>
          <a:blip r:embed="rId2"/>
          <a:srcRect l="0" t="26100" r="0" b="0"/>
          <a:stretch/>
        </p:blipFill>
        <p:spPr>
          <a:xfrm>
            <a:off x="5486400" y="3932280"/>
            <a:ext cx="3505320" cy="2468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28600" y="239076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．熟读全文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352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．把孙悟空三打白骨精的故事讲给家里人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752480" y="1523880"/>
            <a:ext cx="2438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隶书"/>
              </a:rPr>
              <a:t>课外作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隶书"/>
              <a:ea typeface="隶书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380880" y="1143000"/>
            <a:ext cx="119376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rcRect l="0" t="0" r="0" b="8332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72000" y="2133720"/>
            <a:ext cx="3733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再见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61" name="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2280" y="6400800"/>
              <a:ext cx="88394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2280" y="609480"/>
              <a:ext cx="88394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2"/>
          <a:srcRect l="0" t="26100" r="0" b="0"/>
          <a:stretch/>
        </p:blipFill>
        <p:spPr>
          <a:xfrm>
            <a:off x="5486400" y="3932280"/>
            <a:ext cx="3505320" cy="2468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3520" y="22860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《三打白骨精》选自我国古典小说名著《西游记》，课文通过孙悟空三次怒打白骨精的故事，赞扬了孙悟空坚定不移、机智勇敢、善于识别敌人诡计的斗争精神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600200" y="1371600"/>
            <a:ext cx="1981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隶书"/>
              </a:rPr>
              <a:t>课文简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隶书"/>
              <a:ea typeface="隶书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33520" y="1082520"/>
            <a:ext cx="91440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69" name="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2280" y="6400800"/>
              <a:ext cx="88394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280" y="609480"/>
              <a:ext cx="88394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" descr=""/>
          <p:cNvPicPr/>
          <p:nvPr/>
        </p:nvPicPr>
        <p:blipFill>
          <a:blip r:embed="rId2"/>
          <a:srcRect l="0" t="26100" r="0" b="0"/>
          <a:stretch/>
        </p:blipFill>
        <p:spPr>
          <a:xfrm>
            <a:off x="5486400" y="3932280"/>
            <a:ext cx="3505320" cy="2468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57200" y="2438280"/>
            <a:ext cx="1533600" cy="1905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286000" y="242424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吴承恩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(1500-1582)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，字汝忠，号射阳山人，淮安府山阳县（今江苏省淮安市楚州区）人。明代小说家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47920" y="1295280"/>
            <a:ext cx="2895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隶书"/>
              </a:rPr>
              <a:t>吴承恩简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隶书"/>
              <a:ea typeface="隶书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14440" y="1120680"/>
            <a:ext cx="78084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78" name="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2280" y="6400800"/>
              <a:ext cx="88394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280" y="609480"/>
              <a:ext cx="88394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" descr=""/>
          <p:cNvPicPr/>
          <p:nvPr/>
        </p:nvPicPr>
        <p:blipFill>
          <a:blip r:embed="rId2"/>
          <a:srcRect l="0" t="26100" r="0" b="0"/>
          <a:stretch/>
        </p:blipFill>
        <p:spPr>
          <a:xfrm>
            <a:off x="7010280" y="5005440"/>
            <a:ext cx="1981440" cy="1395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193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29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蛤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僧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成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妖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聊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629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蛤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22096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s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ē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n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432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sh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yā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zh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152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h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30481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21337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42670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能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295280" y="990720"/>
            <a:ext cx="965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103" name="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2280" y="6400800"/>
              <a:ext cx="88394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280" y="609480"/>
              <a:ext cx="88394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2"/>
          <a:srcRect l="0" t="26100" r="0" b="0"/>
          <a:stretch/>
        </p:blipFill>
        <p:spPr>
          <a:xfrm>
            <a:off x="6172200" y="4414680"/>
            <a:ext cx="2819520" cy="1986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14300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虾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拐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咒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隐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22096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m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zhà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zhò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m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0481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1337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267080"/>
            <a:ext cx="5791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能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95280" y="990720"/>
            <a:ext cx="965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125" name="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2280" y="6400800"/>
              <a:ext cx="88394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280" y="609480"/>
              <a:ext cx="88394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2"/>
          <a:srcRect l="0" t="26100" r="0" b="0"/>
          <a:stretch/>
        </p:blipFill>
        <p:spPr>
          <a:xfrm>
            <a:off x="5486400" y="3932280"/>
            <a:ext cx="3505320" cy="2468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80880" y="27432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唐僧西天取经途中路遇白骨精，孙悟空三次识破白骨精的诡计，打死白骨精的三个化身。赞扬了孙悟空坚定不移、机智勇敢、善于识别敌人诡计的斗争精神。</a:t>
            </a:r>
            <a:r>
              <a:rPr b="0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295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请同学们默读课文，说说这篇课文的大概内容是什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132" name="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2280" y="6400800"/>
              <a:ext cx="88394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280" y="609480"/>
              <a:ext cx="88394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" descr=""/>
          <p:cNvPicPr/>
          <p:nvPr/>
        </p:nvPicPr>
        <p:blipFill>
          <a:blip r:embed="rId2"/>
          <a:srcRect l="0" t="26100" r="0" b="0"/>
          <a:stretch/>
        </p:blipFill>
        <p:spPr>
          <a:xfrm>
            <a:off x="5486400" y="3932280"/>
            <a:ext cx="3505320" cy="2468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09480" y="16765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大声朗读课文，想想为了吃唐僧肉，白骨精变化了几次？每次变成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464832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隶书"/>
              </a:rPr>
              <a:t>       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隶书"/>
              </a:rPr>
              <a:t>选择你最喜欢的自然段，读一读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2004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白骨精变化了三次，分别变成了村姑、老妇和白发老公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140" name="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2280" y="6400800"/>
              <a:ext cx="88394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2280" y="609480"/>
              <a:ext cx="88394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2"/>
          <a:srcRect l="0" t="26100" r="0" b="0"/>
          <a:stretch/>
        </p:blipFill>
        <p:spPr>
          <a:xfrm>
            <a:off x="5486400" y="3932280"/>
            <a:ext cx="3505320" cy="2468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480" y="228600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次遇到白骨精，孙悟空、唐僧和白骨精的表现各是怎样的呢？请同学们继续读课文，画出相关的句子，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04-12T05:22:56Z</dcterms:modified>
  <cp:revision>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