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87F-9759-451D-9B69-66E40B4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97F-C1ED-4A38-9C64-855E718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BC8-F33F-4797-8894-F6E65E98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210-45E9-4F56-AA87-91B88F9D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E64-7290-4860-8F69-BD4666B3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FE1-CA91-4272-9358-6421824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5A4-333C-4B36-BE9C-65CD43CB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F79-4991-41EB-898E-39B11211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302-9FBD-4A56-A19E-DF3E410A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2BC-C4FF-4EA0-B92D-07D7CA2A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CD1-5A46-4ABA-9101-3912EF2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6B2-8F3D-4001-A68B-B9639D2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0BD2-5D2C-4E3F-9857-A9B868FE3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oouo.com/baike/3131.htm" TargetMode="External"/><Relationship Id="rId3" Type="http://schemas.openxmlformats.org/officeDocument/2006/relationships/hyperlink" Target="http://www.soouo.com/baike/3562.htm" TargetMode="External"/><Relationship Id="rId4" Type="http://schemas.openxmlformats.org/officeDocument/2006/relationships/hyperlink" Target="http://www.soouo.com/baike/2542.htm" TargetMode="External"/><Relationship Id="rId5" Type="http://schemas.openxmlformats.org/officeDocument/2006/relationships/hyperlink" Target="http://www.soouo.com/baike/3918.htm" TargetMode="External"/><Relationship Id="rId6" Type="http://schemas.openxmlformats.org/officeDocument/2006/relationships/hyperlink" Target="http://www.soouo.com/baike/3483.htm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5157720"/>
            <a:ext cx="459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970000" cy="3382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>
            <a:lum bright="6000"/>
          </a:blip>
          <a:srcRect l="9051" t="0" r="13240" b="118"/>
          <a:stretch/>
        </p:blipFill>
        <p:spPr>
          <a:xfrm>
            <a:off x="5076720" y="2565360"/>
            <a:ext cx="3133800" cy="331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90792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三打白骨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打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09680" y="1222200"/>
            <a:ext cx="7618320" cy="5662800"/>
            <a:chOff x="409680" y="1222200"/>
            <a:chExt cx="7618320" cy="5662800"/>
          </a:xfrm>
        </p:grpSpPr>
        <p:sp>
          <p:nvSpPr>
            <p:cNvPr id="85" name=""/>
            <p:cNvSpPr/>
            <p:nvPr/>
          </p:nvSpPr>
          <p:spPr>
            <a:xfrm>
              <a:off x="409680" y="1222200"/>
              <a:ext cx="419256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打：</a:t>
              </a:r>
              <a:r>
                <a:rPr b="1" lang="zh-CN" sz="3000" spc="-1" strike="noStrike">
                  <a:solidFill>
                    <a:srgbClr val="33cc33"/>
                  </a:solidFill>
                  <a:latin typeface="楷体_GB2312"/>
                  <a:ea typeface="楷体_GB2312"/>
                </a:rPr>
                <a:t>  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33cc33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过了一会儿，从山后走来一个老婆子。那婆子拄着一根拐杖，一步一声的哭喊着她的女儿。</a:t>
              </a:r>
              <a:r>
                <a:rPr b="1" lang="zh-CN" sz="2000" spc="-1" strike="noStrike">
                  <a:solidFill>
                    <a:srgbClr val="33cc33"/>
                  </a:solidFill>
                  <a:latin typeface="楷体_GB2312"/>
                  <a:ea typeface="楷体_GB2312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       </a:t>
              </a:r>
              <a:r>
                <a:rPr b="1" lang="zh-CN" sz="20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孙悟空认出那婆子还是妖怪变得，立刻飞步上前大叫一声：“妖怪，你又来了，再吃我一棒！”举起大棒照头就打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          </a:t>
              </a:r>
              <a:r>
                <a:rPr b="1" lang="zh-CN" sz="2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唐僧不但不许悟空追打，还要把悟空赶走，沙和尚替悟空说了许多好话，唐僧才允许悟空留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292720" y="1268280"/>
              <a:ext cx="2734920" cy="5589360"/>
              <a:chOff x="5292720" y="1268280"/>
              <a:chExt cx="2734920" cy="5589360"/>
            </a:xfrm>
          </p:grpSpPr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1268280"/>
                <a:ext cx="2734920" cy="195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3177360"/>
                <a:ext cx="2730240" cy="18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4995360"/>
                <a:ext cx="2730240" cy="186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"/>
            <p:cNvSpPr/>
            <p:nvPr/>
          </p:nvSpPr>
          <p:spPr>
            <a:xfrm>
              <a:off x="8028000" y="1224000"/>
              <a:ext cx="0" cy="5661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291280" y="1223640"/>
              <a:ext cx="0" cy="5661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1280" y="1224000"/>
              <a:ext cx="273672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91280" y="3168720"/>
              <a:ext cx="273672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91280" y="4968720"/>
              <a:ext cx="273672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1280" y="6869160"/>
              <a:ext cx="273672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打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3360" y="1052640"/>
            <a:ext cx="7353360" cy="5805360"/>
            <a:chOff x="603360" y="1052640"/>
            <a:chExt cx="7353360" cy="5805360"/>
          </a:xfrm>
        </p:grpSpPr>
        <p:sp>
          <p:nvSpPr>
            <p:cNvPr id="99" name=""/>
            <p:cNvSpPr/>
            <p:nvPr/>
          </p:nvSpPr>
          <p:spPr>
            <a:xfrm>
              <a:off x="603360" y="1052640"/>
              <a:ext cx="4039920" cy="27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打：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33cc33"/>
                  </a:solidFill>
                  <a:latin typeface="楷体_GB2312"/>
                  <a:ea typeface="楷体_GB2312"/>
                </a:rPr>
                <a:t>   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33"/>
                  </a:solidFill>
                  <a:latin typeface="楷体_GB2312"/>
                  <a:ea typeface="楷体_GB2312"/>
                </a:rPr>
                <a:t>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白骨精又变成一个老头子，手拿拐杖，坐在路旁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        </a:t>
              </a:r>
              <a:r>
                <a:rPr b="1" lang="zh-CN" sz="20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孙悟空认出是白骨精变得，就要举棒去打，被唐僧拦住，并大骂悟空残忍，悟空回答说：“妖怪吃人本性不变。你今天救了它两次，它还是不放过你。是妖就要打，说不上什么残忍不残忍。”说完他举棒就打，把那老头子打下山涧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2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唐僧紧紧拉住不让追赶，并把孙悟空赶回了花果山。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219640" y="1197000"/>
              <a:ext cx="2736720" cy="5616720"/>
              <a:chOff x="5219640" y="1197000"/>
              <a:chExt cx="2736720" cy="561672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1197000"/>
                <a:ext cx="2712600" cy="18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9640" y="3068640"/>
                <a:ext cx="2721240" cy="187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9640" y="4941720"/>
                <a:ext cx="2736720" cy="187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5219640" y="1197000"/>
              <a:ext cx="27370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956720" y="1197000"/>
              <a:ext cx="0" cy="5661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219640" y="1196640"/>
              <a:ext cx="0" cy="5661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9640" y="119700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9640" y="314172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494172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684216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56000" y="5157720"/>
            <a:ext cx="459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2578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孙悟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1413000"/>
            <a:ext cx="20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定不移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24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智勇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350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于识别敌人诡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3131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486900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26431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诡计多端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1280" y="3940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善于变化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6000"/>
          </a:blip>
          <a:srcRect l="9051" t="0" r="13240" b="118"/>
          <a:stretch/>
        </p:blipFill>
        <p:spPr>
          <a:xfrm>
            <a:off x="838080" y="380880"/>
            <a:ext cx="4251600" cy="4494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92720" y="14191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残害百姓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08360" y="508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63868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唐　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3835440" cy="548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92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慈悲为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080" y="691920"/>
            <a:ext cx="887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馒 瞒 埋 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“夺”字写出了猪八戒迫不及待、嘴馋的样子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老妇人其实是白骨精，这个“闪”字与这句话中的年满八旬相矛盾，因而传神地写出了白骨精的狡猾和迫不及待的样子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僧因为孙悟空平白无故地打死老妇人而摔下马来。一个“摔”字，我们感受到唐僧的胆小及受到了严重的程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悟空看见白骨精变成白发老公公又来骗师傅，他心想，如果再不除去这个妖精，师傅就会再次上当，后果将不堪设想，“笑”字写出了孙悟空火眼金睛，轻而易举就识破了白骨精的阴谋诡计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7607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了环境的险恶，为下文白骨精的出现作了铺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段话描写的是课文中变成美貌村姑的白骨精。作者把人物写得这样美，其用意是写出了白骨精的诡计多端，她想以此来降低师徒三人对她的警惕心，好对唐僧下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悟空对师傅忠心耿耿，感情深厚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人物名称：孙悟空  人物故事：孙悟空号称“美猴王”和 “齐天大圣”，他除妖降魔，保护唐僧西天取经，最终修成正果。 人物评价：疾恶如仇 英勇无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24000" y="1628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63640" y="2781000"/>
            <a:ext cx="475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承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500-1582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字汝忠，号射阳山人，淮安府山阳县（今江苏省淮安市楚州区）人。明代小说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1995480" cy="247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1280" y="1628280"/>
            <a:ext cx="3754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 楼 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 游 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浒 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国演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西游记》 ，明代小说家吴承恩（字汝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射阳居士 ）著。《西游记》成书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明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叶，根据唐玄奘去天竺取经这一真实的历史事件，自问世以来在中国及世界各地广为流传，被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翻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多种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语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中国，乃至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亚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分地区西游记家喻户晓，其中孙悟空、唐僧、猪八戒、沙僧等人物和“大闹天宫”、“三打白骨精”、“火焰山”等故事尤其为人熟悉。几百年以来，西游记被改编成了各种地方戏曲，及电影、电视剧、动画片、漫画，版本繁多。它是中国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四大名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之一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1640" y="83664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课文简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321840" y="2133720"/>
            <a:ext cx="88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三打白骨精》选自我国古典小说名著《西游记》，课文通过孙悟空三次怒打白骨精的故事，赞扬了孙悟空坚定不移、机智勇敢、善于识别敌人诡计的斗争精神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2852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唐僧西天取经途中路遇白骨精，孙悟空三次识破白骨精的诡计，打死白骨精的三个化身。赞扬了孙悟空坚定不移、机智勇敢、善于识别敌人诡计的斗争精神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请同学们默读课文，说说这篇课文的大概内容是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05264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大声朗读课文，想想为了吃唐僧肉，白骨精变化了几次？每次变成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2004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白骨精变化了三次，分别变成了村姑、老妇和白发老公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62064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次遇到白骨精，孙悟空、唐僧和白骨精的表现各是怎样的呢？请同学们继续读课文，画出相关的句子，读一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三打白骨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519120" y="1196640"/>
            <a:ext cx="7437600" cy="5661360"/>
            <a:chOff x="519120" y="1196640"/>
            <a:chExt cx="7437600" cy="5661360"/>
          </a:xfrm>
        </p:grpSpPr>
        <p:grpSp>
          <p:nvGrpSpPr>
            <p:cNvPr id="70" name=""/>
            <p:cNvGrpSpPr/>
            <p:nvPr/>
          </p:nvGrpSpPr>
          <p:grpSpPr>
            <a:xfrm>
              <a:off x="519120" y="1197000"/>
              <a:ext cx="7437600" cy="5661000"/>
              <a:chOff x="519120" y="1197000"/>
              <a:chExt cx="7437600" cy="5661000"/>
            </a:xfrm>
          </p:grpSpPr>
          <p:sp>
            <p:nvSpPr>
              <p:cNvPr id="71" name=""/>
              <p:cNvSpPr/>
              <p:nvPr/>
            </p:nvSpPr>
            <p:spPr>
              <a:xfrm>
                <a:off x="519120" y="1274760"/>
                <a:ext cx="4052880" cy="30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一打：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33cc33"/>
                    </a:solidFill>
                    <a:latin typeface="楷体_GB2312"/>
                    <a:ea typeface="楷体_GB2312"/>
                  </a:rPr>
                  <a:t>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白骨精为了吃唐僧肉，变成一个村姑，穿着花衣服，提着一篮馒头，笑着向唐僧走来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       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孙悟空一眼认出她是妖怪变得，“大胆妖怪！”孙悟空大喊一声，举起大棒向妖怪头上打去。“啪”的一声，那小姑娘就倒地死去了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ff"/>
                    </a:solidFill>
                    <a:latin typeface="楷体_GB2312"/>
                    <a:ea typeface="楷体_GB2312"/>
                  </a:rPr>
                  <a:t>       </a:t>
                </a:r>
                <a:r>
                  <a:rPr b="1" lang="zh-CN" sz="2000" spc="-1" strike="noStrike">
                    <a:solidFill>
                      <a:srgbClr val="ff00ff"/>
                    </a:solidFill>
                    <a:latin typeface="楷体_GB2312"/>
                    <a:ea typeface="楷体_GB2312"/>
                  </a:rPr>
                  <a:t>孙悟空识破妖计，正要追赶，却被唐僧一把拉住。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5219640" y="1197000"/>
                <a:ext cx="2737080" cy="5661000"/>
                <a:chOff x="5219640" y="1197000"/>
                <a:chExt cx="2737080" cy="5661000"/>
              </a:xfrm>
            </p:grpSpPr>
            <p:pic>
              <p:nvPicPr>
                <p:cNvPr id="7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9640" y="1197000"/>
                  <a:ext cx="2737080" cy="194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19640" y="3141720"/>
                  <a:ext cx="2737080" cy="180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19640" y="4941720"/>
                  <a:ext cx="2737080" cy="191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6" name=""/>
            <p:cNvSpPr/>
            <p:nvPr/>
          </p:nvSpPr>
          <p:spPr>
            <a:xfrm>
              <a:off x="7956720" y="1197000"/>
              <a:ext cx="0" cy="5661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219640" y="1196640"/>
              <a:ext cx="0" cy="5661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19640" y="119700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314172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19640" y="494172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19640" y="6842160"/>
              <a:ext cx="2737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2:40:17Z</dcterms:created>
  <dc:creator>User</dc:creator>
  <dc:description/>
  <dc:language>en-US</dc:language>
  <cp:lastModifiedBy>User</cp:lastModifiedBy>
  <dcterms:modified xsi:type="dcterms:W3CDTF">2013-03-01T06:21:45Z</dcterms:modified>
  <cp:revision>8</cp:revision>
  <dc:subject/>
  <dc:title>幻灯片 1</dc:title>
</cp:coreProperties>
</file>