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00C-B64A-400A-8292-E8541308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08A-4523-4355-987D-647C7131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24D-8A73-409C-ADBD-B1A7B2A6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EF6-BB4C-4AC3-A162-3298AC68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4A6-5307-4603-86B4-D681C742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B7E-E274-448C-8753-22DFC786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BEF-CF48-4506-A8E2-AF59DD31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E6F-F6A2-4E2A-AC85-2F947776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3B1-4CAC-4D7D-BEED-4C5A5A38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279-75EF-4FEE-B10D-01D55A5D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544-8725-4CFB-8FB0-3493CC5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A20-4F71-4B2F-93AB-D235F2CF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7E1F-7026-4420-A63F-D4B6E400E6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424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708000" y="907920"/>
            <a:ext cx="51116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正在这时，悟空从南山摘桃回来，睁开火眼金睛一看，认出村姑是个妖精，举起金箍棒当头就打。唐僧连忙扯住悟空。悟空说：“它是个妖精，是来骗你的。”说着，就朝妖精劈脸一棒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799308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责怪悟空无故伤人性命。悟空打开罐子，从里面跳出来几只青蛙、癞蛤蟆，根本没有什么斋饭。唐僧这才有些相信那村姑是妖怪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骨精不胜欢喜，自言自语道：“造化！造化！都说吃了唐僧肉可以长生不老。今天机会来了！”它正要上前，见唐僧身边有猪八戒和沙僧保护，就摇身变作美貌的村姑，拎了一罐斋饭，径直走到唐僧面前，说是特地来请他们用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妖精扔下一具假尸首，化作一缕轻烟逃走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407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67280" y="-360"/>
            <a:ext cx="4619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把金箍棒藏在身边，走上前迎着妖精，笑道：“你瞒得了别人，瞒不过我！我认得你这个妖精。”悟空抽出金箍棒，怕师父念咒语，没有立刻动手，暗中叫来众神，吩咐道：“这妖精三番两次来蒙骗我师父，这一次定要打死它。你们在半空中作证。”众神都在云端看着。悟空抡起金箍棒，一棒打死了妖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一见，惊得从马上摔下来，坐在地上，不由分说，一口气念了二十遍紧箍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坡上闪出一个年满八旬的老妇人，手拄着弯头竹杖，一步一声地哭着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骨精不甘心就这样让唐僧走了，又变成一个白发老公公，假装来找他的妻子和女儿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7451640" cy="423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351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齐天大圣　大闹天宫　不避艰险　西天取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腾云驾雾　来去无踪　千变万化　大显神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明察秋毫　火眼金睛　除恶务尽　天下太平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2:28:25Z</dcterms:created>
  <dc:creator>微软用户</dc:creator>
  <dc:description/>
  <dc:language>en-US</dc:language>
  <cp:lastModifiedBy>微软用户</cp:lastModifiedBy>
  <dcterms:modified xsi:type="dcterms:W3CDTF">2012-03-16T07:00:05Z</dcterms:modified>
  <cp:revision>2</cp:revision>
  <dc:subject/>
  <dc:title>幻灯片 1</dc:title>
</cp:coreProperties>
</file>