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camera.wav" ContentType="audio/x-wav"/>
  <Override PartName="/ppt/media/image2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2A96-0A92-43D9-9F03-DEC39AE6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E6FD-62FF-4D78-8FE7-038E4D4D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9B5-5120-4952-A44E-AEF6FC71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901-8873-4539-A1A7-A1E3F3D2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7C71-1D41-4E8A-B96D-FAB6E2B6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3C3F-383E-4166-A6E7-61F11645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70B-FF1D-43D6-B392-CE21E2D7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D75E-4687-4E69-90BC-444F9C1F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DC8-FB99-4762-9659-B73506CC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B2F8-902E-4908-9E32-1316A29E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8A7-3742-42B3-A337-F4FD462D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F62-1BCC-495B-98EA-854EBFF0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E0AE-7D10-4858-BB03-A70206C741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3553" descr="040316100119390"/>
          <p:cNvPicPr/>
          <p:nvPr/>
        </p:nvPicPr>
        <p:blipFill>
          <a:blip r:embed="rId1"/>
          <a:stretch/>
        </p:blipFill>
        <p:spPr>
          <a:xfrm>
            <a:off x="0" y="0"/>
            <a:ext cx="9213840" cy="5900760"/>
          </a:xfrm>
          <a:prstGeom prst="rect">
            <a:avLst/>
          </a:prstGeom>
          <a:ln w="0">
            <a:noFill/>
          </a:ln>
        </p:spPr>
      </p:pic>
      <p:sp>
        <p:nvSpPr>
          <p:cNvPr id="42" name="矩形 23554"/>
          <p:cNvSpPr/>
          <p:nvPr/>
        </p:nvSpPr>
        <p:spPr>
          <a:xfrm>
            <a:off x="7391520" y="2743200"/>
            <a:ext cx="1218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  <a:ea typeface="黑体"/>
              </a:rPr>
              <a:t>三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笑脸 23555"/>
          <p:cNvSpPr/>
          <p:nvPr/>
        </p:nvSpPr>
        <p:spPr>
          <a:xfrm>
            <a:off x="838080" y="3200400"/>
            <a:ext cx="533520" cy="68580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3556"/>
          <p:cNvSpPr/>
          <p:nvPr/>
        </p:nvSpPr>
        <p:spPr>
          <a:xfrm>
            <a:off x="219960" y="4287960"/>
            <a:ext cx="139932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郦道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三峡.mp3" descr=""/>
          <p:cNvPicPr/>
          <p:nvPr/>
        </p:nvPicPr>
        <p:blipFill>
          <a:blip r:embed="rId2"/>
          <a:stretch/>
        </p:blipFill>
        <p:spPr>
          <a:xfrm>
            <a:off x="3276720" y="0"/>
            <a:ext cx="647640" cy="112392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1"/>
          <p:cNvSpPr/>
          <p:nvPr/>
        </p:nvSpPr>
        <p:spPr>
          <a:xfrm>
            <a:off x="217440" y="6208560"/>
            <a:ext cx="88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禄丰县彩云中学何春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916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至 于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夏 水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襄 陵 ， 沿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溯（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ù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阻 绝 。 或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王 命 急 宣 ， 有 时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朝（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zhāo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）发 白 帝 ， 暮 到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江 陵 ， 其 间（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jiān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千 二 百 里 ， 虽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乘 奔（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ēn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）御 风 ， 不 以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疾 也 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春 冬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之 时 ， 则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素 湍（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uān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绿 潭 ， 回 清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倒 影 。 绝 谳（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yǎn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多 生 怪 柏（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ǎi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） ， 悬 泉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瀑 布 ， 飞 漱（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hù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其 间 。 清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荣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峻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茂 ， 良 多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趣 味 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每 至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晴 初 霜 旦 ， 林 寒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涧 肃 ， 常 有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高 猿 长 啸 ， 属（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zhǔ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） 引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凄 异 ， 空 谷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传 响 ， 哀 转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久 绝 。 故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渔 者 歌 曰 ：“ 巴 东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三 峡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巫 峡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长（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háng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）， 猿 鸣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三 声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泪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沾 裳。 ”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读准字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略无阙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ē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处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岩叠嶂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hà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隐天蔽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日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见曦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ī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夏水襄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iāng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陵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沿溯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阻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乘奔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ēn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御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以疾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jí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62467" descr="Dscf00791[1]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素湍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uān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绿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绝巘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ǎn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多生怪柏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ǎ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悬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uán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泉瀑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飞漱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其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清荣峻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jùn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晴初霜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uāng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林寒涧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jiàn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肃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常有高猿长啸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ià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63491" descr="Dscf0008[2]"/>
          <p:cNvPicPr/>
          <p:nvPr/>
        </p:nvPicPr>
        <p:blipFill>
          <a:blip r:embed="rId1"/>
          <a:stretch/>
        </p:blipFill>
        <p:spPr>
          <a:xfrm>
            <a:off x="0" y="0"/>
            <a:ext cx="21081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属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h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引凄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空谷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传响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哀转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huǎn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久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巴东三峡巫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ū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峡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猿鸣三声泪沾裳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há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64515" descr="0002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多音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5539"/>
          <p:cNvSpPr/>
          <p:nvPr/>
        </p:nvSpPr>
        <p:spPr>
          <a:xfrm>
            <a:off x="0" y="3141720"/>
            <a:ext cx="9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左大括号 65540"/>
          <p:cNvSpPr/>
          <p:nvPr/>
        </p:nvSpPr>
        <p:spPr>
          <a:xfrm>
            <a:off x="539640" y="981000"/>
            <a:ext cx="1224000" cy="5256360"/>
          </a:xfrm>
          <a:custGeom>
            <a:avLst/>
            <a:gdLst>
              <a:gd name="textAreaLeft" fmla="*/ 781920 w 1224000"/>
              <a:gd name="textAreaRight" fmla="*/ 1224360 w 1224000"/>
              <a:gd name="textAreaTop" fmla="*/ 136800 h 5256360"/>
              <a:gd name="textAreaBottom" fmla="*/ 5119560 h 525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5541"/>
          <p:cNvSpPr/>
          <p:nvPr/>
        </p:nvSpPr>
        <p:spPr>
          <a:xfrm>
            <a:off x="1692360" y="620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h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5542"/>
          <p:cNvSpPr/>
          <p:nvPr/>
        </p:nvSpPr>
        <p:spPr>
          <a:xfrm>
            <a:off x="1763640" y="57340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h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5543"/>
          <p:cNvSpPr/>
          <p:nvPr/>
        </p:nvSpPr>
        <p:spPr>
          <a:xfrm>
            <a:off x="2771640" y="54936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处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65544"/>
          <p:cNvSpPr/>
          <p:nvPr/>
        </p:nvSpPr>
        <p:spPr>
          <a:xfrm>
            <a:off x="2771640" y="566100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处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65545"/>
          <p:cNvSpPr/>
          <p:nvPr/>
        </p:nvSpPr>
        <p:spPr>
          <a:xfrm>
            <a:off x="3419640" y="3213000"/>
            <a:ext cx="122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左大括号 65546"/>
          <p:cNvSpPr/>
          <p:nvPr/>
        </p:nvSpPr>
        <p:spPr>
          <a:xfrm>
            <a:off x="3995640" y="907920"/>
            <a:ext cx="1081080" cy="5329440"/>
          </a:xfrm>
          <a:custGeom>
            <a:avLst/>
            <a:gdLst>
              <a:gd name="textAreaLeft" fmla="*/ 690840 w 1081080"/>
              <a:gd name="textAreaRight" fmla="*/ 1081440 w 1081080"/>
              <a:gd name="textAreaTop" fmla="*/ 138600 h 5329440"/>
              <a:gd name="textAreaBottom" fmla="*/ 5190840 h 532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5547"/>
          <p:cNvSpPr/>
          <p:nvPr/>
        </p:nvSpPr>
        <p:spPr>
          <a:xfrm>
            <a:off x="5076720" y="47628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há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65548"/>
          <p:cNvSpPr/>
          <p:nvPr/>
        </p:nvSpPr>
        <p:spPr>
          <a:xfrm>
            <a:off x="5076720" y="5734080"/>
            <a:ext cx="187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hā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65549"/>
          <p:cNvSpPr/>
          <p:nvPr/>
        </p:nvSpPr>
        <p:spPr>
          <a:xfrm>
            <a:off x="6443640" y="40464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朝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5550"/>
          <p:cNvSpPr/>
          <p:nvPr/>
        </p:nvSpPr>
        <p:spPr>
          <a:xfrm>
            <a:off x="6443640" y="573408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朝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65551" descr="Dscf0022[1]"/>
          <p:cNvPicPr/>
          <p:nvPr/>
        </p:nvPicPr>
        <p:blipFill>
          <a:blip r:embed="rId1"/>
          <a:stretch/>
        </p:blipFill>
        <p:spPr>
          <a:xfrm>
            <a:off x="1619280" y="1484280"/>
            <a:ext cx="1728720" cy="40323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65552" descr="Dscf0022[1]"/>
          <p:cNvPicPr/>
          <p:nvPr/>
        </p:nvPicPr>
        <p:blipFill>
          <a:blip r:embed="rId2"/>
          <a:stretch/>
        </p:blipFill>
        <p:spPr>
          <a:xfrm>
            <a:off x="5508720" y="1341360"/>
            <a:ext cx="237636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66563"/>
          <p:cNvSpPr/>
          <p:nvPr/>
        </p:nvSpPr>
        <p:spPr>
          <a:xfrm>
            <a:off x="0" y="2997360"/>
            <a:ext cx="9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左大括号 66564"/>
          <p:cNvSpPr/>
          <p:nvPr/>
        </p:nvSpPr>
        <p:spPr>
          <a:xfrm>
            <a:off x="539640" y="907920"/>
            <a:ext cx="1079640" cy="4969080"/>
          </a:xfrm>
          <a:custGeom>
            <a:avLst/>
            <a:gdLst>
              <a:gd name="textAreaLeft" fmla="*/ 689760 w 1079640"/>
              <a:gd name="textAreaRight" fmla="*/ 1080000 w 1079640"/>
              <a:gd name="textAreaTop" fmla="*/ 129240 h 4969080"/>
              <a:gd name="textAreaBottom" fmla="*/ 4839840 h 49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66565"/>
          <p:cNvSpPr/>
          <p:nvPr/>
        </p:nvSpPr>
        <p:spPr>
          <a:xfrm>
            <a:off x="1547640" y="4762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ē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66566"/>
          <p:cNvSpPr/>
          <p:nvPr/>
        </p:nvSpPr>
        <p:spPr>
          <a:xfrm>
            <a:off x="2556000" y="40464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乘奔御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66567"/>
          <p:cNvSpPr/>
          <p:nvPr/>
        </p:nvSpPr>
        <p:spPr>
          <a:xfrm>
            <a:off x="1619280" y="5300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è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66568"/>
          <p:cNvSpPr/>
          <p:nvPr/>
        </p:nvSpPr>
        <p:spPr>
          <a:xfrm>
            <a:off x="2700360" y="530064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奔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66569"/>
          <p:cNvSpPr/>
          <p:nvPr/>
        </p:nvSpPr>
        <p:spPr>
          <a:xfrm>
            <a:off x="3851280" y="306864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左大括号 66570"/>
          <p:cNvSpPr/>
          <p:nvPr/>
        </p:nvSpPr>
        <p:spPr>
          <a:xfrm>
            <a:off x="4572000" y="549360"/>
            <a:ext cx="1008000" cy="5832360"/>
          </a:xfrm>
          <a:custGeom>
            <a:avLst/>
            <a:gdLst>
              <a:gd name="textAreaLeft" fmla="*/ 644040 w 1008000"/>
              <a:gd name="textAreaRight" fmla="*/ 1008360 w 1008000"/>
              <a:gd name="textAreaTop" fmla="*/ 151920 h 5832360"/>
              <a:gd name="textAreaBottom" fmla="*/ 5680440 h 58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66572"/>
          <p:cNvSpPr/>
          <p:nvPr/>
        </p:nvSpPr>
        <p:spPr>
          <a:xfrm>
            <a:off x="5508720" y="189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h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66573"/>
          <p:cNvSpPr/>
          <p:nvPr/>
        </p:nvSpPr>
        <p:spPr>
          <a:xfrm>
            <a:off x="6516720" y="189000"/>
            <a:ext cx="26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属引凄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66574"/>
          <p:cNvSpPr/>
          <p:nvPr/>
        </p:nvSpPr>
        <p:spPr>
          <a:xfrm>
            <a:off x="5435640" y="58053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66575"/>
          <p:cNvSpPr/>
          <p:nvPr/>
        </p:nvSpPr>
        <p:spPr>
          <a:xfrm>
            <a:off x="6516720" y="57340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属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66576" descr="Dscf0068[1]"/>
          <p:cNvPicPr/>
          <p:nvPr/>
        </p:nvPicPr>
        <p:blipFill>
          <a:blip r:embed="rId1"/>
          <a:stretch/>
        </p:blipFill>
        <p:spPr>
          <a:xfrm>
            <a:off x="1332000" y="1484280"/>
            <a:ext cx="2325600" cy="36734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66577" descr="Dscf0068[1]"/>
          <p:cNvPicPr/>
          <p:nvPr/>
        </p:nvPicPr>
        <p:blipFill>
          <a:blip r:embed="rId2"/>
          <a:stretch/>
        </p:blipFill>
        <p:spPr>
          <a:xfrm>
            <a:off x="5508720" y="1052640"/>
            <a:ext cx="2879640" cy="4681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第一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重点字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 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，从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略无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毫无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阙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通“缺”，中断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④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嶂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像屏障一样的山峰。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⑤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亭午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正午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夜分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半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⑧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曦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太阳。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月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亮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68611" descr="Dscf0022[1]"/>
          <p:cNvPicPr/>
          <p:nvPr/>
        </p:nvPicPr>
        <p:blipFill>
          <a:blip r:embed="rId1"/>
          <a:stretch/>
        </p:blipFill>
        <p:spPr>
          <a:xfrm>
            <a:off x="0" y="1197000"/>
            <a:ext cx="2987640" cy="5661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第一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三峡的七百里中，两岸山连着山，几乎没有半点空隙。层层叠叠的山岩峰峦，遮蔽了天空，挡住了日光。假如不是正午和半夜，就看不到太阳和月亮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69635" descr="Dscf0108[1]"/>
          <p:cNvPicPr/>
          <p:nvPr/>
        </p:nvPicPr>
        <p:blipFill>
          <a:blip r:embed="rId1"/>
          <a:stretch/>
        </p:blipFill>
        <p:spPr>
          <a:xfrm>
            <a:off x="2050920" y="4005360"/>
            <a:ext cx="6193080" cy="2852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长江三峡简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长江三峡，西起四川省奉节县白帝城，东至湖北省宜昌县南津关，全长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93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公里。是瞿塘峡、巫峡、西陵峡的合称。长江在四川盆地东面，横切巫山山脉，在万山丛中汹涌奔腾而下，形成了闻名中外的长江三峡大峡谷。三峡群峰夹峙，悬崖千丈，风光雄伟壮丽，风景如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问题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写山连绵不断（长）的句子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自三峡七百里中，两岸连山，略无阙处。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写群山高峻的句子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重岩叠嶂，隐天蔽日，（正面描写）自非亭午夜分不见曦月。（侧面描写）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   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132000" y="0"/>
            <a:ext cx="601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三峡有多少里？两岸怎样？何时能见日月？第一段主要写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七百里。两岸连山，略无阙处；亭午夜分能见曦月。第一 段主要写三峡的山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重岩叠嶂，隐天蔽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71683" descr="Dscf0004"/>
          <p:cNvPicPr/>
          <p:nvPr/>
        </p:nvPicPr>
        <p:blipFill>
          <a:blip r:embed="rId1"/>
          <a:stretch/>
        </p:blipFill>
        <p:spPr>
          <a:xfrm>
            <a:off x="0" y="0"/>
            <a:ext cx="3203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74753" descr="u=3289180689,824232651&amp;gp=1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74754"/>
          <p:cNvSpPr/>
          <p:nvPr/>
        </p:nvSpPr>
        <p:spPr>
          <a:xfrm>
            <a:off x="304920" y="533520"/>
            <a:ext cx="4572000" cy="825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自三峡</a:t>
            </a:r>
            <a:r>
              <a:rPr b="1" lang="zh-CN" sz="4800" spc="-1" strike="noStrike">
                <a:solidFill>
                  <a:srgbClr val="000000"/>
                </a:solidFill>
                <a:latin typeface="长城新魏碑体"/>
                <a:ea typeface="长城新魏碑体"/>
              </a:rPr>
              <a:t>七百里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74755"/>
          <p:cNvSpPr/>
          <p:nvPr/>
        </p:nvSpPr>
        <p:spPr>
          <a:xfrm>
            <a:off x="304920" y="1447920"/>
            <a:ext cx="5867280" cy="825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两岸</a:t>
            </a:r>
            <a:r>
              <a:rPr b="1" lang="zh-CN" sz="4800" spc="-1" strike="noStrike">
                <a:solidFill>
                  <a:srgbClr val="000000"/>
                </a:solidFill>
                <a:latin typeface="长城新魏碑体"/>
                <a:ea typeface="长城新魏碑体"/>
              </a:rPr>
              <a:t>连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山，</a:t>
            </a:r>
            <a:r>
              <a:rPr b="1" lang="zh-CN" sz="4800" spc="-1" strike="noStrike">
                <a:solidFill>
                  <a:srgbClr val="000000"/>
                </a:solidFill>
                <a:latin typeface="长城新魏碑体"/>
                <a:ea typeface="长城新魏碑体"/>
              </a:rPr>
              <a:t>略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无</a:t>
            </a:r>
            <a:r>
              <a:rPr b="1" lang="zh-CN" sz="4800" spc="-1" strike="noStrike">
                <a:solidFill>
                  <a:srgbClr val="000000"/>
                </a:solidFill>
                <a:latin typeface="长城新魏碑体"/>
                <a:ea typeface="长城新魏碑体"/>
              </a:rPr>
              <a:t>阙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74756"/>
          <p:cNvSpPr/>
          <p:nvPr/>
        </p:nvSpPr>
        <p:spPr>
          <a:xfrm>
            <a:off x="304920" y="2438280"/>
            <a:ext cx="5790960" cy="825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长城新魏碑体"/>
                <a:ea typeface="长城新魏碑体"/>
              </a:rPr>
              <a:t>重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岩</a:t>
            </a:r>
            <a:r>
              <a:rPr b="1" lang="zh-CN" sz="4800" spc="-1" strike="noStrike">
                <a:solidFill>
                  <a:srgbClr val="000000"/>
                </a:solidFill>
                <a:latin typeface="长城新魏碑体"/>
                <a:ea typeface="长城新魏碑体"/>
              </a:rPr>
              <a:t>叠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嶂，</a:t>
            </a:r>
            <a:r>
              <a:rPr b="1" lang="zh-CN" sz="4800" spc="-1" strike="noStrike">
                <a:solidFill>
                  <a:srgbClr val="000000"/>
                </a:solidFill>
                <a:latin typeface="长城新魏碑体"/>
                <a:ea typeface="长城新魏碑体"/>
              </a:rPr>
              <a:t>隐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天</a:t>
            </a:r>
            <a:r>
              <a:rPr b="1" lang="zh-CN" sz="4800" spc="-1" strike="noStrike">
                <a:solidFill>
                  <a:srgbClr val="000000"/>
                </a:solidFill>
                <a:latin typeface="长城新魏碑体"/>
                <a:ea typeface="长城新魏碑体"/>
              </a:rPr>
              <a:t>蔽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74757"/>
          <p:cNvSpPr/>
          <p:nvPr/>
        </p:nvSpPr>
        <p:spPr>
          <a:xfrm>
            <a:off x="304920" y="3429000"/>
            <a:ext cx="6933960" cy="825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长城新魏碑体"/>
                <a:ea typeface="长城新魏碑体"/>
              </a:rPr>
              <a:t>自非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亭午夜分，不见曦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74758"/>
          <p:cNvSpPr/>
          <p:nvPr/>
        </p:nvSpPr>
        <p:spPr>
          <a:xfrm>
            <a:off x="6781680" y="5335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长</a:t>
            </a:r>
            <a:r>
              <a:rPr b="0" lang="zh-CN" sz="54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74759"/>
          <p:cNvSpPr/>
          <p:nvPr/>
        </p:nvSpPr>
        <p:spPr>
          <a:xfrm>
            <a:off x="6781680" y="14479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多</a:t>
            </a:r>
            <a:r>
              <a:rPr b="0" lang="zh-CN" sz="54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74760"/>
          <p:cNvSpPr/>
          <p:nvPr/>
        </p:nvSpPr>
        <p:spPr>
          <a:xfrm>
            <a:off x="5943600" y="2514600"/>
            <a:ext cx="366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陡、高峻</a:t>
            </a: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74761"/>
          <p:cNvSpPr/>
          <p:nvPr/>
        </p:nvSpPr>
        <p:spPr>
          <a:xfrm>
            <a:off x="228600" y="4572000"/>
            <a:ext cx="427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高峻、狭窄</a:t>
            </a: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74762"/>
          <p:cNvSpPr/>
          <p:nvPr/>
        </p:nvSpPr>
        <p:spPr>
          <a:xfrm>
            <a:off x="434340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铺垫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74763"/>
          <p:cNvSpPr/>
          <p:nvPr/>
        </p:nvSpPr>
        <p:spPr>
          <a:xfrm>
            <a:off x="4343400" y="441972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宋体"/>
              </a:rPr>
              <a:t>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74764"/>
          <p:cNvSpPr/>
          <p:nvPr/>
        </p:nvSpPr>
        <p:spPr>
          <a:xfrm>
            <a:off x="5715000" y="45720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夏水的迅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第二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重点字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襄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沿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顺流而下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溯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逆流而上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④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或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时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⑤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虽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即使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奔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飞奔的马（名词）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御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驾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⑧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疾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72707" descr="qutangxia"/>
          <p:cNvPicPr/>
          <p:nvPr/>
        </p:nvPicPr>
        <p:blipFill>
          <a:blip r:embed="rId1"/>
          <a:stretch/>
        </p:blipFill>
        <p:spPr>
          <a:xfrm>
            <a:off x="0" y="1484280"/>
            <a:ext cx="2771640" cy="5373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翻译第二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到了夏季，大水漫上两岸的丘陵，上行、下行的水路都断绝了。有时皇帝有诏命必须火速传达，早晨从白帝城动身，傍晚就到了江陵，这中间有一千二百里的路程，即使骑上奔驰的骏马，驾着长风飞翔，也没有如此迅速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73731" descr="qutangxia"/>
          <p:cNvPicPr/>
          <p:nvPr/>
        </p:nvPicPr>
        <p:blipFill>
          <a:blip r:embed="rId1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问题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写水势凶险的句子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夏水襄陵，沿溯阻绝。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写水流湍急的句子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有时朝发白帝，暮到江陵。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75779" descr="kuimen1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三峡夏天的水怎样？船只怎样？第二段主要写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凶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夏水襄陵，沿溯阻绝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迅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有时朝发白帝，暮到江陵，其间千二百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虽乘奔御风，不以疾也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第二段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主要写三峡夏季的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63640" y="0"/>
            <a:ext cx="266364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习第三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点字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素：白色。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湍：急流（名词） 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：回旋 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清：清波（名词） 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绝巘：极高的山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绝：极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飞漱急流冲荡。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清、荣、峻、茂：水清，树荣，山高，草盛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良：真，实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78851" descr="Dscf0072[1]"/>
          <p:cNvPicPr/>
          <p:nvPr/>
        </p:nvPicPr>
        <p:blipFill>
          <a:blip r:embed="rId1"/>
          <a:stretch/>
        </p:blipFill>
        <p:spPr>
          <a:xfrm>
            <a:off x="179280" y="1268280"/>
            <a:ext cx="2448000" cy="4105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第三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春冬季节，白色的急流，回旋着清波；碧绿的深潭，倒映着两岸山色。极为陡峭的山峰上，生长着许多姿态奇特的柏树，大小瀑布，在那里飞射冲刷，江水清澈，树木繁盛，群山峻峭，绿草丰茂，确实很有趣味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问题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写春冬三峡水的特点（江水澄澈，风光妩媚）的句子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素湍绿潭，回清倒影。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运用哪些语句来描写三峡春冬的景色的？观察角度有何不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79875" descr="Dscf0072[1]"/>
          <p:cNvPicPr/>
          <p:nvPr/>
        </p:nvPicPr>
        <p:blipFill>
          <a:blip r:embed="rId1"/>
          <a:stretch/>
        </p:blipFill>
        <p:spPr>
          <a:xfrm>
            <a:off x="2843280" y="4508640"/>
            <a:ext cx="630072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26625" descr="瞿塘峡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瞿塘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6627"/>
          <p:cNvSpPr/>
          <p:nvPr/>
        </p:nvSpPr>
        <p:spPr>
          <a:xfrm>
            <a:off x="3124080" y="3124080"/>
            <a:ext cx="2057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00"/>
                </a:solidFill>
                <a:latin typeface="Times New Roman"/>
              </a:rPr>
              <a:t>雄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44033" descr="u=2676681456,1796827848&amp;gp=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44034"/>
          <p:cNvSpPr/>
          <p:nvPr/>
        </p:nvSpPr>
        <p:spPr>
          <a:xfrm>
            <a:off x="0" y="476280"/>
            <a:ext cx="60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050"/>
                </a:solidFill>
                <a:latin typeface="宋体"/>
              </a:rPr>
              <a:t>素湍绿潭，回清倒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4035"/>
          <p:cNvSpPr/>
          <p:nvPr/>
        </p:nvSpPr>
        <p:spPr>
          <a:xfrm>
            <a:off x="6781680" y="692280"/>
            <a:ext cx="17528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华文行楷"/>
                <a:ea typeface="华文行楷"/>
              </a:rPr>
              <a:t>俯 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44036"/>
          <p:cNvSpPr/>
          <p:nvPr/>
        </p:nvSpPr>
        <p:spPr>
          <a:xfrm>
            <a:off x="0" y="2276640"/>
            <a:ext cx="65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宋体"/>
              </a:rPr>
              <a:t>绝巘多生怪柏，悬泉瀑布，飞漱其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44037"/>
          <p:cNvSpPr/>
          <p:nvPr/>
        </p:nvSpPr>
        <p:spPr>
          <a:xfrm>
            <a:off x="6781680" y="2708280"/>
            <a:ext cx="211140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华文行楷"/>
                <a:ea typeface="华文行楷"/>
              </a:rPr>
              <a:t>仰 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44038"/>
          <p:cNvSpPr/>
          <p:nvPr/>
        </p:nvSpPr>
        <p:spPr>
          <a:xfrm>
            <a:off x="0" y="4292640"/>
            <a:ext cx="65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宋体"/>
              </a:rPr>
              <a:t>白浪、绿潭、青山、花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44039"/>
          <p:cNvSpPr/>
          <p:nvPr/>
        </p:nvSpPr>
        <p:spPr>
          <a:xfrm>
            <a:off x="6781680" y="4365720"/>
            <a:ext cx="205740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宋体"/>
              </a:rPr>
              <a:t>色彩艳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44040"/>
          <p:cNvSpPr/>
          <p:nvPr/>
        </p:nvSpPr>
        <p:spPr>
          <a:xfrm>
            <a:off x="0" y="5516640"/>
            <a:ext cx="74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050"/>
                </a:solidFill>
                <a:latin typeface="宋体"/>
              </a:rPr>
              <a:t>“</a:t>
            </a:r>
            <a:r>
              <a:rPr b="1" lang="zh-CN" sz="4800" spc="-1" strike="noStrike">
                <a:solidFill>
                  <a:srgbClr val="ff5050"/>
                </a:solidFill>
                <a:latin typeface="宋体"/>
              </a:rPr>
              <a:t>清” “荣” “峻” “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44041"/>
          <p:cNvSpPr/>
          <p:nvPr/>
        </p:nvSpPr>
        <p:spPr>
          <a:xfrm>
            <a:off x="6781680" y="5715000"/>
            <a:ext cx="205740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宋体"/>
              </a:rPr>
              <a:t>一字一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对象 55297" descr=""/>
          <p:cNvPicPr/>
          <p:nvPr/>
        </p:nvPicPr>
        <p:blipFill>
          <a:blip r:embed="rId1"/>
          <a:stretch/>
        </p:blipFill>
        <p:spPr>
          <a:xfrm>
            <a:off x="0" y="0"/>
            <a:ext cx="341964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文本框 55298"/>
          <p:cNvSpPr/>
          <p:nvPr/>
        </p:nvSpPr>
        <p:spPr>
          <a:xfrm>
            <a:off x="468360" y="306864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悬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55299"/>
          <p:cNvSpPr/>
          <p:nvPr/>
        </p:nvSpPr>
        <p:spPr>
          <a:xfrm>
            <a:off x="539640" y="1773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瀑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55300"/>
          <p:cNvSpPr/>
          <p:nvPr/>
        </p:nvSpPr>
        <p:spPr>
          <a:xfrm>
            <a:off x="1116000" y="5734080"/>
            <a:ext cx="6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绿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55301"/>
          <p:cNvSpPr/>
          <p:nvPr/>
        </p:nvSpPr>
        <p:spPr>
          <a:xfrm>
            <a:off x="1042920" y="4437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素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55302"/>
          <p:cNvSpPr/>
          <p:nvPr/>
        </p:nvSpPr>
        <p:spPr>
          <a:xfrm>
            <a:off x="3492360" y="2708280"/>
            <a:ext cx="5651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素湍碧潭 、回清倒影、多生怪柏、悬泉瀑布 、   飞漱其间。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第三 段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主要  写三峡春冬之时的美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55303"/>
          <p:cNvSpPr/>
          <p:nvPr/>
        </p:nvSpPr>
        <p:spPr>
          <a:xfrm>
            <a:off x="4643280" y="3645000"/>
            <a:ext cx="45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55304"/>
          <p:cNvSpPr/>
          <p:nvPr/>
        </p:nvSpPr>
        <p:spPr>
          <a:xfrm>
            <a:off x="468360" y="8366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怪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5305"/>
          <p:cNvSpPr/>
          <p:nvPr/>
        </p:nvSpPr>
        <p:spPr>
          <a:xfrm>
            <a:off x="2195640" y="981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怪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55306"/>
          <p:cNvSpPr/>
          <p:nvPr/>
        </p:nvSpPr>
        <p:spPr>
          <a:xfrm>
            <a:off x="3564000" y="115920"/>
            <a:ext cx="5580000" cy="17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三峡春冬之时有哪些美景？第三段主要写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第四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点字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      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至：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晴初：天刚晴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霜旦：下霜的早晨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④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寒：清凉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⑤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肃：寂静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属：连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83971" descr="sx_slx2[1]"/>
          <p:cNvPicPr/>
          <p:nvPr/>
        </p:nvPicPr>
        <p:blipFill>
          <a:blip r:embed="rId1"/>
          <a:stretch/>
        </p:blipFill>
        <p:spPr>
          <a:xfrm>
            <a:off x="0" y="1484280"/>
            <a:ext cx="1908000" cy="537372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83972" descr="sx_slx2[1]"/>
          <p:cNvPicPr/>
          <p:nvPr/>
        </p:nvPicPr>
        <p:blipFill>
          <a:blip r:embed="rId2"/>
          <a:stretch/>
        </p:blipFill>
        <p:spPr>
          <a:xfrm>
            <a:off x="5651640" y="3860640"/>
            <a:ext cx="3492360" cy="2997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      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引：延长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⑧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绝：消失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声：几声。三，这里不是确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⑩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以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认为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⑾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疾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快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⑿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响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回声（名词）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84995" descr="0002"/>
          <p:cNvPicPr/>
          <p:nvPr/>
        </p:nvPicPr>
        <p:blipFill>
          <a:blip r:embed="rId1"/>
          <a:stretch/>
        </p:blipFill>
        <p:spPr>
          <a:xfrm>
            <a:off x="0" y="3068640"/>
            <a:ext cx="1692360" cy="3789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第四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每逢雨后初晴或霜天清晨，树林山涧冷落而萧索，常有猿猴在高处长声鸣叫，声音连续不断，异常凄厉。回响在空旷的山谷中，很长时间才消失。所以打鱼的人唱道：“巴东三峡巫峡长，猿鸣三声泪沾裳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86019" descr="Dscf0008[2]"/>
          <p:cNvPicPr/>
          <p:nvPr/>
        </p:nvPicPr>
        <p:blipFill>
          <a:blip r:embed="rId1"/>
          <a:stretch/>
        </p:blipFill>
        <p:spPr>
          <a:xfrm>
            <a:off x="2124000" y="4869000"/>
            <a:ext cx="702000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问题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渲染猿鸣幽凄，山谷空旷的语句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空谷传响，哀转久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引用渔歌反衬三峡深秋清幽寂静的句子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巴东三峡巫峡长，猿鸣三声泪沾裳。”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引用渔歌有何作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进一步突出三峡特点，渲染三峡秋季萧瑟、凄凉气氛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表现秋季凄清萧瑟的句子是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林寒涧肃，高猿长啸，属引凄异，空谷传响，哀转久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88067" descr="Dscf0008[2]"/>
          <p:cNvPicPr/>
          <p:nvPr/>
        </p:nvPicPr>
        <p:blipFill>
          <a:blip r:embed="rId1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第四段写了哪个季节的景物？主要写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秋季。第四段主要写三峡秋季高猿长啸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图片 89091" descr="WX20"/>
          <p:cNvPicPr/>
          <p:nvPr/>
        </p:nvPicPr>
        <p:blipFill>
          <a:blip r:embed="rId1"/>
          <a:stretch/>
        </p:blipFill>
        <p:spPr>
          <a:xfrm>
            <a:off x="0" y="306864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93" name="矩形 89092"/>
          <p:cNvSpPr/>
          <p:nvPr/>
        </p:nvSpPr>
        <p:spPr>
          <a:xfrm>
            <a:off x="1258920" y="57340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林寒涧肃、高猿长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主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作者是通过描写三峡的哪些景观，来表现三峡的壮丽风光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文中描写了三峡的山、夏水、春冬景色、秋天景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3075" descr="Dscf0108[1]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作者描绘三峡秋天的景象时选取了怎样的时间和事物？请用两个词语概括其特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晴初霜旦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林、涧、猿啸、回声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悲寂、凄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图片 92163" descr="sx_slx2[1]"/>
          <p:cNvPicPr/>
          <p:nvPr/>
        </p:nvPicPr>
        <p:blipFill>
          <a:blip r:embed="rId1"/>
          <a:stretch/>
        </p:blipFill>
        <p:spPr>
          <a:xfrm>
            <a:off x="5832360" y="4149720"/>
            <a:ext cx="331164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29697" descr="巫峡1"/>
          <p:cNvPicPr/>
          <p:nvPr/>
        </p:nvPicPr>
        <p:blipFill>
          <a:blip r:embed="rId1"/>
          <a:stretch/>
        </p:blipFill>
        <p:spPr>
          <a:xfrm>
            <a:off x="-324000" y="-458640"/>
            <a:ext cx="9144000" cy="8126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巫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9699"/>
          <p:cNvSpPr/>
          <p:nvPr/>
        </p:nvSpPr>
        <p:spPr>
          <a:xfrm>
            <a:off x="68580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课文写三峡四时风光，为什么从“山”写起？写水为什么不按春夏秋冬的顺序来写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因为“峡”的意思就是两山夹水的地方，有山才有“峡”，所以从山写起。三峡的水又是最有特色的，所以接着写水。写水先写夏水，后写春冬之水，因为夏水最盛，最为凶险、迅疾，最具特点。最后描写三峡之秋的悲凉气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1267"/>
          <p:cNvSpPr/>
          <p:nvPr/>
        </p:nvSpPr>
        <p:spPr>
          <a:xfrm>
            <a:off x="0" y="11336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作者是从哪些方面描写三峡自然景观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文章先写山，后写水。写山，突出连绵不断、遮天蔽日的特点；写水，则描绘不同季节的不同景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11268" descr="0002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321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找出文中写景的句子，体会它们的语言特点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春冬之景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春冬之时，则素湍绿潭，回清倒影，绝多生怪柏，悬泉瀑布，飞漱其间，清荣峻茂，良多趣味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秋景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每至睛初霜旦，林寒涧肃，常有高猿长啸，属引凄异，空谷传响，哀转久绝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93187" descr="Dscf0108[1]"/>
          <p:cNvPicPr/>
          <p:nvPr/>
        </p:nvPicPr>
        <p:blipFill>
          <a:blip r:embed="rId1"/>
          <a:stretch/>
        </p:blipFill>
        <p:spPr>
          <a:xfrm>
            <a:off x="5651640" y="5229360"/>
            <a:ext cx="349236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作者写景，采用的是大笔点染的手法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春冬之景，着“素”“绿”“清”“影”数字，写秋季的景色，着“寒”“素”“凄”“哀”数字，便将景物的神韵生动地表现了出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94211" descr="Dscf0072[1]"/>
          <p:cNvPicPr/>
          <p:nvPr/>
        </p:nvPicPr>
        <p:blipFill>
          <a:blip r:embed="rId1"/>
          <a:stretch/>
        </p:blipFill>
        <p:spPr>
          <a:xfrm>
            <a:off x="0" y="3500280"/>
            <a:ext cx="4427640" cy="335772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94212" descr="sx_slx2[1]"/>
          <p:cNvPicPr/>
          <p:nvPr/>
        </p:nvPicPr>
        <p:blipFill>
          <a:blip r:embed="rId2"/>
          <a:stretch/>
        </p:blipFill>
        <p:spPr>
          <a:xfrm>
            <a:off x="4572000" y="3500280"/>
            <a:ext cx="457200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解释下列词语，并给加点字注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岩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层层的悬崖，排排的峭壁。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hàng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像屏障一样的高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夏水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陵：夏天大水涨上了高陵之上。襄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iān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漫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御风：骑上奔驰的骏马，驾着长风飞翔。奔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ēn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里指飞奔的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素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湍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绿潭：白色的急流，回旋着清波，碧绿的深潭。湍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uān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急流的水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绝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巘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：极高的山峰。巘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ǎn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凹陷的山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飞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：飞流冲荡。漱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hù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喷射。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105475" descr="561_1"/>
          <p:cNvPicPr/>
          <p:nvPr/>
        </p:nvPicPr>
        <p:blipFill>
          <a:blip r:embed="rId1"/>
          <a:stretch/>
        </p:blipFill>
        <p:spPr>
          <a:xfrm>
            <a:off x="3635280" y="5013360"/>
            <a:ext cx="550872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清荣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峻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茂：水清，树荣，高山高，草盛。峻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jùn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高而陡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略无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阙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处：几乎没有半点空隙。阙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quē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没有中断的地方，通“缺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106499" descr="Dscf0008[2]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阅读下面这首诗，你能说出它和本文之间的某些联系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早发白帝城           李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朝辞白帝彩云间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千里江陵一日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两岸猿声啼不住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轻舟已过万重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97283" descr="qutangxia"/>
          <p:cNvPicPr/>
          <p:nvPr/>
        </p:nvPicPr>
        <p:blipFill>
          <a:blip r:embed="rId1"/>
          <a:stretch/>
        </p:blipFill>
        <p:spPr>
          <a:xfrm>
            <a:off x="6119640" y="3068640"/>
            <a:ext cx="3024360" cy="3789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早发白帝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都描写了三峡风光，前者是诗，后者是游记散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文章的第二层与这首诗的一、二、四句相印证，都表现了夏天三峡水流速度极快；文章第四层与诗的第三句相对应，都是写连续不断的猿啼；文章第一层则和诗中的“万重山”相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22531" descr="qutangxia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巩固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通假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略无阙处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“阙”通“缺”，空缺。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哀转久绝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“转”通“啭”，婉转发声。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图片 107524" descr="Dscf0008[2]"/>
          <p:cNvPicPr/>
          <p:nvPr/>
        </p:nvPicPr>
        <p:blipFill>
          <a:blip r:embed="rId1"/>
          <a:stretch/>
        </p:blipFill>
        <p:spPr>
          <a:xfrm>
            <a:off x="0" y="4869000"/>
            <a:ext cx="914400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31745" descr="西陵峡2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西陵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1747"/>
          <p:cNvSpPr/>
          <p:nvPr/>
        </p:nvSpPr>
        <p:spPr>
          <a:xfrm>
            <a:off x="53352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古今异义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10595"/>
          <p:cNvSpPr/>
          <p:nvPr/>
        </p:nvSpPr>
        <p:spPr>
          <a:xfrm>
            <a:off x="0" y="299736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左大括号 110596"/>
          <p:cNvSpPr/>
          <p:nvPr/>
        </p:nvSpPr>
        <p:spPr>
          <a:xfrm>
            <a:off x="468360" y="981000"/>
            <a:ext cx="936720" cy="4824360"/>
          </a:xfrm>
          <a:custGeom>
            <a:avLst/>
            <a:gdLst>
              <a:gd name="textAreaLeft" fmla="*/ 598680 w 936720"/>
              <a:gd name="textAreaRight" fmla="*/ 937080 w 936720"/>
              <a:gd name="textAreaTop" fmla="*/ 125640 h 4824360"/>
              <a:gd name="textAreaBottom" fmla="*/ 4698720 h 48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10597"/>
          <p:cNvSpPr/>
          <p:nvPr/>
        </p:nvSpPr>
        <p:spPr>
          <a:xfrm>
            <a:off x="1692360" y="90792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古义：有时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10598"/>
          <p:cNvSpPr/>
          <p:nvPr/>
        </p:nvSpPr>
        <p:spPr>
          <a:xfrm>
            <a:off x="1258920" y="5157720"/>
            <a:ext cx="78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今义：常用于选择复句的关联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片 110599" descr="snx7_1"/>
          <p:cNvPicPr/>
          <p:nvPr/>
        </p:nvPicPr>
        <p:blipFill>
          <a:blip r:embed="rId1"/>
          <a:stretch/>
        </p:blipFill>
        <p:spPr>
          <a:xfrm>
            <a:off x="1332000" y="1844640"/>
            <a:ext cx="7343640" cy="2995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11619"/>
          <p:cNvSpPr/>
          <p:nvPr/>
        </p:nvSpPr>
        <p:spPr>
          <a:xfrm>
            <a:off x="0" y="3068640"/>
            <a:ext cx="12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11620"/>
          <p:cNvSpPr/>
          <p:nvPr/>
        </p:nvSpPr>
        <p:spPr>
          <a:xfrm>
            <a:off x="108000" y="3068640"/>
            <a:ext cx="158436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左大括号 111621"/>
          <p:cNvSpPr/>
          <p:nvPr/>
        </p:nvSpPr>
        <p:spPr>
          <a:xfrm>
            <a:off x="684360" y="1052640"/>
            <a:ext cx="1368360" cy="4967280"/>
          </a:xfrm>
          <a:custGeom>
            <a:avLst/>
            <a:gdLst>
              <a:gd name="textAreaLeft" fmla="*/ 874440 w 1368360"/>
              <a:gd name="textAreaRight" fmla="*/ 1368720 w 1368360"/>
              <a:gd name="textAreaTop" fmla="*/ 129240 h 4967280"/>
              <a:gd name="textAreaBottom" fmla="*/ 4838040 h 496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11623"/>
          <p:cNvSpPr/>
          <p:nvPr/>
        </p:nvSpPr>
        <p:spPr>
          <a:xfrm>
            <a:off x="2050920" y="549360"/>
            <a:ext cx="70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古义：一个动词“到”和一个介词“于”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11624"/>
          <p:cNvSpPr/>
          <p:nvPr/>
        </p:nvSpPr>
        <p:spPr>
          <a:xfrm>
            <a:off x="2050920" y="573408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11625"/>
          <p:cNvSpPr/>
          <p:nvPr/>
        </p:nvSpPr>
        <p:spPr>
          <a:xfrm>
            <a:off x="2050920" y="5157720"/>
            <a:ext cx="70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今义：常连在一起，表示另提一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图片 111626" descr="sx2_1"/>
          <p:cNvPicPr/>
          <p:nvPr/>
        </p:nvPicPr>
        <p:blipFill>
          <a:blip r:embed="rId1"/>
          <a:stretch/>
        </p:blipFill>
        <p:spPr>
          <a:xfrm>
            <a:off x="1763640" y="2133720"/>
            <a:ext cx="684072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12643"/>
          <p:cNvSpPr/>
          <p:nvPr/>
        </p:nvSpPr>
        <p:spPr>
          <a:xfrm>
            <a:off x="0" y="3284640"/>
            <a:ext cx="125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12644"/>
          <p:cNvSpPr/>
          <p:nvPr/>
        </p:nvSpPr>
        <p:spPr>
          <a:xfrm>
            <a:off x="108000" y="278136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左大括号 112645"/>
          <p:cNvSpPr/>
          <p:nvPr/>
        </p:nvSpPr>
        <p:spPr>
          <a:xfrm>
            <a:off x="611280" y="907920"/>
            <a:ext cx="1368360" cy="4608720"/>
          </a:xfrm>
          <a:custGeom>
            <a:avLst/>
            <a:gdLst>
              <a:gd name="textAreaLeft" fmla="*/ 874440 w 1368360"/>
              <a:gd name="textAreaRight" fmla="*/ 1368720 w 136836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12646"/>
          <p:cNvSpPr/>
          <p:nvPr/>
        </p:nvSpPr>
        <p:spPr>
          <a:xfrm>
            <a:off x="2050920" y="62064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12647"/>
          <p:cNvSpPr/>
          <p:nvPr/>
        </p:nvSpPr>
        <p:spPr>
          <a:xfrm>
            <a:off x="2195640" y="549360"/>
            <a:ext cx="51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古义：即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112648"/>
          <p:cNvSpPr/>
          <p:nvPr/>
        </p:nvSpPr>
        <p:spPr>
          <a:xfrm>
            <a:off x="2050920" y="5229360"/>
            <a:ext cx="410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12649"/>
          <p:cNvSpPr/>
          <p:nvPr/>
        </p:nvSpPr>
        <p:spPr>
          <a:xfrm>
            <a:off x="2050920" y="4941720"/>
            <a:ext cx="51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今义：虽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112650" descr="sx2_1"/>
          <p:cNvPicPr/>
          <p:nvPr/>
        </p:nvPicPr>
        <p:blipFill>
          <a:blip r:embed="rId1"/>
          <a:stretch/>
        </p:blipFill>
        <p:spPr>
          <a:xfrm>
            <a:off x="1763640" y="1557360"/>
            <a:ext cx="7129440" cy="3384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一词多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13667"/>
          <p:cNvSpPr/>
          <p:nvPr/>
        </p:nvSpPr>
        <p:spPr>
          <a:xfrm>
            <a:off x="0" y="3357720"/>
            <a:ext cx="12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左大括号 113668"/>
          <p:cNvSpPr/>
          <p:nvPr/>
        </p:nvSpPr>
        <p:spPr>
          <a:xfrm>
            <a:off x="611280" y="1341360"/>
            <a:ext cx="1871640" cy="4896000"/>
          </a:xfrm>
          <a:custGeom>
            <a:avLst/>
            <a:gdLst>
              <a:gd name="textAreaLeft" fmla="*/ 1195920 w 1871640"/>
              <a:gd name="textAreaRight" fmla="*/ 1872000 w 1871640"/>
              <a:gd name="textAreaTop" fmla="*/ 127440 h 4896000"/>
              <a:gd name="textAreaBottom" fmla="*/ 476856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13669"/>
          <p:cNvSpPr/>
          <p:nvPr/>
        </p:nvSpPr>
        <p:spPr>
          <a:xfrm>
            <a:off x="2411280" y="98100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峡七百里中。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13670"/>
          <p:cNvSpPr/>
          <p:nvPr/>
        </p:nvSpPr>
        <p:spPr>
          <a:xfrm>
            <a:off x="2484360" y="5516640"/>
            <a:ext cx="640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非亭午夜分。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如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113671" descr="kuimen1"/>
          <p:cNvPicPr/>
          <p:nvPr/>
        </p:nvPicPr>
        <p:blipFill>
          <a:blip r:embed="rId1"/>
          <a:stretch/>
        </p:blipFill>
        <p:spPr>
          <a:xfrm>
            <a:off x="1908000" y="1989000"/>
            <a:ext cx="5904000" cy="3384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14691"/>
          <p:cNvSpPr/>
          <p:nvPr/>
        </p:nvSpPr>
        <p:spPr>
          <a:xfrm>
            <a:off x="0" y="3213000"/>
            <a:ext cx="12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114692"/>
          <p:cNvSpPr/>
          <p:nvPr/>
        </p:nvSpPr>
        <p:spPr>
          <a:xfrm>
            <a:off x="395280" y="292428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14694"/>
          <p:cNvSpPr/>
          <p:nvPr/>
        </p:nvSpPr>
        <p:spPr>
          <a:xfrm>
            <a:off x="1763640" y="260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沿溯阻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绝。             断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14695"/>
          <p:cNvSpPr/>
          <p:nvPr/>
        </p:nvSpPr>
        <p:spPr>
          <a:xfrm>
            <a:off x="1547640" y="2924280"/>
            <a:ext cx="741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巘多生怪柏。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极，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14696"/>
          <p:cNvSpPr/>
          <p:nvPr/>
        </p:nvSpPr>
        <p:spPr>
          <a:xfrm>
            <a:off x="1763640" y="5445000"/>
            <a:ext cx="662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哀转久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消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左大括号 114697"/>
          <p:cNvSpPr/>
          <p:nvPr/>
        </p:nvSpPr>
        <p:spPr>
          <a:xfrm>
            <a:off x="1258920" y="620640"/>
            <a:ext cx="433440" cy="5256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136800 h 5256360"/>
              <a:gd name="textAreaBottom" fmla="*/ 5119560 h 525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115716"/>
          <p:cNvSpPr/>
          <p:nvPr/>
        </p:nvSpPr>
        <p:spPr>
          <a:xfrm>
            <a:off x="0" y="314172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左大括号 115717"/>
          <p:cNvSpPr/>
          <p:nvPr/>
        </p:nvSpPr>
        <p:spPr>
          <a:xfrm>
            <a:off x="684360" y="981000"/>
            <a:ext cx="1368360" cy="5040360"/>
          </a:xfrm>
          <a:custGeom>
            <a:avLst/>
            <a:gdLst>
              <a:gd name="textAreaLeft" fmla="*/ 874440 w 1368360"/>
              <a:gd name="textAreaRight" fmla="*/ 1368720 w 1368360"/>
              <a:gd name="textAreaTop" fmla="*/ 131040 h 5040360"/>
              <a:gd name="textAreaBottom" fmla="*/ 490932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15718"/>
          <p:cNvSpPr/>
          <p:nvPr/>
        </p:nvSpPr>
        <p:spPr>
          <a:xfrm>
            <a:off x="1979640" y="5516640"/>
            <a:ext cx="64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每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晴 初 霜 旦 。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115719"/>
          <p:cNvSpPr/>
          <p:nvPr/>
        </p:nvSpPr>
        <p:spPr>
          <a:xfrm>
            <a:off x="2050920" y="476280"/>
            <a:ext cx="64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至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于 夏 水 襄 陵 。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表示另提一件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115720" descr="Dscf0005"/>
          <p:cNvPicPr/>
          <p:nvPr/>
        </p:nvPicPr>
        <p:blipFill>
          <a:blip r:embed="rId1"/>
          <a:stretch/>
        </p:blipFill>
        <p:spPr>
          <a:xfrm>
            <a:off x="1547640" y="2133720"/>
            <a:ext cx="7129800" cy="3166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词类活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虽乘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御风，不以疾也。（奔：动词用作名词，飞奔的马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倒影。（清：形容词用作名词，清波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晴初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旦。（霜：名词用作动词，结霜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空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传响（空谷：名词作状语，在空荡的山谷里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特殊句式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两岸连山。省略句，省略主语“三峡”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岩叠嶂。省略句，省略主语“两岸”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图片 119811" descr="0002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拓展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假如你是导游，请写一段段关于三峡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导游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位旅客，欢迎你们来三峡观光。七百里三峡，雄奇险拔，清幽秀丽，四季美景风格迥异。三峡人家热情好客，三峡大坝磅礴气势。欢迎各位常游此地。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风光介绍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时代变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文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伟大的祖国，有雄伟的崇山峻岭，有奔腾的长江黄河，有珍贵的文物古迹，有秀丽的园林风光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一篇很好的古代写景散文，作者描述了三峡雄伟壮丽的景色，抒发了作者热爱祖国山河的情怀，使我们从中受益匪浅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图片 12291" descr="0002"/>
          <p:cNvPicPr/>
          <p:nvPr/>
        </p:nvPicPr>
        <p:blipFill>
          <a:blip r:embed="rId1"/>
          <a:stretch/>
        </p:blipFill>
        <p:spPr>
          <a:xfrm>
            <a:off x="3780000" y="4437000"/>
            <a:ext cx="536400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了解有关郦道元的 文学常识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对照注释，整体感知文章的内容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反复朗读，体会文章的意境和作者的思想感情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体会作品的思想感情和风格特色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背诵并默写这篇文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主题思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文章先总写三峡地貌，再写三峡四季壮丽景色，表现了作者对祖国山水的热爱之情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图片 99331" descr="0002"/>
          <p:cNvPicPr/>
          <p:nvPr/>
        </p:nvPicPr>
        <p:blipFill>
          <a:blip r:embed="rId1"/>
          <a:stretch/>
        </p:blipFill>
        <p:spPr>
          <a:xfrm>
            <a:off x="0" y="3141720"/>
            <a:ext cx="914400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图片 59393" descr="Dscf0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文本框 59395"/>
          <p:cNvSpPr/>
          <p:nvPr/>
        </p:nvSpPr>
        <p:spPr>
          <a:xfrm>
            <a:off x="2411280" y="47628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00"/>
                </a:solidFill>
                <a:latin typeface="Arial"/>
                <a:ea typeface="楷体_GB2312"/>
              </a:rPr>
              <a:t>三峡之三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文本占位符 17411" descr="kuimen1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17412"/>
          <p:cNvSpPr/>
          <p:nvPr/>
        </p:nvSpPr>
        <p:spPr>
          <a:xfrm>
            <a:off x="7667640" y="0"/>
            <a:ext cx="108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Arial"/>
                <a:ea typeface="新宋体"/>
              </a:rPr>
              <a:t>奔放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图片 57345" descr="tkdf1_1"/>
          <p:cNvPicPr/>
          <p:nvPr/>
        </p:nvPicPr>
        <p:blipFill>
          <a:blip r:embed="rId1"/>
          <a:stretch/>
        </p:blipFill>
        <p:spPr>
          <a:xfrm>
            <a:off x="0" y="0"/>
            <a:ext cx="9213840" cy="69105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57346" descr="561_1"/>
          <p:cNvPicPr/>
          <p:nvPr/>
        </p:nvPicPr>
        <p:blipFill>
          <a:blip r:embed="rId2"/>
          <a:stretch/>
        </p:blipFill>
        <p:spPr>
          <a:xfrm>
            <a:off x="0" y="0"/>
            <a:ext cx="9213840" cy="691056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57347" descr="snx7_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57348" descr="sx2_1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文本框 57349"/>
          <p:cNvSpPr/>
          <p:nvPr/>
        </p:nvSpPr>
        <p:spPr>
          <a:xfrm>
            <a:off x="5867280" y="1052640"/>
            <a:ext cx="288144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新宋体"/>
              </a:rPr>
              <a:t>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新宋体"/>
              </a:rPr>
              <a:t>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新宋体"/>
              </a:rPr>
              <a:t>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文本占位符 19459" descr="WX20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303" name="文本框 19460"/>
          <p:cNvSpPr/>
          <p:nvPr/>
        </p:nvSpPr>
        <p:spPr>
          <a:xfrm>
            <a:off x="6102720" y="0"/>
            <a:ext cx="127764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00"/>
                </a:solidFill>
                <a:latin typeface="Arial"/>
                <a:ea typeface="新宋体"/>
              </a:rPr>
              <a:t>凄婉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4577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 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4578"/>
          <p:cNvSpPr/>
          <p:nvPr/>
        </p:nvSpPr>
        <p:spPr>
          <a:xfrm>
            <a:off x="152280" y="105264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郦道元（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66—527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，字善长，北魏范阳涿县（今河北省涿县）人，北魏地理学家。曾任安南将军、御史中尉等职，执法严格，后为关右大使，被雍州剌史萧宝夤杀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好学博览，留心水道等地理现象，撰有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水经注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传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40961" descr="u=3014933664,2696365025&amp;gp=2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40962"/>
          <p:cNvSpPr/>
          <p:nvPr/>
        </p:nvSpPr>
        <p:spPr>
          <a:xfrm>
            <a:off x="533520" y="533520"/>
            <a:ext cx="37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诵读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三峡.mp3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1017360" cy="1916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79169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读准节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三 峡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七 百 里 中 ， 两 岸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连 山 ， 略 无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阙（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quē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） 处 。 重（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hóng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） 岩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叠 嶂（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zhàng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） ， 隐 天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蔽 日 。 自 非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亭 午 夜 分 ， 不 见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曦（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xī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）月 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7T12:04:07Z</dcterms:created>
  <dc:creator>雨林木风</dc:creator>
  <dc:description/>
  <dc:language>en-US</dc:language>
  <cp:lastModifiedBy>Administrator</cp:lastModifiedBy>
  <dcterms:modified xsi:type="dcterms:W3CDTF">2018-10-09T14:59:1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950</vt:lpwstr>
  </property>
</Properties>
</file>