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gif" ContentType="image/gif"/>
  <Override PartName="/ppt/media/image9.png" ContentType="image/png"/>
  <Override PartName="/ppt/media/image6.jpeg" ContentType="image/jpeg"/>
  <Override PartName="/ppt/media/chimes.wav" ContentType="audio/x-wav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"/>
              </a:spcBef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"/>
              </a:spcBef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1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234280" y="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50200"/>
            <a:ext cx="9144000" cy="350640"/>
          </a:xfrm>
          <a:prstGeom prst="rect">
            <a:avLst/>
          </a:prstGeom>
          <a:ln w="0">
            <a:noFill/>
          </a:ln>
        </p:spPr>
      </p:pic>
      <p:sp>
        <p:nvSpPr>
          <p:cNvPr id="3" name="文本框 1"/>
          <p:cNvSpPr/>
          <p:nvPr/>
        </p:nvSpPr>
        <p:spPr>
          <a:xfrm>
            <a:off x="3414600" y="6518160"/>
            <a:ext cx="239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41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234280" y="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50200"/>
            <a:ext cx="9144000" cy="350640"/>
          </a:xfrm>
          <a:prstGeom prst="rect">
            <a:avLst/>
          </a:prstGeom>
          <a:ln w="0">
            <a:noFill/>
          </a:ln>
        </p:spPr>
      </p:pic>
      <p:sp>
        <p:nvSpPr>
          <p:cNvPr id="43" name="文本框 1"/>
          <p:cNvSpPr/>
          <p:nvPr/>
        </p:nvSpPr>
        <p:spPr>
          <a:xfrm>
            <a:off x="3414600" y="6518160"/>
            <a:ext cx="239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文本框 1"/>
          <p:cNvSpPr/>
          <p:nvPr/>
        </p:nvSpPr>
        <p:spPr>
          <a:xfrm>
            <a:off x="23760" y="4202280"/>
            <a:ext cx="9091800" cy="1322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615760" y="4201920"/>
            <a:ext cx="391788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9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三 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287880" y="5038560"/>
            <a:ext cx="256680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125"/>
              </a:spcBef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R·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八年级上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直接连接符 5"/>
          <p:cNvSpPr/>
          <p:nvPr/>
        </p:nvSpPr>
        <p:spPr>
          <a:xfrm>
            <a:off x="3252960" y="4919760"/>
            <a:ext cx="2636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2" descr="图片1"/>
          <p:cNvPicPr/>
          <p:nvPr/>
        </p:nvPicPr>
        <p:blipFill>
          <a:blip r:embed="rId1"/>
          <a:stretch/>
        </p:blipFill>
        <p:spPr>
          <a:xfrm>
            <a:off x="5734080" y="4616280"/>
            <a:ext cx="2495520" cy="1530360"/>
          </a:xfrm>
          <a:prstGeom prst="rect">
            <a:avLst/>
          </a:prstGeom>
          <a:ln w="0">
            <a:noFill/>
          </a:ln>
        </p:spPr>
      </p:pic>
      <p:sp>
        <p:nvSpPr>
          <p:cNvPr id="124" name="文本框 28675"/>
          <p:cNvSpPr/>
          <p:nvPr/>
        </p:nvSpPr>
        <p:spPr>
          <a:xfrm>
            <a:off x="557280" y="1508040"/>
            <a:ext cx="7781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至于夏水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陵，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沿溯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阻绝。或王命急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宣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有时朝发白帝，暮到江陵，其间千二百里，虽乘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御风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不以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疾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2292480" y="1073160"/>
            <a:ext cx="1753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升到高处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4371840" y="696960"/>
            <a:ext cx="2847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沿：顺流而下。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溯：逆流而上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1200240" y="3919680"/>
            <a:ext cx="2941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这里指飞奔的马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4749840" y="3816360"/>
            <a:ext cx="2308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没有这么快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文本框 24"/>
          <p:cNvSpPr/>
          <p:nvPr/>
        </p:nvSpPr>
        <p:spPr>
          <a:xfrm>
            <a:off x="617400" y="1263600"/>
            <a:ext cx="7909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译文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在夏天水涨、江水漫上山陵的时候，上行和下行的船只都被阻断，不能通航。有时皇帝的命令要急速传达，清早坐船从白帝城出发，傍晚便到了江陵。其间一千二百里，即使骑着骏马，驾着疾风，没有这么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文本框 29699"/>
          <p:cNvSpPr/>
          <p:nvPr/>
        </p:nvSpPr>
        <p:spPr>
          <a:xfrm>
            <a:off x="487440" y="2887560"/>
            <a:ext cx="8056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春冬之时，则素湍绿潭，回清倒影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绝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多生怪柏，悬泉瀑布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飞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间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清荣峻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良多趣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图片 1" descr="11"/>
          <p:cNvPicPr/>
          <p:nvPr/>
        </p:nvPicPr>
        <p:blipFill>
          <a:blip r:embed="rId1"/>
          <a:srcRect l="0" t="0" r="0" b="4826"/>
          <a:stretch/>
        </p:blipFill>
        <p:spPr>
          <a:xfrm>
            <a:off x="387360" y="762120"/>
            <a:ext cx="3094200" cy="2065320"/>
          </a:xfrm>
          <a:prstGeom prst="rect">
            <a:avLst/>
          </a:prstGeom>
          <a:ln w="0">
            <a:noFill/>
          </a:ln>
        </p:spPr>
      </p:pic>
      <p:sp>
        <p:nvSpPr>
          <p:cNvPr id="132" name="文本框 35844"/>
          <p:cNvSpPr/>
          <p:nvPr/>
        </p:nvSpPr>
        <p:spPr>
          <a:xfrm>
            <a:off x="6129360" y="2475000"/>
            <a:ext cx="2360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宋体"/>
              </a:rPr>
              <a:t>极高的山峰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图片 3" descr=""/>
          <p:cNvPicPr/>
          <p:nvPr/>
        </p:nvPicPr>
        <p:blipFill>
          <a:blip r:embed="rId2"/>
          <a:stretch/>
        </p:blipFill>
        <p:spPr>
          <a:xfrm>
            <a:off x="552600" y="3884760"/>
            <a:ext cx="417240" cy="312480"/>
          </a:xfrm>
          <a:prstGeom prst="rect">
            <a:avLst/>
          </a:prstGeom>
          <a:ln w="0">
            <a:noFill/>
          </a:ln>
        </p:spPr>
      </p:pic>
      <p:sp>
        <p:nvSpPr>
          <p:cNvPr id="134" name="文本框 7"/>
          <p:cNvSpPr/>
          <p:nvPr/>
        </p:nvSpPr>
        <p:spPr>
          <a:xfrm>
            <a:off x="3282840" y="4462560"/>
            <a:ext cx="2907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宋体"/>
              </a:rPr>
              <a:t>飞速地往下冲荡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11"/>
          <p:cNvSpPr/>
          <p:nvPr/>
        </p:nvSpPr>
        <p:spPr>
          <a:xfrm>
            <a:off x="6381720" y="4578480"/>
            <a:ext cx="216216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宋体"/>
              </a:rPr>
              <a:t>水清树荣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宋体"/>
              </a:rPr>
              <a:t>山高草盛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文本框 12"/>
          <p:cNvSpPr/>
          <p:nvPr/>
        </p:nvSpPr>
        <p:spPr>
          <a:xfrm>
            <a:off x="398520" y="1400040"/>
            <a:ext cx="8182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译文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春冬季节，雪白的急流，碧绿的深潭，回旋的清波，倒映着各种景物的影子。极高的山峰上，生长着许多奇形怪状的柏树，山峰之间，常有悬泉瀑布飞流冲荡。水清树荣，山高草茂，趣味无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文本框 30723"/>
          <p:cNvSpPr/>
          <p:nvPr/>
        </p:nvSpPr>
        <p:spPr>
          <a:xfrm>
            <a:off x="600120" y="1100160"/>
            <a:ext cx="781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每至晴初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霜旦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林寒涧肃，常有高猿长啸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属引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凄异，空谷传响，哀转久绝。故渔者歌曰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巴东三峡巫峡长，猿鸣三声泪沾裳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图片 1" descr="01"/>
          <p:cNvPicPr/>
          <p:nvPr/>
        </p:nvPicPr>
        <p:blipFill>
          <a:blip r:embed="rId1"/>
          <a:stretch/>
        </p:blipFill>
        <p:spPr>
          <a:xfrm>
            <a:off x="600120" y="4264200"/>
            <a:ext cx="3063960" cy="2035080"/>
          </a:xfrm>
          <a:prstGeom prst="rect">
            <a:avLst/>
          </a:prstGeom>
          <a:ln w="0">
            <a:noFill/>
          </a:ln>
        </p:spPr>
      </p:pic>
      <p:sp>
        <p:nvSpPr>
          <p:cNvPr id="139" name="文本框 35843"/>
          <p:cNvSpPr/>
          <p:nvPr/>
        </p:nvSpPr>
        <p:spPr>
          <a:xfrm>
            <a:off x="2606760" y="685800"/>
            <a:ext cx="2152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宋体"/>
              </a:rPr>
              <a:t>下霜的早晨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2"/>
          <p:cNvSpPr/>
          <p:nvPr/>
        </p:nvSpPr>
        <p:spPr>
          <a:xfrm>
            <a:off x="3241800" y="3467160"/>
            <a:ext cx="174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宋体"/>
              </a:rPr>
              <a:t>接连不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文本框 6"/>
          <p:cNvSpPr/>
          <p:nvPr/>
        </p:nvSpPr>
        <p:spPr>
          <a:xfrm>
            <a:off x="666720" y="1166760"/>
            <a:ext cx="781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译文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每逢初晴的日子或下霜的早晨，树林、山涧显出一片清凉和寂静。高处的猿猴拉长声音鸣叫，声音接连不断，凄惨悲凉。空旷的山谷回响着猿啼声，声音悲凉婉转，很久才消失。所以渔人唱道：“巴东三峡巫峡长，猿鸣三声泪沾裳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4"/>
          <p:cNvGrpSpPr/>
          <p:nvPr/>
        </p:nvGrpSpPr>
        <p:grpSpPr>
          <a:xfrm>
            <a:off x="101520" y="444600"/>
            <a:ext cx="2319120" cy="699840"/>
            <a:chOff x="101520" y="444600"/>
            <a:chExt cx="2319120" cy="699840"/>
          </a:xfrm>
        </p:grpSpPr>
        <p:pic>
          <p:nvPicPr>
            <p:cNvPr id="143" name="Picture 5" descr="未标题-1"/>
            <p:cNvPicPr/>
            <p:nvPr/>
          </p:nvPicPr>
          <p:blipFill>
            <a:blip r:embed="rId1"/>
            <a:stretch/>
          </p:blipFill>
          <p:spPr>
            <a:xfrm>
              <a:off x="101520" y="444600"/>
              <a:ext cx="2319120" cy="6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文本框 2"/>
            <p:cNvSpPr/>
            <p:nvPr/>
          </p:nvSpPr>
          <p:spPr>
            <a:xfrm>
              <a:off x="637920" y="52056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整体感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文本框 38915"/>
          <p:cNvSpPr/>
          <p:nvPr/>
        </p:nvSpPr>
        <p:spPr>
          <a:xfrm>
            <a:off x="422280" y="3141720"/>
            <a:ext cx="80136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先写山，后写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写山：突出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连绵不断、遮天蔽日的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1"/>
          <p:cNvSpPr/>
          <p:nvPr/>
        </p:nvSpPr>
        <p:spPr>
          <a:xfrm>
            <a:off x="555480" y="1587600"/>
            <a:ext cx="80330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作者主要写了三峡的哪些景物？分别突出了景物什么特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9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文本框 2"/>
          <p:cNvSpPr/>
          <p:nvPr/>
        </p:nvSpPr>
        <p:spPr>
          <a:xfrm>
            <a:off x="471600" y="1123920"/>
            <a:ext cx="803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写水：夏天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春冬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秋天，描绘不同季节的不同景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3"/>
          <p:cNvSpPr/>
          <p:nvPr/>
        </p:nvSpPr>
        <p:spPr>
          <a:xfrm>
            <a:off x="372960" y="2403360"/>
            <a:ext cx="812952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夏天：突出水势，写出水的大、急快。气势磅礴，一泻千里。突出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“奔放美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春冬：突出水色，写出水的清、绿。清澈见底，奇异峻秀。突出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“清幽美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秋天：水枯气寒，猿鸣凄凉。突出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“凄婉美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2"/>
          <p:cNvGrpSpPr/>
          <p:nvPr/>
        </p:nvGrpSpPr>
        <p:grpSpPr>
          <a:xfrm>
            <a:off x="155520" y="488880"/>
            <a:ext cx="2319120" cy="700200"/>
            <a:chOff x="155520" y="488880"/>
            <a:chExt cx="2319120" cy="700200"/>
          </a:xfrm>
        </p:grpSpPr>
        <p:pic>
          <p:nvPicPr>
            <p:cNvPr id="150" name="Picture 3" descr="未标题-1"/>
            <p:cNvPicPr/>
            <p:nvPr/>
          </p:nvPicPr>
          <p:blipFill>
            <a:blip r:embed="rId1"/>
            <a:stretch/>
          </p:blipFill>
          <p:spPr>
            <a:xfrm>
              <a:off x="155520" y="48888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文本框 2"/>
            <p:cNvSpPr/>
            <p:nvPr/>
          </p:nvSpPr>
          <p:spPr>
            <a:xfrm>
              <a:off x="691920" y="56520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写法探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文本框 39939"/>
          <p:cNvSpPr/>
          <p:nvPr/>
        </p:nvSpPr>
        <p:spPr>
          <a:xfrm>
            <a:off x="390600" y="150804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本文写三峡四时风光，重在写水，为什么从山写起？而不按春夏秋冬的顺序写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39940"/>
          <p:cNvSpPr/>
          <p:nvPr/>
        </p:nvSpPr>
        <p:spPr>
          <a:xfrm>
            <a:off x="390600" y="2762280"/>
            <a:ext cx="815652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作者是为江水作注，重点是写水，而水以夏季为盛，故将“夏水”为首来写。为写水势，先写山势，因为有山才有峡，这既能揭示水速的原因，又能使急流和峻岭相互映衬，更能形成一幅险峻壮奇的图画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366840" y="1289160"/>
            <a:ext cx="794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文章结尾引用了渔者的歌词，有何作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457200" y="2166840"/>
            <a:ext cx="79405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突出了三峡山高水长的特点，渲染了三峡秋天的悲凉、寂静的气氛，流露出作者对劳动人民的深切同情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366840" y="410724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文章表现作者怎样的思想感情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1298520" y="4940280"/>
            <a:ext cx="6548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表现作者对祖国大好河山的热爱之情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19"/>
          <p:cNvGrpSpPr/>
          <p:nvPr/>
        </p:nvGrpSpPr>
        <p:grpSpPr>
          <a:xfrm>
            <a:off x="119160" y="417600"/>
            <a:ext cx="2319120" cy="699840"/>
            <a:chOff x="119160" y="417600"/>
            <a:chExt cx="2319120" cy="699840"/>
          </a:xfrm>
        </p:grpSpPr>
        <p:pic>
          <p:nvPicPr>
            <p:cNvPr id="85" name="Picture 18" descr="未标题-1"/>
            <p:cNvPicPr/>
            <p:nvPr/>
          </p:nvPicPr>
          <p:blipFill>
            <a:blip r:embed="rId1"/>
            <a:stretch/>
          </p:blipFill>
          <p:spPr>
            <a:xfrm>
              <a:off x="119160" y="417600"/>
              <a:ext cx="2319120" cy="6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文本框 2"/>
            <p:cNvSpPr/>
            <p:nvPr/>
          </p:nvSpPr>
          <p:spPr>
            <a:xfrm>
              <a:off x="655560" y="49356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学习目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文本框 1"/>
          <p:cNvSpPr/>
          <p:nvPr/>
        </p:nvSpPr>
        <p:spPr>
          <a:xfrm>
            <a:off x="326880" y="1695600"/>
            <a:ext cx="8199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积累常用的文言实虚词，背诵全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学习抓住事物特征、动静结合的写景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受祖国山川的壮美雄奇，培养热爱祖国山河的感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2"/>
          <p:cNvGrpSpPr/>
          <p:nvPr/>
        </p:nvGrpSpPr>
        <p:grpSpPr>
          <a:xfrm>
            <a:off x="149400" y="453960"/>
            <a:ext cx="2319120" cy="700200"/>
            <a:chOff x="149400" y="453960"/>
            <a:chExt cx="2319120" cy="700200"/>
          </a:xfrm>
        </p:grpSpPr>
        <p:pic>
          <p:nvPicPr>
            <p:cNvPr id="159" name="Picture 3" descr="未标题-1"/>
            <p:cNvPicPr/>
            <p:nvPr/>
          </p:nvPicPr>
          <p:blipFill>
            <a:blip r:embed="rId1"/>
            <a:stretch/>
          </p:blipFill>
          <p:spPr>
            <a:xfrm>
              <a:off x="149400" y="45396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文本框 2"/>
            <p:cNvSpPr/>
            <p:nvPr/>
          </p:nvSpPr>
          <p:spPr>
            <a:xfrm>
              <a:off x="685800" y="53028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课堂小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文本框 43010"/>
          <p:cNvSpPr/>
          <p:nvPr/>
        </p:nvSpPr>
        <p:spPr>
          <a:xfrm>
            <a:off x="473040" y="1311120"/>
            <a:ext cx="8197920" cy="28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作者先写三峡的整体风貌，然后抓住了三峡最有特点的时间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夏天，春冬，秋来写。高峻的山峰，汹涌的江流，哀转的猿鸣，悲凉的渔歌，三峡的奇异景象，被描绘得淋漓尽致，把景物的神韵生动地表现了出来。写出了三峡独特的美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奔放美、清幽美和凄婉美。同时表达了对山河自然的热爱，对劳动人民的同情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1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1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1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3"/>
          <p:cNvGrpSpPr/>
          <p:nvPr/>
        </p:nvGrpSpPr>
        <p:grpSpPr>
          <a:xfrm>
            <a:off x="128520" y="498600"/>
            <a:ext cx="2319120" cy="699840"/>
            <a:chOff x="128520" y="498600"/>
            <a:chExt cx="2319120" cy="699840"/>
          </a:xfrm>
        </p:grpSpPr>
        <p:pic>
          <p:nvPicPr>
            <p:cNvPr id="163" name="Picture 4" descr="未标题-1"/>
            <p:cNvPicPr/>
            <p:nvPr/>
          </p:nvPicPr>
          <p:blipFill>
            <a:blip r:embed="rId1"/>
            <a:stretch/>
          </p:blipFill>
          <p:spPr>
            <a:xfrm>
              <a:off x="128520" y="498600"/>
              <a:ext cx="2319120" cy="6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文本框 2"/>
            <p:cNvSpPr/>
            <p:nvPr/>
          </p:nvSpPr>
          <p:spPr>
            <a:xfrm>
              <a:off x="664920" y="57456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板书设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文本框 3"/>
          <p:cNvSpPr/>
          <p:nvPr/>
        </p:nvSpPr>
        <p:spPr>
          <a:xfrm>
            <a:off x="2287440" y="3214800"/>
            <a:ext cx="41644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凶险、迅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春冬之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摇曳多姿，美丽清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悲寂、凄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4"/>
          <p:cNvSpPr/>
          <p:nvPr/>
        </p:nvSpPr>
        <p:spPr>
          <a:xfrm>
            <a:off x="4114800" y="14637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三 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5"/>
          <p:cNvSpPr/>
          <p:nvPr/>
        </p:nvSpPr>
        <p:spPr>
          <a:xfrm>
            <a:off x="2608920" y="2394000"/>
            <a:ext cx="212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总  山势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两岸连山、重岩叠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6"/>
          <p:cNvSpPr/>
          <p:nvPr/>
        </p:nvSpPr>
        <p:spPr>
          <a:xfrm>
            <a:off x="526680" y="39178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7"/>
          <p:cNvSpPr/>
          <p:nvPr/>
        </p:nvSpPr>
        <p:spPr>
          <a:xfrm>
            <a:off x="7747560" y="3179880"/>
            <a:ext cx="66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景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热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左大括号 9"/>
          <p:cNvSpPr/>
          <p:nvPr/>
        </p:nvSpPr>
        <p:spPr>
          <a:xfrm>
            <a:off x="1035000" y="3448080"/>
            <a:ext cx="208080" cy="1523880"/>
          </a:xfrm>
          <a:custGeom>
            <a:avLst/>
            <a:gdLst>
              <a:gd name="textAreaLeft" fmla="*/ 132840 w 208080"/>
              <a:gd name="textAreaRight" fmla="*/ 208440 w 208080"/>
              <a:gd name="textAreaTop" fmla="*/ 5400 h 1523880"/>
              <a:gd name="textAreaBottom" fmla="*/ 15184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3"/>
                  <a:pt x="10800" y="245"/>
                </a:cubicBezTo>
                <a:lnTo>
                  <a:pt x="10800" y="10555"/>
                </a:lnTo>
                <a:cubicBezTo>
                  <a:pt x="10800" y="10678"/>
                  <a:pt x="5400" y="10800"/>
                  <a:pt x="0" y="10800"/>
                </a:cubicBezTo>
                <a:cubicBezTo>
                  <a:pt x="5400" y="10800"/>
                  <a:pt x="10800" y="10923"/>
                  <a:pt x="10800" y="11045"/>
                </a:cubicBezTo>
                <a:lnTo>
                  <a:pt x="10800" y="21355"/>
                </a:lnTo>
                <a:cubicBezTo>
                  <a:pt x="10800" y="21478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右大括号 10"/>
          <p:cNvSpPr/>
          <p:nvPr/>
        </p:nvSpPr>
        <p:spPr>
          <a:xfrm>
            <a:off x="7410600" y="2511360"/>
            <a:ext cx="234720" cy="2413080"/>
          </a:xfrm>
          <a:custGeom>
            <a:avLst/>
            <a:gdLst>
              <a:gd name="textAreaLeft" fmla="*/ 0 w 234720"/>
              <a:gd name="textAreaRight" fmla="*/ 84600 w 234720"/>
              <a:gd name="textAreaTop" fmla="*/ 5760 h 2413080"/>
              <a:gd name="textAreaBottom" fmla="*/ 2407320 h 241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8"/>
                  <a:pt x="10800" y="175"/>
                </a:cubicBezTo>
                <a:lnTo>
                  <a:pt x="10800" y="10625"/>
                </a:lnTo>
                <a:cubicBezTo>
                  <a:pt x="10800" y="10713"/>
                  <a:pt x="16200" y="10800"/>
                  <a:pt x="21600" y="10800"/>
                </a:cubicBezTo>
                <a:cubicBezTo>
                  <a:pt x="16200" y="10800"/>
                  <a:pt x="10800" y="10888"/>
                  <a:pt x="10800" y="10975"/>
                </a:cubicBezTo>
                <a:lnTo>
                  <a:pt x="10800" y="21425"/>
                </a:lnTo>
                <a:cubicBezTo>
                  <a:pt x="10800" y="21513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3"/>
          <p:cNvGrpSpPr/>
          <p:nvPr/>
        </p:nvGrpSpPr>
        <p:grpSpPr>
          <a:xfrm>
            <a:off x="138240" y="407880"/>
            <a:ext cx="2319120" cy="700200"/>
            <a:chOff x="138240" y="407880"/>
            <a:chExt cx="2319120" cy="700200"/>
          </a:xfrm>
        </p:grpSpPr>
        <p:pic>
          <p:nvPicPr>
            <p:cNvPr id="173" name="Picture 4" descr="未标题-1"/>
            <p:cNvPicPr/>
            <p:nvPr/>
          </p:nvPicPr>
          <p:blipFill>
            <a:blip r:embed="rId1"/>
            <a:stretch/>
          </p:blipFill>
          <p:spPr>
            <a:xfrm>
              <a:off x="138240" y="40788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文本框 2"/>
            <p:cNvSpPr/>
            <p:nvPr/>
          </p:nvSpPr>
          <p:spPr>
            <a:xfrm>
              <a:off x="674640" y="48420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随堂练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5"/>
          <p:cNvSpPr/>
          <p:nvPr/>
        </p:nvSpPr>
        <p:spPr>
          <a:xfrm>
            <a:off x="473040" y="1414440"/>
            <a:ext cx="796140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背诵全文。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昔日郦道元笔下美丽的三峡，如今因三峡工程更闻名于世，并吸引了无数中外游客前来观光旅游。请你用简洁生动的语言写一段导游词，向前来观光的游客介绍三峡的风景特点和时代变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9"/>
          <p:cNvGrpSpPr/>
          <p:nvPr/>
        </p:nvGrpSpPr>
        <p:grpSpPr>
          <a:xfrm>
            <a:off x="147600" y="434880"/>
            <a:ext cx="2319120" cy="700200"/>
            <a:chOff x="147600" y="434880"/>
            <a:chExt cx="2319120" cy="700200"/>
          </a:xfrm>
        </p:grpSpPr>
        <p:pic>
          <p:nvPicPr>
            <p:cNvPr id="89" name="Picture 10" descr="未标题-1"/>
            <p:cNvPicPr/>
            <p:nvPr/>
          </p:nvPicPr>
          <p:blipFill>
            <a:blip r:embed="rId1"/>
            <a:stretch/>
          </p:blipFill>
          <p:spPr>
            <a:xfrm>
              <a:off x="147600" y="43488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文本框 2"/>
            <p:cNvSpPr/>
            <p:nvPr/>
          </p:nvSpPr>
          <p:spPr>
            <a:xfrm>
              <a:off x="684000" y="51120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新课导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" name="图片 2" descr="572b4da2g72408eec4173&amp;690"/>
          <p:cNvPicPr/>
          <p:nvPr/>
        </p:nvPicPr>
        <p:blipFill>
          <a:blip r:embed="rId2"/>
          <a:stretch/>
        </p:blipFill>
        <p:spPr>
          <a:xfrm>
            <a:off x="469800" y="2136600"/>
            <a:ext cx="2779920" cy="2751480"/>
          </a:xfrm>
          <a:prstGeom prst="rect">
            <a:avLst/>
          </a:prstGeom>
          <a:ln w="0">
            <a:noFill/>
          </a:ln>
        </p:spPr>
      </p:pic>
      <p:sp>
        <p:nvSpPr>
          <p:cNvPr id="92" name="文本框 99"/>
          <p:cNvSpPr/>
          <p:nvPr/>
        </p:nvSpPr>
        <p:spPr>
          <a:xfrm>
            <a:off x="3444840" y="1628640"/>
            <a:ext cx="4944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根据“峡”字的字形结构，什么样的地势才称得上“峡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3"/>
          <p:cNvSpPr/>
          <p:nvPr/>
        </p:nvSpPr>
        <p:spPr>
          <a:xfrm>
            <a:off x="3444840" y="4284720"/>
            <a:ext cx="470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峡”字字典里的解释就是“两山夹水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6"/>
          <p:cNvGrpSpPr/>
          <p:nvPr/>
        </p:nvGrpSpPr>
        <p:grpSpPr>
          <a:xfrm>
            <a:off x="74520" y="407880"/>
            <a:ext cx="2319120" cy="700200"/>
            <a:chOff x="74520" y="407880"/>
            <a:chExt cx="2319120" cy="700200"/>
          </a:xfrm>
        </p:grpSpPr>
        <p:pic>
          <p:nvPicPr>
            <p:cNvPr id="95" name="Picture 7" descr="未标题-1"/>
            <p:cNvPicPr/>
            <p:nvPr/>
          </p:nvPicPr>
          <p:blipFill>
            <a:blip r:embed="rId1"/>
            <a:stretch/>
          </p:blipFill>
          <p:spPr>
            <a:xfrm>
              <a:off x="74520" y="40788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文本框 2"/>
            <p:cNvSpPr/>
            <p:nvPr/>
          </p:nvSpPr>
          <p:spPr>
            <a:xfrm>
              <a:off x="610920" y="48420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走近作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标题 23553"/>
          <p:cNvSpPr/>
          <p:nvPr/>
        </p:nvSpPr>
        <p:spPr>
          <a:xfrm>
            <a:off x="606600" y="1292400"/>
            <a:ext cx="793080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郦道元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字善长。范阳涿鹿人，南北朝北魏时的地理学家，散文作家。据记载，他一生好学不倦，博览群书，学识渊博，对人民比较同情，对权贵有所不满；对祖国河山十分热爱，对地理风物精切钻研。他的著作很多，最有名的是</a:t>
            </a:r>
            <a:r>
              <a:rPr b="1" lang="en-US" sz="30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水经注</a:t>
            </a:r>
            <a:r>
              <a:rPr b="1" lang="en-US" sz="30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四十卷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图片 1" descr="郦道元"/>
          <p:cNvPicPr/>
          <p:nvPr/>
        </p:nvPicPr>
        <p:blipFill>
          <a:blip r:embed="rId2"/>
          <a:srcRect l="0" t="0" r="0" b="11995"/>
          <a:stretch/>
        </p:blipFill>
        <p:spPr>
          <a:xfrm>
            <a:off x="5595840" y="4616280"/>
            <a:ext cx="267984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23554"/>
          <p:cNvSpPr/>
          <p:nvPr/>
        </p:nvSpPr>
        <p:spPr>
          <a:xfrm>
            <a:off x="576360" y="1557360"/>
            <a:ext cx="799128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作者对祖国的雄伟江山、秀丽风光作了形象的描绘，记述了不少生动的故事，抒发了爱国胸怀，文笔简洁精美，对后代山水游记文学起了先导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25601" descr="5a26006a"/>
          <p:cNvPicPr/>
          <p:nvPr/>
        </p:nvPicPr>
        <p:blipFill>
          <a:blip r:embed="rId1"/>
          <a:stretch/>
        </p:blipFill>
        <p:spPr>
          <a:xfrm>
            <a:off x="6648480" y="895320"/>
            <a:ext cx="2025720" cy="2354400"/>
          </a:xfrm>
          <a:prstGeom prst="rect">
            <a:avLst/>
          </a:prstGeom>
          <a:ln w="0">
            <a:noFill/>
          </a:ln>
        </p:spPr>
      </p:pic>
      <p:sp>
        <p:nvSpPr>
          <p:cNvPr id="101" name="文本框 25602"/>
          <p:cNvSpPr/>
          <p:nvPr/>
        </p:nvSpPr>
        <p:spPr>
          <a:xfrm>
            <a:off x="339840" y="682560"/>
            <a:ext cx="620064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水经注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是郦道元为魏晋时代无名氏所著的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水经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一书所作的注释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它记叙了两岸各地的地理古迹、神话传说和风俗习惯，对各地秀丽的山川作了生动的描绘，文笔简洁精美，具有很高的科学价值和文学价值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三峡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节选自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水经注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11"/>
          <p:cNvGrpSpPr/>
          <p:nvPr/>
        </p:nvGrpSpPr>
        <p:grpSpPr>
          <a:xfrm>
            <a:off x="119160" y="434880"/>
            <a:ext cx="2319120" cy="700200"/>
            <a:chOff x="119160" y="434880"/>
            <a:chExt cx="2319120" cy="700200"/>
          </a:xfrm>
        </p:grpSpPr>
        <p:pic>
          <p:nvPicPr>
            <p:cNvPr id="103" name="Picture 12" descr="未标题-1"/>
            <p:cNvPicPr/>
            <p:nvPr/>
          </p:nvPicPr>
          <p:blipFill>
            <a:blip r:embed="rId1"/>
            <a:stretch/>
          </p:blipFill>
          <p:spPr>
            <a:xfrm>
              <a:off x="119160" y="43488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文本框 2"/>
            <p:cNvSpPr/>
            <p:nvPr/>
          </p:nvSpPr>
          <p:spPr>
            <a:xfrm>
              <a:off x="655560" y="51120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字词积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文本框 26626"/>
          <p:cNvSpPr/>
          <p:nvPr/>
        </p:nvSpPr>
        <p:spPr>
          <a:xfrm>
            <a:off x="1017720" y="2254320"/>
            <a:ext cx="69595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阙     叠嶂     曦     溯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湍      漱      啸     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26627"/>
          <p:cNvSpPr/>
          <p:nvPr/>
        </p:nvSpPr>
        <p:spPr>
          <a:xfrm>
            <a:off x="933480" y="1816200"/>
            <a:ext cx="86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宋体"/>
              </a:rPr>
              <a:t>quē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26628"/>
          <p:cNvSpPr/>
          <p:nvPr/>
        </p:nvSpPr>
        <p:spPr>
          <a:xfrm>
            <a:off x="2438280" y="18223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宋体"/>
              </a:rPr>
              <a:t>dié zhà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26630"/>
          <p:cNvSpPr/>
          <p:nvPr/>
        </p:nvSpPr>
        <p:spPr>
          <a:xfrm>
            <a:off x="6962760" y="1822320"/>
            <a:ext cx="70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宋体"/>
              </a:rPr>
              <a:t>s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26631"/>
          <p:cNvSpPr/>
          <p:nvPr/>
        </p:nvSpPr>
        <p:spPr>
          <a:xfrm>
            <a:off x="865080" y="3941640"/>
            <a:ext cx="100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宋体"/>
              </a:rPr>
              <a:t>tuā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26632"/>
          <p:cNvSpPr/>
          <p:nvPr/>
        </p:nvSpPr>
        <p:spPr>
          <a:xfrm>
            <a:off x="2998800" y="3941640"/>
            <a:ext cx="89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宋体"/>
              </a:rPr>
              <a:t>sh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26633"/>
          <p:cNvSpPr/>
          <p:nvPr/>
        </p:nvSpPr>
        <p:spPr>
          <a:xfrm>
            <a:off x="6835680" y="3941640"/>
            <a:ext cx="83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宋体"/>
              </a:rPr>
              <a:t>zh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ǔ</a:t>
            </a:r>
            <a:r>
              <a:rPr b="1" lang="en-GB" sz="32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26634"/>
          <p:cNvSpPr/>
          <p:nvPr/>
        </p:nvSpPr>
        <p:spPr>
          <a:xfrm>
            <a:off x="5029200" y="3941640"/>
            <a:ext cx="109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宋体"/>
              </a:rPr>
              <a:t>xià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1"/>
          <p:cNvSpPr/>
          <p:nvPr/>
        </p:nvSpPr>
        <p:spPr>
          <a:xfrm>
            <a:off x="5196960" y="1816200"/>
            <a:ext cx="53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宋体"/>
              </a:rPr>
              <a:t>x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119160" y="444600"/>
            <a:ext cx="2319120" cy="699840"/>
            <a:chOff x="119160" y="444600"/>
            <a:chExt cx="2319120" cy="699840"/>
          </a:xfrm>
        </p:grpSpPr>
        <p:pic>
          <p:nvPicPr>
            <p:cNvPr id="115" name="Picture 3" descr="未标题-1"/>
            <p:cNvPicPr/>
            <p:nvPr/>
          </p:nvPicPr>
          <p:blipFill>
            <a:blip r:embed="rId1"/>
            <a:stretch/>
          </p:blipFill>
          <p:spPr>
            <a:xfrm>
              <a:off x="119160" y="444600"/>
              <a:ext cx="2319120" cy="6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文本框 2"/>
            <p:cNvSpPr/>
            <p:nvPr/>
          </p:nvSpPr>
          <p:spPr>
            <a:xfrm>
              <a:off x="655560" y="52056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疏通文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文本框 27651"/>
          <p:cNvSpPr/>
          <p:nvPr/>
        </p:nvSpPr>
        <p:spPr>
          <a:xfrm>
            <a:off x="4597560" y="1974960"/>
            <a:ext cx="376704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自三峡七百里中，两岸连山，略无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阙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处。重岩叠嶂，隐天蔽日，自非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亭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夜分，不见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曦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图片 1" descr="1"/>
          <p:cNvPicPr/>
          <p:nvPr/>
        </p:nvPicPr>
        <p:blipFill>
          <a:blip r:embed="rId2"/>
          <a:stretch/>
        </p:blipFill>
        <p:spPr>
          <a:xfrm>
            <a:off x="439560" y="2128680"/>
            <a:ext cx="3935520" cy="2951280"/>
          </a:xfrm>
          <a:prstGeom prst="rect">
            <a:avLst/>
          </a:prstGeom>
          <a:ln w="0">
            <a:noFill/>
          </a:ln>
        </p:spPr>
      </p:pic>
      <p:sp>
        <p:nvSpPr>
          <p:cNvPr id="119" name="文本框 2"/>
          <p:cNvSpPr/>
          <p:nvPr/>
        </p:nvSpPr>
        <p:spPr>
          <a:xfrm>
            <a:off x="4067280" y="1422360"/>
            <a:ext cx="4408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同“缺”，空隙、缺口。</a:t>
            </a:r>
            <a:r>
              <a:rPr b="1" lang="en-US" sz="30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3"/>
          <p:cNvSpPr/>
          <p:nvPr/>
        </p:nvSpPr>
        <p:spPr>
          <a:xfrm>
            <a:off x="3656160" y="5213520"/>
            <a:ext cx="1158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正午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13"/>
          <p:cNvSpPr/>
          <p:nvPr/>
        </p:nvSpPr>
        <p:spPr>
          <a:xfrm>
            <a:off x="4815000" y="5765760"/>
            <a:ext cx="3660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日光，这里指太阳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文本框 14"/>
          <p:cNvSpPr/>
          <p:nvPr/>
        </p:nvSpPr>
        <p:spPr>
          <a:xfrm>
            <a:off x="450720" y="1905120"/>
            <a:ext cx="811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译文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在七百里三峡中，两岸都是相连的山，全然没有中断的地方。层层的悬崖，重重的峭壁，遮天蔽日。若不是在正午或者半夜，看不见日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4T05:53:56Z</dcterms:created>
  <dc:creator>User</dc:creator>
  <dc:description/>
  <dc:language>en-US</dc:language>
  <cp:lastModifiedBy>芦苇</cp:lastModifiedBy>
  <dcterms:modified xsi:type="dcterms:W3CDTF">2018-04-07T08:39:21Z</dcterms:modified>
  <cp:revision>17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233</vt:lpwstr>
  </property>
</Properties>
</file>