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gif" ContentType="image/gif"/>
  <Override PartName="/ppt/media/image1.jpeg" ContentType="image/jpeg"/>
  <Override PartName="/ppt/media/image35.jpeg" ContentType="image/jpeg"/>
  <Override PartName="/ppt/media/image30.png" ContentType="image/png"/>
  <Override PartName="/ppt/media/image5.png" ContentType="image/pn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22.jpeg" ContentType="image/jpeg"/>
  <Override PartName="/ppt/media/image9.png" ContentType="image/png"/>
  <Override PartName="/ppt/media/image10.gif" ContentType="image/gif"/>
  <Override PartName="/ppt/media/image31.png" ContentType="image/png"/>
  <Override PartName="/ppt/media/image6.png" ContentType="image/png"/>
  <Override PartName="/ppt/media/image29.png" ContentType="image/png"/>
  <Override PartName="/ppt/media/image11.jpeg" ContentType="image/jpeg"/>
  <Override PartName="/ppt/media/TYPE.WAV" ContentType="audio/x-wav"/>
  <Override PartName="/ppt/media/image12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png" ContentType="image/png"/>
  <Override PartName="/ppt/media/image20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0ED-8EC9-45C7-AD93-6F200DD6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FBD-B5E1-430C-861A-6769A2DB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717-C314-40D6-8C93-97F1986A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873-FE6F-4C6E-A1E0-40720DDF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FEA7-E29F-4143-B9F0-B3964F29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601C-81C1-4112-A536-6DE6890C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0698-9A57-40FB-8623-9CB3AEA5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26B7-BB31-4D9A-B091-40CFEDF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0BCB-03C7-444D-ADD3-3903F708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8630-A58B-4FA3-A0D7-29A82F29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C31E-AE9F-40F1-8FD0-0AF3FE75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80C-35A6-45A1-9A21-21C7F960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D662-3262-43C9-8B9E-55BE2FA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DF87-E19B-4763-8BBA-F3F000E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39A0-A87A-4EE6-83F7-F44720C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0FCA-3077-41AC-BACC-024FAC90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6B61-C405-4725-847D-CCE3FBE3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E8F6-56FA-4E4B-8338-B854F3DA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6517-EFF3-4A16-B645-034E2BFB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D6BF-727B-4EB2-8E46-5EB50FA1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AA10-96B1-4FBF-955D-E40F628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7E1E-1327-4669-90C3-B9C254D4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207-52B1-42CB-A705-CD33F3AC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18EA-5818-4767-B539-9E98C9F1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7BAA-608C-4E5E-B34F-4281D777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B720-134C-41EB-9310-BDBF9D0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6ED2-1D91-433B-AEC1-59BE6308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E8A1-07F0-44C9-B38A-E19D3A4A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A7ED-F1CA-476D-AC39-753CD785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4ABA-C652-4732-9DB1-78097A32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385F-15FD-4346-BF65-B9A99CD4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531D-83F1-465C-81C7-A1026818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790B-2D6C-4D41-BE5F-B718FD0F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B59-A1E4-4CE5-A8AF-454AFCEA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7C8A-F4C2-4330-8B34-77A2368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8493-A667-4FD7-9356-351DDBC4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36DD-8513-4C8D-94E9-DE421350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AF407-A91A-467D-BF8D-7A89792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DD6E-BE63-4280-98F4-AB80F2BD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717B-1711-4D9B-B7DC-E391851C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DF38-DF3C-42BE-8D92-BEBA3AF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9F3D-A264-4490-BA8F-6B2664BC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71A9-0321-4B10-9166-362A6789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3C53-DA63-4E78-9F0C-F60E523F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222-E6A3-4B55-833E-8F1190A8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B9401-0698-41F8-A7B3-A131108E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A151-B691-4383-B4B5-5C4E1A87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3203E-4786-4582-B5A5-3DC55ABE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643D-5000-45DF-AE70-5C0D7AE7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41D41-F870-4CD8-A95D-62B7475C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2567-0B35-4346-B1C4-B0589AAC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FE13-C75D-416A-873C-D6F28AC9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F37F-8180-41FC-89B3-E0D023B5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FAB1-A990-4025-8104-B5304979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41B0-86EA-4904-85CD-A7CD477E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EBE-0D2B-4683-8930-EA177C52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8E1F-EA2C-4A9A-8659-4768AD64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3D9-B480-43AF-A6AD-75A9D6E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D60-0CC1-40A7-934D-7751ED6F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D92-8816-4E24-B703-02CB244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9D59-CB96-4636-A9DF-F08A893AA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5580-891D-4316-BF57-FBF0DCB9A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83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06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4F50-BAA1-4AE2-B18A-35013CBA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151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0" name="Picture 32" descr="BTZBUL1A"/>
            <p:cNvPicPr/>
            <p:nvPr/>
          </p:nvPicPr>
          <p:blipFill>
            <a:blip r:embed="rId3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C7A-2A1D-434E-BA46-1E4F6129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223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246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9FC8-1AD4-4F07-9BD6-B5BE0AF8EA3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file:///tmp/home/.config/libreoffice/4/user/gallery/&#19977;&#23777;.wav" TargetMode="External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9"/>
          <p:cNvGrpSpPr/>
          <p:nvPr/>
        </p:nvGrpSpPr>
        <p:grpSpPr>
          <a:xfrm>
            <a:off x="147600" y="434880"/>
            <a:ext cx="2319120" cy="700200"/>
            <a:chOff x="147600" y="434880"/>
            <a:chExt cx="2319120" cy="700200"/>
          </a:xfrm>
        </p:grpSpPr>
        <p:pic>
          <p:nvPicPr>
            <p:cNvPr id="291" name="Picture 10" descr="未标题-1"/>
            <p:cNvPicPr/>
            <p:nvPr/>
          </p:nvPicPr>
          <p:blipFill>
            <a:blip r:embed="rId1"/>
            <a:stretch/>
          </p:blipFill>
          <p:spPr>
            <a:xfrm>
              <a:off x="147600" y="434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2"/>
            <p:cNvSpPr/>
            <p:nvPr/>
          </p:nvSpPr>
          <p:spPr>
            <a:xfrm>
              <a:off x="684000" y="511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93" name="图片 2" descr="572b4da2g72408eec4173&amp;690"/>
          <p:cNvPicPr/>
          <p:nvPr/>
        </p:nvPicPr>
        <p:blipFill>
          <a:blip r:embed="rId2"/>
          <a:stretch/>
        </p:blipFill>
        <p:spPr>
          <a:xfrm>
            <a:off x="469800" y="2136600"/>
            <a:ext cx="2779920" cy="27514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99"/>
          <p:cNvSpPr/>
          <p:nvPr/>
        </p:nvSpPr>
        <p:spPr>
          <a:xfrm>
            <a:off x="3444840" y="1628640"/>
            <a:ext cx="494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“峡”字的字形结构，什么样的地势才称得上“峡”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文本框 3"/>
          <p:cNvSpPr/>
          <p:nvPr/>
        </p:nvSpPr>
        <p:spPr>
          <a:xfrm>
            <a:off x="3444840" y="4284720"/>
            <a:ext cx="470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峡”字字典里的解释就是“两山夹水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滩多水急的西陵峡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200880" y="28404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滩多水急的西陵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914400" y="1447920"/>
            <a:ext cx="7315200" cy="48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阙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    ）     叠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嶂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（      ）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襄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      )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陵　沿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溯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    ） </a:t>
            </a:r>
            <a:br>
              <a:rPr sz="4800"/>
            </a:b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曦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    ）     素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湍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      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绝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巘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     ）长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啸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     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属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    )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引     哀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转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      ）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380880" y="304920"/>
            <a:ext cx="64771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为加横线的字注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13372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6019920" y="1523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752480" y="27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iā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6095880" y="266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2286000" y="3429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01992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uā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281952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ă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94360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752480" y="5638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5791320" y="5562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uă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000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华文新魏"/>
              </a:rPr>
              <a:t>一、朗读课文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华文新魏"/>
              </a:rPr>
              <a:t>注意朗读的节奏。如停顿、重音、声调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这篇文章虽短，但波澜起伏、节奏感强。写山势文气舒缓，写江水暴涨，如异峰突起，文气急促，写冬春之景，文气变得凄清、悲凉，节奏变得沉重凝滞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179280" y="333360"/>
            <a:ext cx="66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借助语感  读清句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节奏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46160" y="1052640"/>
            <a:ext cx="889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             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自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三峡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七百里中，两岸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连山，略无阙处；重岩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叠嶂，隐天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蔽日，自非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亭午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夜分，不见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曦月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50920" y="2060640"/>
            <a:ext cx="8642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至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夏水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襄陵，沿溯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阻绝。或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王命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急宣，有时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朝发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白帝，暮到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江陵，其间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千二百里，虽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乘奔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御风，不以疾也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79280" y="3429000"/>
            <a:ext cx="871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春冬之时，则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素湍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绿潭，回清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倒影。绝</a:t>
            </a:r>
            <a:r>
              <a:rPr b="1" lang="zh-CN" sz="3200" spc="-1" strike="noStrike">
                <a:solidFill>
                  <a:srgbClr val="000033"/>
                </a:solidFill>
                <a:latin typeface="Times New Roman"/>
              </a:rPr>
              <a:t>巘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多生怪柏，悬泉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瀑布，飞漱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其间，清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荣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峻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茂，良多</a:t>
            </a: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33"/>
                </a:solidFill>
                <a:latin typeface="Times New Roman"/>
              </a:rPr>
              <a:t>趣味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250920" y="4869000"/>
            <a:ext cx="8642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每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睛初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霜旦，林寒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涧肃，常有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猿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长啸，属引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凄异，空谷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响，哀转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久绝。故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渔者歌曰：“巴东三峡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巫峡长，猿鸣三声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泪沾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!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862680" y="38322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7237440" y="38624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83818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s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sx">
            <a:hlinkClick r:id="rId3"/>
          </p:cNvPr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990720" y="990720"/>
            <a:ext cx="2514600" cy="1265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sx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8077320" y="6311880"/>
            <a:ext cx="1066680" cy="536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ZD042081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DLB077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ZD042080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s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s3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s1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sx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71640" y="836640"/>
          <a:ext cx="7272360" cy="576108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自三峡七百里中，两岸连山，略无阙处。重岩叠嶂，隐天蔽日。自非亭午夜分，不见曦月。至于夏水襄陵，沿溯阻绝。或王命急宣，有时朝发白帝，暮到江陵，其间千二百里，虽乘奔御风，不以疾也。春冬之时，则素湍绿潭，回清倒影。绝巘多生怪柏，悬泉瀑布，飞漱其间。清荣峻茂，良多趣味。每至晴初霜旦，林寒涧肃，常有高猿长啸，属引凄异，空谷传响，哀转久绝。故渔者歌曰：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巴东三峡巫峡长，猿鸣三声泪沾裳。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br>
                        <a:rPr sz="2800"/>
                      </a:b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3" name="Text Box 19"/>
          <p:cNvSpPr/>
          <p:nvPr/>
        </p:nvSpPr>
        <p:spPr>
          <a:xfrm>
            <a:off x="611280" y="189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听范读，注意读音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0948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自三峡七百里中，两岸连山，略无阙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219320" y="22096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5800" y="2133720"/>
          <a:ext cx="609480" cy="6397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在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2133720"/>
          <a:ext cx="2057400" cy="5792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完全没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16"/>
          <p:cNvSpPr/>
          <p:nvPr/>
        </p:nvSpPr>
        <p:spPr>
          <a:xfrm>
            <a:off x="7848720" y="22860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0" y="1928880"/>
          <a:ext cx="1990800" cy="944640"/>
        </p:xfrm>
        <a:graphic>
          <a:graphicData uri="http://schemas.openxmlformats.org/drawingml/2006/table">
            <a:tbl>
              <a:tblPr/>
              <a:tblGrid>
                <a:gridCol w="1990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通“缺”，空隙、缺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23"/>
          <p:cNvSpPr/>
          <p:nvPr/>
        </p:nvSpPr>
        <p:spPr>
          <a:xfrm>
            <a:off x="762120" y="3809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翻译：在七百里长的三峡之中，两岸群山连绵，没有中断的地方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24"/>
          <p:cNvSpPr/>
          <p:nvPr/>
        </p:nvSpPr>
        <p:spPr>
          <a:xfrm>
            <a:off x="60958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Oval 25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70102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Oval 27"/>
          <p:cNvSpPr/>
          <p:nvPr/>
        </p:nvSpPr>
        <p:spPr>
          <a:xfrm>
            <a:off x="8380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1763640" y="22050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3"/>
          <p:cNvSpPr/>
          <p:nvPr/>
        </p:nvSpPr>
        <p:spPr>
          <a:xfrm>
            <a:off x="395280" y="18900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二、词句翻译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523880" y="563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重岩叠嶂，隐天蔽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2362320" y="1143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523880" y="1371600"/>
          <a:ext cx="4343400" cy="63972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直立像屏障的山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10"/>
          <p:cNvSpPr/>
          <p:nvPr/>
        </p:nvSpPr>
        <p:spPr>
          <a:xfrm>
            <a:off x="1523880" y="33526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翻译：重重叠叠的岩峰像屏障一样，遮盖住了蓝天和太阳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3011400" y="1143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523880" y="990720"/>
            <a:ext cx="55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自非亭午夜分，不见曦月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676520" y="1981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066680" y="1981080"/>
          <a:ext cx="1219320" cy="6397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如果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514600" y="1981080"/>
          <a:ext cx="1143000" cy="6397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正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181480" y="1981080"/>
          <a:ext cx="1219320" cy="6397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太阳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Text Box 22"/>
          <p:cNvSpPr/>
          <p:nvPr/>
        </p:nvSpPr>
        <p:spPr>
          <a:xfrm>
            <a:off x="1600200" y="33526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翻译：除非正午，看不见太阳；除非半夜，看不见月亮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Oval 23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 flipH="1" flipV="1">
            <a:off x="2590200" y="15994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2971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 flipV="1">
            <a:off x="5410080" y="1675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至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夏水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陵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阻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928960" y="1643040"/>
            <a:ext cx="1512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升到高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300720" y="1557360"/>
            <a:ext cx="865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逆流而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5076720" y="1557360"/>
            <a:ext cx="8654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顺流而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7740720" y="1628640"/>
            <a:ext cx="865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隔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762120" y="3276720"/>
            <a:ext cx="8001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翻译：到了夏天，江水暴涨，漫上两岸的山陵，上下航行的船都阻隔断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1357200" y="1571760"/>
            <a:ext cx="865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1187280" y="981000"/>
            <a:ext cx="7239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或王命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有时朝发白帝，暮到江陵，其间千二百里，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奔御风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疾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447920" y="30481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476280"/>
          <a:ext cx="1341360" cy="639720"/>
        </p:xfrm>
        <a:graphic>
          <a:graphicData uri="http://schemas.openxmlformats.org/drawingml/2006/table">
            <a:tbl>
              <a:tblPr/>
              <a:tblGrid>
                <a:gridCol w="1341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有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3286080" y="2214720"/>
          <a:ext cx="1143000" cy="6397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即使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786200" y="2071800"/>
          <a:ext cx="1657440" cy="71568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驾驭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8534520" y="2666880"/>
          <a:ext cx="228600" cy="51768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 Box 28"/>
          <p:cNvSpPr/>
          <p:nvPr/>
        </p:nvSpPr>
        <p:spPr>
          <a:xfrm>
            <a:off x="762120" y="3276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翻译：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）有皇帝的命令要紧急传达，这时早上从白帝城出发，傍晚就到了江陵，这中间有一千二百里，即使是骑着奔驰的快马，驾着长风，也不如船行得快啊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Oval 29"/>
          <p:cNvSpPr/>
          <p:nvPr/>
        </p:nvSpPr>
        <p:spPr>
          <a:xfrm>
            <a:off x="1476360" y="1484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Oval 30"/>
          <p:cNvSpPr/>
          <p:nvPr/>
        </p:nvSpPr>
        <p:spPr>
          <a:xfrm flipH="1" flipV="1">
            <a:off x="4714200" y="199944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484360" y="333360"/>
          <a:ext cx="3024360" cy="63972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宣布，传播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1042920" y="2637000"/>
          <a:ext cx="1656000" cy="71568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不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Oval 31"/>
          <p:cNvSpPr/>
          <p:nvPr/>
        </p:nvSpPr>
        <p:spPr>
          <a:xfrm>
            <a:off x="4286160" y="2000160"/>
            <a:ext cx="16668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ss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WordArt 3"/>
          <p:cNvSpPr txBox="1"/>
          <p:nvPr/>
        </p:nvSpPr>
        <p:spPr>
          <a:xfrm>
            <a:off x="3429000" y="1752480"/>
            <a:ext cx="2666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三峡</a:t>
            </a:r>
            <a:endParaRPr b="0" lang="en-US" sz="24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8" name="WordArt 4"/>
          <p:cNvSpPr txBox="1"/>
          <p:nvPr/>
        </p:nvSpPr>
        <p:spPr>
          <a:xfrm>
            <a:off x="3886200" y="38862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郦道元</a:t>
            </a:r>
            <a:endParaRPr b="0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1219320" y="609480"/>
            <a:ext cx="71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春冬之时，则素湍绿潭，回清倒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828800" y="25146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971800" y="2057400"/>
          <a:ext cx="2362320" cy="57960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白色的急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867280" y="2057400"/>
          <a:ext cx="2362320" cy="57960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回旋着清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Text Box 16"/>
          <p:cNvSpPr/>
          <p:nvPr/>
        </p:nvSpPr>
        <p:spPr>
          <a:xfrm>
            <a:off x="1371600" y="37339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翻译：春冬季节，白色的急流，回旋着清波；碧绿的深潭，映出了（山石林木的）倒影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Oval 17"/>
          <p:cNvSpPr/>
          <p:nvPr/>
        </p:nvSpPr>
        <p:spPr>
          <a:xfrm>
            <a:off x="3886200" y="1295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Oval 18"/>
          <p:cNvSpPr/>
          <p:nvPr/>
        </p:nvSpPr>
        <p:spPr>
          <a:xfrm>
            <a:off x="4343400" y="1295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Oval 19"/>
          <p:cNvSpPr/>
          <p:nvPr/>
        </p:nvSpPr>
        <p:spPr>
          <a:xfrm flipV="1">
            <a:off x="5943600" y="1370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Oval 20"/>
          <p:cNvSpPr/>
          <p:nvPr/>
        </p:nvSpPr>
        <p:spPr>
          <a:xfrm>
            <a:off x="6400800" y="1371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838080" y="685800"/>
            <a:ext cx="80550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宋体"/>
              </a:rPr>
              <a:t>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多生怪柏，悬泉瀑布，飞漱   </a:t>
            </a:r>
            <a:r>
              <a:rPr b="0" lang="zh-CN" sz="3200" spc="-1" strike="noStrike">
                <a:solidFill>
                  <a:srgbClr val="ff3399"/>
                </a:solidFill>
                <a:latin typeface="宋体"/>
              </a:rPr>
              <a:t>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间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清荣峻茂，</a:t>
            </a:r>
            <a:r>
              <a:rPr b="0" lang="zh-CN" sz="3200" spc="-1" strike="noStrike">
                <a:solidFill>
                  <a:srgbClr val="ff3399"/>
                </a:solidFill>
                <a:latin typeface="宋体"/>
              </a:rPr>
              <a:t>良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多趣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1295280" y="2895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11280" y="1268280"/>
          <a:ext cx="2361960" cy="57960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极高的山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643720" y="1428840"/>
          <a:ext cx="1143000" cy="5173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冲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Text Box 16"/>
          <p:cNvSpPr/>
          <p:nvPr/>
        </p:nvSpPr>
        <p:spPr>
          <a:xfrm>
            <a:off x="971640" y="40766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翻译：极高的山峰上长着许多奇形怪状的古柏，悬挂着的泉水瀑布，从它们中间飞泻、冲荡下来，江水清澈，两岸山峰高峻，山上草木茂盛，实在趣味无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Oval 17"/>
          <p:cNvSpPr/>
          <p:nvPr/>
        </p:nvSpPr>
        <p:spPr>
          <a:xfrm>
            <a:off x="1143000" y="1219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Oval 18"/>
          <p:cNvSpPr/>
          <p:nvPr/>
        </p:nvSpPr>
        <p:spPr>
          <a:xfrm>
            <a:off x="1600200" y="1219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Oval 19"/>
          <p:cNvSpPr/>
          <p:nvPr/>
        </p:nvSpPr>
        <p:spPr>
          <a:xfrm flipV="1">
            <a:off x="6477120" y="1218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755640" y="189000"/>
          <a:ext cx="576360" cy="57924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7093080" y="1268280"/>
          <a:ext cx="2050920" cy="457200"/>
        </p:xfrm>
        <a:graphic>
          <a:graphicData uri="http://schemas.openxmlformats.org/drawingml/2006/table">
            <a:tbl>
              <a:tblPr/>
              <a:tblGrid>
                <a:gridCol w="205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它们，指怪柏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84360" y="2852640"/>
          <a:ext cx="4103640" cy="10670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水清，树荣，山峻，草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AutoShape 44"/>
          <p:cNvSpPr/>
          <p:nvPr/>
        </p:nvSpPr>
        <p:spPr>
          <a:xfrm>
            <a:off x="6000840" y="2714760"/>
            <a:ext cx="2600280" cy="914400"/>
          </a:xfrm>
          <a:prstGeom prst="borderCallout1">
            <a:avLst>
              <a:gd name="adj1" fmla="val 18750"/>
              <a:gd name="adj2" fmla="val -8333"/>
              <a:gd name="adj3" fmla="val -9921"/>
              <a:gd name="adj4" fmla="val -1106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实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圆角矩形标注 14"/>
          <p:cNvSpPr/>
          <p:nvPr/>
        </p:nvSpPr>
        <p:spPr>
          <a:xfrm>
            <a:off x="6357960" y="285840"/>
            <a:ext cx="1785960" cy="500040"/>
          </a:xfrm>
          <a:prstGeom prst="wedgeRoundRectCallout">
            <a:avLst>
              <a:gd name="adj1" fmla="val -19763"/>
              <a:gd name="adj2" fmla="val 11474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于）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457200" y="914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每至晴初霜旦 ，林寒涧肃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962520" y="18288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495680" y="2209680"/>
          <a:ext cx="1371600" cy="68580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寂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Text Box 10"/>
          <p:cNvSpPr/>
          <p:nvPr/>
        </p:nvSpPr>
        <p:spPr>
          <a:xfrm>
            <a:off x="380880" y="23623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57200" y="2209680"/>
          <a:ext cx="3429000" cy="118908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秋雨初晴，降霜的早晨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Text Box 17"/>
          <p:cNvSpPr/>
          <p:nvPr/>
        </p:nvSpPr>
        <p:spPr>
          <a:xfrm>
            <a:off x="457200" y="3962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翻译：每逢秋雨初晴或降霜的早晨，树林山涧里一片清冷寂静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Oval 18"/>
          <p:cNvSpPr/>
          <p:nvPr/>
        </p:nvSpPr>
        <p:spPr>
          <a:xfrm>
            <a:off x="1523880" y="1447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1981080" y="1447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Oval 20"/>
          <p:cNvSpPr/>
          <p:nvPr/>
        </p:nvSpPr>
        <p:spPr>
          <a:xfrm>
            <a:off x="2743200" y="1447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Oval 21"/>
          <p:cNvSpPr/>
          <p:nvPr/>
        </p:nvSpPr>
        <p:spPr>
          <a:xfrm>
            <a:off x="4876920" y="1447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Oval 22"/>
          <p:cNvSpPr/>
          <p:nvPr/>
        </p:nvSpPr>
        <p:spPr>
          <a:xfrm>
            <a:off x="2362320" y="1447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1066680" y="1066680"/>
            <a:ext cx="70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属        引凄异，空谷传响，哀转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914400" y="1828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84360" y="1773360"/>
          <a:ext cx="1265040" cy="639720"/>
        </p:xfrm>
        <a:graphic>
          <a:graphicData uri="http://schemas.openxmlformats.org/drawingml/2006/table">
            <a:tbl>
              <a:tblPr/>
              <a:tblGrid>
                <a:gridCol w="1265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连续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10"/>
          <p:cNvSpPr/>
          <p:nvPr/>
        </p:nvSpPr>
        <p:spPr>
          <a:xfrm>
            <a:off x="3200400" y="20574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4643280" y="1989000"/>
          <a:ext cx="1219320" cy="64008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回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Text Box 17"/>
          <p:cNvSpPr/>
          <p:nvPr/>
        </p:nvSpPr>
        <p:spPr>
          <a:xfrm>
            <a:off x="1219320" y="327672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翻译：常常有一些高处的猿猴拉长了声音在叫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叫声连续不断，音调凄凉怪异，空荡的山谷里传来回声，悲哀婉转，很长时间才消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Oval 18"/>
          <p:cNvSpPr/>
          <p:nvPr/>
        </p:nvSpPr>
        <p:spPr>
          <a:xfrm>
            <a:off x="1295280" y="1600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Oval 19"/>
          <p:cNvSpPr/>
          <p:nvPr/>
        </p:nvSpPr>
        <p:spPr>
          <a:xfrm>
            <a:off x="2556000" y="1628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Oval 20"/>
          <p:cNvSpPr/>
          <p:nvPr/>
        </p:nvSpPr>
        <p:spPr>
          <a:xfrm>
            <a:off x="5364000" y="1628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124000" y="1844640"/>
          <a:ext cx="1265400" cy="63972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延长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308720" y="1916280"/>
          <a:ext cx="1219320" cy="6397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消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38"/>
          <p:cNvSpPr/>
          <p:nvPr/>
        </p:nvSpPr>
        <p:spPr>
          <a:xfrm>
            <a:off x="133200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有高猿长啸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990720" y="762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故渔者歌曰：“巴东三峡巫峡长，猿鸣三   声 泪沾裳！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066680" y="30481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翻译：所以打鱼的人唱道：“巴东三峡巫峡长，猿鸣三声泪沾裳！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600200" y="1981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143000" y="2057400"/>
          <a:ext cx="1371600" cy="6094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所以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Oval 11"/>
          <p:cNvSpPr/>
          <p:nvPr/>
        </p:nvSpPr>
        <p:spPr>
          <a:xfrm>
            <a:off x="1219320" y="12193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思考下列问题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一、作者写了三峡的哪些自然景物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二、作者分别抓住这些自然景物的哪些特点来写的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三、课文表现了作者这样的思想感情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一、作者写了三峡的哪些自然景物？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714240" y="21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2a39"/>
                </a:solidFill>
                <a:latin typeface="Tahoma"/>
              </a:rPr>
              <a:t>文章先写山，后写水。写山，突出连绵不断、遮天蔽日的特点； 写水，则描绘不同季节的不同景象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71320" y="7858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二、作者分别抓住这些自然景物的哪些特点来写的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左大括号 14"/>
          <p:cNvSpPr/>
          <p:nvPr/>
        </p:nvSpPr>
        <p:spPr>
          <a:xfrm>
            <a:off x="857160" y="1071720"/>
            <a:ext cx="642960" cy="21430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2143080"/>
              <a:gd name="textAreaBottom" fmla="*/ 21265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590"/>
                </a:lnTo>
                <a:cubicBezTo>
                  <a:pt x="10800" y="10860"/>
                  <a:pt x="5400" y="11129"/>
                  <a:pt x="0" y="11129"/>
                </a:cubicBezTo>
                <a:cubicBezTo>
                  <a:pt x="5400" y="11129"/>
                  <a:pt x="10800" y="11399"/>
                  <a:pt x="10800" y="11668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643040" y="1143000"/>
            <a:ext cx="39290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自三峡</a:t>
            </a: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七百里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中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214280" y="1857240"/>
            <a:ext cx="5867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两岸</a:t>
            </a: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连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山，</a:t>
            </a: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略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无</a:t>
            </a: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阙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00120" y="2500200"/>
            <a:ext cx="50958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重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岩</a:t>
            </a: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叠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嶂，</a:t>
            </a: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隐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天</a:t>
            </a: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蔽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04920" y="3429000"/>
            <a:ext cx="69339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长城新魏碑体"/>
                <a:ea typeface="长城新魏碑体"/>
              </a:rPr>
              <a:t>自非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亭午夜分，不见曦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5786280" y="1143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长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6143760" y="178596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连绵不断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6072120" y="2571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高耸峻峭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228600" y="4572000"/>
            <a:ext cx="42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高峻、狭窄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4356000" y="4724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铺垫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4356000" y="479736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宋体"/>
              </a:rPr>
              <a:t>→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5715000" y="45720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夏水的迅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473080" y="400536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侧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渲染山峰的高峻、江面的狭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214200" y="0"/>
            <a:ext cx="892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第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段：写三峡山势特征 （山高岭连）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357120" y="1000080"/>
            <a:ext cx="42876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正面写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3"/>
          <p:cNvSpPr/>
          <p:nvPr/>
        </p:nvSpPr>
        <p:spPr>
          <a:xfrm>
            <a:off x="0" y="785880"/>
            <a:ext cx="7143840" cy="132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正面描写：夏水襄陵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沿溯阻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6143760" y="762120"/>
            <a:ext cx="32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水势浩大 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0" y="2214720"/>
            <a:ext cx="70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侧面描写：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有时</a:t>
            </a:r>
            <a:r>
              <a:rPr b="0" lang="zh-CN" sz="3600" spc="-1" strike="noStrike">
                <a:solidFill>
                  <a:srgbClr val="ffffff"/>
                </a:solidFill>
                <a:latin typeface="长城新魏碑体"/>
                <a:ea typeface="长城新魏碑体"/>
              </a:rPr>
              <a:t>朝发白帝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暮到江陵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6286680" y="2590920"/>
            <a:ext cx="28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水流湍急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1000080" y="4143240"/>
            <a:ext cx="59436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虽乘奔御风，不以疾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6858000" y="40719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夸张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5493600" y="5000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现夏日江水的迅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395280" y="260280"/>
            <a:ext cx="83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第二段写三峡夏水的特征：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水流浩大湍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6"/>
          <p:cNvGrpSpPr/>
          <p:nvPr/>
        </p:nvGrpSpPr>
        <p:grpSpPr>
          <a:xfrm>
            <a:off x="74520" y="407880"/>
            <a:ext cx="2319120" cy="700200"/>
            <a:chOff x="74520" y="407880"/>
            <a:chExt cx="2319120" cy="700200"/>
          </a:xfrm>
        </p:grpSpPr>
        <p:pic>
          <p:nvPicPr>
            <p:cNvPr id="300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74520" y="407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2"/>
            <p:cNvSpPr/>
            <p:nvPr/>
          </p:nvSpPr>
          <p:spPr>
            <a:xfrm>
              <a:off x="610920" y="484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标题 23553"/>
          <p:cNvSpPr/>
          <p:nvPr/>
        </p:nvSpPr>
        <p:spPr>
          <a:xfrm>
            <a:off x="606600" y="1292400"/>
            <a:ext cx="79308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郦道元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字善长。范阳涿鹿人，南北朝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北魏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时的地理学家，散文作家。据记载，他一生好学不倦，博览群书，学识渊博，对人民比较同情，对权贵有所不满；对祖国河山十分热爱，对地理风物精切钻研。他的著作很多，最有名的是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水经注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四十卷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图片 1" descr="郦道元"/>
          <p:cNvPicPr/>
          <p:nvPr/>
        </p:nvPicPr>
        <p:blipFill>
          <a:blip r:embed="rId2"/>
          <a:srcRect l="0" t="0" r="0" b="11995"/>
          <a:stretch/>
        </p:blipFill>
        <p:spPr>
          <a:xfrm>
            <a:off x="5595840" y="4616280"/>
            <a:ext cx="26798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3"/>
          <p:cNvSpPr/>
          <p:nvPr/>
        </p:nvSpPr>
        <p:spPr>
          <a:xfrm>
            <a:off x="357120" y="285840"/>
            <a:ext cx="8458200" cy="173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华文行楷"/>
                <a:ea typeface="华文行楷"/>
              </a:rPr>
              <a:t>3.</a:t>
            </a:r>
            <a:r>
              <a:rPr b="0" lang="zh-CN" sz="5400" spc="-1" strike="noStrike">
                <a:solidFill>
                  <a:srgbClr val="3333cc"/>
                </a:solidFill>
                <a:latin typeface="华文行楷"/>
                <a:ea typeface="华文行楷"/>
              </a:rPr>
              <a:t>读第</a:t>
            </a:r>
            <a:r>
              <a:rPr b="0" lang="en-US" sz="5400" spc="-1" strike="noStrike">
                <a:solidFill>
                  <a:srgbClr val="3333cc"/>
                </a:solidFill>
                <a:latin typeface="华文行楷"/>
                <a:ea typeface="华文行楷"/>
              </a:rPr>
              <a:t>3</a:t>
            </a:r>
            <a:r>
              <a:rPr b="0" lang="zh-CN" sz="5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层：作者运用哪些语句来描写三峡春冬的景色的？观察角度有何不同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609480" y="2971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素湍绿潭，回清倒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6781680" y="3048120"/>
            <a:ext cx="17528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俯 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609480" y="3733920"/>
            <a:ext cx="60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绝巘多生怪柏，悬泉瀑布，飞漱其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6781680" y="3962520"/>
            <a:ext cx="17528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仰 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609480" y="4952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白浪、绿潭、青山、花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6781680" y="4952880"/>
            <a:ext cx="20574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色彩艳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428760" y="578628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峻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6781680" y="5715000"/>
            <a:ext cx="20574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一字一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3"/>
          <p:cNvSpPr/>
          <p:nvPr/>
        </p:nvSpPr>
        <p:spPr>
          <a:xfrm>
            <a:off x="30492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读第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段：作者描绘三峡秋天的景象时选取了怎样的时间和事物？请用两个词语概括其特点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2143080" y="2357280"/>
            <a:ext cx="3652920" cy="581400"/>
          </a:xfrm>
          <a:prstGeom prst="rect">
            <a:avLst/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时间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晴初霜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714240" y="3429000"/>
            <a:ext cx="7472520" cy="642600"/>
          </a:xfrm>
          <a:prstGeom prst="rect">
            <a:avLst/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景物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：林、涧、猿啸、回声、渔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286000" y="4500720"/>
            <a:ext cx="4343400" cy="703440"/>
          </a:xfrm>
          <a:prstGeom prst="rect">
            <a:avLst/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特点：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悲寂、凄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380880" y="685800"/>
            <a:ext cx="38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常有高猿长啸，属引凄异，空谷传响，哀转久绝。”渲染了怎样的气氛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428760" y="33577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  <a:ea typeface="隶书"/>
              </a:rPr>
              <a:t>渲染了寒秋三峡的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萧瑟、凄凉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  <a:ea typeface="隶书"/>
              </a:rPr>
              <a:t>的气氛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4" descr="猿猴"/>
          <p:cNvPicPr/>
          <p:nvPr/>
        </p:nvPicPr>
        <p:blipFill>
          <a:blip r:embed="rId1"/>
          <a:stretch/>
        </p:blipFill>
        <p:spPr>
          <a:xfrm>
            <a:off x="4572000" y="533520"/>
            <a:ext cx="4343400" cy="6019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R02"/>
          <p:cNvPicPr/>
          <p:nvPr/>
        </p:nvPicPr>
        <p:blipFill>
          <a:blip r:embed="rId1"/>
          <a:stretch/>
        </p:blipFill>
        <p:spPr>
          <a:xfrm>
            <a:off x="648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4"/>
          <p:cNvSpPr/>
          <p:nvPr/>
        </p:nvSpPr>
        <p:spPr>
          <a:xfrm>
            <a:off x="-966240" y="333360"/>
            <a:ext cx="2009160" cy="18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三峡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371600" y="1219320"/>
            <a:ext cx="75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故渔者歌曰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巴东三峡巫峡长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猿鸣三声泪沾裳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隶书"/>
              </a:rPr>
              <a:t>引用渔歌有什么作用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1371600" y="30481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引用渔者的歌谣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进一步突出三峡山高水长的特点，同时渲染三峡秋季萧瑟、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悲寂、凄凉的气氛。也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侧面表现出三峡渔民船夫的悲惨生活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R02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R04"/>
          <p:cNvPicPr/>
          <p:nvPr/>
        </p:nvPicPr>
        <p:blipFill>
          <a:blip r:embed="rId2"/>
          <a:stretch/>
        </p:blipFill>
        <p:spPr>
          <a:xfrm>
            <a:off x="-30240" y="0"/>
            <a:ext cx="1109880" cy="6885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1547640" y="19890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山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47640" y="37180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水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2411280" y="2041560"/>
            <a:ext cx="360360" cy="934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219320" y="3808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二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课文每个层次分别写出了三峡景色的什么特点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203640" y="17319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胖娃简体"/>
              </a:rPr>
              <a:t>连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320364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胖娃简体"/>
              </a:rPr>
              <a:t>高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2411280" y="350208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5855"/>
                </a:lnTo>
                <a:cubicBezTo>
                  <a:pt x="10800" y="6755"/>
                  <a:pt x="5400" y="7654"/>
                  <a:pt x="0" y="7654"/>
                </a:cubicBezTo>
                <a:cubicBezTo>
                  <a:pt x="5400" y="7654"/>
                  <a:pt x="10800" y="8554"/>
                  <a:pt x="10800" y="945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164040" y="4227480"/>
            <a:ext cx="47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方正胖娃简体"/>
              </a:rPr>
              <a:t>春冬之景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方正胖娃简体"/>
              </a:rPr>
              <a:t>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胖娃简体"/>
              </a:rPr>
              <a:t>清幽、秀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3187800" y="3332160"/>
            <a:ext cx="50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方正胖娃简体"/>
              </a:rPr>
              <a:t>夏水：浩大凶险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胖娃简体"/>
              </a:rPr>
              <a:t>迅疾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3203640" y="5157720"/>
            <a:ext cx="43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方正胖娃简体"/>
              </a:rPr>
              <a:t>秋景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胖娃简体"/>
              </a:rPr>
              <a:t>萧瑟、凄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-966240" y="333360"/>
            <a:ext cx="2009160" cy="18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54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三峡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1619280" y="25970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汉仪嘟嘟体简"/>
              </a:rPr>
              <a:t>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269892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汉仪嘟嘟体简"/>
              </a:rPr>
              <a:t>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18"/>
          <p:cNvSpPr/>
          <p:nvPr/>
        </p:nvSpPr>
        <p:spPr>
          <a:xfrm>
            <a:off x="2700360" y="42274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汉仪嘟嘟体简"/>
              </a:rPr>
              <a:t>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2701800" y="51703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汉仪嘟嘟体简"/>
              </a:rPr>
              <a:t>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0" y="2362320"/>
          <a:ext cx="8610480" cy="4190760"/>
        </p:xfrm>
        <a:graphic>
          <a:graphicData uri="http://schemas.openxmlformats.org/drawingml/2006/table">
            <a:tbl>
              <a:tblPr/>
              <a:tblGrid>
                <a:gridCol w="2057400"/>
                <a:gridCol w="1600200"/>
                <a:gridCol w="2362320"/>
                <a:gridCol w="25905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段落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季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主要景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景物特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一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四季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二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三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四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Text Box 36"/>
          <p:cNvSpPr/>
          <p:nvPr/>
        </p:nvSpPr>
        <p:spPr>
          <a:xfrm>
            <a:off x="4267080" y="33526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37"/>
          <p:cNvSpPr/>
          <p:nvPr/>
        </p:nvSpPr>
        <p:spPr>
          <a:xfrm>
            <a:off x="5791320" y="2514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38"/>
          <p:cNvSpPr/>
          <p:nvPr/>
        </p:nvSpPr>
        <p:spPr>
          <a:xfrm>
            <a:off x="624852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连绵、高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39"/>
          <p:cNvSpPr/>
          <p:nvPr/>
        </p:nvSpPr>
        <p:spPr>
          <a:xfrm>
            <a:off x="2209680" y="40384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夏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40"/>
          <p:cNvSpPr/>
          <p:nvPr/>
        </p:nvSpPr>
        <p:spPr>
          <a:xfrm>
            <a:off x="4343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41"/>
          <p:cNvSpPr/>
          <p:nvPr/>
        </p:nvSpPr>
        <p:spPr>
          <a:xfrm>
            <a:off x="6324480" y="4191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汹涌、迅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2286000" y="4952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春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3809880" y="5029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水、山、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624852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清荣峻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2362320" y="5791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6"/>
          <p:cNvSpPr/>
          <p:nvPr/>
        </p:nvSpPr>
        <p:spPr>
          <a:xfrm>
            <a:off x="4038480" y="5791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水、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7"/>
          <p:cNvSpPr/>
          <p:nvPr/>
        </p:nvSpPr>
        <p:spPr>
          <a:xfrm>
            <a:off x="6095880" y="5867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凄异、哀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8"/>
          <p:cNvSpPr/>
          <p:nvPr/>
        </p:nvSpPr>
        <p:spPr>
          <a:xfrm>
            <a:off x="304920" y="4572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49"/>
          <p:cNvSpPr/>
          <p:nvPr/>
        </p:nvSpPr>
        <p:spPr>
          <a:xfrm>
            <a:off x="0" y="762120"/>
            <a:ext cx="82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者抓住了三峡的哪些景物、哪些特征进行描绘的？请填写下表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WordArt 50"/>
          <p:cNvSpPr txBox="1"/>
          <p:nvPr/>
        </p:nvSpPr>
        <p:spPr>
          <a:xfrm>
            <a:off x="533520" y="0"/>
            <a:ext cx="2095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想一想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500040" y="7858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作者是如何从不同的季节景象来描写江水的特点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28760" y="1714680"/>
            <a:ext cx="7775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28fc"/>
                </a:solidFill>
                <a:latin typeface="Times New Roman"/>
              </a:rPr>
              <a:t>夏天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了因水大而形成的险阻和江流的迅急，突出江水凶险和疾速的特点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28fc"/>
                </a:solidFill>
                <a:latin typeface="Times New Roman"/>
              </a:rPr>
              <a:t>春冬之时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水退潭清，景色秀丽，突出了三峡春冬景色的清丽的奇秀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28fc"/>
                </a:solidFill>
                <a:latin typeface="Times New Roman"/>
              </a:rPr>
              <a:t>秋季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景色清冷寂静，水枯气寒冷以高猿哀鸣衬托深秋的凄清，渲染了秋天的萧瑟气氛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内容占位符 2"/>
          <p:cNvSpPr/>
          <p:nvPr/>
        </p:nvSpPr>
        <p:spPr>
          <a:xfrm>
            <a:off x="857160" y="5072040"/>
            <a:ext cx="7000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冬、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水退潭清，风景秀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WordArt 11" descr=""/>
          <p:cNvPicPr/>
          <p:nvPr/>
        </p:nvPicPr>
        <p:blipFill>
          <a:blip r:embed="rId1"/>
          <a:stretch/>
        </p:blipFill>
        <p:spPr>
          <a:xfrm>
            <a:off x="1200240" y="4419720"/>
            <a:ext cx="5419800" cy="682560"/>
          </a:xfrm>
          <a:prstGeom prst="rect">
            <a:avLst/>
          </a:prstGeom>
          <a:ln w="0">
            <a:noFill/>
          </a:ln>
        </p:spPr>
      </p:pic>
      <p:pic>
        <p:nvPicPr>
          <p:cNvPr id="537" name="WordArt 22" descr=""/>
          <p:cNvPicPr/>
          <p:nvPr/>
        </p:nvPicPr>
        <p:blipFill>
          <a:blip r:embed="rId2"/>
          <a:stretch/>
        </p:blipFill>
        <p:spPr>
          <a:xfrm>
            <a:off x="1133640" y="5772240"/>
            <a:ext cx="5943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609480" y="3049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山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AutoShape 3"/>
          <p:cNvSpPr/>
          <p:nvPr/>
        </p:nvSpPr>
        <p:spPr>
          <a:xfrm flipV="1">
            <a:off x="1600200" y="15156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-74520" y="3962520"/>
            <a:ext cx="22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四季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0574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两岸连山，略无阙处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057400" y="762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重岩叠嶂，隐天蔽日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37180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8"/>
          <p:cNvSpPr/>
          <p:nvPr/>
        </p:nvSpPr>
        <p:spPr>
          <a:xfrm flipV="1">
            <a:off x="1523880" y="2590920"/>
            <a:ext cx="381240" cy="3581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1523880" y="1523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特点：连绵不断，遮天蔽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7162920" y="2286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7391520" y="533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雄壮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1730520" y="272736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168444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春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1989000" y="5486400"/>
            <a:ext cx="13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-1076760" y="1676520"/>
            <a:ext cx="2191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三峡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2522520" y="2362320"/>
            <a:ext cx="47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夏水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襄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陵，沿溯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阻绝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25225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朝发白帝，暮到江陵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6218280" y="243828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（水势浩大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6172200" y="327672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（流速湍急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AutoShape 20"/>
          <p:cNvSpPr/>
          <p:nvPr/>
        </p:nvSpPr>
        <p:spPr>
          <a:xfrm>
            <a:off x="2370240" y="25909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AutoShape 21"/>
          <p:cNvSpPr/>
          <p:nvPr/>
        </p:nvSpPr>
        <p:spPr>
          <a:xfrm>
            <a:off x="2743200" y="38098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22"/>
          <p:cNvSpPr/>
          <p:nvPr/>
        </p:nvSpPr>
        <p:spPr>
          <a:xfrm>
            <a:off x="2895480" y="38098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素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湍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绿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潭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回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清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倒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2895480" y="4495680"/>
            <a:ext cx="39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绝巘怪柏，悬泉瀑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702936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俯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7029360" y="4572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仰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26"/>
          <p:cNvSpPr/>
          <p:nvPr/>
        </p:nvSpPr>
        <p:spPr>
          <a:xfrm>
            <a:off x="2751120" y="51814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27"/>
          <p:cNvSpPr/>
          <p:nvPr/>
        </p:nvSpPr>
        <p:spPr>
          <a:xfrm>
            <a:off x="2979720" y="5029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睛初霜旦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林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寒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涧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Rectangle 28"/>
          <p:cNvSpPr/>
          <p:nvPr/>
        </p:nvSpPr>
        <p:spPr>
          <a:xfrm>
            <a:off x="2979720" y="5867280"/>
            <a:ext cx="43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属引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凄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哀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转久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29"/>
          <p:cNvSpPr/>
          <p:nvPr/>
        </p:nvSpPr>
        <p:spPr>
          <a:xfrm>
            <a:off x="8077320" y="25909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30"/>
          <p:cNvSpPr/>
          <p:nvPr/>
        </p:nvSpPr>
        <p:spPr>
          <a:xfrm>
            <a:off x="7822080" y="2438280"/>
            <a:ext cx="1155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奔放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AutoShape 31"/>
          <p:cNvSpPr/>
          <p:nvPr/>
        </p:nvSpPr>
        <p:spPr>
          <a:xfrm>
            <a:off x="7772400" y="38862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32"/>
          <p:cNvSpPr/>
          <p:nvPr/>
        </p:nvSpPr>
        <p:spPr>
          <a:xfrm>
            <a:off x="7441200" y="3809880"/>
            <a:ext cx="1155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清幽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AutoShape 33"/>
          <p:cNvSpPr/>
          <p:nvPr/>
        </p:nvSpPr>
        <p:spPr>
          <a:xfrm>
            <a:off x="7772400" y="53341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7898400" y="5181480"/>
            <a:ext cx="1155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凄婉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10"/>
          <p:cNvSpPr/>
          <p:nvPr/>
        </p:nvSpPr>
        <p:spPr>
          <a:xfrm>
            <a:off x="179280" y="1989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179280" y="1989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20"/>
          <p:cNvSpPr/>
          <p:nvPr/>
        </p:nvSpPr>
        <p:spPr>
          <a:xfrm>
            <a:off x="214200" y="19288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428760" y="928800"/>
            <a:ext cx="7862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文章第一段写山，第二段写水，这样安排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写山的特点，为下文写水作铺垫，山高水的落差大，水速自然急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5580000" y="436572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31"/>
          <p:cNvSpPr/>
          <p:nvPr/>
        </p:nvSpPr>
        <p:spPr>
          <a:xfrm>
            <a:off x="357120" y="3429000"/>
            <a:ext cx="807264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作者没有按春夏秋冬顺序写水，而先写夏水的目的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者是为江水作注，重点是写水，而水以夏季为盛，故将“夏水”为首来写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6"/>
          <p:cNvSpPr/>
          <p:nvPr/>
        </p:nvSpPr>
        <p:spPr>
          <a:xfrm>
            <a:off x="357120" y="2465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文章表现作者怎样的思想感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现作者对祖国山水的热爱之情，同时也表现出对三峡渔民船夫悲惨生活的同情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25601" descr="5a26006a"/>
          <p:cNvPicPr/>
          <p:nvPr/>
        </p:nvPicPr>
        <p:blipFill>
          <a:blip r:embed="rId1"/>
          <a:stretch/>
        </p:blipFill>
        <p:spPr>
          <a:xfrm>
            <a:off x="6648480" y="895320"/>
            <a:ext cx="2025720" cy="235440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25602"/>
          <p:cNvSpPr/>
          <p:nvPr/>
        </p:nvSpPr>
        <p:spPr>
          <a:xfrm>
            <a:off x="339840" y="682560"/>
            <a:ext cx="6200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水经注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是郦道元为魏晋时代无名氏所著的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水经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一书所作的注释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它记叙了两岸各地的地理古迹、神话传说和风俗习惯，对各地秀丽的山川作了生动的描绘，文笔简洁精美，具有很高的科学价值和文学价值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三峡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节选自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水经注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。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5"/>
          <p:cNvSpPr/>
          <p:nvPr/>
        </p:nvSpPr>
        <p:spPr>
          <a:xfrm>
            <a:off x="6067080" y="152280"/>
            <a:ext cx="770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著名诗人李白有诗《朝发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帝城》，请从文中找出能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达此诗每句意思的句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765000" y="476280"/>
            <a:ext cx="322884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朝辞白帝彩云间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千里江陵一日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两岸猿声啼不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轻舟已过万重山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1775880" y="1066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朝发白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1541520" y="2209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朝发白帝，暮到江陵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2307960" y="2755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其间千二百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533600" y="40384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猿长啸，属引凄异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空谷传响，哀转久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346120" y="5732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虽乘奔御风不以疾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" name="Picture 12" descr="三峡20"/>
          <p:cNvPicPr/>
          <p:nvPr/>
        </p:nvPicPr>
        <p:blipFill>
          <a:blip r:embed="rId1"/>
          <a:stretch/>
        </p:blipFill>
        <p:spPr>
          <a:xfrm>
            <a:off x="5508720" y="2205000"/>
            <a:ext cx="2539800" cy="36957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R02"/>
          <p:cNvPicPr/>
          <p:nvPr/>
        </p:nvPicPr>
        <p:blipFill>
          <a:blip r:embed="rId1"/>
          <a:stretch/>
        </p:blipFill>
        <p:spPr>
          <a:xfrm>
            <a:off x="-1285920" y="542916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R04"/>
          <p:cNvPicPr/>
          <p:nvPr/>
        </p:nvPicPr>
        <p:blipFill>
          <a:blip r:embed="rId2"/>
          <a:stretch/>
        </p:blipFill>
        <p:spPr>
          <a:xfrm>
            <a:off x="-30240" y="0"/>
            <a:ext cx="1109880" cy="6885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4495680" y="1371600"/>
            <a:ext cx="518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428840" y="121428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表现山连绵不断的语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357200" y="2214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正面表现山高耸巍峨的语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1214280" y="328608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侧面烘托山峰陡峭幽邃的一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1285920" y="442908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正面描写江水因猛涨而水势险恶的语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1214280" y="5688000"/>
            <a:ext cx="771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写水流湍急的句子：有时朝发白帝，暮到江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2251080" y="16430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两岸连山，略无阙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12"/>
          <p:cNvSpPr/>
          <p:nvPr/>
        </p:nvSpPr>
        <p:spPr>
          <a:xfrm>
            <a:off x="2322720" y="27147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重岩叠嶂，隐天蔽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3850560" y="3857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自非亭午夜分，不见曦月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14"/>
          <p:cNvSpPr/>
          <p:nvPr/>
        </p:nvSpPr>
        <p:spPr>
          <a:xfrm>
            <a:off x="1500120" y="50720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夏水襄陵，沿溯阻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1357200" y="28584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728fc"/>
                </a:solidFill>
                <a:latin typeface="Times New Roman"/>
                <a:ea typeface="华文隶书"/>
              </a:rPr>
              <a:t>按要求默写重点句子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R02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R04"/>
          <p:cNvPicPr/>
          <p:nvPr/>
        </p:nvPicPr>
        <p:blipFill>
          <a:blip r:embed="rId2"/>
          <a:stretch/>
        </p:blipFill>
        <p:spPr>
          <a:xfrm>
            <a:off x="-30240" y="0"/>
            <a:ext cx="1109880" cy="6885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-966240" y="333360"/>
            <a:ext cx="2009160" cy="18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三峡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-499320" y="2781360"/>
            <a:ext cx="139932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美黑简体"/>
              </a:rPr>
              <a:t>按要求默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895480" y="3809880"/>
            <a:ext cx="76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1371600" y="609480"/>
            <a:ext cx="60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运用夸张修辞，侧面描写江水的迅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1357200" y="1500120"/>
            <a:ext cx="64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从色彩上对三峡冬春景物进行描写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方正粗宋简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1500120" y="235728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概括三峡春冬季节山水草木的秀丽景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1571760" y="32860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写秋天的清冷与寂静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1428840" y="51436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粗宋简体"/>
              </a:rPr>
              <a:t>照应“两岸猿声啼不住。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3390480" y="990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虽乘奔御风不以疾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2394000" y="19288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素湍绿潭，回清倒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3585600" y="27860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清荣峻茂，良多趣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2629440" y="37861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每至晴初霜旦，林寒涧肃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16"/>
          <p:cNvSpPr/>
          <p:nvPr/>
        </p:nvSpPr>
        <p:spPr>
          <a:xfrm>
            <a:off x="2510280" y="556272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常有高猿长啸，属引凄异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空谷传响，哀转久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1428840" y="4214880"/>
            <a:ext cx="669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烘托三峡秋景凄凉的语句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空谷传响，哀转久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4"/>
          <p:cNvSpPr/>
          <p:nvPr/>
        </p:nvSpPr>
        <p:spPr>
          <a:xfrm>
            <a:off x="324000" y="404640"/>
            <a:ext cx="799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引用渔歌反衬三峡深秋清幽寂静的句子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７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，世界人民见证了“三峡蓄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15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峡出平湖的壮丽景象，郦道元所描述的昔日渔者歌曰“　   　　　　　　　　　　　　　　”的三峡秋日的凄凉景象将一去不复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８）由李白的“朝辞白帝彩云间，千里江陵一日还。”这一诗句，你想到《三峡》中与此意境相同的句子是：　　　　　　　　　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11280" y="1052640"/>
            <a:ext cx="792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巴东三峡巫峡长，猿鸣三声泪沾裳。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引用渔歌作用：进一步突出三峡山高水长的特点，同时渲染三峡秋季肃杀、凄凉气氛 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1692360" y="33577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巴东三峡巫峡长，猿鸣三声泪沾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2266920" y="5102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朝发白帝，暮到江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4"/>
          <p:cNvSpPr/>
          <p:nvPr/>
        </p:nvSpPr>
        <p:spPr>
          <a:xfrm>
            <a:off x="684360" y="126828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古诗文中描写三峡的名句还有哪些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785880" y="2071800"/>
            <a:ext cx="74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从巴峡穿巫峡，便下襄阳向洛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　　　　　　　　　　　　　　——杜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857160" y="3214800"/>
            <a:ext cx="7345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朝辞白帝彩云间，千里江陵一日还。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　　　　　　　　　　　　　　——李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峨眉山月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李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峨眉山月半轮秋，影入平羌江水流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夜发清溪向三峡，思君不见下渝州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u=2563044203,2435786321&amp;gp=1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3"/>
          <p:cNvSpPr/>
          <p:nvPr/>
        </p:nvSpPr>
        <p:spPr>
          <a:xfrm>
            <a:off x="0" y="981000"/>
            <a:ext cx="9396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十二巫山见九峰，船头彩翠满秋空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朝云暮雨浑虚语，一夜猿啼月明中。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扁舟转山曲，未至已先惊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白浪横江起，槎牙似雪城 。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巴东三峡巫峡长，猿啼三声泪沾裳。  </a:t>
            </a:r>
            <a:r>
              <a:rPr b="0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孤帆远影碧空尽，惟见长江天际流。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大江东去浪淘尽，千古风流人物。        </a:t>
            </a:r>
            <a:r>
              <a:rPr b="0" lang="en-US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6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峡尽天开朝日出，山平水阔大城浮。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251460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积累描写三峡的诗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堂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143000" y="1143000"/>
            <a:ext cx="357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略无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阙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处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1143000" y="2666880"/>
            <a:ext cx="378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亭午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夜分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1143000" y="190512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重岩叠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嶂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1143000" y="3429000"/>
            <a:ext cx="40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不见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曦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月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4267080" y="1219320"/>
            <a:ext cx="462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通“缺”，空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4191120" y="19051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直立像屏障的山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4343400" y="26668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正午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半夜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4495680" y="3429000"/>
            <a:ext cx="432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日光，这里指太阳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7924680" y="6095880"/>
            <a:ext cx="838440" cy="381240"/>
          </a:xfrm>
          <a:custGeom>
            <a:avLst/>
            <a:gdLst>
              <a:gd name="textAreaLeft" fmla="*/ 146520 w 838440"/>
              <a:gd name="textAreaRight" fmla="*/ 608040 w 8384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7" name="Picture 11" descr="R04"/>
          <p:cNvPicPr/>
          <p:nvPr/>
        </p:nvPicPr>
        <p:blipFill>
          <a:blip r:embed="rId1"/>
          <a:stretch/>
        </p:blipFill>
        <p:spPr>
          <a:xfrm>
            <a:off x="0" y="457200"/>
            <a:ext cx="1109520" cy="64008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2"/>
          <p:cNvSpPr/>
          <p:nvPr/>
        </p:nvSpPr>
        <p:spPr>
          <a:xfrm>
            <a:off x="156960" y="1033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一、词语解释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066680" y="13716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夏水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陵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809880" y="13716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上，漫上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山包，山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990720" y="2514600"/>
            <a:ext cx="40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沿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溯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阻绝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581280" y="25909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顺流而下     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逆流而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914400" y="3733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ＧＢ 中国楷書"/>
              </a:rPr>
              <a:t>或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王命急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ＧＢ 中国楷書"/>
              </a:rPr>
              <a:t>宣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4191120" y="3733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有 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宣布、传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1143000" y="4800600"/>
            <a:ext cx="42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乘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ＧＢ 中国楷書"/>
              </a:rPr>
              <a:t>奔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ＧＢ 中国楷書"/>
              </a:rPr>
              <a:t>御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4038480" y="4800600"/>
            <a:ext cx="485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奔驰的快马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驾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10"/>
          <p:cNvSpPr/>
          <p:nvPr/>
        </p:nvSpPr>
        <p:spPr>
          <a:xfrm>
            <a:off x="1219320" y="5867280"/>
            <a:ext cx="40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ＧＢ 中国楷書"/>
              </a:rPr>
              <a:t>不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ＧＢ 中国楷書"/>
              </a:rPr>
              <a:t>疾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也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4038480" y="57913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不如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AutoShape 12"/>
          <p:cNvSpPr/>
          <p:nvPr/>
        </p:nvSpPr>
        <p:spPr>
          <a:xfrm>
            <a:off x="8153280" y="6324480"/>
            <a:ext cx="762120" cy="304920"/>
          </a:xfrm>
          <a:custGeom>
            <a:avLst/>
            <a:gdLst>
              <a:gd name="textAreaLeft" fmla="*/ 133200 w 762120"/>
              <a:gd name="textAreaRight" fmla="*/ 55260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7617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•作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004840"/>
            <a:ext cx="77724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水经注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水经注》名为注释《水经》，实则以水经为纲，记载了一千多条大小河流及有关的历史遗迹、人物掌故、神话传说等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是我国古代最全面、最系统的综合性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地理著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是具有较高文学价值的散文名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8380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素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绿潭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914400" y="175248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回清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倒影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990720" y="2590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绝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巘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90720" y="3429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飞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漱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其间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990720" y="4267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清荣峻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3429000" y="9144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白色    急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505320" y="16765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回旋着清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3505320" y="25146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极高的山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3505320" y="33526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急流冲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3429000" y="4267080"/>
            <a:ext cx="53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清，树荣，山高，草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928800" y="5357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良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多趣味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3357720" y="5357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实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914400" y="1371600"/>
            <a:ext cx="35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晴初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ＧＢ 中国楷書"/>
              </a:rPr>
              <a:t>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914400" y="2362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林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ＧＢ 中国楷書"/>
              </a:rPr>
              <a:t>寒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涧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ＧＢ 中国楷書"/>
              </a:rPr>
              <a:t>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914400" y="335268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ＧＢ 中国楷書"/>
              </a:rPr>
              <a:t>属引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异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838080" y="45720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ＧＢ 中国楷書"/>
              </a:rPr>
              <a:t>转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ＧＢ 中国楷書"/>
              </a:rPr>
              <a:t>久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ＧＢ 中国楷書"/>
              </a:rPr>
              <a:t>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3352680" y="13716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早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3429000" y="236232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清凉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寂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3276720" y="3429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连续不断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3429000" y="46483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婉转       消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AutoShape 10"/>
          <p:cNvSpPr/>
          <p:nvPr/>
        </p:nvSpPr>
        <p:spPr>
          <a:xfrm>
            <a:off x="7620120" y="6248520"/>
            <a:ext cx="838080" cy="228600"/>
          </a:xfrm>
          <a:custGeom>
            <a:avLst/>
            <a:gdLst>
              <a:gd name="textAreaLeft" fmla="*/ 146520 w 838080"/>
              <a:gd name="textAreaRight" fmla="*/ 607680 w 8380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23554"/>
          <p:cNvSpPr/>
          <p:nvPr/>
        </p:nvSpPr>
        <p:spPr>
          <a:xfrm>
            <a:off x="576360" y="1557360"/>
            <a:ext cx="799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对祖国的雄伟江山、秀丽风光作了形象的描绘，记述了不少生动的故事，抒发了爱国胸怀，文笔简洁精美，对后代山水游记文学起了先导作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 rot="16200000">
            <a:off x="5827680" y="-9360"/>
            <a:ext cx="85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68360" y="549360"/>
            <a:ext cx="62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 rot="647400">
            <a:off x="2266560" y="690480"/>
            <a:ext cx="390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5" descr="图片1"/>
          <p:cNvPicPr/>
          <p:nvPr/>
        </p:nvPicPr>
        <p:blipFill>
          <a:blip r:embed="rId1"/>
          <a:srcRect l="0" t="0" r="0" b="1613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7315200" y="5715000"/>
            <a:ext cx="1447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b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瞿塘峡"/>
          <p:cNvPicPr/>
          <p:nvPr/>
        </p:nvPicPr>
        <p:blipFill>
          <a:blip r:embed="rId1"/>
          <a:stretch/>
        </p:blipFill>
        <p:spPr>
          <a:xfrm>
            <a:off x="0" y="914400"/>
            <a:ext cx="4648320" cy="5943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瞿塘峡]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59436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2476080" y="60480"/>
            <a:ext cx="42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瞿塘峡 ：  最短，最狭，最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幽深秀丽的巫峡"/>
          <p:cNvPicPr/>
          <p:nvPr/>
        </p:nvPicPr>
        <p:blipFill>
          <a:blip r:embed="rId1"/>
          <a:stretch/>
        </p:blipFill>
        <p:spPr>
          <a:xfrm>
            <a:off x="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8208000" y="58392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幽深秀丽的巫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43:00Z</dcterms:created>
  <dc:creator>Anyone</dc:creator>
  <dc:description/>
  <dc:language>en-US</dc:language>
  <cp:lastModifiedBy>Administrator</cp:lastModifiedBy>
  <dcterms:modified xsi:type="dcterms:W3CDTF">2019-06-02T12:43:55Z</dcterms:modified>
  <cp:revision>3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96</vt:lpwstr>
  </property>
</Properties>
</file>