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38.wmf" ContentType="image/x-wmf"/>
  <Override PartName="/ppt/media/image8.wmf" ContentType="image/x-wmf"/>
  <Override PartName="/ppt/media/image13.png" ContentType="image/png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9E8-A08E-445D-A540-7C0FCE22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1D5-79D3-4D60-91BE-2C75E11C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CA9-D217-471C-9AC0-C44469B7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9E0-5566-4004-9AAF-AE382375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999-39C0-4EAF-B543-F484CD2C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AF6-2D98-4E3B-B8E1-03A96B57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4CA-7D7B-4FF1-BA0B-5FA66478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34F-384C-4FAF-9637-E158B3CD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1C2-A55D-436B-88BB-CD0CB4B3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C5A-B287-438E-9EC0-24F5D106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EA0-0C01-4D3C-B2DF-3929BD6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0EA-7029-4C77-8337-79FF789D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4D8B-245F-462C-B897-49351EC55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2720" y="549360"/>
          <a:ext cx="7569360" cy="52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549360"/>
                    <a:ext cx="756936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8360" y="333360"/>
          <a:ext cx="7569000" cy="106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3360"/>
                    <a:ext cx="75690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88840" y="692280"/>
            <a:ext cx="72010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3333ff"/>
                </a:solidFill>
                <a:latin typeface="Arial"/>
                <a:ea typeface="黑体"/>
              </a:rPr>
              <a:t>答案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300" spc="-1" strike="noStrike">
                <a:solidFill>
                  <a:srgbClr val="ff0000"/>
                </a:solidFill>
                <a:latin typeface="Arial"/>
              </a:rPr>
              <a:t>在《荣誉与爱荣誉》的行文中，让人疑惑的是如此平实的文章却出现了许多外文单词，表面上看，似乎这是在掉洋书袋，其实不然，它正好反映出真实的演讲情形。我们知道，演讲不但要有感而发，更要有的放矢，考虑听众的特点。罗家伦面对的演讲对象是中央大学的学生。当时的中央大学，有多门课程是用英文讲授的，学生的英文程度相当好，因此罗家伦演讲穿插外语，并没有给学生的领会和接受造成障碍。在《新人生观》一书中别的一些篇章，如《道德的勇气》《知识的责任》等中也都穿插着英文，说明这种旁征博引、中西互见的演说方式得到了学生的普遍认可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39640" y="404640"/>
          <a:ext cx="756936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756936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900000" y="1461960"/>
            <a:ext cx="698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演讲运用口语进行传播，需要清晰的表达。所以，常被人批评的“开中药铺，甲乙丙丁”的行文安排其实很符合演讲的需要，因为它最有条理。在谈到如何才能具有真正的荣誉时，作者举出了四点：“第一必须能维持生命的庄严”；“第二必须能有所不为”；“第三必须是自足的，也是求诸己的”；“第四必须自尊而能尊人”。条分缕析中，观点得到了明确的表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539640" y="476280"/>
          <a:ext cx="7569360" cy="14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56936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7343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55640" y="907920"/>
          <a:ext cx="7569360" cy="40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7920"/>
                    <a:ext cx="7569360" cy="40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755640" y="981000"/>
          <a:ext cx="7570800" cy="42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81000"/>
                    <a:ext cx="757080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54160" y="914400"/>
          <a:ext cx="8051760" cy="51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914400"/>
                    <a:ext cx="805176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474920" y="5084640"/>
          <a:ext cx="4797360" cy="81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4920" y="5084640"/>
                    <a:ext cx="47973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462800" y="23385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68360" y="836640"/>
          <a:ext cx="7569000" cy="304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36640"/>
                    <a:ext cx="7569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116000" y="3716280"/>
          <a:ext cx="7569360" cy="754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716280"/>
                    <a:ext cx="75693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886440" y="9558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11280" y="189000"/>
          <a:ext cx="7494480" cy="63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494480" cy="63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819000" y="1268280"/>
          <a:ext cx="7569360" cy="28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268280"/>
                    <a:ext cx="756936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81200" y="3510000"/>
          <a:ext cx="1450800" cy="782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3510000"/>
                    <a:ext cx="14508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54160" y="55440"/>
          <a:ext cx="8361360" cy="682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55440"/>
                    <a:ext cx="8361360" cy="682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8360" y="981000"/>
          <a:ext cx="7569000" cy="360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7569000" cy="36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001960" y="20595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lǐ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20595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xuà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02640" y="20484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yōnɡ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37600" y="255312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pì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6640" y="2564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jiǎo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98320" y="256428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tóu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1440" y="3067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shū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64640" y="30675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12720" y="687240"/>
          <a:ext cx="7569360" cy="383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687240"/>
                    <a:ext cx="7569360" cy="38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11280" y="4005360"/>
          <a:ext cx="1611360" cy="772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005360"/>
                    <a:ext cx="161136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39640" y="260280"/>
          <a:ext cx="7570800" cy="648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280"/>
                    <a:ext cx="757080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12720" y="260280"/>
          <a:ext cx="7569360" cy="659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260280"/>
                    <a:ext cx="7569360" cy="65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09480" y="685800"/>
          <a:ext cx="7467840" cy="551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746784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12720" y="687240"/>
          <a:ext cx="7569360" cy="52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687240"/>
                    <a:ext cx="756936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2720" y="687240"/>
          <a:ext cx="7569360" cy="48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687240"/>
                    <a:ext cx="756936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611280" y="620640"/>
          <a:ext cx="7569000" cy="242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20640"/>
                    <a:ext cx="756900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971640" y="228744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名誉与生命哪一个重要？②小人做事不凭能力，为所欲为，只凭侥幸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74640" y="1365120"/>
          <a:ext cx="7569360" cy="87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365120"/>
                    <a:ext cx="756936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177920" y="2090880"/>
            <a:ext cx="676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几段选文，作者论述了荣誉和名誉、虚荣、野心、荣宠的区别，用了诠释和对比的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74640" y="942840"/>
          <a:ext cx="7569360" cy="13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942840"/>
                    <a:ext cx="756936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035000" y="2084400"/>
            <a:ext cx="698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名誉是外加的，而荣誉却是内足的。荣誉具有内心的价值，较名誉还要可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翟志刚在太空迈出了中国人的第一步，赢得了“航天英雄”的称号，这个称号是名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612720" y="1157400"/>
          <a:ext cx="7569360" cy="163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157400"/>
                    <a:ext cx="756936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42920" y="2314440"/>
            <a:ext cx="7274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引证法、例证法。印证了“事实胜于雄辩”这句名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1280" y="981000"/>
          <a:ext cx="7569000" cy="41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81000"/>
                    <a:ext cx="756900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356560" y="158976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俘—浮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29960" y="157860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角—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56560" y="208188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绕—侥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1320" y="25912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愕愕—谔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99240" y="309600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题—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23600" y="308988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漫—慢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7280" y="359928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陷—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47720" y="549360"/>
          <a:ext cx="756936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49360"/>
                    <a:ext cx="756936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747720" y="214200"/>
          <a:ext cx="7569360" cy="659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214200"/>
                    <a:ext cx="756936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687240" y="112680"/>
          <a:ext cx="7542360" cy="659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12680"/>
                    <a:ext cx="7542360" cy="65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612720" y="189000"/>
          <a:ext cx="7418520" cy="64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89000"/>
                    <a:ext cx="7418520" cy="64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11280" y="1125360"/>
          <a:ext cx="7569000" cy="35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25360"/>
                    <a:ext cx="7569000" cy="35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612720" y="333360"/>
          <a:ext cx="756936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33360"/>
                    <a:ext cx="756936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747720" y="1473120"/>
          <a:ext cx="7569360" cy="18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473120"/>
                    <a:ext cx="756936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812880" y="2784600"/>
          <a:ext cx="2008080" cy="715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880" y="2784600"/>
                    <a:ext cx="200808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95280" y="476280"/>
          <a:ext cx="7569360" cy="372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6280"/>
                    <a:ext cx="75693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971640" y="3716280"/>
          <a:ext cx="7569000" cy="248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716280"/>
                    <a:ext cx="7569000" cy="24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286760" y="10746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9640" y="549360"/>
          <a:ext cx="7569360" cy="203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756936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971640" y="2122560"/>
            <a:ext cx="68421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重复。前两节介绍的英国《卫报》的文章，主要内容是批评人肉搜索客的“愚昧与无知”，直接显示了问题的严重性。后三节以此为话题，在赞同其观点的基础上，进一步剖析了“愚昧与无知”的内涵：借着实施“道德正义”之名，超越法律界限，曝光他人隐私，这种行为本身就是丧失理智的不道德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3360" y="701640"/>
          <a:ext cx="7569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701640"/>
                    <a:ext cx="7569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179360" y="1854360"/>
            <a:ext cx="6624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作者能用全面的观点看待“人肉搜索”问题，既看到不好的一面，也看到好的一面。对“人肉搜索”的暴力倾向，作者进行了深刻的剖析和严厉的批评，但同时，对“人肉搜索”能弥补一般搜索“不人性化”的缺憾、参与者从道德立场出发的善良的初衷，也给予了必要的肯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84280" y="84240"/>
          <a:ext cx="7561080" cy="67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84240"/>
                    <a:ext cx="7561080" cy="67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876560" y="61956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严肃认真、小心谨慎的样子。本课指以严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6920" y="11253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戒慎的态度对待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74000" y="164340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不与同列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表示鄙视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2200" y="213264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褒扬赞美的称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6400" y="2646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名誉重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13440" y="315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把不同的或相差悬殊的人或事物混在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26200" y="367092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起来谈论或看待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多用于否定式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41374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越仰视越觉得它高不可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3320" y="46911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越钻研越觉得它坚不可入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83480" y="517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要求自己，在自己身上找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5661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一千个人的随声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61640" y="619272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和，不如一位士人的正色直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95280" y="476280"/>
          <a:ext cx="7569360" cy="241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6280"/>
                    <a:ext cx="756936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035000" y="2540160"/>
          <a:ext cx="7569360" cy="3552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5000" y="2540160"/>
                    <a:ext cx="756936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1628640"/>
            <a:ext cx="691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拥有善良比拥有真理更重要，因为，我们每一个人都生活在真实的世界里，真实的世界需要真实的情感来维护，而善良则是真实的情感的基础，没有了善良，真理也会显得可怕和苍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95280" y="331920"/>
          <a:ext cx="7569360" cy="322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1920"/>
                    <a:ext cx="756936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33560" y="2878200"/>
          <a:ext cx="7569000" cy="3214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560" y="2878200"/>
                    <a:ext cx="756900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755640" y="1268280"/>
          <a:ext cx="7569360" cy="377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756936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593640" y="687240"/>
          <a:ext cx="7569360" cy="39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87240"/>
                    <a:ext cx="756936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187280" y="39225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答案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略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71600" y="330120"/>
          <a:ext cx="7569000" cy="60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30120"/>
                    <a:ext cx="756900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476360" y="9079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9032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1403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21440" y="13986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342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4437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3429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49309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4625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476280"/>
          <a:ext cx="7569360" cy="248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569360" cy="24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971640" y="265896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荣誉就是人格，是人格最光荣的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47720" y="1143000"/>
          <a:ext cx="7569360" cy="81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143000"/>
                    <a:ext cx="75693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177920" y="1652760"/>
            <a:ext cx="662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章针对当时国人荣誉的观念“不太发达”的现实，区别了荣誉与名誉、虚荣、野心、荣宠等的界限，明确了真正的荣誉所必须具备的条件，指出爱荣誉特别是爱集体荣誉的必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9640" y="44280"/>
          <a:ext cx="7569360" cy="24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4280"/>
                    <a:ext cx="756936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900000" y="1917720"/>
            <a:ext cx="756144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3333ff"/>
                </a:solidFill>
                <a:latin typeface="Arial"/>
                <a:ea typeface="黑体"/>
              </a:rPr>
              <a:t>答案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300" spc="-1" strike="noStrike">
                <a:solidFill>
                  <a:srgbClr val="ff0000"/>
                </a:solidFill>
                <a:latin typeface="Arial"/>
              </a:rPr>
              <a:t>首先明确“荣誉”一词的内涵，指出：“名誉是外加的，而荣誉却是内足的”，“名誉只是外界的称许，而荣誉则是内部发出来的光荣”，“荣誉具有内心的价值，较名誉还要可贵”；“虚荣乃求他人一时之好尚，或是庸俗的称颂，而即沾沾自喜，以为满足的”，“虚荣的表现，就是好炫耀，好夸大，借此以博得他人对自己的称赞”，“他</a:t>
            </a:r>
            <a:r>
              <a:rPr b="1" lang="zh-CN" sz="23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300" spc="-1" strike="noStrike">
                <a:solidFill>
                  <a:srgbClr val="ff0000"/>
                </a:solidFill>
                <a:latin typeface="Arial"/>
              </a:rPr>
              <a:t>荣誉</a:t>
            </a:r>
            <a:r>
              <a:rPr b="1" lang="zh-CN" sz="23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300" spc="-1" strike="noStrike">
                <a:solidFill>
                  <a:srgbClr val="ff0000"/>
                </a:solidFill>
                <a:latin typeface="Arial"/>
              </a:rPr>
              <a:t>不是求之于外的，而是求之于内的”；野心是“求自己政治的名誉，权力，地位，官阶，以作个人自私的满足”；所谓“门第”“头衔”“豪富”，“都可叫作‘荣宠’，而绝不是‘荣誉’。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9640" y="404640"/>
          <a:ext cx="7569360" cy="21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7569360" cy="21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042920" y="2060640"/>
            <a:ext cx="7129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中指出真正的荣誉具备的四个条件：“必须能维持生命的庄严；必须能有所不为；必须是自足的，也是求诸己的；必须自尊而能尊人”，荣誉就是人格，是人格最光荣的完成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08:42:50Z</dcterms:created>
  <dc:creator>zmj</dc:creator>
  <dc:description/>
  <dc:language>en-US</dc:language>
  <cp:lastModifiedBy>zmj</cp:lastModifiedBy>
  <dcterms:modified xsi:type="dcterms:W3CDTF">2012-04-21T08:42:53Z</dcterms:modified>
  <cp:revision>1</cp:revision>
  <dc:subject/>
  <dc:title>幻灯片 1</dc:title>
</cp:coreProperties>
</file>