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4EA-81B5-4B21-B160-0353BA27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506-EEBB-4E78-8EA2-B3EBC503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14D-FA38-4734-97F9-38799C88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8E8-69AC-4637-9A6E-61BF7E63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8AFD-1207-4BFF-9CFC-405F8D30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8E7B-C3A4-4F18-92F7-6D11A2F5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9BF7-3310-417B-BA76-4ABE22EF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D433-E058-481C-B992-E5D65A59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DD4D-3DE2-4052-B33D-24E39ED4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4539-7380-4880-BD79-24F67507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DCCA-6941-49EE-B1B8-430B1F66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646-6D62-46A3-8108-B20B5359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6086-D65C-404A-9C6A-CE2E6AA8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6BDD-B89D-41E9-B170-43BE6E93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AB61-D107-47DA-9131-C496085F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DFA6-AB66-4F6A-978E-324B049B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0170-8DC9-49CC-82BD-C44FC6F9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938-5015-4DAB-909A-669E627E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E8C-397A-455A-990F-55583399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DA1-0D7F-43B3-B15C-828711A4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66C-BE08-4C67-9CFB-2D4FB167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041-4C84-4593-B716-6407056B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CE1-66B0-436A-A570-40ED04B8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3BD-28EF-4E6D-B4F1-56B3BDE8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4EAC-FFEA-47A1-9EF9-E7E2B68C1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DF83-C425-47B4-8F91-0D406606C6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205740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可学天长杜仪”：世人眼里的浪荡子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先生自况”：作者笔下的理想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淡薄功名，傲视权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扶危济困，乐于助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尊重女性，笃于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追求个性，狂放不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76920" y="1905120"/>
            <a:ext cx="39621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一、《儒林外史》的作者与版本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267080" y="1447920"/>
            <a:ext cx="464832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吴敬梓生平与创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70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754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安徽全椒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敏轩，号粒民、文木老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《文木山房集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境遇的巨大落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举失意与觉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儒林亲历的再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276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127080" y="533520"/>
            <a:ext cx="8889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38188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《儒林外史》的主要版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回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回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回等歧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卧闲草堂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嘉庆八年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80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回，末回为“幽榜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98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二、科举制度下的文人百态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5364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《闲斋老人序》：“其书以功名富贵为一篇之骨。”“有心艳功名富贵而媚人下人者；有倚仗功名富贵而骄人傲人者；有假托无意功名富贵自以为高，被人看破耻笑者；终乃以辞却功名富贵，品地最上一层，为中流砥柱。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6868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科举制度的迷信者和牺牲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周进、范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匡超人、王惠、严贡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马二先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所谓“名士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杜慎卿（莫愁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景兰江、赵雪斋、牛浦郎等人（西子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娄三、娄四、杨执中、权勿用、张铁臂（莺脰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理想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王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66cc"/>
                </a:solidFill>
                <a:uFillTx/>
                <a:latin typeface="Arial"/>
                <a:ea typeface="黑体"/>
                <a:hlinkClick r:id="rId1" action="ppaction://hlinksldjump"/>
              </a:rPr>
              <a:t>杜少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虞博士、庄绍光、迟衡山、萧云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市井奇人（季遐年、王太、盖宽、荆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三、《儒林外史》的艺术特色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结构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鲁迅《中国小说史略》：“全书无主干，仅驱使各种人物，行列而来，事与其来俱起，亦与其去俱迄，虽云长篇，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同短制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白描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卧闲草堂本评语：“慎毋读《儒林外史》，读竟乃觉日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酬酢之间无往而非《儒林外史》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摆脱传奇色彩，淡化故事情节，真实再现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三、《儒林外史》的艺术特色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人物性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物性格塑造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物内心世界的复杂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讽刺艺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鲁迅：《中国小说史略》：“秉持公心，指摘时弊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           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戚而能谐，婉而多讽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真实性与客观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悲剧性与喜剧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e4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具体手法：前后对照、适度夸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隶书"/>
              </a:rPr>
              <a:t>讨论题目：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9528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如何理解《儒林外史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既是一部儒林丑史，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一部儒林痛史”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34178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余丹</cp:lastModifiedBy>
  <dcterms:modified xsi:type="dcterms:W3CDTF">2009-12-10T07:14:1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