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B11C-5478-4CDF-9974-3B8165EF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8723-7B81-4850-9A9B-2DC62A56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AC50-D094-41BC-B6DB-75C19D4B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56F7-35DF-4523-A467-5893608A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DBF6-AB18-4D51-8995-E20AC62F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D755-196E-4084-921D-A29EFA20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084B-B083-4EAF-A01F-85CEDEE8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197E-0207-494A-93EF-93B404F2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F135-C5F6-42A8-B9A5-39DE6F11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D6E6-33FD-47F1-AB20-32EFE63B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BD2F-2644-4DF4-BC52-86C8397B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F68A-5B05-401F-B361-47EA4906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6006-8453-4853-A80E-4148FF4848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15" descr=""/>
          <p:cNvPicPr/>
          <p:nvPr/>
        </p:nvPicPr>
        <p:blipFill>
          <a:blip r:embed="rId1"/>
          <a:stretch/>
        </p:blipFill>
        <p:spPr>
          <a:xfrm>
            <a:off x="0" y="-66600"/>
            <a:ext cx="9144000" cy="6989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32280" y="63036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87040" y="-7452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黑体"/>
              </a:rPr>
              <a:t>晨昏诺日朗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诺日朗冬景" descr=""/>
          <p:cNvPicPr/>
          <p:nvPr/>
        </p:nvPicPr>
        <p:blipFill>
          <a:blip r:embed="rId1"/>
          <a:stretch/>
        </p:blipFill>
        <p:spPr>
          <a:xfrm>
            <a:off x="-609480" y="7920"/>
            <a:ext cx="9448560" cy="67928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81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nuo1" descr=""/>
          <p:cNvPicPr/>
          <p:nvPr/>
        </p:nvPicPr>
        <p:blipFill>
          <a:blip r:embed="rId1"/>
          <a:stretch/>
        </p:blipFill>
        <p:spPr>
          <a:xfrm>
            <a:off x="457200" y="-609480"/>
            <a:ext cx="8077320" cy="74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00AE043A%5B1%5D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九寨沟自然风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诺日朗瀑布－诺日朗瀑布海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36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，瀑宽百余米，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，是九寨沟众多瀑布中最宽阔的一个。也是中国大型钙华瀑布之一。瀑布呈多级下跌，宽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的水帘从两山间飞出，直泻百尺山崖，形成罕见的森林瀑布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瀑布顶部平整如台，传说以前这里没有瀑布，只有平台，一年，远游归来的扎尔穆德和尚带回了贝叶经、铁犁铧和手摇纺车，聪明美丽的藏族姑娘若依果很快学会用纺车纺线。好把纺车架到三沟交界的平台上，让过往姐妹们观看、学习，人们便叫这里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纺织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凶残的头人罗扎认为她在搞歪门邪道，一脚把她和纺车踢下了山崖。立刻，山洪暴发，把罗扎和帮凶冲下悬崖，纺织台就成了今天的瀑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藏语中诺日朗意指男神，也有伟岸高大的意思，因此诺日朗瀑布意思就是雄伟壮观的瀑布。滔滔水流自朝阳照射，彩虹幻出，分外迷人。水流凌空而下，银花四溅，水声隆隆。水从静海穿林过滩慢悠悠的流来，又从陡岩上猛然跌下深渊，发出轰雷般的响声，声势极为壮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赵丽宏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5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生，上海市崇明县人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6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高中毕业后回故乡插队，当过木匠、乡邮员、教师、县机关工作人员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7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考入华东师范大学中文系，并开始创作诗歌和散文。大学毕业后当过《萌芽》杂志编辑，后为上海作家协会专业作家。中国作家协会会员。曾任上海市青年联合会副主席，全国政协委员。现为上海作协副主席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出版有《珊瑚》《生命草》《心画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三十多部诗集、散文集、报告文学集。作品曾数十次获奖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《诗魂》获新时期全国优秀散文集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赵丽宏 散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赵丽宏把好散文归结为三个因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情、知、文。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即感情、真情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即知识、学养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就是独特的个性文字和与别人不一样的表达方式。《晨昏诺日朗》一文很好地体现了作者所言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文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特征，将中国西部的壮丽景观——九寨沟诺日朗瀑布展现在读者面前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赶快记下来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杂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咆哮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露       天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深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邃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山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涧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翡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透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头）       湿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漉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山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辘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龙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然）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达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拳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住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子）       包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营，挣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奔放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放荡不羁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撼地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奋人心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千峰万壑   洋洋洒洒    硕大无朋  气势磅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朗读课文，把握内容：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章记叙了作者在三个不同的时间、不同的方位欣赏到的诺日朗瀑布的景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段，是作者第一次观察诺日朗，时间是第一天的黄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段至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段，是作者第二次观察诺日朗，时间是第二天清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章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段记写了作者第三次观察诺日朗瀑布的印象。这次是在第二天的上午，观察地点是在诺日朗背后的山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uo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19520"/>
          </a:xfrm>
          <a:prstGeom prst="rect">
            <a:avLst/>
          </a:prstGeom>
          <a:ln w="0">
            <a:noFill/>
          </a:ln>
        </p:spPr>
      </p:pic>
      <p:pic>
        <p:nvPicPr>
          <p:cNvPr id="48" name="nuo6" descr=""/>
          <p:cNvPicPr/>
          <p:nvPr/>
        </p:nvPicPr>
        <p:blipFill>
          <a:blip r:embed="rId2"/>
          <a:stretch/>
        </p:blipFill>
        <p:spPr>
          <a:xfrm>
            <a:off x="6095880" y="2819520"/>
            <a:ext cx="3048120" cy="4038480"/>
          </a:xfrm>
          <a:prstGeom prst="rect">
            <a:avLst/>
          </a:prstGeom>
          <a:ln w="0">
            <a:noFill/>
          </a:ln>
        </p:spPr>
      </p:pic>
      <p:pic>
        <p:nvPicPr>
          <p:cNvPr id="49" name="远眺诺日朗" descr=""/>
          <p:cNvPicPr/>
          <p:nvPr/>
        </p:nvPicPr>
        <p:blipFill>
          <a:blip r:embed="rId3"/>
          <a:stretch/>
        </p:blipFill>
        <p:spPr>
          <a:xfrm>
            <a:off x="0" y="2819520"/>
            <a:ext cx="6172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精读课文，思考讨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在文中主要记叙了自己和诺日朗的几次遭遇？重点介绍的是哪两次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在描写诺日朗的时候，是怎么从声、光和触觉等方面描写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哪些地方写到了诺日朗的动态？用了怎样的动词？作了哪些贴切的比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章除了直接描写瀑布以外，还写到了哪些景色？插叙了那些信息？写这些景色，提供这些信息，对于描写诺日朗瀑布起到了怎样的铺垫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着观察时间和空间的变化，诺日朗瀑布呈现出不同的景象。黄昏和清晨的诺日朗瀑布有哪些不同？黄昏和清晨的诺日朗，在不同的方位又给了作者哪些截然不同的感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预习《赤壁赋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诺夏景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nuo4" descr=""/>
          <p:cNvPicPr/>
          <p:nvPr/>
        </p:nvPicPr>
        <p:blipFill>
          <a:blip r:embed="rId1"/>
          <a:stretch/>
        </p:blipFill>
        <p:spPr>
          <a:xfrm>
            <a:off x="762120" y="0"/>
            <a:ext cx="7238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nuo5" descr=""/>
          <p:cNvPicPr/>
          <p:nvPr/>
        </p:nvPicPr>
        <p:blipFill>
          <a:blip r:embed="rId1"/>
          <a:stretch/>
        </p:blipFill>
        <p:spPr>
          <a:xfrm>
            <a:off x="228600" y="0"/>
            <a:ext cx="7848720" cy="67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2002821144271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诺秋景的副本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ingp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大龙湫1" descr=""/>
          <p:cNvPicPr/>
          <p:nvPr/>
        </p:nvPicPr>
        <p:blipFill>
          <a:blip r:embed="rId1"/>
          <a:stretch/>
        </p:blipFill>
        <p:spPr>
          <a:xfrm>
            <a:off x="990720" y="0"/>
            <a:ext cx="487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sy</cp:lastModifiedBy>
  <dcterms:modified xsi:type="dcterms:W3CDTF">2004-10-14T11:46:14Z</dcterms:modified>
  <cp:revision>17</cp:revision>
  <dc:subject/>
  <dc:title>PowerPoint Presentation</dc:title>
</cp:coreProperties>
</file>