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gif" ContentType="image/gif"/>
  <Override PartName="/ppt/media/image43.jpeg" ContentType="image/jpeg"/>
  <Override PartName="/ppt/media/image3.jpeg" ContentType="image/jpeg"/>
  <Override PartName="/ppt/media/image3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47.jpeg" ContentType="image/jpeg"/>
  <Override PartName="/ppt/media/image45.gif" ContentType="image/gif"/>
  <Override PartName="/ppt/media/image8.jpeg" ContentType="image/jpeg"/>
  <Override PartName="/ppt/media/image39.jpeg" ContentType="image/jpeg"/>
  <Override PartName="/ppt/media/image12.jpeg" ContentType="image/jpeg"/>
  <Override PartName="/ppt/media/image41.gif" ContentType="image/gif"/>
  <Override PartName="/ppt/media/image6.jpeg" ContentType="image/jpeg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5365-8D42-4194-A695-403B1193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3309-B686-4CF0-BBE4-F60946A8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B2E47-5408-4A98-A27A-2935C7EE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9CFDC-1F37-4C0D-A7B1-3462D6B6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82844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76781-4852-47A6-BE39-DE82BD7C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41EFF-A53B-4A69-A822-ED3013CA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534D1-2E24-41DA-BCA3-773E3E6E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4227F-ADC1-43DA-83ED-BEC7808B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10BDC-782F-464D-BA9B-2D09BF8A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AE968-6404-40B3-933E-15B27D5B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1990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692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8284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41990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692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CB03B-4C63-4C9E-99A2-86952060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8584C-C694-427E-BA05-E8FD1BD4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623-2445-45CC-A785-104C3B12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6D244-EAA2-43EC-BBD7-A788551A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65349-8387-40EA-A2DE-ACFD5256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7F385-AD4B-4DFA-BA21-0CD727C5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CDC5B-5EFF-4AF3-A684-C034BBE2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82844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3BE7F-6336-413E-973B-C453978E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16CEA-9616-4C0C-8B41-AED207CB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B8F72-03E9-4BB8-A0CA-F1152382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BDFDD-D576-4F36-BAAA-0EA27BFA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A9BE9-6CF1-491E-8486-06AF1420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62221-E5DC-48F0-8864-60F17A25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90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92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4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90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92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2F0-FB83-4BD0-8170-5AACF96F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1990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5692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18284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41990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5692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C021D-9AD9-406E-9D7F-31EC95F7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E908A-0E0C-4076-BA00-5E4AA89B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936E3-69F9-4E10-98D2-DBD5C07B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0219B-BD23-4AFB-96B8-9FFFEC30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C3B45-01E9-4E96-B4F9-D0824AA5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D122E-3771-42A3-BAC0-3253C8C2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182844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6E3B4-5E2D-4B08-8627-C66E0F52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95056-E46A-4622-8256-E83911E1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DB1D5-F727-4CD8-BDC4-2171FAC6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352D8-B924-4F0B-B410-0908F485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E36C7-F014-40F7-A38F-53AED1AA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D115A-1929-4339-BD55-1713E0BA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1990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5692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18284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41990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5692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09510-72CD-479F-9D92-D216212B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B558F-D5FD-4BF0-A459-A38875B1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723E8-13BA-4581-9B96-3F85CDBB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0975C-44CC-4638-95A4-EFB91E6F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3B146-1CE6-481E-AF6E-AB81BAA4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43154-5F9B-4439-9836-70AFE3A6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82844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CED28-B81E-49E5-9020-2D97A780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AEBF7-EFFA-4FFC-8AEA-70373E9E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A589E-6E01-47E9-B6EE-17ABDA79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2919C-45C7-40ED-9F9A-C88D5D59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C0637-1E38-4D52-8999-E5FFF556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5A5EF-E7C1-4426-9019-1BED1300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1990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692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18284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1990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5692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E2C50-B05D-48B1-907A-9D1194C3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A30B5-81FF-4953-8B2F-6BDB3C24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BE6A4-D5D7-4F7A-B09C-BBC30A1A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8E68D-917F-40B2-90EB-E3714723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02DE2-E5C3-4990-9A81-B852924B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F14CE-98EB-4940-A8F6-FAA15065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82844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55503-2289-41EA-8AB2-25BB0C31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42357-6C68-4E81-B0B2-FF97C073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ED83A-BD26-498D-A41C-0C2A3897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07C77-1DF0-4968-8EAD-80260388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A02EE-7394-4DAC-9035-9AE48043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447BF-82B3-4567-B310-9023FF50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1990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5692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18284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41990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5692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CC4A7-E35B-4DC1-AF3A-16005081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2991E-2C26-4F2E-B06E-0E77D36C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E2A9B-A7A8-4BBB-A55D-057D58F7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64CC5-A8D0-4BB2-ABB9-3D62AC4B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FF46E-58D6-41EA-B98C-81179352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2EB06-D776-46CB-B2F2-746B4A1E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82844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3FDA2-9899-44C8-936B-615AD905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A249A-1D38-4E2E-ADFD-1A2DF863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A878E-D438-457C-A04A-AF8F0E4E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08CC9-F7FC-4774-9591-E90A304D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AA96D-FA1C-494C-9980-C8448767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FCF25-08C6-42B7-A0DC-C9DCF390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1990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5692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8284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1990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5692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3CD63-5B3B-463F-BEEB-E667D2D8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182844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82844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1990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5692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18284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41990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5692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182844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1990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5692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18284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1990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5692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0FF0A0-3F0D-4A3F-B894-FA1378D4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4EE4D9-4C3F-4ABB-9018-87A5C3D2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B9B2FF-5CE3-4F43-B796-3C3BD8AC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1BD86-6B96-4315-8618-44A5E4F9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0E66C-6A74-46CC-B116-F278B817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182844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FF78E1-DCA4-4C69-97C4-62CDC016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FB6676-8C23-4633-A219-60C80F8D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8BAC-84FB-47FC-84A3-6F2C476E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E08F64-7BF3-43C0-9C93-81D9A9E0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E48EC-2A73-4EEE-96A9-55841350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BCD30-7E49-47AA-8DD0-066B1DD5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D281AD-C6A4-4216-912D-1CA131F8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1990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5692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18284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41990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5692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C4F022-A2F7-4352-BA55-1582CFB1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990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692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8284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1990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692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A3B9-6ACE-4F0F-B9A4-265E74B4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82844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990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5692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8284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1990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5692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9282-93D3-450F-ABC9-BB63FAF7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51AE-BC80-408E-9B6C-9F179846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2165-7DA6-402E-A9E5-EC360DDC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DDEB-7851-4CA0-AFF5-4E46CEB2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88D2-CAB3-450F-83B9-E38292B7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9978-349E-4570-8245-C6F4CDFC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82844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55E6-EC18-4F3A-8236-E96D6BB1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6A29-68AB-43AF-96E7-0AFE1739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2224-137A-456D-86E8-E880F16D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5B1E-071A-4CF7-9821-A77529CB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0A2E-FE7D-498A-8518-CBE2146A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7F64-2056-4E5D-8E19-CEC6B390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1990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5692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8284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1990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5692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02B4-84B1-4425-90BD-E9B1607C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9E65C-B081-40E3-9C75-F020B590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03E6-CB66-494F-BA40-A493E22B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FC563-F72D-42BD-9FB8-56B92B04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1AC4D-A847-4F8F-B22E-FE39730C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3EBC3-2F6C-43A9-B6F8-79C4C0D5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1C09A-857F-4178-A6C5-21A7D56C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82844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9B58E-2458-4856-ABE3-85499232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96322-1F6E-4C9F-8B88-DBBBE540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13304-B651-4408-A8ED-E6B50900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3B96F-69BE-46B0-B34B-5A6A5780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2C52E-2304-4940-8F98-596BD86A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94255-97BD-4131-9F54-3474E30B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44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12BB-8A8C-468D-8F6D-C0A26E1D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990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5692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8284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990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5692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14D03-AE6F-49D4-A43C-6889C19E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E91AB-3634-4CAA-9BFB-A991773A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75D7D-DD2E-4633-9667-D20A9CB0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F0711-3AAB-418F-938B-BE947EB2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CC3B4-93CC-4982-A9C5-C47B7359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09A5C-A6D0-4B14-9573-8D5D1C36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82844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11F21-03E5-43B4-AE77-952BB324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64BC6-E6B6-4B66-82E7-7A8C8245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3C59E-F7AD-449B-A985-5E646206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07EF4-745A-40C6-8817-A15CC419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480C-792F-485E-AFCC-D525294A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82066-AA64-4F63-8B89-25953DFA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513D2-6A2A-46D4-8243-A90A1868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1990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692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8284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1990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692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CB838-0D63-4C6A-AD48-E8A7BE88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5708F-CF6A-440C-B450-38123B32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38B38-A33F-493A-B2AC-6D688DE3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B9039-AC54-4ADF-9E86-393EACE5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7E6F6-A7C8-47ED-9598-C5D415BE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07243-5EDD-481D-8CD1-4BA75F3E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82844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537D5-64A7-4D5B-B8A3-B7CFC804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23F2B-A991-4D3C-AC9D-4CABCC04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1728-71E4-4754-A793-20E89B32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586A0-323F-438F-8B87-7A977FC4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B021B-71CE-4077-B8DC-804246CF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A06E2-3B90-4D9C-ABB7-E0D3DA2D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A8239-53DC-4561-8784-F9634837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1990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692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8284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41990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692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66A19-9B8C-4FFD-B49C-5F59F647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4FB01-AF5F-4F81-80DC-8E834A9D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AFFFE-9F1E-4A5B-A26E-E03D623F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63915-4143-4802-9850-B164C931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D1951-AE05-41F0-8A12-CB8DB15F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95067-E892-4BB6-9EB6-73399AD3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11E2-A82B-4018-B6F5-4109C84A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82844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0BC14-A785-423F-8BE7-3C2EFD4C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7E7AA-A26B-4A93-8D96-D711E1E1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D8E28-E995-45B6-A387-90B5AFB2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A47FE-316A-4976-ABD5-1AF7C63C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99E9C-AA2C-4BBB-9EA1-8FF4492F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2ADA4-4E3D-4F23-B233-6B0AC0A0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1990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692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8284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1990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5692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ECB7C-62E6-45DE-9384-C4861F48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2ACC0-F7FB-4A9E-82FC-372A6506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57656-DA4C-4CD5-9930-E2771DF6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8C3AD-40C5-4A7C-9CCD-8CE97D74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3085-6DC7-44C3-B9C4-8507B4E78C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B117-8DC3-43B3-8DFE-D7C071E634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DC93-083F-456D-AB0C-967893AE80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DB31-FB49-43A6-9E37-7AA80D5D95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23FA-A962-44F6-84C7-4837E92831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8FC5-3BD4-4A1B-9647-02AA1C39FC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图片 69636" descr="图片1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133720" y="200160"/>
            <a:ext cx="67053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2133360" y="11430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图片 77828" descr="图片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670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1752120" y="144756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图片 83975" descr="图片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E3E9-8458-414D-8064-F1C253C6063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8612" descr="图片1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33720" y="200160"/>
            <a:ext cx="67053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133360" y="11430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76804" descr="图片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670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120" y="144756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82951" descr="图片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1600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41BA-7E8D-4FFA-A0B1-B494BABAF4C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1BD4-3F42-4023-A818-8F4CC3ADFA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DF16-E161-4281-9177-EC08A442F5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477C-DDD2-4807-9DBF-03C65EF8FA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C0F0-BEE9-4B18-8D47-3693812D06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8193-39FB-4261-991F-F825CAF892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gif"/><Relationship Id="rId3" Type="http://schemas.openxmlformats.org/officeDocument/2006/relationships/image" Target="../media/image45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图片 18434" descr="2002821144271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92" name="文本框 18436"/>
          <p:cNvSpPr/>
          <p:nvPr/>
        </p:nvSpPr>
        <p:spPr>
          <a:xfrm>
            <a:off x="1835280" y="1197000"/>
            <a:ext cx="57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晨昏诺日朗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文本框 18437"/>
          <p:cNvSpPr/>
          <p:nvPr/>
        </p:nvSpPr>
        <p:spPr>
          <a:xfrm>
            <a:off x="6084720" y="3645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  <a:ea typeface="华文行楷"/>
              </a:rPr>
              <a:t>赵丽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  <p:sndAc>
      <p:stSnd>
        <p:snd r:embed="rId2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文本占位符 36867" descr="nuo2"/>
          <p:cNvPicPr/>
          <p:nvPr/>
        </p:nvPicPr>
        <p:blipFill>
          <a:blip r:embed="rId1"/>
          <a:stretch/>
        </p:blipFill>
        <p:spPr>
          <a:xfrm>
            <a:off x="755640" y="0"/>
            <a:ext cx="7848720" cy="2819520"/>
          </a:xfrm>
          <a:prstGeom prst="rect">
            <a:avLst/>
          </a:prstGeom>
          <a:ln w="0">
            <a:noFill/>
          </a:ln>
        </p:spPr>
      </p:pic>
      <p:pic>
        <p:nvPicPr>
          <p:cNvPr id="706" name="图片 36871" descr="nuo6"/>
          <p:cNvPicPr/>
          <p:nvPr/>
        </p:nvPicPr>
        <p:blipFill>
          <a:blip r:embed="rId2"/>
          <a:stretch/>
        </p:blipFill>
        <p:spPr>
          <a:xfrm>
            <a:off x="6095880" y="2819520"/>
            <a:ext cx="3048120" cy="4038480"/>
          </a:xfrm>
          <a:prstGeom prst="rect">
            <a:avLst/>
          </a:prstGeom>
          <a:ln w="0">
            <a:noFill/>
          </a:ln>
        </p:spPr>
      </p:pic>
      <p:pic>
        <p:nvPicPr>
          <p:cNvPr id="707" name="图片 36873" descr="远眺诺日朗"/>
          <p:cNvPicPr/>
          <p:nvPr/>
        </p:nvPicPr>
        <p:blipFill>
          <a:blip r:embed="rId3"/>
          <a:stretch/>
        </p:blipFill>
        <p:spPr>
          <a:xfrm>
            <a:off x="0" y="2819520"/>
            <a:ext cx="617220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4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图片 46083" descr="200432213304734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3284640"/>
          </a:xfrm>
          <a:prstGeom prst="rect">
            <a:avLst/>
          </a:prstGeom>
          <a:ln w="0">
            <a:noFill/>
          </a:ln>
        </p:spPr>
      </p:pic>
      <p:pic>
        <p:nvPicPr>
          <p:cNvPr id="709" name="图片 46084" descr="20040922000929822"/>
          <p:cNvPicPr/>
          <p:nvPr/>
        </p:nvPicPr>
        <p:blipFill>
          <a:blip r:embed="rId2"/>
          <a:stretch/>
        </p:blipFill>
        <p:spPr>
          <a:xfrm>
            <a:off x="4427640" y="3284640"/>
            <a:ext cx="4716360" cy="3573360"/>
          </a:xfrm>
          <a:prstGeom prst="rect">
            <a:avLst/>
          </a:prstGeom>
          <a:ln w="0">
            <a:noFill/>
          </a:ln>
        </p:spPr>
      </p:pic>
      <p:pic>
        <p:nvPicPr>
          <p:cNvPr id="710" name="图片 46085" descr="图片3"/>
          <p:cNvPicPr/>
          <p:nvPr/>
        </p:nvPicPr>
        <p:blipFill>
          <a:blip r:embed="rId3"/>
          <a:stretch/>
        </p:blipFill>
        <p:spPr>
          <a:xfrm>
            <a:off x="0" y="0"/>
            <a:ext cx="44308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4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图片 47107" descr="jiuzhai1_2"/>
          <p:cNvPicPr/>
          <p:nvPr/>
        </p:nvPicPr>
        <p:blipFill>
          <a:blip r:embed="rId1"/>
          <a:stretch/>
        </p:blipFill>
        <p:spPr>
          <a:xfrm>
            <a:off x="0" y="0"/>
            <a:ext cx="4500720" cy="3573360"/>
          </a:xfrm>
          <a:prstGeom prst="rect">
            <a:avLst/>
          </a:prstGeom>
          <a:ln w="0">
            <a:noFill/>
          </a:ln>
        </p:spPr>
      </p:pic>
      <p:pic>
        <p:nvPicPr>
          <p:cNvPr id="712" name="图片 47108" descr="jiuzhai2_2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713" name="图片 47109" descr="jiuzhai23_2"/>
          <p:cNvPicPr/>
          <p:nvPr/>
        </p:nvPicPr>
        <p:blipFill>
          <a:blip r:embed="rId3"/>
          <a:stretch/>
        </p:blipFill>
        <p:spPr>
          <a:xfrm>
            <a:off x="0" y="3573360"/>
            <a:ext cx="4500720" cy="328464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47110" descr="jiu-nrldp"/>
          <p:cNvPicPr/>
          <p:nvPr/>
        </p:nvPicPr>
        <p:blipFill>
          <a:blip r:embed="rId4"/>
          <a:stretch/>
        </p:blipFill>
        <p:spPr>
          <a:xfrm>
            <a:off x="4500720" y="3573360"/>
            <a:ext cx="4643280" cy="3262320"/>
          </a:xfrm>
          <a:prstGeom prst="rect">
            <a:avLst/>
          </a:prstGeom>
          <a:ln w="0">
            <a:noFill/>
          </a:ln>
        </p:spPr>
      </p:pic>
      <p:sp>
        <p:nvSpPr>
          <p:cNvPr id="715" name="椭圆 47111"/>
          <p:cNvSpPr/>
          <p:nvPr/>
        </p:nvSpPr>
        <p:spPr>
          <a:xfrm>
            <a:off x="3132000" y="2133720"/>
            <a:ext cx="2664000" cy="3168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  <p:sndAc>
      <p:stSnd>
        <p:snd r:embed="rId6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图片 48133" descr="36"/>
          <p:cNvPicPr/>
          <p:nvPr/>
        </p:nvPicPr>
        <p:blipFill>
          <a:blip r:embed="rId1"/>
          <a:stretch/>
        </p:blipFill>
        <p:spPr>
          <a:xfrm>
            <a:off x="0" y="0"/>
            <a:ext cx="5676840" cy="3809880"/>
          </a:xfrm>
          <a:prstGeom prst="rect">
            <a:avLst/>
          </a:prstGeom>
          <a:ln w="0">
            <a:noFill/>
          </a:ln>
        </p:spPr>
      </p:pic>
      <p:pic>
        <p:nvPicPr>
          <p:cNvPr id="717" name="图片 48132" descr="norolangpubu3_1"/>
          <p:cNvPicPr/>
          <p:nvPr/>
        </p:nvPicPr>
        <p:blipFill>
          <a:blip r:embed="rId2"/>
          <a:stretch/>
        </p:blipFill>
        <p:spPr>
          <a:xfrm>
            <a:off x="4284720" y="3213000"/>
            <a:ext cx="4859280" cy="3645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3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图片 49155" descr="ximiuhai-08"/>
          <p:cNvPicPr/>
          <p:nvPr/>
        </p:nvPicPr>
        <p:blipFill>
          <a:blip r:embed="rId1"/>
          <a:stretch/>
        </p:blipFill>
        <p:spPr>
          <a:xfrm>
            <a:off x="0" y="2781360"/>
            <a:ext cx="4859280" cy="407664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49156" descr="pic_dp5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4292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3" name="typ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图片 50180" descr="pic_dp4"/>
          <p:cNvPicPr/>
          <p:nvPr/>
        </p:nvPicPr>
        <p:blipFill>
          <a:blip r:embed="rId1"/>
          <a:stretch/>
        </p:blipFill>
        <p:spPr>
          <a:xfrm>
            <a:off x="2843280" y="333360"/>
            <a:ext cx="2736720" cy="2281320"/>
          </a:xfrm>
          <a:prstGeom prst="rect">
            <a:avLst/>
          </a:prstGeom>
          <a:ln w="0">
            <a:noFill/>
          </a:ln>
        </p:spPr>
      </p:pic>
      <p:pic>
        <p:nvPicPr>
          <p:cNvPr id="721" name="图片 50183" descr="new_land19"/>
          <p:cNvPicPr/>
          <p:nvPr/>
        </p:nvPicPr>
        <p:blipFill>
          <a:blip r:embed="rId2"/>
          <a:stretch/>
        </p:blipFill>
        <p:spPr>
          <a:xfrm>
            <a:off x="5580000" y="836640"/>
            <a:ext cx="3564000" cy="2521080"/>
          </a:xfrm>
          <a:prstGeom prst="rect">
            <a:avLst/>
          </a:prstGeom>
          <a:ln w="0">
            <a:noFill/>
          </a:ln>
        </p:spPr>
      </p:pic>
      <p:pic>
        <p:nvPicPr>
          <p:cNvPr id="722" name="图片 50184" descr="无标题"/>
          <p:cNvPicPr/>
          <p:nvPr/>
        </p:nvPicPr>
        <p:blipFill>
          <a:blip r:embed="rId3"/>
          <a:stretch/>
        </p:blipFill>
        <p:spPr>
          <a:xfrm>
            <a:off x="4381560" y="3381480"/>
            <a:ext cx="4762440" cy="3476520"/>
          </a:xfrm>
          <a:prstGeom prst="rect">
            <a:avLst/>
          </a:prstGeom>
          <a:ln w="0">
            <a:noFill/>
          </a:ln>
        </p:spPr>
      </p:pic>
      <p:pic>
        <p:nvPicPr>
          <p:cNvPr id="723" name="图片 50185" descr="lrl2"/>
          <p:cNvPicPr/>
          <p:nvPr/>
        </p:nvPicPr>
        <p:blipFill>
          <a:blip r:embed="rId4"/>
          <a:stretch/>
        </p:blipFill>
        <p:spPr>
          <a:xfrm>
            <a:off x="0" y="1700280"/>
            <a:ext cx="2771640" cy="1849320"/>
          </a:xfrm>
          <a:prstGeom prst="rect">
            <a:avLst/>
          </a:prstGeom>
          <a:ln w="0">
            <a:noFill/>
          </a:ln>
        </p:spPr>
      </p:pic>
      <p:pic>
        <p:nvPicPr>
          <p:cNvPr id="724" name="图片 50186" descr="瀑布"/>
          <p:cNvPicPr/>
          <p:nvPr/>
        </p:nvPicPr>
        <p:blipFill>
          <a:blip r:embed="rId5"/>
          <a:stretch/>
        </p:blipFill>
        <p:spPr>
          <a:xfrm>
            <a:off x="0" y="4221000"/>
            <a:ext cx="4356000" cy="2302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6" name="typ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图片 51206" descr="200312911172891540"/>
          <p:cNvPicPr/>
          <p:nvPr/>
        </p:nvPicPr>
        <p:blipFill>
          <a:blip r:embed="rId1"/>
          <a:stretch/>
        </p:blipFill>
        <p:spPr>
          <a:xfrm>
            <a:off x="0" y="0"/>
            <a:ext cx="9144000" cy="3481560"/>
          </a:xfrm>
          <a:prstGeom prst="rect">
            <a:avLst/>
          </a:prstGeom>
          <a:ln w="0">
            <a:noFill/>
          </a:ln>
        </p:spPr>
      </p:pic>
      <p:pic>
        <p:nvPicPr>
          <p:cNvPr id="726" name="图片 51207" descr="g891001c"/>
          <p:cNvPicPr/>
          <p:nvPr/>
        </p:nvPicPr>
        <p:blipFill>
          <a:blip r:embed="rId2"/>
          <a:stretch/>
        </p:blipFill>
        <p:spPr>
          <a:xfrm>
            <a:off x="0" y="3564000"/>
            <a:ext cx="914400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3" name="typ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图片 52227" descr="nrl"/>
          <p:cNvPicPr/>
          <p:nvPr/>
        </p:nvPicPr>
        <p:blipFill>
          <a:blip r:embed="rId1"/>
          <a:stretch/>
        </p:blipFill>
        <p:spPr>
          <a:xfrm>
            <a:off x="0" y="0"/>
            <a:ext cx="3708360" cy="2685960"/>
          </a:xfrm>
          <a:prstGeom prst="rect">
            <a:avLst/>
          </a:prstGeom>
          <a:ln w="0">
            <a:noFill/>
          </a:ln>
        </p:spPr>
      </p:pic>
      <p:pic>
        <p:nvPicPr>
          <p:cNvPr id="728" name="图片 52228" descr="jzg5a"/>
          <p:cNvPicPr/>
          <p:nvPr/>
        </p:nvPicPr>
        <p:blipFill>
          <a:blip r:embed="rId2"/>
          <a:stretch/>
        </p:blipFill>
        <p:spPr>
          <a:xfrm>
            <a:off x="5580000" y="3645000"/>
            <a:ext cx="3564000" cy="321300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52229" descr="b1"/>
          <p:cNvPicPr/>
          <p:nvPr/>
        </p:nvPicPr>
        <p:blipFill>
          <a:blip r:embed="rId3"/>
          <a:stretch/>
        </p:blipFill>
        <p:spPr>
          <a:xfrm>
            <a:off x="2700360" y="1989000"/>
            <a:ext cx="3270240" cy="3384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4" name="typ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文本占位符 43011" descr="nuo1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731" name="图片 43012" descr="无标题1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3" name="typ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文本框 41986"/>
          <p:cNvSpPr/>
          <p:nvPr/>
        </p:nvSpPr>
        <p:spPr>
          <a:xfrm>
            <a:off x="7812000" y="64008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海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图片 41985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图片 3789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typ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图片 7174" descr="20049520455410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896472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诺日朗瀑布海拔</a:t>
            </a:r>
            <a:r>
              <a:rPr b="1" lang="en-US" sz="3200" spc="-1" strike="noStrike">
                <a:solidFill>
                  <a:srgbClr val="ffff00"/>
                </a:solidFill>
                <a:latin typeface="幼圆"/>
                <a:ea typeface="幼圆"/>
              </a:rPr>
              <a:t>2365</a:t>
            </a:r>
            <a:r>
              <a:rPr b="1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米，瀑宽百余米，高</a:t>
            </a:r>
            <a:r>
              <a:rPr b="1" lang="en-US" sz="3200" spc="-1" strike="noStrike">
                <a:solidFill>
                  <a:srgbClr val="ffff00"/>
                </a:solidFill>
                <a:latin typeface="幼圆"/>
                <a:ea typeface="幼圆"/>
              </a:rPr>
              <a:t>25</a:t>
            </a:r>
            <a:r>
              <a:rPr b="1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米，是九寨沟众多瀑布中最宽阔的一个。也是中国大型钙华瀑布之一。瀑布呈多级下跌，宽达</a:t>
            </a:r>
            <a:r>
              <a:rPr b="1" lang="en-US" sz="3200" spc="-1" strike="noStrike">
                <a:solidFill>
                  <a:srgbClr val="ffff00"/>
                </a:solidFill>
                <a:latin typeface="幼圆"/>
                <a:ea typeface="幼圆"/>
              </a:rPr>
              <a:t>140</a:t>
            </a:r>
            <a:r>
              <a:rPr b="1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米的水帘从两山间飞出，直泻百尺山崖，形成罕见的森林瀑布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文本框 7172"/>
          <p:cNvSpPr/>
          <p:nvPr/>
        </p:nvSpPr>
        <p:spPr>
          <a:xfrm>
            <a:off x="826920" y="26028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九寨沟自然风光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诺日朗瀑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矩形 7173"/>
          <p:cNvSpPr/>
          <p:nvPr/>
        </p:nvSpPr>
        <p:spPr>
          <a:xfrm>
            <a:off x="0" y="3068640"/>
            <a:ext cx="89647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buClr>
                <a:srgbClr val="ffff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瀑布顶部平整如台，传说以前这里没有瀑布，只有平台，一年，远游归来的扎尔穆德和尚带回了贝叶经、铁犁铧和手摇纺车，聪明美丽的藏族姑娘若依果很快学会用纺车纺线。好把纺车架到三沟交界的平台上，让过往姐妹们观看、学习，人们便叫这里为</a:t>
            </a:r>
            <a:r>
              <a:rPr b="1" lang="en-US" sz="3200" spc="-1" strike="noStrike">
                <a:solidFill>
                  <a:srgbClr val="ffff00"/>
                </a:solidFill>
                <a:latin typeface="幼圆"/>
                <a:ea typeface="幼圆"/>
              </a:rPr>
              <a:t>"</a:t>
            </a:r>
            <a:r>
              <a:rPr b="1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纺织台</a:t>
            </a:r>
            <a:r>
              <a:rPr b="1" lang="en-US" sz="3200" spc="-1" strike="noStrike">
                <a:solidFill>
                  <a:srgbClr val="ffff00"/>
                </a:solidFill>
                <a:latin typeface="幼圆"/>
                <a:ea typeface="幼圆"/>
              </a:rPr>
              <a:t>"</a:t>
            </a:r>
            <a:r>
              <a:rPr b="1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。凶残的头人罗扎认为她在搞歪门邪道，一脚把她和纺车踢下了山崖。立刻，山洪暴发，把罗扎和帮凶冲下悬崖，纺织台就成了今天的瀑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  <p:sndAc>
      <p:stSnd>
        <p:snd r:embed="rId2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图片 9219" descr="20049520443310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82692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藏语中诺日朗意指男神，也有伟岸高大的意思，因此诺日朗瀑布意思就是雄伟壮观的瀑布。滔滔水流自朝阳照射，彩虹幻出，分外迷人。水流凌空而下，银花四溅，水声隆隆。水从静海穿林过滩慢悠悠的流来，又从陡岩上猛然跌下深渊，发出轰雷般的响声，声势极为壮观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  <p:sndAc>
      <p:stSnd>
        <p:snd r:embed="rId2" name="type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图片 61447" descr="Zhaolh"/>
          <p:cNvPicPr/>
          <p:nvPr/>
        </p:nvPicPr>
        <p:blipFill>
          <a:blip r:embed="rId1"/>
          <a:stretch/>
        </p:blipFill>
        <p:spPr>
          <a:xfrm>
            <a:off x="1116000" y="620640"/>
            <a:ext cx="2160720" cy="2158920"/>
          </a:xfrm>
          <a:prstGeom prst="rect">
            <a:avLst/>
          </a:prstGeom>
          <a:ln w="0">
            <a:noFill/>
          </a:ln>
        </p:spPr>
      </p:pic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-360" y="3284640"/>
            <a:ext cx="38098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1951</a:t>
            </a:r>
            <a:r>
              <a:rPr b="1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年生，上海市崇明县人。</a:t>
            </a:r>
            <a:r>
              <a:rPr b="1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1968</a:t>
            </a:r>
            <a:r>
              <a:rPr b="1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年高中毕业后回故乡插队，当过木匠、乡邮员、教师、县机关工作人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title"/>
          </p:nvPr>
        </p:nvSpPr>
        <p:spPr>
          <a:xfrm>
            <a:off x="1835280" y="2349000"/>
            <a:ext cx="2232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赵丽宏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图片 61474" descr="chatu3"/>
          <p:cNvPicPr/>
          <p:nvPr/>
        </p:nvPicPr>
        <p:blipFill>
          <a:blip r:embed="rId2"/>
          <a:stretch/>
        </p:blipFill>
        <p:spPr>
          <a:xfrm>
            <a:off x="6227640" y="4913280"/>
            <a:ext cx="2473560" cy="157788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851280" y="476280"/>
            <a:ext cx="51134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  </a:t>
            </a:r>
            <a:r>
              <a:rPr b="1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1978</a:t>
            </a:r>
            <a:r>
              <a:rPr b="1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年考入华东师范大学中文系，并开始创作诗歌和散文。大学毕业后当过</a:t>
            </a:r>
            <a:r>
              <a:rPr b="1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萌芽</a:t>
            </a:r>
            <a:r>
              <a:rPr b="1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杂志编辑，后为上海作家协会专业作家。中国作家协会会员。曾任上海市青年联合会副主席，全国政协委员。现为上海作协副主席。出版有</a:t>
            </a:r>
            <a:r>
              <a:rPr b="1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珊瑚</a:t>
            </a:r>
            <a:r>
              <a:rPr b="1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》《</a:t>
            </a:r>
            <a:r>
              <a:rPr b="1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生命草</a:t>
            </a:r>
            <a:r>
              <a:rPr b="1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》《</a:t>
            </a:r>
            <a:r>
              <a:rPr b="1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心画</a:t>
            </a:r>
            <a:r>
              <a:rPr b="1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等三十多部诗集、散文集、报告文学集。作品曾数十次获奖，</a:t>
            </a:r>
            <a:r>
              <a:rPr b="1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诗魂</a:t>
            </a:r>
            <a:r>
              <a:rPr b="1" lang="en-US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获新时期全国优秀散文集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  <p:sndAc>
      <p:stSnd>
        <p:snd r:embed="rId3" name="typ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133720" y="200160"/>
            <a:ext cx="67053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99ff"/>
                </a:solidFill>
                <a:latin typeface="华文新魏"/>
                <a:ea typeface="华文新魏"/>
              </a:rPr>
              <a:t>赵丽宏 散文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123640" y="1483920"/>
            <a:ext cx="60706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赵丽宏把好散文归结为三个因素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情、知、文。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即感情、真情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即知识、学养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是独特的个性文字和与别人不一样的表达方式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晨昏诺日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文很好地体现了作者所言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“文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特征，将中国西部的壮丽景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九寨沟诺日朗瀑布展现在读者面前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1" name="typ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精读课文，思考讨论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752120" y="144756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  作者在文中主要记叙了自己和诺日朗的几次遭遇？重点介绍的是哪两次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  作者在描写诺日朗的时候，是怎么从声、光和触觉等方面描写的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  哪些地方写到了诺日朗的动态？用了怎样的动词？作了哪些贴切的比喻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1" name="typ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图片 65599" descr="509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2" name="文本框 65540"/>
          <p:cNvSpPr/>
          <p:nvPr/>
        </p:nvSpPr>
        <p:spPr>
          <a:xfrm>
            <a:off x="2268360" y="333360"/>
            <a:ext cx="439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4846"/>
                </a:solidFill>
                <a:latin typeface="楷体_GB2312"/>
                <a:ea typeface="楷体_GB2312"/>
              </a:rPr>
              <a:t>气韵悠长的叹息，</a:t>
            </a:r>
            <a:r>
              <a:rPr b="1" lang="en-US" sz="2400" spc="-1" strike="noStrike">
                <a:solidFill>
                  <a:srgbClr val="004846"/>
                </a:solidFill>
                <a:latin typeface="Times New Roman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004846"/>
                </a:solidFill>
                <a:latin typeface="楷体_GB2312"/>
                <a:ea typeface="楷体_GB2312"/>
              </a:rPr>
              <a:t>飘过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484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846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4846"/>
                </a:solidFill>
                <a:latin typeface="楷体_GB2312"/>
                <a:ea typeface="楷体_GB2312"/>
              </a:rPr>
              <a:t>急雨打在树叶上，嘈杂清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484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846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4846"/>
                </a:solidFill>
                <a:latin typeface="楷体_GB2312"/>
                <a:ea typeface="楷体_GB2312"/>
              </a:rPr>
              <a:t>狂风呼啸，卷过树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484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846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4846"/>
                </a:solidFill>
                <a:latin typeface="楷体_GB2312"/>
                <a:ea typeface="楷体_GB2312"/>
              </a:rPr>
              <a:t>震天撼地的轰鸣，万马奔腾，人喊马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文本框 65541"/>
          <p:cNvSpPr/>
          <p:nvPr/>
        </p:nvSpPr>
        <p:spPr>
          <a:xfrm>
            <a:off x="7343640" y="260280"/>
            <a:ext cx="1800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幼圆"/>
              </a:rPr>
              <a:t>雄浑粗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幼圆"/>
              </a:rPr>
              <a:t>奔放不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幼圆"/>
              </a:rPr>
              <a:t>带着野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幼圆"/>
              </a:rPr>
              <a:t>无拘无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幼圆"/>
              </a:rPr>
              <a:t>震撼天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文本框 65544"/>
          <p:cNvSpPr/>
          <p:nvPr/>
        </p:nvSpPr>
        <p:spPr>
          <a:xfrm>
            <a:off x="2195640" y="21621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4846"/>
                </a:solidFill>
                <a:latin typeface="楷体_GB2312"/>
                <a:ea typeface="楷体_GB2312"/>
              </a:rPr>
              <a:t>白光一闪一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文本框 65545"/>
          <p:cNvSpPr/>
          <p:nvPr/>
        </p:nvSpPr>
        <p:spPr>
          <a:xfrm>
            <a:off x="1403280" y="2492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摹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文本框 65546"/>
          <p:cNvSpPr/>
          <p:nvPr/>
        </p:nvSpPr>
        <p:spPr>
          <a:xfrm>
            <a:off x="2195640" y="252108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484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846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4846"/>
                </a:solidFill>
                <a:latin typeface="楷体_GB2312"/>
                <a:ea typeface="楷体_GB2312"/>
              </a:rPr>
              <a:t>流”“跌”“垂挂”“飞扬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文本框 65547"/>
          <p:cNvSpPr/>
          <p:nvPr/>
        </p:nvSpPr>
        <p:spPr>
          <a:xfrm>
            <a:off x="1332000" y="2852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抒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文本框 65548"/>
          <p:cNvSpPr/>
          <p:nvPr/>
        </p:nvSpPr>
        <p:spPr>
          <a:xfrm>
            <a:off x="2195640" y="285264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484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846"/>
                </a:solidFill>
                <a:latin typeface="楷体_GB2312"/>
                <a:ea typeface="楷体_GB2312"/>
              </a:rPr>
              <a:t>单薄、柔美、缺乏壮阔的气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文本框 65549"/>
          <p:cNvSpPr/>
          <p:nvPr/>
        </p:nvSpPr>
        <p:spPr>
          <a:xfrm>
            <a:off x="6156360" y="285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00"/>
                </a:solidFill>
                <a:latin typeface="Times New Roman"/>
              </a:rPr>
              <a:t>（伏笔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左大括号 65550"/>
          <p:cNvSpPr/>
          <p:nvPr/>
        </p:nvSpPr>
        <p:spPr>
          <a:xfrm>
            <a:off x="2195640" y="549360"/>
            <a:ext cx="71280" cy="1511280"/>
          </a:xfrm>
          <a:custGeom>
            <a:avLst/>
            <a:gdLst>
              <a:gd name="textAreaLeft" fmla="*/ 45720 w 71280"/>
              <a:gd name="textAreaRight" fmla="*/ 71640 w 712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左大括号 65551"/>
          <p:cNvSpPr/>
          <p:nvPr/>
        </p:nvSpPr>
        <p:spPr>
          <a:xfrm>
            <a:off x="1332000" y="1341360"/>
            <a:ext cx="71280" cy="1800360"/>
          </a:xfrm>
          <a:custGeom>
            <a:avLst/>
            <a:gdLst>
              <a:gd name="textAreaLeft" fmla="*/ 45720 w 71280"/>
              <a:gd name="textAreaRight" fmla="*/ 71640 w 71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左大括号 65552"/>
          <p:cNvSpPr/>
          <p:nvPr/>
        </p:nvSpPr>
        <p:spPr>
          <a:xfrm flipH="1">
            <a:off x="7163640" y="476280"/>
            <a:ext cx="144360" cy="1512720"/>
          </a:xfrm>
          <a:custGeom>
            <a:avLst/>
            <a:gdLst>
              <a:gd name="textAreaLeft" fmla="*/ 92160 w 144360"/>
              <a:gd name="textAreaRight" fmla="*/ 144360 w 14436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文本框 65553"/>
          <p:cNvSpPr/>
          <p:nvPr/>
        </p:nvSpPr>
        <p:spPr>
          <a:xfrm>
            <a:off x="0" y="1844640"/>
            <a:ext cx="1403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黑体"/>
              </a:rPr>
              <a:t>夕照中的诺日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文本框 65554"/>
          <p:cNvSpPr/>
          <p:nvPr/>
        </p:nvSpPr>
        <p:spPr>
          <a:xfrm>
            <a:off x="0" y="4003560"/>
            <a:ext cx="129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黑体"/>
              </a:rPr>
              <a:t>晨雾中的诺日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文本框 65555"/>
          <p:cNvSpPr/>
          <p:nvPr/>
        </p:nvSpPr>
        <p:spPr>
          <a:xfrm>
            <a:off x="0" y="5877000"/>
            <a:ext cx="1403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0080"/>
                </a:solidFill>
                <a:latin typeface="Times New Roman"/>
                <a:ea typeface="黑体"/>
              </a:rPr>
              <a:t>早霞中的诺日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文本框 65557"/>
          <p:cNvSpPr/>
          <p:nvPr/>
        </p:nvSpPr>
        <p:spPr>
          <a:xfrm>
            <a:off x="2195640" y="328464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4846"/>
                </a:solidFill>
                <a:latin typeface="楷体_GB2312"/>
                <a:ea typeface="楷体_GB2312"/>
              </a:rPr>
              <a:t>喷涌倾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846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4846"/>
                </a:solidFill>
                <a:latin typeface="楷体_GB2312"/>
                <a:ea typeface="楷体_GB2312"/>
              </a:rPr>
              <a:t>腾空而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文本框 65558"/>
          <p:cNvSpPr/>
          <p:nvPr/>
        </p:nvSpPr>
        <p:spPr>
          <a:xfrm>
            <a:off x="3635280" y="3429000"/>
            <a:ext cx="158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白龙飞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文本框 65559"/>
          <p:cNvSpPr/>
          <p:nvPr/>
        </p:nvSpPr>
        <p:spPr>
          <a:xfrm>
            <a:off x="2266920" y="407664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846"/>
                </a:solidFill>
                <a:latin typeface="楷体_GB2312"/>
                <a:ea typeface="楷体_GB2312"/>
              </a:rPr>
              <a:t>天裂豁口一落千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846"/>
                </a:solidFill>
                <a:latin typeface="楷体_GB2312"/>
                <a:ea typeface="楷体_GB2312"/>
              </a:rPr>
              <a:t>浩浩荡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846"/>
                </a:solidFill>
                <a:latin typeface="楷体_GB2312"/>
                <a:ea typeface="楷体_GB2312"/>
              </a:rPr>
              <a:t>洋洋洒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文本框 65560"/>
          <p:cNvSpPr/>
          <p:nvPr/>
        </p:nvSpPr>
        <p:spPr>
          <a:xfrm>
            <a:off x="3635280" y="4653000"/>
            <a:ext cx="144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群龙飞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文本框 65561"/>
          <p:cNvSpPr/>
          <p:nvPr/>
        </p:nvSpPr>
        <p:spPr>
          <a:xfrm>
            <a:off x="2268360" y="5670720"/>
            <a:ext cx="16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846"/>
                </a:solidFill>
                <a:latin typeface="楷体_GB2312"/>
                <a:ea typeface="楷体_GB2312"/>
              </a:rPr>
              <a:t>金光闪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846"/>
                </a:solidFill>
                <a:latin typeface="楷体_GB2312"/>
                <a:ea typeface="楷体_GB2312"/>
              </a:rPr>
              <a:t>雾光糅合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846"/>
                </a:solidFill>
                <a:latin typeface="楷体_GB2312"/>
                <a:ea typeface="楷体_GB2312"/>
              </a:rPr>
              <a:t>缤纷迷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文本框 65562"/>
          <p:cNvSpPr/>
          <p:nvPr/>
        </p:nvSpPr>
        <p:spPr>
          <a:xfrm>
            <a:off x="5003640" y="595008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面目一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左大括号 65565"/>
          <p:cNvSpPr/>
          <p:nvPr/>
        </p:nvSpPr>
        <p:spPr>
          <a:xfrm flipH="1">
            <a:off x="3564000" y="3429000"/>
            <a:ext cx="185760" cy="504720"/>
          </a:xfrm>
          <a:custGeom>
            <a:avLst/>
            <a:gdLst>
              <a:gd name="textAreaLeft" fmla="*/ 119160 w 185760"/>
              <a:gd name="textAreaRight" fmla="*/ 186480 w 1857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左大括号 65566"/>
          <p:cNvSpPr/>
          <p:nvPr/>
        </p:nvSpPr>
        <p:spPr>
          <a:xfrm flipH="1">
            <a:off x="3634560" y="4292640"/>
            <a:ext cx="73080" cy="1225440"/>
          </a:xfrm>
          <a:custGeom>
            <a:avLst/>
            <a:gdLst>
              <a:gd name="textAreaLeft" fmla="*/ 46440 w 73080"/>
              <a:gd name="textAreaRight" fmla="*/ 73080 w 7308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左大括号 65567"/>
          <p:cNvSpPr/>
          <p:nvPr/>
        </p:nvSpPr>
        <p:spPr>
          <a:xfrm>
            <a:off x="1187280" y="3645000"/>
            <a:ext cx="216000" cy="13968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6360 h 1396800"/>
              <a:gd name="textAreaBottom" fmla="*/ 1360440 h 139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左大括号 65568"/>
          <p:cNvSpPr/>
          <p:nvPr/>
        </p:nvSpPr>
        <p:spPr>
          <a:xfrm>
            <a:off x="2197080" y="5734080"/>
            <a:ext cx="142920" cy="93672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左大括号 65569"/>
          <p:cNvSpPr/>
          <p:nvPr/>
        </p:nvSpPr>
        <p:spPr>
          <a:xfrm flipH="1">
            <a:off x="3564720" y="5734080"/>
            <a:ext cx="142920" cy="936720"/>
          </a:xfrm>
          <a:custGeom>
            <a:avLst/>
            <a:gdLst>
              <a:gd name="textAreaLeft" fmla="*/ 91080 w 142920"/>
              <a:gd name="textAreaRight" fmla="*/ 142920 w 1429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文本框 65571"/>
          <p:cNvSpPr/>
          <p:nvPr/>
        </p:nvSpPr>
        <p:spPr>
          <a:xfrm>
            <a:off x="1403280" y="342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摹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文本框 65572"/>
          <p:cNvSpPr/>
          <p:nvPr/>
        </p:nvSpPr>
        <p:spPr>
          <a:xfrm>
            <a:off x="1403280" y="4653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摹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文本框 65573"/>
          <p:cNvSpPr/>
          <p:nvPr/>
        </p:nvSpPr>
        <p:spPr>
          <a:xfrm>
            <a:off x="1347840" y="5940360"/>
            <a:ext cx="8841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绘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文本框 65574"/>
          <p:cNvSpPr/>
          <p:nvPr/>
        </p:nvSpPr>
        <p:spPr>
          <a:xfrm>
            <a:off x="3635280" y="59500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神话气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文本框 65575"/>
          <p:cNvSpPr/>
          <p:nvPr/>
        </p:nvSpPr>
        <p:spPr>
          <a:xfrm>
            <a:off x="5364000" y="34290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阔大、雄浑、神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文本框 65576"/>
          <p:cNvSpPr/>
          <p:nvPr/>
        </p:nvSpPr>
        <p:spPr>
          <a:xfrm>
            <a:off x="5362560" y="4653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惊天动地，气势磅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3" name="图片 65578" descr="BKARROW3"/>
          <p:cNvPicPr/>
          <p:nvPr/>
        </p:nvPicPr>
        <p:blipFill>
          <a:blip r:embed="rId2"/>
          <a:stretch/>
        </p:blipFill>
        <p:spPr>
          <a:xfrm rot="16200000">
            <a:off x="4806720" y="4095720"/>
            <a:ext cx="719280" cy="395280"/>
          </a:xfrm>
          <a:prstGeom prst="rect">
            <a:avLst/>
          </a:prstGeom>
          <a:ln w="0">
            <a:noFill/>
          </a:ln>
        </p:spPr>
      </p:pic>
      <p:sp>
        <p:nvSpPr>
          <p:cNvPr id="784" name="文本框 65583"/>
          <p:cNvSpPr/>
          <p:nvPr/>
        </p:nvSpPr>
        <p:spPr>
          <a:xfrm>
            <a:off x="6516720" y="404640"/>
            <a:ext cx="466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远        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图片 65584" descr="BKARROW3"/>
          <p:cNvPicPr/>
          <p:nvPr/>
        </p:nvPicPr>
        <p:blipFill>
          <a:blip r:embed="rId3"/>
          <a:stretch/>
        </p:blipFill>
        <p:spPr>
          <a:xfrm rot="16200000">
            <a:off x="6427800" y="961920"/>
            <a:ext cx="503280" cy="395280"/>
          </a:xfrm>
          <a:prstGeom prst="rect">
            <a:avLst/>
          </a:prstGeom>
          <a:ln w="0">
            <a:noFill/>
          </a:ln>
        </p:spPr>
      </p:pic>
      <p:sp>
        <p:nvSpPr>
          <p:cNvPr id="786" name="文本框 65585"/>
          <p:cNvSpPr/>
          <p:nvPr/>
        </p:nvSpPr>
        <p:spPr>
          <a:xfrm>
            <a:off x="1476360" y="1052640"/>
            <a:ext cx="8841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绘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文本框 65586"/>
          <p:cNvSpPr/>
          <p:nvPr/>
        </p:nvSpPr>
        <p:spPr>
          <a:xfrm>
            <a:off x="1403280" y="21798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绘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组合 65590"/>
          <p:cNvGrpSpPr/>
          <p:nvPr/>
        </p:nvGrpSpPr>
        <p:grpSpPr>
          <a:xfrm>
            <a:off x="7451640" y="2997000"/>
            <a:ext cx="1441440" cy="1872000"/>
            <a:chOff x="7451640" y="2997000"/>
            <a:chExt cx="1441440" cy="1872000"/>
          </a:xfrm>
        </p:grpSpPr>
        <p:sp>
          <p:nvSpPr>
            <p:cNvPr id="789" name="直接连接符 65587"/>
            <p:cNvSpPr/>
            <p:nvPr/>
          </p:nvSpPr>
          <p:spPr>
            <a:xfrm>
              <a:off x="8532720" y="486900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直接连接符 65588"/>
            <p:cNvSpPr/>
            <p:nvPr/>
          </p:nvSpPr>
          <p:spPr>
            <a:xfrm flipV="1">
              <a:off x="8893080" y="2997000"/>
              <a:ext cx="0" cy="1871640"/>
            </a:xfrm>
            <a:prstGeom prst="line">
              <a:avLst/>
            </a:prstGeom>
            <a:ln w="255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直接连接符 65589"/>
            <p:cNvSpPr/>
            <p:nvPr/>
          </p:nvSpPr>
          <p:spPr>
            <a:xfrm flipH="1">
              <a:off x="7451640" y="2997360"/>
              <a:ext cx="1441440" cy="0"/>
            </a:xfrm>
            <a:prstGeom prst="line">
              <a:avLst/>
            </a:prstGeom>
            <a:ln w="25560">
              <a:solidFill>
                <a:srgbClr val="80008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文本框 65592"/>
          <p:cNvSpPr/>
          <p:nvPr/>
        </p:nvSpPr>
        <p:spPr>
          <a:xfrm>
            <a:off x="8597880" y="3357720"/>
            <a:ext cx="5461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00"/>
                </a:solidFill>
                <a:latin typeface="Times New Roman"/>
              </a:rPr>
              <a:t>照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左大括号 65593"/>
          <p:cNvSpPr/>
          <p:nvPr/>
        </p:nvSpPr>
        <p:spPr>
          <a:xfrm>
            <a:off x="2195640" y="3429000"/>
            <a:ext cx="142920" cy="504720"/>
          </a:xfrm>
          <a:custGeom>
            <a:avLst/>
            <a:gdLst>
              <a:gd name="textAreaLeft" fmla="*/ 91440 w 142920"/>
              <a:gd name="textAreaRight" fmla="*/ 143280 w 14292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左大括号 65594"/>
          <p:cNvSpPr/>
          <p:nvPr/>
        </p:nvSpPr>
        <p:spPr>
          <a:xfrm>
            <a:off x="2195640" y="4292640"/>
            <a:ext cx="142920" cy="1225440"/>
          </a:xfrm>
          <a:custGeom>
            <a:avLst/>
            <a:gdLst>
              <a:gd name="textAreaLeft" fmla="*/ 91440 w 142920"/>
              <a:gd name="textAreaRight" fmla="*/ 143280 w 14292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文本框 65595"/>
          <p:cNvSpPr/>
          <p:nvPr/>
        </p:nvSpPr>
        <p:spPr>
          <a:xfrm>
            <a:off x="5041800" y="3500280"/>
            <a:ext cx="4669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远         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  <p:sndAc>
      <p:stSnd>
        <p:snd r:embed="rId4" name="type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indefinite"/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4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7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7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77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770" fill="hold"/>
                                        <p:tgtEl>
                                          <p:spTgt spid="7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思考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文章除了直接描写瀑布以外，还写到了哪些景色？插叙了那些信息？写这些景色，提供这些信息，对于描写诺日朗瀑布起到了怎样的铺垫作用？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随着观察时间和空间的变化，诺日朗瀑布呈现出不同的景象。黄昏和清晨的诺日朗瀑布有哪些不同？黄昏和清晨的诺日朗，在不同的方位又给了作者哪些截然不同的感受？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图片 96257" descr="TRFAQ"/>
          <p:cNvPicPr/>
          <p:nvPr/>
        </p:nvPicPr>
        <p:blipFill>
          <a:blip r:embed="rId1"/>
          <a:stretch/>
        </p:blipFill>
        <p:spPr>
          <a:xfrm>
            <a:off x="3924360" y="404640"/>
            <a:ext cx="135108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type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图片 95248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0" name="文本框 95247"/>
          <p:cNvSpPr/>
          <p:nvPr/>
        </p:nvSpPr>
        <p:spPr>
          <a:xfrm>
            <a:off x="971640" y="10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Times New Roman"/>
                <a:ea typeface="华文新魏"/>
              </a:rPr>
              <a:t>晚霞中的诺日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文本框 95246"/>
          <p:cNvSpPr/>
          <p:nvPr/>
        </p:nvSpPr>
        <p:spPr>
          <a:xfrm>
            <a:off x="3348000" y="333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ff"/>
                </a:solidFill>
                <a:latin typeface="Times New Roman"/>
                <a:ea typeface="华文细黑"/>
              </a:rPr>
              <a:t>松树晶莹剔透，仿佛是宝石和珊瑚的雕塑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文本框 95245"/>
          <p:cNvSpPr/>
          <p:nvPr/>
        </p:nvSpPr>
        <p:spPr>
          <a:xfrm>
            <a:off x="3348000" y="170028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ff"/>
                </a:solidFill>
                <a:latin typeface="Times New Roman"/>
                <a:ea typeface="华文细黑"/>
              </a:rPr>
              <a:t>画面幽远宁静，像一幅辉煌静止的油画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左大括号 95244"/>
          <p:cNvSpPr/>
          <p:nvPr/>
        </p:nvSpPr>
        <p:spPr>
          <a:xfrm>
            <a:off x="2843280" y="765000"/>
            <a:ext cx="216000" cy="15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文本框 95243"/>
          <p:cNvSpPr/>
          <p:nvPr/>
        </p:nvSpPr>
        <p:spPr>
          <a:xfrm>
            <a:off x="1116000" y="285264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Times New Roman"/>
                <a:ea typeface="华文新魏"/>
              </a:rPr>
              <a:t>夜晚的诺日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文本框 95242"/>
          <p:cNvSpPr/>
          <p:nvPr/>
        </p:nvSpPr>
        <p:spPr>
          <a:xfrm>
            <a:off x="3276720" y="2637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ff"/>
                </a:solidFill>
                <a:latin typeface="Times New Roman"/>
                <a:ea typeface="华文细黑"/>
              </a:rPr>
              <a:t>朦胧神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文本框 95241"/>
          <p:cNvSpPr/>
          <p:nvPr/>
        </p:nvSpPr>
        <p:spPr>
          <a:xfrm>
            <a:off x="3203640" y="342900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ff"/>
                </a:solidFill>
                <a:latin typeface="Times New Roman"/>
                <a:ea typeface="华文细黑"/>
              </a:rPr>
              <a:t>万籁声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左大括号 95240"/>
          <p:cNvSpPr/>
          <p:nvPr/>
        </p:nvSpPr>
        <p:spPr>
          <a:xfrm>
            <a:off x="2843280" y="2924280"/>
            <a:ext cx="288720" cy="792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文本框 95239"/>
          <p:cNvSpPr/>
          <p:nvPr/>
        </p:nvSpPr>
        <p:spPr>
          <a:xfrm>
            <a:off x="1042920" y="41497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Times New Roman"/>
                <a:ea typeface="华文新魏"/>
              </a:rPr>
              <a:t>清晨的诺日朗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文本框 95238"/>
          <p:cNvSpPr/>
          <p:nvPr/>
        </p:nvSpPr>
        <p:spPr>
          <a:xfrm>
            <a:off x="3203640" y="400536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ff"/>
                </a:solidFill>
                <a:latin typeface="Times New Roman"/>
                <a:ea typeface="华文细黑"/>
              </a:rPr>
              <a:t>轻纱雾气，若有若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文本框 95237"/>
          <p:cNvSpPr/>
          <p:nvPr/>
        </p:nvSpPr>
        <p:spPr>
          <a:xfrm>
            <a:off x="3132000" y="4797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ff"/>
                </a:solidFill>
                <a:latin typeface="Times New Roman"/>
                <a:ea typeface="华文细黑"/>
              </a:rPr>
              <a:t>马蹄声声，沉静优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文本框 95236"/>
          <p:cNvSpPr/>
          <p:nvPr/>
        </p:nvSpPr>
        <p:spPr>
          <a:xfrm>
            <a:off x="6805440" y="4437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ff"/>
                </a:solidFill>
                <a:latin typeface="Times New Roman"/>
                <a:ea typeface="华文细黑"/>
              </a:rPr>
              <a:t>奇妙如梦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左大括号 95235"/>
          <p:cNvSpPr/>
          <p:nvPr/>
        </p:nvSpPr>
        <p:spPr>
          <a:xfrm>
            <a:off x="2843280" y="4221000"/>
            <a:ext cx="288720" cy="792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左大括号 95234"/>
          <p:cNvSpPr/>
          <p:nvPr/>
        </p:nvSpPr>
        <p:spPr>
          <a:xfrm flipH="1">
            <a:off x="6589080" y="4292640"/>
            <a:ext cx="214200" cy="792000"/>
          </a:xfrm>
          <a:custGeom>
            <a:avLst/>
            <a:gdLst>
              <a:gd name="textAreaLeft" fmla="*/ 136440 w 214200"/>
              <a:gd name="textAreaRight" fmla="*/ 214200 w 2142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文本框 95233"/>
          <p:cNvSpPr/>
          <p:nvPr/>
        </p:nvSpPr>
        <p:spPr>
          <a:xfrm>
            <a:off x="755640" y="5516640"/>
            <a:ext cx="76327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这些描写就像画中的背景一样，对主景起到了很好的衬托作用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  <p:sndAc>
      <p:stSnd>
        <p:snd r:embed="rId2" name="type.wav"/>
      </p:stSnd>
    </p:sndAc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8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8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8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0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8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8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8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8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7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70" fill="hold"/>
                                        <p:tgtEl>
                                          <p:spTgt spid="8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7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图片 93185" descr="诺秋景的副本"/>
          <p:cNvPicPr/>
          <p:nvPr/>
        </p:nvPicPr>
        <p:blipFill>
          <a:blip r:embed="rId1"/>
          <a:stretch/>
        </p:blipFill>
        <p:spPr>
          <a:xfrm>
            <a:off x="179280" y="193680"/>
            <a:ext cx="8785440" cy="64753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图片 94209" descr="诺日朗冬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图片 6147" descr="15"/>
          <p:cNvPicPr/>
          <p:nvPr/>
        </p:nvPicPr>
        <p:blipFill>
          <a:blip r:embed="rId1"/>
          <a:stretch/>
        </p:blipFill>
        <p:spPr>
          <a:xfrm>
            <a:off x="0" y="-66600"/>
            <a:ext cx="9144000" cy="6989760"/>
          </a:xfrm>
          <a:prstGeom prst="rect">
            <a:avLst/>
          </a:prstGeom>
          <a:ln w="0">
            <a:noFill/>
          </a:ln>
        </p:spPr>
      </p:pic>
      <p:sp>
        <p:nvSpPr>
          <p:cNvPr id="700" name="文本框 6148"/>
          <p:cNvSpPr/>
          <p:nvPr/>
        </p:nvSpPr>
        <p:spPr>
          <a:xfrm>
            <a:off x="3032280" y="63036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  <p:sndAc>
      <p:stSnd>
        <p:snd r:embed="rId2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图片 44035" descr="nuo4"/>
          <p:cNvPicPr/>
          <p:nvPr/>
        </p:nvPicPr>
        <p:blipFill>
          <a:blip r:embed="rId1"/>
          <a:stretch/>
        </p:blipFill>
        <p:spPr>
          <a:xfrm>
            <a:off x="762120" y="0"/>
            <a:ext cx="7238880" cy="6629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图片 45059" descr="nuo5"/>
          <p:cNvPicPr/>
          <p:nvPr/>
        </p:nvPicPr>
        <p:blipFill>
          <a:blip r:embed="rId1"/>
          <a:stretch/>
        </p:blipFill>
        <p:spPr>
          <a:xfrm>
            <a:off x="468360" y="0"/>
            <a:ext cx="7848720" cy="67024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图片 97281" descr="bingpu"/>
          <p:cNvPicPr/>
          <p:nvPr/>
        </p:nvPicPr>
        <p:blipFill>
          <a:blip r:embed="rId1"/>
          <a:stretch/>
        </p:blipFill>
        <p:spPr>
          <a:xfrm>
            <a:off x="200160" y="169920"/>
            <a:ext cx="8785080" cy="6588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newsflash/>
    <p:sndAc>
      <p:stSnd>
        <p:snd r:embed="rId2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图片 20482" descr="诺日朗冬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05:42:11Z</dcterms:created>
  <dc:creator/>
  <dc:description/>
  <dc:language>en-US</dc:language>
  <cp:lastModifiedBy>admin</cp:lastModifiedBy>
  <dcterms:modified xsi:type="dcterms:W3CDTF">2019-05-31T04:06:17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