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998-811A-41DF-8D39-803D4BB1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8FF-27C0-4092-8AD5-0C58464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20F-48A3-4805-B814-623C9CD5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6E7-2B8B-436A-80D4-8FCEBC20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C3F-5CF2-4F3B-8170-E8EE06B6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7A3-B0F5-4BC7-9A7F-3D363EF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A0D-D040-40F2-A714-27981957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DD37-E309-4BF6-9929-E2CFD7D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3400-8117-4ADC-97B9-DC1563DB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38A-7B4F-4EDB-9316-DA79875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AFFB-5008-4918-B1E8-83968AF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A08-4D86-4C25-8A94-C7C9EDF0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2CA-CF0E-44BE-8CE6-7D63FA7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ACD8-AA89-48D8-BF14-5B92F78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E084-55AC-4F64-84D0-3B607E53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514F-E835-4B3B-9A81-A8F99B54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444-E1E7-4B48-BC4A-DD8779E8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0AE-615E-4525-8D51-446F70B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EDF-0583-4037-BBB6-511175F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4F3-853C-46B7-93B6-D3439F8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C74-087B-4546-84C2-AB282CC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B89-1275-4C7D-84DE-96ED324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BF2-F83D-4B0A-B4A3-43E6967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DB5-583C-47D2-884F-8CEC4C0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B94-C5C8-4AD4-A730-83CD834363D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BF6-2A5E-4251-B0B6-497C9F8D83C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21314.com/dispbbs.asp?boardid=57&amp;id=5325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newbh.cn/oblog/u/wangying/archives/2007/701.html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916360" y="2852640"/>
            <a:ext cx="3960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瑞恩的井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692360" y="112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北师大版 六年级 语文 上册 第六单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自学提示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瑞恩的梦想是什么？她是怎样实现这个梦想的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你认为瑞恩是一个怎样的孩子？找出具体的语句体会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说说你对“瑞恩的井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为了这个痛苦的社会”这句话的理解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读文后，你有什么感受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971640" y="112536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快速默读课文，用不同  的        画出文中描写瑞恩“爱心”的语句；用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-----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画出“为实现目标而不懈努力”的语句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987640" y="62064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1692360" y="2205000"/>
            <a:ext cx="143964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2341800" y="18864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华文中宋"/>
              </a:rPr>
              <a:t>我理解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17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这一天晚上，瑞恩一直默默地对自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己说：“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我希望非洲每个人都能喝上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净的水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。”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瑞恩的井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为了这个痛苦的社会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对比阅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比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瑞恩的井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黑孩子罗伯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以同桌为单位，选择下面其中一个问题交流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瑞恩和罗伯特帮助别人都很不容易，分别说一说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瑞恩的井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重点写攒钱的过程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黑孩子罗伯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重点写捐钱的过程，你认为作者为什么这样写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瑞恩到非洲后和当地的孩子们一起跳舞、欢呼，可罗伯特做了好事，却为什么哭了两次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下面两句话在各自的课文中有什么意义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教堂外面的玫瑰花开得好红啊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我希望非洲每个人都能喝上干净的水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</a:rPr>
              <a:t>达标检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填空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瑞恩的井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                       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瑞恩的梦想是（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瑞恩是一个（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）的孩子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写话练习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以“瑞恩，你真棒！”开头，写一段话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3276720" y="2708280"/>
            <a:ext cx="336384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11280" y="2276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黑体"/>
                <a:ea typeface="黑体"/>
              </a:rPr>
              <a:t>世界</a:t>
            </a:r>
            <a:r>
              <a:rPr b="1" lang="en-US" sz="4800" spc="-1" strike="noStrike">
                <a:solidFill>
                  <a:srgbClr val="006699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006699"/>
                </a:solidFill>
                <a:latin typeface="黑体"/>
                <a:ea typeface="黑体"/>
              </a:rPr>
              <a:t>多亿人口中已经有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4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亿人</a:t>
            </a:r>
            <a:r>
              <a:rPr b="1" lang="zh-CN" sz="4800" spc="-1" strike="noStrike">
                <a:solidFill>
                  <a:srgbClr val="006699"/>
                </a:solidFill>
                <a:latin typeface="黑体"/>
                <a:ea typeface="黑体"/>
              </a:rPr>
              <a:t>每天只能享有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升水</a:t>
            </a:r>
            <a:r>
              <a:rPr b="1" lang="zh-CN" sz="4800" spc="-1" strike="noStrike">
                <a:solidFill>
                  <a:srgbClr val="006699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创设情境"/>
          <p:cNvPicPr/>
          <p:nvPr/>
        </p:nvPicPr>
        <p:blipFill>
          <a:blip r:embed="rId1"/>
          <a:stretch/>
        </p:blipFill>
        <p:spPr>
          <a:xfrm>
            <a:off x="684360" y="836640"/>
            <a:ext cx="1871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环境保护人类面临生态危机1272-2.jpg (9542 bytes)"/>
          <p:cNvPicPr/>
          <p:nvPr/>
        </p:nvPicPr>
        <p:blipFill>
          <a:blip r:embed="rId1"/>
          <a:stretch/>
        </p:blipFill>
        <p:spPr>
          <a:xfrm>
            <a:off x="1187280" y="1844640"/>
            <a:ext cx="1874880" cy="194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3708360" y="3267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干旱造成农作物大面积减产或绝收，已经不再是个别的现象。这位美国中部的农民，在他的玉米地里面对干枯的庄稼，心中忧虑不已。在世界各地，都有许多这样的农民在承受着干旱所带来的打击。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Picture 7" descr="创设情境"/>
          <p:cNvPicPr/>
          <p:nvPr/>
        </p:nvPicPr>
        <p:blipFill>
          <a:blip r:embed="rId2"/>
          <a:stretch/>
        </p:blipFill>
        <p:spPr>
          <a:xfrm>
            <a:off x="684360" y="836640"/>
            <a:ext cx="1871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844640"/>
            <a:ext cx="2131920" cy="324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F200603220831382419286277"/>
          <p:cNvPicPr/>
          <p:nvPr/>
        </p:nvPicPr>
        <p:blipFill>
          <a:blip r:embed="rId3"/>
          <a:stretch/>
        </p:blipFill>
        <p:spPr>
          <a:xfrm>
            <a:off x="826920" y="1844640"/>
            <a:ext cx="215604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5181256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844640"/>
            <a:ext cx="2373480" cy="32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创设情境"/>
          <p:cNvPicPr/>
          <p:nvPr/>
        </p:nvPicPr>
        <p:blipFill>
          <a:blip r:embed="rId6"/>
          <a:stretch/>
        </p:blipFill>
        <p:spPr>
          <a:xfrm>
            <a:off x="684360" y="836640"/>
            <a:ext cx="1871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8"/>
          <p:cNvSpPr txBox="1"/>
          <p:nvPr/>
        </p:nvSpPr>
        <p:spPr>
          <a:xfrm rot="5400000">
            <a:off x="4679280" y="2529720"/>
            <a:ext cx="3960720" cy="17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222" name="Picture 10" descr="20e083abd2142ce76df4efbfc817253f"/>
          <p:cNvPicPr/>
          <p:nvPr/>
        </p:nvPicPr>
        <p:blipFill>
          <a:blip r:embed="rId1"/>
          <a:srcRect l="0" t="0" r="148" b="9298"/>
          <a:stretch/>
        </p:blipFill>
        <p:spPr>
          <a:xfrm>
            <a:off x="1835280" y="1773360"/>
            <a:ext cx="2746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539640" y="76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我会读（注意红颜色的读音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971640" y="35002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登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载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擦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窗子  水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泵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罐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子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外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捐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助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971640" y="25956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募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捐    草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棚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羞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怯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我会填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31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瑞恩是（ ）。从老师口中，他知道（ ），还知道（ ）。于是，他（ ）挣到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元。可是这钱不足以打一口井。在（ ）的帮助下，瑞恩开始了面向整个加拿大的（ ）， （ ）也加入了捐助的行列。他们还与非洲的孩子们（ ）。两年后的（ ）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的瑞恩和妈妈来到（ ）。这里有一口（ ），当地的孩子们（ ）。现在瑞恩的募捐活动（ ），那些钱将被用来（ ）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思考：课文讲了几件事？是按什么顺序叙述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99ff"/>
                </a:solidFill>
                <a:uFillTx/>
                <a:latin typeface="Verdana"/>
                <a:ea typeface="楷体_GB2312"/>
              </a:rPr>
              <a:t>学校募捐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瑞恩捐钱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社会募集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引导学生从人物语言、举止上去把握人物内心的精神世界。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理解“瑞恩的井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为了这个痛苦的社会”这句话的意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体会瑞恩为实现梦想而执著追求的精神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bx777</cp:lastModifiedBy>
  <dcterms:modified xsi:type="dcterms:W3CDTF">2016-05-12T13:54:41Z</dcterms:modified>
  <cp:revision>8</cp:revision>
  <dc:subject/>
  <dc:title>PowerPoint Presentation</dc:title>
</cp:coreProperties>
</file>