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wmf" ContentType="image/x-wmf"/>
  <Override PartName="/ppt/media/image7.jpeg" ContentType="image/jpeg"/>
  <Override PartName="/ppt/media/image18.png" ContentType="image/png"/>
  <Override PartName="/ppt/media/image28.jpeg" ContentType="image/jpeg"/>
  <Override PartName="/ppt/media/image23.wmf" ContentType="image/x-wmf"/>
  <Override PartName="/ppt/media/image11.jpeg" ContentType="image/jpeg"/>
  <Override PartName="/ppt/media/image9.jpeg" ContentType="image/jpeg"/>
  <Override PartName="/ppt/media/image6.png" ContentType="image/png"/>
  <Override PartName="/ppt/media/image12.jpeg" ContentType="image/jpeg"/>
  <Override PartName="/ppt/media/image8.jpeg" ContentType="image/jpeg"/>
  <Override PartName="/ppt/media/image29.jpeg" ContentType="image/jpeg"/>
  <Override PartName="/ppt/media/image21.gif" ContentType="image/gif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15.png" ContentType="image/png"/>
  <Override PartName="/ppt/media/image22.gif" ContentType="image/gif"/>
  <Override PartName="/ppt/media/image5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chimes.wav" ContentType="audio/x-wav"/>
  <Override PartName="/ppt/media/image16.png" ContentType="image/png"/>
  <Override PartName="/ppt/media/image14.jpeg" ContentType="image/jpeg"/>
  <Override PartName="/ppt/media/image17.png" ContentType="image/png"/>
  <Override PartName="/ppt/media/image26.gif" ContentType="image/gif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917-6595-4AB5-9407-9751F2A8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E2B7-3C4A-4AB5-AE2B-6D184FBC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2C64-E2B3-4C29-80B6-0EA597D1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1347-BE65-4EEF-9FEA-516CAA5F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211F-92B7-4EBD-9E1D-4A3A179E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6C1C-20A6-4219-A1CD-ABDA1DE4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AEEC-7570-4515-BC15-980D8100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930B-D1C5-4F05-ABCE-D6B2466F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45E0-3F1E-4651-B58D-915DA6EE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4E74-7481-4C3E-B849-9A9A059A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492D-3F1A-4A41-9191-97CD785D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6D5E-92E9-4434-AC3A-FE0D4425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DE99-BDF0-44FE-A263-F38E5563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FE88-F886-4029-9F0A-1A88426C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10CA-F6FF-4932-8F34-96A5818A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7A00-725D-4AEF-A3BC-AA010327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4350-5338-4222-B354-DA66A169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D749A-4353-4D7B-BE37-218C40C7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54BF7-9117-4FA5-A155-0BD75B2D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605C6-6523-45DC-A055-A27F6DDD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C12D8-1F82-4771-BDD8-2811F145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43808-2522-406A-84CB-CC3AA5D7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4D34-D9E7-47DD-ACAB-33E14D35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12E2F-A9A6-4EAC-AFD8-E74DD1B0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11EB0-123D-43ED-B0FA-25534FE1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A8892-23D4-45DF-9F9F-9DF18413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C7FFD-F776-4E9F-BE29-21029615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6126C-5F39-43F0-898F-225707BF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94ED7-C2C6-4CE8-A5CB-0324AF87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9ADEC-40BC-40D4-BC24-A489472F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D4051-0FE7-4774-B1B4-077B1C7F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2EC8A-D127-4F67-BE92-D8EF23BE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286DE-CE52-441C-A946-3740D587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4BF3-5EA6-456A-B361-9300F5B5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D621C-3697-479F-B9F1-E8C175FA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00F4D-99AF-46CA-B95B-74E849DC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4A7F8-94C8-41C0-9CE7-6A0D200C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FD923-65B8-47EE-99AC-D0B545E8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4807D-43ED-42A5-B72E-F67408A6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CECB0-6CA7-44DC-BE1D-B9BCEF9E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6CB46-430A-4E54-B5A4-1647990A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DE437-B524-433D-80D1-D13DE473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A1492-A7B2-41A8-AD7F-8090CF6B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9F7-2B16-402D-BA5A-FF05FEC5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260-B831-4057-85C6-A0BB803F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8DB2-730F-4AF3-9C39-BF9E99F6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9AAA-B5BA-4FFF-9AAF-D1DCF9B6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A91-2AE5-4BEE-A2FE-71986404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5F08-5F10-4AC1-B6E2-702C96E4B5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3A28-B19E-4449-9110-38F0A290AA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61CE-B332-4F90-B953-15674AFFF7DB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A3A7-594C-4916-845F-DE8F4D7B6660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9899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1447920" y="2362320"/>
            <a:ext cx="65530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找出描写虎的心理、动作的语句。</a:t>
            </a:r>
            <a:endParaRPr b="1" lang="en-US" sz="54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09480" y="457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914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1905120"/>
            <a:ext cx="3368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以为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莫相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以为且噬己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觉无异能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终不敢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技止此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838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2133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4120" y="1600200"/>
            <a:ext cx="40384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近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远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视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近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荡倚冲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跳踉、断、尽、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28600" y="1981080"/>
            <a:ext cx="1828800" cy="990720"/>
            <a:chOff x="228600" y="1981080"/>
            <a:chExt cx="1828800" cy="990720"/>
          </a:xfrm>
        </p:grpSpPr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>
              <a:off x="228600" y="1981080"/>
              <a:ext cx="1143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811800" y="1981080"/>
              <a:ext cx="11552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99ff"/>
                  </a:solidFill>
                  <a:latin typeface="Times New Roman"/>
                </a:rPr>
                <a:t>惧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28800" y="1981080"/>
              <a:ext cx="228600" cy="8384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0" y="4952880"/>
            <a:ext cx="2209320" cy="1523880"/>
            <a:chOff x="0" y="4952880"/>
            <a:chExt cx="2209320" cy="1523880"/>
          </a:xfrm>
        </p:grpSpPr>
        <p:sp>
          <p:nvSpPr>
            <p:cNvPr id="261" name=""/>
            <p:cNvSpPr/>
            <p:nvPr/>
          </p:nvSpPr>
          <p:spPr>
            <a:xfrm>
              <a:off x="1289880" y="5193360"/>
              <a:ext cx="667800" cy="12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99ff"/>
                  </a:solidFill>
                  <a:latin typeface="Times New Roman"/>
                </a:rPr>
                <a:t>吃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35920" y="4952880"/>
              <a:ext cx="473400" cy="1363680"/>
            </a:xfrm>
            <a:custGeom>
              <a:avLst/>
              <a:gdLst>
                <a:gd name="textAreaLeft" fmla="*/ 302400 w 473400"/>
                <a:gd name="textAreaRight" fmla="*/ 473760 w 473400"/>
                <a:gd name="textAreaTop" fmla="*/ 35280 h 1363680"/>
                <a:gd name="textAreaBottom" fmla="*/ 1328400 h 136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3" name="" descr=""/>
            <p:cNvPicPr/>
            <p:nvPr/>
          </p:nvPicPr>
          <p:blipFill>
            <a:blip r:embed="rId3"/>
            <a:stretch/>
          </p:blipFill>
          <p:spPr>
            <a:xfrm>
              <a:off x="0" y="5353920"/>
              <a:ext cx="1183680" cy="89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4" name=""/>
          <p:cNvGrpSpPr/>
          <p:nvPr/>
        </p:nvGrpSpPr>
        <p:grpSpPr>
          <a:xfrm>
            <a:off x="0" y="3048120"/>
            <a:ext cx="2057040" cy="1600200"/>
            <a:chOff x="0" y="3048120"/>
            <a:chExt cx="2057040" cy="1600200"/>
          </a:xfrm>
        </p:grpSpPr>
        <p:sp>
          <p:nvSpPr>
            <p:cNvPr id="265" name=""/>
            <p:cNvSpPr/>
            <p:nvPr/>
          </p:nvSpPr>
          <p:spPr>
            <a:xfrm>
              <a:off x="808200" y="3505320"/>
              <a:ext cx="11552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99ff"/>
                  </a:solidFill>
                  <a:latin typeface="Times New Roman"/>
                </a:rPr>
                <a:t>识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99000" y="3048120"/>
              <a:ext cx="158040" cy="1600200"/>
            </a:xfrm>
            <a:custGeom>
              <a:avLst/>
              <a:gdLst>
                <a:gd name="textAreaLeft" fmla="*/ 101160 w 158040"/>
                <a:gd name="textAreaRight" fmla="*/ 158400 w 15804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4"/>
            <a:stretch/>
          </p:blipFill>
          <p:spPr>
            <a:xfrm>
              <a:off x="0" y="3581280"/>
              <a:ext cx="1344960" cy="952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 rot="5400000">
            <a:off x="7474680" y="-145080"/>
            <a:ext cx="1523880" cy="18144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676520"/>
            <a:ext cx="297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急于摸底，好奇害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恐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3581280"/>
            <a:ext cx="2666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再试探，生性胆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工于心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15000" y="6095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干脆利落，志得意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2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5" dur="2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267080" y="114300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黔驴之“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3504960" cy="25574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01160" y="2209680"/>
            <a:ext cx="13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一鸣；一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9880" y="342900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11430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外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2209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庞然大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276720" y="4495680"/>
            <a:ext cx="5153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虚有其表 技能平庸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p:transition spd="med">
    <p:cover dir="r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32000" cy="2583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5867280" y="3873600"/>
            <a:ext cx="3276720" cy="29844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643280" y="189000"/>
            <a:ext cx="145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08000" y="3141720"/>
            <a:ext cx="127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虎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3200400"/>
            <a:ext cx="3124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勇敢大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谨慎小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观察仔细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狡猾敏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5720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572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黑体"/>
              </a:rPr>
              <a:t>软弱无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黑体"/>
              </a:rPr>
              <a:t>狂妄自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黑体"/>
              </a:rPr>
              <a:t>迟钝麻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黑体"/>
              </a:rPr>
              <a:t>愚蠢虚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0" y="609480"/>
          <a:ext cx="9144000" cy="563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09480"/>
                    <a:ext cx="914400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0066"/>
                </a:solidFill>
                <a:latin typeface="Times New Roman"/>
                <a:ea typeface="隶书"/>
              </a:rPr>
              <a:t>关于寓言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8001000" y="57913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0" y="1295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柳宗元寓言特色：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一是浓郁的文学色彩，   二是强烈的现实主义精神和鲜明的战斗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多用来讽刺、抨击当时社会的丑恶现实，推陈出新。善用各种动物拟人化的艺术形象以寄寓哲理或表达政治见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代表作：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《临江之麋》、《黔之驴》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《永某氏之鼠》，合称《三戒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0" y="380880"/>
          <a:ext cx="9144000" cy="563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80880"/>
                    <a:ext cx="914400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 txBox="1"/>
          <p:nvPr/>
        </p:nvSpPr>
        <p:spPr>
          <a:xfrm>
            <a:off x="609480" y="304920"/>
            <a:ext cx="2362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00ff00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我来说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00ff00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93" name=""/>
          <p:cNvSpPr/>
          <p:nvPr/>
        </p:nvSpPr>
        <p:spPr>
          <a:xfrm>
            <a:off x="1219320" y="1219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这则寓言故事的内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19810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这则寓言叙写了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(                              )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的故事，表现了老虎的（            ）和驴子的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(            )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。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638680" y="25909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黑体"/>
              </a:rPr>
              <a:t>机智勇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76520" y="3124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黑体"/>
              </a:rPr>
              <a:t>外强中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29200" y="2133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黑体"/>
                <a:ea typeface="黑体"/>
              </a:rPr>
              <a:t>老虎吃掉 “庞然大物”驴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38862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虎、驴的斗争过程，给我们怎样的启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4495680"/>
            <a:ext cx="3429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从老虎的角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从驴的角度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其他的角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17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457200" y="99072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想一想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02" name=""/>
          <p:cNvSpPr/>
          <p:nvPr/>
        </p:nvSpPr>
        <p:spPr>
          <a:xfrm>
            <a:off x="990720" y="24382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作者在文中对驴进行的描写仅仅是为了嘲讽驴子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380988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联系作者的政治遭遇，就可知道本文所讽刺的是当时政治集团中官高位显、仗势欺人而又无才无德、外强中干的上层人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6934320" y="990720"/>
            <a:ext cx="190476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成语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09480"/>
            <a:ext cx="3581280" cy="70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r>
              <a:rPr b="0" lang="zh-CN" sz="4000" spc="-1" strike="noStrike">
                <a:solidFill>
                  <a:srgbClr val="6600ff"/>
                </a:solidFill>
                <a:latin typeface="华文行楷"/>
                <a:ea typeface="华文行楷"/>
              </a:rPr>
              <a:t>黔 驴 之 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57400" y="2590920"/>
            <a:ext cx="3429000" cy="764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    </a:t>
            </a:r>
            <a:r>
              <a:rPr b="0" lang="zh-CN" sz="40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黔 驴 技 穷</a:t>
            </a: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43400" y="4572000"/>
            <a:ext cx="3352680" cy="703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cc"/>
                </a:solidFill>
                <a:latin typeface="Times New Roman"/>
                <a:ea typeface="方正姚体"/>
              </a:rPr>
              <a:t>    </a:t>
            </a:r>
            <a:r>
              <a:rPr b="0" lang="zh-CN" sz="4000" spc="-1" strike="noStrike">
                <a:solidFill>
                  <a:srgbClr val="cc00ff"/>
                </a:solidFill>
                <a:latin typeface="Times New Roman"/>
                <a:ea typeface="华文行楷"/>
              </a:rPr>
              <a:t>庞 然 大 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1676520"/>
            <a:ext cx="45561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比喻虚有其表，本领有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29000" y="3733920"/>
            <a:ext cx="54054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比喻仅有的一点点伎俩也用完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83360" y="5410080"/>
            <a:ext cx="38606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形容表面上强大而实际上脆弱的东西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0" y="4649760"/>
            <a:ext cx="228600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0" y="609480"/>
          <a:ext cx="91440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0948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1371600" y="22096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柳先生害驴不浅，自从《黔之驴》一文以后，千百年来，人们对驴心存偏见，驴的名声一败涂地，驴成了蠢笨的代名词。现代教育提倡创新思维、多向思维，咱们来一个奇思妙想编故事，让这头蠢驴、笨驴利用自己的聪明智慧战胜兽中之王老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《黔驴新编》《苏驴之技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0880" y="838080"/>
            <a:ext cx="4648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 </a:t>
            </a: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奇思妙想编故事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</p:spTree>
  </p:cSld>
  <p:transition spd="med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4495680" cy="4419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 rot="5400000">
            <a:off x="5333760" y="2209680"/>
            <a:ext cx="4419720" cy="1218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9ff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黔之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9ff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6" name=""/>
          <p:cNvSpPr txBox="1"/>
          <p:nvPr/>
        </p:nvSpPr>
        <p:spPr>
          <a:xfrm rot="5400000">
            <a:off x="5057280" y="4771800"/>
            <a:ext cx="16956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柳宗元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split dir="out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57200" y="25146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柳宗元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773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一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819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唐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代文学家，字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河东解人，世称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柳河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。贞元进士，曾任礼部员外郎，后来被贬为永州司马，又迁柳州刺史，故又称 “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柳柳州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”。与韩愈同为唐代古文运动的倡导者，被后人列入“唐宋八大家”，并称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韩柳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”。诗文多揭露社会矛盾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批判时政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擅长写山水游记和寓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002360" y="0"/>
            <a:ext cx="2141640" cy="2438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1676520" y="762120"/>
            <a:ext cx="5181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了解柳宗元吗？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20720" cy="2286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0" y="1557360"/>
            <a:ext cx="914400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4920" y="914400"/>
            <a:ext cx="83818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学习目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990099"/>
                </a:solidFill>
                <a:latin typeface="宋体"/>
              </a:rPr>
              <a:t>．知识目标：正确朗读课文并用现代汉语翻译全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990099"/>
                </a:solidFill>
                <a:latin typeface="宋体"/>
              </a:rPr>
              <a:t>．能力目标：找出刻画虎心理、行动描写的句子。分析老虎和驴子的性格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990099"/>
                </a:solidFill>
                <a:latin typeface="宋体"/>
              </a:rPr>
              <a:t>．情感目标：说说这则寓言告诉人们的深刻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843280" y="282240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29720" y="472428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li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1676520"/>
            <a:ext cx="80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z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7400" y="167652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qi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3124080"/>
            <a:ext cx="9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s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10080" y="4724280"/>
            <a:ext cx="9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hă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3124080"/>
            <a:ext cx="8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ì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2209680"/>
            <a:ext cx="85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事者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船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入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609480"/>
            <a:ext cx="2666880" cy="10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中宋"/>
              </a:rPr>
              <a:t>考考你</a:t>
            </a:r>
            <a:endParaRPr b="0" lang="en-US" sz="4800" spc="1" strike="noStrike">
              <a:ln w="12600">
                <a:solidFill>
                  <a:srgbClr val="000080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312408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ù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99320" y="53341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97440" y="47242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xi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36576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慭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骇    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遁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噬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39000" y="1676520"/>
            <a:ext cx="7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h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000" y="1752480"/>
            <a:ext cx="7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ku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312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53341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跳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52578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76520" y="533520"/>
            <a:ext cx="7467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黔之驴      </a:t>
            </a: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柳宗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黔无驴，有好事者船载以入。至则无可用，放之山下。虎见之，庞然大物也，以为神。蔽林间窥之，稍出近之，慭慭然，莫相知。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　　他日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驴一鸣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虎大骇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远遁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以为且噬己也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甚恐。然往来视之，觉无异能者。益习其声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又近出前后，终不敢搏。稍近，益狎，荡倚冲冒，驴不胜怒，蹄之。虎因喜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计之曰：“技止此耳！”因跳踉大 阚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断其喉，尽其肉，乃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533520"/>
            <a:ext cx="2514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朗读课文</a:t>
            </a:r>
            <a:endParaRPr b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7" name=""/>
          <p:cNvSpPr/>
          <p:nvPr/>
        </p:nvSpPr>
        <p:spPr>
          <a:xfrm>
            <a:off x="765000" y="1523880"/>
            <a:ext cx="911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准确、流畅、有感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0880" y="2362320"/>
            <a:ext cx="784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、课前对照注释，口译课文，画出不理解的词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、小组内交流、讨论，并当堂检测，仍不能解决的问题，作出标记，在班内交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90720" y="1143000"/>
            <a:ext cx="312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感知课文</a:t>
            </a:r>
            <a:endParaRPr b="1" lang="en-US" sz="4800" spc="1" strike="noStrike">
              <a:ln w="0">
                <a:noFill/>
              </a:ln>
              <a:solidFill>
                <a:srgbClr val="8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62120" y="1523880"/>
            <a:ext cx="80769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黔无驴，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好事者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载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入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至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，放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下。虎见之，庞然大物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林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，稍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，憖憖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22096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喜欢多事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733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它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指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37200" y="5078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躲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457200"/>
            <a:ext cx="3048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黔 之 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方正姚体"/>
              </a:rPr>
              <a:t>柳宗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304920"/>
            <a:ext cx="2666880" cy="914400"/>
          </a:xfrm>
          <a:prstGeom prst="cloudCallout">
            <a:avLst>
              <a:gd name="adj1" fmla="val -45597"/>
              <a:gd name="adj2" fmla="val 1262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连词，相当于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到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43800" y="2286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3733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把……当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23623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8763120" y="6477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724280" y="22096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用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5181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偷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5105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靠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51055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在动词前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相当于代词”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3733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表判断语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181480" y="4952880"/>
            <a:ext cx="396216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5334120"/>
            <a:ext cx="2895480" cy="1523880"/>
          </a:xfrm>
          <a:prstGeom prst="wedgeEllipseCallout">
            <a:avLst>
              <a:gd name="adj1" fmla="val -52796"/>
              <a:gd name="adj2" fmla="val 630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形容词词尾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相当于“……的样子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086920" y="1066680"/>
            <a:ext cx="493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日，驴一鸣，虎大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为且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己也，甚恐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往来视之，觉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异能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益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声，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出前后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敢搏。稍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益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荡倚冲冒，驴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怒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。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喜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计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曰：“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耳！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跳踉大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喉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肉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乃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43400" y="1523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害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2590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但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18080" y="3478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靠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38600" y="4495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能承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26280" y="5410080"/>
            <a:ext cx="12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只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67680" y="6019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才离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21000" y="0"/>
            <a:ext cx="2466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黔 之 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方正姚体"/>
              </a:rPr>
              <a:t>柳宗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2514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特别的本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5880" y="609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逃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91520" y="1600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将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153280" y="685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67480" y="2590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渐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更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3505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始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772400" y="4572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盘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81280" y="54864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于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44956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4495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用蹄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96080" y="5486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吃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5486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咬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44956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因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因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5486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怒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24680" y="2590920"/>
            <a:ext cx="1219320" cy="1828800"/>
          </a:xfrm>
          <a:prstGeom prst="wedgeEllipseCallout">
            <a:avLst>
              <a:gd name="adj1" fmla="val -50000"/>
              <a:gd name="adj2" fmla="val 99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态度亲近而不庄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534520" y="1523880"/>
            <a:ext cx="609480" cy="914400"/>
          </a:xfrm>
          <a:prstGeom prst="wedgeRoundRectCallout">
            <a:avLst>
              <a:gd name="adj1" fmla="val -43518"/>
              <a:gd name="adj2" fmla="val 283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熟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53080" y="1523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认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914040" y="380160"/>
            <a:ext cx="126482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609480"/>
            <a:ext cx="990720" cy="1524240"/>
          </a:xfrm>
          <a:prstGeom prst="wedgeRoundRectCallout">
            <a:avLst>
              <a:gd name="adj1" fmla="val -53365"/>
              <a:gd name="adj2" fmla="val 51981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表示揣度的语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77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4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9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mj</cp:lastModifiedBy>
  <dcterms:modified xsi:type="dcterms:W3CDTF">2011-06-27T12:49:00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