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gif" ContentType="image/gif"/>
  <Override PartName="/ppt/media/image3.jpeg" ContentType="image/jpeg"/>
  <Override PartName="/ppt/media/image9.png" ContentType="image/png"/>
  <Override PartName="/ppt/media/image8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1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.wmf" ContentType="image/x-wmf"/>
  <Override PartName="/ppt/media/image2.wmf" ContentType="image/x-wmf"/>
  <Override PartName="/ppt/media/image4.jpeg" ContentType="image/jpeg"/>
  <Override PartName="/ppt/media/image16.jpeg" ContentType="image/jpeg"/>
  <Override PartName="/ppt/media/image13.gif" ContentType="image/gif"/>
  <Override PartName="/ppt/media/chimes.wav" ContentType="audio/x-wav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D8B9-CC58-4271-AB36-70566A8D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6156-D6B2-4CD8-B6D6-168E9C3F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A76C-4A3C-4D26-BC2A-280504C1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97B8-FDAE-477F-B1F9-2663937E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C032-3713-43AB-9044-747E72D2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85F6-86B9-40C0-9619-DFFC5FF6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30F8-A763-48CD-BCBC-92AB75F9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3F1E-0178-400F-8D7C-783E4D9C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DEC3-E8D4-488E-BCA8-5C12087F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0EB0-E767-47B3-B06E-146B4B55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4650-3445-425A-BC36-93CAE9CB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D6E5-438A-4118-94C0-164B2E43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B6BA-AA63-486F-8653-D9108857C3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2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1.xml"/><Relationship Id="rId3" Type="http://schemas.openxmlformats.org/officeDocument/2006/relationships/slide" Target="slide2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7238880" y="2514600"/>
          <a:ext cx="1905120" cy="17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2514600"/>
                    <a:ext cx="190512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095880" y="380880"/>
            <a:ext cx="1143000" cy="37508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ff"/>
                </a:solidFill>
                <a:latin typeface="Times New Roman"/>
                <a:ea typeface="长城新魏碑体"/>
              </a:rPr>
              <a:t>黔之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1447920" y="2362320"/>
            <a:ext cx="65530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找出描写虎的心理、动作的语句。</a:t>
            </a:r>
            <a:endParaRPr b="1" lang="en-US" sz="54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9480" y="4572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914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1905120"/>
            <a:ext cx="3368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以为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莫相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以为且噬己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觉无异能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终不敢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技止此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7280" y="838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2133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1600200"/>
            <a:ext cx="40384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近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远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视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近出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荡倚冲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跳踉、断、尽、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28600" y="1981080"/>
            <a:ext cx="1828800" cy="990720"/>
            <a:chOff x="228600" y="1981080"/>
            <a:chExt cx="1828800" cy="9907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228600" y="1981080"/>
              <a:ext cx="1143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811800" y="1981080"/>
              <a:ext cx="11552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惧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1981080"/>
              <a:ext cx="228600" cy="8384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0" y="4952880"/>
            <a:ext cx="2209320" cy="1523880"/>
            <a:chOff x="0" y="4952880"/>
            <a:chExt cx="2209320" cy="1523880"/>
          </a:xfrm>
        </p:grpSpPr>
        <p:sp>
          <p:nvSpPr>
            <p:cNvPr id="153" name=""/>
            <p:cNvSpPr/>
            <p:nvPr/>
          </p:nvSpPr>
          <p:spPr>
            <a:xfrm>
              <a:off x="1289880" y="5193360"/>
              <a:ext cx="667800" cy="12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吃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35920" y="4952880"/>
              <a:ext cx="473400" cy="1363680"/>
            </a:xfrm>
            <a:custGeom>
              <a:avLst/>
              <a:gdLst>
                <a:gd name="textAreaLeft" fmla="*/ 302400 w 473400"/>
                <a:gd name="textAreaRight" fmla="*/ 473760 w 473400"/>
                <a:gd name="textAreaTop" fmla="*/ 35280 h 1363680"/>
                <a:gd name="textAreaBottom" fmla="*/ 1328400 h 136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0" y="5353920"/>
              <a:ext cx="1183680" cy="89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"/>
          <p:cNvGrpSpPr/>
          <p:nvPr/>
        </p:nvGrpSpPr>
        <p:grpSpPr>
          <a:xfrm>
            <a:off x="0" y="3048120"/>
            <a:ext cx="2057040" cy="1600200"/>
            <a:chOff x="0" y="3048120"/>
            <a:chExt cx="2057040" cy="1600200"/>
          </a:xfrm>
        </p:grpSpPr>
        <p:sp>
          <p:nvSpPr>
            <p:cNvPr id="157" name=""/>
            <p:cNvSpPr/>
            <p:nvPr/>
          </p:nvSpPr>
          <p:spPr>
            <a:xfrm>
              <a:off x="808200" y="3505320"/>
              <a:ext cx="11552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识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99000" y="3048120"/>
              <a:ext cx="158040" cy="1600200"/>
            </a:xfrm>
            <a:custGeom>
              <a:avLst/>
              <a:gdLst>
                <a:gd name="textAreaLeft" fmla="*/ 101160 w 158040"/>
                <a:gd name="textAreaRight" fmla="*/ 158400 w 15804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3"/>
            <a:stretch/>
          </p:blipFill>
          <p:spPr>
            <a:xfrm>
              <a:off x="0" y="3581280"/>
              <a:ext cx="1344960" cy="952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 rot="5400000">
            <a:off x="7474680" y="-145080"/>
            <a:ext cx="1523880" cy="1814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400800" y="1676520"/>
            <a:ext cx="297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急于摸底，好奇害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恐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3581280"/>
            <a:ext cx="2666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再试探，生性胆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工于心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15000" y="6095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干脆利落，志得意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4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7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0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3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267080" y="1143000"/>
            <a:ext cx="22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黔驴之“技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3504960" cy="2557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601160" y="2209680"/>
            <a:ext cx="130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鸣；一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342900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11430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外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2209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庞然大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76720" y="4495680"/>
            <a:ext cx="5153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虚有其表 技能平庸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p:transition spd="slow">
    <p:zoom dir="out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2449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议一议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5081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虎为什么能吃掉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44370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驴为什么会被虎吃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1981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在没有弄清对方底细之前，存有戒惧心理；它反应迅速，行动灵活。谨慎小心，善于观察，反复试探，在摸清驴子的底细以后，大胆果断地攻击对方要害，立即致敌于死命，是一个机智、勇敢的形象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32000" y="530064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庞然大物，善于怪叫，蹄踢，装腔作势，借以骇人，是一个虚有其表、实际无能之动物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0" y="380880"/>
          <a:ext cx="914400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 txBox="1"/>
          <p:nvPr/>
        </p:nvSpPr>
        <p:spPr>
          <a:xfrm>
            <a:off x="609480" y="304920"/>
            <a:ext cx="2362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00ff00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我来说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00ff00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12193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这则寓言故事的内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198108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这则寓言叙写了 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(                              )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的故事，表现了老虎的（            ）和驴子的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(            )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。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638680" y="25909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黑体"/>
              </a:rPr>
              <a:t>机智勇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3124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黑体"/>
              </a:rPr>
              <a:t>外强中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2133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黑体"/>
                <a:ea typeface="黑体"/>
              </a:rPr>
              <a:t>老虎吃掉 “庞然大物”驴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38862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虎、驴的斗争过程，给我们怎样的启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4495680"/>
            <a:ext cx="3429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从老虎的角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从驴的角度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其他的角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38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3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609480" y="304920"/>
            <a:ext cx="2210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00ff00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我来说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00ff00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1371600"/>
            <a:ext cx="7543800" cy="54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、我由这则寓言故事得到的启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可以分别从驴的角度、老虎的角度和其它角度来思考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驴是否能避免自己的悲剧，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68360" y="5375880"/>
            <a:ext cx="8381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500"/>
                            </p:stCondLst>
                            <p:childTnLst>
                              <p:par>
                                <p:cTn id="56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8920" y="112500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大胆想像，为驴翻身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5397120"/>
            <a:ext cx="854064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66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柳先生害驴不浅，自从《黔之驴》一文以后，千百年来，人们对驴心存偏见，驴的名声一败涂地，驴成了蠢笨的代名词。现代教育提倡创新思维、多向思维，咱们来一个奇思妙想编故事，让这头蠢驴也聪明一次，来篇《黔驴后传》 </a:t>
            </a:r>
            <a:r>
              <a:rPr b="0" lang="zh-CN" sz="2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640720" cy="3889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267080" cy="1828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609480" y="304920"/>
            <a:ext cx="2210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00ff00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我来说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00ff00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1371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这则寓言故事的深刻含义（启示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38098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这则寓言叙写了老虎吃掉“庞然大物”驴子的故事，表现了老虎的机智勇敢和驴子的外强中干。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告诉人们：不要被貌似强大的东西所吓倒，只要敢于斗争，善于斗争，定能获得胜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2" action="ppaction://hlinksldjump"/>
          </p:cNvPr>
          <p:cNvSpPr/>
          <p:nvPr/>
        </p:nvSpPr>
        <p:spPr>
          <a:xfrm>
            <a:off x="8686800" y="6629400"/>
            <a:ext cx="304920" cy="2286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0" y="609480"/>
          <a:ext cx="914400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14400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66"/>
                </a:solidFill>
                <a:latin typeface="Arial"/>
                <a:ea typeface="隶书"/>
              </a:rPr>
              <a:t>关于寓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129528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柳宗元寓言特色：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黑体"/>
              </a:rPr>
              <a:t>一是浓郁的文学色彩，   二是强烈的现实主义精神和鲜明的战斗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黑体"/>
              </a:rPr>
              <a:t>多用来讽刺、抨击当时社会的丑恶现实，推陈出新。善用各种动物拟人化的艺术形象以寄寓哲理或表达政治见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代表作：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黑体"/>
              </a:rPr>
              <a:t>《临江之麋》、《黔之驴》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黑体"/>
              </a:rPr>
              <a:t>                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黑体"/>
              </a:rPr>
              <a:t>《永某氏之鼠》，合称《三戒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2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457200" y="990720"/>
            <a:ext cx="2819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想一想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24382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作者在文中对驴进行的描写仅仅是为了嘲讽驴子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380988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联系作者的政治遭遇，就可知道本文所讽刺的是当时政治集团中官高位显、仗势欺人而又无才无德、外强中干的上层人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9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066680"/>
            <a:ext cx="7238880" cy="38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文是一篇寓言，选自《柳 河东集》。是其《三戒》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柳宗元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7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1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，唐代文学家，河东（今山西永济）人，世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柳河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因终官柳州刺史，又称 “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柳柳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”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韩愈同为唐代古文运动的倡导者，并称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韩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。诗文多揭露社会矛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批判时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擅长写山水游记和寓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唐宋八大家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94120" y="380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作家作品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6934320" y="990720"/>
            <a:ext cx="190476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成语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609480"/>
            <a:ext cx="358128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r>
              <a:rPr b="0" lang="zh-CN" sz="4000" spc="-1" strike="noStrike">
                <a:solidFill>
                  <a:srgbClr val="6600ff"/>
                </a:solidFill>
                <a:latin typeface="华文行楷"/>
                <a:ea typeface="华文行楷"/>
              </a:rPr>
              <a:t>黔 驴 之 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7400" y="2590920"/>
            <a:ext cx="3429000" cy="764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    </a:t>
            </a:r>
            <a:r>
              <a:rPr b="0" lang="zh-CN" sz="40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黔 驴 技 穷</a:t>
            </a:r>
            <a:r>
              <a:rPr b="0" lang="zh-CN" sz="4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4572000"/>
            <a:ext cx="3352680" cy="703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cc"/>
                </a:solidFill>
                <a:latin typeface="Times New Roman"/>
                <a:ea typeface="方正姚体"/>
              </a:rPr>
              <a:t>    </a:t>
            </a:r>
            <a:r>
              <a:rPr b="0" lang="zh-CN" sz="4000" spc="-1" strike="noStrike">
                <a:solidFill>
                  <a:srgbClr val="cc00ff"/>
                </a:solidFill>
                <a:latin typeface="Times New Roman"/>
                <a:ea typeface="华文行楷"/>
              </a:rPr>
              <a:t>庞 然 大 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1676520"/>
            <a:ext cx="45561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比喻虚有其表，本领有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29000" y="3733920"/>
            <a:ext cx="54054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比喻仅有的一点点伎俩也用完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83360" y="5410080"/>
            <a:ext cx="38606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形容表面上强大而实际上脆弱的东西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0" y="4649760"/>
            <a:ext cx="2286000" cy="2208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0" y="609480"/>
          <a:ext cx="9144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371600" y="220968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柳先生害驴不浅，自从《黔之驴》一文以后，千百年来，人们对驴心存偏见，驴的名声一败涂地，驴成了蠢笨的代名词。现代教育提倡创新思维、多向思维，咱们来一个奇思妙想编故事，让这头蠢驴、笨驴利用自己的聪明智慧战胜兽中之王老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《黔驴新编》《苏驴之技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0880" y="838080"/>
            <a:ext cx="4648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 </a:t>
            </a: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奇思妙想编故事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914400"/>
            <a:ext cx="8839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隶书"/>
              </a:rPr>
              <a:t>学习目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990099"/>
                </a:solidFill>
                <a:latin typeface="宋体"/>
              </a:rPr>
              <a:t>．正确理解课文并用现代汉语翻译全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990099"/>
                </a:solidFill>
                <a:latin typeface="宋体"/>
              </a:rPr>
              <a:t>．找出刻画虎心理、行动描写的句子。分析老虎和驴子的性格特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宋体"/>
              </a:rPr>
              <a:t>3</a:t>
            </a:r>
            <a:r>
              <a:rPr b="1" lang="zh-CN" sz="4400" spc="-1" strike="noStrike">
                <a:solidFill>
                  <a:srgbClr val="990099"/>
                </a:solidFill>
                <a:latin typeface="宋体"/>
              </a:rPr>
              <a:t>．理解这则寓言告诉人们的深刻道理</a:t>
            </a:r>
            <a:r>
              <a:rPr b="1" lang="zh-CN" sz="3600" spc="-1" strike="noStrike">
                <a:solidFill>
                  <a:srgbClr val="990099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43280" y="282240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720" y="472428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li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1676520"/>
            <a:ext cx="80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z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7400" y="167652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qi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3124080"/>
            <a:ext cx="9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s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10080" y="4724280"/>
            <a:ext cx="9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hă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124080"/>
            <a:ext cx="8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ì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2209680"/>
            <a:ext cx="854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好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事者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船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入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09480"/>
            <a:ext cx="2666880" cy="10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中宋"/>
              </a:rPr>
              <a:t>考考你</a:t>
            </a:r>
            <a:endParaRPr b="0" lang="en-US" sz="4800" spc="1" strike="noStrike">
              <a:ln w="12600">
                <a:solidFill>
                  <a:srgbClr val="000080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12408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ù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99320" y="53341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97440" y="472428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xi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36576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慭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骇    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遁 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噬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39000" y="1676520"/>
            <a:ext cx="77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h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24000" y="1752480"/>
            <a:ext cx="7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Narrow"/>
              </a:rPr>
              <a:t>kuī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312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h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3341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跳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52578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2362320"/>
            <a:ext cx="784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、课前对照注释，口译课文，画出不理解的词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、小组内交流、讨论，仍不能解决的问题，作出标记，在班内交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143000"/>
            <a:ext cx="312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感知课文</a:t>
            </a:r>
            <a:endParaRPr b="1" lang="en-US" sz="4800" spc="1" strike="noStrike">
              <a:ln w="0">
                <a:noFill/>
              </a:ln>
              <a:solidFill>
                <a:srgbClr val="8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2120" y="1523880"/>
            <a:ext cx="80769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黔无驴，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好事者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载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入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至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，放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山下。虎见之，庞然大物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林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，稍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，憖憖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莫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22096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喜欢多事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05120" y="3733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它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指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37200" y="5078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躲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457200"/>
            <a:ext cx="3048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黔 之 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方正姚体"/>
              </a:rPr>
              <a:t>柳宗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304920"/>
            <a:ext cx="2666880" cy="914400"/>
          </a:xfrm>
          <a:prstGeom prst="cloudCallout">
            <a:avLst>
              <a:gd name="adj1" fmla="val -45597"/>
              <a:gd name="adj2" fmla="val 1262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连词，相当于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5308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到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43800" y="2286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10280" y="37339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把……当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23623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763120" y="64771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24280" y="22096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用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5181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偷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5105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靠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51055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在动词前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相当于代词”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37339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表判断语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181480" y="4952880"/>
            <a:ext cx="396216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334120"/>
            <a:ext cx="2895480" cy="1523880"/>
          </a:xfrm>
          <a:prstGeom prst="wedgeEllipseCallout">
            <a:avLst>
              <a:gd name="adj1" fmla="val -52796"/>
              <a:gd name="adj2" fmla="val 630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形容词词尾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相当于“……的样子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086920" y="1066680"/>
            <a:ext cx="4932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日，驴一鸣，虎大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为且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己也，甚恐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往来视之，觉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异能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益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声，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出前后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敢搏。稍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益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荡倚冲冒，驴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怒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。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喜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计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曰：“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此耳！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跳踉大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喉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肉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乃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523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害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2590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但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18080" y="3478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靠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38600" y="4495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能承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6280" y="5410080"/>
            <a:ext cx="12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只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85600" y="6019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离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21000" y="0"/>
            <a:ext cx="2466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黔 之 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方正姚体"/>
              </a:rPr>
              <a:t>柳宗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2514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特别的本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5880" y="609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逃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600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将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153280" y="685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67480" y="25909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渐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3505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更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3505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始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772400" y="4572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盘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54864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于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44956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495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用蹄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96080" y="54864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吃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54864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咬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44956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因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因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5486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怒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2590920"/>
            <a:ext cx="1219320" cy="1828800"/>
          </a:xfrm>
          <a:prstGeom prst="wedgeEllipseCallout">
            <a:avLst>
              <a:gd name="adj1" fmla="val -50000"/>
              <a:gd name="adj2" fmla="val 9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态度亲近而不庄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534520" y="1523880"/>
            <a:ext cx="609480" cy="914400"/>
          </a:xfrm>
          <a:prstGeom prst="wedgeRoundRectCallout">
            <a:avLst>
              <a:gd name="adj1" fmla="val -43518"/>
              <a:gd name="adj2" fmla="val 283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熟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1523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认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914040" y="380160"/>
            <a:ext cx="1264824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09480"/>
            <a:ext cx="990720" cy="1524240"/>
          </a:xfrm>
          <a:prstGeom prst="wedgeRoundRectCallout">
            <a:avLst>
              <a:gd name="adj1" fmla="val -53365"/>
              <a:gd name="adj2" fmla="val 5198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表示揣度的语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4160" y="5715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2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1981080"/>
            <a:ext cx="83055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船：用船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（名作状）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       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至：到了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稍：渐渐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                       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且：将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蹄：用蹄子踢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（名作动）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止：只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尽：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吃光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用做动词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断：咬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50000" y="434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cc"/>
                </a:solidFill>
                <a:latin typeface="Arial"/>
              </a:rPr>
              <a:t>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69400" y="4478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cc"/>
                </a:solidFill>
                <a:latin typeface="Arial"/>
              </a:rPr>
              <a:t>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62840" y="452520"/>
            <a:ext cx="172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cc00"/>
                </a:solidFill>
                <a:latin typeface="Arial"/>
              </a:rPr>
              <a:t>强      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00000" y="1844640"/>
            <a:ext cx="151308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缘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经过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结果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理清文章思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3809880"/>
            <a:ext cx="914400" cy="0"/>
          </a:xfrm>
          <a:prstGeom prst="line">
            <a:avLst/>
          </a:prstGeom>
          <a:ln cap="sq" w="255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35280" y="3933720"/>
            <a:ext cx="1008000" cy="790560"/>
          </a:xfrm>
          <a:prstGeom prst="line">
            <a:avLst/>
          </a:prstGeom>
          <a:ln cap="sq" w="255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35640" y="2924280"/>
            <a:ext cx="990720" cy="609480"/>
          </a:xfrm>
          <a:prstGeom prst="line">
            <a:avLst/>
          </a:prstGeom>
          <a:ln cap="sq" w="255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3886200"/>
            <a:ext cx="838080" cy="0"/>
          </a:xfrm>
          <a:prstGeom prst="line">
            <a:avLst/>
          </a:prstGeom>
          <a:ln cap="sq" w="255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580000" y="4149720"/>
            <a:ext cx="838440" cy="533520"/>
          </a:xfrm>
          <a:prstGeom prst="line">
            <a:avLst/>
          </a:prstGeom>
          <a:ln cap="sq" w="255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2590920"/>
            <a:ext cx="6094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4643280" y="3500280"/>
            <a:ext cx="7621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5229360"/>
            <a:ext cx="6098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3500280"/>
            <a:ext cx="79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虎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635280" y="2923920"/>
            <a:ext cx="838440" cy="533160"/>
          </a:xfrm>
          <a:prstGeom prst="line">
            <a:avLst/>
          </a:prstGeom>
          <a:ln cap="sq"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4076640"/>
            <a:ext cx="1079280" cy="1513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16360" y="43657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364000" y="4221000"/>
            <a:ext cx="1152720" cy="1368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16720" y="3429000"/>
            <a:ext cx="9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9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04-18T00:21:3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