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drumroll.wav" ContentType="audio/x-wav"/>
  <Override PartName="/ppt/media/image15.png" ContentType="image/png"/>
  <Override PartName="/ppt/media/image3.wmf" ContentType="image/x-wmf"/>
  <Override PartName="/ppt/media/image2.jpeg" ContentType="image/jpeg"/>
  <Override PartName="/ppt/media/image21.png" ContentType="image/png"/>
  <Override PartName="/ppt/media/image18.gif" ContentType="image/gif"/>
  <Override PartName="/ppt/media/image13.jpeg" ContentType="image/jpeg"/>
  <Override PartName="/ppt/media/image19.wmf" ContentType="image/x-wmf"/>
  <Override PartName="/ppt/media/whoosh.wav" ContentType="audio/x-wav"/>
  <Override PartName="/ppt/media/image1.jpeg" ContentType="image/jpeg"/>
  <Override PartName="/ppt/media/image4.wmf" ContentType="image/x-wmf"/>
  <Override PartName="/ppt/media/image10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07-11-25T00:16:32.171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4E1-0F6F-41B1-A155-FEEB73FC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9A4-112A-4EC7-9570-983E87D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2C4-F13F-4E84-AFC5-285D130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53B-281B-45AA-A191-F063602C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D31-864A-4FEF-A485-5023B51A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A69-A07C-4E0F-97F0-A4E8602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F6D-C63E-4C71-A7B2-3BDCD81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5E2-8248-431F-A601-2E52E9E8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195-DE4A-475B-967B-0DB815C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359-2EA3-4651-AB43-82E583E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D9E-DBB2-4F72-BDEF-6CD14BE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52C-B988-4361-A7E5-D8C6F45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DE5-C25B-42D8-BD36-C78980F37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type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whoosh.wav"/><Relationship Id="rId20" Type="http://schemas.openxmlformats.org/officeDocument/2006/relationships/audio" Target="../media/type.wav"/><Relationship Id="rId21" Type="http://schemas.openxmlformats.org/officeDocument/2006/relationships/audio" Target="../media/whoosh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43280" y="2924280"/>
            <a:ext cx="2725560" cy="3512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1523880"/>
            <a:ext cx="80769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黔无驴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好事者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至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，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下。虎见之，庞然大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稍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憖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22096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喜欢多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它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指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37200" y="5078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躲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457200"/>
            <a:ext cx="304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2666880" cy="914400"/>
          </a:xfrm>
          <a:prstGeom prst="cloudCallout">
            <a:avLst>
              <a:gd name="adj1" fmla="val -45597"/>
              <a:gd name="adj2" fmla="val 126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词，相当于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286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把……当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24280" y="2209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5181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51055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在动词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当于代词”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判断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81480" y="4952880"/>
            <a:ext cx="3962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334120"/>
            <a:ext cx="2895480" cy="1523880"/>
          </a:xfrm>
          <a:prstGeom prst="wedgeEllipseCallout">
            <a:avLst>
              <a:gd name="adj1" fmla="val -52796"/>
              <a:gd name="adj2" fmla="val 63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形容词词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当于“……的样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86920" y="1066680"/>
            <a:ext cx="493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日，驴一鸣，虎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且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也，甚恐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来视之，觉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异能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声，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前后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搏。稍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荡倚冲冒，驴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怒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耳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踉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害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18080" y="347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3860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承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6280" y="5410080"/>
            <a:ext cx="12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67680" y="60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才离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21000" y="0"/>
            <a:ext cx="246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1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特别的本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60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将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685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590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渐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始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4572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盘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48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495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蹄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吃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495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48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怒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2590920"/>
            <a:ext cx="1219320" cy="1828800"/>
          </a:xfrm>
          <a:prstGeom prst="wedgeEllipseCallout">
            <a:avLst>
              <a:gd name="adj1" fmla="val -50000"/>
              <a:gd name="adj2" fmla="val 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态度亲近而不庄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4520" y="1523880"/>
            <a:ext cx="609480" cy="914400"/>
          </a:xfrm>
          <a:prstGeom prst="wedgeRoundRectCallout">
            <a:avLst>
              <a:gd name="adj1" fmla="val -43518"/>
              <a:gd name="adj2" fmla="val 28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熟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914040" y="380160"/>
            <a:ext cx="126482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9480"/>
            <a:ext cx="990720" cy="1524240"/>
          </a:xfrm>
          <a:prstGeom prst="wedgeRoundRectCallout">
            <a:avLst>
              <a:gd name="adj1" fmla="val -53365"/>
              <a:gd name="adj2" fmla="val 51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揣度的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653760"/>
            <a:ext cx="835344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　翻译古文，首要的是要掌握“补”、“顺”、“选”、“活”四种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补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  <a:ea typeface="黑体"/>
              </a:rPr>
              <a:t>——添补加主语、宾语、介词、量词等成分，使其符合现代汉语语言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顺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  <a:ea typeface="黑体"/>
              </a:rPr>
              <a:t>——把古汉语倒装句调整为现代汉语句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选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  <a:ea typeface="黑体"/>
              </a:rPr>
              <a:t>——一词多义翻译时，必须结合语言环境和事理逻辑选择合适的义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活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  <a:ea typeface="黑体"/>
              </a:rPr>
              <a:t>——对于一些古今异义词要用现代词汇替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48280" y="6105600"/>
            <a:ext cx="22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翻译小技巧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44280"/>
            <a:ext cx="259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聚沙成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6720" y="4221000"/>
            <a:ext cx="374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蔽林间窥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160" y="494028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老虎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隐藏在树林中偷偷观看它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驴子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765000"/>
            <a:ext cx="5113440" cy="85572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黑体"/>
                <a:ea typeface="黑体"/>
              </a:rPr>
              <a:t>补：添 加 成 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777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至则无可用，放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于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运到之后，却没有什么用处，就把它放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3360" y="1915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莫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相知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莫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知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稍近益狎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荡倚冲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637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：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知道它究竟是个什么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765000"/>
            <a:ext cx="4824720" cy="82512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顺：调 整 语 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4076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译：（老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又渐渐靠近（驴子），态度更加随便，并带有戏弄的意味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碰一碰它，靠一靠它，撞一撞它，冒犯它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3360" y="2349000"/>
            <a:ext cx="8540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驴不胜怒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907920"/>
            <a:ext cx="4968720" cy="82512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活：替 换 词 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57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译：驴禁不住发起怒来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用蹄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踢了老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1484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解释红色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720" y="24192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" y="32115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3859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640" y="45799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跳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1640" y="5372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林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21080" y="23479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8000" y="31399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慭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1080" y="40035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21080" y="4940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21080" y="5732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噬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24033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喜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1600" y="324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逃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1600" y="385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1600" y="4613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跳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1600" y="53751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隐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1440" y="241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害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7080" y="313992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心谨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32360" y="38592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态度亲近而不庄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77080" y="5011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怒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7080" y="57326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将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52360" cy="1147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835280" y="333360"/>
            <a:ext cx="2808000" cy="89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内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40053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把……当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565360"/>
            <a:ext cx="24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认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26920" y="1844640"/>
            <a:ext cx="6953040" cy="2064600"/>
            <a:chOff x="826920" y="1844640"/>
            <a:chExt cx="6953040" cy="2064600"/>
          </a:xfrm>
        </p:grpSpPr>
        <p:sp>
          <p:nvSpPr>
            <p:cNvPr id="165" name=""/>
            <p:cNvSpPr/>
            <p:nvPr/>
          </p:nvSpPr>
          <p:spPr>
            <a:xfrm flipH="1">
              <a:off x="2074680" y="2018880"/>
              <a:ext cx="177840" cy="1217520"/>
            </a:xfrm>
            <a:custGeom>
              <a:avLst/>
              <a:gdLst>
                <a:gd name="textAreaLeft" fmla="*/ 0 w 177840"/>
                <a:gd name="textAreaRight" fmla="*/ 64080 w 177840"/>
                <a:gd name="textAreaTop" fmla="*/ 31680 h 1217520"/>
                <a:gd name="textAreaBottom" fmla="*/ 1185840 h 12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359"/>
                  </a:lnTo>
                  <a:cubicBezTo>
                    <a:pt x="10800" y="9259"/>
                    <a:pt x="16200" y="10159"/>
                    <a:pt x="21600" y="10159"/>
                  </a:cubicBezTo>
                  <a:cubicBezTo>
                    <a:pt x="16200" y="10159"/>
                    <a:pt x="10800" y="11059"/>
                    <a:pt x="10800" y="1195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74680" y="1844640"/>
              <a:ext cx="57052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虎见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庞然大物也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以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以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且噬己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6920" y="2279880"/>
              <a:ext cx="12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以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5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7120" y="22766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241960" y="227340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 ……的样子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3716280"/>
            <a:ext cx="34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 然而，但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4360" y="2349360"/>
            <a:ext cx="6374880" cy="2806200"/>
            <a:chOff x="684360" y="2349360"/>
            <a:chExt cx="6374880" cy="2806200"/>
          </a:xfrm>
        </p:grpSpPr>
        <p:sp>
          <p:nvSpPr>
            <p:cNvPr id="174" name=""/>
            <p:cNvSpPr/>
            <p:nvPr/>
          </p:nvSpPr>
          <p:spPr>
            <a:xfrm flipH="1">
              <a:off x="1827720" y="2502000"/>
              <a:ext cx="163080" cy="1066680"/>
            </a:xfrm>
            <a:custGeom>
              <a:avLst/>
              <a:gdLst>
                <a:gd name="textAreaLeft" fmla="*/ 0 w 163080"/>
                <a:gd name="textAreaRight" fmla="*/ 58680 w 1630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359"/>
                  </a:lnTo>
                  <a:cubicBezTo>
                    <a:pt x="10800" y="9259"/>
                    <a:pt x="16200" y="10159"/>
                    <a:pt x="21600" y="10159"/>
                  </a:cubicBezTo>
                  <a:cubicBezTo>
                    <a:pt x="16200" y="10159"/>
                    <a:pt x="10800" y="11059"/>
                    <a:pt x="10800" y="1195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8440" y="2349360"/>
              <a:ext cx="523080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　慭慭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然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,  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莫相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　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然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往来视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360" y="273060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12760" y="2781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0" y="220500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助词，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924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代词，它，指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71640" y="2276640"/>
            <a:ext cx="6086160" cy="2064600"/>
            <a:chOff x="971640" y="2276640"/>
            <a:chExt cx="6086160" cy="2064600"/>
          </a:xfrm>
        </p:grpSpPr>
        <p:sp>
          <p:nvSpPr>
            <p:cNvPr id="181" name=""/>
            <p:cNvSpPr/>
            <p:nvPr/>
          </p:nvSpPr>
          <p:spPr>
            <a:xfrm flipH="1">
              <a:off x="2063160" y="2464200"/>
              <a:ext cx="155880" cy="1310760"/>
            </a:xfrm>
            <a:custGeom>
              <a:avLst/>
              <a:gdLst>
                <a:gd name="textAreaLeft" fmla="*/ -360 w 155880"/>
                <a:gd name="textAreaRight" fmla="*/ 55800 w 155880"/>
                <a:gd name="textAreaTop" fmla="*/ 33840 h 1310760"/>
                <a:gd name="textAreaBottom" fmla="*/ 1276920 h 131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359"/>
                  </a:lnTo>
                  <a:cubicBezTo>
                    <a:pt x="10800" y="9259"/>
                    <a:pt x="16200" y="10159"/>
                    <a:pt x="21600" y="10159"/>
                  </a:cubicBezTo>
                  <a:cubicBezTo>
                    <a:pt x="16200" y="10159"/>
                    <a:pt x="10800" y="11059"/>
                    <a:pt x="10800" y="1195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63880" y="2276640"/>
              <a:ext cx="499392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之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　放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之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山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计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1640" y="2745000"/>
              <a:ext cx="109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55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3716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代词，这种情况或这件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120" y="2781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8920" y="189000"/>
            <a:ext cx="259092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课前预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8991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沉鱼落雁     打草惊蛇     对牛弹琴     非牛非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飞鸟惊蛇     狗尾续貂     管中窥豹      害群之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鹤立鸡群    狐假虎威     鸡鸣狗盗      惊弓之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井底之蛙    九牛一毛     狼狈为奸      如鱼得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守株待兔    指鹿为马     鹬蚌相争      杀鸡吓猴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5638680"/>
            <a:ext cx="358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黔驴技穷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1152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、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7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船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载以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26384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稍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近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3286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其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18464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用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名词作状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9800" y="26384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接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形容词作动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6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用蹄子踢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名词作动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9337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吃光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形容词做动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75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75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75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75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54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四、翻译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3789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为且噬己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97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稍近益狎，荡倚冲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91628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2637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蔽林间窥之，稍出近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1557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好事者船载以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213372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有一个爱多事的人用船载运了一头驴到黔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436572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认为（驴子）将要咬自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54450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渐渐又靠近一些，态度更为随便，并带有戏弄的意味，碰一碰它，靠一靠它，撞一撞它，冒犯一下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284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老虎）藏在树林里偷偷看它，渐渐地出来接近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-181080" y="-136440"/>
            <a:ext cx="9506160" cy="716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33336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黔之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306864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听读课文，回顾所学。你还有什么理解上的问题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33336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分析文本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以小组为单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课文中的词语说说老虎认识驴的心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找出描写老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作、心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找出文中描写驴子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52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96160" y="7938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虎认识驴的心理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5200" y="17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以为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7280" y="1776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莫相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70120" y="17762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以为且噬己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141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觉无异能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80680" y="3147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终不敢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5880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技止此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133720"/>
            <a:ext cx="83844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7920" y="2133720"/>
            <a:ext cx="83808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500280"/>
            <a:ext cx="83808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3500280"/>
            <a:ext cx="79200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5" idx="3"/>
            <a:endCxn id="216" idx="1"/>
          </p:cNvCxnSpPr>
          <p:nvPr/>
        </p:nvCxnSpPr>
        <p:spPr>
          <a:xfrm flipH="1">
            <a:off x="394560" y="2096640"/>
            <a:ext cx="8257320" cy="1365840"/>
          </a:xfrm>
          <a:prstGeom prst="curvedConnector5">
            <a:avLst>
              <a:gd name="adj1" fmla="val -2764"/>
              <a:gd name="adj2" fmla="val 24993"/>
              <a:gd name="adj3" fmla="val -2764"/>
            </a:avLst>
          </a:prstGeom>
          <a:ln w="9360">
            <a:solidFill>
              <a:srgbClr val="ff33cc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2700360" y="4365720"/>
            <a:ext cx="61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　　生动描绘虎认识驴的心理过程，推动情节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8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500"/>
                            </p:stCondLst>
                            <p:childTnLst>
                              <p:par>
                                <p:cTn id="8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45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文中找出描写虎的心理、动作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836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90512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莫相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且噬己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觉无异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终不敢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技止此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765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1636560"/>
            <a:ext cx="3809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蔽林间窥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稍出近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远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来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近出前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稍近，益狎，荡倚冲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跳踉大阚，断其喉，尽其肉，乃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1989000"/>
            <a:ext cx="1936440" cy="990720"/>
            <a:chOff x="0" y="1989000"/>
            <a:chExt cx="1936440" cy="99072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0" y="1989000"/>
              <a:ext cx="12103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85440" y="19890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畏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4520" y="1989000"/>
              <a:ext cx="241920" cy="838440"/>
            </a:xfrm>
            <a:custGeom>
              <a:avLst/>
              <a:gdLst>
                <a:gd name="textAreaLeft" fmla="*/ 154440 w 241920"/>
                <a:gd name="textAreaRight" fmla="*/ 242280 w 241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0" y="5229360"/>
            <a:ext cx="2123640" cy="1171080"/>
            <a:chOff x="0" y="5229360"/>
            <a:chExt cx="2123640" cy="1171080"/>
          </a:xfrm>
        </p:grpSpPr>
        <p:sp>
          <p:nvSpPr>
            <p:cNvPr id="238" name=""/>
            <p:cNvSpPr/>
            <p:nvPr/>
          </p:nvSpPr>
          <p:spPr>
            <a:xfrm>
              <a:off x="726480" y="5415480"/>
              <a:ext cx="115524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吃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8600" y="5229360"/>
              <a:ext cx="455040" cy="1047960"/>
            </a:xfrm>
            <a:custGeom>
              <a:avLst/>
              <a:gdLst>
                <a:gd name="textAreaLeft" fmla="*/ 290880 w 455040"/>
                <a:gd name="textAreaRight" fmla="*/ 455400 w 455040"/>
                <a:gd name="textAreaTop" fmla="*/ 27000 h 1047960"/>
                <a:gd name="textAreaBottom" fmla="*/ 1020960 h 104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0" y="5537520"/>
              <a:ext cx="1137600" cy="68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0" y="3429000"/>
            <a:ext cx="1907640" cy="1440000"/>
            <a:chOff x="0" y="3429000"/>
            <a:chExt cx="1907640" cy="1440000"/>
          </a:xfrm>
        </p:grpSpPr>
        <p:sp>
          <p:nvSpPr>
            <p:cNvPr id="242" name=""/>
            <p:cNvSpPr/>
            <p:nvPr/>
          </p:nvSpPr>
          <p:spPr>
            <a:xfrm>
              <a:off x="665280" y="3841560"/>
              <a:ext cx="115524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识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1120" y="3429000"/>
              <a:ext cx="146520" cy="1440000"/>
            </a:xfrm>
            <a:custGeom>
              <a:avLst/>
              <a:gdLst>
                <a:gd name="textAreaLeft" fmla="*/ 93600 w 146520"/>
                <a:gd name="textAreaRight" fmla="*/ 146880 w 14652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0" y="3908520"/>
              <a:ext cx="12474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rot="5400000">
            <a:off x="3787200" y="109080"/>
            <a:ext cx="12956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2240" y="54936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文中写虎动作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（从中选择一组试作赏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1916280"/>
            <a:ext cx="4114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蔽、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大骇、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近之、视之、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荡倚冲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跳踉、断、尽、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464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急于摸底好奇害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恐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再试探、生性胆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工于心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干脆利落志得意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67080" y="11430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驴之“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504960" cy="2557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01160" y="220968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鸣；一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3429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143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外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庞然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76720" y="4495680"/>
            <a:ext cx="515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虚有其表 技能平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med">
    <p:cover dir="r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62480" y="415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蹄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640" y="21398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庞然大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31478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一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2360" y="2139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形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7200" y="314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9440" y="4227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绝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0360" y="250020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16360" y="2716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表面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0720" y="401148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24720" y="1924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本质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57440" y="4587840"/>
            <a:ext cx="64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81800" y="293220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大而无能，虚张声势，外强中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280" y="422748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黔驴之“技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21440" y="300348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42"/>
                </a:lnTo>
                <a:cubicBezTo>
                  <a:pt x="10800" y="10542"/>
                  <a:pt x="16200" y="11442"/>
                  <a:pt x="21600" y="11442"/>
                </a:cubicBezTo>
                <a:cubicBezTo>
                  <a:pt x="16200" y="11442"/>
                  <a:pt x="10800" y="12342"/>
                  <a:pt x="10800" y="1324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4360" y="692280"/>
            <a:ext cx="31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驴的形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19280" y="2205000"/>
            <a:ext cx="842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　　画出文中描写驴和虎的词句，说说课文是从哪些方面来刻画这两个形象的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请各用一个词语概括驴和虎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152360" cy="1147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835280" y="62064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分析形象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76680"/>
            <a:ext cx="2776680" cy="228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0" y="260280"/>
            <a:ext cx="91090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生平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子厚，唐代河东人。因为他是河东人，终于柳州刺史任上，所以人称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柳河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柳柳州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经历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曾和韩愈倡导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古文运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，后因参加政治革新失败，曾先后被贬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永州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柳州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就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代表作《三戒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寓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包括《临江之麋》           《黔之驴》和《永某氏之鼠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《永州八记》（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山水游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、大量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诗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如《江雪》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评价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唐代文学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哲学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唐宋八大家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之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11111111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，和韩愈并称为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“韩柳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44500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新魏"/>
              </a:rPr>
              <a:t>★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华文新魏"/>
              </a:rPr>
              <a:t>走近柳宗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4508640"/>
          <a:ext cx="291636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08640"/>
                    <a:ext cx="2916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10984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貌似强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本质虚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外强中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蠢笨无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机智勇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谨慎小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观察仔细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狡猾敏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372360" y="-243000"/>
          <a:ext cx="3132000" cy="258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-243000"/>
                    <a:ext cx="3132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95640" y="3284640"/>
            <a:ext cx="1584360" cy="1368360"/>
          </a:xfrm>
          <a:prstGeom prst="leftArrow">
            <a:avLst>
              <a:gd name="adj1" fmla="val 50000"/>
              <a:gd name="adj2" fmla="val 289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356000" y="3716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反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5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2970000"/>
            <a:ext cx="3025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黔驴之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黔驴技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庞然大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32000" y="2863800"/>
            <a:ext cx="5543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喻虚有其表，本领有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喻仅有的一点本领用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型大而笨重的东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指貌似强大而实则虚弱的东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1413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这则寓言故事寓意深刻，后来由此演化出一些成语，你能想出几个？还能说出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1147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763640" y="33336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课内积累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2133720"/>
            <a:ext cx="83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则寓言叙写了老虎吃掉“庞然大物”驴子的故事，表现了老虎的机智勇敢和驴子的外强中干。告诉人们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要被貌似强大的东西所吓倒，只要敢于斗争，善于斗争，定能获得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152360" cy="1147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835280" y="62064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分析寓意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9907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想一想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4382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作者在文中对驴进行的描写仅仅是为了嘲讽驴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38098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联系作者的政治遭遇，就可知道本文所讽刺的是当时政治集团中官高位显、仗势欺人而又无才无德、外强中干的上层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7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课上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虎对驴的认识经历了哪三个过程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详写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略写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主要是通过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衬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中刻画了虎的哪些方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。其中写虎与驴斗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尤为出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始时虎试探性进攻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动作显示出虎愈来愈大胆，最终把驴吃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中写老虎对驴子的认识由现象到本质的变化的句子是哪一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驴子充分暴露自己弱点的是哪一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112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惧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0920" y="112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识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162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105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吃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32000" y="20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206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5640" y="162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29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6000" y="249228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492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神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56000" y="2492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595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驴不胜怒，蹄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5640" y="4869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觉无异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29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6728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荡倚冲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0" y="60948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371600" y="2209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柳先生害驴不浅，自从《黔之驴》一文以后，千百年来，人们对驴心存偏见，驴的名声一败涂地，驴成了蠢笨的代名词。现代教育提倡创新思维、多向思维，咱们来一个奇思妙想编故事，让这头蠢驴、笨驴利用自己的聪明智慧战胜兽中之王老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《黔驴新编》《苏驴之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83808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奇思妙想编故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7920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种文学体裁，以故事的形式或拟人手法寄寓意味深长的道理，常带有讽刺或劝戒的性质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08720" y="544500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体小知识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/>
          <p:nvPr/>
        </p:nvSpPr>
        <p:spPr>
          <a:xfrm>
            <a:off x="174636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16360" y="62064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寓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620640"/>
            <a:ext cx="7705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宗元的寓言，继承了先秦诸子的寓言短小精悍，寓哲理于形象的传统，并有所发展。他的寓言善用各种动物拟人，抓住某一特性予以夸张，以寄寓哲理，讽刺政敌，抨击社会丑恶现实。代表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《三戒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麋、驴、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嘲讽“乘物以逞，或依势以干非其类”的人物。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正是由于柳宗元的大量创作，寓言才得以成为一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独立的文学体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08720" y="580536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体小知识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632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听录音，再大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掌握文中的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自己的语言给同学们讲述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1152360" cy="114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619280" y="260280"/>
            <a:ext cx="259092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初读课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5184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读准下列彩色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05080"/>
            <a:ext cx="69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黔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好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者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船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慭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然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遁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　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噬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跳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踉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89520" y="304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18240" y="30700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d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4960" y="42940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l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4160" y="1773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z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89520" y="177480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1880" y="177480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q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9080" y="3068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7680" y="42940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x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2600" y="42940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h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3160" y="3070080"/>
            <a:ext cx="12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y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039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651640" y="5013360"/>
            <a:ext cx="324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故事大王评选现场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7561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从前啊！在黔地也就是今天的湖南、湖北、重庆、贵州一带没有驴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结合注释，疏通文句，通过反复的朗读，基本理解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对照文本，互相翻译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检查重要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再次互相翻译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63640" y="476280"/>
            <a:ext cx="28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精读文本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15236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2:51Z</dcterms:created>
  <dc:creator>cjj</dc:creator>
  <dc:description/>
  <dc:language>en-US</dc:language>
  <cp:lastModifiedBy>User</cp:lastModifiedBy>
  <dcterms:modified xsi:type="dcterms:W3CDTF">2014-02-23T13:50:53Z</dcterms:modified>
  <cp:revision>170</cp:revision>
  <dc:subject/>
  <dc:title>幻灯片 1</dc:title>
</cp:coreProperties>
</file>