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11.jpeg" ContentType="image/jpeg"/>
  <Override PartName="/ppt/media/image1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9.png" ContentType="image/png"/>
  <Override PartName="/ppt/media/image22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B7A-FECC-44CE-BF6C-1D1A50651D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A8D-8715-4A2E-BFD4-B919DD1E4C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E705-7D32-444B-8115-1486BBC673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257-9CE7-4C9F-87FA-931EFEDD2E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86C-9E60-4E79-8171-3F455F8A46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615-7845-4DF9-B797-222FA3A5E4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A163-BC5E-4318-96A2-80943534D8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A5B1-1B0D-4424-AA91-120E43E5DA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294-B259-4344-B5DE-52714D7DD4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A31-9F66-474D-9970-C06CD1599C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A4B-7D66-4C20-B080-B439C6BF2E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09-802B-4939-8DE4-08B366CD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EBA-1ADF-4F6D-9DE0-64B77DCD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B41-2B09-42B3-B656-01625987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1C8-8474-4733-8B74-DB6762F8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0F8-9D10-4ECC-A844-C84093E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702-8D1F-4414-862F-2363AA8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099-92A2-4616-9C52-65D5022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088-55F1-491E-B482-EA42362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3DC-B456-422B-9A35-1623315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898-3AC2-4C6A-BCCC-7DE8509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3C4-805A-42A4-8742-D2710F1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66F-8017-4E9D-93B2-638BFBE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9212-AC5E-4309-9E15-B25832546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755640" y="2251080"/>
            <a:ext cx="748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16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庆祝奥林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克运动复兴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周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79875"/>
          <p:cNvSpPr/>
          <p:nvPr/>
        </p:nvSpPr>
        <p:spPr>
          <a:xfrm>
            <a:off x="490680" y="960480"/>
            <a:ext cx="76327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896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925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年任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国际奥委会主席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925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年后任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终身名誉主席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。任职期间，对奥林匹克运动的发展作出了重要贡献。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91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年斯德哥尔摩奥运会时，针对当时体育竞赛中的种种弊端，发表了著名诗作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《体育颂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》，获该届奥运会文艺赛金质奖章。另著有《运动心理学试验》（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913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）和《竞技运动教育学》（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1919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）等。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1937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日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病逝于日内瓦，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遗体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葬在国际奥委会总部所在地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洛桑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脏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则埋在奥林匹克运动发源地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奥林匹克亚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7315200" y="4340160"/>
            <a:ext cx="12286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6200" y="850680"/>
            <a:ext cx="8209080" cy="33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这是顾拜旦于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191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月在瑞士洛桑举行的庆祝奥林匹克运动复兴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周年纪念会上的演说。在这之前奥林匹克运动自身存在很多弊端（选手项目冲突、兴奋剂欺骗行为等），也受到国际政治局势的严重影响。这些都违背了他所提倡的奥林匹克精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2852640" y="3951360"/>
            <a:ext cx="343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677520" y="74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习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"/>
          <p:cNvSpPr/>
          <p:nvPr/>
        </p:nvSpPr>
        <p:spPr>
          <a:xfrm>
            <a:off x="1154880" y="132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读准下列字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占位符 83970"/>
          <p:cNvSpPr/>
          <p:nvPr/>
        </p:nvSpPr>
        <p:spPr>
          <a:xfrm>
            <a:off x="652320" y="2008080"/>
            <a:ext cx="813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萦绕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yí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荧屏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yíng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绚丽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xuà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苞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bāo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褐色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hè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崩溃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bē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崭新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zhǎ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阐述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chǎnshù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峻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j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豁然开朗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hu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劫难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jiénà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拙劣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zhu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肤浅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fū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和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xiāng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色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j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氛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fēn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慷慨 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kāngk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3"/>
          <p:cNvSpPr/>
          <p:nvPr/>
        </p:nvSpPr>
        <p:spPr>
          <a:xfrm>
            <a:off x="804960" y="1857240"/>
            <a:ext cx="35226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崩离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暴风骤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将就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圆其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辅相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惊受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037160" y="101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理解下列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3598920" y="19731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意为崩塌解体，四分五裂，借以形容国家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集团分裂瓦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4649040" y="290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比喻声势浩大，发展急速而猛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7"/>
          <p:cNvSpPr/>
          <p:nvPr/>
        </p:nvSpPr>
        <p:spPr>
          <a:xfrm>
            <a:off x="5160960" y="33433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快要进棺材了。指人临近死亡。木，指棺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3659760" y="3852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指说话的人能使自己的论点或谎话没有漏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5162400" y="4309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指两件事物互相配合，互相补充，缺一不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0"/>
          <p:cNvSpPr/>
          <p:nvPr/>
        </p:nvSpPr>
        <p:spPr>
          <a:xfrm>
            <a:off x="3475440" y="483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</a:rPr>
              <a:t>形容十分担心或害怕。害怕遭受祸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156168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0c0"/>
                </a:solidFill>
                <a:latin typeface="宋体"/>
                <a:ea typeface="宋体"/>
              </a:rPr>
              <a:t>一、回顾历史，展望前景。（</a:t>
            </a:r>
            <a:r>
              <a:rPr b="1" lang="zh-CN" sz="3400" spc="-1" strike="noStrike">
                <a:solidFill>
                  <a:srgbClr val="0070c0"/>
                </a:solidFill>
                <a:latin typeface="宋体"/>
                <a:ea typeface="宋体"/>
              </a:rPr>
              <a:t>1</a:t>
            </a:r>
            <a:r>
              <a:rPr b="1" lang="zh-CN" sz="3400" spc="-1" strike="noStrike">
                <a:solidFill>
                  <a:srgbClr val="0070c0"/>
                </a:solidFill>
                <a:latin typeface="宋体"/>
                <a:ea typeface="宋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4995"/>
          <p:cNvSpPr/>
          <p:nvPr/>
        </p:nvSpPr>
        <p:spPr>
          <a:xfrm>
            <a:off x="324000" y="2563920"/>
            <a:ext cx="80643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二、阐述奥林匹克精神的特点及其精神内涵。（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2—5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4996"/>
          <p:cNvSpPr/>
          <p:nvPr/>
        </p:nvSpPr>
        <p:spPr>
          <a:xfrm>
            <a:off x="324000" y="3817800"/>
            <a:ext cx="8208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三、赞扬作出贡献者。（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4997"/>
          <p:cNvSpPr/>
          <p:nvPr/>
        </p:nvSpPr>
        <p:spPr>
          <a:xfrm>
            <a:off x="324000" y="4630680"/>
            <a:ext cx="8281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四、表明对未来的信心。（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90400" y="70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初读课文整体感知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9460"/>
          <p:cNvSpPr/>
          <p:nvPr/>
        </p:nvSpPr>
        <p:spPr>
          <a:xfrm>
            <a:off x="39528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１、奥林匹克精神与纯粹的竞技精神有何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9462"/>
          <p:cNvSpPr/>
          <p:nvPr/>
        </p:nvSpPr>
        <p:spPr>
          <a:xfrm>
            <a:off x="2341440" y="10368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理解文章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9469"/>
          <p:cNvSpPr/>
          <p:nvPr/>
        </p:nvSpPr>
        <p:spPr>
          <a:xfrm>
            <a:off x="395280" y="31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２、“敲响重开奥林匹克时代钟声的原因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9470"/>
          <p:cNvSpPr/>
          <p:nvPr/>
        </p:nvSpPr>
        <p:spPr>
          <a:xfrm>
            <a:off x="324000" y="393372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３、顾拜旦以什么样的理念开创了奥林匹克新时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9471"/>
          <p:cNvSpPr/>
          <p:nvPr/>
        </p:nvSpPr>
        <p:spPr>
          <a:xfrm>
            <a:off x="324000" y="494172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４、顾拜旦倡导的奥林匹克精神的内涵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0481"/>
          <p:cNvSpPr/>
          <p:nvPr/>
        </p:nvSpPr>
        <p:spPr>
          <a:xfrm>
            <a:off x="482760" y="7491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１、奥林匹克精神与纯粹的竞技精神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0483"/>
          <p:cNvSpPr/>
          <p:nvPr/>
        </p:nvSpPr>
        <p:spPr>
          <a:xfrm>
            <a:off x="684360" y="2247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但又超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0485"/>
          <p:cNvSpPr/>
          <p:nvPr/>
        </p:nvSpPr>
        <p:spPr>
          <a:xfrm>
            <a:off x="2627280" y="2060640"/>
            <a:ext cx="50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ahoma"/>
              </a:rPr>
              <a:t>竞技精神：自得其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0486"/>
          <p:cNvSpPr/>
          <p:nvPr/>
        </p:nvSpPr>
        <p:spPr>
          <a:xfrm>
            <a:off x="2666880" y="2857680"/>
            <a:ext cx="59436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奥林匹克精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　　　　　　　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0494"/>
          <p:cNvSpPr/>
          <p:nvPr/>
        </p:nvSpPr>
        <p:spPr>
          <a:xfrm>
            <a:off x="4067280" y="4227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展示拼搏精神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0495"/>
          <p:cNvSpPr/>
          <p:nvPr/>
        </p:nvSpPr>
        <p:spPr>
          <a:xfrm>
            <a:off x="3995640" y="486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焕发青春激情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0496"/>
          <p:cNvSpPr/>
          <p:nvPr/>
        </p:nvSpPr>
        <p:spPr>
          <a:xfrm>
            <a:off x="3995640" y="55897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精神上的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498"/>
          <p:cNvSpPr/>
          <p:nvPr/>
        </p:nvSpPr>
        <p:spPr>
          <a:xfrm>
            <a:off x="61128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融合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499"/>
          <p:cNvSpPr/>
          <p:nvPr/>
        </p:nvSpPr>
        <p:spPr>
          <a:xfrm>
            <a:off x="3940200" y="36306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ahoma"/>
              </a:rPr>
              <a:t>展示人体的力量美   形体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0500"/>
          <p:cNvSpPr/>
          <p:nvPr/>
        </p:nvSpPr>
        <p:spPr>
          <a:xfrm>
            <a:off x="792000" y="4257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阳光所萦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0501"/>
          <p:cNvSpPr/>
          <p:nvPr/>
        </p:nvSpPr>
        <p:spPr>
          <a:xfrm>
            <a:off x="971640" y="4941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音乐所振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0502"/>
          <p:cNvSpPr/>
          <p:nvPr/>
        </p:nvSpPr>
        <p:spPr>
          <a:xfrm>
            <a:off x="395280" y="5649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……体育馆所珍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21506"/>
          <p:cNvSpPr/>
          <p:nvPr/>
        </p:nvSpPr>
        <p:spPr>
          <a:xfrm>
            <a:off x="755640" y="797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２、“敲响重开奥林匹克时代钟声的原因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1508"/>
          <p:cNvSpPr/>
          <p:nvPr/>
        </p:nvSpPr>
        <p:spPr>
          <a:xfrm>
            <a:off x="1116000" y="43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ahoma"/>
              </a:rPr>
              <a:t>　　（希望通过体育来改变教育现状，振兴教育</a:t>
            </a:r>
            <a:r>
              <a:rPr b="0" lang="zh-CN" sz="3200" spc="-1" strike="noStrike">
                <a:solidFill>
                  <a:srgbClr val="0070c0"/>
                </a:solidFill>
                <a:latin typeface="Tahoma"/>
              </a:rPr>
              <a:t>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509"/>
          <p:cNvSpPr/>
          <p:nvPr/>
        </p:nvSpPr>
        <p:spPr>
          <a:xfrm>
            <a:off x="755640" y="2149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改变“人类渴望进步，但又常常误入歧途。青少年往往为陈旧、复杂的教学方法，愚蠢和严厉相交替的说教以及拙劣肤浅的哲学所束缚而失去平衡”这一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5601"/>
          <p:cNvSpPr/>
          <p:nvPr/>
        </p:nvSpPr>
        <p:spPr>
          <a:xfrm>
            <a:off x="657360" y="8319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３、顾拜旦以什么样的理念开创了奥林匹克新时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5606"/>
          <p:cNvSpPr/>
          <p:nvPr/>
        </p:nvSpPr>
        <p:spPr>
          <a:xfrm>
            <a:off x="228600" y="4038480"/>
            <a:ext cx="864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5607"/>
          <p:cNvSpPr/>
          <p:nvPr/>
        </p:nvSpPr>
        <p:spPr>
          <a:xfrm>
            <a:off x="1054080" y="2262240"/>
            <a:ext cx="750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把盎格鲁撒克逊人的运动功利主义同古希腊留传下来的高尚、强烈的观念结合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5626080" y="4303800"/>
            <a:ext cx="31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26625"/>
          <p:cNvSpPr/>
          <p:nvPr/>
        </p:nvSpPr>
        <p:spPr>
          <a:xfrm>
            <a:off x="914400" y="698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４、顾拜旦倡导的奥林匹克精神的内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630"/>
          <p:cNvSpPr/>
          <p:nvPr/>
        </p:nvSpPr>
        <p:spPr>
          <a:xfrm>
            <a:off x="1962000" y="21448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大众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631"/>
          <p:cNvSpPr/>
          <p:nvPr/>
        </p:nvSpPr>
        <p:spPr>
          <a:xfrm>
            <a:off x="2703600" y="297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促进和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6632"/>
          <p:cNvSpPr/>
          <p:nvPr/>
        </p:nvSpPr>
        <p:spPr>
          <a:xfrm>
            <a:off x="3544920" y="38559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促进公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6633"/>
          <p:cNvSpPr/>
          <p:nvPr/>
        </p:nvSpPr>
        <p:spPr>
          <a:xfrm>
            <a:off x="4557600" y="47815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ahoma"/>
              </a:rPr>
              <a:t>促进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166680" y="385596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533520" y="625320"/>
            <a:ext cx="35906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2"/>
          <a:stretch/>
        </p:blipFill>
        <p:spPr>
          <a:xfrm>
            <a:off x="503280" y="3532320"/>
            <a:ext cx="364968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3"/>
          <a:stretch/>
        </p:blipFill>
        <p:spPr>
          <a:xfrm>
            <a:off x="4594320" y="625320"/>
            <a:ext cx="40273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4"/>
          <a:stretch/>
        </p:blipFill>
        <p:spPr>
          <a:xfrm>
            <a:off x="4280040" y="3371760"/>
            <a:ext cx="4484520" cy="24447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5"/>
          <p:cNvSpPr/>
          <p:nvPr/>
        </p:nvSpPr>
        <p:spPr>
          <a:xfrm>
            <a:off x="3405600" y="598320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约奥运会精彩瞬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3368520" y="4175280"/>
            <a:ext cx="226728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32770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2771"/>
          <p:cNvSpPr/>
          <p:nvPr/>
        </p:nvSpPr>
        <p:spPr>
          <a:xfrm>
            <a:off x="501480" y="2603520"/>
            <a:ext cx="814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演讲就是得体地运用声音、表情和手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　　—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古罗马雄辩家西塞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2773"/>
          <p:cNvSpPr/>
          <p:nvPr/>
        </p:nvSpPr>
        <p:spPr>
          <a:xfrm>
            <a:off x="958680" y="1649520"/>
            <a:ext cx="70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何讲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讲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主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009999"/>
                </a:solidFill>
                <a:latin typeface="宋体"/>
              </a:rPr>
              <a:t>演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602280" y="681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阅读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53251"/>
          <p:cNvSpPr/>
          <p:nvPr/>
        </p:nvSpPr>
        <p:spPr>
          <a:xfrm>
            <a:off x="125892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3252"/>
          <p:cNvSpPr/>
          <p:nvPr/>
        </p:nvSpPr>
        <p:spPr>
          <a:xfrm>
            <a:off x="228600" y="9079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演讲小知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3253"/>
          <p:cNvSpPr/>
          <p:nvPr/>
        </p:nvSpPr>
        <p:spPr>
          <a:xfrm>
            <a:off x="498600" y="2031840"/>
            <a:ext cx="3502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讲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（主）：语气、语调、语速、重音、停顿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演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（辅）：手势、表情、视线、身姿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4551480" y="1609560"/>
            <a:ext cx="3878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64728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宋体"/>
                <a:ea typeface="宋体"/>
              </a:rPr>
              <a:t>2008</a:t>
            </a:r>
            <a:r>
              <a:rPr b="1" lang="zh-CN" sz="4200" spc="-1" strike="noStrike">
                <a:solidFill>
                  <a:srgbClr val="ff0000"/>
                </a:solidFill>
                <a:latin typeface="宋体"/>
                <a:ea typeface="宋体"/>
              </a:rPr>
              <a:t>年北京奥运会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5545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808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2003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年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月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日，北京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2008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年奥林匹克运动会会徽“中国印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·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舞动的北京”在北京天坛向全球正式发布。会徽以中国传统文化印章为载体，主体为大红底色的白色“</a:t>
            </a:r>
            <a:r>
              <a:rPr b="1" lang="zh-CN" sz="2600" spc="-1" strike="noStrike">
                <a:solidFill>
                  <a:srgbClr val="009999"/>
                </a:solidFill>
                <a:latin typeface="宋体"/>
                <a:ea typeface="宋体"/>
              </a:rPr>
              <a:t>京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”字图形，变化为一个向前奔跑，迎接胜利的</a:t>
            </a:r>
            <a:r>
              <a:rPr b="1" lang="zh-CN" sz="2600" spc="-1" strike="noStrike">
                <a:solidFill>
                  <a:srgbClr val="d60093"/>
                </a:solidFill>
                <a:latin typeface="宋体"/>
                <a:ea typeface="宋体"/>
              </a:rPr>
              <a:t>运动人形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。印章由</a:t>
            </a:r>
            <a:r>
              <a:rPr b="1" lang="zh-CN" sz="2600" spc="-1" strike="noStrike">
                <a:solidFill>
                  <a:srgbClr val="d60093"/>
                </a:solidFill>
                <a:latin typeface="宋体"/>
                <a:ea typeface="宋体"/>
              </a:rPr>
              <a:t>和田玉</a:t>
            </a:r>
            <a:r>
              <a:rPr b="1" lang="zh-CN" sz="2600" spc="-1" strike="noStrike">
                <a:solidFill>
                  <a:srgbClr val="808080"/>
                </a:solidFill>
                <a:latin typeface="宋体"/>
                <a:ea typeface="宋体"/>
              </a:rPr>
              <a:t>精雕而成，第一张正式的会徽在中国宣纸上印出，将中华璀璨文化与奥运有机的结合起来。在今后的几年中，“京”字将成为世界上最广为人知的汉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联机映像占位符 75779" descr="u=832424002,3679750510&amp;gp=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079960" y="1600200"/>
            <a:ext cx="3168720" cy="4530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73729" descr="tywy-xuhaifeng"/>
          <p:cNvPicPr/>
          <p:nvPr/>
        </p:nvPicPr>
        <p:blipFill>
          <a:blip r:embed="rId1"/>
          <a:stretch/>
        </p:blipFill>
        <p:spPr>
          <a:xfrm>
            <a:off x="5724360" y="771480"/>
            <a:ext cx="3048120" cy="26352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3730" descr="u=458908133,2648126192&amp;gp=3"/>
          <p:cNvPicPr/>
          <p:nvPr/>
        </p:nvPicPr>
        <p:blipFill>
          <a:blip r:embed="rId2"/>
          <a:stretch/>
        </p:blipFill>
        <p:spPr>
          <a:xfrm>
            <a:off x="304920" y="838080"/>
            <a:ext cx="3657600" cy="3767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3731" descr="u=3948144266,3326017798&amp;gp=1"/>
          <p:cNvPicPr/>
          <p:nvPr/>
        </p:nvPicPr>
        <p:blipFill>
          <a:blip r:embed="rId3"/>
          <a:stretch/>
        </p:blipFill>
        <p:spPr>
          <a:xfrm>
            <a:off x="6369120" y="3759120"/>
            <a:ext cx="175896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73733"/>
          <p:cNvSpPr txBox="1"/>
          <p:nvPr/>
        </p:nvSpPr>
        <p:spPr>
          <a:xfrm>
            <a:off x="828720" y="429264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国奥运第一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文本框 73734"/>
          <p:cNvSpPr/>
          <p:nvPr/>
        </p:nvSpPr>
        <p:spPr>
          <a:xfrm>
            <a:off x="1490760" y="5526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纪念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矩形 73735" descr=""/>
          <p:cNvPicPr/>
          <p:nvPr/>
        </p:nvPicPr>
        <p:blipFill>
          <a:blip r:embed="rId4"/>
          <a:stretch/>
        </p:blipFill>
        <p:spPr>
          <a:xfrm>
            <a:off x="4632480" y="1676520"/>
            <a:ext cx="8413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3009" descr="1"/>
          <p:cNvPicPr/>
          <p:nvPr/>
        </p:nvPicPr>
        <p:blipFill>
          <a:blip r:embed="rId1"/>
          <a:stretch/>
        </p:blipFill>
        <p:spPr>
          <a:xfrm>
            <a:off x="52560" y="604800"/>
            <a:ext cx="3490920" cy="416232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43011"/>
          <p:cNvSpPr/>
          <p:nvPr/>
        </p:nvSpPr>
        <p:spPr>
          <a:xfrm>
            <a:off x="361800" y="4886280"/>
            <a:ext cx="266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难度技术动作失败，张丹落地时重重地摔在冰面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膝盖受伤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内容占位符 47106" descr="3"/>
          <p:cNvPicPr/>
          <p:nvPr/>
        </p:nvPicPr>
        <p:blipFill>
          <a:blip r:embed="rId2"/>
          <a:stretch/>
        </p:blipFill>
        <p:spPr>
          <a:xfrm>
            <a:off x="3543480" y="604800"/>
            <a:ext cx="5238720" cy="33624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47108"/>
          <p:cNvSpPr/>
          <p:nvPr/>
        </p:nvSpPr>
        <p:spPr>
          <a:xfrm>
            <a:off x="3701880" y="4351320"/>
            <a:ext cx="50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几分钟后，二人重返赛场，重新完成了一系列的高难度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两人的每一次滑行和动作都打动了在场的观众，观众们对他们报以热烈的掌声和欢呼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8305" descr="刘翔"/>
          <p:cNvPicPr/>
          <p:nvPr/>
        </p:nvPicPr>
        <p:blipFill>
          <a:blip r:embed="rId1"/>
          <a:stretch/>
        </p:blipFill>
        <p:spPr>
          <a:xfrm>
            <a:off x="95400" y="636480"/>
            <a:ext cx="7062480" cy="55850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98306"/>
          <p:cNvSpPr/>
          <p:nvPr/>
        </p:nvSpPr>
        <p:spPr>
          <a:xfrm>
            <a:off x="6495120" y="1179360"/>
            <a:ext cx="2009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跨      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00353" descr="女排"/>
          <p:cNvPicPr/>
          <p:nvPr/>
        </p:nvPicPr>
        <p:blipFill>
          <a:blip r:embed="rId1"/>
          <a:stretch/>
        </p:blipFill>
        <p:spPr>
          <a:xfrm>
            <a:off x="52560" y="573120"/>
            <a:ext cx="7437240" cy="589284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00354"/>
          <p:cNvSpPr/>
          <p:nvPr/>
        </p:nvSpPr>
        <p:spPr>
          <a:xfrm>
            <a:off x="7580880" y="1413000"/>
            <a:ext cx="10947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拼      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18785" descr="olym3"/>
          <p:cNvPicPr/>
          <p:nvPr/>
        </p:nvPicPr>
        <p:blipFill>
          <a:blip r:embed="rId1"/>
          <a:stretch/>
        </p:blipFill>
        <p:spPr>
          <a:xfrm>
            <a:off x="79200" y="542880"/>
            <a:ext cx="4658040" cy="58881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8786" descr="20061225174800357816"/>
          <p:cNvPicPr/>
          <p:nvPr/>
        </p:nvPicPr>
        <p:blipFill>
          <a:blip r:embed="rId2"/>
          <a:stretch/>
        </p:blipFill>
        <p:spPr>
          <a:xfrm>
            <a:off x="4724280" y="573120"/>
            <a:ext cx="4407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92169" descr="奥运场馆效果图10"/>
          <p:cNvPicPr/>
          <p:nvPr/>
        </p:nvPicPr>
        <p:blipFill>
          <a:blip r:embed="rId1"/>
          <a:stretch/>
        </p:blipFill>
        <p:spPr>
          <a:xfrm>
            <a:off x="419040" y="654120"/>
            <a:ext cx="8305920" cy="57625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07521"/>
          <p:cNvSpPr/>
          <p:nvPr/>
        </p:nvSpPr>
        <p:spPr>
          <a:xfrm>
            <a:off x="1035000" y="961920"/>
            <a:ext cx="727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多少次挥汗如雨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伤痛曾填满记忆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因为始终相信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去拼搏才能胜利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总是在鼓舞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成功就得努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血在赛场沸腾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巨人在东方升起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你将赢得胜利创造奇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梦想在你手中这是你的天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07523"/>
          <p:cNvSpPr/>
          <p:nvPr/>
        </p:nvSpPr>
        <p:spPr>
          <a:xfrm>
            <a:off x="6868440" y="1682640"/>
            <a:ext cx="7898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相信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6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92170" descr="奥运场馆效果图11"/>
          <p:cNvPicPr/>
          <p:nvPr/>
        </p:nvPicPr>
        <p:blipFill>
          <a:blip r:embed="rId1"/>
          <a:stretch/>
        </p:blipFill>
        <p:spPr>
          <a:xfrm>
            <a:off x="457200" y="696960"/>
            <a:ext cx="8305920" cy="5730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7440" y="851040"/>
            <a:ext cx="851868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演讲、倾听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马雅可夫斯基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7600" y="2580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是人的力量的统帅。我们说眼睛是心灵的窗戶，而舌头则是心灵的大门。好的演讲如同布谷报春，又似战鼓催征。能点燃亿万青年的心灵之火，使迷惘者得以清醒，沉沦者为之振作，徘徊者更加坚定，观望者毅然奋起，先进者策马飞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6" presetSubtype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619280" y="1050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2"/>
          <a:stretch/>
        </p:blipFill>
        <p:spPr>
          <a:xfrm>
            <a:off x="4667400" y="1050840"/>
            <a:ext cx="36846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"/>
          <p:cNvPicPr/>
          <p:nvPr/>
        </p:nvPicPr>
        <p:blipFill>
          <a:blip r:embed="rId3"/>
          <a:stretch/>
        </p:blipFill>
        <p:spPr>
          <a:xfrm>
            <a:off x="1619280" y="3336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"/>
          <p:cNvPicPr/>
          <p:nvPr/>
        </p:nvPicPr>
        <p:blipFill>
          <a:blip r:embed="rId4"/>
          <a:stretch/>
        </p:blipFill>
        <p:spPr>
          <a:xfrm>
            <a:off x="4667400" y="3336840"/>
            <a:ext cx="368460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5"/>
          <p:cNvSpPr/>
          <p:nvPr/>
        </p:nvSpPr>
        <p:spPr>
          <a:xfrm>
            <a:off x="3310920" y="582300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北京奥运会精彩瞬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96257"/>
          <p:cNvSpPr/>
          <p:nvPr/>
        </p:nvSpPr>
        <p:spPr>
          <a:xfrm>
            <a:off x="1892160" y="105876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明确目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6258"/>
          <p:cNvSpPr/>
          <p:nvPr/>
        </p:nvSpPr>
        <p:spPr>
          <a:xfrm>
            <a:off x="930240" y="2211480"/>
            <a:ext cx="75024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学会“善于倾听”，筛选提取文中信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通过对文本的解读，理解“奥林匹克精神”的内涵及其时代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通过演讲活动实践，提高口语交际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23907"/>
          <p:cNvSpPr/>
          <p:nvPr/>
        </p:nvSpPr>
        <p:spPr>
          <a:xfrm>
            <a:off x="61128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际奥委会成立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8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总部设在巴黎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第一次世界大战爆发，为了避免战火的洗劫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总部迁入瑞士一个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际文化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称的洛桑。这里有奥林匹克博物馆，奥林匹克研究中心，还有以顾拜旦名字命名的大街，体育场，等等。数十年来，洛桑为奥林匹克运动的发展，作出了重大贡献，无怪乎有人将洛桑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奥林匹克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国际奥委会也是在这个美好的城市逐渐发展、壮大而闻名于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标题 71681"/>
          <p:cNvSpPr/>
          <p:nvPr/>
        </p:nvSpPr>
        <p:spPr>
          <a:xfrm>
            <a:off x="258840" y="549360"/>
            <a:ext cx="2873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Garamond"/>
                <a:ea typeface="华文彩云"/>
              </a:rPr>
              <a:t>奥林匹克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1225440" y="4149720"/>
            <a:ext cx="67690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26979"/>
          <p:cNvSpPr/>
          <p:nvPr/>
        </p:nvSpPr>
        <p:spPr>
          <a:xfrm>
            <a:off x="942840" y="1900080"/>
            <a:ext cx="71280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会旗从左至右为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天蓝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黄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黑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绿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红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五种颜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原来是概括各国国旗的颜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,1979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年又解释为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:“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象征着五大洲的团结”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更进一步的说明是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黄色代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亚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绿色代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欧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红色代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美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天蓝色代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大洋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黑色代表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非洲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02401"/>
          <p:cNvSpPr/>
          <p:nvPr/>
        </p:nvSpPr>
        <p:spPr>
          <a:xfrm>
            <a:off x="336600" y="687240"/>
            <a:ext cx="6119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题口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02402"/>
          <p:cNvSpPr/>
          <p:nvPr/>
        </p:nvSpPr>
        <p:spPr>
          <a:xfrm>
            <a:off x="488880" y="1411200"/>
            <a:ext cx="8496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984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洛杉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；参与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988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汉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： 和谐、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巴塞罗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： 永远的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996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亚特兰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： 世纪庆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悉尼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分享奥林匹克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004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雅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： 欢迎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008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北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ne world, one dream!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一世界，同一梦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012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伦敦：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nspire a generation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激励一代人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016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里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点燃你的激情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Live you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94209" descr="奥运图片6"/>
          <p:cNvPicPr/>
          <p:nvPr/>
        </p:nvPicPr>
        <p:blipFill>
          <a:blip r:embed="rId1"/>
          <a:stretch/>
        </p:blipFill>
        <p:spPr>
          <a:xfrm>
            <a:off x="73080" y="620640"/>
            <a:ext cx="4325760" cy="58294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4210" descr="顾拜旦"/>
          <p:cNvPicPr/>
          <p:nvPr/>
        </p:nvPicPr>
        <p:blipFill>
          <a:blip r:embed="rId2"/>
          <a:stretch/>
        </p:blipFill>
        <p:spPr>
          <a:xfrm>
            <a:off x="4398840" y="620640"/>
            <a:ext cx="4692600" cy="5829480"/>
          </a:xfrm>
          <a:prstGeom prst="rect">
            <a:avLst/>
          </a:prstGeom>
          <a:ln w="0">
            <a:noFill/>
          </a:ln>
        </p:spPr>
      </p:pic>
      <p:pic>
        <p:nvPicPr>
          <p:cNvPr id="69" name="文本框 1" descr=""/>
          <p:cNvPicPr/>
          <p:nvPr/>
        </p:nvPicPr>
        <p:blipFill>
          <a:blip r:embed="rId3"/>
          <a:stretch/>
        </p:blipFill>
        <p:spPr>
          <a:xfrm>
            <a:off x="274680" y="5694480"/>
            <a:ext cx="44067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8852"/>
          <p:cNvSpPr/>
          <p:nvPr/>
        </p:nvSpPr>
        <p:spPr>
          <a:xfrm>
            <a:off x="1413000" y="646200"/>
            <a:ext cx="55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8855"/>
          <p:cNvSpPr/>
          <p:nvPr/>
        </p:nvSpPr>
        <p:spPr>
          <a:xfrm>
            <a:off x="380880" y="1917720"/>
            <a:ext cx="8520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顾拜旦，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现代奥林匹克运动创始人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史学家。出生于法国巴黎贵族家庭。青年时喜爱古希腊史，对后来将毕生精力贡献给奥林匹克运动有很大影响。１８９３年，为了恢复奥运会，他在巴黎召开了第一次国际体育会议。１８９４年６月，他再次在巴黎召开了国际体育会议。会议决定成立有１２个成员国组成的国际奥林匹克委员会，并选出了希腊诗人泽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维凯拉斯为委员会主席，顾拜旦为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秘书长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。会议还做出决定，将于１８９６年在希腊首都</a:t>
            </a:r>
            <a:r>
              <a:rPr b="1" lang="zh-CN" sz="2400" spc="-1" strike="noStrike">
                <a:solidFill>
                  <a:srgbClr val="d60093"/>
                </a:solidFill>
                <a:latin typeface="宋体"/>
              </a:rPr>
              <a:t>雅典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</a:rPr>
              <a:t>举行第１届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现代奥林匹克运动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3142080" y="733320"/>
            <a:ext cx="26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代奥运会的奠基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皮埃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顾拜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7:28:58Z</dcterms:created>
  <dc:creator>Administrator</dc:creator>
  <dc:description/>
  <dc:language>en-US</dc:language>
  <cp:lastModifiedBy>微软用户</cp:lastModifiedBy>
  <dcterms:modified xsi:type="dcterms:W3CDTF">2018-02-10T12:55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