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6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50AE-EBC0-4AA1-88EA-9E5725018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BCF7-F287-4BC8-8E02-C2BD82A6E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C031-6503-41DB-900E-5F72CCD36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A2E3-86B4-4DD9-8221-A15CA4972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03D1-FD6C-49C9-9B5C-13DB16189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7476-7187-4F32-89F4-E24CD2771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9E80-C367-4BF2-BC42-3CE3FB14E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7194-84F9-4A1B-AB9A-02E8CA1F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75BB-6CF6-440C-A079-22CE56D14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066D-A64D-44AD-A6F9-BCD3E5CF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AB7A-3737-47F5-A8FD-D6E210A57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BE3-0D04-47E6-BFF1-DF88CE30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BAC-4BF4-496B-8512-5BC82142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ABA-3A7A-4232-8463-757CB364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37D-411D-4B32-B505-DD08AF44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3739-03C7-431F-A379-3BC4C446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A1CA-75E8-4EC4-B99E-F095DD56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5E29-0F7D-48FB-B937-EE27A79C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14B9-CE0F-4C2A-8E02-BCA86DA5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755C-EB47-4430-B70A-93153F7E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6511-F035-4505-9D31-534A7BF8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A0D1-F927-4951-8C45-A40D48C2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1CF-D7FF-4C25-82FB-E18B6E6D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C673-6F0D-4ACD-828D-CC411DC8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41BE-5398-44B0-A066-C1748D90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430C-D5B0-4B3A-AC46-2F5CAB19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26F6-B536-481D-8317-1F79BCF4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2CFF-69E5-42ED-B287-AE656248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FF227-0272-4174-BDF5-9389E86B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8CE2-2C97-431D-8219-C516D8CB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5DD8-4A94-47AE-AEE7-AA2538E8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618D-3C7F-4679-9A84-5F8489AA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9C9B5-B693-4B04-893B-307468CF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F13-FE74-49EC-B729-219D2C52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7FD9-0511-42FB-817F-A3C44FC6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B9AF-E685-433A-B6FD-8BBC4E46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DB61-09D6-4D26-8865-A3F6DBC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4B35-FC5D-4378-B94C-2FA3C370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929E9-E4F3-4D14-A903-C1E650B1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F401C-C9A1-404A-B396-1D64B59F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4C322-6FE4-4D4D-941B-012A2933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8CD-9D40-4478-B8E9-5047E646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580-C642-435B-B3D5-CDC0D49D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F79-0378-4EB0-8254-008E1C29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478-5230-401E-97D0-2DCD861E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DDF-9D42-4970-BF4A-349D276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EDB-85A9-4C70-8AD3-8338A854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B7AF-2FAC-44F4-82EA-5468986B3ACA}" type="slidenum">
              <a:rPr b="1" lang="en-US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1508-07AC-4B9A-ABD0-433119D8DB8C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E26B-8130-48AC-80FD-34A266A80CE0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"/>
          <p:cNvSpPr/>
          <p:nvPr/>
        </p:nvSpPr>
        <p:spPr>
          <a:xfrm>
            <a:off x="755640" y="1523880"/>
            <a:ext cx="748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隶书"/>
                <a:ea typeface="隶书"/>
              </a:rPr>
              <a:t>庆祝奥林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隶书"/>
                <a:ea typeface="隶书"/>
              </a:rPr>
              <a:t>克运动复兴</a:t>
            </a:r>
            <a:r>
              <a:rPr b="1" lang="en-US" sz="6000" spc="-1" strike="noStrike">
                <a:solidFill>
                  <a:srgbClr val="0000cc"/>
                </a:solidFill>
                <a:latin typeface="隶书"/>
                <a:ea typeface="隶书"/>
              </a:rPr>
              <a:t>25</a:t>
            </a:r>
            <a:r>
              <a:rPr b="1" lang="zh-CN" sz="6000" spc="-1" strike="noStrike">
                <a:solidFill>
                  <a:srgbClr val="0000cc"/>
                </a:solidFill>
                <a:latin typeface="隶书"/>
                <a:ea typeface="隶书"/>
              </a:rPr>
              <a:t>周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20908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</a:rPr>
              <a:t>本文是顾拜旦于</a:t>
            </a:r>
            <a:r>
              <a:rPr b="1" lang="en-US" sz="3000" spc="-1" strike="noStrike">
                <a:solidFill>
                  <a:srgbClr val="0000cc"/>
                </a:solidFill>
                <a:latin typeface="黑体"/>
              </a:rPr>
              <a:t>1919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</a:rPr>
              <a:t>年</a:t>
            </a:r>
            <a:r>
              <a:rPr b="1" lang="en-US" sz="3000" spc="-1" strike="noStrike">
                <a:solidFill>
                  <a:srgbClr val="0000cc"/>
                </a:solidFill>
                <a:latin typeface="黑体"/>
              </a:rPr>
              <a:t>4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</a:rPr>
              <a:t>月在瑞士洛桑举行的庆祝奥林匹克运动复兴</a:t>
            </a:r>
            <a:r>
              <a:rPr b="1" lang="en-US" sz="3000" spc="-1" strike="noStrike">
                <a:solidFill>
                  <a:srgbClr val="0000cc"/>
                </a:solidFill>
                <a:latin typeface="黑体"/>
              </a:rPr>
              <a:t>25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</a:rPr>
              <a:t>周年纪念会上的演说。在这之前奥林匹克运动自身存在很多弊端（选手项目冲突、兴奋剂欺骗行为等），也受到国际政治局势的严重影响。这些都违背了他所提倡的奥林匹克精神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633840" y="257040"/>
            <a:ext cx="170460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隶书"/>
              </a:rPr>
              <a:t>题目介绍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png-0482"/>
          <p:cNvPicPr/>
          <p:nvPr/>
        </p:nvPicPr>
        <p:blipFill>
          <a:blip r:embed="rId1"/>
          <a:stretch/>
        </p:blipFill>
        <p:spPr>
          <a:xfrm>
            <a:off x="5761080" y="360360"/>
            <a:ext cx="1044360" cy="1044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289240" y="2590920"/>
            <a:ext cx="65469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庆祝奥林匹克运动复兴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周年”，题目直接点明了本次演讲的背景及目的，简洁明了，便于读者把握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C:\Users\zhaoqingju\Desktop\AB62A7DA37C29E7ACD4EEB7D84FFB834.jpg"/>
          <p:cNvPicPr/>
          <p:nvPr/>
        </p:nvPicPr>
        <p:blipFill>
          <a:blip r:embed="rId2"/>
          <a:stretch/>
        </p:blipFill>
        <p:spPr>
          <a:xfrm>
            <a:off x="0" y="255600"/>
            <a:ext cx="2260440" cy="3352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4"/>
          <p:cNvSpPr/>
          <p:nvPr/>
        </p:nvSpPr>
        <p:spPr>
          <a:xfrm>
            <a:off x="988560" y="390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读准下列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占位符 83970"/>
          <p:cNvSpPr/>
          <p:nvPr/>
        </p:nvSpPr>
        <p:spPr>
          <a:xfrm>
            <a:off x="482760" y="129528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萦绕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yíng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荧屏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yíng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绚丽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xuà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含苞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bāo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褐色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hè  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崩溃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bē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崭新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zhǎn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阐述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chǎnshù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严峻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j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劫难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jié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拙劣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zhuō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肤浅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fū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详和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xiāng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角色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jué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气氛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fē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慷慨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kāngkǎi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浩劫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指摘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zhāi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襁褓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qiǎngbǎo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枷锁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目睹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奠定          挚爱         钟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3"/>
          <p:cNvSpPr/>
          <p:nvPr/>
        </p:nvSpPr>
        <p:spPr>
          <a:xfrm>
            <a:off x="457200" y="1452600"/>
            <a:ext cx="35226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分崩离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暴风骤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行将就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自圆其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相辅相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担惊受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"/>
          <p:cNvSpPr/>
          <p:nvPr/>
        </p:nvSpPr>
        <p:spPr>
          <a:xfrm>
            <a:off x="717120" y="501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理解下列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"/>
          <p:cNvSpPr/>
          <p:nvPr/>
        </p:nvSpPr>
        <p:spPr>
          <a:xfrm>
            <a:off x="3454560" y="148104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黑体"/>
                <a:ea typeface="黑体"/>
              </a:rPr>
              <a:t>意为崩塌解体，四分五裂，借以形容国家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黑体"/>
                <a:ea typeface="黑体"/>
              </a:rPr>
              <a:t>集团分裂瓦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4649760" y="2425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黑体"/>
                <a:ea typeface="黑体"/>
              </a:rPr>
              <a:t>比喻声势浩大，发展急速而猛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7"/>
          <p:cNvSpPr/>
          <p:nvPr/>
        </p:nvSpPr>
        <p:spPr>
          <a:xfrm>
            <a:off x="5218560" y="290664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黑体"/>
                <a:ea typeface="黑体"/>
              </a:rPr>
              <a:t>快要进棺材了。指人临近死亡。木，指棺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8"/>
          <p:cNvSpPr/>
          <p:nvPr/>
        </p:nvSpPr>
        <p:spPr>
          <a:xfrm>
            <a:off x="5465880" y="3402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黑体"/>
                <a:ea typeface="黑体"/>
              </a:rPr>
              <a:t>指说话的人能使自己的论点或谎话没有漏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9"/>
          <p:cNvSpPr/>
          <p:nvPr/>
        </p:nvSpPr>
        <p:spPr>
          <a:xfrm>
            <a:off x="5465520" y="3809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黑体"/>
                <a:ea typeface="黑体"/>
              </a:rPr>
              <a:t>指两件事物互相配合，互相补充，缺一不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0"/>
          <p:cNvSpPr/>
          <p:nvPr/>
        </p:nvSpPr>
        <p:spPr>
          <a:xfrm>
            <a:off x="5039280" y="44020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黑体"/>
                <a:ea typeface="黑体"/>
              </a:rPr>
              <a:t>形容十分担心或害怕。害怕遭受祸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1561680"/>
            <a:ext cx="8496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宋体"/>
                <a:ea typeface="宋体"/>
              </a:rPr>
              <a:t>一、回顾历史，展望前景。（</a:t>
            </a:r>
            <a:r>
              <a:rPr b="1" lang="en-US" sz="3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1" lang="zh-CN" sz="3400" spc="-1" strike="noStrike">
                <a:solidFill>
                  <a:srgbClr val="0000cc"/>
                </a:solidFill>
                <a:latin typeface="宋体"/>
                <a:ea typeface="宋体"/>
              </a:rPr>
              <a:t>）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d1282e"/>
                </a:solidFill>
                <a:latin typeface="黑体"/>
                <a:ea typeface="黑体"/>
              </a:rPr>
              <a:t>初读课文整体感知，画出思维导图</a:t>
            </a:r>
            <a:endParaRPr b="0" lang="en-US" sz="3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0" name="文本框 84995"/>
          <p:cNvSpPr/>
          <p:nvPr/>
        </p:nvSpPr>
        <p:spPr>
          <a:xfrm>
            <a:off x="152280" y="2544840"/>
            <a:ext cx="348624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二、阐述奥林匹克精神的特点及其精神内涵。（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—7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4996"/>
          <p:cNvSpPr/>
          <p:nvPr/>
        </p:nvSpPr>
        <p:spPr>
          <a:xfrm>
            <a:off x="152280" y="4743360"/>
            <a:ext cx="51339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三、盛赞盛会，憧憬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7-10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5598720" y="2597040"/>
            <a:ext cx="186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和自信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-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包括但又超越一般体育运动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教育意义：改造、教育青年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大众参与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6-7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左大括号 2"/>
          <p:cNvSpPr/>
          <p:nvPr/>
        </p:nvSpPr>
        <p:spPr>
          <a:xfrm>
            <a:off x="3787920" y="2681280"/>
            <a:ext cx="399960" cy="1401840"/>
          </a:xfrm>
          <a:custGeom>
            <a:avLst/>
            <a:gdLst>
              <a:gd name="textAreaLeft" fmla="*/ 255600 w 399960"/>
              <a:gd name="textAreaRight" fmla="*/ 400320 w 399960"/>
              <a:gd name="textAreaTop" fmla="*/ 10440 h 1401840"/>
              <a:gd name="textAreaBottom" fmla="*/ 1391400 h 140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5486400" y="464652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盛赞来宾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祝愿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憧憬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左大括号 9"/>
          <p:cNvSpPr/>
          <p:nvPr/>
        </p:nvSpPr>
        <p:spPr>
          <a:xfrm>
            <a:off x="5086440" y="4676760"/>
            <a:ext cx="399960" cy="1146240"/>
          </a:xfrm>
          <a:custGeom>
            <a:avLst/>
            <a:gdLst>
              <a:gd name="textAreaLeft" fmla="*/ 255600 w 399960"/>
              <a:gd name="textAreaRight" fmla="*/ 400320 w 399960"/>
              <a:gd name="textAreaTop" fmla="*/ 10080 h 1146240"/>
              <a:gd name="textAreaBottom" fmla="*/ 1136160 h 11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4"/>
                  <a:pt x="10800" y="628"/>
                </a:cubicBezTo>
                <a:lnTo>
                  <a:pt x="10800" y="9899"/>
                </a:lnTo>
                <a:cubicBezTo>
                  <a:pt x="10800" y="10213"/>
                  <a:pt x="5400" y="10527"/>
                  <a:pt x="0" y="10527"/>
                </a:cubicBezTo>
                <a:cubicBezTo>
                  <a:pt x="5400" y="10527"/>
                  <a:pt x="10800" y="10841"/>
                  <a:pt x="10800" y="11155"/>
                </a:cubicBezTo>
                <a:lnTo>
                  <a:pt x="10800" y="20972"/>
                </a:lnTo>
                <a:cubicBezTo>
                  <a:pt x="10800" y="2128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19460"/>
          <p:cNvSpPr/>
          <p:nvPr/>
        </p:nvSpPr>
        <p:spPr>
          <a:xfrm>
            <a:off x="395280" y="2276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１、奥林匹克精神与纯粹的竞技精神有何区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9462"/>
          <p:cNvSpPr/>
          <p:nvPr/>
        </p:nvSpPr>
        <p:spPr>
          <a:xfrm>
            <a:off x="1096920" y="7128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理解文章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9469"/>
          <p:cNvSpPr/>
          <p:nvPr/>
        </p:nvSpPr>
        <p:spPr>
          <a:xfrm>
            <a:off x="395280" y="3141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２、“重启奥林匹克时代的原因”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1965960" y="39625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本文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20481"/>
          <p:cNvSpPr/>
          <p:nvPr/>
        </p:nvSpPr>
        <p:spPr>
          <a:xfrm>
            <a:off x="333360" y="3049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１、奥林匹克精神与纯粹的竞技精神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0483"/>
          <p:cNvSpPr/>
          <p:nvPr/>
        </p:nvSpPr>
        <p:spPr>
          <a:xfrm>
            <a:off x="684360" y="22478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但又超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20485"/>
          <p:cNvSpPr/>
          <p:nvPr/>
        </p:nvSpPr>
        <p:spPr>
          <a:xfrm>
            <a:off x="2627280" y="2060640"/>
            <a:ext cx="50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竞技精神：自得其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0486"/>
          <p:cNvSpPr/>
          <p:nvPr/>
        </p:nvSpPr>
        <p:spPr>
          <a:xfrm>
            <a:off x="2666880" y="2857680"/>
            <a:ext cx="59436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奥林匹克精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　　　　　　　　　　　　　　　　　　　　　　　　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494"/>
          <p:cNvSpPr/>
          <p:nvPr/>
        </p:nvSpPr>
        <p:spPr>
          <a:xfrm>
            <a:off x="4067280" y="4227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展示拼搏精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0495"/>
          <p:cNvSpPr/>
          <p:nvPr/>
        </p:nvSpPr>
        <p:spPr>
          <a:xfrm>
            <a:off x="3995640" y="4869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焕发青春激情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0496"/>
          <p:cNvSpPr/>
          <p:nvPr/>
        </p:nvSpPr>
        <p:spPr>
          <a:xfrm>
            <a:off x="4067280" y="557676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精神上的满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0498"/>
          <p:cNvSpPr/>
          <p:nvPr/>
        </p:nvSpPr>
        <p:spPr>
          <a:xfrm>
            <a:off x="611280" y="3573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融合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0499"/>
          <p:cNvSpPr/>
          <p:nvPr/>
        </p:nvSpPr>
        <p:spPr>
          <a:xfrm>
            <a:off x="3940200" y="363060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展示人体的力量美   形体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0500"/>
          <p:cNvSpPr/>
          <p:nvPr/>
        </p:nvSpPr>
        <p:spPr>
          <a:xfrm>
            <a:off x="792000" y="42577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阳光所萦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0501"/>
          <p:cNvSpPr/>
          <p:nvPr/>
        </p:nvSpPr>
        <p:spPr>
          <a:xfrm>
            <a:off x="971640" y="4941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音乐所振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0502"/>
          <p:cNvSpPr/>
          <p:nvPr/>
        </p:nvSpPr>
        <p:spPr>
          <a:xfrm>
            <a:off x="366840" y="54594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育馆所珍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文本框 21506"/>
          <p:cNvSpPr/>
          <p:nvPr/>
        </p:nvSpPr>
        <p:spPr>
          <a:xfrm>
            <a:off x="755640" y="7970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２、“重启奥林匹克时代的原因”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1508"/>
          <p:cNvSpPr/>
          <p:nvPr/>
        </p:nvSpPr>
        <p:spPr>
          <a:xfrm>
            <a:off x="1116000" y="4365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（希望通过体育来改变教育现状，振兴教育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1509"/>
          <p:cNvSpPr/>
          <p:nvPr/>
        </p:nvSpPr>
        <p:spPr>
          <a:xfrm>
            <a:off x="755640" y="21495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了改变“人类渴望进步，但又常常误入歧途。青少年往往为陈旧、复杂的教学方法，愚蠢和严厉相交替的说教以及拙劣肤浅的哲学所束缚而失去平衡”这一现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"/>
          <p:cNvSpPr/>
          <p:nvPr/>
        </p:nvSpPr>
        <p:spPr>
          <a:xfrm>
            <a:off x="2893680" y="6858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本文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2266560" y="2057400"/>
            <a:ext cx="26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站位高，格局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语言庄重、典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658440" y="921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篇课文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04920" y="676440"/>
          <a:ext cx="8458200" cy="5437080"/>
        </p:xfrm>
        <a:graphic>
          <a:graphicData uri="http://schemas.openxmlformats.org/drawingml/2006/table">
            <a:tbl>
              <a:tblPr/>
              <a:tblGrid>
                <a:gridCol w="1447560"/>
                <a:gridCol w="1752840"/>
                <a:gridCol w="1447560"/>
                <a:gridCol w="2362320"/>
                <a:gridCol w="1447920"/>
              </a:tblGrid>
              <a:tr h="714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课     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针  对  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观     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     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思       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语  言 风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《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最后一次讲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《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应有格物致知精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《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我一生中的重要选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《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庆祝奥林匹克运动复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周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矩形 1"/>
          <p:cNvSpPr/>
          <p:nvPr/>
        </p:nvSpPr>
        <p:spPr>
          <a:xfrm>
            <a:off x="5021280" y="1447920"/>
            <a:ext cx="22096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cc"/>
                </a:solidFill>
                <a:latin typeface="黑体"/>
                <a:ea typeface="黑体"/>
              </a:rPr>
              <a:t>先指出暗杀李先生是“历史上最卑劣最无耻的事情”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cc"/>
                </a:solidFill>
                <a:latin typeface="黑体"/>
                <a:ea typeface="黑体"/>
              </a:rPr>
              <a:t>接着揭露反动派的虚弱本质</a:t>
            </a:r>
            <a:r>
              <a:rPr b="1" lang="en-US" sz="10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zh-CN" sz="1000" spc="-1" strike="noStrike">
                <a:solidFill>
                  <a:srgbClr val="0000cc"/>
                </a:solidFill>
                <a:latin typeface="黑体"/>
                <a:ea typeface="黑体"/>
              </a:rPr>
              <a:t>他们自己在恐怖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cc"/>
                </a:solidFill>
                <a:latin typeface="黑体"/>
                <a:ea typeface="黑体"/>
              </a:rPr>
              <a:t>然后指明李公朴牺牲的意义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cc"/>
                </a:solidFill>
                <a:latin typeface="黑体"/>
                <a:ea typeface="黑体"/>
              </a:rPr>
              <a:t>再追述云南人民的光荣斗争史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cc"/>
                </a:solidFill>
                <a:latin typeface="黑体"/>
                <a:ea typeface="黑体"/>
              </a:rPr>
              <a:t>最后表明自己义无反顾，随时以身殉志的斗争决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1763640" y="1641600"/>
            <a:ext cx="17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突发事件：反动派暗杀民主人士李公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1868400" y="2867040"/>
            <a:ext cx="15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现实问题：中国学生学习自然科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5"/>
          <p:cNvSpPr/>
          <p:nvPr/>
        </p:nvSpPr>
        <p:spPr>
          <a:xfrm>
            <a:off x="1936800" y="53244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重要的事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2191680" y="4097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青年的未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/>
          <p:cNvSpPr/>
          <p:nvPr/>
        </p:nvSpPr>
        <p:spPr>
          <a:xfrm>
            <a:off x="5040360" y="2789280"/>
            <a:ext cx="219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黑体"/>
                <a:ea typeface="黑体"/>
              </a:rPr>
              <a:t>提出演讲主题</a:t>
            </a:r>
            <a:r>
              <a:rPr b="1" lang="en-US" sz="16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zh-CN" sz="1600" spc="-1" strike="noStrike">
                <a:solidFill>
                  <a:srgbClr val="0000cc"/>
                </a:solidFill>
                <a:latin typeface="黑体"/>
                <a:ea typeface="黑体"/>
              </a:rPr>
              <a:t>引出“格物致知”内涵和重要性</a:t>
            </a:r>
            <a:r>
              <a:rPr b="1" lang="en-US" sz="16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zh-CN" sz="1600" spc="-1" strike="noStrike">
                <a:solidFill>
                  <a:srgbClr val="0000cc"/>
                </a:solidFill>
                <a:latin typeface="黑体"/>
                <a:ea typeface="黑体"/>
              </a:rPr>
              <a:t>提升演讲的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8"/>
          <p:cNvSpPr/>
          <p:nvPr/>
        </p:nvSpPr>
        <p:spPr>
          <a:xfrm>
            <a:off x="4944960" y="3805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概述，引出话题</a:t>
            </a:r>
            <a:r>
              <a:rPr b="1" lang="en-US" sz="18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大力扶植年轻人</a:t>
            </a:r>
            <a:r>
              <a:rPr b="1" lang="en-US" sz="18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提出希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5054760" y="4770360"/>
            <a:ext cx="2162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黑体"/>
                <a:ea typeface="黑体"/>
              </a:rPr>
              <a:t>回顾历史，展望前景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1600" spc="-1" strike="noStrike">
                <a:solidFill>
                  <a:srgbClr val="0000cc"/>
                </a:solidFill>
                <a:latin typeface="黑体"/>
                <a:ea typeface="黑体"/>
              </a:rPr>
              <a:t>阐述奥林匹克精神的特点及其精神内涵</a:t>
            </a:r>
            <a:r>
              <a:rPr b="1" lang="en-US" sz="1600" spc="-1" strike="noStrike">
                <a:solidFill>
                  <a:srgbClr val="0000cc"/>
                </a:solidFill>
                <a:latin typeface="黑体"/>
                <a:ea typeface="黑体"/>
              </a:rPr>
              <a:t>——</a:t>
            </a:r>
            <a:r>
              <a:rPr b="1" lang="zh-CN" sz="1600" spc="-1" strike="noStrike">
                <a:solidFill>
                  <a:srgbClr val="0000cc"/>
                </a:solidFill>
                <a:latin typeface="黑体"/>
                <a:ea typeface="黑体"/>
              </a:rPr>
              <a:t>盛赞盛会，憧憬未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0"/>
          <p:cNvSpPr/>
          <p:nvPr/>
        </p:nvSpPr>
        <p:spPr>
          <a:xfrm>
            <a:off x="3448080" y="16477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声讨反动派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赞扬烈士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呼唤斗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1"/>
          <p:cNvSpPr/>
          <p:nvPr/>
        </p:nvSpPr>
        <p:spPr>
          <a:xfrm>
            <a:off x="3521160" y="295416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视实验精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2"/>
          <p:cNvSpPr/>
          <p:nvPr/>
        </p:nvSpPr>
        <p:spPr>
          <a:xfrm>
            <a:off x="3551400" y="39909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力扶植年轻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3513240" y="5048280"/>
            <a:ext cx="15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奥林匹克运动精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7660080" y="1905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慷慨激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5"/>
          <p:cNvSpPr/>
          <p:nvPr/>
        </p:nvSpPr>
        <p:spPr>
          <a:xfrm>
            <a:off x="765684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准确严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6"/>
          <p:cNvSpPr/>
          <p:nvPr/>
        </p:nvSpPr>
        <p:spPr>
          <a:xfrm>
            <a:off x="7518960" y="4083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风趣幽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7"/>
          <p:cNvSpPr/>
          <p:nvPr/>
        </p:nvSpPr>
        <p:spPr>
          <a:xfrm>
            <a:off x="7656840" y="5151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庄重典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>
            <a:off x="533520" y="625320"/>
            <a:ext cx="359064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"/>
          <p:cNvPicPr/>
          <p:nvPr/>
        </p:nvPicPr>
        <p:blipFill>
          <a:blip r:embed="rId2"/>
          <a:stretch/>
        </p:blipFill>
        <p:spPr>
          <a:xfrm>
            <a:off x="503280" y="3532320"/>
            <a:ext cx="364968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" descr=""/>
          <p:cNvPicPr/>
          <p:nvPr/>
        </p:nvPicPr>
        <p:blipFill>
          <a:blip r:embed="rId3"/>
          <a:stretch/>
        </p:blipFill>
        <p:spPr>
          <a:xfrm>
            <a:off x="4594320" y="625320"/>
            <a:ext cx="402732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" descr=""/>
          <p:cNvPicPr/>
          <p:nvPr/>
        </p:nvPicPr>
        <p:blipFill>
          <a:blip r:embed="rId4"/>
          <a:stretch/>
        </p:blipFill>
        <p:spPr>
          <a:xfrm>
            <a:off x="4280040" y="3371760"/>
            <a:ext cx="4484520" cy="244476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"/>
          <p:cNvSpPr/>
          <p:nvPr/>
        </p:nvSpPr>
        <p:spPr>
          <a:xfrm>
            <a:off x="3407040" y="59832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2016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里约奥运会精彩瞬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宋体"/>
                <a:ea typeface="宋体"/>
              </a:rPr>
              <a:t>2008</a:t>
            </a:r>
            <a:r>
              <a:rPr b="1" lang="zh-CN" sz="4200" spc="-1" strike="noStrike">
                <a:solidFill>
                  <a:srgbClr val="ff0000"/>
                </a:solidFill>
                <a:latin typeface="宋体"/>
                <a:ea typeface="宋体"/>
              </a:rPr>
              <a:t>年北京奥运会徽</a:t>
            </a:r>
            <a:endParaRPr b="0" lang="en-US" sz="4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45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宋体"/>
                <a:ea typeface="宋体"/>
              </a:rPr>
              <a:t>2003</a:t>
            </a:r>
            <a:r>
              <a:rPr b="1" lang="zh-CN" sz="2600" spc="-1" strike="noStrike">
                <a:solidFill>
                  <a:srgbClr val="0000cc"/>
                </a:solidFill>
                <a:latin typeface="宋体"/>
                <a:ea typeface="宋体"/>
              </a:rPr>
              <a:t>年</a:t>
            </a:r>
            <a:r>
              <a:rPr b="1" lang="en-US" sz="2600" spc="-1" strike="noStrike">
                <a:solidFill>
                  <a:srgbClr val="0000cc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cc"/>
                </a:solidFill>
                <a:latin typeface="宋体"/>
                <a:ea typeface="宋体"/>
              </a:rPr>
              <a:t>月</a:t>
            </a:r>
            <a:r>
              <a:rPr b="1" lang="en-US" sz="2600" spc="-1" strike="noStrike">
                <a:solidFill>
                  <a:srgbClr val="0000cc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cc"/>
                </a:solidFill>
                <a:latin typeface="宋体"/>
                <a:ea typeface="宋体"/>
              </a:rPr>
              <a:t>日，北京</a:t>
            </a:r>
            <a:r>
              <a:rPr b="1" lang="en-US" sz="2600" spc="-1" strike="noStrike">
                <a:solidFill>
                  <a:srgbClr val="0000cc"/>
                </a:solidFill>
                <a:latin typeface="宋体"/>
                <a:ea typeface="宋体"/>
              </a:rPr>
              <a:t>2008</a:t>
            </a:r>
            <a:r>
              <a:rPr b="1" lang="zh-CN" sz="2600" spc="-1" strike="noStrike">
                <a:solidFill>
                  <a:srgbClr val="0000cc"/>
                </a:solidFill>
                <a:latin typeface="宋体"/>
                <a:ea typeface="宋体"/>
              </a:rPr>
              <a:t>年奥林匹克运动会会徽“中国印</a:t>
            </a:r>
            <a:r>
              <a:rPr b="1" lang="en-US" sz="2600" spc="-1" strike="noStrike">
                <a:solidFill>
                  <a:srgbClr val="0000cc"/>
                </a:solidFill>
                <a:latin typeface="宋体"/>
                <a:ea typeface="宋体"/>
              </a:rPr>
              <a:t>·</a:t>
            </a:r>
            <a:r>
              <a:rPr b="1" lang="zh-CN" sz="2600" spc="-1" strike="noStrike">
                <a:solidFill>
                  <a:srgbClr val="0000cc"/>
                </a:solidFill>
                <a:latin typeface="宋体"/>
                <a:ea typeface="宋体"/>
              </a:rPr>
              <a:t>舞动的北京”在北京天坛向全球正式发布。会徽以中国传统文化印章为载体，主体为大红底色的白色“京”字图形，变化为一个向前奔跑，迎接胜利的运动人形。印章由和田玉精雕而成，第一张正式的会徽在中国宣纸上印出，将中华璀璨文化与奥运有机的结合起来。在今后的几年中，“京”字将成为世界上最广为人知的汉字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联机映像占位符 75779" descr="u=832424002,3679750510&amp;gp=1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975280" y="1600200"/>
            <a:ext cx="3168720" cy="4530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73729" descr="tywy-xuhaifeng"/>
          <p:cNvPicPr/>
          <p:nvPr/>
        </p:nvPicPr>
        <p:blipFill>
          <a:blip r:embed="rId1"/>
          <a:stretch/>
        </p:blipFill>
        <p:spPr>
          <a:xfrm>
            <a:off x="5724360" y="771480"/>
            <a:ext cx="3048120" cy="26352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73730" descr="u=458908133,2648126192&amp;gp=3"/>
          <p:cNvPicPr/>
          <p:nvPr/>
        </p:nvPicPr>
        <p:blipFill>
          <a:blip r:embed="rId2"/>
          <a:stretch/>
        </p:blipFill>
        <p:spPr>
          <a:xfrm>
            <a:off x="304920" y="838080"/>
            <a:ext cx="3657600" cy="37674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73731" descr="u=3948144266,3326017798&amp;gp=1"/>
          <p:cNvPicPr/>
          <p:nvPr/>
        </p:nvPicPr>
        <p:blipFill>
          <a:blip r:embed="rId3"/>
          <a:stretch/>
        </p:blipFill>
        <p:spPr>
          <a:xfrm>
            <a:off x="6369120" y="3759120"/>
            <a:ext cx="1758960" cy="2286000"/>
          </a:xfrm>
          <a:prstGeom prst="rect">
            <a:avLst/>
          </a:prstGeom>
          <a:ln w="0">
            <a:noFill/>
          </a:ln>
        </p:spPr>
      </p:pic>
      <p:sp>
        <p:nvSpPr>
          <p:cNvPr id="231" name="矩形 73733"/>
          <p:cNvSpPr txBox="1"/>
          <p:nvPr/>
        </p:nvSpPr>
        <p:spPr>
          <a:xfrm>
            <a:off x="828720" y="429264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国奥运第一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2" name="文本框 73734"/>
          <p:cNvSpPr/>
          <p:nvPr/>
        </p:nvSpPr>
        <p:spPr>
          <a:xfrm>
            <a:off x="1490760" y="5526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纪念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矩形 73735" descr=""/>
          <p:cNvPicPr/>
          <p:nvPr/>
        </p:nvPicPr>
        <p:blipFill>
          <a:blip r:embed="rId4"/>
          <a:stretch/>
        </p:blipFill>
        <p:spPr>
          <a:xfrm>
            <a:off x="4632480" y="1676520"/>
            <a:ext cx="8413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43009" descr="1"/>
          <p:cNvPicPr/>
          <p:nvPr/>
        </p:nvPicPr>
        <p:blipFill>
          <a:blip r:embed="rId1"/>
          <a:stretch/>
        </p:blipFill>
        <p:spPr>
          <a:xfrm>
            <a:off x="52560" y="604800"/>
            <a:ext cx="3490920" cy="416232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43011"/>
          <p:cNvSpPr/>
          <p:nvPr/>
        </p:nvSpPr>
        <p:spPr>
          <a:xfrm>
            <a:off x="361800" y="4886280"/>
            <a:ext cx="266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高难度技术动作失败，张丹落地时重重地摔在冰面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膝盖受伤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内容占位符 47106" descr="3"/>
          <p:cNvPicPr/>
          <p:nvPr/>
        </p:nvPicPr>
        <p:blipFill>
          <a:blip r:embed="rId2"/>
          <a:stretch/>
        </p:blipFill>
        <p:spPr>
          <a:xfrm>
            <a:off x="3905280" y="604800"/>
            <a:ext cx="5238720" cy="336240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47108"/>
          <p:cNvSpPr/>
          <p:nvPr/>
        </p:nvSpPr>
        <p:spPr>
          <a:xfrm>
            <a:off x="3701880" y="4351320"/>
            <a:ext cx="50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几分钟后，二人重返赛场，重新完成了一系列的高难度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两人的每一次滑行和动作都打动了在场的观众，观众们对他们报以热烈的掌声和欢呼声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98305" descr="刘翔"/>
          <p:cNvPicPr/>
          <p:nvPr/>
        </p:nvPicPr>
        <p:blipFill>
          <a:blip r:embed="rId1"/>
          <a:stretch/>
        </p:blipFill>
        <p:spPr>
          <a:xfrm>
            <a:off x="95400" y="636480"/>
            <a:ext cx="7062480" cy="558504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98306"/>
          <p:cNvSpPr/>
          <p:nvPr/>
        </p:nvSpPr>
        <p:spPr>
          <a:xfrm>
            <a:off x="6495120" y="1179360"/>
            <a:ext cx="20091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跨      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片 100353" descr="女排"/>
          <p:cNvPicPr/>
          <p:nvPr/>
        </p:nvPicPr>
        <p:blipFill>
          <a:blip r:embed="rId1"/>
          <a:stretch/>
        </p:blipFill>
        <p:spPr>
          <a:xfrm>
            <a:off x="52560" y="573120"/>
            <a:ext cx="7437240" cy="589284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100354"/>
          <p:cNvSpPr/>
          <p:nvPr/>
        </p:nvSpPr>
        <p:spPr>
          <a:xfrm>
            <a:off x="7580880" y="1413000"/>
            <a:ext cx="10947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拼      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118785" descr="olym3"/>
          <p:cNvPicPr/>
          <p:nvPr/>
        </p:nvPicPr>
        <p:blipFill>
          <a:blip r:embed="rId1"/>
          <a:stretch/>
        </p:blipFill>
        <p:spPr>
          <a:xfrm>
            <a:off x="79200" y="542880"/>
            <a:ext cx="4658040" cy="588816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18786" descr="20061225174800357816"/>
          <p:cNvPicPr/>
          <p:nvPr/>
        </p:nvPicPr>
        <p:blipFill>
          <a:blip r:embed="rId2"/>
          <a:stretch/>
        </p:blipFill>
        <p:spPr>
          <a:xfrm>
            <a:off x="4724280" y="573120"/>
            <a:ext cx="44071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92169" descr="奥运场馆效果图10"/>
          <p:cNvPicPr/>
          <p:nvPr/>
        </p:nvPicPr>
        <p:blipFill>
          <a:blip r:embed="rId1"/>
          <a:stretch/>
        </p:blipFill>
        <p:spPr>
          <a:xfrm>
            <a:off x="419040" y="654120"/>
            <a:ext cx="8305920" cy="576252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107521"/>
          <p:cNvSpPr/>
          <p:nvPr/>
        </p:nvSpPr>
        <p:spPr>
          <a:xfrm>
            <a:off x="1035000" y="961920"/>
            <a:ext cx="727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多少次挥汗如雨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伤痛曾填满记忆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只因为始终相信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去拼搏才能胜利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总是在鼓舞自己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要成功就得努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热血在赛场沸腾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巨人在东方升起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相信自己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你将赢得胜利创造奇迹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相信自己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梦想在你手中这是你的天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07523"/>
          <p:cNvSpPr/>
          <p:nvPr/>
        </p:nvSpPr>
        <p:spPr>
          <a:xfrm>
            <a:off x="6868440" y="1682640"/>
            <a:ext cx="7898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相信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1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3" dur="1" fill="hold"/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1619280" y="10508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"/>
          <p:cNvPicPr/>
          <p:nvPr/>
        </p:nvPicPr>
        <p:blipFill>
          <a:blip r:embed="rId2"/>
          <a:stretch/>
        </p:blipFill>
        <p:spPr>
          <a:xfrm>
            <a:off x="4667400" y="1050840"/>
            <a:ext cx="36846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3" descr=""/>
          <p:cNvPicPr/>
          <p:nvPr/>
        </p:nvPicPr>
        <p:blipFill>
          <a:blip r:embed="rId3"/>
          <a:stretch/>
        </p:blipFill>
        <p:spPr>
          <a:xfrm>
            <a:off x="1619280" y="33368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4" descr=""/>
          <p:cNvPicPr/>
          <p:nvPr/>
        </p:nvPicPr>
        <p:blipFill>
          <a:blip r:embed="rId4"/>
          <a:stretch/>
        </p:blipFill>
        <p:spPr>
          <a:xfrm>
            <a:off x="4667400" y="3336840"/>
            <a:ext cx="3684600" cy="2286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5"/>
          <p:cNvSpPr/>
          <p:nvPr/>
        </p:nvSpPr>
        <p:spPr>
          <a:xfrm>
            <a:off x="3317040" y="582300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2008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年北京奥运会精彩瞬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23907"/>
          <p:cNvSpPr/>
          <p:nvPr/>
        </p:nvSpPr>
        <p:spPr>
          <a:xfrm>
            <a:off x="603360" y="8082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国际奥委会成立于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894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年，总部设在巴黎。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914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年第一次世界大战爆发，为了避免战火的洗劫，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日总部迁入瑞士一个有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国际文化城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之称的洛桑。这里有奥林匹克博物馆，奥林匹克研究中心，还有以顾拜旦名字命名的大街，体育场，等等。数十年来，洛桑为奥林匹克运动的发展，作出了重大贡献，无怪乎有人将洛桑称为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奥林匹克城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。国际奥委会也是在这个美好的城市逐渐发展、壮大而闻名于世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标题 71681"/>
          <p:cNvSpPr/>
          <p:nvPr/>
        </p:nvSpPr>
        <p:spPr>
          <a:xfrm>
            <a:off x="258840" y="297000"/>
            <a:ext cx="2873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等线"/>
                <a:ea typeface="等线"/>
              </a:rPr>
              <a:t>奥林匹克格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1066680" y="4116240"/>
            <a:ext cx="67690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26979"/>
          <p:cNvSpPr/>
          <p:nvPr/>
        </p:nvSpPr>
        <p:spPr>
          <a:xfrm>
            <a:off x="4648320" y="457200"/>
            <a:ext cx="433692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会旗从左至右为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天蓝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黄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黑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绿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红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五种颜色</a:t>
            </a:r>
            <a:r>
              <a:rPr b="1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原来是概括各国国旗的颜色</a:t>
            </a:r>
            <a:r>
              <a:rPr b="1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,1979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年又解释为</a:t>
            </a:r>
            <a:r>
              <a:rPr b="1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:“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象征着五大洲的团结”</a:t>
            </a:r>
            <a:r>
              <a:rPr b="1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更进一步的说明是</a:t>
            </a:r>
            <a:r>
              <a:rPr b="1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黄色代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亚洲</a:t>
            </a:r>
            <a:r>
              <a:rPr b="1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绿色代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欧洲</a:t>
            </a:r>
            <a:r>
              <a:rPr b="1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红色代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美洲</a:t>
            </a:r>
            <a:r>
              <a:rPr b="1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天蓝色代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大洋洲</a:t>
            </a:r>
            <a:r>
              <a:rPr b="1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黑色代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非洲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7640" y="30240"/>
            <a:ext cx="4249440" cy="3571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-9360" y="3733920"/>
            <a:ext cx="4276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02401"/>
          <p:cNvSpPr/>
          <p:nvPr/>
        </p:nvSpPr>
        <p:spPr>
          <a:xfrm>
            <a:off x="369720" y="363600"/>
            <a:ext cx="6120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奥运会主题口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02402"/>
          <p:cNvSpPr/>
          <p:nvPr/>
        </p:nvSpPr>
        <p:spPr>
          <a:xfrm>
            <a:off x="488880" y="1411200"/>
            <a:ext cx="849636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1984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洛杉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；参与历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1988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汉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： 和谐、进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1992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巴塞罗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： 永远的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1996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亚特兰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： 世纪庆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2000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悉尼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分享奥林匹克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2004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年 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雅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： 欢迎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2008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年 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北京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ne world, one dream!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一世界，同一梦想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2012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伦敦：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nspire a generation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激励一代人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2016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里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点燃你的激情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Live your pa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94209" descr="奥运图片6"/>
          <p:cNvPicPr/>
          <p:nvPr/>
        </p:nvPicPr>
        <p:blipFill>
          <a:blip r:embed="rId1"/>
          <a:stretch/>
        </p:blipFill>
        <p:spPr>
          <a:xfrm>
            <a:off x="73080" y="620640"/>
            <a:ext cx="4325760" cy="58294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94210" descr="顾拜旦"/>
          <p:cNvPicPr/>
          <p:nvPr/>
        </p:nvPicPr>
        <p:blipFill>
          <a:blip r:embed="rId2"/>
          <a:stretch/>
        </p:blipFill>
        <p:spPr>
          <a:xfrm>
            <a:off x="4398840" y="620640"/>
            <a:ext cx="4692600" cy="5829480"/>
          </a:xfrm>
          <a:prstGeom prst="rect">
            <a:avLst/>
          </a:prstGeom>
          <a:ln w="0">
            <a:noFill/>
          </a:ln>
        </p:spPr>
      </p:pic>
      <p:pic>
        <p:nvPicPr>
          <p:cNvPr id="158" name="文本框 1" descr=""/>
          <p:cNvPicPr/>
          <p:nvPr/>
        </p:nvPicPr>
        <p:blipFill>
          <a:blip r:embed="rId3"/>
          <a:stretch/>
        </p:blipFill>
        <p:spPr>
          <a:xfrm>
            <a:off x="274680" y="5694480"/>
            <a:ext cx="44067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78852"/>
          <p:cNvSpPr/>
          <p:nvPr/>
        </p:nvSpPr>
        <p:spPr>
          <a:xfrm>
            <a:off x="1413000" y="646200"/>
            <a:ext cx="555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8855"/>
          <p:cNvSpPr/>
          <p:nvPr/>
        </p:nvSpPr>
        <p:spPr>
          <a:xfrm>
            <a:off x="380880" y="1917720"/>
            <a:ext cx="8520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c201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顾拜旦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现代奥林匹克运动创始人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、史学家。出生于法国巴黎贵族家庭。青年时喜爱古希腊史，对后来将毕生精力贡献给奥林匹克运动有很大影响。１８９３年，为了恢复奥运会，他在巴黎召开了第一次国际体育会议。１８９４年６月，他再次在巴黎召开了国际体育会议。会议决定成立有１２个成员国组成的国际奥林匹克委员会，并选出了希腊诗人泽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维凯拉斯为委员会主席，顾拜旦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秘书长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。会议还做出决定，将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１８９６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年在希腊首都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雅典举行第１届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现代奥林匹克运动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"/>
          <p:cNvSpPr/>
          <p:nvPr/>
        </p:nvSpPr>
        <p:spPr>
          <a:xfrm>
            <a:off x="365040" y="41760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现代奥运会的奠基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皮埃尔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德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顾拜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本框 79875"/>
          <p:cNvSpPr/>
          <p:nvPr/>
        </p:nvSpPr>
        <p:spPr>
          <a:xfrm>
            <a:off x="490680" y="960480"/>
            <a:ext cx="76327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1896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1925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年任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际奥委会主席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。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1925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年后任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终身名誉主席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。任职期间，对奥林匹克运动的发展作出了重要贡献。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1912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年斯德哥尔摩奥运会时，针对当时体育竞赛中的种种弊端，发表了著名诗作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体育颂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，获该届奥运会文艺赛金质奖章。另著有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运动心理学试验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1913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）和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竞技运动教育学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1919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）等。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1937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日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病逝于日内瓦，其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遗体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葬在国际奥委会总部所在地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洛桑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心脏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则埋在奥林匹克运动发源地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奥林匹克亚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07:28:58Z</dcterms:created>
  <dc:creator>Administrator</dc:creator>
  <dc:description/>
  <dc:language>en-US</dc:language>
  <cp:lastModifiedBy>admin</cp:lastModifiedBy>
  <dcterms:modified xsi:type="dcterms:W3CDTF">2018-04-23T01:01:23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