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A37-1B3F-419B-8CEB-B37BD685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6B7-78C4-4064-B7CA-F38E3EE7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E8B-59C5-4566-ADB0-7142733C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23E-6308-48F8-A3FD-58B7408A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02A-E6AA-4EF4-9D43-EFFDA09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88A-F12F-42AC-9804-35A82597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65A-A754-4DEF-B434-FD5B0D7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397-4BA0-4794-B927-68B4A56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B1F-3028-4FD1-9153-7B86F85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274-5C87-4679-8ABA-2D0B852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7B1-0E08-4329-9C76-C331664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DAB-E155-4E93-9378-7A07585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F5EB-BC77-4262-AC9C-03397A37C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%20背景素材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4760" y="23623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齐人有一妻一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38862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段是故事的结局，写了哪两方面的内容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312408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妻妾的羞惭愤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齐人恬不知耻的丑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如果结尾改为齐人一到家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就被妻妾揭穿真相，臭骂一顿，</a:t>
            </a:r>
            <a:br>
              <a:rPr sz="4400"/>
            </a:b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这样改好不好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986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不好。让齐人浑然不觉，自己蒙在鼓里却还以为别人被自己蒙在鼓里，兴冲冲地继续吹嘘夸耀，这就产生出强烈的戏剧效果，增强了讽刺性。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%20背景素材5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%20背景素材5" descr="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黑体"/>
                <a:ea typeface="黑体"/>
              </a:rPr>
              <a:t>你 认 为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现实生活中有这样的“齐人”吗？</a:t>
            </a: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1337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：生活中未必有这样的人物，但不能否定在求取财富与地位等生活大事时，没有人做与“齐人”一样的勾当。作者的是非价值标准依附在正面或反面人物的身上，在对主人公或褒或贬的叙述和描绘中，作者站在了最前端，并将指斥的矛头从寓言故事中伸出来，瞄准了许许多多有类似问题的社会中人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沙漠劲旅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本文为何能产生强烈的讽刺效果？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Times New Roman"/>
                <a:ea typeface="黑体"/>
              </a:rPr>
              <a:t>一是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齐人坟场“乞”与妻妾面前“骄”的行为对比，是真相与表象的对比。通过对比，人物内在品格的委琐与外表的庄重自足形成强烈的反差，达到了美学上的滑稽效果，形成了尖锐的讽刺。</a:t>
            </a:r>
            <a:r>
              <a:rPr b="1" lang="zh-CN" sz="4500" spc="-1" strike="noStrike">
                <a:solidFill>
                  <a:srgbClr val="cc0000"/>
                </a:solidFill>
                <a:latin typeface="Times New Roman"/>
                <a:ea typeface="黑体"/>
              </a:rPr>
              <a:t>二是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妻妾与齐人人生准则的对比。是两种道德标准的对比和冲撞，揭露了齐人的丑态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底版2" descr=""/>
          <p:cNvPicPr/>
          <p:nvPr/>
        </p:nvPicPr>
        <p:blipFill>
          <a:blip r:embed="rId1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914400"/>
            <a:ext cx="60958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齐乞何能有妾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邻家安可日攘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当时尚有周天子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何事纷纷说魏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7847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东邪黄药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32640" y="2057400"/>
            <a:ext cx="2009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说说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盈之曰：“什一，去关市之征，今兹未能。请轻之，以待来年然后已，何如？”孟子曰：“今有人日攘其邻之鸡者，或告之曰：‘是非君子之道。’曰：‘请损之，月攘一鸡，以待来年然后已。’──如知其非义，斯速已矣，何待来年？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宋国大夫戴盈之说：“税率十分抽一，免除关卡和市场的赋税，今年还办不到，先减轻一些，等到下年然后实行，怎么样？”孟子说：“现在有个每天偷邻居一只鸡的人，有人告诉他说：‘这不是君子的行为。’他便说：‘预备减少一些，先每个月偷一只，等到下年就完全不偷了。’如果知道这种行为不正当，便应赶快停止下来，为什么要等到下年呢？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弈秋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        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通国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之善弈者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使弈秋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诲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二人弈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惟弈秋之为听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鸿鹄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                               思援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缴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而射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为是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其智弗若与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非然也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弈，下围棋。秋，人名。因善于下围棋，所以叫“弈秋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981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523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全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76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教导、指导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完全按照老师说的去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800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天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46767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zhuó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系在箭上的生丝线。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338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为，因为。是，这个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6324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不是这样。然，这样。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81760" y="0"/>
            <a:ext cx="4062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字词检测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5400000">
            <a:off x="-1371240" y="304776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译文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68580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弈秋是全国著名的下棋高手，让他同时教两个人下棋，其中一个人聚精会神，一心只听从弈秋的教导。另一个人虽然表面上也在听，实际上却一心想着有只天鹅将要飞来，想拿弓箭去射它。这样学下棋，尽管和前一个人一起学，成绩肯定赶不上人家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个人的智慧不如那个人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说，不是这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05520" y="541008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《弈秋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85800"/>
            <a:ext cx="9144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Times New Roman"/>
              </a:rPr>
              <a:t>熟读课文，完成下列两题。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43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.  这两则寓言的寓意各是什么？</a:t>
            </a:r>
            <a:r>
              <a:rPr b="1" lang="zh-CN" sz="43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   2.  结合这两则寓言，说说《孟子》幽默风趣的语言特色。</a:t>
            </a:r>
            <a:r>
              <a:rPr b="0" lang="zh-CN" sz="43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143000"/>
            <a:ext cx="80769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《齐人有一妻一妾》讽刺官场中那种不顾礼义廉耻，以卑鄙的手段钻营富贵利达的人，揭露他们丑恶的灵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《弈秋》说明学习要专心致志，不要一心二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%20背景素材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362320" y="1143000"/>
            <a:ext cx="57909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良人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则必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餍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酒肉而后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反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则尽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富贵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也    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瞷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良人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之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所之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蚤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起          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施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从良人之所之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国中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     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此其为餍足之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道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也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与其妾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讪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其良人  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施施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从外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33520"/>
            <a:ext cx="86104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这两篇寓言故事在《孟子》原文里，都是孟子在论辩的时候用来作为论据出现的，有力地证明了自己的观点。故事中的“齐人”和“一心以为有鸿鹄将至”者，都是作者嘲讽的对象，使得作品幽默风趣。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cc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5767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辨析下列多义词的义项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1932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祭者，乞其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此其为餍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道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而良人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知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 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弈秋，通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善弈者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8590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动词，往，到……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200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助词，相当于“的”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572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代词，指妻子已侦察到丈夫“餍足之道”的真相这件事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6248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助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320"/>
            <a:ext cx="914400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蚤起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良人之所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施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外来，骄其妻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仁义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攻守之势异也（《六国论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妾不堪驱使，徒留无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《孔雀东南飞》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762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读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í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通“迤”，逶迤斜行，这里指暗中跟踪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读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í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í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，喜悦自得的样子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343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动词，实行、施行。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5486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动词，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之东郭墦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信臣精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陈利兵而谁何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《过秦论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初，鲁肃闻刘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《赤壁之战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　　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然问曰：“天下恶乎定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?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838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副词，终于、最后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名词，兵卒。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45720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动词，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6095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名词，兵卒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萨瓦纳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81240" y="304920"/>
            <a:ext cx="21913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孟子是棵大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%20背景素材1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335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齐国有个人和一妻一妾共同生活。丈夫每次外出，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吃饱喝足才回家。妻子问跟他一起吃饭的都是些什么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他就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都是有钱有地位的人。妻子对妾说：“丈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每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出去，都是酒醉饭饱才回家，问是谁跟他在一起吃喝，都是有钱有地位的人。可是，从来也不曾见有显贵体面的人到家里来。我要暗中看看他到底去什么地方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%20背景素材1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094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清早起来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妻子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便拐弯抹角地跟踪丈夫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走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整个都城，没有谁停下来与他打招呼交谈。最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走到东门城外的坟墓中间，向那些扫墓的人乞讨残羹剩饭。不够，又四下里看看，到别的扫墓人那里。这就是他天天酒醉饭饱的方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193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在本段文字后，原文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有一句话：“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由君子观之，则人之所以求富贵利达者，其妻妾不羞也而不相泣者，几希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！”试翻译这句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625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译文</a:t>
            </a:r>
            <a:r>
              <a:rPr b="0" lang="zh-CN" sz="4600" spc="-1" strike="noStrike">
                <a:solidFill>
                  <a:srgbClr val="000000"/>
                </a:solidFill>
                <a:latin typeface="宋体"/>
              </a:rPr>
              <a:t>：在君子看来，有些人所用的追求升官发财办法，不让他们的大、小老婆认为羞耻并相对哭泣的，真少啦！</a:t>
            </a: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%20背景素材1%20" descr="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0920" y="114264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问题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85800"/>
            <a:ext cx="7315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认为文中哪些词语用得漂亮？</a:t>
            </a:r>
            <a:r>
              <a:rPr b="1" lang="zh-CN" sz="41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5334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则必餍酒肉而后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321000"/>
            <a:ext cx="6248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其妻问所与饮食者，则尽富贵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92600"/>
            <a:ext cx="6096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遍国中无与立谈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段是故事的发生和发展。其中“</a:t>
            </a: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良人出，则必餍酒肉而后反；问其与饮食者，尽富贵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”重复了一遍，为什么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495680"/>
            <a:ext cx="8686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突出这一现象，显示其不同一般，令人生疑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320" y="1614600"/>
            <a:ext cx="8762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哪一句点出了齐人可疑的关键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而未尝有显者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%20背景素材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段是故事的高潮，揭示了齐人的本来面目。他本来是怎样的一个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6252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社会地位低下，不与任何人交往，是一个不知廉耻的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宋体"/>
              </a:rPr>
              <a:t>乞丐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0:02:41Z</dcterms:created>
  <dc:creator>陈宝祥</dc:creator>
  <dc:description/>
  <dc:language>en-US</dc:language>
  <cp:lastModifiedBy>陈宝祥</cp:lastModifiedBy>
  <dcterms:modified xsi:type="dcterms:W3CDTF">2004-08-17T04:37:10Z</dcterms:modified>
  <cp:revision>4</cp:revision>
  <dc:subject/>
  <dc:title>PowerPoint 演示文稿</dc:title>
</cp:coreProperties>
</file>