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48C5-DFD2-4D06-A457-C5E00466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4B6-E20F-4A52-94E4-53614D65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438D-BA3C-4AE9-971D-5A682020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36F0-555F-4678-88EC-DD9C063D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AC95-7E4E-4BC2-83D5-64334EBE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9D59-0791-4901-9ACD-6E2D41F8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56ED-6B9C-430D-9038-DB5C6B4F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1914-34A7-4478-AC84-A0A44188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5193-8F63-47A0-941C-6BC131FE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5264-1B9D-4328-93A4-F96BD636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C66E-C406-4F2D-9558-CF8AADD1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430F-1016-476D-9826-3F370255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5CF9-7DF6-447E-A774-D352E395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79BD-FDD3-4DA9-8777-BA3747CC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D211-5848-4384-BCE0-CB74A7D8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BB11-49AB-4A99-B220-77DCA24D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A70B-8A3A-4488-B1AE-ABA74F01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FBFA-80EA-4DAD-B421-6EC830FE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F7C-563B-424B-9064-1B4A8B83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A291-9B18-4462-BE66-2099AB3A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244E-6CFC-4A95-96C4-1CFA6226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33C-DEDB-457F-A00E-9012EC58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B79-88D9-4C8C-B3BB-B58ADF8D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D46-1E9F-4D58-B5FC-30A3C0B7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F4A4-8659-434C-8C3C-8E7F246D72EC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27C8-2D6E-4EBD-9C30-ADB70C7142EF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1125360"/>
            <a:ext cx="590544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66ff"/>
                </a:solidFill>
                <a:latin typeface="Arial"/>
                <a:ea typeface="华文行楷"/>
              </a:rPr>
              <a:t>齐人有一妻一妾</a:t>
            </a:r>
            <a:endParaRPr b="0" lang="en-US" sz="8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51640" y="3500280"/>
            <a:ext cx="1800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Arial"/>
                <a:ea typeface="华文行楷"/>
              </a:rPr>
              <a:t>孟子</a:t>
            </a:r>
            <a:endParaRPr b="0" lang="en-US" sz="6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56360" y="6093000"/>
            <a:ext cx="93672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40720" y="5300640"/>
            <a:ext cx="360360" cy="504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2349360"/>
            <a:ext cx="9144000" cy="3527640"/>
            <a:chOff x="0" y="2349360"/>
            <a:chExt cx="9144000" cy="3527640"/>
          </a:xfrm>
        </p:grpSpPr>
        <p:sp>
          <p:nvSpPr>
            <p:cNvPr id="87" name=""/>
            <p:cNvSpPr/>
            <p:nvPr/>
          </p:nvSpPr>
          <p:spPr>
            <a:xfrm>
              <a:off x="0" y="2349360"/>
              <a:ext cx="9144000" cy="352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7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3366ff"/>
                  </a:solidFill>
                  <a:latin typeface="Times New Roman"/>
                </a:rPr>
                <a:t>音正句读。然后齐声朗读课文</a:t>
              </a:r>
              <a:r>
                <a:rPr b="0" lang="zh-CN" sz="4800" spc="-1" strike="noStrike">
                  <a:solidFill>
                    <a:srgbClr val="007a77"/>
                  </a:solidFill>
                  <a:latin typeface="Times New Roman"/>
                </a:rPr>
                <a:t>。 </a:t>
              </a:r>
              <a:endParaRPr b="0" lang="en-US" sz="48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7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7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7a77"/>
                  </a:solidFill>
                  <a:latin typeface="Times New Roman"/>
                </a:rPr>
                <a:t>瞷（       ）   墦（    ）   </a:t>
              </a:r>
              <a:endParaRPr b="0" lang="en-US" sz="48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7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7a77"/>
                  </a:solidFill>
                  <a:latin typeface="Times New Roman"/>
                </a:rPr>
                <a:t>讪（       ）   施（    ）从良人 </a:t>
              </a:r>
              <a:endParaRPr b="0" lang="en-US" sz="48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7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2349360"/>
              <a:ext cx="9144000" cy="35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404720" y="3716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jiàn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02520" y="37162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fán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89080" y="450864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shàn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8520" y="450864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yí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900000" y="1125360"/>
            <a:ext cx="8915400" cy="4799880"/>
            <a:chOff x="900000" y="1125360"/>
            <a:chExt cx="8915400" cy="4799880"/>
          </a:xfrm>
        </p:grpSpPr>
        <p:sp>
          <p:nvSpPr>
            <p:cNvPr id="94" name=""/>
            <p:cNvSpPr/>
            <p:nvPr/>
          </p:nvSpPr>
          <p:spPr>
            <a:xfrm>
              <a:off x="900000" y="1125360"/>
              <a:ext cx="8915400" cy="47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.</a:t>
              </a:r>
              <a:r>
                <a:rPr b="0" lang="zh-CN" sz="3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        </a:t>
              </a:r>
              <a:r>
                <a:rPr b="1" lang="zh-CN" sz="3600" spc="-1" strike="noStrike">
                  <a:solidFill>
                    <a:srgbClr val="3366ff"/>
                  </a:solidFill>
                  <a:latin typeface="Times New Roman"/>
                </a:rPr>
                <a:t>重点词语理解：</a:t>
              </a: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 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a.</a:t>
              </a:r>
              <a:r>
                <a:rPr b="0" lang="zh-CN" sz="3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  </a:t>
              </a: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餍</a:t>
              </a:r>
              <a:r>
                <a:rPr b="0" lang="zh-CN" sz="3600" spc="-1" strike="noStrike">
                  <a:solidFill>
                    <a:srgbClr val="007a77"/>
                  </a:solidFill>
                  <a:latin typeface="Times New Roman"/>
                </a:rPr>
                <a:t>酒肉而后反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b.</a:t>
              </a:r>
              <a:r>
                <a:rPr b="0" lang="zh-CN" sz="3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  </a:t>
              </a:r>
              <a:r>
                <a:rPr b="0" lang="zh-CN" sz="3600" spc="-1" strike="noStrike">
                  <a:solidFill>
                    <a:srgbClr val="007a77"/>
                  </a:solidFill>
                  <a:latin typeface="Times New Roman"/>
                </a:rPr>
                <a:t>则尽</a:t>
              </a: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富贵</a:t>
              </a:r>
              <a:r>
                <a:rPr b="0" lang="zh-CN" sz="3600" spc="-1" strike="noStrike">
                  <a:solidFill>
                    <a:srgbClr val="007a77"/>
                  </a:solidFill>
                  <a:latin typeface="Times New Roman"/>
                </a:rPr>
                <a:t>也</a:t>
              </a: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  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 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c.</a:t>
              </a:r>
              <a:r>
                <a:rPr b="0" lang="zh-CN" sz="3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  </a:t>
              </a:r>
              <a:r>
                <a:rPr b="0" lang="zh-CN" sz="3600" spc="-1" strike="noStrike">
                  <a:solidFill>
                    <a:srgbClr val="007a77"/>
                  </a:solidFill>
                  <a:latin typeface="Times New Roman"/>
                </a:rPr>
                <a:t>吾将</a:t>
              </a:r>
              <a:r>
                <a:rPr b="0" lang="zh-CN" sz="3600" spc="-1" strike="noStrike">
                  <a:solidFill>
                    <a:srgbClr val="ff0000"/>
                  </a:solidFill>
                  <a:latin typeface="宋体"/>
                </a:rPr>
                <a:t>瞷</a:t>
              </a: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良人之所之也  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    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d.</a:t>
              </a:r>
              <a:r>
                <a:rPr b="0" lang="zh-CN" sz="3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   </a:t>
              </a: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遍</a:t>
              </a:r>
              <a:r>
                <a:rPr b="0" lang="zh-CN" sz="3600" spc="-1" strike="noStrike">
                  <a:solidFill>
                    <a:srgbClr val="ff0000"/>
                  </a:solidFill>
                  <a:latin typeface="宋体"/>
                </a:rPr>
                <a:t>国</a:t>
              </a: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中无与立谈者    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e.</a:t>
              </a:r>
              <a:r>
                <a:rPr b="0" lang="zh-CN" sz="3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  </a:t>
              </a: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所仰望而</a:t>
              </a:r>
              <a:r>
                <a:rPr b="1" lang="zh-CN" sz="3600" spc="-1" strike="noStrike">
                  <a:solidFill>
                    <a:srgbClr val="ff0000"/>
                  </a:solidFill>
                  <a:latin typeface="宋体"/>
                </a:rPr>
                <a:t>终</a:t>
              </a: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身也  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    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f.</a:t>
              </a:r>
              <a:r>
                <a:rPr b="0" lang="zh-CN" sz="3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与其</a:t>
              </a:r>
              <a:r>
                <a:rPr b="1" lang="zh-CN" sz="3600" spc="-1" strike="noStrike">
                  <a:solidFill>
                    <a:srgbClr val="ff0000"/>
                  </a:solidFill>
                  <a:latin typeface="宋体"/>
                </a:rPr>
                <a:t>讪</a:t>
              </a: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其良人  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    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00000" y="1125360"/>
              <a:ext cx="8915400" cy="47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325120" y="765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餍：饱，动词，吃饱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61360" y="1817640"/>
            <a:ext cx="38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富贵：名词，有钱有势的   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1920" y="285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瞷：窥视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09240" y="357336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国：城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14520" y="4508640"/>
            <a:ext cx="42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终：使动词，使……完全度过</a:t>
            </a:r>
            <a:r>
              <a:rPr b="0" lang="zh-CN" sz="36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7320" y="55897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讪：讥讽，怨詈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260280"/>
            <a:ext cx="8893080" cy="6192360"/>
            <a:chOff x="0" y="260280"/>
            <a:chExt cx="8893080" cy="6192360"/>
          </a:xfrm>
        </p:grpSpPr>
        <p:sp>
          <p:nvSpPr>
            <p:cNvPr id="104" name=""/>
            <p:cNvSpPr/>
            <p:nvPr/>
          </p:nvSpPr>
          <p:spPr>
            <a:xfrm>
              <a:off x="0" y="260280"/>
              <a:ext cx="8893080" cy="61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.</a:t>
              </a:r>
              <a:r>
                <a:rPr b="0" lang="zh-CN" sz="3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   </a:t>
              </a: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     </a:t>
              </a: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</a:rPr>
                <a:t>道</a:t>
              </a: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 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A</a:t>
              </a: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此其为餍足之道也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B</a:t>
              </a: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从此道至吾军</a:t>
              </a: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,</a:t>
              </a: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不过二十里耳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C</a:t>
              </a: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得道多助</a:t>
              </a: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,</a:t>
              </a: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失道寡助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D</a:t>
              </a: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臣之所好者</a:t>
              </a: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,</a:t>
              </a: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道也</a:t>
              </a: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;</a:t>
              </a: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进乎技矣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E</a:t>
              </a: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不足为外人道也  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260280"/>
              <a:ext cx="8893080" cy="6192360"/>
            </a:xfrm>
            <a:prstGeom prst="rect">
              <a:avLst/>
            </a:prstGeom>
            <a:noFill/>
            <a:ln w="0">
              <a:solidFill>
                <a:srgbClr val="cc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685040" y="476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方法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87480" y="1125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（旧：策之不以其道）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94240" y="162864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道路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92880" y="2205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（旧：蜀道之难，难于上青天）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93640" y="2852640"/>
            <a:ext cx="25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指“仁政”，或道义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91120" y="3284640"/>
            <a:ext cx="32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（旧：伐无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诛暴秦）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15000" y="3716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自然的规律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06880" y="4292640"/>
            <a:ext cx="464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（旧：师者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所以传道受业解惑也）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48480" y="49417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说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48840" y="5589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（旧：孔子之徒，无道桓文之事者）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28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4920" y="0"/>
            <a:ext cx="8839080" cy="6856920"/>
            <a:chOff x="304920" y="0"/>
            <a:chExt cx="8839080" cy="6856920"/>
          </a:xfrm>
        </p:grpSpPr>
        <p:sp>
          <p:nvSpPr>
            <p:cNvPr id="118" name=""/>
            <p:cNvSpPr/>
            <p:nvPr/>
          </p:nvSpPr>
          <p:spPr>
            <a:xfrm>
              <a:off x="304920" y="0"/>
              <a:ext cx="8839080" cy="68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66ff"/>
                  </a:solidFill>
                  <a:latin typeface="Times New Roman"/>
                </a:rPr>
                <a:t>一词多义现象</a:t>
              </a:r>
              <a:r>
                <a:rPr b="0" lang="zh-CN" sz="3600" spc="-1" strike="noStrike">
                  <a:solidFill>
                    <a:srgbClr val="007a77"/>
                  </a:solidFill>
                  <a:latin typeface="Times New Roman"/>
                </a:rPr>
                <a:t>：</a:t>
              </a: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 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a.</a:t>
              </a:r>
              <a:r>
                <a:rPr b="0" lang="zh-CN" sz="36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         </a:t>
              </a:r>
              <a:r>
                <a:rPr b="0" lang="zh-CN" sz="3600" spc="-1" strike="noStrike">
                  <a:solidFill>
                    <a:srgbClr val="007a77"/>
                  </a:solidFill>
                  <a:latin typeface="Times New Roman"/>
                </a:rPr>
                <a:t>之</a:t>
              </a: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 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A  </a:t>
              </a: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吾</a:t>
              </a: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</a:rPr>
                <a:t>将</a:t>
              </a: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瞷良人之所之也  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  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B  </a:t>
              </a: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此其为餍足之道也  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C  </a:t>
              </a: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而良人未</a:t>
              </a:r>
              <a:r>
                <a:rPr b="1" lang="zh-CN" sz="3600" spc="-1" strike="noStrike">
                  <a:solidFill>
                    <a:srgbClr val="ff0000"/>
                  </a:solidFill>
                  <a:latin typeface="宋体"/>
                </a:rPr>
                <a:t>之</a:t>
              </a: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知也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D  </a:t>
              </a: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吾见师</a:t>
              </a:r>
              <a:r>
                <a:rPr b="1" lang="zh-CN" sz="3600" spc="-1" strike="noStrike">
                  <a:solidFill>
                    <a:srgbClr val="ff0000"/>
                  </a:solidFill>
                  <a:latin typeface="宋体"/>
                </a:rPr>
                <a:t>之</a:t>
              </a:r>
              <a:r>
                <a:rPr b="1" lang="zh-CN" sz="3600" spc="-1" strike="noStrike">
                  <a:solidFill>
                    <a:srgbClr val="007a77"/>
                  </a:solidFill>
                  <a:latin typeface="宋体"/>
                </a:rPr>
                <a:t>出，不见师之入  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920" y="0"/>
              <a:ext cx="8839080" cy="68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871440" y="148428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前一个是助词，后一个是动词，到、往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25480" y="1989000"/>
            <a:ext cx="35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（旧：吾欲之南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何如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）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35640" y="2565360"/>
            <a:ext cx="7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的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7080" y="31082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（旧：古之人所以大过人者无他焉）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34800" y="3573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代词，这件事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21640" y="4076640"/>
            <a:ext cx="38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（旧：为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则难者亦易矣）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39680" y="522936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取消句子独立性。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94360" y="573408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（旧：人之为学有难易乎）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0"/>
            <a:ext cx="9144000" cy="6522840"/>
            <a:chOff x="0" y="0"/>
            <a:chExt cx="9144000" cy="6522840"/>
          </a:xfrm>
        </p:grpSpPr>
        <p:sp>
          <p:nvSpPr>
            <p:cNvPr id="130" name=""/>
            <p:cNvSpPr/>
            <p:nvPr/>
          </p:nvSpPr>
          <p:spPr>
            <a:xfrm>
              <a:off x="0" y="0"/>
              <a:ext cx="9144000" cy="65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Times New Roman"/>
                </a:rPr>
                <a:t>指出下列句子中的通假字，并加以解释：</a:t>
              </a: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 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A </a:t>
              </a:r>
              <a:r>
                <a:rPr b="0" lang="zh-CN" sz="3600" spc="-1" strike="noStrike">
                  <a:solidFill>
                    <a:srgbClr val="007a77"/>
                  </a:solidFill>
                  <a:latin typeface="Times New Roman"/>
                </a:rPr>
                <a:t>则必餍酒肉而后反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B </a:t>
              </a:r>
              <a:r>
                <a:rPr b="0" lang="zh-CN" sz="3600" spc="-1" strike="noStrike">
                  <a:solidFill>
                    <a:srgbClr val="007a77"/>
                  </a:solidFill>
                  <a:latin typeface="Times New Roman"/>
                </a:rPr>
                <a:t>蚤起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宋体"/>
                </a:rPr>
                <a:t>C </a:t>
              </a:r>
              <a:r>
                <a:rPr b="0" lang="zh-CN" sz="3600" spc="-1" strike="noStrike">
                  <a:solidFill>
                    <a:srgbClr val="007a77"/>
                  </a:solidFill>
                  <a:latin typeface="Times New Roman"/>
                </a:rPr>
                <a:t>施从蒗人之所之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0"/>
              <a:ext cx="9144000" cy="6522840"/>
            </a:xfrm>
            <a:prstGeom prst="rect">
              <a:avLst/>
            </a:prstGeom>
            <a:noFill/>
            <a:ln w="0">
              <a:solidFill>
                <a:srgbClr val="cc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873320" y="2492280"/>
            <a:ext cx="29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反”同“返”，回来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95360" y="3108240"/>
            <a:ext cx="27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蚤”同“早”，早晨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52680" y="3789360"/>
            <a:ext cx="27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施”同“迤”，偷偷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3:38:10Z</dcterms:created>
  <dc:creator>汝城县</dc:creator>
  <dc:description/>
  <dc:language>en-US</dc:language>
  <cp:lastModifiedBy>zmj</cp:lastModifiedBy>
  <dcterms:modified xsi:type="dcterms:W3CDTF">2007-07-31T11:48:43Z</dcterms:modified>
  <cp:revision>7</cp:revision>
  <dc:subject/>
  <dc:title>PowerPoint 演示文稿</dc:title>
</cp:coreProperties>
</file>