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chimes.wav" ContentType="audio/x-wav"/>
  <Override PartName="/ppt/media/image11.jpeg" ContentType="image/jpeg"/>
  <Override PartName="/ppt/media/image10.png" ContentType="image/png"/>
  <Override PartName="/ppt/media/image2.jpeg" ContentType="image/jpeg"/>
  <Override PartName="/ppt/media/image12.gif" ContentType="image/gif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camera.wav" ContentType="audio/x-wav"/>
  <Override PartName="/ppt/media/image13.png" ContentType="image/png"/>
  <Override PartName="/ppt/media/cashreg.wav" ContentType="audio/x-wav"/>
  <Override PartName="/ppt/media/type.wav" ContentType="audio/x-wav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B3A-4A9F-49A3-BB23-CEE84881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A9D-6207-463E-A301-164DE487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ED050-DB59-4F3F-914D-9C251083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1493D-6A26-42EB-ACD3-C32440D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2B6C3-9FDD-40F4-99AC-38A482B4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3B317-503D-4809-AE63-6BBDC068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1B98B-9F34-4BF1-BA6A-F86CCD79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18D9B-B0C3-4ECA-B631-5F45EF50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EBE47-380B-4F10-A0ED-A3346279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4EA4A-49F2-486C-9D98-D8138FBE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95F2B-27F3-4FDF-B6E6-700A9665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995DF-5136-437F-A097-1D6F6FCC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F6F-8A71-44D8-B36B-904D73F0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D4639-669A-4F9B-87AE-1182E7D0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BD815-431C-42F4-B506-6625C96B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E7C7F-C2FB-472B-9534-1081BDED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1E1C6-57C6-4518-AE83-CA508168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F77B2-F4C8-45B2-BAA7-1733DB68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49E5F-0737-431D-8139-C127817C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D3244-7439-4367-BE64-AE31069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93BD2-548D-436B-A451-6FAA1215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17B71-AB28-486C-B608-A070CAB3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066B6-07B7-4630-8F93-D694CDC1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B04-2BDF-4241-9EF3-19D4B7A5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C280E-13C2-49D9-A0DE-EDC91B4C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0590B-F6F5-4E2C-A488-1DD11BD1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7DA15-2EAE-4371-89A5-4FC9AB02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1F9CE-2888-4941-9402-CA38E15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7AB06-D609-4630-89A7-DB3C11D4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1C87E-2073-4F70-ABE3-08F17734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B6FFB-6716-476A-9413-FBCDBDE9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6829B-EEF5-469C-86A1-4FF29B6B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1638C-6339-44BF-B4E5-92F4E4A1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FAAE3-8654-429A-8811-3A4480E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FBC2-4677-40F7-9278-1CABFA1F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8DE99-F0B3-48C5-A2E4-6C26D025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12FC-0AC0-4A5D-899D-EDC2F4EE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585EB-AB4B-413B-8C55-247F716D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7AD54-2DFD-4E1A-BD63-171608FD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7387A-B7D5-403A-9BAB-3C327213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FF6CB-DC6C-4876-B9CB-2487F042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568DA-CD96-4654-B26C-394E6801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800D4-A781-42CE-9FE6-8E013FB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D60AC-493D-40CD-A5C8-FEF4548A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FC00C-1F44-4D6C-A222-FD0402C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2864-5574-4232-A14F-12A8471E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EF137-7DD4-4EF5-BFEA-8E719AE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371F8-E032-4DCC-AB12-7553856B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307B9-D447-4057-98A7-0A0D2365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A3F6F-9076-4881-A293-993A6766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B0433-125B-412B-85CE-159262F0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658C2-CC9A-4C3C-A116-A705B2C1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CDD56-77FF-4B73-8A2C-E19153D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9E656-B81A-4C5E-8D0C-ABFECD86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BBF11-F912-4298-8CD5-1B90CCCE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DF20C-466D-457D-803D-977D89A8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99ED-CC73-4C1B-A142-582317FB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072D3-A470-4197-AA9B-E07B1CEC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E111B-4DB1-41FE-85AC-B43A104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59446-C11D-4119-8AED-DE13EC9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DD91D-8C89-4B34-95B1-1FAB0050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2EF60-8AB1-4E08-8984-49FBE184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A7512-7820-47E6-AA07-9898366C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EA751-2677-47B0-BF24-615A5957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5B96-43B4-45C5-8C76-FF79961C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37B4-DD5C-47F0-8E87-4EB3F3A3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BF77-534E-409F-9F77-8BB13A4B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FFA5-EAB6-4D13-B0B1-BEED455C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EA4-B418-45FD-BBEC-D9C5677B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B268-2F12-4A01-8DAE-67C03D38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E8CF-A0B7-4E1C-AA6E-B9DC6FC8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4F9B-1B78-4E15-9D07-641D1071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EBF2-55EA-40EE-94AD-ADBE1B72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0D7F-85B3-46D8-BE18-7B213E8A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532BF-DA52-4AA4-90F2-13DDCE59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B0336-362A-4FBB-BC65-F57B7AF2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BA53E-6120-459F-8320-C1B61D49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B7242-BB9C-4CF0-88DB-27B4F16B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59AFC-B53E-4C63-ABDC-62F575B7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ED8-14E0-4B02-8324-A774C6DA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865B7-F094-49FF-8221-75C1FBA7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CD68E-F847-4490-AC57-E4B6D68B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158FF-4E5B-4226-BA05-5B4D95B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0256D-DD86-41E0-86BF-5E37D524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8C431-821B-41D3-A788-86B3A04A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80821-94BF-4868-B510-ED379D9F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AEE41-099B-4DC2-B16F-05EB4877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23C1-74BC-426A-AAA0-7639E188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B857-1925-4644-89DF-35B6E509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5E3F-D6DE-4BFA-82B9-396C2781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EBD-385C-4119-AD2E-A718AE03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4125-71C8-47DE-8B22-EF4ACB90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79D1-08F2-4FA2-9471-D606CC51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6ADA6-9006-4207-A633-08AA2271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E3CD1-C4BD-41EB-92AA-07BD714E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3CB9-B3EB-4E74-B8BC-C5734A1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0600-A8D8-4457-A555-A5D01AC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B9025-9E59-4844-B130-64B3741C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CC5F-5219-467D-AA1D-98C56C0A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29C3-87E4-4652-BB89-0B5E82F2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D2CBB-3381-4E7C-919D-2092F0A0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8D0-7E53-4B85-9643-4A0DA067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B5472-A472-4CBF-91AC-81AF352A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5CB1-3632-4081-A60C-BCA64CC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74E5-A2AA-4933-9926-B6A33A97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1A8A9-1F93-4FEB-AD25-467C63E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6463-E3AF-4AEA-9F5C-9BF6AA09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0FBC-9171-4684-A4D8-28E886A5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E1094-0755-4798-B787-30B730D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42A7-8DF8-4E3A-98BE-007452C0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4C6C1-627D-444E-8AA4-74E2CC53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0174D-8076-4C74-92F0-E4C68E7C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F88-1A0C-4282-9F8A-1DA7711A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09FB-D902-4D79-8B2F-63EAA5E4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6749-8059-4241-973D-A5C209FA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2F137-1419-40BE-8E53-F39C3E8A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B544-8EE3-40C2-BA3C-53F4BE1C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E10E6-5B5C-4834-AACA-17ED6D6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C1C6-84E0-4EFD-82F3-DA29D03F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CCEC-ADC2-42A8-86C6-0E719958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0F8B7-EAAF-4574-A355-7D7C952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086E1-4ECC-4623-9CFE-5D365F8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5DF1-212F-40C6-94E5-5F7B4CBA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6B5-A7FC-4A96-9518-AAEF89C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712EE-ABF9-48BB-957B-BAC433A6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642FE-A39A-4F87-A684-F40DECA6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1C114-EBCD-4728-9E24-529AD8E3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0E9D6-EAD9-441D-8F4C-9515DB22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9B266-75A1-4E43-B2A6-875CB41F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993F-DA55-4722-B99A-C59D38A6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ABE23-8632-4330-9FFC-86DCBEA5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E3E33-9DE2-41A8-ABB4-445D4B18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F096B-FBFD-4836-B82E-53E92026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80A85-858C-41C7-AF24-A582D4BA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3C8-8B79-4182-9122-183DB3E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2F49-1A97-4396-9DDE-F039652E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B8361-4A78-4496-86D6-BE817C3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EC602-7B7B-4EBA-AE45-B4999D9E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6866A-2B7E-4D5F-814B-28E23A50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950D-99DD-4B27-887A-97F0ECD3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D937-B543-4B87-AB2F-539B63B9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56439-9027-41A9-8E18-79A3F7A6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4A1C9-DAC0-4738-953B-16D13B40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21C7C-2274-4082-AE43-323FC31C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5DDE-714A-426A-A0F4-1D61280C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566-32D3-437D-829C-44FD9081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5C645-3F44-4242-A716-EB69F37C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606F8-6073-4705-971E-439BF70F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709A-C22E-4D64-ABDA-264FDFE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6C651-71FC-4E7F-958F-040A7AC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66F85-BCC5-4B24-8C1C-1698F538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390A5-54F3-494F-BAC2-18853D56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3214F-028C-495E-8025-B1726DEC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059D9-BCEC-4645-84E0-14043932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AC0EC-8A50-40B9-BAB2-3F151152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430B3-FEC1-431C-931D-5C53F7E7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05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90504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9050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9050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3BD1-3446-4FB5-9DD7-EEA40E4456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4CED-79F2-4862-89B5-4D8A9DFE16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E928-8947-49C6-8391-9420FC9638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D0D2-70E3-4D3A-A3BE-39A88D5DA8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46A4-2F8C-4C69-8F16-F4F6F38C7325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FC70-BD80-44B2-8F1B-7C76812861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4838-4642-4D05-ACC2-B5E90359BC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17411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05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90504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9050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9050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0FAF-B1E3-4667-A461-F18FEAC3D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E105-BACA-42AA-A900-8F445758D1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D8A5-B7D6-4F84-818A-A736BF3BAE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3032-671A-49A8-B9FD-2BA64EF9F3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298-6C9F-4AF5-A480-CD0FC66DA8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E20C-B54C-451A-8A58-E6ED10FC5C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ADD8-8F80-44F7-A7BB-4CF772F2C7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12289" descr="孟子父母墓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0160" y="334800"/>
            <a:ext cx="8604360" cy="25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第二段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是故事的高潮，揭示了齐人的本来面目。他本来是怎样的一个人？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矩形 13316"/>
          <p:cNvSpPr/>
          <p:nvPr/>
        </p:nvSpPr>
        <p:spPr>
          <a:xfrm>
            <a:off x="290520" y="3475080"/>
            <a:ext cx="8505720" cy="84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明确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：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社会地位低下，不与任何人交往，是一个不知廉耻的乞丐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49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17520" y="645840"/>
            <a:ext cx="8523360" cy="21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第三段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是故事的结局，写了哪两方面的内容？ 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矩形 14340"/>
          <p:cNvSpPr/>
          <p:nvPr/>
        </p:nvSpPr>
        <p:spPr>
          <a:xfrm>
            <a:off x="317520" y="3013200"/>
            <a:ext cx="8523360" cy="247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黑体"/>
              </a:rPr>
              <a:t>明确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、妻妾的羞惭愤恨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、齐人恬不知耻的丑态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0880" y="217080"/>
            <a:ext cx="885492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如果结尾改为齐人一到家就被妻妾揭穿真相，臭骂一顿，这样改好不好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矩形 15364"/>
          <p:cNvSpPr/>
          <p:nvPr/>
        </p:nvSpPr>
        <p:spPr>
          <a:xfrm>
            <a:off x="144360" y="2478240"/>
            <a:ext cx="88552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明确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不好。让齐人浑然不觉，自己蒙在鼓里却还以为别人被自己蒙在鼓里，兴冲冲地继续吹嘘夸耀，这就产生出强烈的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戏剧效果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，增强了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讽刺性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95120" y="204480"/>
            <a:ext cx="87948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你认为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现实生活中有这样的“齐人”吗？ </a:t>
            </a:r>
            <a:endParaRPr b="0" lang="en-US" sz="3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矩形 16392"/>
          <p:cNvSpPr/>
          <p:nvPr/>
        </p:nvSpPr>
        <p:spPr>
          <a:xfrm>
            <a:off x="195120" y="1353960"/>
            <a:ext cx="879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Times New Roman"/>
                <a:ea typeface="黑体"/>
              </a:rPr>
              <a:t>明确</a:t>
            </a:r>
            <a:r>
              <a:rPr b="0" lang="zh-CN" sz="38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1" lang="zh-CN" sz="3800" spc="-1" strike="noStrike">
                <a:solidFill>
                  <a:srgbClr val="0000ff"/>
                </a:solidFill>
                <a:latin typeface="黑体"/>
                <a:ea typeface="黑体"/>
              </a:rPr>
              <a:t>生活中未必有这样的人物，但不能否定在求取财富与地位等生活大事时，没有人做与“齐人”一样的勾当。作者的是非价值标准依附在正面或反面人物的身上，在对主人公或褒或贬的叙述和描绘中，作者站在了最前端，并将指斥的矛头从寓言故事中伸出来，瞄准了许许多多有类似问题的社会中人。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图片 8197" descr="沙漠劲旅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312480"/>
            <a:ext cx="91440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本文为何能产生强烈的讽刺效果？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矩形 8196"/>
          <p:cNvSpPr/>
          <p:nvPr/>
        </p:nvSpPr>
        <p:spPr>
          <a:xfrm>
            <a:off x="14400" y="1698480"/>
            <a:ext cx="9144000" cy="31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是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齐人坟场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乞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”与妻妾面前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骄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”的行为对比，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真相与表象的对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通过对比，人物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内在品格的委琐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外表的庄重自足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形成强烈的反差，达到了美学上的滑稽效果，形成了尖锐的讽刺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是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妻妾与齐人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人生准则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对比，这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两种道德标准的对比和冲撞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揭露了齐人的丑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6147"/>
          <p:cNvSpPr/>
          <p:nvPr/>
        </p:nvSpPr>
        <p:spPr>
          <a:xfrm>
            <a:off x="468360" y="2133720"/>
            <a:ext cx="8207280" cy="309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找出短文中的人物，看看重点写了哪几个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46040" y="2133360"/>
            <a:ext cx="822960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明确：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齐人有一妻一妾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中的人物有：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齐人、妻、妾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，重点人物是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齐人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（良人）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图片 6148" descr="27_4200_824"/>
          <p:cNvPicPr/>
          <p:nvPr/>
        </p:nvPicPr>
        <p:blipFill>
          <a:blip r:embed="rId2"/>
          <a:stretch/>
        </p:blipFill>
        <p:spPr>
          <a:xfrm>
            <a:off x="2268360" y="5661000"/>
            <a:ext cx="3657600" cy="76212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6149" descr="d849"/>
          <p:cNvPicPr/>
          <p:nvPr/>
        </p:nvPicPr>
        <p:blipFill>
          <a:blip r:embed="rId3"/>
          <a:stretch/>
        </p:blipFill>
        <p:spPr>
          <a:xfrm>
            <a:off x="7920000" y="5734080"/>
            <a:ext cx="1224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9320" y="18720"/>
            <a:ext cx="8898120" cy="1384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作者是怎样</a:t>
            </a:r>
            <a:r>
              <a:rPr b="1" lang="zh-CN" sz="4000" spc="-1" strike="noStrike">
                <a:solidFill>
                  <a:srgbClr val="010199"/>
                </a:solidFill>
                <a:latin typeface="黑体"/>
                <a:ea typeface="黑体"/>
              </a:rPr>
              <a:t>层层深入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地揭示齐人的丑态的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39320" y="1495440"/>
            <a:ext cx="8899560" cy="524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五个方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来层层揭示齐人的丑态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齐人对妻子夸口，树起一个极度膨胀的完美形象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妻子的怀疑和妻妾的商量，对齐人虚托的完美形象展开第一次审视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妻子的追踪和齐人真面目的显露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妻子的羞愧和哭骂，对齐人行为的否定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齐人无耻得意的另一种丑态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矩形 7172"/>
          <p:cNvSpPr/>
          <p:nvPr/>
        </p:nvSpPr>
        <p:spPr>
          <a:xfrm>
            <a:off x="4643280" y="6742080"/>
            <a:ext cx="73080" cy="115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图片 7174" descr="d849"/>
          <p:cNvPicPr/>
          <p:nvPr/>
        </p:nvPicPr>
        <p:blipFill>
          <a:blip r:embed="rId1"/>
          <a:stretch/>
        </p:blipFill>
        <p:spPr>
          <a:xfrm>
            <a:off x="7920000" y="6165720"/>
            <a:ext cx="122400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137880" y="320400"/>
            <a:ext cx="8869320" cy="60325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齐人有一妻一妾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先以齐人的言语夸张自己的正面形象，又以妻子的视线层层揭示出一个丑陋的真面目。最后又一次描绘齐人：“骄”言时的洋洋自得，虽再次回到开篇的状态，却给予齐人最有力的一击。以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时间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为序，将齐人反差强烈的两个形象作了三次铺展，突出了其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虚伪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本质，有较强的讽刺意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05920" y="111240"/>
            <a:ext cx="88534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试分析两则短文中采用的对比手法及作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80640" y="800280"/>
            <a:ext cx="8978760" cy="59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中有两重对比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是齐人自身行为的对比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坟场的“乞”与妻妾面前的“骄”；真相与表象的对比，人物内在品格的委琐与外表的庄重自足形成强烈的反差，达到了美学上的滑稽效果，形成了尖锐的讽刺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是妻妾与齐人在人生准则上的对比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齐人在坟场乞食而没有丝毫的羞耻感，甚至在足不出户的妻妾面前大吹大擂；两个妇道人家能明大理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强调在追求“利”的同时能注意采用正当的手段，要“行丈夫之道”，不能苟且，不能诡谲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种道德标准的对比和冲撞，从更深层次上揭露了齐人的丑态，表现了作者鲜明的立场观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34720" y="152280"/>
            <a:ext cx="871524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结合故事叙述详略的不同安排，分析中国寓言故事叙述性语言的特点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34720" y="1905120"/>
            <a:ext cx="85899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010199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10199"/>
                </a:solidFill>
                <a:latin typeface="黑体"/>
                <a:ea typeface="黑体"/>
              </a:rPr>
              <a:t>齐人有一妻一妾</a:t>
            </a:r>
            <a:r>
              <a:rPr b="1" lang="en-US" sz="4000" spc="-1" strike="noStrike">
                <a:solidFill>
                  <a:srgbClr val="010199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10199"/>
                </a:solidFill>
                <a:latin typeface="黑体"/>
                <a:ea typeface="黑体"/>
              </a:rPr>
              <a:t>不仅有相对完整的故事情节，而且描绘了人物的动作、情态和对白。人物性格鲜明，形象丰满。</a:t>
            </a:r>
            <a:r>
              <a:rPr b="1" lang="en-US" sz="4000" spc="-1" strike="noStrike">
                <a:solidFill>
                  <a:srgbClr val="010199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10199"/>
                </a:solidFill>
                <a:latin typeface="黑体"/>
                <a:ea typeface="黑体"/>
              </a:rPr>
              <a:t>齐人有一妻一妾</a:t>
            </a:r>
            <a:r>
              <a:rPr b="1" lang="en-US" sz="4000" spc="-1" strike="noStrike">
                <a:solidFill>
                  <a:srgbClr val="010199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10199"/>
                </a:solidFill>
                <a:latin typeface="黑体"/>
                <a:ea typeface="黑体"/>
              </a:rPr>
              <a:t>在</a:t>
            </a:r>
            <a:r>
              <a:rPr b="1" lang="en-US" sz="4000" spc="-1" strike="noStrike">
                <a:solidFill>
                  <a:srgbClr val="010199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10199"/>
                </a:solidFill>
                <a:latin typeface="黑体"/>
                <a:ea typeface="黑体"/>
              </a:rPr>
              <a:t>孟</a:t>
            </a:r>
            <a:r>
              <a:rPr b="1" lang="en-US" sz="4000" spc="-1" strike="noStrike">
                <a:solidFill>
                  <a:srgbClr val="010199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10199"/>
                </a:solidFill>
                <a:latin typeface="黑体"/>
                <a:ea typeface="黑体"/>
              </a:rPr>
              <a:t>的寓言故事中是个例外，被后人称为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小说之“滥觞”</a:t>
            </a:r>
            <a:r>
              <a:rPr b="1" lang="zh-CN" sz="4000" spc="-1" strike="noStrike">
                <a:solidFill>
                  <a:srgbClr val="010199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9" name="图片 19460" descr="A-1-00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01080" y="6453360"/>
            <a:ext cx="104292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3075"/>
          <p:cNvSpPr/>
          <p:nvPr/>
        </p:nvSpPr>
        <p:spPr>
          <a:xfrm>
            <a:off x="611280" y="1341360"/>
            <a:ext cx="8137440" cy="46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4000" y="154080"/>
            <a:ext cx="9090000" cy="654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10173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钱钟书</a:t>
            </a:r>
            <a:r>
              <a:rPr b="1" lang="zh-CN" sz="3200" spc="-1" strike="noStrike">
                <a:solidFill>
                  <a:srgbClr val="010173"/>
                </a:solidFill>
                <a:latin typeface="黑体"/>
                <a:ea typeface="黑体"/>
              </a:rPr>
              <a:t>先生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读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&lt;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伊索寓言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&gt;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10173"/>
                </a:solidFill>
                <a:latin typeface="黑体"/>
                <a:ea typeface="黑体"/>
              </a:rPr>
              <a:t>中写到：“我以为（对孩子而言）寓言要不得，因为它把淳朴的孩子教得愈简单了，愈幼稚了，以为人事里是非的分别、善恶的果报，也像在禽兽中间一样公平清楚。”钱先生的话虽然偏激，却一语道破寓言的特性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寓言往往虚构一个浅显的或人或动物为主角的故事，传递较为深刻的人生行为准则、价值取向、事物因果关联等道理，对人事有着劝谏或讽喻的作用。</a:t>
            </a:r>
            <a:r>
              <a:rPr b="1" lang="zh-CN" sz="3200" spc="-1" strike="noStrike">
                <a:solidFill>
                  <a:srgbClr val="010173"/>
                </a:solidFill>
                <a:latin typeface="黑体"/>
                <a:ea typeface="黑体"/>
              </a:rPr>
              <a:t>学习寓言故事，就要剥离其虚托的故事成分，结合创作的时代背景，领悟其蕴涵着的哲理和启迪意义，并能翻出新的寓意来指导我们的学习和生活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7" name="图片 3076" descr="d847"/>
          <p:cNvPicPr/>
          <p:nvPr/>
        </p:nvPicPr>
        <p:blipFill>
          <a:blip r:embed="rId1"/>
          <a:stretch/>
        </p:blipFill>
        <p:spPr>
          <a:xfrm>
            <a:off x="8280360" y="6121440"/>
            <a:ext cx="863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165240" y="205920"/>
            <a:ext cx="8813520" cy="63565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小结：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是一篇精彩的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讽刺小品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孟子勾画的，是一个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内心极其卑劣下贱，外表却趾高气扬，不可一世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形象。他在妻妾面前摆阔气，抖威风，自吹每天都有达官贵人请他吃喝，实际上却每天都在坟地里乞讨。妻妾发现了他的秘密后痛苦不堪，而他却并不知道事情已经败露，还在妻妾面前得意洋洋。令人感到既好笑，又有几分恶心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179280" y="277920"/>
            <a:ext cx="8771040" cy="6145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男主角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齐人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，分明是当时社会上一个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为追求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富贵利达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而不择手段的厚颜无耻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的典型人物的缩影。他自欺欺人，做着连自己妻妾也被欺骗隐瞒的见不得人的勾当，却装出一副骄傲自满的神气。虽只寥寥几笔，但他的丑恶嘴脸已暴露无遗了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68040" y="50760"/>
            <a:ext cx="9050040" cy="6756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《齐人有一妻一妾》是《孟子》散文中的名篇，诙谐幽默，耐人寻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文章通过一个生动的寓言故事，辛辣地讽刺了那种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顾礼义廉耻，以卑鄙的手段追求富贵利达的人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。这篇文章先是故事的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序幕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，简单地交代了背景，引出了人物。再是故事的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发生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，写齐人的诡秘行动和对妻妾的夸耀。然后是故事的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发展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，写妻子的怀疑和妻妾的商议。接着是故事的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高潮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，写妻子的追踪侦察和齐人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"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餍酒肉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"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的真相。最后是故事的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结局</a:t>
            </a:r>
            <a:r>
              <a:rPr b="0" lang="zh-CN" sz="3600" spc="-1" strike="noStrike">
                <a:solidFill>
                  <a:srgbClr val="010199"/>
                </a:solidFill>
                <a:latin typeface="黑体"/>
                <a:ea typeface="黑体"/>
              </a:rPr>
              <a:t>，写妻妾的羞惭愤恨和齐人恬不知耻的丑态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21507" descr="d847"/>
          <p:cNvPicPr/>
          <p:nvPr/>
        </p:nvPicPr>
        <p:blipFill>
          <a:blip r:embed="rId1"/>
          <a:stretch/>
        </p:blipFill>
        <p:spPr>
          <a:xfrm>
            <a:off x="8280360" y="6121440"/>
            <a:ext cx="863640" cy="7365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33360" y="361440"/>
            <a:ext cx="3168720" cy="8636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隶书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迁移拓展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5760" y="1915920"/>
            <a:ext cx="807696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齐人一妻一妾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为话题，联系现实生活，写一篇作文，字数在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800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字左右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28673" descr="孟子故居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97" name="文本框 28674"/>
          <p:cNvSpPr/>
          <p:nvPr/>
        </p:nvSpPr>
        <p:spPr>
          <a:xfrm>
            <a:off x="2268360" y="270828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</a:rPr>
              <a:t>再    见！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4107"/>
          <p:cNvSpPr/>
          <p:nvPr/>
        </p:nvSpPr>
        <p:spPr>
          <a:xfrm>
            <a:off x="395280" y="1628640"/>
            <a:ext cx="7921800" cy="35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859880" cy="865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   字   生   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50520" y="1988640"/>
            <a:ext cx="8094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餍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酒肉（       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瞷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良人 （     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施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从良人（       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墦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间（      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讪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其良人（       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施施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       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弈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秋（        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缴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而射之（       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文本框 4099"/>
          <p:cNvSpPr/>
          <p:nvPr/>
        </p:nvSpPr>
        <p:spPr>
          <a:xfrm>
            <a:off x="2411280" y="1989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文本框 4100"/>
          <p:cNvSpPr/>
          <p:nvPr/>
        </p:nvSpPr>
        <p:spPr>
          <a:xfrm>
            <a:off x="6661080" y="1989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文本框 4101"/>
          <p:cNvSpPr/>
          <p:nvPr/>
        </p:nvSpPr>
        <p:spPr>
          <a:xfrm>
            <a:off x="2987640" y="2565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文本框 4102"/>
          <p:cNvSpPr/>
          <p:nvPr/>
        </p:nvSpPr>
        <p:spPr>
          <a:xfrm>
            <a:off x="6229440" y="26431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á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文本框 4103"/>
          <p:cNvSpPr/>
          <p:nvPr/>
        </p:nvSpPr>
        <p:spPr>
          <a:xfrm>
            <a:off x="2700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文本框 4104"/>
          <p:cNvSpPr/>
          <p:nvPr/>
        </p:nvSpPr>
        <p:spPr>
          <a:xfrm>
            <a:off x="6443640" y="3141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文本框 4105"/>
          <p:cNvSpPr/>
          <p:nvPr/>
        </p:nvSpPr>
        <p:spPr>
          <a:xfrm>
            <a:off x="2266920" y="3789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文本框 4106"/>
          <p:cNvSpPr/>
          <p:nvPr/>
        </p:nvSpPr>
        <p:spPr>
          <a:xfrm>
            <a:off x="7020000" y="378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u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9" name="图片 4109" descr="bian46"/>
          <p:cNvPicPr/>
          <p:nvPr/>
        </p:nvPicPr>
        <p:blipFill>
          <a:blip r:embed="rId1"/>
          <a:stretch/>
        </p:blipFill>
        <p:spPr>
          <a:xfrm>
            <a:off x="6804000" y="5243400"/>
            <a:ext cx="2340000" cy="161460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4110" descr="d847"/>
          <p:cNvPicPr/>
          <p:nvPr/>
        </p:nvPicPr>
        <p:blipFill>
          <a:blip r:embed="rId2"/>
          <a:stretch/>
        </p:blipFill>
        <p:spPr>
          <a:xfrm>
            <a:off x="3059280" y="5445000"/>
            <a:ext cx="8632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7172"/>
          <p:cNvSpPr/>
          <p:nvPr/>
        </p:nvSpPr>
        <p:spPr>
          <a:xfrm>
            <a:off x="30240" y="-1440"/>
            <a:ext cx="906948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齐国有个人和一妻一妾共同生活。丈夫每次外出，都</a:t>
            </a:r>
            <a:r>
              <a:rPr b="1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说</a:t>
            </a:r>
            <a:r>
              <a:rPr b="1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是吃饱喝足才回家。妻子问跟他一起吃饭的都是些什么人，</a:t>
            </a:r>
            <a:r>
              <a:rPr b="1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他就说</a:t>
            </a:r>
            <a:r>
              <a:rPr b="1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都是有钱有地位的人。妻子对妾说：“丈夫</a:t>
            </a:r>
            <a:r>
              <a:rPr b="1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每次</a:t>
            </a:r>
            <a:r>
              <a:rPr b="1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出去，都是酒醉饭饱才回家，问是谁跟他在一起吃喝，都是有钱有地位的人。可是，从来也不曾见有显贵体面的人到家里来。我要暗中看看他到底去什么地方。”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148"/>
          <p:cNvSpPr/>
          <p:nvPr/>
        </p:nvSpPr>
        <p:spPr>
          <a:xfrm>
            <a:off x="157320" y="177840"/>
            <a:ext cx="88293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清早起来，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妻子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便拐弯抹角地跟踪丈夫。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走遍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整个都城，没有谁停下来与他打招呼交谈。最后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他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走到东门城外的坟墓中间，向那些扫墓的人乞讨残羹剩饭。不够，又四下里看看，到别的扫墓人那里。这就是他天天酒醉饭饱的方法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204480" y="151920"/>
            <a:ext cx="8721720" cy="65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妻子回去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把看到的一切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告诉了妾，说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:"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丈夫，是我们指望依靠过一辈子的人。现在却是这个样子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"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于是两人一起在院子里大骂，哭成一团。丈夫却一点也不知道，还得意洋洋地从外面回来，在妻妾面前大耍威风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在君子看来，人们用来求取升官发财的方法，能够不使他们的妻妾引以为耻而相对哭泣的，是很少的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4120" y="159840"/>
            <a:ext cx="136836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问题讨 论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矩形 10244"/>
          <p:cNvSpPr/>
          <p:nvPr/>
        </p:nvSpPr>
        <p:spPr>
          <a:xfrm>
            <a:off x="1712880" y="657360"/>
            <a:ext cx="7089840" cy="7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认为文中哪些词语用得漂亮？</a:t>
            </a:r>
            <a:r>
              <a:rPr b="1" lang="zh-CN" sz="41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矩形 10245"/>
          <p:cNvSpPr/>
          <p:nvPr/>
        </p:nvSpPr>
        <p:spPr>
          <a:xfrm>
            <a:off x="114480" y="1849320"/>
            <a:ext cx="8688240" cy="7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1)“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则必餍酒肉而后反”中的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必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r>
              <a:rPr b="0" lang="zh-CN" sz="4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矩形 10246"/>
          <p:cNvSpPr/>
          <p:nvPr/>
        </p:nvSpPr>
        <p:spPr>
          <a:xfrm>
            <a:off x="114480" y="3362400"/>
            <a:ext cx="8686800" cy="7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2)“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其妻问所与饮食者，则尽富贵也”中的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尽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”。</a:t>
            </a:r>
            <a:r>
              <a:rPr b="0" lang="zh-CN" sz="41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矩形 10247"/>
          <p:cNvSpPr/>
          <p:nvPr/>
        </p:nvSpPr>
        <p:spPr>
          <a:xfrm>
            <a:off x="236520" y="5249880"/>
            <a:ext cx="8718480" cy="7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3)“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遍国中无与立谈者”中的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遍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”。</a:t>
            </a:r>
            <a:r>
              <a:rPr b="0" lang="zh-CN" sz="4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8280" y="277560"/>
            <a:ext cx="8817120" cy="270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一段</a:t>
            </a:r>
            <a:r>
              <a:rPr b="1" lang="zh-CN" sz="4400" spc="-1" strike="noStrike">
                <a:solidFill>
                  <a:srgbClr val="002673"/>
                </a:solidFill>
                <a:latin typeface="黑体"/>
                <a:ea typeface="黑体"/>
              </a:rPr>
              <a:t>是故事的发生和发展。其中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良人出，则必餍酒肉而后反；问其与饮食者，尽富贵也</a:t>
            </a:r>
            <a:r>
              <a:rPr b="1" lang="zh-CN" sz="4400" spc="-1" strike="noStrike">
                <a:solidFill>
                  <a:srgbClr val="002673"/>
                </a:solidFill>
                <a:latin typeface="黑体"/>
                <a:ea typeface="黑体"/>
              </a:rPr>
              <a:t>”重复了一遍，为什么？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矩形 11268"/>
          <p:cNvSpPr/>
          <p:nvPr/>
        </p:nvSpPr>
        <p:spPr>
          <a:xfrm>
            <a:off x="162000" y="3870360"/>
            <a:ext cx="8686800" cy="7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明确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突出这一现象，显示其不同一般，令人生疑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矩形 12292"/>
          <p:cNvSpPr/>
          <p:nvPr/>
        </p:nvSpPr>
        <p:spPr>
          <a:xfrm>
            <a:off x="190440" y="808200"/>
            <a:ext cx="87631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哪一句点出了齐人可疑的关键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矩形 12293"/>
          <p:cNvSpPr/>
          <p:nvPr/>
        </p:nvSpPr>
        <p:spPr>
          <a:xfrm>
            <a:off x="0" y="2921040"/>
            <a:ext cx="9144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黑体"/>
              </a:rPr>
              <a:t>明确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0" lang="zh-CN" sz="6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而未尝有显者来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1:25:41Z</dcterms:created>
  <dc:creator>guojinwei</dc:creator>
  <dc:description/>
  <dc:language>en-US</dc:language>
  <cp:lastModifiedBy>芬</cp:lastModifiedBy>
  <dcterms:modified xsi:type="dcterms:W3CDTF">2019-03-05T07:17:04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00</vt:lpwstr>
  </property>
</Properties>
</file>