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138-605B-4C89-A81E-50284D45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17D-EB78-478A-A168-BFCE26F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072-EBDC-4384-902B-924F5955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F09-2313-4817-9022-27FF873B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F88-945A-4866-B15A-7CBE2967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C95-2F4E-445E-B16D-C1889739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F07-BB72-46DD-B6F4-2B7358E2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883-AD9D-49FE-B42B-5ACD222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7D9-3277-4614-A3F5-E27BEC45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616-27A2-48DC-B0C7-BC5C52C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B45-6090-4E6D-8DC4-08A22EF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90D-DAE3-4561-901A-D5B6112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10C1-FDC9-4986-9C86-D0C4305C7370}" type="slidenum">
              <a:rPr b="0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00200" y="1600200"/>
            <a:ext cx="4724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sngStrike" u="sng">
                <a:solidFill>
                  <a:srgbClr val="ffffff"/>
                </a:solidFill>
                <a:uFillTx/>
                <a:latin typeface="Arial"/>
              </a:rPr>
              <a:t>杞人忧天</a:t>
            </a:r>
            <a:endParaRPr b="1" i="1" lang="en-US" sz="8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609480"/>
            <a:ext cx="380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《列子》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3" name="Picture 5" descr="F:\学习天地\CO_CO\课件素材\jif\gif036.gif"/>
          <p:cNvPicPr/>
          <p:nvPr/>
        </p:nvPicPr>
        <p:blipFill>
          <a:blip r:embed="rId1"/>
          <a:stretch/>
        </p:blipFill>
        <p:spPr>
          <a:xfrm>
            <a:off x="228600" y="6019920"/>
            <a:ext cx="327672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23920" y="17521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《列子》，相传战国郑国人列御寇著。《汉书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·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艺文志》著录《列子》八篇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《列子》的内容多为民间故事、寓言和神话传说。内有很多脍炙人口而又有教育意义的故事，如《儿童辩日》、《歧路亡羊》、《九方皋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(gāo)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相马》、《纪昌学射》、《齐人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júe)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金》、《杞人忧天》、《愚公移山》等，都是很有价值的文学遗产。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990720" y="457200"/>
            <a:ext cx="2520720" cy="1143000"/>
          </a:xfrm>
          <a:prstGeom prst="horizontalScroll">
            <a:avLst>
              <a:gd name="adj" fmla="val 15277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664640" y="717480"/>
            <a:ext cx="1280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了解名作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" name="Picture 7" descr="F:\学习天地\CO_CO\课件\liezi.gif"/>
          <p:cNvPicPr/>
          <p:nvPr/>
        </p:nvPicPr>
        <p:blipFill>
          <a:blip r:embed="rId1"/>
          <a:stretch/>
        </p:blipFill>
        <p:spPr>
          <a:xfrm>
            <a:off x="1143000" y="16765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0" y="1676520"/>
            <a:ext cx="388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Arial"/>
              </a:rPr>
              <a:t>（ 二 ）看谁说得对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80368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PubBanner"/>
          <p:cNvSpPr/>
          <p:nvPr/>
        </p:nvSpPr>
        <p:spPr>
          <a:xfrm>
            <a:off x="1143000" y="2438280"/>
            <a:ext cx="7391520" cy="2971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7393" y="4189"/>
                </a:moveTo>
                <a:cubicBezTo>
                  <a:pt x="17300" y="3602"/>
                  <a:pt x="17124" y="3110"/>
                  <a:pt x="16807" y="2570"/>
                </a:cubicBezTo>
                <a:cubicBezTo>
                  <a:pt x="16396" y="2076"/>
                  <a:pt x="15856" y="1619"/>
                  <a:pt x="15234" y="1220"/>
                </a:cubicBezTo>
                <a:cubicBezTo>
                  <a:pt x="14506" y="856"/>
                  <a:pt x="13696" y="539"/>
                  <a:pt x="12792" y="316"/>
                </a:cubicBezTo>
                <a:cubicBezTo>
                  <a:pt x="11888" y="140"/>
                  <a:pt x="10950" y="0"/>
                  <a:pt x="10000" y="0"/>
                </a:cubicBezTo>
                <a:cubicBezTo>
                  <a:pt x="9013" y="0"/>
                  <a:pt x="8062" y="140"/>
                  <a:pt x="7159" y="316"/>
                </a:cubicBezTo>
                <a:cubicBezTo>
                  <a:pt x="6302" y="539"/>
                  <a:pt x="5492" y="856"/>
                  <a:pt x="4776" y="1220"/>
                </a:cubicBezTo>
                <a:cubicBezTo>
                  <a:pt x="4142" y="1619"/>
                  <a:pt x="3602" y="2076"/>
                  <a:pt x="3156" y="2570"/>
                </a:cubicBezTo>
                <a:cubicBezTo>
                  <a:pt x="2887" y="3110"/>
                  <a:pt x="2651" y="3602"/>
                  <a:pt x="2616" y="4189"/>
                </a:cubicBezTo>
                <a:lnTo>
                  <a:pt x="2616" y="5633"/>
                </a:lnTo>
                <a:lnTo>
                  <a:pt x="0" y="8474"/>
                </a:lnTo>
                <a:lnTo>
                  <a:pt x="633" y="12711"/>
                </a:lnTo>
                <a:lnTo>
                  <a:pt x="0" y="20000"/>
                </a:lnTo>
                <a:lnTo>
                  <a:pt x="2616" y="17300"/>
                </a:lnTo>
                <a:cubicBezTo>
                  <a:pt x="2616" y="17300"/>
                  <a:pt x="2616" y="15809"/>
                  <a:pt x="2616" y="15809"/>
                </a:cubicBezTo>
                <a:cubicBezTo>
                  <a:pt x="2651" y="15269"/>
                  <a:pt x="2887" y="14729"/>
                  <a:pt x="3156" y="14189"/>
                </a:cubicBezTo>
                <a:cubicBezTo>
                  <a:pt x="3602" y="13696"/>
                  <a:pt x="4142" y="13250"/>
                  <a:pt x="4776" y="12839"/>
                </a:cubicBezTo>
                <a:cubicBezTo>
                  <a:pt x="5492" y="12475"/>
                  <a:pt x="6302" y="12171"/>
                  <a:pt x="7159" y="11936"/>
                </a:cubicBezTo>
                <a:cubicBezTo>
                  <a:pt x="8062" y="11760"/>
                  <a:pt x="9013" y="11666"/>
                  <a:pt x="10000" y="11619"/>
                </a:cubicBezTo>
                <a:cubicBezTo>
                  <a:pt x="10950" y="11666"/>
                  <a:pt x="11888" y="11760"/>
                  <a:pt x="12792" y="11936"/>
                </a:cubicBezTo>
                <a:cubicBezTo>
                  <a:pt x="13696" y="12171"/>
                  <a:pt x="14506" y="12475"/>
                  <a:pt x="15234" y="12839"/>
                </a:cubicBezTo>
                <a:cubicBezTo>
                  <a:pt x="15856" y="13250"/>
                  <a:pt x="16396" y="13696"/>
                  <a:pt x="16807" y="14189"/>
                </a:cubicBezTo>
                <a:cubicBezTo>
                  <a:pt x="17124" y="14729"/>
                  <a:pt x="17300" y="15269"/>
                  <a:pt x="17393" y="15809"/>
                </a:cubicBezTo>
                <a:lnTo>
                  <a:pt x="17393" y="17300"/>
                </a:lnTo>
                <a:lnTo>
                  <a:pt x="20000" y="20000"/>
                </a:lnTo>
                <a:lnTo>
                  <a:pt x="19377" y="12711"/>
                </a:lnTo>
                <a:lnTo>
                  <a:pt x="20000" y="8474"/>
                </a:lnTo>
                <a:lnTo>
                  <a:pt x="17393" y="5633"/>
                </a:lnTo>
                <a:lnTo>
                  <a:pt x="17393" y="41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ccccff"/>
                </a:solidFill>
                <a:uFillTx/>
                <a:latin typeface="Arial"/>
              </a:rPr>
              <a:t>先小组讨论，疏通文意。不求十分精确，只求大致理解，不懂的词句，大家分析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990720" y="457200"/>
            <a:ext cx="2520720" cy="1143000"/>
          </a:xfrm>
          <a:prstGeom prst="horizontalScroll">
            <a:avLst>
              <a:gd name="adj" fmla="val 15277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563120" y="698400"/>
            <a:ext cx="1637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华文行楷"/>
              </a:rPr>
              <a:t>自 学 检 测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050840" y="453960"/>
            <a:ext cx="763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　　杞国有人忧天地崩坠，身无所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寄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，废寝食者。又有忧彼之所忧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590920" y="838080"/>
            <a:ext cx="18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害怕天塌地陷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981320" y="870120"/>
            <a:ext cx="30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无处存身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437560" y="1309680"/>
            <a:ext cx="456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者，因往晓之，曰：“天，积气耳，无处无气，若屈伸呼吸，终日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250000" y="167652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使他明白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428920" y="2117880"/>
            <a:ext cx="496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在天中行止，奈何忧崩坠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Arial"/>
              </a:rPr>
              <a:t>?”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其人曰：“天果积气，日月星宿，不当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341440" y="3032280"/>
            <a:ext cx="4660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坠耶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Arial"/>
              </a:rPr>
              <a:t>?”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晓之者曰：“日月星宿，亦积气中之有光耀者，只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使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坠，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7050600" y="3429000"/>
            <a:ext cx="872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即使坠落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880000" y="3946680"/>
            <a:ext cx="3479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亦不能有所中伤。”其人曰：“奈地坏何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Arial"/>
              </a:rPr>
              <a:t>?”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晓者曰：“地积块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耳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2133720" y="4343400"/>
            <a:ext cx="1488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打中击伤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09880" y="4343400"/>
            <a:ext cx="2698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地塌了怎么办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164040" y="4861080"/>
            <a:ext cx="305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充塞四虚，无处无块。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若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躇步此蹈，终日在地上行止，奈何忧其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679760" y="5299200"/>
            <a:ext cx="56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四处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3965760" y="5299200"/>
            <a:ext cx="56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踩踏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2893680" y="5729400"/>
            <a:ext cx="86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坏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Arial"/>
              </a:rPr>
              <a:t>?”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其人舍然大喜，晓之者亦舍然大喜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2720520" y="25750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为什么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653000" y="1736640"/>
            <a:ext cx="48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罢了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1295280" y="3489480"/>
            <a:ext cx="498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Arial"/>
              </a:rPr>
              <a:t>吗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12794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066680" y="457200"/>
            <a:ext cx="2521080" cy="1143000"/>
          </a:xfrm>
          <a:prstGeom prst="horizontalScroll">
            <a:avLst>
              <a:gd name="adj" fmla="val 15277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6600cc"/>
                </a:solidFill>
                <a:uFillTx/>
                <a:latin typeface="Arial"/>
              </a:rPr>
              <a:t>探讨主旨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750760" y="2362320"/>
            <a:ext cx="34981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Arial"/>
              </a:rPr>
              <a:t>、“杞人忧天”现在是什么意思？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812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905120" y="3276720"/>
            <a:ext cx="64767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Arial"/>
              </a:rPr>
              <a:t>、联系你的生活，你认为杞人的担忧是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Arial"/>
              </a:rPr>
              <a:t>可笑的吗？谈谈你的看法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5T06:39:10Z</dcterms:created>
  <dc:creator/>
  <dc:description/>
  <dc:language>en-US</dc:language>
  <cp:lastModifiedBy/>
  <dcterms:modified xsi:type="dcterms:W3CDTF">2018-01-05T06:59:40Z</dcterms:modified>
  <cp:revision>0</cp:revision>
  <dc:subject/>
  <dc:title>PowerPoint Presentation</dc:title>
</cp:coreProperties>
</file>