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9FA-9DC8-4D34-AC29-AF67ED4D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D2C-0719-44AF-A545-867CEB7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BE2-DFA9-49CA-885B-8B4560AA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5F0-4C64-420A-8034-A1FFDD13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EE3-1A3B-45AB-AC9C-2752527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C4E-7B11-4FD6-94BC-D3E5A701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415-5476-46FC-8B02-9EC9673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D0A-5EAE-4A0A-91BF-0B0B2A3E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D34-A510-4CC0-BA9D-8C8C8196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9E6-5E60-4E60-9B75-F3E7987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F20-0E0E-43AB-A50B-7A41948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5F7-3902-4397-94A9-07C063F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19A7-2CF5-43D5-96B5-580AAD22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755640" y="3141720"/>
            <a:ext cx="7991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507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企盼世界和平的孩子 </a:t>
            </a:r>
            <a:endParaRPr b="0" lang="en-US" sz="1800" spc="1" strike="noStrike">
              <a:ln w="507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826920" y="4797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PANSHIJIEHEPINGDEHA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580000" y="6021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成都市锦江区大观小学</a:t>
            </a:r>
            <a:r>
              <a:rPr b="1" lang="en-US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G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79280" y="1125360"/>
            <a:ext cx="896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企盼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对和平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盼世界和平的孩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本文中，指的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他身上又发生了些什么事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为什么要企盼世界和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5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企盼世界和平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9528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带着问题去认真读，联系人物、事件、中心去认真想，也是我们常用的阅读文章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395280" y="198900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好！就让我们一起运用方法来解决一个又一个的问题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请孩子们认认真真地读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533520" y="304920"/>
            <a:ext cx="1371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说一说：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119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企盼”是什么意思？它有意思相近的词语吗？找到句子，想一想，看看我们用什么方法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84360" y="3068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雷棣正在成长，一个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企盼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世界和平作贡献的孩子 正在奋发努力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508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非常急切地盼望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比“盼望”表达的程度要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加强了表达的语气，从中可以看出雷棣对世界和平的迫切向往和急切的心情，更能打动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11280" y="1197000"/>
            <a:ext cx="7561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对和平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平指没有战争的状态。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世界是个大家庭，不同制度的国家应该用和平的方式来解决彼此的矛盾和争端，在平等互利的基础上，发展各方面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533520" y="304920"/>
            <a:ext cx="1371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说一说：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68360" y="5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盼世界和平的孩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本文中，指的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他身上又发生了些什么事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为什么要企盼世界和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8360" y="2997360"/>
            <a:ext cx="849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三个问题都和本文的主要人物相关，看看我们怎么来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一个问题不是问题，一看就知道。我们重点来理解后面的两个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53964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他身上又发生了些什么事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什么方面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1916280"/>
            <a:ext cx="842472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雷棣写信给联合国秘书长，表达了他和妈妈对爸爸的深切怀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爸爸的牺牲让雷棣懂事了，觉得应该在生活上帮助妈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雷棣特别关心国际政治，特别是关心那些在战乱中受伤的妇女儿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雷棣发愤地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雷棣谢绝别人的帮助，决心靠自己坚持不懈的努力去完成爸爸未竟的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179280" y="189000"/>
            <a:ext cx="1371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说一说：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514600" y="3809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84360" y="2609280"/>
            <a:ext cx="79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维护和平是爸爸生前的理想。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华文中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记住，孩子，你爸爸是为维护和平牺牲的。</a:t>
            </a:r>
            <a:r>
              <a:rPr b="1" lang="zh-CN" sz="3600" spc="-1" strike="noStrike">
                <a:solidFill>
                  <a:srgbClr val="006600"/>
                </a:solidFill>
                <a:latin typeface="华文中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68360" y="765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雷棣为什么要企盼世界和平？（在文中找一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533520" y="304920"/>
            <a:ext cx="1371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说一说：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26920" y="396252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维护和平是家人对雷棣的希望。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华文中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孩子，等爸爸回来，一定送你一顶蓝盔。</a:t>
            </a:r>
            <a:r>
              <a:rPr b="1" lang="zh-CN" sz="3600" spc="-1" strike="noStrike">
                <a:solidFill>
                  <a:srgbClr val="006600"/>
                </a:solidFill>
                <a:latin typeface="华文中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2050920" y="2602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总 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-159840" y="1197000"/>
            <a:ext cx="1155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企盼世界和平的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900000" y="2420640"/>
            <a:ext cx="1727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900000" y="3573360"/>
            <a:ext cx="17272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2124000" y="1700280"/>
            <a:ext cx="568980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信给联合国秘书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达对失去爸爸的悲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2268360" y="4724280"/>
            <a:ext cx="554364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雷棣企盼自己的愿望能早日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900000" y="3573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2340000" y="3068640"/>
            <a:ext cx="5327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雷棣成长过程中的四件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395280" y="404640"/>
            <a:ext cx="83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评价文章中的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雷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222"/>
          <p:cNvPicPr/>
          <p:nvPr/>
        </p:nvPicPr>
        <p:blipFill>
          <a:blip r:embed="rId1"/>
          <a:stretch/>
        </p:blipFill>
        <p:spPr>
          <a:xfrm>
            <a:off x="971640" y="54936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2008656570267419"/>
          <p:cNvPicPr/>
          <p:nvPr/>
        </p:nvPicPr>
        <p:blipFill>
          <a:blip r:embed="rId2"/>
          <a:stretch/>
        </p:blipFill>
        <p:spPr>
          <a:xfrm>
            <a:off x="4500720" y="476280"/>
            <a:ext cx="3058920" cy="229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xcd1130-1"/>
          <p:cNvPicPr/>
          <p:nvPr/>
        </p:nvPicPr>
        <p:blipFill>
          <a:blip r:embed="rId3"/>
          <a:stretch/>
        </p:blipFill>
        <p:spPr>
          <a:xfrm>
            <a:off x="900000" y="3141720"/>
            <a:ext cx="2735280" cy="251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xcd1136-1"/>
          <p:cNvPicPr/>
          <p:nvPr/>
        </p:nvPicPr>
        <p:blipFill>
          <a:blip r:embed="rId4"/>
          <a:stretch/>
        </p:blipFill>
        <p:spPr>
          <a:xfrm>
            <a:off x="4284720" y="314172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176" name="WordArt 9"/>
          <p:cNvSpPr txBox="1"/>
          <p:nvPr/>
        </p:nvSpPr>
        <p:spPr>
          <a:xfrm>
            <a:off x="2484360" y="5950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的世界并不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4"/>
          <p:cNvSpPr/>
          <p:nvPr/>
        </p:nvSpPr>
        <p:spPr>
          <a:xfrm>
            <a:off x="6837480" y="169704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9"/>
          <p:cNvSpPr/>
          <p:nvPr/>
        </p:nvSpPr>
        <p:spPr>
          <a:xfrm>
            <a:off x="250920" y="29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应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1573200" y="29242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头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3024360" y="29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棣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4489560" y="29415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殉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5951520" y="29415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邦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236080" y="294156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50920" y="3716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本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1619280" y="37162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钢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3059280" y="37893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雷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4572000" y="37893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殉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6012000" y="37893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联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7308720" y="29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回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55268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2554200" y="191628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552840" y="191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454968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43708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644364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7308720" y="37893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回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552760" y="134136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3551400" y="134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d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427640" y="134136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529272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300720" y="134136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m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1619280" y="134136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j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93a8dc97c74fde7854fb962a"/>
          <p:cNvPicPr/>
          <p:nvPr/>
        </p:nvPicPr>
        <p:blipFill>
          <a:blip r:embed="rId1"/>
          <a:stretch/>
        </p:blipFill>
        <p:spPr>
          <a:xfrm>
            <a:off x="179280" y="765000"/>
            <a:ext cx="4105440" cy="508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无标题"/>
          <p:cNvPicPr/>
          <p:nvPr/>
        </p:nvPicPr>
        <p:blipFill>
          <a:blip r:embed="rId2"/>
          <a:srcRect l="0" t="0" r="0" b="3797"/>
          <a:stretch/>
        </p:blipFill>
        <p:spPr>
          <a:xfrm>
            <a:off x="4716360" y="189000"/>
            <a:ext cx="3959280" cy="2287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图片2"/>
          <p:cNvPicPr/>
          <p:nvPr/>
        </p:nvPicPr>
        <p:blipFill>
          <a:blip r:embed="rId3"/>
          <a:stretch/>
        </p:blipFill>
        <p:spPr>
          <a:xfrm>
            <a:off x="4716360" y="2781360"/>
            <a:ext cx="3959280" cy="3095640"/>
          </a:xfrm>
          <a:prstGeom prst="rect">
            <a:avLst/>
          </a:prstGeom>
          <a:ln w="0">
            <a:noFill/>
          </a:ln>
        </p:spPr>
      </p:pic>
      <p:sp>
        <p:nvSpPr>
          <p:cNvPr id="180" name="WordArt 6"/>
          <p:cNvSpPr txBox="1"/>
          <p:nvPr/>
        </p:nvSpPr>
        <p:spPr>
          <a:xfrm>
            <a:off x="2484360" y="59500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的世界并不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 advTm="10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33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547640" y="1413000"/>
            <a:ext cx="5761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2484360" y="544500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的世界并不和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24000" y="5373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中宋"/>
                <a:ea typeface="华文中宋"/>
              </a:rPr>
              <a:t>世   界   需   要   和   平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图片1"/>
          <p:cNvPicPr/>
          <p:nvPr/>
        </p:nvPicPr>
        <p:blipFill>
          <a:blip r:embed="rId1"/>
          <a:stretch/>
        </p:blipFill>
        <p:spPr>
          <a:xfrm>
            <a:off x="1547640" y="765000"/>
            <a:ext cx="590580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28600" y="237600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中的雷棣还小，他还不能进入联合国，不能参与维和行动，但是，他在用自己的行动努力着，为今后维护世界和平打下基础。千言万语道不尽我们对和平的企盼，我们无法阻止战争，但我们能够不断壮大和平的力量，让我们将心中的渴望化作共同的声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我们和雷棣一起企盼世界和平吧！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1258920" y="1863720"/>
            <a:ext cx="6335640" cy="499428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526320 h 4994280"/>
              <a:gd name="textAreaBottom" fmla="*/ 3162240 h 4994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期待战火消失在世界的每一个角落</a:t>
            </a:r>
            <a:r>
              <a:rPr b="1" lang="en-US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渴求各国小朋友能够携手将来，共抱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平与幸福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。请你给远方战火中的伙伴们写写心里话，送上最诚挚的祝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1"/>
          <p:cNvPicPr/>
          <p:nvPr/>
        </p:nvPicPr>
        <p:blipFill>
          <a:blip r:embed="rId1"/>
          <a:stretch/>
        </p:blipFill>
        <p:spPr>
          <a:xfrm>
            <a:off x="6659640" y="508464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01"/>
          <p:cNvPicPr/>
          <p:nvPr/>
        </p:nvPicPr>
        <p:blipFill>
          <a:blip r:embed="rId2"/>
          <a:stretch/>
        </p:blipFill>
        <p:spPr>
          <a:xfrm>
            <a:off x="4067280" y="1628640"/>
            <a:ext cx="1008000" cy="8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01"/>
          <p:cNvPicPr/>
          <p:nvPr/>
        </p:nvPicPr>
        <p:blipFill>
          <a:blip r:embed="rId3"/>
          <a:stretch/>
        </p:blipFill>
        <p:spPr>
          <a:xfrm>
            <a:off x="8283600" y="134136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01"/>
          <p:cNvPicPr/>
          <p:nvPr/>
        </p:nvPicPr>
        <p:blipFill>
          <a:blip r:embed="rId4"/>
          <a:stretch/>
        </p:blipFill>
        <p:spPr>
          <a:xfrm>
            <a:off x="611280" y="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01"/>
          <p:cNvPicPr/>
          <p:nvPr/>
        </p:nvPicPr>
        <p:blipFill>
          <a:blip r:embed="rId5"/>
          <a:stretch/>
        </p:blipFill>
        <p:spPr>
          <a:xfrm>
            <a:off x="468360" y="4508640"/>
            <a:ext cx="860400" cy="879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"/>
          <p:cNvSpPr/>
          <p:nvPr/>
        </p:nvSpPr>
        <p:spPr>
          <a:xfrm>
            <a:off x="2340000" y="314172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3059280" y="2924280"/>
            <a:ext cx="3024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00ff00"/>
                  </a:solidFill>
                  <a:miter/>
                </a:ln>
                <a:solidFill>
                  <a:srgbClr val="ff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祝    福</a:t>
            </a:r>
            <a:endParaRPr b="1" lang="en-US" sz="6000" spc="1" strike="noStrike">
              <a:ln w="44280">
                <a:solidFill>
                  <a:srgbClr val="00ff00"/>
                </a:solidFill>
                <a:miter/>
              </a:ln>
              <a:solidFill>
                <a:srgbClr val="ff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2268360" y="2133720"/>
            <a:ext cx="466092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250920" y="260280"/>
            <a:ext cx="8713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课后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看拼音写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 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kǎi x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xùn 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xī shēng  chén jì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éi hù  j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xùn  jì chéng  yāo q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给加点的字选择正确的读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沉浸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n qì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殉职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n xù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享受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ǎng x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麻烦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n f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扑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 p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蓝盔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ī gu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比一比，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（）殉（）邦（）盔（）陶（） 驻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诫（）询（）帮（）灰（）掏（） 注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静  安静  寂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睡得很（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58920" y="3141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276720" y="3141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651640" y="3141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258920" y="364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276720" y="364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6012000" y="364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50920" y="260280"/>
            <a:ext cx="871380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桌上照片里地爸爸一如往日，用（）的目光望着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晚的山林（）无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扩写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家人沉浸在悲痛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为外国朋友指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缩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虎头虎脑的中国男孩子宣读了他写给联合国秘书长的一封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来自丹麦哥本哈根大学的教授想帮助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、战争是残酷的，战争会给人们带来灾难，请你设计一句主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争与和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益广告语，以警示后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和平，不要战争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争是洪岁水猛兽，让它远离我们吧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9"/>
          <p:cNvSpPr/>
          <p:nvPr/>
        </p:nvSpPr>
        <p:spPr>
          <a:xfrm>
            <a:off x="186840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2870280" y="191628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3868560" y="1916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486576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5867280" y="19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6865920" y="1916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577800" y="463860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鉴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1996920" y="46386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邀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3413160" y="463860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教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4827600" y="463860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安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6246720" y="4638600"/>
            <a:ext cx="11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驻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1839960" y="4005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2841480" y="400536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3840120" y="400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836960" y="4005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5838840" y="400536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577800" y="262260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换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996920" y="26226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凯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3413160" y="262260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牺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827600" y="262260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殉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6246720" y="2622600"/>
            <a:ext cx="11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摔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7662960" y="262260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央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1"/>
          <p:cNvSpPr/>
          <p:nvPr/>
        </p:nvSpPr>
        <p:spPr>
          <a:xfrm>
            <a:off x="539640" y="981000"/>
            <a:ext cx="122400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851120" y="14130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j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2852640" y="141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3995640" y="14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4788000" y="1413000"/>
            <a:ext cx="10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5867280" y="141300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6804000" y="1413000"/>
            <a:ext cx="11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841400" y="350028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ji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2843280" y="350028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708360" y="3500280"/>
            <a:ext cx="10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sh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838760" y="3500280"/>
            <a:ext cx="11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840280" y="3500280"/>
            <a:ext cx="11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9"/>
          <p:cNvSpPr/>
          <p:nvPr/>
        </p:nvSpPr>
        <p:spPr>
          <a:xfrm>
            <a:off x="395280" y="981000"/>
            <a:ext cx="1512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积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324000" y="1659960"/>
            <a:ext cx="835344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企盼  回眸  殉难  沉浸  雷棣  继承  凯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荣归  教训  照顾  宣读  叮嘱  贡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泣不成声  了如指掌  虎头虎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泣不成声  一如往日  心中有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头虎脑的男孩 失去亲人的悲痛 饱受战争的苦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沉默的儿子  平静的目光 热情地接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美的鲜花  深情的回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95280" y="981000"/>
            <a:ext cx="1512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24000" y="2492280"/>
            <a:ext cx="83534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届（）殉（）邦（）盔（）陶（） 驻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诫（）询（）帮（）灰（）掏（） 注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时  殉难  邦交  头盔  陶醉   驻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诫  询问  帮助  灰尘  掏东西 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981000"/>
            <a:ext cx="180000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03280" y="2421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 rot="10800000">
            <a:off x="1368360" y="2096640"/>
            <a:ext cx="108000" cy="1187640"/>
          </a:xfrm>
          <a:custGeom>
            <a:avLst/>
            <a:gdLst>
              <a:gd name="textAreaLeft" fmla="*/ 0 w 108000"/>
              <a:gd name="textAreaRight" fmla="*/ 38880 w 10800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476360" y="1989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悄悄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5127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悄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392720" y="2347920"/>
            <a:ext cx="97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1989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400720" y="2852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 rot="10800000">
            <a:off x="5256000" y="2131560"/>
            <a:ext cx="107640" cy="1187640"/>
          </a:xfrm>
          <a:custGeom>
            <a:avLst/>
            <a:gdLst>
              <a:gd name="textAreaLeft" fmla="*/ 0 w 107640"/>
              <a:gd name="textAreaRight" fmla="*/ 38880 w 10764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04720" y="414828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476360" y="378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搁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512720" y="465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耽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 rot="10800000">
            <a:off x="1368360" y="3932280"/>
            <a:ext cx="108000" cy="1187280"/>
          </a:xfrm>
          <a:custGeom>
            <a:avLst/>
            <a:gdLst>
              <a:gd name="textAreaLeft" fmla="*/ 0 w 108000"/>
              <a:gd name="textAreaRight" fmla="*/ 38880 w 10800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321080" y="414828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5292720" y="378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329080" y="465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卡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1"/>
          <p:cNvSpPr/>
          <p:nvPr/>
        </p:nvSpPr>
        <p:spPr>
          <a:xfrm rot="10800000">
            <a:off x="5184720" y="3932280"/>
            <a:ext cx="108000" cy="1187280"/>
          </a:xfrm>
          <a:custGeom>
            <a:avLst/>
            <a:gdLst>
              <a:gd name="textAreaLeft" fmla="*/ 0 w 108000"/>
              <a:gd name="textAreaRight" fmla="*/ 38880 w 10800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24000" y="981000"/>
            <a:ext cx="17269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会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981000"/>
            <a:ext cx="180000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79280" y="981000"/>
            <a:ext cx="2521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会近、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395280" y="17622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近：企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  叮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  贡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95280" y="3357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反：坚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  巨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  诚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2411280" y="1773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期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932360" y="17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叮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7524720" y="17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奉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411280" y="335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软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493236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渺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752472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虚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50920" y="981000"/>
            <a:ext cx="180000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会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981000"/>
            <a:ext cx="187164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会用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79280" y="1690560"/>
            <a:ext cx="878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盼：同学们企盼在期末检测中取得优秀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沉浸：同学们一个一个都沉浸在优美的歌声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泣不成声：听到爷爷去世的消息，我泣不成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如指掌：高老师对我们班的情况了如指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4067280" y="981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195640" y="1989000"/>
            <a:ext cx="540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习课文</a:t>
            </a:r>
            <a:endParaRPr b="1" lang="en-US" sz="5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8:54:44Z</dcterms:created>
  <dc:creator>微软用户</dc:creator>
  <dc:description/>
  <dc:language>en-US</dc:language>
  <cp:lastModifiedBy>lbx777</cp:lastModifiedBy>
  <dcterms:modified xsi:type="dcterms:W3CDTF">2016-01-18T03:49:02Z</dcterms:modified>
  <cp:revision>26</cp:revision>
  <dc:subject/>
  <dc:title>幻灯片 1</dc:title>
</cp:coreProperties>
</file>