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fld id="{7F83951A-7079-4B06-BB4A-7DFB83BBC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1520" cy="40068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6640" bIns="2664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fld id="{9030E3AB-E43E-4495-88AC-6075F830EE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C0CA5-51E4-4AB7-93E8-1663A18D4D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67354-20E1-43B9-B64A-78F8655B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AFEFD-2E1F-4EDE-8D65-6AD54F43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C340E-D352-405D-A365-55A0AFA004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99CEE-A6C3-4364-8715-6E302FA27E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D8511-D519-4019-8BBA-6B1B1E83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49B7B-18C1-475A-8DB6-ECFD3D50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EF7F8-0C1C-4616-861E-6E516B9B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78BBE-0D67-4ED9-AED3-48C7CBA9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2520"/>
            <a:ext cx="1097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7F7E6-7D1D-4A49-BE29-6ED0DDB3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EE012-977C-40E5-BA2E-30D9B7C3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8117C-2BA8-4438-A5F9-E9331208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F7F72-C650-4D07-8046-D9230335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90ADA-7747-482C-81DC-AA86E0F3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F038E-4451-4236-ABEF-DB498F83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988C3-CBAB-4B11-AA77-5AFE0025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124A2-8C61-4963-8A9B-000350BA7B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5375B-D602-4873-B42B-412BD2EF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B3E91-AFEC-46C7-A392-860B3F6D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77580-6156-422C-A3DA-4DE16F63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2520"/>
            <a:ext cx="1097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4FDF1-8CC5-44AF-A5AF-C7E9387B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B85D2-BA14-4CF3-9DB1-6C201D39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367B2-456E-4968-A90A-B22F2293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8CD1-D664-40D7-8D62-56A8361D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  <a:defRPr b="0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10/22/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文本框 102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fld id="{EFC92ED5-023D-42EE-9E5C-B26CB46097B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6640" bIns="266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54720" bIns="2664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  <a:defRPr b="0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10/22/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07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fld id="{F766762B-4728-4F03-88DD-42F6AE886F6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8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5120" descr=""/>
          <p:cNvPicPr/>
          <p:nvPr/>
        </p:nvPicPr>
        <p:blipFill>
          <a:blip r:embed="rId1"/>
          <a:stretch/>
        </p:blipFill>
        <p:spPr>
          <a:xfrm>
            <a:off x="3576600" y="0"/>
            <a:ext cx="4680000" cy="47433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5121" descr=""/>
          <p:cNvPicPr/>
          <p:nvPr/>
        </p:nvPicPr>
        <p:blipFill>
          <a:blip r:embed="rId2"/>
          <a:stretch/>
        </p:blipFill>
        <p:spPr>
          <a:xfrm>
            <a:off x="-3300480" y="4510080"/>
            <a:ext cx="18246960" cy="35132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5122" descr=""/>
          <p:cNvPicPr/>
          <p:nvPr/>
        </p:nvPicPr>
        <p:blipFill>
          <a:blip r:embed="rId3"/>
          <a:stretch/>
        </p:blipFill>
        <p:spPr>
          <a:xfrm>
            <a:off x="3792600" y="260280"/>
            <a:ext cx="4683240" cy="47624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5123" descr=""/>
          <p:cNvPicPr/>
          <p:nvPr/>
        </p:nvPicPr>
        <p:blipFill>
          <a:blip r:embed="rId4"/>
          <a:stretch/>
        </p:blipFill>
        <p:spPr>
          <a:xfrm>
            <a:off x="3576600" y="0"/>
            <a:ext cx="4680000" cy="47322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5124" descr=""/>
          <p:cNvPicPr/>
          <p:nvPr/>
        </p:nvPicPr>
        <p:blipFill>
          <a:blip r:embed="rId5"/>
          <a:stretch/>
        </p:blipFill>
        <p:spPr>
          <a:xfrm>
            <a:off x="5916600" y="2214720"/>
            <a:ext cx="860400" cy="9442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5125" descr=""/>
          <p:cNvPicPr/>
          <p:nvPr/>
        </p:nvPicPr>
        <p:blipFill>
          <a:blip r:embed="rId6"/>
          <a:stretch/>
        </p:blipFill>
        <p:spPr>
          <a:xfrm>
            <a:off x="1919160" y="404640"/>
            <a:ext cx="1895760" cy="52866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126" descr=""/>
          <p:cNvPicPr/>
          <p:nvPr/>
        </p:nvPicPr>
        <p:blipFill>
          <a:blip r:embed="rId7"/>
          <a:stretch/>
        </p:blipFill>
        <p:spPr>
          <a:xfrm>
            <a:off x="9083520" y="4743360"/>
            <a:ext cx="1704960" cy="971640"/>
          </a:xfrm>
          <a:prstGeom prst="rect">
            <a:avLst/>
          </a:prstGeom>
          <a:ln w="0">
            <a:noFill/>
          </a:ln>
        </p:spPr>
      </p:pic>
      <p:sp>
        <p:nvSpPr>
          <p:cNvPr id="96" name="矩形 5127"/>
          <p:cNvSpPr/>
          <p:nvPr/>
        </p:nvSpPr>
        <p:spPr>
          <a:xfrm>
            <a:off x="1900080" y="5773680"/>
            <a:ext cx="78184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临泉实验中学                程婷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11265"/>
          <p:cNvGrpSpPr/>
          <p:nvPr/>
        </p:nvGrpSpPr>
        <p:grpSpPr>
          <a:xfrm>
            <a:off x="49320" y="57240"/>
            <a:ext cx="5709960" cy="4131720"/>
            <a:chOff x="49320" y="57240"/>
            <a:chExt cx="5709960" cy="4131720"/>
          </a:xfrm>
        </p:grpSpPr>
        <p:pic>
          <p:nvPicPr>
            <p:cNvPr id="98" name="图片 11266" descr=""/>
            <p:cNvPicPr/>
            <p:nvPr/>
          </p:nvPicPr>
          <p:blipFill>
            <a:blip r:embed="rId1"/>
            <a:stretch/>
          </p:blipFill>
          <p:spPr>
            <a:xfrm>
              <a:off x="49320" y="57240"/>
              <a:ext cx="5709960" cy="59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图片 11267" descr=""/>
            <p:cNvPicPr/>
            <p:nvPr/>
          </p:nvPicPr>
          <p:blipFill>
            <a:blip r:embed="rId2"/>
            <a:stretch/>
          </p:blipFill>
          <p:spPr>
            <a:xfrm>
              <a:off x="49320" y="549000"/>
              <a:ext cx="1475640" cy="363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横卷形 7"/>
          <p:cNvGrpSpPr/>
          <p:nvPr/>
        </p:nvGrpSpPr>
        <p:grpSpPr>
          <a:xfrm>
            <a:off x="1511280" y="73080"/>
            <a:ext cx="5078520" cy="1706400"/>
            <a:chOff x="1511280" y="73080"/>
            <a:chExt cx="5078520" cy="1706400"/>
          </a:xfrm>
        </p:grpSpPr>
        <p:pic>
          <p:nvPicPr>
            <p:cNvPr id="101" name="横卷形 7" descr=""/>
            <p:cNvPicPr/>
            <p:nvPr/>
          </p:nvPicPr>
          <p:blipFill>
            <a:blip r:embed="rId3"/>
            <a:stretch/>
          </p:blipFill>
          <p:spPr>
            <a:xfrm>
              <a:off x="1511280" y="73080"/>
              <a:ext cx="507852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854360" y="403200"/>
              <a:ext cx="44719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导入新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4" descr="图片"/>
          <p:cNvPicPr/>
          <p:nvPr/>
        </p:nvPicPr>
        <p:blipFill>
          <a:blip r:embed="rId4"/>
          <a:stretch/>
        </p:blipFill>
        <p:spPr>
          <a:xfrm>
            <a:off x="1641600" y="1719360"/>
            <a:ext cx="6568920" cy="4889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图片"/>
          <p:cNvPicPr/>
          <p:nvPr/>
        </p:nvPicPr>
        <p:blipFill>
          <a:blip r:embed="rId5"/>
          <a:stretch/>
        </p:blipFill>
        <p:spPr>
          <a:xfrm>
            <a:off x="1730520" y="1673280"/>
            <a:ext cx="6495840" cy="4905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图片"/>
          <p:cNvPicPr/>
          <p:nvPr/>
        </p:nvPicPr>
        <p:blipFill>
          <a:blip r:embed="rId6"/>
          <a:stretch/>
        </p:blipFill>
        <p:spPr>
          <a:xfrm>
            <a:off x="1685880" y="1628640"/>
            <a:ext cx="6705720" cy="4996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11265"/>
          <p:cNvGrpSpPr/>
          <p:nvPr/>
        </p:nvGrpSpPr>
        <p:grpSpPr>
          <a:xfrm>
            <a:off x="49320" y="57240"/>
            <a:ext cx="5709960" cy="4131720"/>
            <a:chOff x="49320" y="57240"/>
            <a:chExt cx="5709960" cy="4131720"/>
          </a:xfrm>
        </p:grpSpPr>
        <p:pic>
          <p:nvPicPr>
            <p:cNvPr id="107" name="图片 11266" descr=""/>
            <p:cNvPicPr/>
            <p:nvPr/>
          </p:nvPicPr>
          <p:blipFill>
            <a:blip r:embed="rId1"/>
            <a:stretch/>
          </p:blipFill>
          <p:spPr>
            <a:xfrm>
              <a:off x="49320" y="57240"/>
              <a:ext cx="5709960" cy="59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图片 11267" descr=""/>
            <p:cNvPicPr/>
            <p:nvPr/>
          </p:nvPicPr>
          <p:blipFill>
            <a:blip r:embed="rId2"/>
            <a:stretch/>
          </p:blipFill>
          <p:spPr>
            <a:xfrm>
              <a:off x="49320" y="549000"/>
              <a:ext cx="1475640" cy="363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横卷形 6"/>
          <p:cNvGrpSpPr/>
          <p:nvPr/>
        </p:nvGrpSpPr>
        <p:grpSpPr>
          <a:xfrm>
            <a:off x="1689120" y="390600"/>
            <a:ext cx="5076720" cy="1700280"/>
            <a:chOff x="1689120" y="390600"/>
            <a:chExt cx="5076720" cy="1700280"/>
          </a:xfrm>
        </p:grpSpPr>
        <p:pic>
          <p:nvPicPr>
            <p:cNvPr id="110" name="横卷形 6" descr=""/>
            <p:cNvPicPr/>
            <p:nvPr/>
          </p:nvPicPr>
          <p:blipFill>
            <a:blip r:embed="rId3"/>
            <a:stretch/>
          </p:blipFill>
          <p:spPr>
            <a:xfrm>
              <a:off x="1689120" y="390600"/>
              <a:ext cx="50767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035080" y="717480"/>
              <a:ext cx="4471920" cy="10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明确教学目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圆角矩形 7"/>
          <p:cNvSpPr/>
          <p:nvPr/>
        </p:nvSpPr>
        <p:spPr>
          <a:xfrm>
            <a:off x="1011240" y="2349360"/>
            <a:ext cx="10125000" cy="418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f3e9"/>
              </a:gs>
              <a:gs pos="100000">
                <a:srgbClr val="c7eddd"/>
              </a:gs>
            </a:gsLst>
            <a:lin ang="5400000"/>
          </a:gradFill>
          <a:ln w="6480">
            <a:solidFill>
              <a:srgbClr val="aae2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明确作者在抒写对“绿”的热爱之情当中，表达出来的对生命的爱，对光明、自由的向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了解本文所运用的象征手法，让学生在阅读中明确“绿”的象征意义，并在写作中加以运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圆角矩形 9"/>
          <p:cNvSpPr/>
          <p:nvPr/>
        </p:nvSpPr>
        <p:spPr>
          <a:xfrm>
            <a:off x="560520" y="2079720"/>
            <a:ext cx="10980720" cy="4363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f3e9"/>
              </a:gs>
              <a:gs pos="100000">
                <a:srgbClr val="c7eddd"/>
              </a:gs>
            </a:gsLst>
            <a:lin ang="5400000"/>
          </a:gradFill>
          <a:ln w="6480">
            <a:solidFill>
              <a:srgbClr val="aae2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11265"/>
          <p:cNvGrpSpPr/>
          <p:nvPr/>
        </p:nvGrpSpPr>
        <p:grpSpPr>
          <a:xfrm>
            <a:off x="49320" y="57240"/>
            <a:ext cx="5709960" cy="4131720"/>
            <a:chOff x="49320" y="57240"/>
            <a:chExt cx="5709960" cy="4131720"/>
          </a:xfrm>
        </p:grpSpPr>
        <p:pic>
          <p:nvPicPr>
            <p:cNvPr id="115" name="图片 11267" descr=""/>
            <p:cNvPicPr/>
            <p:nvPr/>
          </p:nvPicPr>
          <p:blipFill>
            <a:blip r:embed="rId1"/>
            <a:stretch/>
          </p:blipFill>
          <p:spPr>
            <a:xfrm>
              <a:off x="49320" y="549000"/>
              <a:ext cx="1475640" cy="363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图片 11266" descr=""/>
            <p:cNvPicPr/>
            <p:nvPr/>
          </p:nvPicPr>
          <p:blipFill>
            <a:blip r:embed="rId2"/>
            <a:stretch/>
          </p:blipFill>
          <p:spPr>
            <a:xfrm>
              <a:off x="49320" y="57240"/>
              <a:ext cx="5709960" cy="59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矩形 11270"/>
          <p:cNvSpPr/>
          <p:nvPr/>
        </p:nvSpPr>
        <p:spPr>
          <a:xfrm>
            <a:off x="1820880" y="2573280"/>
            <a:ext cx="774072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08694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速读课文，理清写作思路及感情线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08694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、回答一下问题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08694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绿是什么？为什么囚绿？怎样囚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08694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、圈点批注文中最能打动你的地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086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横卷形 8"/>
          <p:cNvGrpSpPr/>
          <p:nvPr/>
        </p:nvGrpSpPr>
        <p:grpSpPr>
          <a:xfrm>
            <a:off x="1238400" y="298440"/>
            <a:ext cx="5076720" cy="1706400"/>
            <a:chOff x="1238400" y="298440"/>
            <a:chExt cx="5076720" cy="1706400"/>
          </a:xfrm>
        </p:grpSpPr>
        <p:pic>
          <p:nvPicPr>
            <p:cNvPr id="119" name="横卷形 8" descr=""/>
            <p:cNvPicPr/>
            <p:nvPr/>
          </p:nvPicPr>
          <p:blipFill>
            <a:blip r:embed="rId3"/>
            <a:stretch/>
          </p:blipFill>
          <p:spPr>
            <a:xfrm>
              <a:off x="1238400" y="298440"/>
              <a:ext cx="507672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584360" y="627120"/>
              <a:ext cx="447192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走进那抹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1825200"/>
            <a:ext cx="5151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70520" y="176364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7200" spc="-1" strike="noStrike">
                <a:solidFill>
                  <a:srgbClr val="33cc33"/>
                </a:solidFill>
                <a:latin typeface="黑体"/>
                <a:ea typeface="黑体"/>
              </a:rPr>
              <a:t>绿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藤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9291600" y="2889360"/>
            <a:ext cx="406440" cy="761760"/>
          </a:xfrm>
          <a:prstGeom prst="downArrow">
            <a:avLst>
              <a:gd name="adj1" fmla="val 50000"/>
              <a:gd name="adj2" fmla="val 62474"/>
            </a:avLst>
          </a:prstGeom>
          <a:gradFill rotWithShape="0">
            <a:gsLst>
              <a:gs pos="0">
                <a:srgbClr val="00cc99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get?name=T1Xw3bBjWT1RCvBVdK"/>
          <p:cNvPicPr/>
          <p:nvPr/>
        </p:nvPicPr>
        <p:blipFill>
          <a:blip r:embed="rId1"/>
          <a:stretch/>
        </p:blipFill>
        <p:spPr>
          <a:xfrm>
            <a:off x="785880" y="1989000"/>
            <a:ext cx="7111800" cy="464364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11265"/>
          <p:cNvGrpSpPr/>
          <p:nvPr/>
        </p:nvGrpSpPr>
        <p:grpSpPr>
          <a:xfrm>
            <a:off x="0" y="57240"/>
            <a:ext cx="5761080" cy="4178160"/>
            <a:chOff x="0" y="57240"/>
            <a:chExt cx="5761080" cy="4178160"/>
          </a:xfrm>
        </p:grpSpPr>
        <p:pic>
          <p:nvPicPr>
            <p:cNvPr id="126" name="图片 11267" descr=""/>
            <p:cNvPicPr/>
            <p:nvPr/>
          </p:nvPicPr>
          <p:blipFill>
            <a:blip r:embed="rId2"/>
            <a:stretch/>
          </p:blipFill>
          <p:spPr>
            <a:xfrm>
              <a:off x="0" y="593640"/>
              <a:ext cx="1476360" cy="364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图片 11266" descr=""/>
            <p:cNvPicPr/>
            <p:nvPr/>
          </p:nvPicPr>
          <p:blipFill>
            <a:blip r:embed="rId3"/>
            <a:stretch/>
          </p:blipFill>
          <p:spPr>
            <a:xfrm>
              <a:off x="49320" y="57240"/>
              <a:ext cx="5711760" cy="59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标题 9"/>
          <p:cNvGrpSpPr/>
          <p:nvPr/>
        </p:nvGrpSpPr>
        <p:grpSpPr>
          <a:xfrm>
            <a:off x="1554120" y="298440"/>
            <a:ext cx="5791320" cy="1397160"/>
            <a:chOff x="1554120" y="298440"/>
            <a:chExt cx="5791320" cy="1397160"/>
          </a:xfrm>
        </p:grpSpPr>
        <p:pic>
          <p:nvPicPr>
            <p:cNvPr id="129" name="标题 9" descr=""/>
            <p:cNvPicPr/>
            <p:nvPr/>
          </p:nvPicPr>
          <p:blipFill>
            <a:blip r:embed="rId4"/>
            <a:stretch/>
          </p:blipFill>
          <p:spPr>
            <a:xfrm>
              <a:off x="1554120" y="298440"/>
              <a:ext cx="579132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860480" y="588960"/>
              <a:ext cx="5243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2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走进那抹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圆角矩形 20"/>
          <p:cNvSpPr/>
          <p:nvPr/>
        </p:nvSpPr>
        <p:spPr>
          <a:xfrm>
            <a:off x="425520" y="1808280"/>
            <a:ext cx="10980720" cy="436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f3e9"/>
              </a:gs>
              <a:gs pos="100000">
                <a:srgbClr val="c7eddd"/>
              </a:gs>
            </a:gsLst>
            <a:lin ang="5400000"/>
          </a:gradFill>
          <a:ln w="6480">
            <a:solidFill>
              <a:srgbClr val="aae2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11265"/>
          <p:cNvGrpSpPr/>
          <p:nvPr/>
        </p:nvGrpSpPr>
        <p:grpSpPr>
          <a:xfrm>
            <a:off x="49320" y="57240"/>
            <a:ext cx="5709960" cy="4131720"/>
            <a:chOff x="49320" y="57240"/>
            <a:chExt cx="5709960" cy="4131720"/>
          </a:xfrm>
        </p:grpSpPr>
        <p:pic>
          <p:nvPicPr>
            <p:cNvPr id="133" name="图片 11267" descr=""/>
            <p:cNvPicPr/>
            <p:nvPr/>
          </p:nvPicPr>
          <p:blipFill>
            <a:blip r:embed="rId1"/>
            <a:stretch/>
          </p:blipFill>
          <p:spPr>
            <a:xfrm>
              <a:off x="49320" y="549000"/>
              <a:ext cx="1475640" cy="363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图片 11266" descr=""/>
            <p:cNvPicPr/>
            <p:nvPr/>
          </p:nvPicPr>
          <p:blipFill>
            <a:blip r:embed="rId2"/>
            <a:stretch/>
          </p:blipFill>
          <p:spPr>
            <a:xfrm>
              <a:off x="49320" y="57240"/>
              <a:ext cx="5709960" cy="59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Text Box 3"/>
          <p:cNvSpPr/>
          <p:nvPr/>
        </p:nvSpPr>
        <p:spPr>
          <a:xfrm>
            <a:off x="5486400" y="1676520"/>
            <a:ext cx="184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09480" y="1860480"/>
            <a:ext cx="5079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囚绿之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-----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384880" y="1905120"/>
            <a:ext cx="2133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喜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7721640" y="1905120"/>
            <a:ext cx="18288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留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9855360" y="1905120"/>
            <a:ext cx="2336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爱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09480" y="2895480"/>
            <a:ext cx="4775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囚绿之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---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609480" y="3886200"/>
            <a:ext cx="49784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囚绿之状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-----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384880" y="3886200"/>
            <a:ext cx="20318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蓬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7721640" y="3886200"/>
            <a:ext cx="18288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固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>
            <a:hlinkClick r:id="rId3" action="ppaction://hlinksldjump"/>
          </p:cNvPr>
          <p:cNvSpPr/>
          <p:nvPr/>
        </p:nvSpPr>
        <p:spPr>
          <a:xfrm>
            <a:off x="9855360" y="3886200"/>
            <a:ext cx="19303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向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4856040" y="4822920"/>
            <a:ext cx="184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609480" y="4908600"/>
            <a:ext cx="48769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囚绿之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---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5384880" y="2971800"/>
            <a:ext cx="68072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伸出  牵进  囚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975640" y="4952880"/>
            <a:ext cx="3533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开释  祝福  怀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横卷形 19"/>
          <p:cNvGrpSpPr/>
          <p:nvPr/>
        </p:nvGrpSpPr>
        <p:grpSpPr>
          <a:xfrm>
            <a:off x="2004840" y="-12600"/>
            <a:ext cx="5078520" cy="1701720"/>
            <a:chOff x="2004840" y="-12600"/>
            <a:chExt cx="5078520" cy="1701720"/>
          </a:xfrm>
        </p:grpSpPr>
        <p:pic>
          <p:nvPicPr>
            <p:cNvPr id="150" name="横卷形 19" descr=""/>
            <p:cNvPicPr/>
            <p:nvPr/>
          </p:nvPicPr>
          <p:blipFill>
            <a:blip r:embed="rId4"/>
            <a:stretch/>
          </p:blipFill>
          <p:spPr>
            <a:xfrm>
              <a:off x="2004840" y="-12600"/>
              <a:ext cx="507852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349360" y="312840"/>
              <a:ext cx="447228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探究那抹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读美文理清思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11265"/>
          <p:cNvGrpSpPr/>
          <p:nvPr/>
        </p:nvGrpSpPr>
        <p:grpSpPr>
          <a:xfrm>
            <a:off x="49320" y="57240"/>
            <a:ext cx="5709960" cy="4131720"/>
            <a:chOff x="49320" y="57240"/>
            <a:chExt cx="5709960" cy="4131720"/>
          </a:xfrm>
        </p:grpSpPr>
        <p:pic>
          <p:nvPicPr>
            <p:cNvPr id="153" name="图片 11267" descr=""/>
            <p:cNvPicPr/>
            <p:nvPr/>
          </p:nvPicPr>
          <p:blipFill>
            <a:blip r:embed="rId1"/>
            <a:stretch/>
          </p:blipFill>
          <p:spPr>
            <a:xfrm>
              <a:off x="49320" y="549000"/>
              <a:ext cx="1475640" cy="363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图片 11266" descr=""/>
            <p:cNvPicPr/>
            <p:nvPr/>
          </p:nvPicPr>
          <p:blipFill>
            <a:blip r:embed="rId2"/>
            <a:stretch/>
          </p:blipFill>
          <p:spPr>
            <a:xfrm>
              <a:off x="49320" y="57240"/>
              <a:ext cx="5709960" cy="59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横卷形 8"/>
          <p:cNvGrpSpPr/>
          <p:nvPr/>
        </p:nvGrpSpPr>
        <p:grpSpPr>
          <a:xfrm>
            <a:off x="2139840" y="523800"/>
            <a:ext cx="5845320" cy="1706760"/>
            <a:chOff x="2139840" y="523800"/>
            <a:chExt cx="5845320" cy="1706760"/>
          </a:xfrm>
        </p:grpSpPr>
        <p:pic>
          <p:nvPicPr>
            <p:cNvPr id="156" name="横卷形 8" descr=""/>
            <p:cNvPicPr/>
            <p:nvPr/>
          </p:nvPicPr>
          <p:blipFill>
            <a:blip r:embed="rId3"/>
            <a:stretch/>
          </p:blipFill>
          <p:spPr>
            <a:xfrm>
              <a:off x="2139840" y="523800"/>
              <a:ext cx="584532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484360" y="852480"/>
              <a:ext cx="523728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体悟那抹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探究绿的深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圆角矩形 5"/>
          <p:cNvSpPr/>
          <p:nvPr/>
        </p:nvSpPr>
        <p:spPr>
          <a:xfrm>
            <a:off x="515880" y="2259000"/>
            <a:ext cx="10980720" cy="4365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f3e9"/>
              </a:gs>
              <a:gs pos="100000">
                <a:srgbClr val="c7eddd"/>
              </a:gs>
            </a:gsLst>
            <a:lin ang="5400000"/>
          </a:gradFill>
          <a:ln w="6480">
            <a:solidFill>
              <a:srgbClr val="aae2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本人曾提审陆蠡，问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爱国吗？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爱国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赞成南京政府（汪伪政权）么？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赞成？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你看，日本人能不能征服中国？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绝对不能征服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本人勃然大怒，给他上了酷刑。但陆蠡英勇不屈，终         因受刑过重，失血过多而牺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圆角矩形 7"/>
          <p:cNvSpPr/>
          <p:nvPr/>
        </p:nvSpPr>
        <p:spPr>
          <a:xfrm>
            <a:off x="515880" y="2259000"/>
            <a:ext cx="10980720" cy="4365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f3e9"/>
              </a:gs>
              <a:gs pos="100000">
                <a:srgbClr val="c7eddd"/>
              </a:gs>
            </a:gsLst>
            <a:lin ang="5400000"/>
          </a:gradFill>
          <a:ln w="6480">
            <a:solidFill>
              <a:srgbClr val="aae2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2409840"/>
            <a:ext cx="1051560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仿宋"/>
              </a:rPr>
              <a:t>       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华文仿宋"/>
              </a:rPr>
              <a:t> 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华文仿宋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</a:rPr>
              <a:t>其实我们每个人就是一抹绿色，免不了要被生活的苦难和痛苦囚住。遗憾的是，有的没有能够永远向着阳光生长，枯萎了！你能举出一些被人生的苦难“囚住”了但“永远向着阳光生长”的“常春藤”吗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组合 22529"/>
          <p:cNvGrpSpPr/>
          <p:nvPr/>
        </p:nvGrpSpPr>
        <p:grpSpPr>
          <a:xfrm>
            <a:off x="49320" y="-3240"/>
            <a:ext cx="5709960" cy="4132080"/>
            <a:chOff x="49320" y="-3240"/>
            <a:chExt cx="5709960" cy="4132080"/>
          </a:xfrm>
        </p:grpSpPr>
        <p:pic>
          <p:nvPicPr>
            <p:cNvPr id="162" name="图片 22530" descr=""/>
            <p:cNvPicPr/>
            <p:nvPr/>
          </p:nvPicPr>
          <p:blipFill>
            <a:blip r:embed="rId1"/>
            <a:stretch/>
          </p:blipFill>
          <p:spPr>
            <a:xfrm>
              <a:off x="49320" y="-3240"/>
              <a:ext cx="57099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图片 22531" descr=""/>
            <p:cNvPicPr/>
            <p:nvPr/>
          </p:nvPicPr>
          <p:blipFill>
            <a:blip r:embed="rId2"/>
            <a:stretch/>
          </p:blipFill>
          <p:spPr>
            <a:xfrm>
              <a:off x="49320" y="488520"/>
              <a:ext cx="1475640" cy="364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横卷形 6"/>
          <p:cNvGrpSpPr/>
          <p:nvPr/>
        </p:nvGrpSpPr>
        <p:grpSpPr>
          <a:xfrm>
            <a:off x="1238400" y="298440"/>
            <a:ext cx="5076720" cy="1706400"/>
            <a:chOff x="1238400" y="298440"/>
            <a:chExt cx="5076720" cy="1706400"/>
          </a:xfrm>
        </p:grpSpPr>
        <p:pic>
          <p:nvPicPr>
            <p:cNvPr id="165" name="横卷形 6" descr=""/>
            <p:cNvPicPr/>
            <p:nvPr/>
          </p:nvPicPr>
          <p:blipFill>
            <a:blip r:embed="rId3"/>
            <a:stretch/>
          </p:blipFill>
          <p:spPr>
            <a:xfrm>
              <a:off x="1238400" y="298440"/>
              <a:ext cx="507672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584360" y="627120"/>
              <a:ext cx="447192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拓展“那抹绿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囚绿新解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</a:tabLst>
            </a:pPr>
            <a:fld id="{435BB4B2-E93E-45F0-A5E4-083B1A9F72ED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1"/>
          <a:stretch/>
        </p:blipFill>
        <p:spPr>
          <a:xfrm>
            <a:off x="10110960" y="4854600"/>
            <a:ext cx="1820520" cy="1820880"/>
          </a:xfrm>
          <a:prstGeom prst="rect">
            <a:avLst/>
          </a:prstGeom>
          <a:ln w="0">
            <a:noFill/>
          </a:ln>
        </p:spPr>
      </p:pic>
      <p:pic>
        <p:nvPicPr>
          <p:cNvPr id="169" name="矩形 1" descr=""/>
          <p:cNvPicPr/>
          <p:nvPr/>
        </p:nvPicPr>
        <p:blipFill>
          <a:blip r:embed="rId2"/>
          <a:stretch/>
        </p:blipFill>
        <p:spPr>
          <a:xfrm>
            <a:off x="3754440" y="2511360"/>
            <a:ext cx="3597120" cy="109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806 -0.43889 L -0.22663 -0.43889 C -0.12744 -0.43889 -0.00521 -0.33773 -0.00521 -0.25532 L -0.00521 -0.07153 E">
                                      <p:cBhvr>
                                        <p:cTn id="15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41 -0.43889 L -0.22481 -0.43889 C -0.12653 -0.43889 -0.00521 -0.33796 -0.00521 -0.25532 L -0.00521 -0.07153 E">
                                      <p:cBhvr>
                                        <p:cTn id="16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istrator</cp:lastModifiedBy>
  <dcterms:modified xsi:type="dcterms:W3CDTF">2017-11-14T10:00:51Z</dcterms:modified>
  <cp:revision>7</cp:revision>
  <dc:subject/>
  <dc:title>幻灯片 1</dc:title>
</cp:coreProperties>
</file>