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53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4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69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9.jpeg" ContentType="image/jpeg"/>
  <Override PartName="/ppt/media/image20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18.jpeg" ContentType="image/jpeg"/>
  <Override PartName="/ppt/media/image62.jpeg" ContentType="image/jpeg"/>
  <Override PartName="/ppt/media/image61.png" ContentType="image/png"/>
  <Override PartName="/ppt/media/image5.jpeg" ContentType="image/jpeg"/>
  <Override PartName="/ppt/media/image68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67.png" ContentType="image/png"/>
  <Override PartName="/ppt/media/image60.jpeg" ContentType="image/jpeg"/>
  <Override PartName="/ppt/media/image3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65.png" ContentType="image/png"/>
  <Override PartName="/ppt/media/image16.jpeg" ContentType="image/jpeg"/>
  <Override PartName="/ppt/media/image49.png" ContentType="image/png"/>
  <Override PartName="/ppt/media/image23.jpeg" ContentType="image/jpeg"/>
  <Override PartName="/ppt/media/image26.jpeg" ContentType="image/jpeg"/>
  <Override PartName="/ppt/media/image50.jpeg" ContentType="image/jpeg"/>
  <Override PartName="/ppt/media/image71.png" ContentType="image/png"/>
  <Override PartName="/ppt/media/image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5C8-CE0B-4C15-8726-AF56F19B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99A-51D4-4907-896E-5F65C3DF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274-5803-4698-9C78-61E6CBAE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3F2-41CB-4F9C-9C0F-CB3B4CB0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1CC9-B5DD-4D5A-BE31-1BD6BA42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D92-A7B0-4040-B684-6DAEE3E3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AA8F-1A22-4740-9689-8C6B9593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115A-45B3-4614-9EB2-A7E48DF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237B-9BBD-4F30-8ED6-89C096AB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F871-54B2-49AA-B653-E0B57DB1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DA41-CE54-4E64-9625-92E7BDC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322-6A97-4DEC-AACF-510301F8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D755-584B-4111-9B06-7EB9E0F1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5ABB-AF2F-4277-A017-FD8A3E7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6319-B32F-4355-A32C-671A2174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D3FC-0F1F-408D-AF07-C6BE4F4F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4AEB-4D91-4741-901B-9CEA83C7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CB50-605F-4836-95AD-9C9A8128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BC7A-582F-4B0F-9974-4096841F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029FE-4320-4BDE-8374-1FE99411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E500-ECB6-4BC2-8ABA-0A5694FF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E2A7-A4FF-4BB6-AC1F-24C273F2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4C6-A147-42B9-B96F-3F596D23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DA9A4-044E-47CB-9742-9ACCF38D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A7BE-7B0B-4CE1-A9FD-5D0EFE49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A1AB0-3F0D-4CE6-8ABF-BF14443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99F9-DA15-41CD-B02E-61CDB81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3011C-79C6-4D39-B778-8BF1EFFC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24B2-D926-4BA5-AF35-EDFD050D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9BAA-BEE3-4384-A87E-1659569C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0E3-5A65-4127-BB7D-51AB5176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1C1-4738-4ADE-8A49-09E4FF0E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D4D-C9C3-4C70-BBE4-9F345065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F24-33A5-4E14-BB30-1F30BC8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F7F-BB2E-4A7F-9A1F-2ECC51B0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95D-1E28-4EC3-82F9-3A7E2C8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772D-71CE-4F7D-861D-5745CFC36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5715000"/>
            <a:chOff x="0" y="0"/>
            <a:chExt cx="7620120" cy="5715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5715000"/>
              <a:chOff x="0" y="0"/>
              <a:chExt cx="3200400" cy="5715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5715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97380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973800"/>
                  <a:gd name="textAreaBottom" fmla="*/ 974160 h 9738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650600"/>
              <a:ext cx="7391520" cy="266040"/>
              <a:chOff x="228600" y="1650600"/>
              <a:chExt cx="7391520" cy="26604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650600"/>
                <a:ext cx="7010640" cy="261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650600"/>
                <a:ext cx="393840" cy="26604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1880" y="695160"/>
            <a:ext cx="7804440" cy="8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968120"/>
            <a:ext cx="76932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5207040"/>
            <a:ext cx="21304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5207040"/>
            <a:ext cx="289692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5202000"/>
            <a:ext cx="587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0B76-C673-4270-BD66-9274ADAB67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5715000"/>
            <a:chOff x="0" y="0"/>
            <a:chExt cx="5867280" cy="5715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5715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825480"/>
              <a:ext cx="5181480" cy="1587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075200"/>
            <a:ext cx="4876920" cy="264960"/>
            <a:chOff x="3632040" y="4075200"/>
            <a:chExt cx="4876920" cy="264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075200"/>
              <a:ext cx="4626000" cy="263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075200"/>
              <a:ext cx="260280" cy="264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695160"/>
            <a:ext cx="7804440" cy="8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1968120"/>
            <a:ext cx="76932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5207040"/>
            <a:ext cx="21304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5207040"/>
            <a:ext cx="289692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5206680"/>
            <a:ext cx="58716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CB17-1EDD-4872-AF59-63F60F657C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2005441744536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0"/>
          <p:cNvSpPr/>
          <p:nvPr/>
        </p:nvSpPr>
        <p:spPr>
          <a:xfrm>
            <a:off x="1332000" y="39369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记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8" name="WordArt 11" descr=""/>
          <p:cNvPicPr/>
          <p:nvPr/>
        </p:nvPicPr>
        <p:blipFill>
          <a:blip r:embed="rId2"/>
          <a:stretch/>
        </p:blipFill>
        <p:spPr>
          <a:xfrm>
            <a:off x="817560" y="1590840"/>
            <a:ext cx="2077920" cy="2639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2"/>
          <p:cNvSpPr/>
          <p:nvPr/>
        </p:nvSpPr>
        <p:spPr>
          <a:xfrm>
            <a:off x="3059280" y="3878280"/>
            <a:ext cx="122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彩云"/>
                <a:ea typeface="华文彩云"/>
              </a:rPr>
              <a:t>陆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彩云"/>
                <a:ea typeface="华文彩云"/>
              </a:rPr>
              <a:t>蠡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440000" y="457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囚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1" name="Kevin Kern - 绿色通道.mp3" descr=""/>
          <p:cNvPicPr/>
          <p:nvPr/>
        </p:nvPicPr>
        <p:blipFill>
          <a:blip r:embed="rId3"/>
          <a:stretch/>
        </p:blipFill>
        <p:spPr>
          <a:xfrm>
            <a:off x="8101080" y="5018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00810223172144156"/>
          <p:cNvPicPr/>
          <p:nvPr/>
        </p:nvPicPr>
        <p:blipFill>
          <a:blip r:embed="rId1"/>
          <a:srcRect l="0" t="0" r="0" b="725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shifeng"/>
          <p:cNvPicPr/>
          <p:nvPr/>
        </p:nvPicPr>
        <p:blipFill>
          <a:blip r:embed="rId2"/>
          <a:srcRect l="1228" t="1304" r="2961" b="362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1959120" y="385920"/>
            <a:ext cx="57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绿色是生命的赞歌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200810223172144156"/>
          <p:cNvPicPr/>
          <p:nvPr/>
        </p:nvPicPr>
        <p:blipFill>
          <a:blip r:embed="rId1"/>
          <a:srcRect l="0" t="0" r="0" b="716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1960-77337i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2247840" y="856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绿色是幸福的天使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0ec3317518fc6f35b151b90a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771b2b1bffc86a6b43a9ade8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671480" y="506520"/>
            <a:ext cx="70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没有绿色，阳光将失去作用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0ec3317518fc6f35b151b90a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健康不好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671480" y="20628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没有绿色，生命将毫无意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942806299971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200810223172144156"/>
          <p:cNvPicPr/>
          <p:nvPr/>
        </p:nvPicPr>
        <p:blipFill>
          <a:blip r:embed="rId2"/>
          <a:srcRect l="0" t="0" r="0" b="694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1455840" y="206280"/>
            <a:ext cx="73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人说：绿色是雨水的种子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124bd9eae7eg215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2007912121645457_2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311120" y="369720"/>
            <a:ext cx="61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将醇美的甘露化作一片爱意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62e9431e54536d61a4cffe5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ui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1671480" y="206280"/>
            <a:ext cx="68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人说：绿色是阳光的种子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960-77337i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给vh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估计"/>
          <p:cNvPicPr/>
          <p:nvPr/>
        </p:nvPicPr>
        <p:blipFill>
          <a:blip r:embed="rId3"/>
          <a:srcRect l="0" t="0" r="0" b="630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527120" y="506520"/>
            <a:ext cx="69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宽厚慈祥化为茁壮的生命力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124bd9ef852g215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20089167404629_2"/>
          <p:cNvPicPr/>
          <p:nvPr/>
        </p:nvPicPr>
        <p:blipFill>
          <a:blip r:embed="rId2"/>
          <a:srcRect l="0" t="0" r="0" b="660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24bd9e700fg214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095480" y="266760"/>
            <a:ext cx="67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有人说：绿色是无私的化身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24bd9ef852g215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124bd9e09e3g214"/>
          <p:cNvPicPr/>
          <p:nvPr/>
        </p:nvPicPr>
        <p:blipFill>
          <a:blip r:embed="rId2"/>
          <a:stretch/>
        </p:blipFill>
        <p:spPr>
          <a:xfrm>
            <a:off x="0" y="0"/>
            <a:ext cx="9144000" cy="5719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200891673839782_2"/>
          <p:cNvPicPr/>
          <p:nvPr/>
        </p:nvPicPr>
        <p:blipFill>
          <a:blip r:embed="rId3"/>
          <a:srcRect l="0" t="5204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200891773816305_2"/>
          <p:cNvPicPr/>
          <p:nvPr/>
        </p:nvPicPr>
        <p:blipFill>
          <a:blip r:embed="rId4"/>
          <a:srcRect l="0" t="0" r="0" b="6327"/>
          <a:stretch/>
        </p:blipFill>
        <p:spPr>
          <a:xfrm>
            <a:off x="0" y="0"/>
            <a:ext cx="9144000" cy="57434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816200" y="266760"/>
            <a:ext cx="66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层层绿叶只为衬托花儿的美丽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9a9aed3b56964169b5027a3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1960-77337i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116000" y="45720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当你在春天发现第一棵破土的嫩芽时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2005441744536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0"/>
          <p:cNvSpPr/>
          <p:nvPr/>
        </p:nvSpPr>
        <p:spPr>
          <a:xfrm>
            <a:off x="1332000" y="39369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记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5" name="WordArt 11" descr=""/>
          <p:cNvPicPr/>
          <p:nvPr/>
        </p:nvPicPr>
        <p:blipFill>
          <a:blip r:embed="rId2"/>
          <a:stretch/>
        </p:blipFill>
        <p:spPr>
          <a:xfrm>
            <a:off x="817560" y="1590840"/>
            <a:ext cx="2077920" cy="26398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2"/>
          <p:cNvSpPr/>
          <p:nvPr/>
        </p:nvSpPr>
        <p:spPr>
          <a:xfrm>
            <a:off x="3059280" y="3878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陆 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蠡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0000" y="457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囚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684360" y="15969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68360" y="457200"/>
            <a:ext cx="28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211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 Box 17"/>
          <p:cNvSpPr/>
          <p:nvPr/>
        </p:nvSpPr>
        <p:spPr>
          <a:xfrm>
            <a:off x="850320" y="4096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触摸绿之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4" name="Picture 3" descr="陆蠡先生（字圣泉，1908－1942）遗像"/>
          <p:cNvPicPr/>
          <p:nvPr/>
        </p:nvPicPr>
        <p:blipFill>
          <a:blip r:embed="rId3"/>
          <a:stretch/>
        </p:blipFill>
        <p:spPr>
          <a:xfrm>
            <a:off x="250920" y="1128600"/>
            <a:ext cx="2989080" cy="3862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9"/>
          <p:cNvSpPr/>
          <p:nvPr/>
        </p:nvSpPr>
        <p:spPr>
          <a:xfrm>
            <a:off x="3419640" y="480960"/>
            <a:ext cx="54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陆蠡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08—19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原名圣泉，浙江天台人。现代散文作家、翻译家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毕业于上海国立劳动大学，后与友人创办泉州语文学社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在泉州中学教书。太平洋战争爆发后，由于在沦陷后的上海坚守文化工作岗位，他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被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久由捕房转到虹口日本宪兵拘留所，刑审数月，惨遭杀害，时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68360" y="4809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本人曾提审陆蠡，问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爱国吗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爱国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赞成南京政府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汪伪）么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赞成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依你看，日本人能不能征服中国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绝对不能征服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本人勃然大怒，给他上了酷刑，最后被折磨吐血而死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218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9"/>
          <p:cNvSpPr/>
          <p:nvPr/>
        </p:nvSpPr>
        <p:spPr>
          <a:xfrm>
            <a:off x="8177040" y="817560"/>
            <a:ext cx="729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琥珀"/>
                <a:ea typeface="华文琥珀"/>
              </a:rPr>
              <a:t>绿一样的陆蠡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0" y="4809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听读悟情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11280" y="1177920"/>
            <a:ext cx="784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为什么要囚住绿色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以作者口吻用一句话或一段话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白。（请选用文中的词语或句子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囚禁你，因为你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60" y="-20520"/>
            <a:ext cx="203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960" y="-20520"/>
            <a:ext cx="203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4859280" y="3218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227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Picture 25" descr="EPS_cd6860_00468"/>
          <p:cNvPicPr/>
          <p:nvPr/>
        </p:nvPicPr>
        <p:blipFill>
          <a:blip r:embed="rId3"/>
          <a:stretch/>
        </p:blipFill>
        <p:spPr>
          <a:xfrm>
            <a:off x="5867280" y="2570040"/>
            <a:ext cx="2494080" cy="13669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6"/>
          <p:cNvSpPr/>
          <p:nvPr/>
        </p:nvSpPr>
        <p:spPr>
          <a:xfrm>
            <a:off x="6948360" y="278604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爱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1" name="《囚绿记》陆蠡.wma" descr=""/>
          <p:cNvPicPr/>
          <p:nvPr/>
        </p:nvPicPr>
        <p:blipFill>
          <a:blip r:embed="rId4"/>
          <a:stretch/>
        </p:blipFill>
        <p:spPr>
          <a:xfrm>
            <a:off x="2340000" y="625320"/>
            <a:ext cx="512640" cy="5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459519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6">
            <a:hlinkClick r:id="rId1" action="ppaction://hlinksldjump"/>
          </p:cNvPr>
          <p:cNvSpPr/>
          <p:nvPr/>
        </p:nvSpPr>
        <p:spPr>
          <a:xfrm>
            <a:off x="250920" y="554040"/>
            <a:ext cx="2663640" cy="9586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初读课文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39640" y="1778040"/>
            <a:ext cx="8064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作者叙述了一件怎样的事情？你能用一句话作简要概括吗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11280" y="34336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者叙述自己在北京寓所将窗前的常春藤“囚禁”起来的事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236" name="Picture 4" descr="萬用卡01"/>
            <p:cNvPicPr/>
            <p:nvPr/>
          </p:nvPicPr>
          <p:blipFill>
            <a:blip r:embed="rId2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" descr="萬用卡02"/>
            <p:cNvPicPr/>
            <p:nvPr/>
          </p:nvPicPr>
          <p:blipFill>
            <a:blip r:embed="rId3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239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 txBox="1"/>
          <p:nvPr/>
        </p:nvSpPr>
        <p:spPr>
          <a:xfrm>
            <a:off x="395280" y="769680"/>
            <a:ext cx="8353440" cy="2184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课文中哪几段是写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囚绿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？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囚绿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之前，之后主要写了哪些内容？请同学们用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囚绿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形式相同的动宾短语概括。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95280" y="3433680"/>
            <a:ext cx="8353440" cy="132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哪一段或哪几句特能打动你，做一下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号，待会儿我们要好好朗读和品味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《囚绿记》背景图片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1432800" y="633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ffff"/>
                </a:solidFill>
                <a:latin typeface="Arial"/>
                <a:ea typeface="华文行楷"/>
              </a:rPr>
              <a:t>写作思路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286640" y="1143000"/>
            <a:ext cx="25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赏绿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～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271520" y="2322360"/>
            <a:ext cx="27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囚绿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～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262880" y="346536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释绿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～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302480" y="4608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思绿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2133720" y="1778040"/>
            <a:ext cx="457200" cy="444600"/>
          </a:xfrm>
          <a:prstGeom prst="downArrow">
            <a:avLst>
              <a:gd name="adj1" fmla="val 50000"/>
              <a:gd name="adj2" fmla="val 29167"/>
            </a:avLst>
          </a:prstGeom>
          <a:solidFill>
            <a:srgbClr val="bb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2124000" y="3002040"/>
            <a:ext cx="457200" cy="444600"/>
          </a:xfrm>
          <a:prstGeom prst="downArrow">
            <a:avLst>
              <a:gd name="adj1" fmla="val 50000"/>
              <a:gd name="adj2" fmla="val 29167"/>
            </a:avLst>
          </a:prstGeom>
          <a:solidFill>
            <a:srgbClr val="bb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2124000" y="4152960"/>
            <a:ext cx="457200" cy="444600"/>
          </a:xfrm>
          <a:prstGeom prst="downArrow">
            <a:avLst>
              <a:gd name="adj1" fmla="val 50000"/>
              <a:gd name="adj2" fmla="val 29167"/>
            </a:avLst>
          </a:prstGeom>
          <a:solidFill>
            <a:srgbClr val="bb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6096960" y="633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99"/>
                </a:solidFill>
                <a:latin typeface="Arial"/>
                <a:ea typeface="华文行楷"/>
              </a:rPr>
              <a:t>情感变化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5877000" y="122868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喜悦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5881320" y="23716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怜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881320" y="35146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祝福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6645600" y="471024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牵挂、怀念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4419720" y="1587600"/>
            <a:ext cx="990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419720" y="3809880"/>
            <a:ext cx="990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4419720" y="4952880"/>
            <a:ext cx="990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4419720" y="2666880"/>
            <a:ext cx="9903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61" name="Group 20"/>
          <p:cNvGrpSpPr/>
          <p:nvPr/>
        </p:nvGrpSpPr>
        <p:grpSpPr>
          <a:xfrm>
            <a:off x="4738680" y="1014480"/>
            <a:ext cx="460080" cy="4008960"/>
            <a:chOff x="4738680" y="1014480"/>
            <a:chExt cx="460080" cy="4008960"/>
          </a:xfrm>
        </p:grpSpPr>
        <p:sp>
          <p:nvSpPr>
            <p:cNvPr id="262" name="Text Box 21"/>
            <p:cNvSpPr/>
            <p:nvPr/>
          </p:nvSpPr>
          <p:spPr>
            <a:xfrm>
              <a:off x="4743720" y="10144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5050"/>
                  </a:solidFill>
                  <a:latin typeface="Arial"/>
                  <a:ea typeface="方正姚体"/>
                </a:rPr>
                <a:t>抒</a:t>
              </a:r>
              <a:endParaRPr b="0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3" name="Text Box 22"/>
            <p:cNvSpPr/>
            <p:nvPr/>
          </p:nvSpPr>
          <p:spPr>
            <a:xfrm>
              <a:off x="4738680" y="20649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5050"/>
                  </a:solidFill>
                  <a:latin typeface="Arial"/>
                  <a:ea typeface="方正姚体"/>
                </a:rPr>
                <a:t>情</a:t>
              </a:r>
              <a:endParaRPr b="0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4" name="Text Box 23"/>
            <p:cNvSpPr/>
            <p:nvPr/>
          </p:nvSpPr>
          <p:spPr>
            <a:xfrm>
              <a:off x="4743720" y="32374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5050"/>
                  </a:solidFill>
                  <a:latin typeface="Arial"/>
                  <a:ea typeface="方正姚体"/>
                </a:rPr>
                <a:t>线</a:t>
              </a:r>
              <a:endParaRPr b="0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5" name="Text Box 24"/>
            <p:cNvSpPr/>
            <p:nvPr/>
          </p:nvSpPr>
          <p:spPr>
            <a:xfrm>
              <a:off x="4743720" y="4380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5050"/>
                  </a:solidFill>
                  <a:latin typeface="Arial"/>
                  <a:ea typeface="方正姚体"/>
                </a:rPr>
                <a:t>索</a:t>
              </a:r>
              <a:endParaRPr b="0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267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Text Box 9"/>
          <p:cNvSpPr/>
          <p:nvPr/>
        </p:nvSpPr>
        <p:spPr>
          <a:xfrm>
            <a:off x="1116000" y="4096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隶书"/>
              </a:rPr>
              <a:t>品读悟情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250920" y="1273320"/>
            <a:ext cx="8353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囚绿”是怎么一回事？（用文中的话回答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为什么要“囚绿”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矩形 9"/>
          <p:cNvSpPr/>
          <p:nvPr/>
        </p:nvSpPr>
        <p:spPr>
          <a:xfrm>
            <a:off x="1652760" y="2065320"/>
            <a:ext cx="35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我从破碎的窗口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······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更亲密。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2" name="矩形 10"/>
          <p:cNvSpPr/>
          <p:nvPr/>
        </p:nvSpPr>
        <p:spPr>
          <a:xfrm>
            <a:off x="250920" y="34336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让绿色和我更接近，更亲密”，“我要借绿色来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······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的年华”，作者太爱绿了，以至于想占有它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274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Text Box 9"/>
          <p:cNvSpPr/>
          <p:nvPr/>
        </p:nvSpPr>
        <p:spPr>
          <a:xfrm>
            <a:off x="1258920" y="5176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品读悟情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468360" y="165744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囚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形象的语句。从中你感受到作者笔下的绿有怎样的特点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eb6201008b4891f2267fb503"/>
          <p:cNvPicPr/>
          <p:nvPr/>
        </p:nvPicPr>
        <p:blipFill>
          <a:blip r:embed="rId1"/>
          <a:stretch/>
        </p:blipFill>
        <p:spPr>
          <a:xfrm>
            <a:off x="0" y="0"/>
            <a:ext cx="3246480" cy="33386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131640" y="1417320"/>
            <a:ext cx="190836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蓬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向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固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932360" y="1417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生命、希望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859280" y="27129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追求光明、自由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932360" y="4081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不屈的抗争精神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211640" y="576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常春藤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0" y="0"/>
            <a:ext cx="9158400" cy="5738400"/>
            <a:chOff x="0" y="0"/>
            <a:chExt cx="9158400" cy="5738400"/>
          </a:xfrm>
        </p:grpSpPr>
        <p:pic>
          <p:nvPicPr>
            <p:cNvPr id="285" name="Picture 4" descr="萬用卡0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" descr="萬用卡02"/>
            <p:cNvPicPr/>
            <p:nvPr/>
          </p:nvPicPr>
          <p:blipFill>
            <a:blip r:embed="rId3"/>
            <a:stretch/>
          </p:blipFill>
          <p:spPr>
            <a:xfrm>
              <a:off x="1440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椭圆形标注 13"/>
          <p:cNvSpPr/>
          <p:nvPr/>
        </p:nvSpPr>
        <p:spPr>
          <a:xfrm>
            <a:off x="7164360" y="554040"/>
            <a:ext cx="1800360" cy="1008000"/>
          </a:xfrm>
          <a:prstGeom prst="wedgeEllipseCallout">
            <a:avLst>
              <a:gd name="adj1" fmla="val -34060"/>
              <a:gd name="adj2" fmla="val 89898"/>
            </a:avLst>
          </a:prstGeom>
          <a:solidFill>
            <a:srgbClr val="0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琥珀"/>
                <a:ea typeface="华文琥珀"/>
              </a:rPr>
              <a:t>象征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椭圆形标注 14"/>
          <p:cNvSpPr/>
          <p:nvPr/>
        </p:nvSpPr>
        <p:spPr>
          <a:xfrm>
            <a:off x="108000" y="3578400"/>
            <a:ext cx="3240000" cy="900000"/>
          </a:xfrm>
          <a:prstGeom prst="wedgeEllipseCallout">
            <a:avLst>
              <a:gd name="adj1" fmla="val 49125"/>
              <a:gd name="adj2" fmla="val -59115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爱绿的原因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2008060800573055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vbhjnm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1816200" y="446040"/>
            <a:ext cx="50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你是否感到惊喜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290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Text Box 9"/>
          <p:cNvSpPr/>
          <p:nvPr/>
        </p:nvSpPr>
        <p:spPr>
          <a:xfrm>
            <a:off x="1258920" y="5176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品读悟情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68360" y="141768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为什么最后让绿囚恢复了自由，并“向它致诚意的祝福，愿它繁茂苍绿”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矩形 6"/>
          <p:cNvSpPr/>
          <p:nvPr/>
        </p:nvSpPr>
        <p:spPr>
          <a:xfrm>
            <a:off x="611280" y="33624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作者要走了；太爱绿了；被它的不屈服感动了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6084720" cy="5715000"/>
          </a:xfrm>
          <a:prstGeom prst="rect">
            <a:avLst/>
          </a:prstGeom>
          <a:solidFill>
            <a:srgbClr val="000000">
              <a:alpha val="9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96" name="Picture 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4"/>
          <p:cNvSpPr/>
          <p:nvPr/>
        </p:nvSpPr>
        <p:spPr>
          <a:xfrm>
            <a:off x="0" y="4821120"/>
            <a:ext cx="184320" cy="37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0" y="3649680"/>
            <a:ext cx="914400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卢沟桥事件发生了，担心我的朋友催我南归。我不得不变更我的计划，在七月中旬，不能再留连于烽火四逼的旧都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24000" y="3380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背景链接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370160" y="1057320"/>
            <a:ext cx="22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937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年“卢沟桥事变”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2165760" y="6541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937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年卢沟桥事变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279240" y="338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日军残害中国人民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3" name="Picture 9" descr="卢沟桥5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1584720" y="235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中国人民奋起抵抗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5292720" y="217440"/>
            <a:ext cx="33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绿一样的中国人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5003640" y="8175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绿一样的民族气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308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8"/>
          <p:cNvSpPr/>
          <p:nvPr/>
        </p:nvSpPr>
        <p:spPr>
          <a:xfrm>
            <a:off x="755640" y="11286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绿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2340000" y="5540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象征向往光明、自由、坚强不屈的广大中国人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2340000" y="19209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象征忠贞不屈的民族气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3" name="AutoShape 11"/>
          <p:cNvSpPr/>
          <p:nvPr/>
        </p:nvSpPr>
        <p:spPr>
          <a:xfrm>
            <a:off x="1692360" y="625320"/>
            <a:ext cx="431640" cy="2041560"/>
          </a:xfrm>
          <a:custGeom>
            <a:avLst/>
            <a:gdLst>
              <a:gd name="textAreaLeft" fmla="*/ 275760 w 431640"/>
              <a:gd name="textAreaRight" fmla="*/ 432000 w 431640"/>
              <a:gd name="textAreaTop" fmla="*/ 27360 h 2041560"/>
              <a:gd name="textAreaBottom" fmla="*/ 2014200 h 204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4"/>
                  <a:pt x="10800" y="927"/>
                </a:cubicBezTo>
                <a:lnTo>
                  <a:pt x="10800" y="9873"/>
                </a:lnTo>
                <a:cubicBezTo>
                  <a:pt x="10800" y="10337"/>
                  <a:pt x="5400" y="10800"/>
                  <a:pt x="0" y="10800"/>
                </a:cubicBezTo>
                <a:cubicBezTo>
                  <a:pt x="5400" y="10800"/>
                  <a:pt x="10800" y="11264"/>
                  <a:pt x="10800" y="11727"/>
                </a:cubicBezTo>
                <a:lnTo>
                  <a:pt x="10800" y="20673"/>
                </a:lnTo>
                <a:cubicBezTo>
                  <a:pt x="10800" y="211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611280" y="3697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395280" y="278604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结：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华文新魏"/>
              </a:rPr>
              <a:t>作者通过对窗前的一株不屈于黑暗而永向光明的常春藤的描写，颂扬了忠贞不屈的民族气节，抒发了自己对光明与自由的向往之情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7357320" y="554040"/>
            <a:ext cx="139932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托物言志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324000" y="17049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永不屈服于黑暗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319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矩形 5"/>
          <p:cNvSpPr/>
          <p:nvPr/>
        </p:nvSpPr>
        <p:spPr>
          <a:xfrm>
            <a:off x="971640" y="141768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常春藤的“永不屈服于黑暗、顽强抗争的精神” 给你什么深刻的人生启示？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324000" y="336600"/>
            <a:ext cx="86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浩瀚的大海正是因为有了礁石，才激起了美丽的浪花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77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324000" y="48096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生活的磨难，是人生的一笔财富！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99"/>
          <p:cNvPicPr/>
          <p:nvPr/>
        </p:nvPicPr>
        <p:blipFill>
          <a:blip r:embed="rId1"/>
          <a:stretch/>
        </p:blipFill>
        <p:spPr>
          <a:xfrm>
            <a:off x="0" y="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3492360" y="817560"/>
            <a:ext cx="54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在苦难面前抬起你自信的头颅！永不言败！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P4040082"/>
          <p:cNvPicPr/>
          <p:nvPr/>
        </p:nvPicPr>
        <p:blipFill>
          <a:blip r:embed="rId1"/>
          <a:stretch/>
        </p:blipFill>
        <p:spPr>
          <a:xfrm>
            <a:off x="0" y="0"/>
            <a:ext cx="9144000" cy="57196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684360" y="5176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ffffff"/>
                </a:solidFill>
                <a:uFillTx/>
                <a:latin typeface="Arial"/>
                <a:ea typeface="华文新魏"/>
              </a:rPr>
              <a:t>不应凋零的</a:t>
            </a:r>
            <a:r>
              <a:rPr b="0" lang="zh-CN" sz="8000" spc="-1" strike="noStrike" u="sng">
                <a:solidFill>
                  <a:srgbClr val="00ff00"/>
                </a:solidFill>
                <a:uFillTx/>
                <a:latin typeface="Arial"/>
                <a:ea typeface="华文新魏"/>
              </a:rPr>
              <a:t>绿叶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Object 2"/>
          <p:cNvGraphicFramePr/>
          <p:nvPr/>
        </p:nvGraphicFramePr>
        <p:xfrm>
          <a:off x="6084720" y="3002040"/>
          <a:ext cx="261324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3002040"/>
                    <a:ext cx="261324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Picture 3" descr="ZWLAOS01"/>
          <p:cNvPicPr/>
          <p:nvPr/>
        </p:nvPicPr>
        <p:blipFill>
          <a:blip r:embed="rId3"/>
          <a:stretch/>
        </p:blipFill>
        <p:spPr>
          <a:xfrm>
            <a:off x="2411280" y="0"/>
            <a:ext cx="2382840" cy="270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老舍2"/>
          <p:cNvPicPr/>
          <p:nvPr/>
        </p:nvPicPr>
        <p:blipFill>
          <a:blip r:embed="rId4"/>
          <a:stretch/>
        </p:blipFill>
        <p:spPr>
          <a:xfrm>
            <a:off x="2050920" y="2712960"/>
            <a:ext cx="3457800" cy="28814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79280" y="1128600"/>
            <a:ext cx="16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现代文学巨匠，文革中不堪迫害纵身跳入冰冷的湖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1573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老舍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36" name="Picture 7" descr="奶奶"/>
          <p:cNvPicPr/>
          <p:nvPr/>
        </p:nvPicPr>
        <p:blipFill>
          <a:blip r:embed="rId5"/>
          <a:stretch/>
        </p:blipFill>
        <p:spPr>
          <a:xfrm>
            <a:off x="5580000" y="36360"/>
            <a:ext cx="3011400" cy="2978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08060800573055"/>
          <p:cNvPicPr/>
          <p:nvPr/>
        </p:nvPicPr>
        <p:blipFill>
          <a:blip r:embed="rId1"/>
          <a:stretch/>
        </p:blipFill>
        <p:spPr>
          <a:xfrm>
            <a:off x="0" y="0"/>
            <a:ext cx="9144000" cy="5716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ui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过户及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671480" y="146160"/>
            <a:ext cx="62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当你在夏日看到绿满大地时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告别红尘"/>
          <p:cNvPicPr/>
          <p:nvPr/>
        </p:nvPicPr>
        <p:blipFill>
          <a:blip r:embed="rId1"/>
          <a:stretch/>
        </p:blipFill>
        <p:spPr>
          <a:xfrm>
            <a:off x="0" y="0"/>
            <a:ext cx="4498920" cy="5715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另一种风情的三毛，温柔，有明"/>
          <p:cNvPicPr/>
          <p:nvPr/>
        </p:nvPicPr>
        <p:blipFill>
          <a:blip r:embed="rId2"/>
          <a:stretch/>
        </p:blipFill>
        <p:spPr>
          <a:xfrm>
            <a:off x="4476600" y="0"/>
            <a:ext cx="4667400" cy="39686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4500720" y="408132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台湾著名作家，因丈夫遇难无限郁闷，用粉红色的丝袜缠到自己的脖子上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08000" y="4699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三毛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324000" y="336600"/>
            <a:ext cx="35272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傅雷，字怒安，现代翻译家、学者。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文革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初不堪残酷迫害，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1966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日晨和他的夫人朱梅馥在上海寓所双双用绳套住自己的脖子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42" name="Picture 3" descr="傅雷"/>
          <p:cNvPicPr/>
          <p:nvPr/>
        </p:nvPicPr>
        <p:blipFill>
          <a:blip r:embed="rId1"/>
          <a:stretch/>
        </p:blipFill>
        <p:spPr>
          <a:xfrm>
            <a:off x="3944880" y="60480"/>
            <a:ext cx="5091120" cy="55576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4"/>
          <p:cNvSpPr/>
          <p:nvPr/>
        </p:nvSpPr>
        <p:spPr>
          <a:xfrm>
            <a:off x="4643280" y="43578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傅雷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海子像"/>
          <p:cNvPicPr/>
          <p:nvPr/>
        </p:nvPicPr>
        <p:blipFill>
          <a:blip r:embed="rId1"/>
          <a:stretch/>
        </p:blipFill>
        <p:spPr>
          <a:xfrm>
            <a:off x="4427640" y="36360"/>
            <a:ext cx="4511520" cy="55580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395280" y="696960"/>
            <a:ext cx="3816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国天才青年诗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海子在诗歌和人生的理想幻灭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念俱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头枕在冰凉的铁轨上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顾城一家与朋友合影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08000" y="43578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最有影响的朦胧诗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顾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新西兰的一座小岛上，这个思想偏执的天才与疯子将斧头高高举起，砍向相濡以沫十几年的妻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6948360" y="1236600"/>
            <a:ext cx="302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顾城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三岛在自杀前不久的图书发布会上"/>
          <p:cNvPicPr/>
          <p:nvPr/>
        </p:nvPicPr>
        <p:blipFill>
          <a:blip r:embed="rId1"/>
          <a:stretch/>
        </p:blipFill>
        <p:spPr>
          <a:xfrm>
            <a:off x="4427640" y="0"/>
            <a:ext cx="4592520" cy="5715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3"/>
          <p:cNvSpPr/>
          <p:nvPr/>
        </p:nvSpPr>
        <p:spPr>
          <a:xfrm>
            <a:off x="324000" y="841320"/>
            <a:ext cx="38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本著名作家，高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本因经济繁荣而得意忘形，精神却是空洞的，你们知道吗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然后用刀准确地刺向自己的小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028000" y="1596960"/>
            <a:ext cx="8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三岛由纪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川端康成"/>
          <p:cNvPicPr/>
          <p:nvPr/>
        </p:nvPicPr>
        <p:blipFill>
          <a:blip r:embed="rId1"/>
          <a:stretch/>
        </p:blipFill>
        <p:spPr>
          <a:xfrm>
            <a:off x="3708360" y="0"/>
            <a:ext cx="4896000" cy="5715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1817640" y="0"/>
            <a:ext cx="738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50920" y="30492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本诺贝尔文学奖获得者，认为“死是最高的艺术”，甜甜地吸着煤气，成就了他所认为的“最高的艺术”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780000" y="2496960"/>
            <a:ext cx="131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川端康成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newsflash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WWMOPO01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57150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324000" y="338040"/>
            <a:ext cx="316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世界短篇小说之王，用裁纸刀割开了喉咙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7740720" y="2557440"/>
            <a:ext cx="107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莫泊桑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179280" y="49320"/>
            <a:ext cx="345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享有世界声誉的奥地利作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伟大的反法西斯斗士最终无奈于它的猖獗，在目睹他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精神故乡欧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沉沦后，与其夫人在里约内热卢双双吞下剧毒药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60" name="Picture 3" descr="1111"/>
          <p:cNvPicPr/>
          <p:nvPr/>
        </p:nvPicPr>
        <p:blipFill>
          <a:blip r:embed="rId1"/>
          <a:stretch/>
        </p:blipFill>
        <p:spPr>
          <a:xfrm>
            <a:off x="3433680" y="0"/>
            <a:ext cx="5602320" cy="54975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4"/>
          <p:cNvSpPr/>
          <p:nvPr/>
        </p:nvSpPr>
        <p:spPr>
          <a:xfrm>
            <a:off x="3635280" y="15732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茨威格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文森特 凡高 19岁"/>
          <p:cNvPicPr/>
          <p:nvPr/>
        </p:nvPicPr>
        <p:blipFill>
          <a:blip r:embed="rId1"/>
          <a:stretch/>
        </p:blipFill>
        <p:spPr>
          <a:xfrm>
            <a:off x="4222800" y="0"/>
            <a:ext cx="4921200" cy="5715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3"/>
          <p:cNvSpPr/>
          <p:nvPr/>
        </p:nvSpPr>
        <p:spPr>
          <a:xfrm>
            <a:off x="324000" y="576360"/>
            <a:ext cx="360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539640" y="217440"/>
            <a:ext cx="33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荷兰天才画家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印象派大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文森特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凡高因爱情的挫折、生活的残酷用手枪对准自己的心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6084720" y="381780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凡高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heel spokes="8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50920" y="1573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史铁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写作就是为了不至于自杀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之为人在于多一个毛病，除了活着还得知道究竟活的什么劲儿。种田做工吃饭乃是为活着提供物质保证，没有了就饿死冻死；写作便是要为活着找到可靠的理由，终于找不到就难免自杀或还不如自杀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250920" y="38178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杀者的共同特点：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对自己对人类对这个世界感到绝望。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heel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008060800573055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很干净"/>
          <p:cNvPicPr/>
          <p:nvPr/>
        </p:nvPicPr>
        <p:blipFill>
          <a:blip r:embed="rId2"/>
          <a:srcRect l="0" t="4926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095480" y="206280"/>
            <a:ext cx="67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你是否感到惬意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simaqian"/>
          <p:cNvPicPr/>
          <p:nvPr/>
        </p:nvPicPr>
        <p:blipFill>
          <a:blip r:embed="rId1"/>
          <a:stretch/>
        </p:blipFill>
        <p:spPr>
          <a:xfrm>
            <a:off x="4243320" y="0"/>
            <a:ext cx="4900680" cy="5715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395280" y="409680"/>
            <a:ext cx="374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司马迁，受宫刑，却能忍受这世间最大的耻辱，因为他心中有未完成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70" name="WordArt 4" descr=""/>
          <p:cNvPicPr/>
          <p:nvPr/>
        </p:nvPicPr>
        <p:blipFill>
          <a:blip r:embed="rId2"/>
          <a:stretch/>
        </p:blipFill>
        <p:spPr>
          <a:xfrm>
            <a:off x="676440" y="4705200"/>
            <a:ext cx="3346200" cy="830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1955年9月生于济南，汉族，哲学硕士，中共党员，山东省作家协会创作室一级作家，九届、十届全国政协委员，中国残疾人联合会副主席、中国作家协会全国委员会委员，山东省作家协会副主席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5715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3"/>
          <p:cNvSpPr/>
          <p:nvPr/>
        </p:nvSpPr>
        <p:spPr>
          <a:xfrm>
            <a:off x="108000" y="1872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海迪五岁时因患脊髓血管瘤，高位截瘫。她因此没进过学校，童年起就开始以顽强的毅力自学知识，她先后自学了小学、中学和大学的专业课程。张海迪十五岁时随父母下放聊城莘县一个贫穷的小村子，但她没有惧怕艰苦的生活，而是以乐观向上的精神奉献自己的青春。在那里她给村里小学的孩子们教书，并且克服种种困难学习医学知识，热心地为乡亲们针灸治病。在莘县期间她无偿地为人们治病一万多人次，受到人们的热情赞誉。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73" name="WordArt 4" descr=""/>
          <p:cNvPicPr/>
          <p:nvPr/>
        </p:nvPicPr>
        <p:blipFill>
          <a:blip r:embed="rId2"/>
          <a:stretch/>
        </p:blipFill>
        <p:spPr>
          <a:xfrm>
            <a:off x="4968720" y="4705200"/>
            <a:ext cx="3376800" cy="83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983年3月7日，团中央举行命名表彰大会，授予张海迪“优秀共青团员”光荣称号，并作出向她学习的决定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79280" y="3380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海迪以顽强毅力克服病痛和困难，精益求精地进行创作，执着地为文学而战，至今已出版大量的作品。做过癌症手术后，继续以不屈的精神与命运抗争，她开始发奋学习哲学专业研究生课程。多年来她还做了大量的社会工作，她以自己的演讲和歌声鼓舞着无数青少年奋发向上。 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76" name="WordArt 4" descr=""/>
          <p:cNvPicPr/>
          <p:nvPr/>
        </p:nvPicPr>
        <p:blipFill>
          <a:blip r:embed="rId2"/>
          <a:stretch/>
        </p:blipFill>
        <p:spPr>
          <a:xfrm>
            <a:off x="4968720" y="4048200"/>
            <a:ext cx="3376800" cy="828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179280" y="69696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京市人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化大革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期响应号召由北京赴陕西务农，因积劳致残下肢瘫痪，后返回北京，顽强生活，潜心文学创作，现为专业作家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作品主要有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我的遥远的清平湾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插队的故事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夏日的玫瑰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合欢树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等等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78" name="Picture 3" descr="史铁生"/>
          <p:cNvPicPr/>
          <p:nvPr/>
        </p:nvPicPr>
        <p:blipFill>
          <a:blip r:embed="rId1"/>
          <a:stretch/>
        </p:blipFill>
        <p:spPr>
          <a:xfrm>
            <a:off x="3983040" y="157320"/>
            <a:ext cx="5059440" cy="5340240"/>
          </a:xfrm>
          <a:prstGeom prst="rect">
            <a:avLst/>
          </a:prstGeom>
          <a:ln w="0">
            <a:noFill/>
          </a:ln>
        </p:spPr>
      </p:pic>
      <p:pic>
        <p:nvPicPr>
          <p:cNvPr id="379" name="WordArt 4" descr=""/>
          <p:cNvPicPr/>
          <p:nvPr/>
        </p:nvPicPr>
        <p:blipFill>
          <a:blip r:embed="rId2"/>
          <a:stretch/>
        </p:blipFill>
        <p:spPr>
          <a:xfrm>
            <a:off x="92160" y="109440"/>
            <a:ext cx="2925720" cy="615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海伦·亚当斯·凯勒 (Helen Adams Keller，1880年6月27日-1968年6月1日)，是美国一位残障教育家。她在19个月大时因为一次高烧而引致失明及失聪。后来籍着她的导师安·沙利文(Anne Sullivan)的努力，使她学会说话，并开始和其他人沟通。并且毕业于哈佛大学"/>
          <p:cNvPicPr/>
          <p:nvPr/>
        </p:nvPicPr>
        <p:blipFill>
          <a:blip r:embed="rId1"/>
          <a:stretch/>
        </p:blipFill>
        <p:spPr>
          <a:xfrm>
            <a:off x="0" y="0"/>
            <a:ext cx="5156280" cy="57150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3"/>
          <p:cNvSpPr/>
          <p:nvPr/>
        </p:nvSpPr>
        <p:spPr>
          <a:xfrm>
            <a:off x="5292720" y="20520"/>
            <a:ext cx="360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海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当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勒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Helen Adams Keller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196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美国一位残障教育家。她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大时因为一次高烧而引致失明及失聪。后来借着她的导师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利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nne Sullivan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努力，使她学会说话，并开始和其他人沟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且毕业于哈佛大学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82" name="WordArt 4" descr=""/>
          <p:cNvPicPr/>
          <p:nvPr/>
        </p:nvPicPr>
        <p:blipFill>
          <a:blip r:embed="rId2"/>
          <a:stretch/>
        </p:blipFill>
        <p:spPr>
          <a:xfrm>
            <a:off x="212760" y="4529160"/>
            <a:ext cx="4097160" cy="792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中国的“海伦·凯勒”周婷婷"/>
          <p:cNvPicPr/>
          <p:nvPr/>
        </p:nvPicPr>
        <p:blipFill>
          <a:blip r:embed="rId1"/>
          <a:stretch/>
        </p:blipFill>
        <p:spPr>
          <a:xfrm>
            <a:off x="4167360" y="0"/>
            <a:ext cx="4976640" cy="5715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179280" y="120600"/>
            <a:ext cx="41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小失去听力，曾是个全聋全哑的小女孩周婷婷是我国第一位少年聋人大学毕业生、中国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凯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周婷婷被美国加劳德特大学录取，她已奔赴这所世界上一流的聋人大学攻读心理咨询专业硕士学位。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4643280" y="5130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中国的“海伦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·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凯勒”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86" name="WordArt 5" descr=""/>
          <p:cNvPicPr/>
          <p:nvPr/>
        </p:nvPicPr>
        <p:blipFill>
          <a:blip r:embed="rId2"/>
          <a:stretch/>
        </p:blipFill>
        <p:spPr>
          <a:xfrm>
            <a:off x="5224320" y="4224240"/>
            <a:ext cx="3267360" cy="828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Img241728973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-323640" y="120600"/>
            <a:ext cx="164268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永远向着阳光生长！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448560" y="193680"/>
            <a:ext cx="182628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永不屈服于黑暗！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6"/>
          <p:cNvSpPr/>
          <p:nvPr/>
        </p:nvSpPr>
        <p:spPr>
          <a:xfrm>
            <a:off x="250920" y="1128600"/>
            <a:ext cx="84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我们的生命之绿被囚住时</a:t>
            </a:r>
            <a:r>
              <a:rPr b="1" lang="en-US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们不能失去生机</a:t>
            </a:r>
            <a:r>
              <a:rPr b="1" lang="en-US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更不能枯萎和凋落</a:t>
            </a:r>
            <a:r>
              <a:rPr b="1" lang="en-US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要永远向着阳光生长</a:t>
            </a:r>
            <a:r>
              <a:rPr b="1" lang="en-US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勇敢地追逐生命的美丽和辉煌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-14400" y="0"/>
            <a:ext cx="9158400" cy="5738400"/>
            <a:chOff x="-14400" y="0"/>
            <a:chExt cx="9158400" cy="5738400"/>
          </a:xfrm>
        </p:grpSpPr>
        <p:pic>
          <p:nvPicPr>
            <p:cNvPr id="392" name="Picture 4" descr="萬用卡0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44000" cy="4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5" descr="萬用卡02"/>
            <p:cNvPicPr/>
            <p:nvPr/>
          </p:nvPicPr>
          <p:blipFill>
            <a:blip r:embed="rId2"/>
            <a:stretch/>
          </p:blipFill>
          <p:spPr>
            <a:xfrm>
              <a:off x="0" y="5303520"/>
              <a:ext cx="9144000" cy="43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008060800573055"/>
          <p:cNvPicPr/>
          <p:nvPr/>
        </p:nvPicPr>
        <p:blipFill>
          <a:blip r:embed="rId1"/>
          <a:stretch/>
        </p:blipFill>
        <p:spPr>
          <a:xfrm>
            <a:off x="0" y="0"/>
            <a:ext cx="9144000" cy="5722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124bd9e700fg214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工会才"/>
          <p:cNvPicPr/>
          <p:nvPr/>
        </p:nvPicPr>
        <p:blipFill>
          <a:blip r:embed="rId3"/>
          <a:srcRect l="939" t="1425" r="769" b="573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68360" y="2174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当你在阳光下，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到层层绿叶衬托下的鲜艳花朵时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2008060800573055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就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826920" y="15732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你是否升起一层敬畏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hytrfhyrt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繁体工会经费才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工会关于计划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95280" y="3380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当你在秋天看到绿叶枯黄，飘飘坠落时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hytrfhyrt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户籍苦海v"/>
          <p:cNvPicPr/>
          <p:nvPr/>
        </p:nvPicPr>
        <p:blipFill>
          <a:blip r:embed="rId2"/>
          <a:srcRect l="0" t="0" r="0" b="7398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2556000" y="696960"/>
            <a:ext cx="55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你是否感到惋惜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9:00:51Z</dcterms:created>
  <dc:creator>ZHOU</dc:creator>
  <dc:description/>
  <dc:language>en-US</dc:language>
  <cp:lastModifiedBy>微软用户</cp:lastModifiedBy>
  <dcterms:modified xsi:type="dcterms:W3CDTF">2015-10-27T01:38:56Z</dcterms:modified>
  <cp:revision>90</cp:revision>
  <dc:subject/>
  <dc:title>幻灯片 1</dc:title>
</cp:coreProperties>
</file>