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A33-10EE-461C-A8E6-3C10F8ED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787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EA-375F-4B3B-80F7-F69AE891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099-2618-4C22-8795-2012A364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712-5E0F-42A7-90DE-0E699DAB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DD4D-EE36-432D-AD0E-D60218D5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DA7D-4451-4650-9BEF-F17E0F16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BA56-4ACD-48E8-BC15-3CD4900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8F22-7F34-4463-845D-2844BD6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111-CB4F-455B-A0EB-48F1E1AF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6A8-32A2-41C2-8D15-0DD1B7FC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49F0-F43F-4C2B-8879-C3F1FF0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994-5BDA-4AC0-9184-75F4C881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DD6E-4407-4918-831D-BE2C27F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B773-8EFE-41D7-8BFE-51BE0FC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787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198F-79E8-4182-BA2A-53BB69A6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155F-8BF5-490A-B343-6C14F358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BC06-1147-45BD-9ADF-2C074A14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3D8-1E0F-4BBE-B94B-4DA6351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038-BCF0-4133-AC22-E2F773E9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737-96A5-41DD-8A7F-DEF546DF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4AD-48D7-4927-B375-1FA31625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296-5D87-4A7D-A664-7E3D9D1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BE4-D5BD-4E4F-8C0D-06534F5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BAC-1857-46F8-8BCE-D3C6664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5E50-0758-43C3-9600-4EBE726E4A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A84-7F61-4BE5-A4AB-507C32BE12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77564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9800" y="4078080"/>
            <a:ext cx="662292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陆  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黄文东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5309435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白银市第九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 rot="21480000">
            <a:off x="2411280" y="1628640"/>
            <a:ext cx="4314960" cy="17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囚绿记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2720" y="62208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文   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文章中最能显示作者写作意图的词语或句子叫“文眼”。“文眼”是窥看主题思想的窗口，掌握文章各部分相互联系的关键。 也就是说，文眼是文章的精神凝聚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一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永不屈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于黑暗的囚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13840" y="917280"/>
            <a:ext cx="892980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是去年夏间的事……这在南方是少见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门虽是常开的……绿是自然的颜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渐渐失去了青苍的颜色……好像病了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20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背景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篇文章写于沦陷区上海。上海沦陷后，陆蠡是坚守上海孤岛的革命作家之一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，陆蠡的杂志社被查封，陆蠡前往日本宪兵队交涉。日本人问他：你认为日本能战胜中国吗？陆蠡答：不能！日本人又问：日本能实现大东亚共荣吗？陆蠡答：不能！陆蠡最终受尽酷刑，死在日本宪兵队的监狱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982880" y="404640"/>
          <a:ext cx="4680000" cy="590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404640"/>
                    <a:ext cx="4680000" cy="59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作   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917720"/>
            <a:ext cx="856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夏秋冬，一年四季，大自然的景色是丰富多彩的，风霜雨雪，自然景观，又极易让人引发感慨，请以此为内容，写一个片断，或状物或绘景，题目自拟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左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268360" y="549360"/>
          <a:ext cx="4319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49360"/>
                    <a:ext cx="4319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6134760" y="4005360"/>
            <a:ext cx="1917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陆 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7236000" y="3789360"/>
            <a:ext cx="75960" cy="7632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0540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6360" y="2781000"/>
            <a:ext cx="871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形：了解文章的结构和选材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神：找到文眼句，领会主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：因文识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精读涵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71640" y="2709720"/>
            <a:ext cx="785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建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涵咏功夫兴味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不动笔墨不读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909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交  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384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哪些句子让你心动？为什么让你心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找出本文的文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36120" y="1484280"/>
            <a:ext cx="8039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色是多宝贵的啊！它是生命，它是希望，它是慰安，它是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971640" y="270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整齐的句式，如歌如诗的语言，感情浓烈，直抒胸臆，将作者对绿的爱恋表达的淋漓尽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971640" y="3573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我怀念着绿色把我的心等焦了。我欢喜看水白，我欢喜看草绿。我疲累于灰暗的都市的天空和荒漠的平原，我怀念着绿色，如同涸辙的鱼盼等着雨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116000" y="530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比和比喻，可见作者对绿的渴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28280"/>
            <a:ext cx="8229600" cy="2521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675640" cy="510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急不暇择的心情即使一枝之绿也视同至宝。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在这小房中安顿下来，我移徙小台子到圆窗下，让我面朝墙壁和小窗。门虽常开着，可没人来打扰我，因为在这古城中我是孤独而陌生的。但我并不感到孤独。我忘记了困倦的旅程和已往的许多不快的记忆。我望着这小圆洞，绿叶和我对语。我了解自然无声的语言，正如它了解我的语言一样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68360" y="5373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和绿对语，我们是息息相通、心心相印的好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天天望着窗口常春藤的生长。看它怎样伸开柔软的卷须，攀住一根缘引它的绳索，或一茎枯枝；看它怎样舒开折叠着的嫩叶，渐渐变青，渐渐变老。我细细观赏它纤细的脉络，嫩芽，我以揠苗助长的心情，巴不得它长得快，长得茂绿。下雨的时候，我爱它淅沥的声音，婆娑的摆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414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赋予常春藤以人的性格气质，他会攀援会摆舞，像一个可爱的小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忽然有一种自私的念头触动了我。我从破碎的窗口伸出手去，把两枝浆液丰富的柔条牵进我的屋子里来，叫它伸长到我的书案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绿色和我更接近，更亲密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4481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多么真切！让人都不忍心触碰，仿佛看见陆蠡用双手小心翼翼捧过这浆液丰富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柔软的绿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xbany</cp:lastModifiedBy>
  <dcterms:modified xsi:type="dcterms:W3CDTF">2017-12-12T07:36:1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