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29.jpeg" ContentType="image/jpeg"/>
  <Override PartName="/ppt/media/image37.gif" ContentType="image/gif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34.gif" ContentType="image/gif"/>
  <Override PartName="/ppt/media/image3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BC7-CBC1-4404-9F86-3D4544CF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75A-ECE8-47EE-87EA-4BCACB37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FF08-5E7C-46FE-94FD-70E866D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F607E-0708-434E-A3F9-B24F68DF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13A4B-1866-443D-B572-4A00C59C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C1800-3B9C-4915-AD8E-E14EADC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8C9A6-282D-447E-A52E-6CC1FBD2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506C3-9E42-49C7-AC99-793649F1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39D06-E180-4DDD-8228-A29FDE4E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7E173-4213-4467-951A-92164D0E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6B525-CB9B-407B-B11B-B28E80B3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D6D-5841-4238-89DB-D8BFAC1B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656-EE36-4C30-96B1-A0E31306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4FE17-258F-4602-B0F5-79C6CB4C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7AE8-38D8-4938-9CE5-70BAC489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4F049-F115-40EF-9B28-B095152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6881E-71E8-47EC-BB0D-3FFA1D02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80BB9-8DDA-44BB-8AC4-9FCD242C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448D-17DD-4648-AF4E-5BB77309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0F859-3CB6-4350-8A2C-EB737A16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6864-D5EE-404D-B753-DFE356A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7AF08-ED4C-42E3-BB23-77AC159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E64C-C853-41B9-B2D1-DE32571A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13A03-9B83-4F63-9A72-D1CDDC9D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EA9AF-512C-4E71-872C-37DE77F8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6FEAB-A580-49DA-93A4-D67B0BFA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EC28-B11E-4308-BDF7-C183D159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8A95-707A-4005-ACC2-8EF5AA4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CA27-A13F-4E0F-8F7D-DA8066C9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C544-98C1-430A-8D42-692D1DE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7E3E-0927-4EC3-B41E-3200E9D9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5E33-1F3A-427B-A8A4-D2AED26E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52F-8B6D-4E55-AC31-9D5F9AC6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69BF-1CCF-47BE-9C29-206FC6E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DF3F-B2A1-4AB5-A520-EB4016C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80C4-4EAD-48BA-8D59-D5503BA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6FFB-A236-4568-8A67-0A733901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7D2D-0066-478D-B29B-7B1EF6D6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43372-A942-48FC-8428-9F6205E4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3429-EB87-4934-82A2-12DA0924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2833-111D-4A35-A721-7E25484E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13AE-DBB6-40CD-BAA9-FDCE063F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BF11-24D2-4736-997D-CB3E163F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E99-F5C1-40B9-A928-EE61BB24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24F0-335C-4440-A56B-B7599C36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CFEF-DBE4-4F74-B3DD-3286ECA5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40AC-A180-4967-B5D3-F1A01E04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A5A0-A7FB-4649-A25E-002B34FF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E6BC6-3CF2-498B-9E37-8F92837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67C98-6A18-4807-AE54-240A0EFF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9963-F15A-4249-BFA1-2531D128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2EF48-56C7-4509-BA61-7BE65B5B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87F44-22DB-45E8-B6C6-4861E9CB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D59D3-7F64-46AA-950C-CF745094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FB1-B943-44F5-910D-28EF5D4F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6D8DF-B45E-4AF8-BB69-14D8B743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B403-81BE-4F4E-BCEC-D34CDDB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C97A-0194-439D-8493-9D69BEDD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4A37-C721-4CB2-82CA-AC269863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0576F-0711-4F3E-AAD0-6915EFAA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3F75-14A1-4E1E-94CE-F63229C9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70F61-68F2-45D5-9F7D-0E0E43AC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ADAD-B816-4769-92B9-F69D2CC8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BF3C-F0E0-46B3-B771-4632C2A5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482F-CEFC-42F9-9C3B-6FCFB6AE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8E8-FD0E-437F-A71F-53FEFE28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EB6AD-D07C-4575-98DA-45F64A9D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8FB3-59A7-49C1-86E7-9054225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EC0E-4C03-40B3-A463-2F86DCB2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556E-57BB-4188-B2AD-EB742075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6224-3B4C-476C-A35F-123BAA76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66BFA-56C7-497D-800E-B571418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0A551-B3B2-4D47-A9A1-BADD13B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2E9B-47DA-4E32-A4BF-CA005C0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9BC3-3FF4-4907-9826-B1AAE10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DF504-AC3B-44E2-ADC6-368D1EDA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82D-EBF7-4AF6-8E2E-F71B3D2C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CB50E-3C65-4B8A-807C-3F24D6CA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92576-5DA6-4A8D-B00B-74CFF247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4FE92-A227-45E7-872E-A61FD4DF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886A3-436E-4231-8946-8C4845CC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4F822-B07E-4776-8CA2-6273AFE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6B4F7-7DD4-445D-8FDF-2A8E3791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9B3C-6A4D-4553-A054-0B0F1578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1A4E-AAD2-4301-9850-6AC5040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E0F0B-4422-4B59-95DB-52175374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ADCF-0A9E-4D99-9668-30AFE745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2E8-A946-47FA-8836-847CD5A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8D58-810F-45F9-BDF9-5313561A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862AA-B348-4FC3-B016-A0198A0F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90FC-E556-4ED2-9E97-175CAC5F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4AC5-9D80-40C7-BB4A-FCDCD766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E5D02-8D7F-4D08-A46D-5B1F9C41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FFCF-99D7-49B1-BC5E-A57D1E1D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7B196-EF21-4E09-B72A-7103FC7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42FCB-AAF7-439D-A24A-583D4A54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C5961-671F-4A80-AE64-8D7E7253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C6669-A96C-42AD-94FD-8A9BAED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24B-987C-46A3-9BC1-110BD19A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9EA9B-12CC-4C6A-99D3-FF1E50B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C397D-D6FD-497D-81B9-363E43A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454A-F8B3-4DD9-ACE8-7EE3A3A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9CF8A-45AD-4FB7-8BCC-C8BCEDB1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EF12D-5E98-4695-850C-02F5983F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56F94-4A59-44EC-95A1-722E888F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C53B-1083-4B6F-A40F-0DF0A03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830B-CB0B-4185-BEC9-5616D119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AB37-D4DB-4E52-846B-36BD5578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24A1-C2C3-43B4-97C4-37AEDCC1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E2C-E5E8-43F3-83C5-E5F2132E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CB8E-F61E-4C88-B753-6CCA7A6C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505B7-BB8A-4D47-B967-6D4A47E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6B2F7-64B1-437C-9B46-E78E7B2D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14858-F81F-4047-B23C-68416DE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ED673-4954-4412-8B53-18556BA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2168F-8C0F-46A5-A690-CF2B7725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DE1D3-1050-4F1D-8653-CE533520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E96D6-7099-41A8-8788-89208AE8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24448-992C-4886-BEFE-223BCB27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B004F-CF7D-431F-818D-44CB9EEC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1A89-D273-4C39-9630-AC3F4C2293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2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CE44-CB02-48B3-B190-477D9A0592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3F40-B148-451D-822F-3B7884D094A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C01-3967-4F41-84BF-E8F9AD90B28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159-01CC-4964-8DA7-4C9DC52F6AA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4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0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71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4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5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7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AB98-6225-4C40-8B3C-4B82C5FD2F0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8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32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8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42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8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79CA-62EA-4137-89AC-AFA8CF7D1D4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3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2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6E59-2F16-4FEC-A698-85E2CD28F38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76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78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ACE2-AA9A-4129-9509-20527062CCB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23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25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24AB-C607-4AA6-849B-D903AB9062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file:///tmp/home/.config/libreoffice/4/user/gallery/click.wav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" Target="slide9.xml"/><Relationship Id="rId4" Type="http://schemas.openxmlformats.org/officeDocument/2006/relationships/image" Target="../media/image19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image" Target="../media/image34.gif"/><Relationship Id="rId10" Type="http://schemas.openxmlformats.org/officeDocument/2006/relationships/slideLayout" Target="../slideLayouts/slideLayout4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file:///tmp/home/.config/libreoffice/4/user/gallery/voltage.wav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34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ype.wav" TargetMode="External"/><Relationship Id="rId2" Type="http://schemas.openxmlformats.org/officeDocument/2006/relationships/image" Target="../media/image3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image" Target="../media/image37.gi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34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slide" Target="slide10.xml"/><Relationship Id="rId4" Type="http://schemas.openxmlformats.org/officeDocument/2006/relationships/hyperlink" Target="file:///tmp/home/.config/libreoffice/4/user/gallery/wind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himes.wav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导语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在前几课，我们观赏了三峡的山水，领略了江南的美景。同学们想不想到被誉为“世界屋脊”的青藏高原的青海省去旅游？那里有一处令人神往的湖泊——青海湖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3240000" cy="22287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038840" cy="26892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4716360" y="40464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青海湖地处青海湖的西北部，长约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米，宽约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米，栖息着十万余只各类候鸟，称誉为“鸟的世界，鸟的王国”。青海湖位于西宁市以西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公里，是我国海拔最高、面积最大的内陆咸水湖。 每年四月，来自我国南方和东南亚等地的班头雁、棕头鸥、赤麻鸭、鸬鹚等十多种侯鸟在这里繁衍生息；秋天，它们又携儿带女飞回南方，国家在岛上设有专门的保护机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previousslide"/>
            <a:hlinkClick r:id="rId4"/>
          </p:cNvPr>
          <p:cNvSpPr/>
          <p:nvPr/>
        </p:nvSpPr>
        <p:spPr>
          <a:xfrm>
            <a:off x="7667640" y="59180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57200" y="304920"/>
            <a:ext cx="426096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海心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海心山是青海湖的又一名胜。它位于青海湖湖心偏南，长２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３公里，宽约８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０米，高出湖面７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</a:rPr>
              <a:t>８米，自古以产“龙驹”而闻名。海心山环境幽雅。绿草如茵，轻风薄云，淡水清泉，景色宜人。山上古刹白塔隐存其间。犹如步入仙境一般。攀上海心山的顶端远眺青海湖的全貌，那海阔天空，天水相连，鸥翔鱼跃的壮丽景色，可以使游人尽情享受大自然的景观，陶冶情操，抒展胸怀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3384720" cy="2355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093080" y="6093000"/>
            <a:ext cx="952200" cy="5238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4360" y="4437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沙岛，位于青海湖东北部，海晏县境内，曾是湖中最大的岛屿，现已成为半岛，表面均由沙砾覆盖，基本无植被，是鱼鸥的栖息繁殖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4500720" y="1197000"/>
            <a:ext cx="4248000" cy="302400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rId4"/>
          </p:cNvPr>
          <p:cNvSpPr/>
          <p:nvPr/>
        </p:nvSpPr>
        <p:spPr>
          <a:xfrm>
            <a:off x="4140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321080" y="3209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卑禾羌的牧地，所以又叫“卑禾羌海”，汉代也有人称它为“仙海”。从北魏起才更名为“青海”。青海湖地处高原的东北部，湖的四周被巍巍高山所环抱。北面是崇宏壮丽的大通山，东面是巍峨雄伟的日月山，南面是逶迤绵延的青海南山，西面是峥嵘嵯峨的橡皮山。离西宁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里，海拔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。它的周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公里，面积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58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方公里，是我国最大的咸水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青海湖由鸟岛、海心山、沙岛、三块石和海西皮五部分组成。其中鸟岛和海心山岛是著名的旅游圣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4535640" y="189000"/>
            <a:ext cx="4608360" cy="28573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250920" y="189000"/>
            <a:ext cx="38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青海湖，是中国最大的内陆咸水湖泊。从古到今，人们向往它的浩瀚、神奇、博大，为它的雄伟、秀丽而赞叹不矣，把它誉为青海高原上的一颗璀灿的明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青海湖，古称“西海”，又称“鲜水”或“鲜海”。蒙语称“库库诺尔”，藏语称“错温波”，意为“青色的海”、“蓝色的海洋”。由于青海湖一带早先属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164360" y="6334200"/>
            <a:ext cx="952560" cy="5238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5"/>
          <a:stretch/>
        </p:blipFill>
        <p:spPr>
          <a:xfrm>
            <a:off x="34920" y="3213000"/>
            <a:ext cx="3594240" cy="3600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40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6346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冯君莉，女，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1956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年生，天津人，当代作家。曾任青海省文学艺术研究所副所长，发表了散文、报告文学、短篇小说等作品几十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rId2"/>
          </p:cNvPr>
          <p:cNvSpPr/>
          <p:nvPr/>
        </p:nvSpPr>
        <p:spPr>
          <a:xfrm>
            <a:off x="7796160" y="5892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563400" y="1715760"/>
            <a:ext cx="7632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朗读课文，扫除生字障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落实生字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涟漪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魅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逶迤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潸然泪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脍炙人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理清课文结构。</a:t>
            </a:r>
            <a:br>
              <a:rPr sz="2800"/>
            </a:br>
            <a:r>
              <a:rPr b="0" lang="zh-CN" sz="28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提示：根据作者的游踪来划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"/>
          <p:cNvSpPr/>
          <p:nvPr/>
        </p:nvSpPr>
        <p:spPr>
          <a:xfrm>
            <a:off x="3740040" y="4162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58920" y="42181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48000" y="41623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4000" y="691920"/>
            <a:ext cx="6870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Comic Sans MS"/>
                <a:ea typeface="黑体"/>
              </a:rPr>
              <a:t>整体感知课文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"/>
          <p:cNvSpPr/>
          <p:nvPr/>
        </p:nvSpPr>
        <p:spPr>
          <a:xfrm>
            <a:off x="1666800" y="33321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59120" y="33098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19480" y="33098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28472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8792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4036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8828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0909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80960" y="2717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zh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90640" y="2708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án y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075200" y="2716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è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411880" y="27018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ēi  y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348680" y="2708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71640" y="366876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sh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30560" y="37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Kuài zh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451320" y="3424320"/>
            <a:ext cx="215640" cy="2735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71280 h 2735280"/>
              <a:gd name="textAreaBottom" fmla="*/ 266400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780000" y="3284640"/>
            <a:ext cx="4248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在前往青海湖的途中，怀着憧憬般的梦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740040" y="4287960"/>
            <a:ext cx="424836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在青海湖感受到了梦幻般的境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746520" y="5216400"/>
            <a:ext cx="424800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希望青海湖被更多的游人赏识，但又担心这梦幻般的美景遭到破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rId1"/>
          </p:cNvPr>
          <p:cNvSpPr/>
          <p:nvPr/>
        </p:nvSpPr>
        <p:spPr>
          <a:xfrm>
            <a:off x="7093080" y="765000"/>
            <a:ext cx="1008000" cy="459720"/>
          </a:xfrm>
          <a:prstGeom prst="rect">
            <a:avLst/>
          </a:prstGeom>
          <a:noFill/>
          <a:ln w="57240">
            <a:solidFill>
              <a:srgbClr val="f7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908000" y="5880240"/>
            <a:ext cx="1274400" cy="977760"/>
            <a:chOff x="1908000" y="5880240"/>
            <a:chExt cx="1274400" cy="97776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1908000" y="58802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 rot="21290400">
              <a:off x="2084400" y="60894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3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1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4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610920" y="1844280"/>
            <a:ext cx="81342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朗读课文，思考以下问题：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⑴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朗读课文后，理清作者观赏青海湖的顺序（在文中找出相关的语句）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⑵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作者从哪些角度来观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⑶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作者在青海湖观赏的景物各有什么特点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⑷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文中描绘了青海湖的什么风光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⑸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文中抒发了作者什么样的感情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⑹</a:t>
            </a:r>
            <a:r>
              <a:rPr b="0" lang="zh-CN" sz="2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作者为什么用“梦幻般”来形容青海湖？“梦幻般”在文中有何作用？请找出文中相关的句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析读课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"/>
          <p:cNvSpPr/>
          <p:nvPr/>
        </p:nvSpPr>
        <p:spPr>
          <a:xfrm>
            <a:off x="1042920" y="3068640"/>
            <a:ext cx="5761080" cy="1015920"/>
          </a:xfrm>
          <a:prstGeom prst="rect">
            <a:avLst/>
          </a:prstGeom>
          <a:solidFill>
            <a:srgbClr val="c0c0c0"/>
          </a:soli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⑴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观赏顺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草滩——湖水——乌云——晴空——草滩与山峦——岛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6920" y="3645000"/>
            <a:ext cx="57610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观察角度：定点观察，下—上—下，近—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4608360" cy="320364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468360" y="549360"/>
            <a:ext cx="4680000" cy="31608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4"/>
          <a:stretch/>
        </p:blipFill>
        <p:spPr>
          <a:xfrm>
            <a:off x="826920" y="62064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5"/>
          <a:stretch/>
        </p:blipFill>
        <p:spPr>
          <a:xfrm>
            <a:off x="755640" y="765000"/>
            <a:ext cx="4537080" cy="340380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6"/>
          <a:stretch/>
        </p:blipFill>
        <p:spPr>
          <a:xfrm>
            <a:off x="971640" y="476280"/>
            <a:ext cx="2935080" cy="424800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7"/>
          <a:stretch/>
        </p:blipFill>
        <p:spPr>
          <a:xfrm>
            <a:off x="611280" y="907920"/>
            <a:ext cx="5040360" cy="33577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6227640" y="981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70909"/>
                </a:solidFill>
                <a:latin typeface="Arial"/>
              </a:rPr>
              <a:t>⑶</a:t>
            </a:r>
            <a:r>
              <a:rPr b="0" lang="zh-CN" sz="1800" spc="-1" strike="noStrike">
                <a:solidFill>
                  <a:srgbClr val="f70909"/>
                </a:solidFill>
                <a:latin typeface="Arial"/>
              </a:rPr>
              <a:t>草滩：绿茵茵，油菜花：黄灿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156360" y="112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b800"/>
                </a:solidFill>
                <a:latin typeface="Arial"/>
              </a:rPr>
              <a:t>湖水：蓝得醉人、纯净、深湛、温柔恬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67280" y="2421000"/>
            <a:ext cx="2737080" cy="368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乌云：似奔腾的骏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300720" y="2924280"/>
            <a:ext cx="2303640" cy="36828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晴空：淡蓝色的苍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56360" y="2276640"/>
            <a:ext cx="2376360" cy="368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草滩与山峦：碧绿、深褐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300720" y="1916280"/>
            <a:ext cx="22320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岛屿：鸟岛之神奇，鸟种类多；鱼类丰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58920" y="4869000"/>
            <a:ext cx="4392720" cy="4597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⑷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描绘了青海湖美丽、富绕、神奇的风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92360" y="3860640"/>
            <a:ext cx="4464360" cy="4597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抒发作者对梦幻般的青海湖的喜爱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16000" y="1557360"/>
            <a:ext cx="5111640" cy="825480"/>
          </a:xfrm>
          <a:prstGeom prst="rect">
            <a:avLst/>
          </a:prstGeom>
          <a:solidFill>
            <a:srgbClr val="ffb8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⑹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“梦幻般”来写出青海湖的神奇、美丽、富绕的特点。以“梦幻”作为贯穿全文的线索，从开头“关于高原的梦”——“扑进梦幻般的现实”——从梦幻中解脱，反思现实。其实是一条感情线索，是文中的暗线。课文自始至终把“梦幻”与对青海湖的描写结合起来。这样虚实结合，使文章结构更紧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867280" y="6093000"/>
            <a:ext cx="936720" cy="50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9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2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534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1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824760" y="1989000"/>
            <a:ext cx="9118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0909"/>
                </a:solidFill>
                <a:latin typeface="Arial"/>
              </a:rPr>
              <a:t>梦幻般的青海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92360" y="1268280"/>
            <a:ext cx="358560" cy="3240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050920" y="907920"/>
            <a:ext cx="23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在路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356000" y="1125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期待、向往梦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2421000"/>
            <a:ext cx="27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观赏青海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84720" y="2701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如梦幻、领略梦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08000" y="4224240"/>
            <a:ext cx="211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返　　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cc66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500720" y="429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思、保护梦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59280" y="342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32000" y="184464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0872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08720" y="327672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44720" y="404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明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005440" y="404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暗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36000" y="1197000"/>
            <a:ext cx="433080" cy="3527280"/>
          </a:xfrm>
          <a:custGeom>
            <a:avLst/>
            <a:gdLst>
              <a:gd name="textAreaLeft" fmla="*/ 0 w 433080"/>
              <a:gd name="textAreaRight" fmla="*/ 156240 w 433080"/>
              <a:gd name="textAreaTop" fmla="*/ 91800 h 3527280"/>
              <a:gd name="textAreaBottom" fmla="*/ 3435480 h 35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596360" y="907920"/>
            <a:ext cx="458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593840" y="2133720"/>
            <a:ext cx="9118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42920" y="4046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线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rId2"/>
          </p:cNvPr>
          <p:cNvSpPr/>
          <p:nvPr/>
        </p:nvSpPr>
        <p:spPr>
          <a:xfrm>
            <a:off x="8028000" y="6237360"/>
            <a:ext cx="86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411280" y="587700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方正舒体"/>
              </a:rPr>
              <a:t>板书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667640" y="4581360"/>
            <a:ext cx="1274400" cy="977760"/>
            <a:chOff x="7667640" y="4581360"/>
            <a:chExt cx="1274400" cy="977760"/>
          </a:xfrm>
        </p:grpSpPr>
        <p:pic>
          <p:nvPicPr>
            <p:cNvPr id="677" name="" descr=""/>
            <p:cNvPicPr/>
            <p:nvPr/>
          </p:nvPicPr>
          <p:blipFill>
            <a:blip r:embed="rId3"/>
            <a:stretch/>
          </p:blipFill>
          <p:spPr>
            <a:xfrm>
              <a:off x="7667640" y="4581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 rot="21290400">
              <a:off x="7844040" y="4790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539640" y="476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0909"/>
                </a:solidFill>
                <a:latin typeface="Arial"/>
                <a:ea typeface="隶书"/>
              </a:rPr>
              <a:t>品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1773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找出文中你喜欢的句子来朗读，并说说喜欢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11280" y="220500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⒈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叠词的运用：更能突出景物的特点且富有节奏感。例：课本第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18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页课后练习二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1</a:t>
            </a:r>
            <a:r>
              <a:rPr b="0" lang="zh-CN" sz="2000" spc="-1" strike="noStrike">
                <a:solidFill>
                  <a:srgbClr val="f70909"/>
                </a:solidFill>
                <a:latin typeface="宋体"/>
              </a:rPr>
              <a:t>～</a:t>
            </a:r>
            <a:r>
              <a:rPr b="0" lang="zh-CN" sz="2000" spc="-1" strike="noStrike">
                <a:solidFill>
                  <a:srgbClr val="f70909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f70909"/>
                </a:solidFill>
                <a:latin typeface="隶书"/>
                <a:ea typeface="隶书"/>
              </a:rPr>
              <a:t>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1280" y="278136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⒉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多种修辞手法的运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⑴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比喻—生动形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比喻：如写湖水的蓝像“姑娘水灵灵、蓝晶晶的眸子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⑵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排比—加强句子的语意和语气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隶书"/>
              </a:rPr>
              <a:t> </a:t>
            </a:r>
            <a:r>
              <a:rPr b="0" lang="zh-CN" sz="2400" spc="-1" strike="noStrike">
                <a:solidFill>
                  <a:srgbClr val="f70909"/>
                </a:solidFill>
                <a:latin typeface="Arial"/>
                <a:ea typeface="隶书"/>
              </a:rPr>
              <a:t>排比：如写“青海湖的蓝，蓝得纯净，蓝得深湛，也蓝得温柔恬雅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11280" y="13892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行楷"/>
              </a:rPr>
              <a:t>㈠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78952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㈡文章结构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5661000"/>
            <a:ext cx="931680" cy="504720"/>
          </a:xfrm>
          <a:prstGeom prst="rect">
            <a:avLst/>
          </a:prstGeom>
          <a:ln w="0">
            <a:noFill/>
          </a:ln>
        </p:spPr>
      </p:pic>
      <p:grpSp>
        <p:nvGrpSpPr>
          <p:cNvPr id="686" name=""/>
          <p:cNvGrpSpPr/>
          <p:nvPr/>
        </p:nvGrpSpPr>
        <p:grpSpPr>
          <a:xfrm>
            <a:off x="6804000" y="5516640"/>
            <a:ext cx="1274400" cy="977760"/>
            <a:chOff x="6804000" y="5516640"/>
            <a:chExt cx="1274400" cy="977760"/>
          </a:xfrm>
        </p:grpSpPr>
        <p:pic>
          <p:nvPicPr>
            <p:cNvPr id="687" name="" descr=""/>
            <p:cNvPicPr/>
            <p:nvPr/>
          </p:nvPicPr>
          <p:blipFill>
            <a:blip r:embed="rId3"/>
            <a:stretch/>
          </p:blipFill>
          <p:spPr>
            <a:xfrm>
              <a:off x="6804000" y="55166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 rot="21290400">
              <a:off x="6980400" y="5725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8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9640" y="69228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70909"/>
                </a:solidFill>
                <a:latin typeface="Arial"/>
                <a:ea typeface="方正舒体"/>
              </a:rPr>
              <a:t>学生质疑，师生共同解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826920" y="1628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：文中引用古代传说有何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26920" y="2133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讨论归纳：引用传说的作用⑴说明青海湖的历史悠久；⑵增添青海湖的神奇，迷人的色彩；⑶表现了人们对青海湖的美好愿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26920" y="3500280"/>
            <a:ext cx="69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中写到年轻司机的表情“他仍旧那样肃穆，默默的望着远处的一个地方，丝毫没有交流感情的意思”，这样描写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00000" y="48434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这句话从侧面体现了青海湖神圣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734080"/>
            <a:ext cx="792360" cy="396720"/>
          </a:xfrm>
          <a:prstGeom prst="rect">
            <a:avLst/>
          </a:prstGeom>
          <a:ln w="0">
            <a:noFill/>
          </a:ln>
        </p:spPr>
      </p:pic>
      <p:grpSp>
        <p:nvGrpSpPr>
          <p:cNvPr id="695" name=""/>
          <p:cNvGrpSpPr/>
          <p:nvPr/>
        </p:nvGrpSpPr>
        <p:grpSpPr>
          <a:xfrm>
            <a:off x="7308720" y="5229360"/>
            <a:ext cx="1274400" cy="977760"/>
            <a:chOff x="7308720" y="5229360"/>
            <a:chExt cx="1274400" cy="977760"/>
          </a:xfrm>
        </p:grpSpPr>
        <p:pic>
          <p:nvPicPr>
            <p:cNvPr id="696" name="" descr=""/>
            <p:cNvPicPr/>
            <p:nvPr/>
          </p:nvPicPr>
          <p:blipFill>
            <a:blip r:embed="rId3"/>
            <a:stretch/>
          </p:blipFill>
          <p:spPr>
            <a:xfrm>
              <a:off x="7308720" y="5229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 rot="21290400">
              <a:off x="7485120" y="5438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685800" y="2057400"/>
            <a:ext cx="8001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青海湖，梦幻般的湖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58" name=""/>
          <p:cNvSpPr/>
          <p:nvPr/>
        </p:nvSpPr>
        <p:spPr>
          <a:xfrm>
            <a:off x="3780000" y="4437000"/>
            <a:ext cx="1098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10080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7ce19"/>
                </a:solidFill>
                <a:latin typeface="Times New Roman"/>
              </a:rPr>
              <a:t>迁移阅读，提高能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6121440" cy="403092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555640" y="-1395360"/>
            <a:ext cx="6305400" cy="86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7ce19"/>
                </a:solidFill>
                <a:latin typeface="Times New Roman"/>
              </a:rPr>
              <a:t>拯救青海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70909"/>
                </a:solidFill>
                <a:latin typeface="Times New Roman"/>
              </a:rPr>
              <a:t>水位下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有关专家根据历史资料推算，青海湖水位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0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5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间，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25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下降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196.5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平均每年下降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7.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厘米，湖泊面积减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.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方公里。气象专家的科研成果显示，由于上世纪末气候暖干，湖区周围降水少，注入青海湖的河水水量减少，蒸发量加大，青海湖湖水“收支”不平衡，加上人为活动因素，青海湖水位下降是必然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70909"/>
                </a:solidFill>
                <a:latin typeface="Times New Roman"/>
              </a:rPr>
              <a:t>土地沙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在湖西北角已被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平方公里的沙丘包围，湖区的沙滩盐渍化严重，鸟岛周围满目黄沙。鸟岛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年前还是一个湖中孤岛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97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成为三面临水的半岛，而现在已成为离湖岸几公里的陆岛了。湖的南部黄河段，草场向荒漠化的发展趋势明显，退化面积迅速增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70909"/>
                </a:solidFill>
                <a:latin typeface="Times New Roman"/>
              </a:rPr>
              <a:t>草场退化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青海湖环湖地区的草地是青海最好的草地，以金银滩为代表的环湖草原也是青海最优良的牧场，畜牧环境极好。由于居住人口增多，多数人从事农副业，大量开垦草场作为耕地，草场退化严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物种减少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青海湖是我国高原内陆湖区水禽候鸟栖息繁衍的主要活动区域，也是最大的内陆高原湿地水禽保护区。区域内共有鸟类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种，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万只，其中以鱼鸥、鸬鹚、斑头雁、棕头鸥等水禽聚集较多。另外，区域内还分布有兽类、两栖类、爬行类、鱼类等物种。由于生态恶化，受威胁的生物物种约占总数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5——20%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尤以湟鱼为最。藏野驴、野牦牛等珍稀动物数量也呈减少之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zh-CN" sz="2000" spc="-1" strike="noStrike">
                <a:solidFill>
                  <a:srgbClr val="f70909"/>
                </a:solidFill>
                <a:latin typeface="Times New Roman"/>
              </a:rPr>
              <a:t>天灾固然可怕，但人祸所造成的结果一点儿都不亚于天灾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每年成鱼季节，有大量的渔郎进入湖区非法捕劳，鱼贩子也趁机进驻，进行现场收购。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40000" y="40464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你想知道青海湖的现状吗？请阅读下面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6354720"/>
            <a:ext cx="865080" cy="503280"/>
          </a:xfrm>
          <a:prstGeom prst="rect">
            <a:avLst/>
          </a:prstGeom>
          <a:ln w="0">
            <a:noFill/>
          </a:ln>
        </p:spPr>
      </p:pic>
      <p:grpSp>
        <p:nvGrpSpPr>
          <p:cNvPr id="703" name=""/>
          <p:cNvGrpSpPr/>
          <p:nvPr/>
        </p:nvGrpSpPr>
        <p:grpSpPr>
          <a:xfrm>
            <a:off x="1619280" y="5229360"/>
            <a:ext cx="1274400" cy="977760"/>
            <a:chOff x="1619280" y="5229360"/>
            <a:chExt cx="1274400" cy="977760"/>
          </a:xfrm>
        </p:grpSpPr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1619280" y="522936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 rot="21290400">
              <a:off x="1795680" y="543852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879" dur="indefinite" restart="never" nodeType="tmRoot">
          <p:childTnLst>
            <p:seq>
              <p:cTn id="880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45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5000" fill="hold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45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5000" fill="hold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45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45000" fill="hold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45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45000" fill="hold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45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45000" fill="hold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000" fill="hold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93816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迁移阅读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提高能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71280" y="1125000"/>
            <a:ext cx="54421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看完上文内容后，你有何感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33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冯君莉希望人们来到美丽的青海湖游览，又怕环境遭到破坏。她这种想法不是无中生有的，从上文就可以得到印证。那么请你出出点子：有什么措施即可以开发青海湖的旅游资源，发展经济，又不破坏环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5734080"/>
            <a:ext cx="650880" cy="465120"/>
          </a:xfrm>
          <a:prstGeom prst="rect">
            <a:avLst/>
          </a:prstGeom>
          <a:ln w="0">
            <a:noFill/>
          </a:ln>
        </p:spPr>
      </p:pic>
      <p:grpSp>
        <p:nvGrpSpPr>
          <p:cNvPr id="709" name=""/>
          <p:cNvGrpSpPr/>
          <p:nvPr/>
        </p:nvGrpSpPr>
        <p:grpSpPr>
          <a:xfrm>
            <a:off x="6804000" y="5300640"/>
            <a:ext cx="1274400" cy="977760"/>
            <a:chOff x="6804000" y="5300640"/>
            <a:chExt cx="1274400" cy="977760"/>
          </a:xfrm>
        </p:grpSpPr>
        <p:pic>
          <p:nvPicPr>
            <p:cNvPr id="710" name="" descr=""/>
            <p:cNvPicPr/>
            <p:nvPr/>
          </p:nvPicPr>
          <p:blipFill>
            <a:blip r:embed="rId3"/>
            <a:stretch/>
          </p:blipFill>
          <p:spPr>
            <a:xfrm>
              <a:off x="6804000" y="53006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 rot="21290400">
              <a:off x="6980400" y="55098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934" dur="indefinite" restart="never" nodeType="tmRoot">
          <p:childTnLst>
            <p:seq>
              <p:cTn id="935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小结全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本文通过描述青海湖的美丽、富饶，抒发了作者对青海湖的赞美和向往之情，表达了担心美丽的青海湖生态环境遭到破坏的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500720" y="2276640"/>
            <a:ext cx="3311280" cy="2304720"/>
          </a:xfrm>
          <a:prstGeom prst="cloudCallout">
            <a:avLst>
              <a:gd name="adj1" fmla="val 29481"/>
              <a:gd name="adj2" fmla="val 9855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嗨！大家好！不知你们有没有到过青海？到过青海湖？现在让我和大家一起到那里去看看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rId2" action="ppaction://hlinksldjump"/>
          </p:cNvPr>
          <p:cNvSpPr/>
          <p:nvPr/>
        </p:nvSpPr>
        <p:spPr>
          <a:xfrm>
            <a:off x="3995640" y="2852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青海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3" action="ppaction://hlinksldjump"/>
          </p:cNvPr>
          <p:cNvSpPr/>
          <p:nvPr/>
        </p:nvSpPr>
        <p:spPr>
          <a:xfrm>
            <a:off x="3276720" y="148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鸟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rId4"/>
          </p:cNvPr>
          <p:cNvSpPr/>
          <p:nvPr/>
        </p:nvSpPr>
        <p:spPr>
          <a:xfrm>
            <a:off x="3780000" y="220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海心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rId5"/>
          </p:cNvPr>
          <p:cNvSpPr/>
          <p:nvPr/>
        </p:nvSpPr>
        <p:spPr>
          <a:xfrm>
            <a:off x="4859280" y="2133720"/>
            <a:ext cx="4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沙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6"/>
          </p:cNvPr>
          <p:cNvSpPr/>
          <p:nvPr/>
        </p:nvSpPr>
        <p:spPr>
          <a:xfrm>
            <a:off x="179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580000" y="28447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隶书"/>
              </a:rPr>
              <a:t>，梦幻般的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873920" y="5880240"/>
            <a:ext cx="1274400" cy="977760"/>
            <a:chOff x="7873920" y="5880240"/>
            <a:chExt cx="1274400" cy="977760"/>
          </a:xfrm>
        </p:grpSpPr>
        <p:pic>
          <p:nvPicPr>
            <p:cNvPr id="584" name="" descr=""/>
            <p:cNvPicPr/>
            <p:nvPr/>
          </p:nvPicPr>
          <p:blipFill>
            <a:blip r:embed="rId7"/>
            <a:stretch/>
          </p:blipFill>
          <p:spPr>
            <a:xfrm>
              <a:off x="7873920" y="5880240"/>
              <a:ext cx="12700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 rot="21290400">
              <a:off x="8050320" y="608940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292720" y="2708280"/>
            <a:ext cx="2592360" cy="2089080"/>
          </a:xfrm>
          <a:prstGeom prst="wedgeEllipseCallout">
            <a:avLst>
              <a:gd name="adj1" fmla="val 19134"/>
              <a:gd name="adj2" fmla="val 98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青海湖由以下几个部分组成，它们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8"/>
          <a:stretch/>
        </p:blipFill>
        <p:spPr>
          <a:xfrm>
            <a:off x="826920" y="692280"/>
            <a:ext cx="7056720" cy="43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xit" presetID="8" presetSubtype="16">
                                  <p:stCondLst>
                                    <p:cond delay="3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7T01:47:26Z</dcterms:created>
  <dc:creator>吴启晖</dc:creator>
  <dc:description/>
  <dc:language>en-US</dc:language>
  <cp:lastModifiedBy>User</cp:lastModifiedBy>
  <dcterms:modified xsi:type="dcterms:W3CDTF">2014-09-03T06:56:56Z</dcterms:modified>
  <cp:revision>30</cp:revision>
  <dc:subject/>
  <dc:title>幻灯片 1</dc:title>
</cp:coreProperties>
</file>