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30.gif" ContentType="image/gif"/>
  <Override PartName="/ppt/media/image14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1.jpeg" ContentType="image/jpeg"/>
  <Override PartName="/ppt/media/image33.gif" ContentType="image/gif"/>
  <Override PartName="/ppt/media/image18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637-E66F-4142-A614-C821D5C9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F53-BAFB-4EEE-8B93-3030C7FA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9926F-041F-4BD9-93DE-258DDE6C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87729-B5A1-4D4B-A682-539BBEFD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8CAB4-1717-4036-AEC6-5122A6BC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9AFBA-A7E9-4EEB-B169-297C277A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A7ACC-2C09-4A78-8703-46D57E6F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2D123-24C1-48BB-9BA0-B1066E4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BE4FC-0DD7-477F-9C43-1CF0055D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2BA39-1175-4996-AE64-1EAB5764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876E0-5EA3-4674-9587-B9E5119B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F14-FC85-4A7E-91CB-30664544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4CD-86EA-4B72-8134-02CB7CCF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12F79-84E6-4D4D-A1C4-576BB601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C28B5-7BA1-4597-945D-14610B0B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28230-BB13-4E9B-83EC-2AE837E0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764DF-AC5E-4EC4-8C75-08537A91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6A3B8-B766-4FF6-96FC-26D3CDFE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84BC2-4C3B-44A0-BA05-7268A8A0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3957A-30D4-44EB-AC1C-B8A6CBC4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5A31D-8468-473E-9D63-D8C0C510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713E3-D959-42D9-B579-B7041302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0C40-EC6D-44C6-BFE3-0042CD04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2B38B-9701-499E-A18C-90A4203C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D4894-15F5-4B02-81D8-771ABFA6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0E7B5-95DD-41AE-8A15-EF654691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B640-8FF7-41BD-8155-6778B3A1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2EE7-272A-4AEE-B865-AAC65DA8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A6FD-005F-4EF0-934D-0FFC77D9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6AC-2FD1-46F4-A977-0880CD2B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C499-5C58-47C3-A8B6-4C6D1A00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F567-0868-4D89-AFFA-26844356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F44-5D3B-4A42-84F7-9C8859E7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5C17-319F-4F1C-960A-E24207F5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F437-79D2-423A-9A8A-4EBD377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7C20-DA89-450A-A14C-2F474B39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6501-1AC8-4241-8E7C-4B9B1C5E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51ED-7CBF-4C56-9828-6EB6BC33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5A831-BFF8-492C-A87A-E40A6F38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AE9D-E6D9-4A6A-B656-035D9234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6C3C-F49A-4227-831C-5B37827B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73CE-C1A2-4102-A6CB-D32DF643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EE4B1-987D-4FF2-9C69-16BC67BE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014-FF9A-4B5B-A108-659798D2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DF13-4477-44DA-BE6B-221A6187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805D-C3DF-4F06-9491-F130B107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C708-58F7-441E-92BA-33FD8FE7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CFB9-4AA1-46E4-938F-2DF6AC86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8A72-7A7A-40A5-9BBA-1C0BE279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6B2A-7D2E-4FE0-AB7B-294894F5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1A8D-1AF0-4542-BAF0-1CFB82E4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CEA9-D418-49D7-B0D3-CA374EBE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4DF3-6514-4660-BDE8-388AE08C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8918A-8864-4C55-B58A-93506BAB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EF0-BC4C-4A9F-8E55-D03F48C1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C4EDB-CB6B-4804-9CD2-E18B57D8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09F4A-09A5-438A-BC89-D031E0DD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2DA2-0248-4A27-B5CF-92ADC277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9F45-6B11-4342-8B7F-A3661FC9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ADCB-1358-41C5-B6A1-D120E70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C6E2-0074-42B3-AFDB-34C55458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3B58A-1A58-45AA-AC92-89B0DD51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4077-F912-43B8-8A14-3ECF5CF1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DCC0-9BD7-46F3-AD26-21E9356E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49E5C-837D-4907-9256-3F000478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06C-CC97-4278-9EE2-E87D59D8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ACE1-A6AA-4F70-8016-2CC63D5A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C7263-6DA3-408A-BF8F-4CC2CAC7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1217A-6BD0-4C3E-A9D4-C1E914AC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8A95C-58A7-404B-B1B4-78AD912B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BE8AC-7926-4965-8A58-B00EF4BD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3C2CA-80B9-4236-8F41-C286B79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A42A-E0DF-4299-9333-31FE149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80F7E-3BC9-4BB1-8925-09191461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83ED-9C49-48A5-9D0F-35AE5312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B6278-1ED0-436C-B407-E3E12BBE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6E7-EEF1-4E58-86F9-E882300B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AFF5D-8F2B-4492-98D9-ACB0961F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62DEB-D4AB-4105-A67A-DE38AF38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BDB2F-910F-4D37-92A7-3497FA7A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52282-8480-47A9-96AD-6B078C18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C1C8E-8CEB-4F8A-ABB9-82D23C5A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AEF46-AB1C-4B81-ADE9-1EF1FDCF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F438-E799-467A-9A1A-1C248E68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CAB3B-CD45-41C4-ABD1-1B6AEA1D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E5385-B7D4-4AD3-82BB-752959DF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95C0-8174-484F-B18E-076DB61E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FAB-90B5-45EB-AF46-D31ADA6D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0BD6E-A99C-4719-821C-04C41860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13AE9-D98E-4D89-A79E-569BB1AD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E9EAA-D106-4565-BEAF-6A5D57E9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8A85-63DC-4C24-8822-A1FDA469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39D93-EDA2-449D-9EDD-8ACB72C8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37F78-008F-48A7-A7CF-5E8E0BAC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55C67-E3B6-4662-9E41-B78692A4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2D2E8-1400-46BF-8BB6-60AB4E2F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7E620-7DBA-42AA-983F-4D6E7DAC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1A61-7E0C-4DDD-B976-5A7F7437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691-B5D3-4EE3-9326-BEEF3FA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8C46D-A684-458D-925D-55F27B9F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C123C-0283-4728-A774-5E49872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171AC-70AA-441A-B212-0C1DB8AA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1AF23-BDE7-4288-BE3F-7D99754D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D380F-93E9-4F99-818F-40189F82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292CA-B816-4749-80DC-E2C306E5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C4CE6-8796-4301-B03C-B33C2E85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4BE56-875B-4779-A684-965A03A9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16C27-2120-480C-AFFF-FA4B5BC5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D5D11-1726-4FC2-8315-2B46B1A5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EE4-4821-4B61-9391-7BD34A9D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2A8F6-1191-4C78-9A76-14B6D4C7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7E9CD-FACD-45D6-9D87-9408A44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C2489-AA1A-4E6B-AB22-6B3F302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55806-DE68-40A2-BC73-CE78FE90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D1182-07AB-4F65-9052-6AD252F3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85721-C727-4086-95F4-C76EBDFD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A3FF9-DB59-4FD5-B4DA-28827C25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92C5B-4568-4CAD-80B3-95F15D34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9F767-B3E6-48FB-B5CF-31D1AFC0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5F426-EC2F-4A17-898B-B9676949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BC04-176E-4F33-A9FC-286FC8A6BC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518F-A163-465D-ACD6-8882DC63D0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F10C-490C-4EBE-BB16-0A54B9B58EE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6C83-1B1B-44A9-BDF5-DF6C0E1A0583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D408-FD65-4A26-A751-E1B90961EA1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81EA-D6F4-467E-9E90-B891A09382B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87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FAB5-2790-4199-93FE-865A00AEAE65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32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ftr" idx="2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F5B7-A8A2-48D5-B5B1-97F6438A66F2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77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79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F142-33FB-4AE1-A1BA-34FF73935F2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24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26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30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E4CA-0DA1-43FB-8B50-D50E5715A1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slide" Target="slide10.xm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4.png"/><Relationship Id="rId10" Type="http://schemas.openxmlformats.org/officeDocument/2006/relationships/slide" Target="slide7.xml"/><Relationship Id="rId11" Type="http://schemas.openxmlformats.org/officeDocument/2006/relationships/image" Target="../media/image5.png"/><Relationship Id="rId12" Type="http://schemas.openxmlformats.org/officeDocument/2006/relationships/hyperlink" Target="file:///tmp/home/.config/libreoffice/4/user/gallery/type.wav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image" Target="../media/image33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3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hyperlink" Target="file:///tmp/home/.config/libreoffice/4/user/gallery/wind.wav" TargetMode="External"/><Relationship Id="rId4" Type="http://schemas.openxmlformats.org/officeDocument/2006/relationships/hyperlink" Target="file:///tmp/home/.config/libreoffice/4/user/gallery/voltage.wav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1.xml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slide2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image" Target="../media/image17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" Target="slide1.xml"/><Relationship Id="rId9" Type="http://schemas.openxmlformats.org/officeDocument/2006/relationships/image" Target="../media/image30.gif"/><Relationship Id="rId10" Type="http://schemas.openxmlformats.org/officeDocument/2006/relationships/slideLayout" Target="../slideLayouts/slideLayout4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>
            <a:hlinkClick r:id="rId1"/>
          </p:cNvPr>
          <p:cNvSpPr/>
          <p:nvPr/>
        </p:nvSpPr>
        <p:spPr>
          <a:xfrm>
            <a:off x="1042920" y="1197000"/>
            <a:ext cx="21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、导入新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1042920" y="172548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、资源共享、展示交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3"/>
          </p:cNvPr>
          <p:cNvSpPr/>
          <p:nvPr/>
        </p:nvSpPr>
        <p:spPr>
          <a:xfrm>
            <a:off x="1047600" y="2276640"/>
            <a:ext cx="30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、整体感知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rId4" action="ppaction://hlinksldjump"/>
          </p:cNvPr>
          <p:cNvSpPr/>
          <p:nvPr/>
        </p:nvSpPr>
        <p:spPr>
          <a:xfrm>
            <a:off x="4716360" y="2924280"/>
            <a:ext cx="30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四、析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rId5" action="ppaction://hlinksldjump"/>
          </p:cNvPr>
          <p:cNvSpPr/>
          <p:nvPr/>
        </p:nvSpPr>
        <p:spPr>
          <a:xfrm>
            <a:off x="4716360" y="3541680"/>
            <a:ext cx="30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五、品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6"/>
          </p:cNvPr>
          <p:cNvSpPr/>
          <p:nvPr/>
        </p:nvSpPr>
        <p:spPr>
          <a:xfrm>
            <a:off x="4716360" y="4149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六、学生质疑、师生共同解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rId7" action="ppaction://hlinksldjump"/>
          </p:cNvPr>
          <p:cNvSpPr/>
          <p:nvPr/>
        </p:nvSpPr>
        <p:spPr>
          <a:xfrm>
            <a:off x="471636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七、总结全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rId8"/>
          </p:cNvPr>
          <p:cNvSpPr/>
          <p:nvPr/>
        </p:nvSpPr>
        <p:spPr>
          <a:xfrm>
            <a:off x="4738680" y="5877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八、迁移阅读、提高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429000"/>
            <a:ext cx="50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70909"/>
                </a:solidFill>
                <a:latin typeface="Arial"/>
                <a:ea typeface="黑体"/>
              </a:rPr>
              <a:t>第三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青海湖，梦幻般的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40000" y="33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行楷"/>
              </a:rPr>
              <a:t>教学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9"/>
          <a:stretch/>
        </p:blipFill>
        <p:spPr>
          <a:xfrm>
            <a:off x="4572000" y="0"/>
            <a:ext cx="4572000" cy="2833560"/>
          </a:xfrm>
          <a:prstGeom prst="rect">
            <a:avLst/>
          </a:prstGeom>
          <a:ln w="0">
            <a:noFill/>
          </a:ln>
        </p:spPr>
      </p:pic>
      <p:sp>
        <p:nvSpPr>
          <p:cNvPr id="567" name="">
            <a:hlinkClick r:id="rId10" action="ppaction://hlinksldjump"/>
          </p:cNvPr>
          <p:cNvSpPr/>
          <p:nvPr/>
        </p:nvSpPr>
        <p:spPr>
          <a:xfrm>
            <a:off x="3564000" y="4808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冯君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1"/>
          <a:stretch/>
        </p:blipFill>
        <p:spPr>
          <a:xfrm>
            <a:off x="900000" y="5734080"/>
            <a:ext cx="1143000" cy="57132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rId12"/>
          </p:cNvPr>
          <p:cNvSpPr/>
          <p:nvPr/>
        </p:nvSpPr>
        <p:spPr>
          <a:xfrm>
            <a:off x="971640" y="5924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451640" y="2997360"/>
            <a:ext cx="1274400" cy="977760"/>
            <a:chOff x="7451640" y="2997360"/>
            <a:chExt cx="1274400" cy="977760"/>
          </a:xfrm>
        </p:grpSpPr>
        <p:pic>
          <p:nvPicPr>
            <p:cNvPr id="571" name="" descr=""/>
            <p:cNvPicPr/>
            <p:nvPr/>
          </p:nvPicPr>
          <p:blipFill>
            <a:blip r:embed="rId13"/>
            <a:stretch/>
          </p:blipFill>
          <p:spPr>
            <a:xfrm>
              <a:off x="7451640" y="299736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 rot="21290400">
              <a:off x="7628040" y="320652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14"/>
          <a:stretch/>
        </p:blipFill>
        <p:spPr>
          <a:xfrm>
            <a:off x="824400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25169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824760" y="1989000"/>
            <a:ext cx="911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909"/>
                </a:solidFill>
                <a:latin typeface="Arial"/>
              </a:rPr>
              <a:t>梦幻般的青海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92360" y="1268280"/>
            <a:ext cx="358560" cy="3240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50920" y="90792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在路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356000" y="1125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期待、向往梦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08000" y="2421000"/>
            <a:ext cx="27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观赏青海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284720" y="2701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如梦幻、领略梦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4224240"/>
            <a:ext cx="211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返　　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500720" y="429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思、保护梦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059280" y="342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132000" y="184464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508720" y="17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327672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844720" y="404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明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005440" y="404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暗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36000" y="1197000"/>
            <a:ext cx="433080" cy="3527280"/>
          </a:xfrm>
          <a:custGeom>
            <a:avLst/>
            <a:gdLst>
              <a:gd name="textAreaLeft" fmla="*/ 0 w 433080"/>
              <a:gd name="textAreaRight" fmla="*/ 156240 w 433080"/>
              <a:gd name="textAreaTop" fmla="*/ 91800 h 3527280"/>
              <a:gd name="textAreaBottom" fmla="*/ 3435480 h 35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96360" y="907920"/>
            <a:ext cx="458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593840" y="213372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虚实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042920" y="404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线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rId2" action="ppaction://hlinksldjump"/>
          </p:cNvPr>
          <p:cNvSpPr/>
          <p:nvPr/>
        </p:nvSpPr>
        <p:spPr>
          <a:xfrm>
            <a:off x="8028000" y="6237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411280" y="5877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方正舒体"/>
              </a:rPr>
              <a:t>板书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7667640" y="4581360"/>
            <a:ext cx="1274400" cy="977760"/>
            <a:chOff x="7667640" y="4581360"/>
            <a:chExt cx="1274400" cy="977760"/>
          </a:xfrm>
        </p:grpSpPr>
        <p:pic>
          <p:nvPicPr>
            <p:cNvPr id="675" name="" descr=""/>
            <p:cNvPicPr/>
            <p:nvPr/>
          </p:nvPicPr>
          <p:blipFill>
            <a:blip r:embed="rId3"/>
            <a:stretch/>
          </p:blipFill>
          <p:spPr>
            <a:xfrm>
              <a:off x="7667640" y="458136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 rot="21290400">
              <a:off x="7844040" y="479052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539640" y="476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0909"/>
                </a:solidFill>
                <a:latin typeface="Arial"/>
                <a:ea typeface="隶书"/>
              </a:rPr>
              <a:t>品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11280" y="177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找出文中你喜欢的句子来朗读，并说说喜欢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11280" y="220500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⒈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叠词的运用：更能突出景物的特点且富有节奏感。例：课本第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18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页课后练习二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1</a:t>
            </a:r>
            <a:r>
              <a:rPr b="0" lang="zh-CN" sz="2000" spc="-1" strike="noStrike">
                <a:solidFill>
                  <a:srgbClr val="f70909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f70909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78136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多种修辞手法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比喻—生动形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比喻：如写湖水的蓝像“姑娘水灵灵、蓝晶晶的眸子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⑵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排比—加强句子的语意和语气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 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  <a:ea typeface="隶书"/>
              </a:rPr>
              <a:t>排比：如写“青海湖的蓝，蓝得纯净，蓝得深湛，也蓝得温柔恬雅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11280" y="13892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㈠品味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57895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㈡文章结构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796000" y="5661000"/>
            <a:ext cx="931680" cy="50472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6804000" y="5516640"/>
            <a:ext cx="1274400" cy="977760"/>
            <a:chOff x="6804000" y="5516640"/>
            <a:chExt cx="1274400" cy="977760"/>
          </a:xfrm>
        </p:grpSpPr>
        <p:pic>
          <p:nvPicPr>
            <p:cNvPr id="685" name="" descr=""/>
            <p:cNvPicPr/>
            <p:nvPr/>
          </p:nvPicPr>
          <p:blipFill>
            <a:blip r:embed="rId3"/>
            <a:stretch/>
          </p:blipFill>
          <p:spPr>
            <a:xfrm>
              <a:off x="6804000" y="551664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 rot="21290400">
              <a:off x="6980400" y="5725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684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8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evt="onClick">
                          <p:tgtEl>
                            <p:spTgt spid="684"/>
                          </p:tgtEl>
                        </p:cond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539640" y="692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70909"/>
                </a:solidFill>
                <a:latin typeface="Arial"/>
                <a:ea typeface="方正舒体"/>
              </a:rPr>
              <a:t>学生质疑，师生共同解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26920" y="1628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：文中引用古代传说有何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26920" y="2133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讨论归纳：引用传说的作用⑴说明青海湖的历史悠久；⑵增添青海湖的神奇，迷人的色彩；⑶表现了人们对青海湖的美好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26920" y="35002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中写到年轻司机的表情“他仍旧那样肃穆，默默的望着远处的一个地方，丝毫没有交流感情的意思”，这样描写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48434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这句话从侧面体现了青海湖神圣的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734080"/>
            <a:ext cx="792360" cy="396720"/>
          </a:xfrm>
          <a:prstGeom prst="rect">
            <a:avLst/>
          </a:prstGeom>
          <a:ln w="0">
            <a:noFill/>
          </a:ln>
        </p:spPr>
      </p:pic>
      <p:grpSp>
        <p:nvGrpSpPr>
          <p:cNvPr id="693" name=""/>
          <p:cNvGrpSpPr/>
          <p:nvPr/>
        </p:nvGrpSpPr>
        <p:grpSpPr>
          <a:xfrm>
            <a:off x="7308720" y="5229360"/>
            <a:ext cx="1274400" cy="977760"/>
            <a:chOff x="7308720" y="5229360"/>
            <a:chExt cx="1274400" cy="977760"/>
          </a:xfrm>
        </p:grpSpPr>
        <p:pic>
          <p:nvPicPr>
            <p:cNvPr id="694" name="" descr=""/>
            <p:cNvPicPr/>
            <p:nvPr/>
          </p:nvPicPr>
          <p:blipFill>
            <a:blip r:embed="rId3"/>
            <a:stretch/>
          </p:blipFill>
          <p:spPr>
            <a:xfrm>
              <a:off x="7308720" y="522936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 rot="21290400">
              <a:off x="7485120" y="543852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6" dur="indefinite" restart="never" nodeType="tmRoot">
          <p:childTnLst>
            <p:seq>
              <p:cTn id="927" restart="whenNotActive" nodeType="interactiveSeq" fill="hold">
                <p:stCondLst>
                  <p:cond evt="onClick">
                    <p:tgtEl>
                      <p:spTgt spid="693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evt="onClick">
                          <p:tgtEl>
                            <p:spTgt spid="693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1008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7ce19"/>
                </a:solidFill>
                <a:latin typeface="Times New Roman"/>
              </a:rPr>
              <a:t>迁移阅读，提高能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6121440" cy="403092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555640" y="-1395360"/>
            <a:ext cx="6305400" cy="86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7ce19"/>
                </a:solidFill>
                <a:latin typeface="Times New Roman"/>
              </a:rPr>
              <a:t>拯救青海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70909"/>
                </a:solidFill>
                <a:latin typeface="Times New Roman"/>
              </a:rPr>
              <a:t>水位下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有关专家根据历史资料推算，青海湖水位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0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5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间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2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下降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196.5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平均每年下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7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，湖泊面积减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平方公里。气象专家的科研成果显示，由于上世纪末气候暖干，湖区周围降水少，注入青海湖的河水水量减少，蒸发量加大，青海湖湖水“收支”不平衡，加上人为活动因素，青海湖水位下降是必然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70909"/>
                </a:solidFill>
                <a:latin typeface="Times New Roman"/>
              </a:rPr>
              <a:t>土地沙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在湖西北角已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多平方公里的沙丘包围，湖区的沙滩盐渍化严重，鸟岛周围满目黄沙。鸟岛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多年前还是一个湖中孤岛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成为三面临水的半岛，而现在已成为离湖岸几公里的陆岛了。湖的南部黄河段，草场向荒漠化的发展趋势明显，退化面积迅速增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70909"/>
                </a:solidFill>
                <a:latin typeface="Times New Roman"/>
              </a:rPr>
              <a:t>草场退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青海湖环湖地区的草地是青海最好的草地，以金银滩为代表的环湖草原也是青海最优良的牧场，畜牧环境极好。由于居住人口增多，多数人从事农副业，大量开垦草场作为耕地，草场退化严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物种减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青海湖是我国高原内陆湖区水禽候鸟栖息繁衍的主要活动区域，也是最大的内陆高原湿地水禽保护区。区域内共有鸟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，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万只，其中以鱼鸥、鸬鹚、斑头雁、棕头鸥等水禽聚集较多。另外，区域内还分布有兽类、两栖类、爬行类、鱼类等物种。由于生态恶化，受威胁的生物物种约占总数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5——2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尤以湟鱼为最。藏野驴、野牦牛等珍稀动物数量也呈减少之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zh-CN" sz="2000" spc="-1" strike="noStrike">
                <a:solidFill>
                  <a:srgbClr val="f70909"/>
                </a:solidFill>
                <a:latin typeface="Times New Roman"/>
              </a:rPr>
              <a:t>天灾固然可怕，但人祸所造成的结果一点儿都不亚于天灾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每年成鱼季节，有大量的渔郎进入湖区非法捕劳，鱼贩子也趁机进驻，进行现场收购。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40000" y="40464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你想知道青海湖的现状吗？请阅读下面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6354720"/>
            <a:ext cx="865080" cy="50328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1619280" y="5229360"/>
            <a:ext cx="1274400" cy="977760"/>
            <a:chOff x="1619280" y="5229360"/>
            <a:chExt cx="1274400" cy="977760"/>
          </a:xfrm>
        </p:grpSpPr>
        <p:pic>
          <p:nvPicPr>
            <p:cNvPr id="702" name="" descr=""/>
            <p:cNvPicPr/>
            <p:nvPr/>
          </p:nvPicPr>
          <p:blipFill>
            <a:blip r:embed="rId4"/>
            <a:stretch/>
          </p:blipFill>
          <p:spPr>
            <a:xfrm>
              <a:off x="1619280" y="522936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 rot="21290400">
              <a:off x="1795680" y="543852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966" dur="indefinite" restart="never" nodeType="tmRoot">
          <p:childTnLst>
            <p:seq>
              <p:cTn id="967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45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45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45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45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45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45000" fill="hold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450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45000" fill="hold"/>
                                        <p:tgtEl>
                                          <p:spTgt spid="6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450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45000" fill="hold"/>
                                        <p:tgtEl>
                                          <p:spTgt spid="6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450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45000" fill="hold"/>
                                        <p:tgtEl>
                                          <p:spTgt spid="6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93816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迁移阅读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提高能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771280" y="1125000"/>
            <a:ext cx="54421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看完上文内容后，你有何感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冯君莉希望人们来到美丽的青海湖游览，又怕环境遭到破坏。她这种想法不是无中生有的，从上文就可以得到印证。那么请你出出点子：有什么措施即可以开发青海湖的旅游资源，发展经济，又不破坏环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5734080"/>
            <a:ext cx="650880" cy="465120"/>
          </a:xfrm>
          <a:prstGeom prst="rect">
            <a:avLst/>
          </a:prstGeom>
          <a:ln w="0">
            <a:noFill/>
          </a:ln>
        </p:spPr>
      </p:pic>
      <p:grpSp>
        <p:nvGrpSpPr>
          <p:cNvPr id="707" name=""/>
          <p:cNvGrpSpPr/>
          <p:nvPr/>
        </p:nvGrpSpPr>
        <p:grpSpPr>
          <a:xfrm>
            <a:off x="6804000" y="5300640"/>
            <a:ext cx="1274400" cy="977760"/>
            <a:chOff x="6804000" y="5300640"/>
            <a:chExt cx="1274400" cy="977760"/>
          </a:xfrm>
        </p:grpSpPr>
        <p:pic>
          <p:nvPicPr>
            <p:cNvPr id="708" name="" descr=""/>
            <p:cNvPicPr/>
            <p:nvPr/>
          </p:nvPicPr>
          <p:blipFill>
            <a:blip r:embed="rId3"/>
            <a:stretch/>
          </p:blipFill>
          <p:spPr>
            <a:xfrm>
              <a:off x="6804000" y="530064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 rot="21290400">
              <a:off x="6980400" y="5509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1021" dur="indefinite" restart="never" nodeType="tmRoot">
          <p:childTnLst>
            <p:seq>
              <p:cTn id="1022" restart="whenNotActive" nodeType="interactiveSeq" fill="hold">
                <p:stCondLst>
                  <p:cond evt="onClick">
                    <p:tgtEl>
                      <p:spTgt spid="707"/>
                    </p:tgtEl>
                  </p:cond>
                </p:stCondLst>
                <p:childTnLst>
                  <p:par>
                    <p:cTn id="1023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evt="onClick">
                          <p:tgtEl>
                            <p:spTgt spid="707"/>
                          </p:tgtEl>
                        </p:cond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124000" y="191628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真的想退出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rId2"/>
          </p:cNvPr>
          <p:cNvSpPr/>
          <p:nvPr/>
        </p:nvSpPr>
        <p:spPr>
          <a:xfrm>
            <a:off x="2843280" y="5516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4859280" y="5516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" action="ppaction://hlinkshowjump?jump=endshow"/>
            <a:hlinkClick r:id="rId4"/>
          </p:cNvPr>
          <p:cNvSpPr/>
          <p:nvPr/>
        </p:nvSpPr>
        <p:spPr>
          <a:xfrm>
            <a:off x="658800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关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0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711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711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4500720" y="2276640"/>
            <a:ext cx="3311280" cy="2304720"/>
          </a:xfrm>
          <a:prstGeom prst="cloudCallout">
            <a:avLst>
              <a:gd name="adj1" fmla="val 29481"/>
              <a:gd name="adj2" fmla="val 9855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嗨！大家好！不知你们有没有到过青海？到过青海湖？现在让我和大家一起到那里去看看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rId2" action="ppaction://hlinksldjump"/>
          </p:cNvPr>
          <p:cNvSpPr/>
          <p:nvPr/>
        </p:nvSpPr>
        <p:spPr>
          <a:xfrm>
            <a:off x="3995640" y="2852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青海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>
            <a:hlinkClick r:id="rId3" action="ppaction://hlinksldjump"/>
          </p:cNvPr>
          <p:cNvSpPr/>
          <p:nvPr/>
        </p:nvSpPr>
        <p:spPr>
          <a:xfrm>
            <a:off x="3276720" y="148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鸟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rId4" action="ppaction://hlinksldjump"/>
          </p:cNvPr>
          <p:cNvSpPr/>
          <p:nvPr/>
        </p:nvSpPr>
        <p:spPr>
          <a:xfrm>
            <a:off x="3780000" y="220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海心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rId5" action="ppaction://hlinksldjump"/>
          </p:cNvPr>
          <p:cNvSpPr/>
          <p:nvPr/>
        </p:nvSpPr>
        <p:spPr>
          <a:xfrm>
            <a:off x="4859280" y="2133720"/>
            <a:ext cx="4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沙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rId6" action="ppaction://hlinksldjump"/>
          </p:cNvPr>
          <p:cNvSpPr/>
          <p:nvPr/>
        </p:nvSpPr>
        <p:spPr>
          <a:xfrm>
            <a:off x="179280" y="6093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80000" y="2844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，梦幻般的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7873920" y="5880240"/>
            <a:ext cx="1274400" cy="977760"/>
            <a:chOff x="7873920" y="5880240"/>
            <a:chExt cx="1274400" cy="977760"/>
          </a:xfrm>
        </p:grpSpPr>
        <p:pic>
          <p:nvPicPr>
            <p:cNvPr id="582" name="" descr=""/>
            <p:cNvPicPr/>
            <p:nvPr/>
          </p:nvPicPr>
          <p:blipFill>
            <a:blip r:embed="rId7"/>
            <a:stretch/>
          </p:blipFill>
          <p:spPr>
            <a:xfrm>
              <a:off x="7873920" y="588024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 rot="21290400">
              <a:off x="8050320" y="60894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5292720" y="2708280"/>
            <a:ext cx="2592360" cy="2089080"/>
          </a:xfrm>
          <a:prstGeom prst="wedgeEllipseCallout">
            <a:avLst>
              <a:gd name="adj1" fmla="val 19134"/>
              <a:gd name="adj2" fmla="val 98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青海湖由以下几个部分组成，它们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8"/>
          <a:stretch/>
        </p:blipFill>
        <p:spPr>
          <a:xfrm>
            <a:off x="826920" y="692280"/>
            <a:ext cx="7056720" cy="43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3240000" cy="222876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4038840" cy="26892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716360" y="40464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青海湖地处青海湖的西北部，长约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米，宽约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米，栖息着十万余只各类候鸟，称誉为“鸟的世界，鸟的王国”。青海湖位于西宁市以西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公里，是我国海拔最高、面积最大的内陆咸水湖。 每年四月，来自我国南方和东南亚等地的班头雁、棕头鸥、赤麻鸭、鸬鹚等十多种侯鸟在这里繁衍生息；秋天，它们又携儿带女飞回南方，国家在岛上设有专门的保护机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previousslide"/>
            <a:hlinkClick r:id="rId4"/>
          </p:cNvPr>
          <p:cNvSpPr/>
          <p:nvPr/>
        </p:nvSpPr>
        <p:spPr>
          <a:xfrm>
            <a:off x="7667640" y="59180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457200" y="304920"/>
            <a:ext cx="42609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海心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海心山是青海湖的又一名胜。它位于青海湖湖心偏南，长２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３公里，宽约８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０米，高出湖面７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８米，自古以产“龙驹”而闻名。海心山环境幽雅。绿草如茵，轻风薄云，淡水清泉，景色宜人。山上古刹白塔隐存其间。犹如步入仙境一般。攀上海心山的顶端远眺青海湖的全貌，那海阔天空，天水相连，鸥翔鱼跃的壮丽景色，可以使游人尽情享受大自然的景观，陶冶情操，抒展胸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800600" y="3809880"/>
            <a:ext cx="3384720" cy="23558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093080" y="6093000"/>
            <a:ext cx="952200" cy="523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9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684360" y="4437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沙岛，位于青海湖东北部，海晏县境内，曾是湖中最大的岛屿，现已成为半岛，表面均由沙砾覆盖，基本无植被，是鱼鸥的栖息繁殖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4500720" y="1197000"/>
            <a:ext cx="4248000" cy="3024000"/>
          </a:xfrm>
          <a:prstGeom prst="rect">
            <a:avLst/>
          </a:prstGeom>
          <a:ln w="0">
            <a:noFill/>
          </a:ln>
        </p:spPr>
      </p:pic>
      <p:sp>
        <p:nvSpPr>
          <p:cNvPr id="597" name="">
            <a:hlinkClick r:id="rId4" action="ppaction://hlinksldjump"/>
          </p:cNvPr>
          <p:cNvSpPr/>
          <p:nvPr/>
        </p:nvSpPr>
        <p:spPr>
          <a:xfrm>
            <a:off x="4140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4321080" y="3209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卑禾羌的牧地，所以又叫“卑禾羌海”，汉代也有人称它为“仙海”。从北魏起才更名为“青海”。青海湖地处高原的东北部，湖的四周被巍巍高山所环抱。北面是崇宏壮丽的大通山，东面是巍峨雄伟的日月山，南面是逶迤绵延的青海南山，西面是峥嵘嵯峨的橡皮山。离西宁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里，海拔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。它的周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里，面积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8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方公里，是我国最大的咸水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青海湖由鸟岛、海心山、沙岛、三块石和海西皮五部分组成。其中鸟岛和海心山岛是著名的旅游圣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4535640" y="189000"/>
            <a:ext cx="4608360" cy="285732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250920" y="189000"/>
            <a:ext cx="38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青海湖，是中国最大的内陆咸水湖泊。从古到今，人们向往它的浩瀚、神奇、博大，为它的雄伟、秀丽而赞叹不矣，把它誉为青海高原上的一颗璀灿的明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青海湖，古称“西海”，又称“鲜水”或“鲜海”。蒙语称“库库诺尔”，藏语称“错温波”，意为“青色的海”、“蓝色的海洋”。由于青海湖一带早先属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164360" y="6334200"/>
            <a:ext cx="952560" cy="5238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5"/>
          <a:stretch/>
        </p:blipFill>
        <p:spPr>
          <a:xfrm>
            <a:off x="34920" y="3213000"/>
            <a:ext cx="3594240" cy="3600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40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6346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冯君莉，女，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956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年生，天津人，当代作家。曾任青海省文学艺术研究所副所长，发表了散文、报告文学、短篇小说等作品几十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>
            <a:hlinkClick r:id="rId2" action="ppaction://hlinksldjump"/>
          </p:cNvPr>
          <p:cNvSpPr/>
          <p:nvPr/>
        </p:nvSpPr>
        <p:spPr>
          <a:xfrm>
            <a:off x="7796160" y="5892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563400" y="1715760"/>
            <a:ext cx="7632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朗读课文，扫除生字障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实生字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湛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涟漪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魅力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逶迤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潸然泪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脍炙人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理清课文结构。</a:t>
            </a:r>
            <a:br>
              <a:rPr sz="2800"/>
            </a:br>
            <a:r>
              <a:rPr b="0" lang="zh-CN" sz="28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提示：根据作者的游踪来划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"/>
          <p:cNvSpPr/>
          <p:nvPr/>
        </p:nvSpPr>
        <p:spPr>
          <a:xfrm>
            <a:off x="3740040" y="41623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58920" y="42181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348000" y="41623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684000" y="691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整体感知课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666800" y="3332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859120" y="33098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219480" y="33098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28472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8792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94036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38828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380960" y="2717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z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90640" y="2708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án y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075200" y="271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411880" y="27018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ēi  y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348680" y="2708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971640" y="3668760"/>
            <a:ext cx="10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sh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130560" y="3716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Kuài 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451320" y="3424320"/>
            <a:ext cx="215640" cy="273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780000" y="3284640"/>
            <a:ext cx="4248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者在前往青海湖的途中，怀着憧憬般的梦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740040" y="4287960"/>
            <a:ext cx="42483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者在青海湖感受到了梦幻般的境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746520" y="5216400"/>
            <a:ext cx="4248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者希望青海湖被更多的游人赏识，但又担心这梦幻般的美景遭到破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rId1"/>
          </p:cNvPr>
          <p:cNvSpPr/>
          <p:nvPr/>
        </p:nvSpPr>
        <p:spPr>
          <a:xfrm>
            <a:off x="7093080" y="765000"/>
            <a:ext cx="1008000" cy="459720"/>
          </a:xfrm>
          <a:prstGeom prst="rect">
            <a:avLst/>
          </a:prstGeom>
          <a:noFill/>
          <a:ln w="57240">
            <a:solidFill>
              <a:srgbClr val="f7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908000" y="5880240"/>
            <a:ext cx="1274400" cy="977760"/>
            <a:chOff x="1908000" y="5880240"/>
            <a:chExt cx="1274400" cy="977760"/>
          </a:xfrm>
        </p:grpSpPr>
        <p:pic>
          <p:nvPicPr>
            <p:cNvPr id="631" name="" descr=""/>
            <p:cNvPicPr/>
            <p:nvPr/>
          </p:nvPicPr>
          <p:blipFill>
            <a:blip r:embed="rId2"/>
            <a:stretch/>
          </p:blipFill>
          <p:spPr>
            <a:xfrm>
              <a:off x="1908000" y="588024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 rot="21290400">
              <a:off x="2084400" y="60894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24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28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000"/>
                            </p:stCondLst>
                            <p:childTnLst>
                              <p:par>
                                <p:cTn id="431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3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000"/>
                            </p:stCondLst>
                            <p:childTnLst>
                              <p:par>
                                <p:cTn id="435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36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610920" y="1844280"/>
            <a:ext cx="81342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朗读课文，思考以下问题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⑴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朗读课文后，理清作者观赏青海湖的顺序（在文中找出相关的语句）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⑵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作者从哪些角度来观察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⑶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作者在青海湖观赏的景物各有什么特点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⑷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文中描绘了青海湖的什么风光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⑸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文中抒发了作者什么样的感情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⑹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作者为什么用“梦幻般”来形容青海湖？“梦幻般”在文中有何作用？请找出文中相关的句子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析读课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1042920" y="3068640"/>
            <a:ext cx="5761080" cy="1015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⑴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观赏顺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草滩——湖水——乌云——晴空——草滩与山峦——岛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26920" y="3645000"/>
            <a:ext cx="57610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观察角度：定点观察，下—上—下，近—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608360" cy="320364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4680000" cy="31608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4"/>
          <a:stretch/>
        </p:blipFill>
        <p:spPr>
          <a:xfrm>
            <a:off x="826920" y="62064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755640" y="765000"/>
            <a:ext cx="4537080" cy="34038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971640" y="476280"/>
            <a:ext cx="2935080" cy="42480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7"/>
          <a:stretch/>
        </p:blipFill>
        <p:spPr>
          <a:xfrm>
            <a:off x="611280" y="907920"/>
            <a:ext cx="5040360" cy="33577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6227640" y="981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0909"/>
                </a:solidFill>
                <a:latin typeface="Arial"/>
              </a:rPr>
              <a:t>⑶</a:t>
            </a:r>
            <a:r>
              <a:rPr b="0" lang="zh-CN" sz="1800" spc="-1" strike="noStrike">
                <a:solidFill>
                  <a:srgbClr val="f70909"/>
                </a:solidFill>
                <a:latin typeface="Arial"/>
              </a:rPr>
              <a:t>草滩：绿茵茵，油菜花：黄灿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156360" y="112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b800"/>
                </a:solidFill>
                <a:latin typeface="Arial"/>
              </a:rPr>
              <a:t>湖水：蓝得醉人、纯净、深湛、温柔恬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7280" y="2421000"/>
            <a:ext cx="2737080" cy="3682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乌云：似奔腾的骏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300720" y="2924280"/>
            <a:ext cx="2303640" cy="36828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晴空：淡蓝色的苍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156360" y="2276640"/>
            <a:ext cx="2376360" cy="368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草滩与山峦：碧绿、深褐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300720" y="1916280"/>
            <a:ext cx="22320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岛屿：鸟岛之神奇，鸟种类多；鱼类丰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58920" y="4869000"/>
            <a:ext cx="4392720" cy="4597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描绘了青海湖美丽、富绕、神奇的风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492360" y="3860640"/>
            <a:ext cx="4464360" cy="4597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抒发作者对梦幻般的青海湖的喜爱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116000" y="1557360"/>
            <a:ext cx="5111640" cy="825480"/>
          </a:xfrm>
          <a:prstGeom prst="rect">
            <a:avLst/>
          </a:prstGeom>
          <a:solidFill>
            <a:srgbClr val="ffb8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“梦幻般”来写出青海湖的神奇、美丽、富绕的特点。以“梦幻”作为贯穿全文的线索，从开头“关于高原的梦”——“扑进梦幻般的现实”——从梦幻中解脱，反思现实。其实是一条感情线索，是文中的暗线。课文自始至终把“梦幻”与对青海湖的描写结合起来。这样虚实结合，使文章结构更紧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867280" y="6093000"/>
            <a:ext cx="93672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16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2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621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3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8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01:47:26Z</dcterms:created>
  <dc:creator>吴启晖</dc:creator>
  <dc:description/>
  <dc:language>en-US</dc:language>
  <cp:lastModifiedBy>番茄花园</cp:lastModifiedBy>
  <dcterms:modified xsi:type="dcterms:W3CDTF">2008-09-03T01:48:44Z</dcterms:modified>
  <cp:revision>27</cp:revision>
  <dc:subject/>
  <dc:title>幻灯片 1</dc:title>
</cp:coreProperties>
</file>