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4F1-8807-4DF6-B9B0-B580C644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66D-8B3B-4199-B7C7-FEA7221F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F9B-514E-4069-8B06-A7443008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62-E27D-40B9-8940-151C324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5DB-C9C1-4DFA-A992-68FDB392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E3C-E254-482C-9218-452C0B0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C1D-747F-42EE-A93D-E6FA474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4DA-90AB-4385-A09A-AD36209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434-2F82-46A3-AD03-A0FA00A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727-C488-4621-9B6C-7B1A53A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3D4-ED1A-482D-AEC7-7BB9149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211-463E-4D9D-91A1-FEB593A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B5C3-C206-41C0-885F-EB619C520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11253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.</a:t>
            </a:r>
            <a:r>
              <a:rPr b="0" lang="zh-CN" sz="7200" spc="-1" strike="noStrike">
                <a:solidFill>
                  <a:srgbClr val="ff3300"/>
                </a:solidFill>
                <a:latin typeface="华文行楷"/>
                <a:ea typeface="华文行楷"/>
              </a:rPr>
              <a:t>齐白石的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14680" y="0"/>
            <a:ext cx="39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27000"/>
            <a:ext cx="74901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21000" y="-1440"/>
            <a:ext cx="24922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3160" y="0"/>
            <a:ext cx="231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00560" y="0"/>
            <a:ext cx="234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-50760"/>
            <a:ext cx="86421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8680" y="0"/>
            <a:ext cx="200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14560" y="0"/>
            <a:ext cx="33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11160"/>
            <a:ext cx="496872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24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92280"/>
            <a:ext cx="2158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齐白石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(1864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1957)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，汉族，湖南湘潭人。二十世纪十大画家之一，世界文化名人。是我国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世纪著名画家和书法篆刻家。曾被授予“中国人民艺术家”的称号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0200" y="-3240"/>
            <a:ext cx="41403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54360" y="0"/>
            <a:ext cx="183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4320" y="0"/>
            <a:ext cx="229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96920" y="-3240"/>
            <a:ext cx="51501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576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42926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197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708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708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2708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2708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2708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2050920" cy="647640"/>
            <a:chOff x="0" y="0"/>
            <a:chExt cx="2050920" cy="64764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20509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cap="rnd" w="38160">
              <a:solidFill>
                <a:srgbClr val="00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361800" y="144360"/>
              <a:ext cx="12574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楷体_GB2312"/>
                </a:rPr>
                <a:t>学生字</a:t>
              </a:r>
              <a:endPara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084720" y="1197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343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12682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4360" y="42926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268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16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3716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27813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2050920" cy="647640"/>
            <a:chOff x="0" y="0"/>
            <a:chExt cx="2050920" cy="64764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20509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cap="rnd" w="38160">
              <a:solidFill>
                <a:srgbClr val="00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61800" y="144360"/>
              <a:ext cx="12574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楷体_GB2312"/>
                </a:rPr>
                <a:t>学生字</a:t>
              </a:r>
              <a:endPara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940360" y="21337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20606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335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628640"/>
            <a:ext cx="72010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佛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仿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扫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sǎo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扫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扫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7999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著名       饥荒      生动亲切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经历       绘画      微不足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丰富       描绘      清雅孤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穷苦       源泉      欣欣向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取之不尽、用之不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39840" y="115920"/>
            <a:ext cx="666432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2:38:33Z</dcterms:created>
  <dc:creator>微软用户</dc:creator>
  <dc:description/>
  <dc:language>en-US</dc:language>
  <cp:lastModifiedBy>User</cp:lastModifiedBy>
  <dcterms:modified xsi:type="dcterms:W3CDTF">2011-10-24T13:29:48Z</dcterms:modified>
  <cp:revision>16</cp:revision>
  <dc:subject/>
  <dc:title>齐白石的画</dc:title>
</cp:coreProperties>
</file>