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BFE-A800-43BE-8AE8-4AED9835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72E-F3EB-4121-BEB6-5DA341F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5EC-6762-4BF1-91E8-DDBB64D2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D52-4ED0-410F-B3F7-6D2C2A24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2F22-EAEC-4AB8-9374-84C17AF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B3EB-3568-4912-ACFC-5D37D48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2532-C408-41CF-9DD3-933AEBB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1091-0383-4320-AEC2-71866CE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CD73-1324-4070-A3B6-44130F2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C1B5-7164-4CDA-9E87-9D592D85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5CE-CE38-4D19-8159-A78C889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232-5F63-42D5-9774-B22EBC0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D30F-F556-4CE8-979B-0AE52F4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126-FA24-42AB-A62E-BB54E7A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282D-D346-42CC-8658-1880A4C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012-1284-40B7-8D59-66E4579B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77FE-3403-4CF9-B714-3492AE9E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42A-B947-4364-912E-9214F00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FDD-1043-4A19-8926-A9156EC5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80F-5F25-49CC-BF22-2F431F1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3AA-44AD-4BE1-9E14-424C60F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EC5-2EAB-44B8-A303-7F3F0FB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6A1-C252-45A2-854B-F5ADD24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AB8-E9D4-4F78-AD58-1EA7652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725-747C-4F58-8FFD-50C1A7F956A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0A60-958E-4EE3-8BD3-B7EDCA14D0D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990720" y="15238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 兵 马 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80880"/>
            <a:ext cx="83055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形大厅  队伍  军吏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擎着利剑  铜戈  战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获立或跪  模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所向披靡  向上翘起   严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战车千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62120" y="380880"/>
          <a:ext cx="8381880" cy="5024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享誉世界   举世无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南征北战   所向披靡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昂首挺胸   若有所思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惟妙惟肖   跃跃欲试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久经沙场   绝无仅有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703dff"/>
                          </a:solidFill>
                          <a:latin typeface="楷体_GB2312"/>
                          <a:ea typeface="楷体_GB2312"/>
                        </a:rPr>
                        <a:t>身材魁梧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905120" y="1447920"/>
          <a:ext cx="6172200" cy="27702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规模宏大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类型众多    个性鲜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7Z</cp:lastModifiedBy>
  <dcterms:modified xsi:type="dcterms:W3CDTF">2011-02-23T01:51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