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projctor.wav" ContentType="audio/x-wav"/>
  <Override PartName="/ppt/media/image23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16.jpeg" ContentType="image/jpeg"/>
  <Override PartName="/ppt/media/image9.gif" ContentType="image/gif"/>
  <Override PartName="/ppt/media/image10.gif" ContentType="image/gif"/>
  <Override PartName="/ppt/media/image13.png" ContentType="image/png"/>
  <Override PartName="/ppt/media/image11.gif" ContentType="image/gif"/>
  <Override PartName="/ppt/media/image28.jpeg" ContentType="image/jpeg"/>
  <Override PartName="/ppt/media/image30.png" ContentType="image/png"/>
  <Override PartName="/ppt/media/image29.jpeg" ContentType="image/jpeg"/>
  <Override PartName="/ppt/media/image5.png" ContentType="image/png"/>
  <Override PartName="/ppt/media/image31.gif" ContentType="image/gif"/>
  <Override PartName="/ppt/media/image33.gif" ContentType="image/gif"/>
  <Override PartName="/ppt/media/image18.jpeg" ContentType="image/jpeg"/>
  <Override PartName="/ppt/media/image2.gif" ContentType="image/gif"/>
  <Override PartName="/ppt/media/image32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6.png" ContentType="image/png"/>
  <Override PartName="/ppt/media/image1.png" ContentType="image/png"/>
  <Override PartName="/ppt/media/image15.jpeg" ContentType="image/jpeg"/>
  <Override PartName="/ppt/media/image17.png" ContentType="image/png"/>
  <Override PartName="/ppt/media/image20.jpeg" ContentType="image/jpeg"/>
  <Override PartName="/ppt/media/image19.png" ContentType="image/pn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0B9-70EB-4BA5-AC1C-4A02592A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435-7C87-4D4A-9700-9F7B391B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99F-35E4-4667-8D90-051BAFB6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DC9-5A2E-4942-9A1D-179D951C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F29-5968-43A6-AD18-A57141E6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F88-24A7-4193-975F-D285FF9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BCF-4F99-4564-BB80-BFBD8E3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3A5-FA11-404D-8221-3024FEF4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3D4-CB4E-4C2E-941B-B0120D86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2F0-B568-42BF-90F9-877C703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83F-10CE-4501-AC89-DFAAF0A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677-E7FF-40AF-AAED-FA72D0C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20D-5BF6-497C-AE75-03E27840C3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6.png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6.xml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33520"/>
            <a:ext cx="9144000" cy="6356160"/>
            <a:chOff x="0" y="533520"/>
            <a:chExt cx="9144000" cy="63561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533520"/>
              <a:ext cx="3397320" cy="35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384720" y="533520"/>
              <a:ext cx="5757840" cy="13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3386160" y="1906560"/>
              <a:ext cx="575784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0" y="3997440"/>
              <a:ext cx="3611520" cy="28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619440" y="3984480"/>
              <a:ext cx="5518080" cy="28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 txBox="1"/>
          <p:nvPr/>
        </p:nvSpPr>
        <p:spPr>
          <a:xfrm>
            <a:off x="3581280" y="3352680"/>
            <a:ext cx="46483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秦兵马俑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62520" y="1981080"/>
            <a:ext cx="4038480" cy="221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9933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Qin Bing Ma Yong</a:t>
            </a:r>
            <a:endParaRPr b="0" lang="en-US" sz="4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9933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黑体"/>
                <a:ea typeface="黑体"/>
              </a:rPr>
              <a:t>主办：焦溪中心小学   主编：刘寒晔  </a:t>
            </a:r>
            <a:r>
              <a:rPr b="0" lang="zh-CN" sz="1600" spc="-1" strike="noStrike">
                <a:solidFill>
                  <a:srgbClr val="3333cc"/>
                </a:solidFill>
                <a:latin typeface="黑体"/>
                <a:ea typeface="黑体"/>
              </a:rPr>
              <a:t>2006</a:t>
            </a:r>
            <a:r>
              <a:rPr b="0" lang="zh-CN" sz="1600" spc="-1" strike="noStrike">
                <a:solidFill>
                  <a:srgbClr val="3333cc"/>
                </a:solidFill>
                <a:latin typeface="黑体"/>
                <a:ea typeface="黑体"/>
              </a:rPr>
              <a:t>年</a:t>
            </a:r>
            <a:r>
              <a:rPr b="0" lang="zh-CN" sz="16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3333cc"/>
                </a:solidFill>
                <a:latin typeface="黑体"/>
                <a:ea typeface="黑体"/>
              </a:rPr>
              <a:t>月</a:t>
            </a:r>
            <a:r>
              <a:rPr b="0" lang="zh-CN" sz="1600" spc="-1" strike="noStrike">
                <a:solidFill>
                  <a:srgbClr val="3333cc"/>
                </a:solidFill>
                <a:latin typeface="黑体"/>
                <a:ea typeface="黑体"/>
              </a:rPr>
              <a:t>22</a:t>
            </a:r>
            <a:r>
              <a:rPr b="0" lang="zh-CN" sz="1600" spc="-1" strike="noStrike">
                <a:solidFill>
                  <a:srgbClr val="3333cc"/>
                </a:solidFill>
                <a:latin typeface="黑体"/>
                <a:ea typeface="黑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762120"/>
            <a:ext cx="76201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隶书"/>
                <a:ea typeface="隶书"/>
              </a:rPr>
              <a:t>跪坐俑</a:t>
            </a:r>
            <a:r>
              <a:rPr b="0" lang="zh-CN" sz="7200" spc="-1" strike="noStrike">
                <a:solidFill>
                  <a:srgbClr val="ff00ff"/>
                </a:solidFill>
                <a:latin typeface="隶书"/>
                <a:ea typeface="隶书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 </a:t>
            </a:r>
            <a:r>
              <a:rPr b="1" lang="zh-CN" sz="2400" spc="-1" strike="noStrike">
                <a:solidFill>
                  <a:srgbClr val="d64512"/>
                </a:solidFill>
                <a:latin typeface="標楷體"/>
              </a:rPr>
              <a:t>秦始皇死后，在其陵园内也陪葬有珍禽异兽和马，由于一切皆仿生前，当然就陪葬有养马以及养禽兽的人，而其饲养人员就是现已发现的跪坐俑。跪坐俑造型优美，神态自然，若不细看，准认为是一个女子形象，其实不然，是一位英俊的男子，他身穿长襦，两膝着地，臀部压在双脚的后跟上，胸后梳圆形头髻，发辫的纹理、脉络刻画得十分清晰，还留有短短的胡须。面部表情严谨，显示出低下的身份。两臂自然下垂，双手露出五指置于膝上。</a:t>
            </a:r>
            <a:r>
              <a:rPr b="1" lang="zh-CN" sz="2400" spc="-1" strike="noStrike">
                <a:solidFill>
                  <a:srgbClr val="d64512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772400" y="6019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37160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標楷體"/>
              </a:rPr>
              <a:t>立射俑即站着发射箭的武士俑，高度在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1.8</a:t>
            </a:r>
            <a:r>
              <a:rPr b="1" lang="zh-CN" sz="2400" spc="-1" strike="noStrike">
                <a:solidFill>
                  <a:srgbClr val="ff9900"/>
                </a:solidFill>
                <a:latin typeface="標楷體"/>
              </a:rPr>
              <a:t>米以上，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標楷體"/>
              </a:rPr>
              <a:t>属轻装步兵俑。出土于秦始皇兵马俑二号坑，和跪射俑一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標楷體"/>
              </a:rPr>
              <a:t>起成了弓弩兵阵，是弩兵军阵中的「哥儿们」。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標楷體"/>
              </a:rPr>
              <a:t>立射俑身穿短褐，束发挽髻，身着轻便战袍，腰系革带，胫着护腿，足登方口翘尖履，整个装束显得轻便且灵活。右足向左前方斜出半步，双足成丁字形，左腿微拱，右腿后绷，左臂向左侧微举，四指并拢，手掌伸张，掌心向下。右臂横曲胸前，手掌伸张，掌心向内，或手掌上仰，头微向左侧转，昂着注视前方，这种姿式即为弩兵持弩发射的准备姿态，英姿勃发。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152280"/>
            <a:ext cx="289548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26fc26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立射俑</a:t>
            </a:r>
            <a:endParaRPr b="0" lang="en-US" sz="2400" spc="1" strike="noStrike">
              <a:ln w="0">
                <a:noFill/>
              </a:ln>
              <a:solidFill>
                <a:srgbClr val="26fc26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95480" y="457200"/>
            <a:ext cx="301464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兵马俑简介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286000"/>
            <a:ext cx="76201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秦始皇兵马俑是在</a:t>
            </a: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1974</a:t>
            </a: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年发现的，随后在这里建了一个规模宏大的博物馆，于</a:t>
            </a: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1979</a:t>
            </a: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年国庆节开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举世罕见的秦兵马俑博物馆开放后，很快就轰动了中外，被认为是古代的奇迹，是当代最重要的考古发现之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秦兵马俑以其巨大的规模，威武的场面，和高超的科学、艺术水平，使观众们惊叹不已。国内外游人纷纷慕名而来。来我国访问的外国元首和其他贵宾，多数都要把参观兵马俑列入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17d5"/>
                </a:solidFill>
                <a:latin typeface="华文新魏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819520" y="114300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兵马俑的分布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1981080"/>
            <a:ext cx="2514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一号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3581280"/>
            <a:ext cx="3048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二号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5257800"/>
            <a:ext cx="3886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三号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11430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a16a8"/>
                </a:solidFill>
                <a:latin typeface="Times New Roman"/>
                <a:ea typeface="华文彩云"/>
              </a:rPr>
              <a:t>一号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743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33ccff"/>
                </a:solidFill>
                <a:latin typeface="宋体"/>
              </a:rPr>
              <a:t>二号坑的四个部分既相对独立，又彼此密切联系，集各军兵种于一个阵列中。如果说一号坑是步兵阵，这里就是快速机动反应部队骑兵军阵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ccff"/>
                </a:solidFill>
                <a:latin typeface="宋体"/>
              </a:rPr>
              <a:t>    二号坑的走廊上还分别展览了兵俑的几个类别，放在一起更容易看出区别，兵俑的制作精雕细刻、一丝不苟，大到铠甲，服饰冠带，小到发髻，眉毛胡须都不类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1739880"/>
            <a:ext cx="669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96080" y="5334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14600" y="22860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16a8"/>
                </a:solidFill>
                <a:latin typeface="Times New Roman"/>
                <a:ea typeface="华文彩云"/>
              </a:rPr>
              <a:t>二号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371600"/>
            <a:ext cx="8001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二号俑坑遗址大厅的建筑面积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17000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余平方米，为封闭式建筑，利用人工采光，更有利于遗迹、遗物的保护。二号兵马俑坑于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1994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年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3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月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1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日开始正式发掘，目前发掘工作仍在进行中，由于有些地方塑料薄膜遮盖着，我们无法看到全貌，二号坑预计可出土各种武士俑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1300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余件，战车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89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乘，车马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356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匹，鞍马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100</a:t>
            </a: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余件。</a:t>
            </a:r>
            <a:br>
              <a:rPr sz="2000"/>
            </a:b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二号坑的四个部分既相对独立，又彼此密切联系，集各军兵种于一个阵列中。如果说一号坑是步兵阵，这里就是快速机动反应部队骑兵军阵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217d5"/>
                </a:solidFill>
                <a:latin typeface="华文新魏"/>
                <a:ea typeface="华文新魏"/>
              </a:rPr>
              <a:t>    二号坑的走廊上还分别展览了兵俑的几个类别，放在一起更容易看出区别，兵俑的制作精雕细刻、一丝不苟，大到铠甲，服饰冠带，小到发髻，眉毛胡须都不类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01000" y="5410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76720" y="30492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16a8"/>
                </a:solidFill>
                <a:latin typeface="Times New Roman"/>
                <a:ea typeface="华文彩云"/>
              </a:rPr>
              <a:t>三号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8108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三个坑共发掘出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700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多件陶俑、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多乘战车、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多匹陶马、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万多件兵器。陶俑身高在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米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75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至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米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85</a:t>
            </a:r>
            <a:r>
              <a:rPr b="0" lang="zh-CN" sz="2400" spc="-1" strike="noStrike">
                <a:solidFill>
                  <a:srgbClr val="9933ff"/>
                </a:solidFill>
                <a:latin typeface="Times New Roman"/>
              </a:rPr>
              <a:t>之间，根据装束、神态、发式的不同，可以分为将军俑，武士俑，车士俑等。坑内还出土有剑、矛、戟、弯刀等青铜兵器，虽然埋在土里两千多年，依然刀锋锐利，闪闪发光，可以视为世界冶金史上的奇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772400" y="5562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666880" y="152280"/>
            <a:ext cx="373392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78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千古一帝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--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秦始皇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0492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秦始皇（公元前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259—221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）姓嬴，名政，为秦庄襄王之子，是中国历史上一位叱吒风云、具有雄才大略的人物。公元前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246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年，年仅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13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岁的嬴政被拥立为秦王。八年后（公元前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238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年），秦王嬴政在蕲年宫举行加冕礼，亲理国政。此后，嬴政继承了自秦孝公以来变法革新、奖励耕战的一系列政策，选贤任能、历兵秣马、富国强兵、顺应历史发展的潮流。公元前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230-221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年，历经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10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年的统一战争，他先后消灭了韩、赵、燕、魏、楚、齐等诸侯国，结束了自春秋战国以来长达数百年之久的分裂割据、混战不已的局面，建立中国历史上第一个多民族的中央集权帝国。为了巩固新生的政权，秦始皇废除了自商、周以来的分封制，实行郡县制，中央和地方的重要官吏悉由皇帝任免，军政大权集于一身。他还下令统一全国的度量衡、车轨，以秦小篆为全国通用文字，以秦“半两”钱为流通货币，并统一了全国的法规刑律。他拆毁战国时各国边邻地区的城防工事，修筑驰道，还连接战国时期各国修筑的长城，形成举世闻名的“万里长城”。这一系列大刀阔斧、前无古人的改革措施和铁腕行动，对于巩固国家统一、推动经济和文化的发展有重要作用，并对后世产生深远影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　　为了强化专制统治，嬴政在执政时，严刑峻法、横征暴敛，又大兴土木，给人民带来莫大的灾难。此外，他还兴师动众，五次远途出巡，逢山刻石，以示不朽之功，又下令焚书坑儒。这些作为大幅度摧残并破坏了生产力的发展，造成“赭衣塞路、囹圄成市”的严重社会危机。秦始皇去世才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年，陈胜、吴广就在大泽乡揭竿而起，秦王朝仅存在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15</a:t>
            </a: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个春秋，就土崩瓦角、灰飞烟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　　自古以来，对秦始皇的评价就褒贬不一。但纵观秦始皇的一生，对中国历史的发展起了巨大推动作用，实为中国历史上一位有作为的皇帝，功绩不可泯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17d5"/>
                </a:solidFill>
                <a:latin typeface="楷体_GB2312"/>
                <a:ea typeface="楷体_GB2312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400800"/>
            <a:ext cx="47952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400800"/>
            <a:ext cx="479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1676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7c53e"/>
                </a:solidFill>
                <a:latin typeface="Times New Roman"/>
                <a:ea typeface="楷体_GB2312"/>
              </a:rPr>
              <a:t>刊后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2767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3217d5"/>
                </a:solidFill>
                <a:latin typeface="Times New Roman"/>
              </a:rPr>
              <a:t>同学们，这期的知识丰富吗？欢迎下次光临我的秦兵马俑。我们下次再见！拜拜！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                                </a:t>
            </a:r>
            <a:r>
              <a:rPr b="0" lang="zh-CN" sz="4000" spc="-1" strike="noStrike">
                <a:solidFill>
                  <a:srgbClr val="3217d5"/>
                </a:solidFill>
                <a:latin typeface="Times New Roman"/>
              </a:rPr>
              <a:t>六（</a:t>
            </a:r>
            <a:r>
              <a:rPr b="0" lang="zh-CN" sz="4000" spc="-1" strike="noStrike">
                <a:solidFill>
                  <a:srgbClr val="3217d5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3217d5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270ede"/>
                </a:solidFill>
                <a:latin typeface="Times New Roman"/>
              </a:rPr>
              <a:t>刘寒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077320" y="2057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1219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16a8"/>
                </a:solidFill>
                <a:latin typeface="Times New Roman"/>
                <a:ea typeface="华文行楷"/>
              </a:rPr>
              <a:t>编者的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828800"/>
            <a:ext cx="58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7d5"/>
                </a:solidFill>
                <a:latin typeface="方正舒体"/>
                <a:ea typeface="方正舒体"/>
              </a:rPr>
              <a:t>亲爱的同学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7d5"/>
                </a:solidFill>
                <a:latin typeface="方正舒体"/>
                <a:ea typeface="方正舒体"/>
              </a:rPr>
              <a:t>           </a:t>
            </a:r>
            <a:r>
              <a:rPr b="1" lang="zh-CN" sz="2400" spc="-1" strike="noStrike">
                <a:solidFill>
                  <a:srgbClr val="3217d5"/>
                </a:solidFill>
                <a:latin typeface="方正舒体"/>
                <a:ea typeface="方正舒体"/>
              </a:rPr>
              <a:t>兵马俑的出土，为研究春秋战国时期尤其是秦朝的军事史提供了珍贵的实物资料，同时也掀开了中国雕塑史的重要一页。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7d5"/>
                </a:solidFill>
                <a:latin typeface="方正舒体"/>
                <a:ea typeface="方正舒体"/>
              </a:rPr>
              <a:t>            </a:t>
            </a:r>
            <a:r>
              <a:rPr b="1" lang="zh-CN" sz="2400" spc="-1" strike="noStrike">
                <a:solidFill>
                  <a:srgbClr val="3217d5"/>
                </a:solidFill>
                <a:latin typeface="方正舒体"/>
                <a:ea typeface="方正舒体"/>
              </a:rPr>
              <a:t>怎么样？心动了吧！那就跟我走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7d5"/>
                </a:solidFill>
                <a:latin typeface="方正舒体"/>
                <a:ea typeface="方正舒体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8120" y="1676520"/>
            <a:ext cx="2514600" cy="90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3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1e5b"/>
                  </a:outerShdw>
                </a:effectLst>
                <a:latin typeface="宋体"/>
              </a:rPr>
              <a:t>谢谢观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81e5b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162920" y="4419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019920" y="175248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447920" y="3276720"/>
            <a:ext cx="5410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505320" y="2286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目录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8120" y="5105520"/>
            <a:ext cx="327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4c4c4c"/>
                  </a:outerShdw>
                </a:effectLst>
                <a:latin typeface="宋体"/>
              </a:rPr>
              <a:t>小知识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4c4c4c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971800" y="990720"/>
            <a:ext cx="36576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8a00"/>
                  </a:outerShdw>
                </a:effectLst>
                <a:latin typeface="楷体_GB2312"/>
              </a:rPr>
              <a:t>兵马俑的发现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988a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95480" y="2743200"/>
            <a:ext cx="38577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兵马俑简介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71800" y="175248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兵马俑的种类</a:t>
            </a:r>
            <a:endParaRPr b="1" lang="en-US" sz="44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8120" y="3809880"/>
            <a:ext cx="350496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1e7998"/>
                  </a:outerShdw>
                </a:effectLst>
                <a:latin typeface="宋体"/>
              </a:rPr>
              <a:t>影片观赏</a:t>
            </a:r>
            <a:endParaRPr b="0" lang="en-US" sz="2400" spc="1" strike="noStrike">
              <a:ln w="0">
                <a:noFill/>
              </a:ln>
              <a:solidFill>
                <a:srgbClr val="33ccff"/>
              </a:solidFill>
              <a:effectLst>
                <a:outerShdw dist="153753" dir="2700000" blurRad="0" rotWithShape="0">
                  <a:srgbClr val="1e7998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90920" y="0"/>
            <a:ext cx="3962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兵马俑的发现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447920"/>
            <a:ext cx="670536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7c53e"/>
                </a:solidFill>
                <a:latin typeface="Times New Roman"/>
              </a:rPr>
              <a:t>       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1974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年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月，陕西临潼县晏寨乡西扬村村民在秦始皇陵东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1.5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公里处打井时，意外地发现了许多碎陶人，经考古工作者探测，这是一个长方形的秦代兵马俑坑。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1976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年通过钻探，在此坑的北侧和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25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米处分别又发现了两处兵马俑坑。按照它们发现的时间把它们分别定名为兵马俑一、二、三号坑。三个坑的总面积为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22,78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平方米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一号坑平面呈长方形，东西长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23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米，宽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62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米，深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米，总面积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14,26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平方米，为坑道式土木建筑结构，东西两端各有斜坡门道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个，坑道内有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1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道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2.5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米宽的夯土隔墙，隔墙上架著粗大的横梁，再铺芦席、细泥和填土。底部以青砖墁铺。一号坑兵马俑按实战军阵排列。俑坑的东端是一个长廊，站著三排面向东的战袍武士俑，每排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7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件，共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21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件，手持弓弩，他们是一号坑军阵的前锋部队。长廊南边有一排面向南的武士俑，是右翼；北边有一排面向北的武士俑，是左翼；西头有一列面向西的武士俑，是后卫。他们手执弓弩等远射兵器，担任整个军阵的警戒任务。在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1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道隔墙隔开的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11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个过洞里排列着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38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路面向东的纵队，每路中间都排列有驷马战车。陶俑全部身披铠甲，手执长兵器。他们是一号坑的主力部队。一号坑共有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27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个探方，根据每个探方里兵马俑排列的密度推算，全部发掘后可出土兵马俑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6000</a:t>
            </a:r>
            <a:r>
              <a:rPr b="0" lang="zh-CN" sz="1600" spc="-1" strike="noStrike">
                <a:solidFill>
                  <a:srgbClr val="3217d5"/>
                </a:solidFill>
                <a:latin typeface="Times New Roman"/>
              </a:rPr>
              <a:t>余件，其中以步兵居多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217d5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66880" y="228600"/>
            <a:ext cx="3505320" cy="61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兵马俑的种类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1143000"/>
            <a:ext cx="274320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跪射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将军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御手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跪坐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立射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骑士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228600" y="15238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跪射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971800"/>
            <a:ext cx="14097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50000">
                      <a:srgbClr val="156b13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隶书"/>
              </a:rPr>
              <a:t>跪射俑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50000">
                    <a:srgbClr val="156b13"/>
                  </a:gs>
                  <a:gs pos="100000">
                    <a:srgbClr val="ddebc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743200" y="2286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6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跪射俑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90720"/>
            <a:ext cx="7620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0e9f"/>
                </a:solidFill>
                <a:latin typeface="Book Antiqua"/>
              </a:rPr>
              <a:t>       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在秦始皇兵马俑二号坑中，有一个弓弩兵方阵，由立射俑和跪射俑组合而成，阵表是立射俑，阵心是跪射俑，每列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8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个，共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20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列，共有跪射武士俑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160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d20e9f"/>
                </a:solidFill>
                <a:latin typeface="方正姚体"/>
                <a:ea typeface="方正姚体"/>
              </a:rPr>
              <a:t>之所以称之为跪射武士俑，是因为它们与秦俑坑中众多的陶俑形状不一，它们在坑中的姿式不是立姿，而是跪姿，跪射俑均身着铠甲，左腿蹲曲，右腿着地，右足竖起足尖抵地，臀坐于右脚跟上，上体伸直并和头略转向左侧，双目凝视左前方，双手在胸的右侧一上一下握着弓弩，在这种俑的附近伴出有铜镞、铜剑鞘首及木弓遗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819520" y="3049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00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将军俑</a:t>
            </a:r>
            <a:endParaRPr b="0" lang="en-US" sz="4400" spc="1" strike="noStrike">
              <a:ln w="12600">
                <a:solidFill>
                  <a:srgbClr val="ff00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兵马俑坑出土的八千多件陶俑、陶马，揭开了秦国大军的秘密，各式各样的陶俑，展现从小兵到大将的面貌，让人目不暇给，其中「将军俑」尤其醒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这些将军俑的身分是秦代的都尉和郡尉级武官，负责指挥和统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将军俑目前已出土七件，分为两类，一类穿著彩色鱼鳞甲，双手拄剑或跨剑站在战车后，神情威严，一派将者风度；另一类不着铠甲，上身穿交领右衽双重长襦，身体粗壮，容颜忠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44792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標楷體"/>
              </a:rPr>
              <a:t>    </a:t>
            </a:r>
            <a:r>
              <a:rPr b="1" lang="zh-CN" sz="3200" spc="-1" strike="noStrike">
                <a:solidFill>
                  <a:srgbClr val="d20e9f"/>
                </a:solidFill>
                <a:latin typeface="楷体_GB2312"/>
                <a:ea typeface="楷体_GB2312"/>
              </a:rPr>
              <a:t>骑士俑一手牵马缰，一手拉弓，目视前方，似整装待发，严阵以待，显示出骑士刚健威武的气魄。鞍马，骑士的坐骑。其肌肉隆凸，腹背壮实，轮廓优美，四蹄矗立，前腿如柱，后腿如弓，英武骄健。特别是马头的塑造，张口作嘶鸣状，工匠们抓住了眼、鼻、耳、口等关键的部位，着意刻画，使陶马给人一种栩栩如生的形象，把马那种急不可待、跃跃欲试的神态，表现得淋漓尽致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522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fc26"/>
                </a:solidFill>
                <a:latin typeface="Times New Roman"/>
                <a:ea typeface="楷体_GB2312"/>
              </a:rPr>
              <a:t>骑士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10664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1" lang="zh-CN" sz="2400" spc="-1" strike="noStrike">
                <a:solidFill>
                  <a:srgbClr val="33ccff"/>
                </a:solidFill>
                <a:latin typeface="標楷體"/>
              </a:rPr>
              <a:t>御手俑，头戴长冠，身穿铠甲。军右俑，披甲，戴长冠，地位高于一般战车的车右。四人乘座的车子为驷乘车，这种车子在秦俑坑中只有两辆，分别出于二号坑下和三号兵马俑坑，车上有乘员四人，御手为双手揽带状，另外三人一人为军吏，两人为车左和车右，这种战车是在秦俑坑中级别较高的，地位也相当重要。御者的职责是驾驭车马，保证车马进退有节，安全奔驰，否则为失职。特别是车阵战中，御手的地位尤为重要，因为一个车阵，若有一辆车乱了阵，势必影响整个阵形，使战争失败。同时，御者的责任还有当主帅受伤时可代替主帅执掌指挥工具金和鼓。御手身穿长襦，外披铠甲，披膊长及腕部，手上有护手甲，胫着护腿，颈上围有盆领</a:t>
            </a:r>
            <a:r>
              <a:rPr b="1" lang="zh-CN" sz="2400" spc="-1" strike="noStrike">
                <a:solidFill>
                  <a:srgbClr val="33ccff"/>
                </a:solidFill>
                <a:latin typeface="Times New Roman"/>
                <a:ea typeface="標楷體"/>
              </a:rPr>
              <a:t>(</a:t>
            </a:r>
            <a:r>
              <a:rPr b="1" lang="zh-CN" sz="2400" spc="-1" strike="noStrike">
                <a:solidFill>
                  <a:srgbClr val="33ccff"/>
                </a:solidFill>
                <a:latin typeface="標楷體"/>
              </a:rPr>
              <a:t>即颈甲</a:t>
            </a:r>
            <a:r>
              <a:rPr b="1" lang="zh-CN" sz="2400" spc="-1" strike="noStrike">
                <a:solidFill>
                  <a:srgbClr val="33ccff"/>
                </a:solidFill>
                <a:latin typeface="Times New Roman"/>
                <a:ea typeface="標楷體"/>
              </a:rPr>
              <a:t>)</a:t>
            </a:r>
            <a:r>
              <a:rPr b="1" lang="zh-CN" sz="2400" spc="-1" strike="noStrike">
                <a:solidFill>
                  <a:srgbClr val="33ccff"/>
                </a:solidFill>
                <a:latin typeface="標楷體"/>
              </a:rPr>
              <a:t>头上戴有巾帻及长冠，双臂前举作牵拉马缰状，全神贯注地注视着前方，从其装束来看，其地位是非常重要的。</a:t>
            </a:r>
            <a:r>
              <a:rPr b="1" lang="zh-CN" sz="2400" spc="-1" strike="noStrike">
                <a:solidFill>
                  <a:srgbClr val="33ccff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00400" y="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御手俑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2448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91480" y="6389640"/>
            <a:ext cx="479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8:11:49Z</dcterms:created>
  <dc:creator>f8</dc:creator>
  <dc:description/>
  <dc:language>en-US</dc:language>
  <cp:lastModifiedBy>zmj</cp:lastModifiedBy>
  <dcterms:modified xsi:type="dcterms:W3CDTF">2012-08-12T14:17:50Z</dcterms:modified>
  <cp:revision>25</cp:revision>
  <dc:subject/>
  <dc:title>PowerPoint 演示文稿</dc:title>
</cp:coreProperties>
</file>