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29A-F309-4CAF-9F20-B4A99381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517-7779-4B38-BBEB-79B8F7F6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5F3-CB8E-4180-B4C4-CB717FB6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276-B760-4E25-8CC3-99885803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5E3-7FB4-4502-B325-144F572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D73-F3F9-4BEE-8E97-3DB434F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5F7-EAC3-47DA-A23E-75E6514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8CE-2E4C-46AB-B09F-B94A6C8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245-4C7C-4E86-B618-FD53FB3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148-32E0-4871-8E45-B3C10496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567-2C4F-4A46-BB5A-ACE2A3A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E8D-B10C-4DCB-98F7-96B601D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3D7-61AB-4CF6-A3E7-401279B07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4936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读一读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划出描写兵马俑外貌、神态、动作的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议一议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喜欢哪一类兵马俑，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演一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据书上的描写摆一个造型，其他同学猜猜演的是什么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将军俑身材魁梧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头戴金冠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身披铠甲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手握宝剑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昂首挺胸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站在队伍前列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像是在指挥身后的军吏和士兵行进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那神态自若的样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看就知道是久经沙场、身负重任的高级将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3560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武士俑高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8480" y="692280"/>
            <a:ext cx="510552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25448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720" y="-36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8000" y="1484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042920" y="4138560"/>
              <a:ext cx="15685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00000" y="577800"/>
            <a:ext cx="3962160" cy="2453400"/>
            <a:chOff x="900000" y="577800"/>
            <a:chExt cx="3962160" cy="245340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260360" y="793800"/>
              <a:ext cx="15415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404720" y="577800"/>
              <a:ext cx="3457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首低垂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若有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思，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244980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像在考虑如何相互配合，战胜敌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75280" y="333360"/>
            <a:ext cx="3600360" cy="3431160"/>
            <a:chOff x="5075280" y="333360"/>
            <a:chExt cx="3600360" cy="343116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087880" y="407880"/>
              <a:ext cx="15717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075280" y="333360"/>
              <a:ext cx="3600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0136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03640" y="4076640"/>
            <a:ext cx="3396240" cy="2197080"/>
            <a:chOff x="5003640" y="4076640"/>
            <a:chExt cx="3396240" cy="2197080"/>
          </a:xfrm>
        </p:grpSpPr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5003640" y="4186440"/>
              <a:ext cx="1585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99984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神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2568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242892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0800" y="6540"/>
                </a:moveTo>
                <a:lnTo>
                  <a:pt x="13376" y="9151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2"/>
                </a:lnTo>
                <a:lnTo>
                  <a:pt x="5491" y="20692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6">
                <a:moveTo>
                  <a:pt x="13376" y="9151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6">
                <a:moveTo>
                  <a:pt x="9877" y="17002"/>
                </a:moveTo>
                <a:lnTo>
                  <a:pt x="11723" y="17002"/>
                </a:lnTo>
                <a:lnTo>
                  <a:pt x="11723" y="20692"/>
                </a:lnTo>
                <a:lnTo>
                  <a:pt x="16109" y="20692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2"/>
                </a:lnTo>
                <a:lnTo>
                  <a:pt x="9877" y="206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440" y="1197000"/>
            <a:ext cx="3192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参观”了秦兵马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最想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一批外国游客想到中国来参观游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能向他们简要介绍一下秦兵马俑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3440" y="1670040"/>
            <a:ext cx="570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兵马俑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不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规模宏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而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类型众多，个性鲜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0:13:10Z</dcterms:created>
  <dc:creator>微软用户</dc:creator>
  <dc:description/>
  <dc:language>en-US</dc:language>
  <cp:lastModifiedBy>微软用户</cp:lastModifiedBy>
  <dcterms:modified xsi:type="dcterms:W3CDTF">2012-04-20T13:44:23Z</dcterms:modified>
  <cp:revision>14</cp:revision>
  <dc:subject/>
  <dc:title>幻灯片 1</dc:title>
</cp:coreProperties>
</file>