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269A-CC1D-4B09-AD8E-1097099F3E4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1722-D736-4E60-A941-4EF37212F03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6732-5EE8-47F0-AEAC-D9D4449596C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CA6-02C2-4A22-B64E-41C26641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953-D175-435B-BA11-FB0217D2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7838-45EB-4ABD-B5AC-635AA591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E15-7FA7-4550-B6CB-CB253FA1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9ED9-762E-4A29-9E5E-5C16999B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4E3E-0BE9-4FB4-A79F-1F39D6D9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1AF2-1221-4ECE-A592-ED42ABCE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13A4-3860-4B05-AABF-3146E490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73AD-3FF1-42C0-8B34-887EE022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5F84-AD37-4FE0-B628-3CF051F1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B1C7-0147-4CD6-A9D4-98E563C5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4B18-753D-44DF-9861-B9322B30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1E42-4D0F-4DF2-9A56-6815C175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D369-66DE-4E39-956F-AFECEA7A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A840-6A91-44F1-A92C-C486BD1F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4081-A49B-4D24-AA2E-E3C41903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93BF-DA48-498A-824C-CCB88CC6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CDAF-E01B-4C97-8535-DEC89970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D77-6A34-4BE7-BAE4-F94ECA18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B7F-C4B9-4BB0-9063-2626B993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B580-3D9A-46CD-8AFC-A5421C1A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29E-969C-45B2-9C03-82CD6782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09A0-D686-478B-B2BE-4BC68E79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1655-FAB0-4128-BCB0-8C61C893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939D-F79B-4D9C-AC8E-912724183D6A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8C05-0DE1-42F0-99C9-26613F6E05CC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18.jpe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7320" y="2852640"/>
            <a:ext cx="555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010"/>
                </a:solidFill>
                <a:latin typeface="Arial"/>
                <a:ea typeface="华文琥珀"/>
              </a:rPr>
              <a:t>中 华 第 一 帝        世 界 第 八 奇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236000" y="5516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马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76480" y="5805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骑兵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0200" y="5811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将军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599760" y="5805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武士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1485720" cy="3716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132000" y="765000"/>
            <a:ext cx="28576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细黑"/>
              </a:rPr>
              <a:t>我来挑战！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细黑"/>
              <a:ea typeface="华文细黑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067280" y="1916280"/>
            <a:ext cx="2448000" cy="3732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rcRect l="22338" t="0" r="3383" b="0"/>
          <a:stretch/>
        </p:blipFill>
        <p:spPr>
          <a:xfrm>
            <a:off x="0" y="1844640"/>
            <a:ext cx="2158920" cy="3816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rcRect l="12223" t="38731" r="6244" b="5499"/>
          <a:stretch/>
        </p:blipFill>
        <p:spPr>
          <a:xfrm>
            <a:off x="6659640" y="2492280"/>
            <a:ext cx="2484360" cy="2592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172360" y="6308640"/>
            <a:ext cx="971640" cy="549360"/>
          </a:xfrm>
          <a:custGeom>
            <a:avLst/>
            <a:gdLst>
              <a:gd name="textAreaLeft" fmla="*/ 35280 w 971640"/>
              <a:gd name="textAreaRight" fmla="*/ 936360 w 971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8193" h="21600">
                <a:moveTo>
                  <a:pt x="0" y="0"/>
                </a:moveTo>
                <a:lnTo>
                  <a:pt x="38193" y="0"/>
                </a:lnTo>
                <a:lnTo>
                  <a:pt x="38193" y="21600"/>
                </a:lnTo>
                <a:lnTo>
                  <a:pt x="0" y="21600"/>
                </a:lnTo>
                <a:close/>
              </a:path>
              <a:path fill="lightenLess" w="38193" h="21600">
                <a:moveTo>
                  <a:pt x="0" y="0"/>
                </a:moveTo>
                <a:lnTo>
                  <a:pt x="38193" y="0"/>
                </a:lnTo>
                <a:lnTo>
                  <a:pt x="36793" y="1400"/>
                </a:lnTo>
                <a:lnTo>
                  <a:pt x="1400" y="1400"/>
                </a:lnTo>
                <a:close/>
              </a:path>
              <a:path fill="darken" w="38193" h="21600">
                <a:moveTo>
                  <a:pt x="38193" y="0"/>
                </a:moveTo>
                <a:lnTo>
                  <a:pt x="38193" y="21600"/>
                </a:lnTo>
                <a:lnTo>
                  <a:pt x="36793" y="20200"/>
                </a:lnTo>
                <a:lnTo>
                  <a:pt x="36793" y="1400"/>
                </a:lnTo>
                <a:close/>
              </a:path>
              <a:path fill="darkenLess" w="38193" h="21600">
                <a:moveTo>
                  <a:pt x="38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93" y="20200"/>
                </a:lnTo>
                <a:close/>
              </a:path>
              <a:path fill="lighten" w="38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93" h="21600">
                <a:moveTo>
                  <a:pt x="22595" y="10800"/>
                </a:moveTo>
                <a:lnTo>
                  <a:pt x="12090" y="17806"/>
                </a:lnTo>
                <a:lnTo>
                  <a:pt x="12090" y="3794"/>
                </a:lnTo>
                <a:close/>
              </a:path>
              <a:path fill="darken" w="38193" h="21600">
                <a:moveTo>
                  <a:pt x="24440" y="3794"/>
                </a:moveTo>
                <a:lnTo>
                  <a:pt x="24440" y="17806"/>
                </a:lnTo>
                <a:lnTo>
                  <a:pt x="26103" y="17806"/>
                </a:lnTo>
                <a:lnTo>
                  <a:pt x="26103" y="379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41760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Arial"/>
              </a:rPr>
              <a:t>将军俑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21964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将军俑身材魁梧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头戴鶡冠，身披铠甲，手握宝剑，昂首挺胸。那神态自若的样子，一看就知道是久经沙场，重任在肩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8148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810108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Arial"/>
              </a:rPr>
              <a:t>武士俑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4105440" cy="63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武士俑高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.8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米左右，体格健壮，体形匀称。它们穿着站袍，披挂铠甲，脚登前端向上翘起的战靴，手持兵器，整装待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8280360" y="6093000"/>
            <a:ext cx="863640" cy="57600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0" h="21600">
                <a:moveTo>
                  <a:pt x="9183" y="10800"/>
                </a:moveTo>
                <a:lnTo>
                  <a:pt x="23196" y="3794"/>
                </a:lnTo>
                <a:lnTo>
                  <a:pt x="23196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943600" y="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00cc"/>
                </a:solidFill>
                <a:latin typeface="Times New Roman"/>
              </a:rPr>
              <a:t>骑兵俑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4036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940360" y="1058760"/>
            <a:ext cx="3051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骑兵俑上身着短甲，下身着紧口裤，足蹬长统马靴，右手执缰绳，左手持弓箭，随时准备上马冲杀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80360" y="628164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65164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马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69228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陶马与真马一般大小，一匹匹形体健壮，肌肉丰满。那跃跃欲试的样子，好象一声令下，就会撒开四蹄，腾空而起，踏上征程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01080" y="6093000"/>
            <a:ext cx="863640" cy="57600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0" h="21600">
                <a:moveTo>
                  <a:pt x="9183" y="10800"/>
                </a:moveTo>
                <a:lnTo>
                  <a:pt x="23196" y="3794"/>
                </a:lnTo>
                <a:lnTo>
                  <a:pt x="23196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12223" t="38731" r="6244" b="5499"/>
          <a:stretch/>
        </p:blipFill>
        <p:spPr>
          <a:xfrm>
            <a:off x="0" y="836640"/>
            <a:ext cx="485928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773360"/>
            <a:ext cx="89154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每个兵马俑都是极为精美的艺术珍品。仔细端详，他们</a:t>
            </a:r>
            <a:r>
              <a:rPr b="1" lang="zh-CN" sz="3600" spc="-1" strike="noStrike">
                <a:solidFill>
                  <a:srgbClr val="f60242"/>
                </a:solidFill>
                <a:latin typeface="Times New Roman"/>
              </a:rPr>
              <a:t>神态各异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：有的颔首低眉，若有所思，好像在考虑如何相互配合，战胜敌人；有的目光炯炯，神态庄重，好像暗下决心，誓为秦国统一天下作殊死拼搏；有的紧握双拳，好像在听候号角，待命出征；有的凝视远方，好像在思念家乡的亲人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走近它们的身旁，似乎还能听到轻细的呼吸声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12960" y="24004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5332"/>
                </a:solidFill>
                <a:latin typeface="Arial"/>
              </a:rPr>
              <a:t>端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1880" y="5281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5332"/>
                </a:solidFill>
                <a:latin typeface="Arial"/>
              </a:rPr>
              <a:t>凝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9298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表示向四周看（环视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表示向下看（俯视）（鸟瞰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表示向远处看（远望）（远眺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表示向上看（仰望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表示恭敬地看（瞻仰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表示注意力集中看（注视）（端详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表示偷偷地看（窥视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表示生气地看（怒视）（瞪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表示回过头看（回眸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表示注意地看（注视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25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……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6211800" cy="6669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187280" y="0"/>
            <a:ext cx="6581880" cy="6597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rcRect l="7140" t="7051" r="2356" b="0"/>
          <a:stretch/>
        </p:blipFill>
        <p:spPr>
          <a:xfrm>
            <a:off x="1835280" y="115920"/>
            <a:ext cx="3941640" cy="6742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648320" y="4078080"/>
            <a:ext cx="4194000" cy="2020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1116000" y="-17136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796000" y="620640"/>
            <a:ext cx="2879640" cy="5689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16000" y="0"/>
            <a:ext cx="17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9933"/>
                </a:solidFill>
                <a:latin typeface="Arial"/>
                <a:ea typeface="华文隶书"/>
              </a:rPr>
              <a:t>课堂小练笔：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华文楷体"/>
              </a:rPr>
              <a:t>抓住外貌、神态描写，并能展开合理的想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24000" y="3068640"/>
            <a:ext cx="1655640" cy="3168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059280" y="620640"/>
            <a:ext cx="2519280" cy="2449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6308640"/>
            <a:ext cx="9001080" cy="520560"/>
          </a:xfrm>
          <a:prstGeom prst="rect">
            <a:avLst/>
          </a:prstGeom>
          <a:solidFill>
            <a:srgbClr val="808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有的兵俑，</a:t>
            </a:r>
            <a:r>
              <a:rPr b="1" lang="zh-CN" sz="2800" spc="-1" strike="noStrike" u="sng">
                <a:solidFill>
                  <a:srgbClr val="001010"/>
                </a:solidFill>
                <a:uFillTx/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，</a:t>
            </a:r>
            <a:r>
              <a:rPr b="1" lang="zh-CN" sz="2800" spc="-1" strike="noStrike" u="sng">
                <a:solidFill>
                  <a:srgbClr val="001010"/>
                </a:solidFill>
                <a:uFillTx/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，</a:t>
            </a:r>
            <a:r>
              <a:rPr b="1" lang="zh-CN" sz="2800" spc="-1" strike="noStrike" u="sng">
                <a:solidFill>
                  <a:srgbClr val="001010"/>
                </a:solidFill>
                <a:uFillTx/>
                <a:latin typeface="Arial"/>
              </a:rPr>
              <a:t>                              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124000" y="3141720"/>
            <a:ext cx="3527640" cy="3051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8640720" y="5840280"/>
            <a:ext cx="468360" cy="46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0" y="476280"/>
            <a:ext cx="3024360" cy="23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31705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12360" y="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拓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836640"/>
            <a:ext cx="8496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f0103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f0103"/>
                </a:solidFill>
                <a:latin typeface="Arial"/>
                <a:ea typeface="楷体_GB2312"/>
              </a:rPr>
              <a:t>有的兵俑，留着胡子，虎视眈眈，神情十分严肃，这也许是久经沙场、屡建战功的老战士；有的兵俑，束着头发，一脸稚气，这可能是刚入伍的新兵。一匹匹战马，膘肥体壮，竖耳瞪眼，似乎在倾听雄壮的号角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36360" y="1916280"/>
            <a:ext cx="9180360" cy="4765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549360"/>
            <a:ext cx="5545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秦兵马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907920"/>
            <a:ext cx="89154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每个兵马俑都是极为精美的艺术珍品。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仔细端详，他们神态各异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有的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颔首低眉，若有所思，好像在考虑如何相互配合，战胜敌人；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有的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目光炯炯，神态庄重，好像暗下决心，誓为秦国统一天下作殊死拼搏；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有的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紧握双拳，好像在听候号角，待命出征；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有的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凝视远方，好像在思念家乡的亲人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走近它们的身旁，似乎还能听到轻细的呼吸声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2060640"/>
            <a:ext cx="48960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457200"/>
            <a:ext cx="312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秦兵马俑，在古今中外的雕塑史上是绝无仅有的。它惟妙惟肖地模拟军阵的排列，生动地再现了秦军雄兵百万、战车千乘的宏伟气势，形象地展示了中华民族的强大力量和英雄气概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0" t="2205" r="4704" b="0"/>
          <a:stretch/>
        </p:blipFill>
        <p:spPr>
          <a:xfrm>
            <a:off x="144360" y="2781360"/>
            <a:ext cx="8748720" cy="436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-36360" y="1844640"/>
            <a:ext cx="9180360" cy="4765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332000" y="620640"/>
            <a:ext cx="691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中华第一帝   世界第八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华文隶书"/>
              </a:rPr>
              <a:t>有关资料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秦始皇兵马俑博物馆，是建立在兵马俑坑原址上的遗址性博物馆，是举世闻名的大型遗址性博物馆。兵马俑被誉为“世界第八大奇迹”，“二十世纪考古史上的伟大发现之一”。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987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月，联合国教科文组织已将秦始皇陵（包括兵马俑坑）列入“世界文化遗产名录”。它不仅是中国人民、也是全人类的一份珍贵文化财富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1680" y="1125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世界的奇迹，民族的骄傲。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李光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这一激动人心印象深刻的秦俑，是具有创造性的人民和伟大未来的证明。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基辛格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古都有先人留艺术瑰宝，华夏待来者绘锦绣宏图。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萧克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1557360"/>
            <a:ext cx="81532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007a77"/>
                </a:solidFill>
                <a:latin typeface="Times New Roman"/>
              </a:rPr>
              <a:t>兵马俑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不仅</a:t>
            </a:r>
            <a:r>
              <a:rPr b="1" lang="zh-CN" sz="5400" spc="-1" strike="noStrike">
                <a:solidFill>
                  <a:srgbClr val="007a77"/>
                </a:solidFill>
                <a:latin typeface="Times New Roman"/>
              </a:rPr>
              <a:t>规模宏大，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而且</a:t>
            </a:r>
            <a:r>
              <a:rPr b="1" lang="zh-CN" sz="5400" spc="-1" strike="noStrike">
                <a:solidFill>
                  <a:srgbClr val="007a77"/>
                </a:solidFill>
                <a:latin typeface="Times New Roman"/>
              </a:rPr>
              <a:t>类型众多，个性鲜明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620640"/>
            <a:ext cx="82803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兵马俑规模宏大。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已挖掘的三个俑坑，总面积近</a:t>
            </a:r>
            <a:r>
              <a:rPr b="1" lang="en-US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20000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平方米，差不多有五十个篮球场那么大，坑内有兵马俑近八千个。在三个俑坑中，一号坑最大，东西长</a:t>
            </a:r>
            <a:r>
              <a:rPr b="1" lang="en-US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230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米，南北宽</a:t>
            </a:r>
            <a:r>
              <a:rPr b="1" lang="en-US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62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米，总面积</a:t>
            </a:r>
            <a:r>
              <a:rPr b="1" lang="en-US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14260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平方米；坑里的兵马俑也最多，有六千多个。一号坑上面，现在已经盖起了一座巨大的拱形大厅。走进大厅，站在高处鸟瞰，坑里的兵马俑一行行、一列列，十分整齐，排成了一个巨大的长方形军阵，真像是秦始皇当年统率的一支南征北战、所向披靡的大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8351640" cy="56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620640"/>
            <a:ext cx="82803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兵马俑规模宏大。已挖掘的三个俑坑，总面积近</a:t>
            </a:r>
            <a:r>
              <a:rPr b="1" lang="en-US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20000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平方米，差不多有五十个篮球场那么大，坑内有兵马俑近八千个。在三个俑坑中，一号坑最大，东西长</a:t>
            </a:r>
            <a:r>
              <a:rPr b="1" lang="en-US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230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米，南北宽</a:t>
            </a:r>
            <a:r>
              <a:rPr b="1" lang="en-US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62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米，总面积</a:t>
            </a:r>
            <a:r>
              <a:rPr b="1" lang="en-US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14260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平方米；坑里的兵马俑也最多，有六千多个。一号坑上面，现在已经盖起了一座巨大的拱形大厅。走进大厅，站在高处鸟瞰，坑里的兵马俑一行行、一列列，十分整齐，排成了一个巨大的长方形军阵，真像是秦始皇当年统率的一支南征北战、所向披靡的大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620640"/>
            <a:ext cx="828036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兵马俑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规模宏大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。已挖掘的三个俑坑，总面积近</a:t>
            </a:r>
            <a:r>
              <a:rPr b="1" lang="en-US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20000</a:t>
            </a:r>
            <a:r>
              <a:rPr b="1" lang="zh-CN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平方米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，差不多有</a:t>
            </a:r>
            <a:r>
              <a:rPr b="1" lang="zh-CN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五十个篮球场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那么大，坑内有兵马俑近</a:t>
            </a:r>
            <a:r>
              <a:rPr b="1" lang="zh-CN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八千个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。在三个俑坑中，一号坑最大，东西长</a:t>
            </a:r>
            <a:r>
              <a:rPr b="1" lang="en-US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230</a:t>
            </a:r>
            <a:r>
              <a:rPr b="1" lang="zh-CN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米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，南北宽</a:t>
            </a:r>
            <a:r>
              <a:rPr b="1" lang="en-US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62</a:t>
            </a:r>
            <a:r>
              <a:rPr b="1" lang="zh-CN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米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，总面积</a:t>
            </a:r>
            <a:r>
              <a:rPr b="1" lang="en-US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14260</a:t>
            </a:r>
            <a:r>
              <a:rPr b="1" lang="zh-CN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平方米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；坑里的兵马俑也最多，有</a:t>
            </a:r>
            <a:r>
              <a:rPr b="1" lang="zh-CN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六千多个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。一号坑上面，现在已经盖起了一座巨大的拱形大厅。走进大厅，站在高处鸟瞰，坑里的兵马俑一行行、一列列，十分整齐，排成了一个巨大的长方形军阵，真像是秦始皇当年统率的一支南征北战、所向披靡的大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620640"/>
            <a:ext cx="82803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兵马俑</a:t>
            </a:r>
            <a:r>
              <a:rPr b="1" lang="zh-CN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规模宏大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。已挖掘的三个俑坑，总面积近</a:t>
            </a:r>
            <a:r>
              <a:rPr b="1" lang="en-US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20000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平方米，差不多有五十个篮球场那么大，坑内有兵马俑近八千个。在三个俑坑中，一号坑最大，东西长</a:t>
            </a:r>
            <a:r>
              <a:rPr b="1" lang="en-US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230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米，南北宽</a:t>
            </a:r>
            <a:r>
              <a:rPr b="1" lang="en-US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62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米，总面积</a:t>
            </a:r>
            <a:r>
              <a:rPr b="1" lang="en-US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14260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平方米；坑里的兵马俑也最多，有六千多个。一号坑上面，现在已经盖起了一座巨大的拱形大厅。走进大厅，站在高处鸟瞰，坑里的兵马俑一行行、一列列，十分整齐，排成了一个巨大的长方形军阵，真像是秦始皇当年统率的一支</a:t>
            </a:r>
            <a:r>
              <a:rPr b="1" lang="zh-CN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南征北战、所向披靡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的大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1:59:31Z</dcterms:created>
  <dc:creator>微软用户</dc:creator>
  <dc:description/>
  <dc:language>en-US</dc:language>
  <cp:lastModifiedBy>sony</cp:lastModifiedBy>
  <dcterms:modified xsi:type="dcterms:W3CDTF">2009-10-07T13:41:06Z</dcterms:modified>
  <cp:revision>46</cp:revision>
  <dc:subject/>
  <dc:title>秦始皇兵马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