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FDD-AFAF-4AB2-940E-4C418F65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333-F615-4F1E-B045-19229443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5D8-3A5A-40E5-9FE7-E5B1E043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FC3-55BB-40DB-90B5-357C60D5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FDBC-B0FB-44A9-AE55-33438859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F288-A451-41E2-8B17-D0023DBE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B9BB-FF5A-44C2-A2E7-A4E27CC2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30D9-49E9-44C2-86EE-133DB250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C2E6-47BD-4696-819F-F63AFE77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C845-3080-44ED-8130-982CF8B2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EEDD-6442-494E-85A1-75FF2474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492B-DBC0-49C0-BC1A-1B453A71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B3A3-0AA1-4354-A4AD-44C6BA63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BE25-FE6B-4AEB-B51E-979FA91F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1C64-6D0F-4584-BA43-054CFE51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F82F-7338-466A-A937-6464BC01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67EC-1067-4E76-A332-8C436BE7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F0B-2267-4B3D-8AD3-4ABBA4B4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D11-2991-461A-8C99-8382EBF5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A33-B8B7-442E-961F-A11742EE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E47-AC5C-4FED-A94F-1B16C142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0F9-A9FC-4BD8-A972-08E99E5F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061-A652-44FF-A107-BA0E3C94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543-828E-4181-AD47-90CEDE83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8405-1DDC-4D38-AB05-156EF93975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E336-3BCD-46E0-813D-C245EFA412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" Target="slide8.xm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" Target="slide9.xml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10" descr=""/>
          <p:cNvPicPr/>
          <p:nvPr/>
        </p:nvPicPr>
        <p:blipFill>
          <a:blip r:embed="rId1"/>
          <a:stretch/>
        </p:blipFill>
        <p:spPr>
          <a:xfrm>
            <a:off x="-344520" y="-2438280"/>
            <a:ext cx="9488520" cy="9677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00200" y="10666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隶书"/>
              </a:rPr>
              <a:t>秦兵马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38862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54100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麦溪中心校   沃伟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800600" y="4572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马俑与真马一般大小，一匹匹形体健壮，肌肉丰满。那跃跃欲试的样子，好像一声令下，就会撒开四蹄，腾空而起，踏上征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95288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马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8534520" y="617220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0977"/>
                </a:moveTo>
                <a:lnTo>
                  <a:pt x="17806" y="17983"/>
                </a:lnTo>
                <a:lnTo>
                  <a:pt x="3794" y="2499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21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410220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7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448920" cy="7331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33720" y="1066680"/>
            <a:ext cx="5790960" cy="65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它们神态各异：有的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，好像在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 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；有的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，好像在 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 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；有的  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，好像在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95280" y="4572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秦兵马俑，惟妙惟肖地模拟军阵的排列，生动地再现了秦军雄兵百万、战车千乘的宏伟气势，形象地展示了中华民族的强大力量和英雄气概。这在古今中外的雕塑史上是绝无仅有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endshow"/>
          </p:cNvPr>
          <p:cNvSpPr/>
          <p:nvPr/>
        </p:nvSpPr>
        <p:spPr>
          <a:xfrm>
            <a:off x="82296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228600"/>
            <a:ext cx="731520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兵马俑规模宏大。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已发掘的三个俑坑，总面积达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1912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平方米，足有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多个篮球场那么大，坑内有兵马俑近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700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个。在三个俑坑中，一号坑最大，东西长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23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米，南北宽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62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米，总面积有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1426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平方米。坑里的兵马俑也最多，共有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600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个左右。一号坑上面，现在已盖起了一座巨大的拱形大厅，人们无不为兵马俑的恢弘气势和高超的制作工艺所折服。站在高处鸟瞰，坑里的兵俑、马俑相间，一行行，一列列，十分整齐，排成了一个巨大的长方形军阵，看上去真像一支南征北战、所向披靡的大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19320" y="228600"/>
            <a:ext cx="754380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兵马俑规模宏大。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已发掘的三个俑坑，总面积达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912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平方米，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足有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多个篮球场那么大，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坑内有兵马俑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700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个。在三个俑坑中，一号坑最大，东西长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3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米，南北宽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62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米，总面积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426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平方米。坑里的兵马俑也最多，共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600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个左右。一号坑上面，现在已盖起了一座巨大的拱形大厅，人们无不为兵马俑的恢弘气势和高超的制作工艺所折服。站在高处鸟瞰，坑里的兵俑、马俑相间，一行行，一列列，十分整齐，排成了一个巨大的长方形军阵，看上去真像一支南征北战、所向披靡的大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1880" y="609588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14299" y="12950"/>
                </a:moveTo>
                <a:lnTo>
                  <a:pt x="3794" y="19956"/>
                </a:lnTo>
                <a:lnTo>
                  <a:pt x="3794" y="5943"/>
                </a:lnTo>
                <a:close/>
              </a:path>
              <a:path fill="darken" w="21600" h="25900">
                <a:moveTo>
                  <a:pt x="16144" y="5943"/>
                </a:moveTo>
                <a:lnTo>
                  <a:pt x="16144" y="19956"/>
                </a:lnTo>
                <a:lnTo>
                  <a:pt x="17806" y="19956"/>
                </a:lnTo>
                <a:lnTo>
                  <a:pt x="17806" y="594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0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09480" y="0"/>
            <a:ext cx="3962520" cy="4267080"/>
          </a:xfrm>
          <a:prstGeom prst="rect">
            <a:avLst/>
          </a:prstGeom>
          <a:ln w="0">
            <a:noFill/>
          </a:ln>
        </p:spPr>
      </p:pic>
      <p:pic>
        <p:nvPicPr>
          <p:cNvPr id="97" name="16" descr=""/>
          <p:cNvPicPr/>
          <p:nvPr/>
        </p:nvPicPr>
        <p:blipFill>
          <a:blip r:embed="rId2"/>
          <a:stretch/>
        </p:blipFill>
        <p:spPr>
          <a:xfrm>
            <a:off x="4648320" y="0"/>
            <a:ext cx="4190760" cy="4267080"/>
          </a:xfrm>
          <a:prstGeom prst="rect">
            <a:avLst/>
          </a:prstGeom>
          <a:ln w="0">
            <a:noFill/>
          </a:ln>
        </p:spPr>
      </p:pic>
      <p:pic>
        <p:nvPicPr>
          <p:cNvPr id="98" name="18" descr=""/>
          <p:cNvPicPr/>
          <p:nvPr/>
        </p:nvPicPr>
        <p:blipFill>
          <a:blip r:embed="rId3"/>
          <a:stretch/>
        </p:blipFill>
        <p:spPr>
          <a:xfrm>
            <a:off x="609480" y="4343400"/>
            <a:ext cx="8229600" cy="2514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  <a:path fill="darken" w="21600" h="33922">
                <a:moveTo>
                  <a:pt x="10800" y="995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33922">
                <a:moveTo>
                  <a:pt x="10800" y="1032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33922">
                <a:moveTo>
                  <a:pt x="8224" y="14385"/>
                </a:moveTo>
                <a:lnTo>
                  <a:pt x="12088" y="14385"/>
                </a:lnTo>
                <a:lnTo>
                  <a:pt x="12088" y="21383"/>
                </a:lnTo>
                <a:lnTo>
                  <a:pt x="13376" y="21383"/>
                </a:lnTo>
                <a:lnTo>
                  <a:pt x="13376" y="22305"/>
                </a:lnTo>
                <a:lnTo>
                  <a:pt x="8224" y="22305"/>
                </a:lnTo>
                <a:lnTo>
                  <a:pt x="8224" y="21383"/>
                </a:lnTo>
                <a:lnTo>
                  <a:pt x="9512" y="21383"/>
                </a:lnTo>
                <a:lnTo>
                  <a:pt x="9512" y="15290"/>
                </a:lnTo>
                <a:lnTo>
                  <a:pt x="8224" y="1529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lastslide"/>
          </p:cNvPr>
          <p:cNvSpPr/>
          <p:nvPr/>
        </p:nvSpPr>
        <p:spPr>
          <a:xfrm>
            <a:off x="0" y="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  <a:path fill="darken" w="21600" h="33922">
                <a:moveTo>
                  <a:pt x="3794" y="13654"/>
                </a:moveTo>
                <a:lnTo>
                  <a:pt x="7301" y="13654"/>
                </a:lnTo>
                <a:lnTo>
                  <a:pt x="7301" y="18989"/>
                </a:lnTo>
                <a:cubicBezTo>
                  <a:pt x="7301" y="19912"/>
                  <a:pt x="8102" y="20643"/>
                  <a:pt x="9138" y="20643"/>
                </a:cubicBezTo>
                <a:lnTo>
                  <a:pt x="10800" y="20643"/>
                </a:lnTo>
                <a:cubicBezTo>
                  <a:pt x="11836" y="20643"/>
                  <a:pt x="12636" y="19912"/>
                  <a:pt x="12636" y="18989"/>
                </a:cubicBezTo>
                <a:lnTo>
                  <a:pt x="12636" y="13654"/>
                </a:lnTo>
                <a:lnTo>
                  <a:pt x="10800" y="13654"/>
                </a:lnTo>
                <a:lnTo>
                  <a:pt x="14308" y="10146"/>
                </a:lnTo>
                <a:lnTo>
                  <a:pt x="17981" y="13654"/>
                </a:lnTo>
                <a:lnTo>
                  <a:pt x="16144" y="13654"/>
                </a:lnTo>
                <a:lnTo>
                  <a:pt x="16144" y="18989"/>
                </a:lnTo>
                <a:cubicBezTo>
                  <a:pt x="16144" y="21757"/>
                  <a:pt x="13568" y="24316"/>
                  <a:pt x="10800" y="24316"/>
                </a:cubicBezTo>
                <a:lnTo>
                  <a:pt x="9138" y="24316"/>
                </a:lnTo>
                <a:cubicBezTo>
                  <a:pt x="6370" y="24316"/>
                  <a:pt x="3794" y="21757"/>
                  <a:pt x="3794" y="18989"/>
                </a:cubicBez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1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304920"/>
            <a:ext cx="2057400" cy="2754360"/>
          </a:xfrm>
          <a:prstGeom prst="rect">
            <a:avLst/>
          </a:prstGeom>
          <a:ln w="0">
            <a:noFill/>
          </a:ln>
        </p:spPr>
      </p:pic>
      <p:pic>
        <p:nvPicPr>
          <p:cNvPr id="102" name="17" descr=""/>
          <p:cNvPicPr/>
          <p:nvPr/>
        </p:nvPicPr>
        <p:blipFill>
          <a:blip r:embed="rId3"/>
          <a:stretch/>
        </p:blipFill>
        <p:spPr>
          <a:xfrm>
            <a:off x="2971800" y="30492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103" name="20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029200" y="304920"/>
            <a:ext cx="1905120" cy="2743200"/>
          </a:xfrm>
          <a:prstGeom prst="rect">
            <a:avLst/>
          </a:prstGeom>
          <a:ln w="0">
            <a:noFill/>
          </a:ln>
        </p:spPr>
      </p:pic>
      <p:pic>
        <p:nvPicPr>
          <p:cNvPr id="104" name="9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09480" y="3352680"/>
            <a:ext cx="2819520" cy="2743200"/>
          </a:xfrm>
          <a:prstGeom prst="rect">
            <a:avLst/>
          </a:prstGeom>
          <a:ln w="0">
            <a:noFill/>
          </a:ln>
        </p:spPr>
      </p:pic>
      <p:pic>
        <p:nvPicPr>
          <p:cNvPr id="105" name="8" descr=""/>
          <p:cNvPicPr/>
          <p:nvPr/>
        </p:nvPicPr>
        <p:blipFill>
          <a:blip r:embed="rId7"/>
          <a:stretch/>
        </p:blipFill>
        <p:spPr>
          <a:xfrm>
            <a:off x="7162920" y="228600"/>
            <a:ext cx="172548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324480" y="335268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21" descr=""/>
          <p:cNvPicPr/>
          <p:nvPr/>
        </p:nvPicPr>
        <p:blipFill>
          <a:blip r:embed="rId10"/>
          <a:stretch/>
        </p:blipFill>
        <p:spPr>
          <a:xfrm>
            <a:off x="3429000" y="3352680"/>
            <a:ext cx="3048120" cy="274320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" action="ppaction://hlinkshowjump?jump=lastslide"/>
          </p:cNvPr>
          <p:cNvSpPr/>
          <p:nvPr/>
        </p:nvSpPr>
        <p:spPr>
          <a:xfrm>
            <a:off x="8458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lastslide"/>
          </p:cNvPr>
          <p:cNvSpPr/>
          <p:nvPr/>
        </p:nvSpPr>
        <p:spPr>
          <a:xfrm>
            <a:off x="80010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9655"/>
                </a:moveTo>
                <a:lnTo>
                  <a:pt x="7301" y="9655"/>
                </a:lnTo>
                <a:lnTo>
                  <a:pt x="7301" y="14990"/>
                </a:lnTo>
                <a:cubicBezTo>
                  <a:pt x="7301" y="15913"/>
                  <a:pt x="8102" y="16644"/>
                  <a:pt x="9138" y="16644"/>
                </a:cubicBezTo>
                <a:lnTo>
                  <a:pt x="10800" y="16644"/>
                </a:lnTo>
                <a:cubicBezTo>
                  <a:pt x="11836" y="16644"/>
                  <a:pt x="12636" y="15913"/>
                  <a:pt x="12636" y="14990"/>
                </a:cubicBezTo>
                <a:lnTo>
                  <a:pt x="12636" y="9655"/>
                </a:lnTo>
                <a:lnTo>
                  <a:pt x="10800" y="9655"/>
                </a:lnTo>
                <a:lnTo>
                  <a:pt x="14308" y="6147"/>
                </a:lnTo>
                <a:lnTo>
                  <a:pt x="17981" y="9655"/>
                </a:lnTo>
                <a:lnTo>
                  <a:pt x="16144" y="9655"/>
                </a:lnTo>
                <a:lnTo>
                  <a:pt x="16144" y="14990"/>
                </a:lnTo>
                <a:cubicBezTo>
                  <a:pt x="16144" y="17758"/>
                  <a:pt x="13568" y="20317"/>
                  <a:pt x="10800" y="20317"/>
                </a:cubicBezTo>
                <a:lnTo>
                  <a:pt x="9138" y="20317"/>
                </a:lnTo>
                <a:cubicBezTo>
                  <a:pt x="6370" y="20317"/>
                  <a:pt x="3794" y="17758"/>
                  <a:pt x="3794" y="14990"/>
                </a:cubicBez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20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452760" cy="4647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95280" y="510552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将军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694b6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3694b6"/>
                </a:solidFill>
                <a:latin typeface="Times New Roman"/>
              </a:rPr>
              <a:t>将军俑身材魁梧，头戴金冠，身披铠甲，手握宝剑，昂首挺胸，站在队伍前列，像是在指挥身后的军吏和士兵行进。那神态自若的样子，一看就知道是久经沙场、肩负重任的高级将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534520" y="6019920"/>
            <a:ext cx="304560" cy="6094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609480"/>
              <a:gd name="textAreaBottom" fmla="*/ 590040 h 609480"/>
            </a:gdLst>
            <a:ahLst/>
            <a:rect l="textAreaLeft" t="textAreaTop" r="textAreaRight" b="textAreaBottom"/>
            <a:pathLst>
              <a:path w="21600" h="43200">
                <a:moveTo>
                  <a:pt x="0" y="0"/>
                </a:moveTo>
                <a:lnTo>
                  <a:pt x="21600" y="0"/>
                </a:lnTo>
                <a:lnTo>
                  <a:pt x="21600" y="43200"/>
                </a:lnTo>
                <a:lnTo>
                  <a:pt x="0" y="43200"/>
                </a:lnTo>
                <a:close/>
              </a:path>
              <a:path fill="lightenLess" w="21600" h="43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00">
                <a:moveTo>
                  <a:pt x="21600" y="0"/>
                </a:moveTo>
                <a:lnTo>
                  <a:pt x="21600" y="43200"/>
                </a:lnTo>
                <a:lnTo>
                  <a:pt x="20200" y="41800"/>
                </a:lnTo>
                <a:lnTo>
                  <a:pt x="20200" y="1400"/>
                </a:lnTo>
                <a:close/>
              </a:path>
              <a:path fill="darkenLess" w="21600" h="43200">
                <a:moveTo>
                  <a:pt x="21600" y="43200"/>
                </a:moveTo>
                <a:lnTo>
                  <a:pt x="0" y="43200"/>
                </a:lnTo>
                <a:lnTo>
                  <a:pt x="1400" y="41800"/>
                </a:lnTo>
                <a:lnTo>
                  <a:pt x="20200" y="41800"/>
                </a:lnTo>
                <a:close/>
              </a:path>
              <a:path fill="lighten" w="21600" h="43200">
                <a:moveTo>
                  <a:pt x="0" y="43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00"/>
                </a:lnTo>
                <a:close/>
              </a:path>
              <a:path fill="darken" w="21600" h="43200">
                <a:moveTo>
                  <a:pt x="3794" y="21600"/>
                </a:moveTo>
                <a:lnTo>
                  <a:pt x="17806" y="14594"/>
                </a:lnTo>
                <a:lnTo>
                  <a:pt x="17806" y="286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12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3435480" cy="4647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19320" y="502920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武士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694b6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3694b6"/>
                </a:solidFill>
                <a:latin typeface="Times New Roman"/>
              </a:rPr>
              <a:t>武士俑高</a:t>
            </a:r>
            <a:r>
              <a:rPr b="0" lang="zh-CN" sz="3600" spc="-1" strike="noStrike">
                <a:solidFill>
                  <a:srgbClr val="3694b6"/>
                </a:solidFill>
                <a:latin typeface="Times New Roman"/>
              </a:rPr>
              <a:t>1.8</a:t>
            </a:r>
            <a:r>
              <a:rPr b="0" lang="zh-CN" sz="3600" spc="-1" strike="noStrike">
                <a:solidFill>
                  <a:srgbClr val="3694b6"/>
                </a:solidFill>
                <a:latin typeface="Times New Roman"/>
              </a:rPr>
              <a:t>米左右，体格健壮，体态匀称。身上穿着战袍，套着铠甲，脚上蹬着前端向上翘起的战靴，头发一律挽成了偏向左侧的发髻。他们有的握着铜戈，有的擎着利剑，有的拿着盾牌。个个目光炯炯，双唇紧闭，神态严峻，好像一场大战就在眼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8229600" y="62485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9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419112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76520" y="4876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骑兵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60948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骑兵俑上身穿着短甲，下身穿着紧口裤，足蹬长统马靴，右手执缰，左手持弓箭，随时准备上马冲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8458200" y="60958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" w="21600" h="30248">
                <a:moveTo>
                  <a:pt x="3794" y="15124"/>
                </a:moveTo>
                <a:lnTo>
                  <a:pt x="17806" y="8118"/>
                </a:lnTo>
                <a:lnTo>
                  <a:pt x="17806" y="22131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5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4724280" cy="5029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81080" y="53341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车马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5335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车马俑则分为驭手和军士，驭手居中而立，驾驭着战车，军士分列杂战车两侧，保护着驭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8458200" y="609588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10800" y="9224"/>
                </a:moveTo>
                <a:lnTo>
                  <a:pt x="13376" y="11835"/>
                </a:lnTo>
                <a:lnTo>
                  <a:pt x="13376" y="10095"/>
                </a:lnTo>
                <a:lnTo>
                  <a:pt x="15152" y="10095"/>
                </a:lnTo>
                <a:lnTo>
                  <a:pt x="15152" y="13611"/>
                </a:lnTo>
                <a:lnTo>
                  <a:pt x="17763" y="16187"/>
                </a:lnTo>
                <a:lnTo>
                  <a:pt x="16109" y="16187"/>
                </a:lnTo>
                <a:lnTo>
                  <a:pt x="16109" y="23377"/>
                </a:lnTo>
                <a:lnTo>
                  <a:pt x="5491" y="23377"/>
                </a:lnTo>
                <a:lnTo>
                  <a:pt x="5491" y="16187"/>
                </a:lnTo>
                <a:lnTo>
                  <a:pt x="3837" y="16187"/>
                </a:lnTo>
                <a:close/>
              </a:path>
              <a:path fill="darkenLess" w="21600" h="32375">
                <a:moveTo>
                  <a:pt x="13376" y="11835"/>
                </a:moveTo>
                <a:lnTo>
                  <a:pt x="13376" y="10095"/>
                </a:lnTo>
                <a:lnTo>
                  <a:pt x="15152" y="10095"/>
                </a:lnTo>
                <a:lnTo>
                  <a:pt x="15152" y="13611"/>
                </a:lnTo>
                <a:close/>
              </a:path>
              <a:path fill="darkenLess" w="21600" h="32375">
                <a:moveTo>
                  <a:pt x="9877" y="19686"/>
                </a:moveTo>
                <a:lnTo>
                  <a:pt x="11723" y="19686"/>
                </a:lnTo>
                <a:lnTo>
                  <a:pt x="11723" y="23377"/>
                </a:lnTo>
                <a:lnTo>
                  <a:pt x="16109" y="23377"/>
                </a:lnTo>
                <a:lnTo>
                  <a:pt x="16109" y="16187"/>
                </a:lnTo>
                <a:lnTo>
                  <a:pt x="5491" y="16187"/>
                </a:lnTo>
                <a:lnTo>
                  <a:pt x="5491" y="23377"/>
                </a:lnTo>
                <a:lnTo>
                  <a:pt x="9877" y="23377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1:11:03Z</dcterms:created>
  <dc:creator>happy</dc:creator>
  <dc:description/>
  <dc:language>en-US</dc:language>
  <cp:lastModifiedBy>happy</cp:lastModifiedBy>
  <dcterms:modified xsi:type="dcterms:W3CDTF">2005-05-16T05:27:08Z</dcterms:modified>
  <cp:revision>27</cp:revision>
  <dc:subject/>
  <dc:title>PowerPoint 演示文稿</dc:title>
</cp:coreProperties>
</file>