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02B-FFF8-4978-AC1B-BCB3A736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195-80B4-4F1E-8F99-2EC9124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7A1-4823-4829-9706-F54B6C57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7EE-97F7-48E8-AF1E-3926E0C3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7F0-A1F3-4956-B1BD-40B2EAC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57D-EDCE-44A5-9BE7-4E1A0AE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732-97E9-48EA-A518-E02A099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2E4-0124-48A3-B6EA-D219656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8A5-7CD4-4885-BC4C-652F0DB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29C-DFE6-4A36-871E-86EB765A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F2E-23D0-430A-A4E9-75C76893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651-EC88-4A9A-A97D-0416DF35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22458PICkZz_1024"/>
          <p:cNvPicPr/>
          <p:nvPr/>
        </p:nvPicPr>
        <p:blipFill>
          <a:blip r:embed="rId3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6" descr="22458PICkZz_1024"/>
          <p:cNvPicPr/>
          <p:nvPr/>
        </p:nvPicPr>
        <p:blipFill>
          <a:blip r:embed="rId3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91E-C1AB-41F7-B4B8-6555CCE5B29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5"/>
          <p:cNvSpPr/>
          <p:nvPr/>
        </p:nvSpPr>
        <p:spPr>
          <a:xfrm>
            <a:off x="0" y="4365720"/>
            <a:ext cx="9144000" cy="1655640"/>
          </a:xfrm>
          <a:prstGeom prst="rect">
            <a:avLst/>
          </a:prstGeom>
          <a:solidFill>
            <a:srgbClr val="ebf1de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130"/>
          <p:cNvSpPr/>
          <p:nvPr/>
        </p:nvSpPr>
        <p:spPr>
          <a:xfrm>
            <a:off x="971640" y="45100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卜算子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黄州定慧院寓居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7"/>
          <p:cNvSpPr/>
          <p:nvPr/>
        </p:nvSpPr>
        <p:spPr>
          <a:xfrm>
            <a:off x="1547640" y="5373720"/>
            <a:ext cx="6193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130"/>
          <p:cNvSpPr/>
          <p:nvPr/>
        </p:nvSpPr>
        <p:spPr>
          <a:xfrm>
            <a:off x="3419640" y="54784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八年级语文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971640" y="1709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命的孤独、漂泊无依、孤傲高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250920" y="801720"/>
            <a:ext cx="862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2.“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独往来”“缥缈”写出了一种什么样的情境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260280" y="3014640"/>
            <a:ext cx="8623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谁见幽人独往来？缥缈孤鸿影。”写出了幽人与孤鸿的什么相似之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981000" y="4743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寂寞、孤独、孤芳自赏、洁身自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260280" y="771480"/>
            <a:ext cx="8623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结合具体词句说说下片写出了幽人与孤鸿怎样的品质特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250920" y="2349360"/>
            <a:ext cx="8624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词人以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比兴（象征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法，匠心独运地通过鸿的飘零失所孤独缥缈，惊起回头惊魂未定、怀抱幽恨和选求宿处，表达了作者贬谪黄州时期的孤寂处境和高洁自许、不肯同流合污、坚持操守的心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260280" y="565200"/>
            <a:ext cx="86234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前人认为“恨”字是全词关键。词中“恨”的内容是什么？你是否同意“关键”之说？为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250920" y="2222640"/>
            <a:ext cx="8624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恨的内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封建社会文字狱对人才的摧残。无人理解的忧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同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上片描写缺月、疏桐、漏断、人静、幽人、孤鸿等特定景物，正是由“恨”而生，由于含恨，所以必然产生“拣尽寒枝不肯栖，寂寞沙洲冷”的徘徊心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260280" y="565200"/>
            <a:ext cx="8623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6.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请联系你学过的诗词，说说“鸿雁”这一意象在古典诗词中有哪些含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250920" y="2124000"/>
            <a:ext cx="8624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鸿雁来指代书信，或托鸿雁传书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抒发思乡怀亲之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李清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剪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藕香残玉簟秋，轻解罗衫，独上兰舟，云中谁寄锦书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雁字回时，月满西楼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花自飘零水自流，一种相思，两处闲愁，此情无计可消除，才下眉头，又上心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250920" y="981000"/>
            <a:ext cx="8624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“孤鸿”、“哀鸿”的悲鸣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喻人生遭遇的凄凉悲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李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送魏万之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朝闻游子唱离歌，昨夜微霜初渡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鸿雁不堪愁里听，云山况是客中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关城曙色催寒近，御苑砧声向晚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莫见长安行乐处，空令岁月易蹉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260280" y="907920"/>
            <a:ext cx="86234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鸿雁春秋迁徙，一生漂泊无定，没有依靠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喻人生遭遇的凄凉悲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苏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卜算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月挂疏桐，漏断人初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见幽人独往来？缥缈孤鸿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惊起却回头，有恨无人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拣尽寒枝不肯栖，寂寞沙洲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250920" y="603360"/>
            <a:ext cx="86248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鸿雁翱翔于天际，自由自在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喻一种超然于物外，自由自在的人生境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李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宣州谢脁楼饯别校书叔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弃我去者，昨日之日不可留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乱我心者，今日之日多烦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长风万里送秋雁，对此可以酣高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蓬莱文章建安骨，中间小谢又清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俱怀逸兴壮思飞，欲上青天揽明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刀断水水更流，举杯销愁愁更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生在世不称意，明朝散发弄扁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2"/>
          <p:cNvSpPr/>
          <p:nvPr/>
        </p:nvSpPr>
        <p:spPr>
          <a:xfrm>
            <a:off x="276120" y="1386000"/>
            <a:ext cx="8572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首词的境界，确如黄庭坚所说：“语意高妙，似非吃烟火食人语，非胸中有万卷书，笔下无一点尘俗气，孰能至此！”这种高旷洒脱、绝去尘俗的境界，得益于高妙的艺术技巧。作者“以性灵咏物语”，取神题外，意中设境，托物寓人；在对孤鸿和月夜环境背景的描写中，选景叙事均简约凝练，空灵飞动，含蓄蕴藉，生动传神，具有高度的典型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2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"/>
          <p:cNvSpPr/>
          <p:nvPr/>
        </p:nvSpPr>
        <p:spPr>
          <a:xfrm>
            <a:off x="1378080" y="2378160"/>
            <a:ext cx="638784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准确、流畅、有感情的朗读这首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品读诗词，体会作者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8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8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"/>
          <p:cNvGrpSpPr/>
          <p:nvPr/>
        </p:nvGrpSpPr>
        <p:grpSpPr>
          <a:xfrm>
            <a:off x="1238400" y="1403280"/>
            <a:ext cx="6667200" cy="4743360"/>
            <a:chOff x="1238400" y="1403280"/>
            <a:chExt cx="6667200" cy="4743360"/>
          </a:xfrm>
        </p:grpSpPr>
        <p:pic>
          <p:nvPicPr>
            <p:cNvPr id="91" name="Picture 7" descr="http://img.pcauto.com.cn/images/upload/upc/tx/bbs6/1504/19/c136/5654308_1429448247654_1024x1024.jpg"/>
            <p:cNvPicPr/>
            <p:nvPr/>
          </p:nvPicPr>
          <p:blipFill>
            <a:blip r:embed="rId2"/>
            <a:srcRect l="0" t="0" r="0" b="5156"/>
            <a:stretch/>
          </p:blipFill>
          <p:spPr>
            <a:xfrm>
              <a:off x="1238400" y="1403280"/>
              <a:ext cx="6667200" cy="47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1"/>
            <p:cNvSpPr/>
            <p:nvPr/>
          </p:nvSpPr>
          <p:spPr>
            <a:xfrm>
              <a:off x="5013360" y="15285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f2f2"/>
                  </a:solidFill>
                  <a:latin typeface="黑体"/>
                  <a:ea typeface="黑体"/>
                </a:rPr>
                <a:t>苏轼因乌台诗案下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243000" y="998640"/>
            <a:ext cx="8640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乌台诗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北宋著名的文字狱。元丰二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7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苏轼因与时任宰相的王安石政见不合，出补外官。他看到当时地方官吏执行新法扰民，心中不满，任杭州通判后写了二十多首托事以讽的诗，因而激怒新党。被构陷成罪，囚捕至京，系狱一百三十天。而且牵连甚广，苏轼的友朋故旧被连累处罚的达二十二人。苏轼在狱时自度必死，曾作诗与苏辙诀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250920" y="930240"/>
            <a:ext cx="863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苏轼于“乌台诗案”后谪居黄州，初寓定惠院，后迁临皋亭。这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卜算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是初至黄州在定惠院月夜感兴之作。到黄州之初，亦因罪废之余，灰心杜口，谢绝交往。由于牵连甚广，这时，“平生亲友，无一字见及”，彼此音问，一时尽绝，苏轼不能不深怀幽居离索的内心隐衷。此词以“幽人”自称，就反映了他在这种特定环境下的处境与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468360" y="2022480"/>
            <a:ext cx="504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苏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字子瞻，又字和仲，号“东坡居士”，世称“苏东坡”。和父亲苏洵，弟弟苏辙合称为唐宋八大家中的三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9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824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01" name="Picture 18" descr="未标题-1"/>
            <p:cNvPicPr/>
            <p:nvPr/>
          </p:nvPicPr>
          <p:blipFill>
            <a:blip r:embed="rId2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6"/>
          <p:cNvGrpSpPr/>
          <p:nvPr/>
        </p:nvGrpSpPr>
        <p:grpSpPr>
          <a:xfrm>
            <a:off x="1279080" y="5334120"/>
            <a:ext cx="1513080" cy="436320"/>
            <a:chOff x="1279080" y="5334120"/>
            <a:chExt cx="1513080" cy="436320"/>
          </a:xfrm>
        </p:grpSpPr>
        <p:sp>
          <p:nvSpPr>
            <p:cNvPr id="104" name="圆角矩形标注 7"/>
            <p:cNvSpPr/>
            <p:nvPr/>
          </p:nvSpPr>
          <p:spPr>
            <a:xfrm>
              <a:off x="1279080" y="5334120"/>
              <a:ext cx="1513080" cy="436320"/>
            </a:xfrm>
            <a:prstGeom prst="wedgeRoundRectCallout">
              <a:avLst>
                <a:gd name="adj1" fmla="val -40351"/>
                <a:gd name="adj2" fmla="val -168800"/>
                <a:gd name="adj3" fmla="val 16667"/>
              </a:avLst>
            </a:prstGeom>
            <a:solidFill>
              <a:srgbClr val="dce6f2"/>
            </a:solidFill>
            <a:ln w="3240">
              <a:solidFill>
                <a:srgbClr val="558e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5"/>
            <p:cNvSpPr/>
            <p:nvPr/>
          </p:nvSpPr>
          <p:spPr>
            <a:xfrm>
              <a:off x="1537200" y="53650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图片播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3.卜算子·黄州定慧院寓居作》（朗读）.mp3" descr=""/>
          <p:cNvPicPr/>
          <p:nvPr/>
        </p:nvPicPr>
        <p:blipFill>
          <a:blip r:embed="rId3"/>
          <a:stretch/>
        </p:blipFill>
        <p:spPr>
          <a:xfrm>
            <a:off x="1042920" y="3225960"/>
            <a:ext cx="1500120" cy="149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012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5"/>
          <p:cNvSpPr/>
          <p:nvPr/>
        </p:nvSpPr>
        <p:spPr>
          <a:xfrm>
            <a:off x="1112040" y="70164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反复品读，体会词的意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250920" y="1574640"/>
            <a:ext cx="863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残月高挂在稀疏的梧桐，滴漏声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群开始安静。时常能见幽居人独自往来徘徊，还有有那缥渺高飞的孤雁的身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它突然惊起又回首匆匆，心里有恨却无人能懂。它拣遍了寒冷的树枝不肯栖息，却躲到寂寞的沙洲甘愿受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110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品析诗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13"/>
          <p:cNvSpPr/>
          <p:nvPr/>
        </p:nvSpPr>
        <p:spPr>
          <a:xfrm>
            <a:off x="250920" y="2519280"/>
            <a:ext cx="8632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阕选择残缺之月，疏落孤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漏断尽，一系列寒冷凄清的意象，营造出萧疏凄冷、幽冷寂寞的氛围，为幽人、孤鸿的出场作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景语即情语”，这一冷调色的描写，其实是词人内心孤独寂寞的反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1186560" y="1547640"/>
            <a:ext cx="37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上片首两句营造怎样的氛围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6:44:12Z</dcterms:created>
  <dc:creator>Administrator</dc:creator>
  <dc:description/>
  <dc:language>en-US</dc:language>
  <cp:lastModifiedBy>轻舞飞扬</cp:lastModifiedBy>
  <dcterms:modified xsi:type="dcterms:W3CDTF">2018-04-25T07:10:20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11</vt:lpwstr>
  </property>
</Properties>
</file>