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DCDF-0A00-4C6B-8026-DFEDEE3DD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B81E-69DB-475C-A44B-45FEBE5CD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8896-93F1-4DE2-8384-9F5121F003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35E4-9A51-4269-8DFB-A7A88123A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2DFD-67EE-49CB-90A3-30197415360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666-9112-485F-805F-23467AA6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117-4686-4837-8666-C402FD51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D53-C8C2-4210-9833-7452A356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5B1-BD38-4CCF-9481-3EC35104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B23-7ABA-4C8A-8633-02D44873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D05-19EA-492C-9358-2F8CEA03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A8A-04FE-493C-92FA-11F9CA66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100-5C87-4D59-8C0F-86A703A8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402-F246-4DE4-A103-002E66A4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936-0A26-49CA-933A-1B7DA7FA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FDC-407E-4052-B138-243F3FE5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392-CFE5-4DCB-9C46-4DAB0E85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585D-EFE1-4320-925E-9483C765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240" y="762120"/>
            <a:ext cx="40417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凡的世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选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路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6264000" y="39387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第一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单圆角矩形 5"/>
          <p:cNvSpPr/>
          <p:nvPr/>
        </p:nvSpPr>
        <p:spPr>
          <a:xfrm>
            <a:off x="-23760" y="154080"/>
            <a:ext cx="3724200" cy="769680"/>
          </a:xfrm>
          <a:prstGeom prst="pie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1614600" y="1632960"/>
            <a:ext cx="60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孙少平是怎样养成阅读课外书的习惯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030320" y="3060720"/>
            <a:ext cx="69325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初中最后一年，他在润生家发现了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《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钢铁是怎样炼成的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》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，发现不是介绍炼钢的书，而是讲述保尔的一部书。他借回来并在一天内读完，保尔的故事深深地震撼了他的心灵。从此，他迷恋上了小说，尤其是苏联书。从此，他就养成了阅读课外书的习惯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单圆角矩形 5"/>
          <p:cNvSpPr/>
          <p:nvPr/>
        </p:nvSpPr>
        <p:spPr>
          <a:xfrm>
            <a:off x="-23760" y="154080"/>
            <a:ext cx="3724200" cy="769680"/>
          </a:xfrm>
          <a:prstGeom prst="pie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1614600" y="1632960"/>
            <a:ext cx="60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写孙少平读书时，讲述了哪些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936720" y="2764080"/>
            <a:ext cx="6932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上课看课外书被侯玉英揭发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936720" y="3648240"/>
            <a:ext cx="6932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老师满含亲切与热情把书归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936720" y="4457880"/>
            <a:ext cx="6932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通过读书结识郝红梅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单圆角矩形 5"/>
          <p:cNvSpPr/>
          <p:nvPr/>
        </p:nvSpPr>
        <p:spPr>
          <a:xfrm>
            <a:off x="-23760" y="154080"/>
            <a:ext cx="3724200" cy="769680"/>
          </a:xfrm>
          <a:prstGeom prst="pie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三、归纳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68400" y="3105720"/>
            <a:ext cx="72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最差的伙食，难以果腹。饥饿、贫穷、自卑，种种复杂的情绪都在折磨着孙少平，让他感受到现实的残酷。然而，读书让他感受到未来的美好，领悟到人生的真谛，使他对自己的生活有了美好的憧憬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单圆角矩形 5"/>
          <p:cNvSpPr/>
          <p:nvPr/>
        </p:nvSpPr>
        <p:spPr>
          <a:xfrm>
            <a:off x="-23760" y="154080"/>
            <a:ext cx="3724200" cy="769680"/>
          </a:xfrm>
          <a:prstGeom prst="pie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四、强化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1"/>
          <p:cNvSpPr/>
          <p:nvPr/>
        </p:nvSpPr>
        <p:spPr>
          <a:xfrm>
            <a:off x="1432080" y="1592280"/>
            <a:ext cx="744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孙少平读完</a:t>
            </a:r>
            <a:r>
              <a:rPr b="0" lang="en-US" sz="22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《</a:t>
            </a:r>
            <a:r>
              <a:rPr b="0" lang="zh-CN" sz="2200" spc="-1" strike="noStrike">
                <a:solidFill>
                  <a:srgbClr val="0070c0"/>
                </a:solidFill>
                <a:latin typeface="微软雅黑"/>
                <a:ea typeface="微软雅黑"/>
              </a:rPr>
              <a:t>钢铁是怎样炼成的</a:t>
            </a:r>
            <a:r>
              <a:rPr b="0" lang="en-US" sz="22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》</a:t>
            </a:r>
            <a:r>
              <a:rPr b="0" lang="zh-CN" sz="2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之后有什么感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914400" y="2505240"/>
            <a:ext cx="7261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孙少平陷入说不清楚的思绪中，感觉到双水村外面有一个辽阔的大世界。他意识到：不管什么样的人，或者说不管人在什么样的境况下，都可以活得很好，觉得生活充满了诗情。书中的保尔激励着他，冬妮娅令他难以忘记，孙少平为他俩的分手而热泪盈眶。书的美好让他暂时忘记了冷酷的现实，并从此喜欢上了阅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单圆角矩形 5"/>
          <p:cNvSpPr/>
          <p:nvPr/>
        </p:nvSpPr>
        <p:spPr>
          <a:xfrm>
            <a:off x="-23760" y="154080"/>
            <a:ext cx="3724200" cy="769680"/>
          </a:xfrm>
          <a:prstGeom prst="pie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五、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1014480" y="2806560"/>
            <a:ext cx="726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凡的世界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了解整部书的故事情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rcRect l="0" t="23541" r="0" b="7297"/>
          <a:stretch/>
        </p:blipFill>
        <p:spPr>
          <a:xfrm>
            <a:off x="6203880" y="4738680"/>
            <a:ext cx="2835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单圆角矩形 5"/>
          <p:cNvSpPr/>
          <p:nvPr/>
        </p:nvSpPr>
        <p:spPr>
          <a:xfrm>
            <a:off x="-23760" y="154080"/>
            <a:ext cx="3724200" cy="769680"/>
          </a:xfrm>
          <a:prstGeom prst="pie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378792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新课引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890640" y="2912760"/>
            <a:ext cx="753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平凡就是一种不完美，有缺憾，苦难与抗争的平衡，而生命在缓缓徐行，不会为谁停留。岁月在无声地流逝，一代人在渐渐变老，一代人在渐渐成长，在那苍凉的黄土高原上，亘古不变的是那嘹亮的山丹丹和信天游，每个人都有自己所谓的命运，这命运何其平凡，这世界何其平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单圆角矩形 5"/>
          <p:cNvSpPr/>
          <p:nvPr/>
        </p:nvSpPr>
        <p:spPr>
          <a:xfrm>
            <a:off x="-23760" y="154080"/>
            <a:ext cx="3724200" cy="769680"/>
          </a:xfrm>
          <a:prstGeom prst="pie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397160" y="130500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3867120" y="2917440"/>
            <a:ext cx="44132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4747"/>
                </a:solidFill>
                <a:latin typeface="微软雅黑"/>
                <a:ea typeface="微软雅黑"/>
              </a:rPr>
              <a:t>路遥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1949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－</a:t>
            </a:r>
            <a:r>
              <a:rPr b="0" lang="en-US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1992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原名王卫国，中国当代作家，生于陕北榆林清涧县。代表作有长篇小说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《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平凡的世界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》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，中篇小说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《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人生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》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，短篇小说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《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姐姐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》《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雪中红梅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》《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月夜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》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等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" descr=""/>
          <p:cNvPicPr/>
          <p:nvPr/>
        </p:nvPicPr>
        <p:blipFill>
          <a:blip r:embed="rId1"/>
          <a:stretch/>
        </p:blipFill>
        <p:spPr>
          <a:xfrm>
            <a:off x="762120" y="2127240"/>
            <a:ext cx="26874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单圆角矩形 5"/>
          <p:cNvSpPr/>
          <p:nvPr/>
        </p:nvSpPr>
        <p:spPr>
          <a:xfrm>
            <a:off x="-23760" y="154080"/>
            <a:ext cx="3724200" cy="769680"/>
          </a:xfrm>
          <a:prstGeom prst="pie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971640" y="9709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文体常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318960" y="1815120"/>
            <a:ext cx="8201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小说是通过塑造人物、叙述故事、描写环境来反映生活、表达思想的一种文学体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51000" y="2788200"/>
            <a:ext cx="82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按照不同的分类标准，小说分为不同的类别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按篇幅及其容量可分为长篇小说、中篇小说、短篇小说和微型小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403200" y="4032000"/>
            <a:ext cx="8201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按内容分可分为历史小说、现代小说、科幻小说、公案小说、武侠小说、言情小说、传奇小说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98520" y="5177520"/>
            <a:ext cx="8200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按写作体例可分为章回体小说、日记体小说、书信体小说、自传体小说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单圆角矩形 5"/>
          <p:cNvSpPr/>
          <p:nvPr/>
        </p:nvSpPr>
        <p:spPr>
          <a:xfrm>
            <a:off x="-23760" y="154080"/>
            <a:ext cx="3724200" cy="769680"/>
          </a:xfrm>
          <a:prstGeom prst="pie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777960" y="14299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字词注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34920" y="2263680"/>
            <a:ext cx="71438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逛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guàng</a:t>
            </a:r>
            <a:r>
              <a:rPr b="0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）荡     贪婪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lán</a:t>
            </a:r>
            <a:r>
              <a:rPr b="0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）    朦胧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méng lóng</a:t>
            </a:r>
            <a:r>
              <a:rPr b="0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震撼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àn</a:t>
            </a:r>
            <a:r>
              <a:rPr b="0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）    被褥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rù</a:t>
            </a:r>
            <a:r>
              <a:rPr b="0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）  僻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pì</a:t>
            </a:r>
            <a:r>
              <a:rPr b="0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）静      跛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bǒ</a:t>
            </a:r>
            <a:r>
              <a:rPr b="0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单圆角矩形 5"/>
          <p:cNvSpPr/>
          <p:nvPr/>
        </p:nvSpPr>
        <p:spPr>
          <a:xfrm>
            <a:off x="-23760" y="154080"/>
            <a:ext cx="3724200" cy="769680"/>
          </a:xfrm>
          <a:prstGeom prst="pie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777960" y="126648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解释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4485960" y="2146320"/>
            <a:ext cx="7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寒酸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逛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寒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贪婪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幸灾乐祸：指人缺乏善意，在别人遇到灾祸时感到高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谴责：对荒谬言行或错误政策进行严厉责备，带有庄重色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413000" y="2011320"/>
            <a:ext cx="65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6767"/>
                </a:solidFill>
                <a:latin typeface="微软雅黑"/>
                <a:ea typeface="微软雅黑"/>
              </a:rPr>
              <a:t>形容贫苦读书人的穷困、窘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430280" y="3624120"/>
            <a:ext cx="55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6767"/>
                </a:solidFill>
                <a:latin typeface="微软雅黑"/>
                <a:ea typeface="微软雅黑"/>
              </a:rPr>
              <a:t>丢人，有失体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07960" y="2765520"/>
            <a:ext cx="45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6767"/>
                </a:solidFill>
                <a:latin typeface="微软雅黑"/>
                <a:ea typeface="微软雅黑"/>
              </a:rPr>
              <a:t>无目的地或好像无目的地闲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430280" y="420516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6767"/>
                </a:solidFill>
                <a:latin typeface="微软雅黑"/>
                <a:ea typeface="微软雅黑"/>
              </a:rPr>
              <a:t>渴望而不知满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5"/>
          <p:cNvSpPr/>
          <p:nvPr/>
        </p:nvSpPr>
        <p:spPr>
          <a:xfrm>
            <a:off x="-23760" y="154080"/>
            <a:ext cx="3724200" cy="769680"/>
          </a:xfrm>
          <a:prstGeom prst="pie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90400" y="109332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作品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74640" y="3131280"/>
            <a:ext cx="79916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《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平凡的世界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》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是中国作家路遥创作的一部百万字的小说。这是一部全景式地表现中国当代城乡社会生活的长篇小说，全书共三部。该书以中国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70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年代中期到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80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年代中期十年间为背景，通过复杂的矛盾纠葛，以孙少安和孙少平两兄弟为中心，刻画了当时社会各阶层众多普通人的形象；劳动与爱情、挫折与追求、痛苦与欢乐、日常生活与巨大社会冲突纷繁地交织在一起，深刻地展示了普通人在大时代历史进程中所走过的艰难曲折的道路。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1991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年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3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月，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《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平凡的世界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》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获中国第三届茅盾文学奖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单圆角矩形 5"/>
          <p:cNvSpPr/>
          <p:nvPr/>
        </p:nvSpPr>
        <p:spPr>
          <a:xfrm>
            <a:off x="-23760" y="154080"/>
            <a:ext cx="3724200" cy="769680"/>
          </a:xfrm>
          <a:prstGeom prst="pie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590400" y="109332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故事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590400" y="3206160"/>
            <a:ext cx="81345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1975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年二三月间，在荒凉的黄土高原上，孙少平刚考上县立高中。他出身于一个贫寒家庭，家境十分凄凉，父母年老体弱，妹妹在上学，还有瘫痪的老祖母，整个家庭都靠</a:t>
            </a:r>
            <a:r>
              <a:rPr b="0" lang="en-US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23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岁的哥哥孙少安支撑。他只能靠几个黑高粱面馍充饥。半天课半天劳动的学习生活使他备尝饥肠辘辘的折磨。他非常自卑，虽然他的个子在班上是最高的，但他总觉得自己低人一头。但是“贫困又使他过分地自尊。他常常感到别人在嘲笑他的寒酸，因此对一切家境好的同学内心中有一种变态的对立情绪”。幸好，他有自己的发泄方式，才使得他没有转入偏执之中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单圆角矩形 5"/>
          <p:cNvSpPr/>
          <p:nvPr/>
        </p:nvSpPr>
        <p:spPr>
          <a:xfrm>
            <a:off x="-23760" y="154080"/>
            <a:ext cx="3724200" cy="769680"/>
          </a:xfrm>
          <a:prstGeom prst="pie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704880" y="192348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对于贫困所带来的自卑心理，孙少平是如何宣泄情绪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442800" y="2959200"/>
            <a:ext cx="8132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他喜欢在城里漫无目的地转悠，以此获得前所未有的新奇印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42800" y="4013280"/>
            <a:ext cx="5181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他还养成了阅读课外书的习惯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 </dc:creator>
  <dc:description/>
  <dc:language>en-US</dc:language>
  <cp:lastModifiedBy>微软用户</cp:lastModifiedBy>
  <dcterms:modified xsi:type="dcterms:W3CDTF">2018-10-06T12:55:07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