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5.jpeg" ContentType="image/jpeg"/>
  <Override PartName="/ppt/media/image6.png" ContentType="image/png"/>
  <Override PartName="/ppt/media/image7.gif" ContentType="image/gif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1861-F043-411E-985E-ABA110E4B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431A-5F34-4455-91AA-CAEFA11D0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B068-3DF4-4DCC-A897-A9E9C8CD8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F85D-DE3F-494E-8ACC-B9E4F3D97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ED92-36E3-4812-90B5-231415ADC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A688-714B-4020-BE4A-760F77070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E043-E8D6-4E5E-9A54-ACDD67C82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6ED6-1A1D-4F64-B563-9E4F281E1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2A12-62FF-4B88-B915-052D1FBAE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8307-2DB0-4A76-B5A2-C79E7A47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E02B-151D-4BCB-A710-EEC6B8A1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26C8-ECA2-41F5-9E42-0C91C80B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2C9D1-23E7-4817-9698-31149FF2511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rcRect l="0" t="3357" r="0" b="2690"/>
          <a:stretch/>
        </p:blipFill>
        <p:spPr>
          <a:xfrm>
            <a:off x="762120" y="1447920"/>
            <a:ext cx="6476760" cy="4267080"/>
          </a:xfrm>
          <a:prstGeom prst="rect">
            <a:avLst/>
          </a:prstGeom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</p:pic>
      <p:sp>
        <p:nvSpPr>
          <p:cNvPr id="42" name=""/>
          <p:cNvSpPr/>
          <p:nvPr/>
        </p:nvSpPr>
        <p:spPr>
          <a:xfrm>
            <a:off x="7633080" y="990720"/>
            <a:ext cx="790200" cy="2022480"/>
          </a:xfrm>
          <a:prstGeom prst="rect">
            <a:avLst/>
          </a:prstGeom>
          <a:noFill/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99ff"/>
                </a:solidFill>
                <a:latin typeface="Times New Roman"/>
                <a:ea typeface="黑体"/>
              </a:rPr>
              <a:t>红军长征路线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 flipH="1" rot="10800000">
            <a:off x="228600" y="75960"/>
            <a:ext cx="8839080" cy="201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33520" y="838080"/>
            <a:ext cx="4952880" cy="46483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988040" y="378000"/>
            <a:ext cx="729000" cy="258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第十四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 rot="5400000">
            <a:off x="4343040" y="2819160"/>
            <a:ext cx="4876920" cy="914400"/>
          </a:xfrm>
          <a:prstGeom prst="rect">
            <a:avLst/>
          </a:prstGeom>
        </p:spPr>
        <p:txBody>
          <a:bodyPr wrap="none" lIns="90000" rIns="90000" tIns="46800" bIns="46800" anchor="ctr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黑体"/>
              </a:rPr>
              <a:t>彭德怀和他的大黑骡子</a:t>
            </a:r>
            <a:endParaRPr b="0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33520" y="1752480"/>
            <a:ext cx="2438280" cy="33530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1219320" y="5257800"/>
            <a:ext cx="10666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宋体"/>
              </a:rPr>
              <a:t>彭德怀</a:t>
            </a:r>
            <a:endParaRPr b="0" lang="en-US" sz="24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宋体"/>
              <a:ea typeface="宋体"/>
            </a:endParaRPr>
          </a:p>
        </p:txBody>
      </p:sp>
      <p:sp>
        <p:nvSpPr>
          <p:cNvPr id="49" name=""/>
          <p:cNvSpPr/>
          <p:nvPr/>
        </p:nvSpPr>
        <p:spPr>
          <a:xfrm>
            <a:off x="3657600" y="2089080"/>
            <a:ext cx="51814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彭德怀（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1898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～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1974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）无产阶级革命家，军事家，政治家，中国人民解放军创建人和领导人之一，中华人民共和国元帅。原名得华，号石穿，湖南湘潭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87840" y="939960"/>
            <a:ext cx="26798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----</a:t>
            </a:r>
            <a:r>
              <a:rPr b="0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生平简介</a:t>
            </a:r>
            <a:r>
              <a:rPr b="0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---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33520" y="1752480"/>
            <a:ext cx="2438280" cy="33530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1219320" y="5257800"/>
            <a:ext cx="10666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宋体"/>
              </a:rPr>
              <a:t>彭德怀</a:t>
            </a:r>
            <a:endParaRPr b="0" lang="en-US" sz="24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宋体"/>
              <a:ea typeface="宋体"/>
            </a:endParaRPr>
          </a:p>
        </p:txBody>
      </p:sp>
      <p:sp>
        <p:nvSpPr>
          <p:cNvPr id="53" name=""/>
          <p:cNvSpPr/>
          <p:nvPr/>
        </p:nvSpPr>
        <p:spPr>
          <a:xfrm>
            <a:off x="3657600" y="2057400"/>
            <a:ext cx="48769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1916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年入湘军当兵。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1922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年改名德怀，考入湖南陆军军官讲武堂。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1926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年随部队编入国民革命军，参加北伐战争。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1928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年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4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月加入中国共产党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87840" y="939960"/>
            <a:ext cx="26798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----</a:t>
            </a:r>
            <a:r>
              <a:rPr b="0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生平简介</a:t>
            </a:r>
            <a:r>
              <a:rPr b="0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---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33520" y="1752480"/>
            <a:ext cx="2438280" cy="33530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1219320" y="5257800"/>
            <a:ext cx="10666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宋体"/>
              </a:rPr>
              <a:t>彭德怀</a:t>
            </a:r>
            <a:endParaRPr b="0" lang="en-US" sz="24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宋体"/>
              <a:ea typeface="宋体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752480"/>
            <a:ext cx="5410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同年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7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月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22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日与滕代远、黄公略等领导平江起义，组建中国工农红军第五军，任军长兼第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13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师师长。建立湘鄂赣三省边界革命根据地，后率第五军主力到达井冈山，与毛泽东、朱德领导的第四军会师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87840" y="939960"/>
            <a:ext cx="26798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----</a:t>
            </a:r>
            <a:r>
              <a:rPr b="0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生平简介</a:t>
            </a:r>
            <a:r>
              <a:rPr b="0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---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33520" y="1752480"/>
            <a:ext cx="2438280" cy="33530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1219320" y="5257800"/>
            <a:ext cx="10666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宋体"/>
              </a:rPr>
              <a:t>彭德怀</a:t>
            </a:r>
            <a:endParaRPr b="0" lang="en-US" sz="24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宋体"/>
              <a:ea typeface="宋体"/>
            </a:endParaRPr>
          </a:p>
        </p:txBody>
      </p:sp>
      <p:sp>
        <p:nvSpPr>
          <p:cNvPr id="61" name=""/>
          <p:cNvSpPr/>
          <p:nvPr/>
        </p:nvSpPr>
        <p:spPr>
          <a:xfrm>
            <a:off x="3962520" y="1447920"/>
            <a:ext cx="441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谈起彭德怀这个名字，无数人会从心中升腾起敬佩和感叹。战争年代，毛泽东曾为他赋诗—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365760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            “</a:t>
            </a:r>
            <a:r>
              <a:rPr b="0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谁敢横刀立马，唯我彭大将军”。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74040" y="762120"/>
            <a:ext cx="233244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----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诗赞彭德怀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---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3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33520" y="1752480"/>
            <a:ext cx="2438280" cy="33530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1219320" y="5257800"/>
            <a:ext cx="10666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宋体"/>
              </a:rPr>
              <a:t>彭德怀</a:t>
            </a:r>
            <a:endParaRPr b="0" lang="en-US" sz="24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宋体"/>
              <a:ea typeface="宋体"/>
            </a:endParaRPr>
          </a:p>
        </p:txBody>
      </p:sp>
      <p:sp>
        <p:nvSpPr>
          <p:cNvPr id="66" name=""/>
          <p:cNvSpPr/>
          <p:nvPr/>
        </p:nvSpPr>
        <p:spPr>
          <a:xfrm>
            <a:off x="4874040" y="762120"/>
            <a:ext cx="233244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----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诗赞彭德怀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---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4114800"/>
            <a:ext cx="17082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　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zh-CN" sz="1000" spc="-1" strike="noStrike">
                <a:solidFill>
                  <a:srgbClr val="000000"/>
                </a:solidFill>
                <a:latin typeface="宋体"/>
              </a:rPr>
              <a:t>　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5217480" y="1600200"/>
            <a:ext cx="2290320" cy="3735720"/>
            <a:chOff x="5217480" y="1600200"/>
            <a:chExt cx="2290320" cy="3735720"/>
          </a:xfrm>
        </p:grpSpPr>
        <p:sp>
          <p:nvSpPr>
            <p:cNvPr id="69" name=""/>
            <p:cNvSpPr/>
            <p:nvPr/>
          </p:nvSpPr>
          <p:spPr>
            <a:xfrm>
              <a:off x="5366160" y="1600200"/>
              <a:ext cx="164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永怀彭大将军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38520" y="2209680"/>
              <a:ext cx="146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---</a:t>
              </a:r>
              <a:r>
                <a:rPr b="0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上将张爱萍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376240" y="2743200"/>
              <a:ext cx="2131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横刀立马为民谋，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252480" y="3429000"/>
              <a:ext cx="37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晚景凄凉千古忧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217480" y="4114800"/>
              <a:ext cx="2283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宋体"/>
                </a:rPr>
                <a:t>　</a:t>
              </a:r>
              <a:r>
                <a:rPr b="0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刚正不阿耻权术，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246000" y="4754520"/>
              <a:ext cx="37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万言上书誉神州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57200" y="152280"/>
            <a:ext cx="8305920" cy="763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905120" y="2209680"/>
            <a:ext cx="76176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黑体"/>
              </a:rPr>
              <a:t>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06560" y="838080"/>
            <a:ext cx="866520" cy="916920"/>
          </a:xfrm>
          <a:prstGeom prst="rect">
            <a:avLst/>
          </a:prstGeom>
          <a:solidFill>
            <a:srgbClr val="6699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  <a:ea typeface="黑体"/>
              </a:rPr>
              <a:t>读一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22240" y="2224080"/>
            <a:ext cx="91224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黑体"/>
              </a:rPr>
              <a:t>骡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49600" y="2224080"/>
            <a:ext cx="54648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黑体"/>
              </a:rPr>
              <a:t>驮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66920" y="2209680"/>
            <a:ext cx="91224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黑体"/>
              </a:rPr>
              <a:t>军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3581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62320" y="4343400"/>
            <a:ext cx="164376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黑体"/>
              </a:rPr>
              <a:t>燃眉之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96560" y="3276720"/>
            <a:ext cx="54648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黑体"/>
              </a:rPr>
              <a:t>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445920" y="3276720"/>
            <a:ext cx="91224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黑体"/>
              </a:rPr>
              <a:t>御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22440" y="3276720"/>
            <a:ext cx="91224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黑体"/>
              </a:rPr>
              <a:t>艰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798600" y="3276720"/>
            <a:ext cx="91224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黑体"/>
              </a:rPr>
              <a:t>怒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823360" y="4343400"/>
            <a:ext cx="164376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黑体"/>
              </a:rPr>
              <a:t>饥寒交迫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05120" y="3886200"/>
            <a:ext cx="62481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914400" y="1447920"/>
            <a:ext cx="36576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99ff33"/>
                  </a:solidFill>
                  <a:miter/>
                </a:ln>
                <a:solidFill>
                  <a:srgbClr val="ffff00"/>
                </a:solidFill>
                <a:latin typeface="华文行楷"/>
              </a:rPr>
              <a:t>谢谢同学们</a:t>
            </a:r>
            <a:endParaRPr b="0" lang="en-US" sz="2400" spc="1" strike="noStrike">
              <a:ln w="9360">
                <a:solidFill>
                  <a:srgbClr val="99ff33"/>
                </a:solidFill>
                <a:miter/>
              </a:ln>
              <a:solidFill>
                <a:srgbClr val="ffff00"/>
              </a:soli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4T14:37:36Z</dcterms:created>
  <dc:creator>rr</dc:creator>
  <dc:description/>
  <dc:language>en-US</dc:language>
  <cp:lastModifiedBy>dj</cp:lastModifiedBy>
  <dcterms:modified xsi:type="dcterms:W3CDTF">2005-03-25T00:44:33Z</dcterms:modified>
  <cp:revision>16</cp:revision>
  <dc:subject/>
  <dc:title>PowerPoint 演示文稿</dc:title>
</cp:coreProperties>
</file>