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74CAE-D6AB-4574-9742-38C16FEFF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00C7E-5A0B-4375-AED1-80D3B0443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A677D-8A48-48DF-8DB5-6107671FA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391C1-15DD-41DE-906D-FB8E3376A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F12FA-EB06-4D10-8612-41A5E8B82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F5386-3B40-47DC-9892-AC02A4A38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4FFCA-1417-46A8-8ADC-B545922B2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3ECF9-58AA-4DD6-B6EF-461BBF725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0635E-7326-4C9A-B02B-1F625698A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8A2A3-9E76-4BB1-B9C8-3CD3E63C1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ADA56-DA87-4CA5-A4A3-EC21EB29E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D9E85-D6EB-46F2-9A01-C743249DD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4BCAA-F5A4-4D80-8ABE-EA5C424C76E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2T17:46:36Z</dcterms:created>
  <dc:creator>somebody</dc:creator>
  <dc:description/>
  <dc:language>en-US</dc:language>
  <cp:lastModifiedBy>somebody</cp:lastModifiedBy>
  <dcterms:modified xsi:type="dcterms:W3CDTF">2012-06-22T17:46:46Z</dcterms:modified>
  <cp:revision>1</cp:revision>
  <dc:subject/>
  <dc:title>幻灯片 1</dc:title>
</cp:coreProperties>
</file>