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26.gif" ContentType="image/gif"/>
  <Override PartName="/ppt/media/image18.jpeg" ContentType="image/jpeg"/>
  <Override PartName="/ppt/media/image4.gif" ContentType="image/gif"/>
  <Override PartName="/ppt/media/type.wav" ContentType="audio/x-wav"/>
  <Override PartName="/ppt/media/image17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23.jpeg" ContentType="image/jpeg"/>
  <Override PartName="/ppt/media/image2.jpeg" ContentType="image/jpeg"/>
  <Override PartName="/ppt/media/image24.png" ContentType="image/png"/>
  <Override PartName="/ppt/media/image25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breeze.wav" ContentType="audio/x-wav"/>
  <Override PartName="/ppt/media/image22.jpeg" ContentType="image/jpeg"/>
  <Override PartName="/ppt/media/image9.png" ContentType="image/png"/>
  <Override PartName="/ppt/media/laser.wav" ContentType="audio/x-wav"/>
  <Override PartName="/ppt/media/image16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click.wav" ContentType="audio/x-wav"/>
  <Override PartName="/ppt/media/image5.jpeg" ContentType="image/jpeg"/>
  <Override PartName="/ppt/media/explod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819-952D-4742-842C-F105FADD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97B-1D06-4154-9373-42E0CC20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13E-732A-4841-B4AC-875C2A1A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9D1-6815-4359-A838-EFFBFDA4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69B-3E6F-4E32-B5AD-EC06A442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222-B0DF-4D1F-B625-8D550278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E10-D73A-47A6-BEA7-795CFE44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730-AB28-4F87-9C44-5A549E9A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9B6-BA27-4D2E-BF64-3BA9E7FF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3E4-6DF6-4841-AED4-FDF3097F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E8B-7A6B-4293-976F-3BBEE438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E03-AE16-4EE2-8846-D4AF0431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8E79-D441-4749-AF06-1B6983E884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explode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audio" Target="../media/click.wav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" Target="slide11.xml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1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hyperlink" Target="http://hi.baidu.com/chuzhulu/album/item/bc17f7810d42cdcd9123d99b.html" TargetMode="External"/><Relationship Id="rId4" Type="http://schemas.openxmlformats.org/officeDocument/2006/relationships/image" Target="../media/image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" Target="slide20.xml"/><Relationship Id="rId5" Type="http://schemas.openxmlformats.org/officeDocument/2006/relationships/image" Target="../media/image6.png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.xml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5.xml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337080" cy="633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685560" y="692280"/>
            <a:ext cx="2009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文鼎霹雳体"/>
              </a:rPr>
              <a:t>南州六月荔枝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71560" y="4005360"/>
            <a:ext cx="13993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迷你简启体"/>
              </a:rPr>
              <a:t>贾祖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71640" y="105264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答题格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2276640"/>
            <a:ext cx="85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答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(1)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不能删去。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(2)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因为“通常”意为一般情况，即普通的荔枝大小大多是直径三四厘米，但不包括所有，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(3)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如删去则太绝对，与事实不符。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(4)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这体现了说明文语言的准确性和严密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28920" cy="1822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244000" y="333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3" name="chimes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29040" y="32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荔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2205000"/>
            <a:ext cx="432000" cy="2592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6560" y="184464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8560" y="350028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58560" y="83664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1640" y="14130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31640" y="249228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1640" y="19890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6560" y="44370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907920"/>
            <a:ext cx="73080" cy="1873440"/>
          </a:xfrm>
          <a:custGeom>
            <a:avLst/>
            <a:gdLst>
              <a:gd name="textAreaLeft" fmla="*/ 46800 w 73080"/>
              <a:gd name="textAreaRight" fmla="*/ 73440 w 73080"/>
              <a:gd name="textAreaTop" fmla="*/ 48600 h 1873440"/>
              <a:gd name="textAreaBottom" fmla="*/ 1824840 h 18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3429000"/>
            <a:ext cx="288720" cy="1728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1640" y="50133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8560" y="42210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20520" y="4967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20520" y="4175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20520" y="3527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20520" y="2519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20520" y="1943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0520" y="14400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48880" y="79056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141300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外部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360" y="4076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内部构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54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果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1125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19640" y="1700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果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9640" y="227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大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43480" y="327168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400536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479736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2708280"/>
            <a:ext cx="935280" cy="936720"/>
          </a:xfrm>
          <a:prstGeom prst="downArrow">
            <a:avLst>
              <a:gd name="adj1" fmla="val 50000"/>
              <a:gd name="adj2" fmla="val 25038"/>
            </a:avLst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64040" y="2133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90960" y="35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4211640" y="6165720"/>
            <a:ext cx="504720" cy="21600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24" h="21600">
                <a:moveTo>
                  <a:pt x="0" y="0"/>
                </a:moveTo>
                <a:lnTo>
                  <a:pt x="50424" y="0"/>
                </a:lnTo>
                <a:lnTo>
                  <a:pt x="50424" y="21600"/>
                </a:lnTo>
                <a:lnTo>
                  <a:pt x="0" y="21600"/>
                </a:lnTo>
                <a:close/>
              </a:path>
              <a:path fill="lightenLess" w="50424" h="21600">
                <a:moveTo>
                  <a:pt x="0" y="0"/>
                </a:moveTo>
                <a:lnTo>
                  <a:pt x="50424" y="0"/>
                </a:lnTo>
                <a:lnTo>
                  <a:pt x="49024" y="1400"/>
                </a:lnTo>
                <a:lnTo>
                  <a:pt x="1400" y="1400"/>
                </a:lnTo>
                <a:close/>
              </a:path>
              <a:path fill="darken" w="50424" h="21600">
                <a:moveTo>
                  <a:pt x="50424" y="0"/>
                </a:moveTo>
                <a:lnTo>
                  <a:pt x="50424" y="21600"/>
                </a:lnTo>
                <a:lnTo>
                  <a:pt x="49024" y="20200"/>
                </a:lnTo>
                <a:lnTo>
                  <a:pt x="49024" y="1400"/>
                </a:lnTo>
                <a:close/>
              </a:path>
              <a:path fill="darkenLess" w="50424" h="21600">
                <a:moveTo>
                  <a:pt x="50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24" y="20200"/>
                </a:lnTo>
                <a:close/>
              </a:path>
              <a:path fill="lighten" w="50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24" h="21600">
                <a:moveTo>
                  <a:pt x="18205" y="10800"/>
                </a:moveTo>
                <a:lnTo>
                  <a:pt x="32218" y="3794"/>
                </a:lnTo>
                <a:lnTo>
                  <a:pt x="32218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59640" y="907920"/>
            <a:ext cx="360360" cy="144720"/>
          </a:xfrm>
          <a:custGeom>
            <a:avLst/>
            <a:gdLst>
              <a:gd name="textAreaLeft" fmla="*/ 9360 w 360360"/>
              <a:gd name="textAreaRight" fmla="*/ 351000 w 36036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53705" h="21600">
                <a:moveTo>
                  <a:pt x="0" y="0"/>
                </a:moveTo>
                <a:lnTo>
                  <a:pt x="53705" y="0"/>
                </a:lnTo>
                <a:lnTo>
                  <a:pt x="53705" y="21600"/>
                </a:lnTo>
                <a:lnTo>
                  <a:pt x="0" y="21600"/>
                </a:lnTo>
                <a:close/>
              </a:path>
              <a:path fill="lightenLess" w="53705" h="21600">
                <a:moveTo>
                  <a:pt x="0" y="0"/>
                </a:moveTo>
                <a:lnTo>
                  <a:pt x="53705" y="0"/>
                </a:lnTo>
                <a:lnTo>
                  <a:pt x="52305" y="1400"/>
                </a:lnTo>
                <a:lnTo>
                  <a:pt x="1400" y="1400"/>
                </a:lnTo>
                <a:close/>
              </a:path>
              <a:path fill="darken" w="53705" h="21600">
                <a:moveTo>
                  <a:pt x="53705" y="0"/>
                </a:moveTo>
                <a:lnTo>
                  <a:pt x="53705" y="21600"/>
                </a:lnTo>
                <a:lnTo>
                  <a:pt x="52305" y="20200"/>
                </a:lnTo>
                <a:lnTo>
                  <a:pt x="52305" y="1400"/>
                </a:lnTo>
                <a:close/>
              </a:path>
              <a:path fill="darkenLess" w="53705" h="21600">
                <a:moveTo>
                  <a:pt x="53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5" y="20200"/>
                </a:lnTo>
                <a:close/>
              </a:path>
              <a:path fill="lighten" w="53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5" h="21600">
                <a:moveTo>
                  <a:pt x="19846" y="3794"/>
                </a:moveTo>
                <a:lnTo>
                  <a:pt x="33859" y="10800"/>
                </a:lnTo>
                <a:lnTo>
                  <a:pt x="198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6659640" y="2060640"/>
            <a:ext cx="360360" cy="144360"/>
          </a:xfrm>
          <a:custGeom>
            <a:avLst/>
            <a:gdLst>
              <a:gd name="textAreaLeft" fmla="*/ 9360 w 360360"/>
              <a:gd name="textAreaRight" fmla="*/ 351000 w 360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53839" h="21600">
                <a:moveTo>
                  <a:pt x="0" y="0"/>
                </a:moveTo>
                <a:lnTo>
                  <a:pt x="53839" y="0"/>
                </a:lnTo>
                <a:lnTo>
                  <a:pt x="53839" y="21600"/>
                </a:lnTo>
                <a:lnTo>
                  <a:pt x="0" y="21600"/>
                </a:lnTo>
                <a:close/>
              </a:path>
              <a:path fill="lightenLess" w="53839" h="21600">
                <a:moveTo>
                  <a:pt x="0" y="0"/>
                </a:moveTo>
                <a:lnTo>
                  <a:pt x="53839" y="0"/>
                </a:lnTo>
                <a:lnTo>
                  <a:pt x="52439" y="1400"/>
                </a:lnTo>
                <a:lnTo>
                  <a:pt x="1400" y="1400"/>
                </a:lnTo>
                <a:close/>
              </a:path>
              <a:path fill="darken" w="53839" h="21600">
                <a:moveTo>
                  <a:pt x="53839" y="0"/>
                </a:moveTo>
                <a:lnTo>
                  <a:pt x="53839" y="21600"/>
                </a:lnTo>
                <a:lnTo>
                  <a:pt x="52439" y="20200"/>
                </a:lnTo>
                <a:lnTo>
                  <a:pt x="52439" y="1400"/>
                </a:lnTo>
                <a:close/>
              </a:path>
              <a:path fill="darkenLess" w="53839" h="21600">
                <a:moveTo>
                  <a:pt x="53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39" y="20200"/>
                </a:lnTo>
                <a:close/>
              </a:path>
              <a:path fill="lighten" w="53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39" h="21600">
                <a:moveTo>
                  <a:pt x="19913" y="3794"/>
                </a:moveTo>
                <a:lnTo>
                  <a:pt x="33926" y="10800"/>
                </a:lnTo>
                <a:lnTo>
                  <a:pt x="199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6659640" y="1484280"/>
            <a:ext cx="360360" cy="144360"/>
          </a:xfrm>
          <a:custGeom>
            <a:avLst/>
            <a:gdLst>
              <a:gd name="textAreaLeft" fmla="*/ 9360 w 360360"/>
              <a:gd name="textAreaRight" fmla="*/ 351000 w 360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53839" h="21600">
                <a:moveTo>
                  <a:pt x="0" y="0"/>
                </a:moveTo>
                <a:lnTo>
                  <a:pt x="53839" y="0"/>
                </a:lnTo>
                <a:lnTo>
                  <a:pt x="53839" y="21600"/>
                </a:lnTo>
                <a:lnTo>
                  <a:pt x="0" y="21600"/>
                </a:lnTo>
                <a:close/>
              </a:path>
              <a:path fill="lightenLess" w="53839" h="21600">
                <a:moveTo>
                  <a:pt x="0" y="0"/>
                </a:moveTo>
                <a:lnTo>
                  <a:pt x="53839" y="0"/>
                </a:lnTo>
                <a:lnTo>
                  <a:pt x="52439" y="1400"/>
                </a:lnTo>
                <a:lnTo>
                  <a:pt x="1400" y="1400"/>
                </a:lnTo>
                <a:close/>
              </a:path>
              <a:path fill="darken" w="53839" h="21600">
                <a:moveTo>
                  <a:pt x="53839" y="0"/>
                </a:moveTo>
                <a:lnTo>
                  <a:pt x="53839" y="21600"/>
                </a:lnTo>
                <a:lnTo>
                  <a:pt x="52439" y="20200"/>
                </a:lnTo>
                <a:lnTo>
                  <a:pt x="52439" y="1400"/>
                </a:lnTo>
                <a:close/>
              </a:path>
              <a:path fill="darkenLess" w="53839" h="21600">
                <a:moveTo>
                  <a:pt x="53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39" y="20200"/>
                </a:lnTo>
                <a:close/>
              </a:path>
              <a:path fill="lighten" w="53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39" h="21600">
                <a:moveTo>
                  <a:pt x="19913" y="3794"/>
                </a:moveTo>
                <a:lnTo>
                  <a:pt x="33926" y="10800"/>
                </a:lnTo>
                <a:lnTo>
                  <a:pt x="199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2637000"/>
            <a:ext cx="360360" cy="144360"/>
          </a:xfrm>
          <a:custGeom>
            <a:avLst/>
            <a:gdLst>
              <a:gd name="textAreaLeft" fmla="*/ 9360 w 360360"/>
              <a:gd name="textAreaRight" fmla="*/ 351000 w 360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53839" h="21600">
                <a:moveTo>
                  <a:pt x="0" y="0"/>
                </a:moveTo>
                <a:lnTo>
                  <a:pt x="53839" y="0"/>
                </a:lnTo>
                <a:lnTo>
                  <a:pt x="53839" y="21600"/>
                </a:lnTo>
                <a:lnTo>
                  <a:pt x="0" y="21600"/>
                </a:lnTo>
                <a:close/>
              </a:path>
              <a:path fill="lightenLess" w="53839" h="21600">
                <a:moveTo>
                  <a:pt x="0" y="0"/>
                </a:moveTo>
                <a:lnTo>
                  <a:pt x="53839" y="0"/>
                </a:lnTo>
                <a:lnTo>
                  <a:pt x="52439" y="1400"/>
                </a:lnTo>
                <a:lnTo>
                  <a:pt x="1400" y="1400"/>
                </a:lnTo>
                <a:close/>
              </a:path>
              <a:path fill="darken" w="53839" h="21600">
                <a:moveTo>
                  <a:pt x="53839" y="0"/>
                </a:moveTo>
                <a:lnTo>
                  <a:pt x="53839" y="21600"/>
                </a:lnTo>
                <a:lnTo>
                  <a:pt x="52439" y="20200"/>
                </a:lnTo>
                <a:lnTo>
                  <a:pt x="52439" y="1400"/>
                </a:lnTo>
                <a:close/>
              </a:path>
              <a:path fill="darkenLess" w="53839" h="21600">
                <a:moveTo>
                  <a:pt x="53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39" y="20200"/>
                </a:lnTo>
                <a:close/>
              </a:path>
              <a:path fill="lighten" w="53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39" h="21600">
                <a:moveTo>
                  <a:pt x="19913" y="3794"/>
                </a:moveTo>
                <a:lnTo>
                  <a:pt x="33926" y="10800"/>
                </a:lnTo>
                <a:lnTo>
                  <a:pt x="199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3500280"/>
            <a:ext cx="360360" cy="144720"/>
          </a:xfrm>
          <a:custGeom>
            <a:avLst/>
            <a:gdLst>
              <a:gd name="textAreaLeft" fmla="*/ 9360 w 360360"/>
              <a:gd name="textAreaRight" fmla="*/ 351000 w 36036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53705" h="21600">
                <a:moveTo>
                  <a:pt x="0" y="0"/>
                </a:moveTo>
                <a:lnTo>
                  <a:pt x="53705" y="0"/>
                </a:lnTo>
                <a:lnTo>
                  <a:pt x="53705" y="21600"/>
                </a:lnTo>
                <a:lnTo>
                  <a:pt x="0" y="21600"/>
                </a:lnTo>
                <a:close/>
              </a:path>
              <a:path fill="lightenLess" w="53705" h="21600">
                <a:moveTo>
                  <a:pt x="0" y="0"/>
                </a:moveTo>
                <a:lnTo>
                  <a:pt x="53705" y="0"/>
                </a:lnTo>
                <a:lnTo>
                  <a:pt x="52305" y="1400"/>
                </a:lnTo>
                <a:lnTo>
                  <a:pt x="1400" y="1400"/>
                </a:lnTo>
                <a:close/>
              </a:path>
              <a:path fill="darken" w="53705" h="21600">
                <a:moveTo>
                  <a:pt x="53705" y="0"/>
                </a:moveTo>
                <a:lnTo>
                  <a:pt x="53705" y="21600"/>
                </a:lnTo>
                <a:lnTo>
                  <a:pt x="52305" y="20200"/>
                </a:lnTo>
                <a:lnTo>
                  <a:pt x="52305" y="1400"/>
                </a:lnTo>
                <a:close/>
              </a:path>
              <a:path fill="darkenLess" w="53705" h="21600">
                <a:moveTo>
                  <a:pt x="53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5" y="20200"/>
                </a:lnTo>
                <a:close/>
              </a:path>
              <a:path fill="lighten" w="53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5" h="21600">
                <a:moveTo>
                  <a:pt x="19846" y="3794"/>
                </a:moveTo>
                <a:lnTo>
                  <a:pt x="33859" y="10800"/>
                </a:lnTo>
                <a:lnTo>
                  <a:pt x="198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5" action="ppaction://hlinksldjump"/>
          </p:cNvPr>
          <p:cNvSpPr/>
          <p:nvPr/>
        </p:nvSpPr>
        <p:spPr>
          <a:xfrm>
            <a:off x="6659640" y="4221000"/>
            <a:ext cx="360360" cy="144720"/>
          </a:xfrm>
          <a:custGeom>
            <a:avLst/>
            <a:gdLst>
              <a:gd name="textAreaLeft" fmla="*/ 9360 w 360360"/>
              <a:gd name="textAreaRight" fmla="*/ 351000 w 36036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53705" h="21600">
                <a:moveTo>
                  <a:pt x="0" y="0"/>
                </a:moveTo>
                <a:lnTo>
                  <a:pt x="53705" y="0"/>
                </a:lnTo>
                <a:lnTo>
                  <a:pt x="53705" y="21600"/>
                </a:lnTo>
                <a:lnTo>
                  <a:pt x="0" y="21600"/>
                </a:lnTo>
                <a:close/>
              </a:path>
              <a:path fill="lightenLess" w="53705" h="21600">
                <a:moveTo>
                  <a:pt x="0" y="0"/>
                </a:moveTo>
                <a:lnTo>
                  <a:pt x="53705" y="0"/>
                </a:lnTo>
                <a:lnTo>
                  <a:pt x="52305" y="1400"/>
                </a:lnTo>
                <a:lnTo>
                  <a:pt x="1400" y="1400"/>
                </a:lnTo>
                <a:close/>
              </a:path>
              <a:path fill="darken" w="53705" h="21600">
                <a:moveTo>
                  <a:pt x="53705" y="0"/>
                </a:moveTo>
                <a:lnTo>
                  <a:pt x="53705" y="21600"/>
                </a:lnTo>
                <a:lnTo>
                  <a:pt x="52305" y="20200"/>
                </a:lnTo>
                <a:lnTo>
                  <a:pt x="52305" y="1400"/>
                </a:lnTo>
                <a:close/>
              </a:path>
              <a:path fill="darkenLess" w="53705" h="21600">
                <a:moveTo>
                  <a:pt x="53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5" y="20200"/>
                </a:lnTo>
                <a:close/>
              </a:path>
              <a:path fill="lighten" w="53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5" h="21600">
                <a:moveTo>
                  <a:pt x="19846" y="3794"/>
                </a:moveTo>
                <a:lnTo>
                  <a:pt x="33859" y="10800"/>
                </a:lnTo>
                <a:lnTo>
                  <a:pt x="198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5013360"/>
            <a:ext cx="360360" cy="144360"/>
          </a:xfrm>
          <a:custGeom>
            <a:avLst/>
            <a:gdLst>
              <a:gd name="textAreaLeft" fmla="*/ 9360 w 360360"/>
              <a:gd name="textAreaRight" fmla="*/ 351000 w 360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53839" h="21600">
                <a:moveTo>
                  <a:pt x="0" y="0"/>
                </a:moveTo>
                <a:lnTo>
                  <a:pt x="53839" y="0"/>
                </a:lnTo>
                <a:lnTo>
                  <a:pt x="53839" y="21600"/>
                </a:lnTo>
                <a:lnTo>
                  <a:pt x="0" y="21600"/>
                </a:lnTo>
                <a:close/>
              </a:path>
              <a:path fill="lightenLess" w="53839" h="21600">
                <a:moveTo>
                  <a:pt x="0" y="0"/>
                </a:moveTo>
                <a:lnTo>
                  <a:pt x="53839" y="0"/>
                </a:lnTo>
                <a:lnTo>
                  <a:pt x="52439" y="1400"/>
                </a:lnTo>
                <a:lnTo>
                  <a:pt x="1400" y="1400"/>
                </a:lnTo>
                <a:close/>
              </a:path>
              <a:path fill="darken" w="53839" h="21600">
                <a:moveTo>
                  <a:pt x="53839" y="0"/>
                </a:moveTo>
                <a:lnTo>
                  <a:pt x="53839" y="21600"/>
                </a:lnTo>
                <a:lnTo>
                  <a:pt x="52439" y="20200"/>
                </a:lnTo>
                <a:lnTo>
                  <a:pt x="52439" y="1400"/>
                </a:lnTo>
                <a:close/>
              </a:path>
              <a:path fill="darkenLess" w="53839" h="21600">
                <a:moveTo>
                  <a:pt x="53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39" y="20200"/>
                </a:lnTo>
                <a:close/>
              </a:path>
              <a:path fill="lighten" w="53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39" h="21600">
                <a:moveTo>
                  <a:pt x="19913" y="3794"/>
                </a:moveTo>
                <a:lnTo>
                  <a:pt x="33926" y="10800"/>
                </a:lnTo>
                <a:lnTo>
                  <a:pt x="199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6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92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192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192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192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92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192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192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192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48320" y="419112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瓤肉莹白如冰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0"/>
            <a:ext cx="763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33ff"/>
                </a:solidFill>
                <a:latin typeface="宋体"/>
              </a:rPr>
              <a:t>“</a:t>
            </a:r>
            <a:r>
              <a:rPr b="1" i="1" lang="zh-CN" sz="4400" spc="-1" strike="noStrike">
                <a:solidFill>
                  <a:srgbClr val="0000ff"/>
                </a:solidFill>
                <a:latin typeface="宋体"/>
              </a:rPr>
              <a:t>盈盈荷瓣风前落，片片桃花雨后娇”</a:t>
            </a:r>
            <a:r>
              <a:rPr b="1" i="1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836640"/>
            <a:ext cx="160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0000"/>
                </a:solidFill>
                <a:latin typeface="华文隶书"/>
                <a:ea typeface="华文隶书"/>
              </a:rPr>
              <a:t>膜如紫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4284720" y="6381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  <p:sndAc>
      <p:stSnd>
        <p:snd r:embed="rId3" name="chimes.wav"/>
      </p:stSnd>
    </p:sndAc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249280" y="219708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263700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华文隶书"/>
                <a:ea typeface="华文隶书"/>
              </a:rPr>
              <a:t>壳如红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67640" y="6308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chimes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260280"/>
            <a:ext cx="1219320" cy="61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99"/>
                </a:solidFill>
                <a:latin typeface="Arial"/>
                <a:ea typeface="华文行楷"/>
              </a:rPr>
              <a:t>飞焰欲横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333360"/>
            <a:ext cx="43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红云几万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3" action="ppaction://hlinksldjump"/>
          </p:cNvPr>
          <p:cNvSpPr/>
          <p:nvPr/>
        </p:nvSpPr>
        <p:spPr>
          <a:xfrm>
            <a:off x="8101080" y="6237360"/>
            <a:ext cx="431640" cy="250920"/>
          </a:xfrm>
          <a:custGeom>
            <a:avLst/>
            <a:gdLst>
              <a:gd name="textAreaLeft" fmla="*/ 16200 w 431640"/>
              <a:gd name="textAreaRight" fmla="*/ 415440 w 431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37135" h="21600">
                <a:moveTo>
                  <a:pt x="0" y="0"/>
                </a:moveTo>
                <a:lnTo>
                  <a:pt x="37135" y="0"/>
                </a:lnTo>
                <a:lnTo>
                  <a:pt x="37135" y="21600"/>
                </a:lnTo>
                <a:lnTo>
                  <a:pt x="0" y="21600"/>
                </a:lnTo>
                <a:close/>
              </a:path>
              <a:path fill="lightenLess" w="37135" h="21600">
                <a:moveTo>
                  <a:pt x="0" y="0"/>
                </a:moveTo>
                <a:lnTo>
                  <a:pt x="37135" y="0"/>
                </a:lnTo>
                <a:lnTo>
                  <a:pt x="35735" y="1400"/>
                </a:lnTo>
                <a:lnTo>
                  <a:pt x="1400" y="1400"/>
                </a:lnTo>
                <a:close/>
              </a:path>
              <a:path fill="darken" w="37135" h="21600">
                <a:moveTo>
                  <a:pt x="37135" y="0"/>
                </a:moveTo>
                <a:lnTo>
                  <a:pt x="37135" y="21600"/>
                </a:lnTo>
                <a:lnTo>
                  <a:pt x="35735" y="20200"/>
                </a:lnTo>
                <a:lnTo>
                  <a:pt x="35735" y="1400"/>
                </a:lnTo>
                <a:close/>
              </a:path>
              <a:path fill="darkenLess" w="37135" h="21600">
                <a:moveTo>
                  <a:pt x="37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35" y="20200"/>
                </a:lnTo>
                <a:close/>
              </a:path>
              <a:path fill="lighten" w="37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35" h="21600">
                <a:moveTo>
                  <a:pt x="11561" y="10800"/>
                </a:moveTo>
                <a:lnTo>
                  <a:pt x="25574" y="3794"/>
                </a:lnTo>
                <a:lnTo>
                  <a:pt x="2557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4" name="chimes.wav"/>
      </p:stSnd>
    </p:sndAc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112000" cy="5329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696320" y="3264120"/>
            <a:ext cx="78984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黑体"/>
              </a:rPr>
              <a:t>心脏形、卵圆形或圆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0"/>
            <a:ext cx="223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66"/>
                </a:solidFill>
                <a:latin typeface="Arial"/>
                <a:ea typeface="黑体"/>
              </a:rPr>
              <a:t>果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4140360" y="6381720"/>
            <a:ext cx="431640" cy="2142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43490" h="21600">
                <a:moveTo>
                  <a:pt x="0" y="0"/>
                </a:moveTo>
                <a:lnTo>
                  <a:pt x="43490" y="0"/>
                </a:lnTo>
                <a:lnTo>
                  <a:pt x="43490" y="21600"/>
                </a:lnTo>
                <a:lnTo>
                  <a:pt x="0" y="21600"/>
                </a:lnTo>
                <a:close/>
              </a:path>
              <a:path fill="lightenLess" w="43490" h="21600">
                <a:moveTo>
                  <a:pt x="0" y="0"/>
                </a:moveTo>
                <a:lnTo>
                  <a:pt x="43490" y="0"/>
                </a:lnTo>
                <a:lnTo>
                  <a:pt x="42090" y="1400"/>
                </a:lnTo>
                <a:lnTo>
                  <a:pt x="1400" y="1400"/>
                </a:lnTo>
                <a:close/>
              </a:path>
              <a:path fill="darken" w="43490" h="21600">
                <a:moveTo>
                  <a:pt x="43490" y="0"/>
                </a:moveTo>
                <a:lnTo>
                  <a:pt x="43490" y="21600"/>
                </a:lnTo>
                <a:lnTo>
                  <a:pt x="42090" y="20200"/>
                </a:lnTo>
                <a:lnTo>
                  <a:pt x="42090" y="1400"/>
                </a:lnTo>
                <a:close/>
              </a:path>
              <a:path fill="darkenLess" w="43490" h="21600">
                <a:moveTo>
                  <a:pt x="43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90" y="20200"/>
                </a:lnTo>
                <a:close/>
              </a:path>
              <a:path fill="lighten" w="43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490" h="21600">
                <a:moveTo>
                  <a:pt x="14738" y="10800"/>
                </a:moveTo>
                <a:lnTo>
                  <a:pt x="28751" y="3794"/>
                </a:lnTo>
                <a:lnTo>
                  <a:pt x="28751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72200" y="4680"/>
            <a:ext cx="20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66"/>
                </a:solidFill>
                <a:latin typeface="Arial"/>
                <a:ea typeface="黑体"/>
              </a:rPr>
              <a:t>大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41040" y="189360"/>
            <a:ext cx="127764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黑体"/>
              </a:rPr>
              <a:t>通常是直径三四厘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黑体"/>
              </a:rPr>
              <a:t>重十多克到二十多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3" name="chimes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99736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瓤肉莹白如冰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932360" y="457200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瓤肉莹白如冰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chimes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648320" y="419112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瓤肉莹白如冰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24000" y="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瓤肉莹白如冰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623736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10800"/>
                </a:moveTo>
                <a:lnTo>
                  <a:pt x="24263" y="3794"/>
                </a:lnTo>
                <a:lnTo>
                  <a:pt x="242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chimes.wav"/>
      </p:stSnd>
    </p:sndAc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48320" y="419112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瓤肉莹白如冰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304920" y="609480"/>
            <a:ext cx="2818800" cy="1008360"/>
            <a:chOff x="304920" y="609480"/>
            <a:chExt cx="2818800" cy="1008360"/>
          </a:xfrm>
        </p:grpSpPr>
        <p:sp>
          <p:nvSpPr>
            <p:cNvPr id="194" name=""/>
            <p:cNvSpPr/>
            <p:nvPr/>
          </p:nvSpPr>
          <p:spPr>
            <a:xfrm>
              <a:off x="304920" y="609480"/>
              <a:ext cx="1904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果皮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28800" y="914400"/>
              <a:ext cx="1294920" cy="533160"/>
            </a:xfrm>
            <a:prstGeom prst="leftArrow">
              <a:avLst>
                <a:gd name="adj1" fmla="val 50000"/>
                <a:gd name="adj2" fmla="val 60719"/>
              </a:avLst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33520" y="1981080"/>
            <a:ext cx="3200400" cy="3727440"/>
            <a:chOff x="533520" y="1981080"/>
            <a:chExt cx="3200400" cy="3727440"/>
          </a:xfrm>
        </p:grpSpPr>
        <p:sp>
          <p:nvSpPr>
            <p:cNvPr id="197" name=""/>
            <p:cNvSpPr/>
            <p:nvPr/>
          </p:nvSpPr>
          <p:spPr>
            <a:xfrm flipV="1">
              <a:off x="533520" y="1981080"/>
              <a:ext cx="2191320" cy="37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假种皮  果肉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0" y="2057400"/>
              <a:ext cx="1447920" cy="533520"/>
            </a:xfrm>
            <a:prstGeom prst="leftArrow">
              <a:avLst>
                <a:gd name="adj1" fmla="val 50593"/>
                <a:gd name="adj2" fmla="val 75587"/>
              </a:avLst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800600" y="0"/>
            <a:ext cx="4343400" cy="1676520"/>
            <a:chOff x="4800600" y="0"/>
            <a:chExt cx="4343400" cy="1676520"/>
          </a:xfrm>
        </p:grpSpPr>
        <p:sp>
          <p:nvSpPr>
            <p:cNvPr id="200" name=""/>
            <p:cNvSpPr/>
            <p:nvPr/>
          </p:nvSpPr>
          <p:spPr>
            <a:xfrm>
              <a:off x="7010280" y="0"/>
              <a:ext cx="213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果核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00600" y="914400"/>
              <a:ext cx="4343400" cy="762120"/>
            </a:xfrm>
            <a:custGeom>
              <a:avLst/>
              <a:gdLst>
                <a:gd name="textAreaLeft" fmla="*/ 1364400 w 4343400"/>
                <a:gd name="textAreaRight" fmla="*/ 3338640 w 4343400"/>
                <a:gd name="textAreaTop" fmla="*/ 460080 h 762120"/>
                <a:gd name="textAreaBottom" fmla="*/ 5860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039"/>
                  </a:moveTo>
                  <a:lnTo>
                    <a:pt x="13042" y="18039"/>
                  </a:lnTo>
                  <a:lnTo>
                    <a:pt x="13042" y="6785"/>
                  </a:lnTo>
                  <a:lnTo>
                    <a:pt x="8045" y="6785"/>
                  </a:lnTo>
                  <a:lnTo>
                    <a:pt x="14823" y="0"/>
                  </a:lnTo>
                  <a:lnTo>
                    <a:pt x="21600" y="6785"/>
                  </a:lnTo>
                  <a:lnTo>
                    <a:pt x="16603" y="6785"/>
                  </a:lnTo>
                  <a:lnTo>
                    <a:pt x="1660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4500720" y="6381720"/>
            <a:ext cx="502920" cy="21600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44" h="21600">
                <a:moveTo>
                  <a:pt x="0" y="0"/>
                </a:moveTo>
                <a:lnTo>
                  <a:pt x="50244" y="0"/>
                </a:lnTo>
                <a:lnTo>
                  <a:pt x="50244" y="21600"/>
                </a:lnTo>
                <a:lnTo>
                  <a:pt x="0" y="21600"/>
                </a:lnTo>
                <a:close/>
              </a:path>
              <a:path fill="lightenLess" w="50244" h="21600">
                <a:moveTo>
                  <a:pt x="0" y="0"/>
                </a:moveTo>
                <a:lnTo>
                  <a:pt x="50244" y="0"/>
                </a:lnTo>
                <a:lnTo>
                  <a:pt x="48844" y="1400"/>
                </a:lnTo>
                <a:lnTo>
                  <a:pt x="1400" y="1400"/>
                </a:lnTo>
                <a:close/>
              </a:path>
              <a:path fill="darken" w="50244" h="21600">
                <a:moveTo>
                  <a:pt x="50244" y="0"/>
                </a:moveTo>
                <a:lnTo>
                  <a:pt x="50244" y="21600"/>
                </a:lnTo>
                <a:lnTo>
                  <a:pt x="48844" y="20200"/>
                </a:lnTo>
                <a:lnTo>
                  <a:pt x="48844" y="1400"/>
                </a:lnTo>
                <a:close/>
              </a:path>
              <a:path fill="darkenLess" w="50244" h="21600">
                <a:moveTo>
                  <a:pt x="5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44" y="20200"/>
                </a:lnTo>
                <a:close/>
              </a:path>
              <a:path fill="lighten" w="5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44" h="21600">
                <a:moveTo>
                  <a:pt x="18116" y="10800"/>
                </a:moveTo>
                <a:lnTo>
                  <a:pt x="32129" y="3794"/>
                </a:lnTo>
                <a:lnTo>
                  <a:pt x="32129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3" name="chimes.wav"/>
      </p:stSnd>
    </p:sndAc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161240" y="404640"/>
            <a:ext cx="4291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长圆形，表面光滑，棕褐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少数为绿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633000">
            <a:off x="1979280" y="1989000"/>
            <a:ext cx="863640" cy="2303640"/>
          </a:xfrm>
          <a:prstGeom prst="downArrow">
            <a:avLst>
              <a:gd name="adj1" fmla="val 50000"/>
              <a:gd name="adj2" fmla="val 666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97520" y="5013360"/>
            <a:ext cx="2466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核（种子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722400">
            <a:off x="2627280" y="4869000"/>
            <a:ext cx="2521080" cy="485640"/>
          </a:xfrm>
          <a:prstGeom prst="leftArrow">
            <a:avLst>
              <a:gd name="adj1" fmla="val 50000"/>
              <a:gd name="adj2" fmla="val 1297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4067280" y="6642000"/>
            <a:ext cx="504720" cy="21600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24" h="21600">
                <a:moveTo>
                  <a:pt x="0" y="0"/>
                </a:moveTo>
                <a:lnTo>
                  <a:pt x="50424" y="0"/>
                </a:lnTo>
                <a:lnTo>
                  <a:pt x="50424" y="21600"/>
                </a:lnTo>
                <a:lnTo>
                  <a:pt x="0" y="21600"/>
                </a:lnTo>
                <a:close/>
              </a:path>
              <a:path fill="lightenLess" w="50424" h="21600">
                <a:moveTo>
                  <a:pt x="0" y="0"/>
                </a:moveTo>
                <a:lnTo>
                  <a:pt x="50424" y="0"/>
                </a:lnTo>
                <a:lnTo>
                  <a:pt x="49024" y="1400"/>
                </a:lnTo>
                <a:lnTo>
                  <a:pt x="1400" y="1400"/>
                </a:lnTo>
                <a:close/>
              </a:path>
              <a:path fill="darken" w="50424" h="21600">
                <a:moveTo>
                  <a:pt x="50424" y="0"/>
                </a:moveTo>
                <a:lnTo>
                  <a:pt x="50424" y="21600"/>
                </a:lnTo>
                <a:lnTo>
                  <a:pt x="49024" y="20200"/>
                </a:lnTo>
                <a:lnTo>
                  <a:pt x="49024" y="1400"/>
                </a:lnTo>
                <a:close/>
              </a:path>
              <a:path fill="darkenLess" w="50424" h="21600">
                <a:moveTo>
                  <a:pt x="50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24" y="20200"/>
                </a:lnTo>
                <a:close/>
              </a:path>
              <a:path fill="lighten" w="50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24" h="21600">
                <a:moveTo>
                  <a:pt x="18205" y="10800"/>
                </a:moveTo>
                <a:lnTo>
                  <a:pt x="32218" y="3794"/>
                </a:lnTo>
                <a:lnTo>
                  <a:pt x="32218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13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71640" y="549360"/>
            <a:ext cx="4321440" cy="934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Arial"/>
                <a:ea typeface="长城中行书体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1280" y="1989000"/>
            <a:ext cx="138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、理清文章说明的思路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把握说明的顺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、体会科普说明文的特点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、分析说明方法的作用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并掌握规范的答题格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703240" y="1844640"/>
            <a:ext cx="4188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阅读说明文应注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、理清说明思路，明确说明顺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、科普说明文的特点：融科学性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准确性、知识性、文学性、趣味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于一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、理解掌握并学会分析说明方法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0"/>
            <a:ext cx="4176720" cy="150336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chimes.wav"/>
      </p:stSnd>
    </p:sndAc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35280" y="333360"/>
            <a:ext cx="5257800" cy="792000"/>
          </a:xfrm>
          <a:custGeom>
            <a:avLst/>
            <a:gdLst>
              <a:gd name="textAreaLeft" fmla="*/ 1314360 w 5257800"/>
              <a:gd name="textAreaRight" fmla="*/ 3943440 w 5257800"/>
              <a:gd name="textAreaTop" fmla="*/ 9936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9" stAng="16200000" swAng="5400000"/>
                <a:lnTo>
                  <a:pt x="8100" y="2714"/>
                </a:lnTo>
                <a:lnTo>
                  <a:pt x="13500" y="2714"/>
                </a:lnTo>
                <a:lnTo>
                  <a:pt x="13500" y="679"/>
                </a:lnTo>
                <a:arcTo wR="675" hR="679" stAng="10800000" swAng="5400000"/>
                <a:lnTo>
                  <a:pt x="21600" y="0"/>
                </a:lnTo>
                <a:lnTo>
                  <a:pt x="18900" y="9443"/>
                </a:lnTo>
                <a:lnTo>
                  <a:pt x="21600" y="18886"/>
                </a:lnTo>
                <a:lnTo>
                  <a:pt x="16200" y="18886"/>
                </a:lnTo>
                <a:lnTo>
                  <a:pt x="16200" y="20922"/>
                </a:lnTo>
                <a:arcTo wR="675" hR="679" stAng="0" swAng="5400000"/>
                <a:lnTo>
                  <a:pt x="6075" y="21600"/>
                </a:lnTo>
                <a:arcTo wR="675" hR="679" stAng="5400000" swAng="5400000"/>
                <a:lnTo>
                  <a:pt x="5400" y="18886"/>
                </a:lnTo>
                <a:lnTo>
                  <a:pt x="0" y="18886"/>
                </a:lnTo>
                <a:lnTo>
                  <a:pt x="2700" y="9443"/>
                </a:lnTo>
                <a:close/>
              </a:path>
              <a:path fill="none" w="21600" h="21600">
                <a:moveTo>
                  <a:pt x="8100" y="679"/>
                </a:moveTo>
                <a:arcTo wR="675" hR="679" stAng="0" swAng="5400000"/>
                <a:lnTo>
                  <a:pt x="6075" y="1357"/>
                </a:lnTo>
                <a:arcTo wR="675" hR="679" stAng="16200000" swAng="-5400000"/>
                <a:arcTo wR="675" hR="679" stAng="10800000" swAng="-5400000"/>
                <a:lnTo>
                  <a:pt x="8100" y="2714"/>
                </a:lnTo>
              </a:path>
              <a:path fill="none" w="21600" h="21600">
                <a:moveTo>
                  <a:pt x="13500" y="679"/>
                </a:moveTo>
                <a:arcTo wR="675" hR="679" stAng="10800000" swAng="-5400000"/>
                <a:lnTo>
                  <a:pt x="15525" y="1357"/>
                </a:lnTo>
                <a:arcTo wR="675" hR="679" stAng="16200000" swAng="5400000"/>
                <a:arcTo wR="675" hR="679" stAng="0" swAng="5400000"/>
                <a:lnTo>
                  <a:pt x="13500" y="2714"/>
                </a:lnTo>
              </a:path>
              <a:path fill="none" w="21600" h="21600">
                <a:moveTo>
                  <a:pt x="5400" y="2036"/>
                </a:moveTo>
                <a:lnTo>
                  <a:pt x="5400" y="18886"/>
                </a:lnTo>
              </a:path>
              <a:path fill="none" w="21600" h="21600">
                <a:moveTo>
                  <a:pt x="16200" y="2036"/>
                </a:moveTo>
                <a:lnTo>
                  <a:pt x="16200" y="18886"/>
                </a:lnTo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练练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427640" y="57340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627280" y="573408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971640" y="57340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156360" y="57340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7885080" y="573408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56440" y="1413000"/>
            <a:ext cx="53866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我国地域辽阔，物产丰富，许多地方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有自己的特产。请任选一种家乡的特产，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一简要而生动的说明介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注意说明顺序，做到条理清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最好穿插引用一点有关的诗文、 传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或其他资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适当运用说明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字数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7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826920" y="1484280"/>
            <a:ext cx="72741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再见！</a:t>
            </a:r>
            <a:endParaRPr b="0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  <p:sndAc>
      <p:stSnd>
        <p:snd r:embed="rId3" name="chimes.wav"/>
      </p:stSnd>
    </p:sndAc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832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1557360"/>
            <a:ext cx="918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请同学们用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分钟默读课文，思考以下问题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）文章介绍了有关荔枝的哪些方面的内容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）从整体看，本文采用了怎样的说明顺序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2987640" y="6597720"/>
            <a:ext cx="576360" cy="260280"/>
          </a:xfrm>
          <a:custGeom>
            <a:avLst/>
            <a:gdLst>
              <a:gd name="textAreaLeft" fmla="*/ 16560 w 576360"/>
              <a:gd name="textAreaRight" fmla="*/ 559800 w 576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7794" h="21600">
                <a:moveTo>
                  <a:pt x="0" y="0"/>
                </a:moveTo>
                <a:lnTo>
                  <a:pt x="47794" y="0"/>
                </a:lnTo>
                <a:lnTo>
                  <a:pt x="47794" y="21600"/>
                </a:lnTo>
                <a:lnTo>
                  <a:pt x="0" y="21600"/>
                </a:lnTo>
                <a:close/>
              </a:path>
              <a:path fill="lightenLess" w="47794" h="21600">
                <a:moveTo>
                  <a:pt x="0" y="0"/>
                </a:moveTo>
                <a:lnTo>
                  <a:pt x="47794" y="0"/>
                </a:lnTo>
                <a:lnTo>
                  <a:pt x="46394" y="1400"/>
                </a:lnTo>
                <a:lnTo>
                  <a:pt x="1400" y="1400"/>
                </a:lnTo>
                <a:close/>
              </a:path>
              <a:path fill="darken" w="47794" h="21600">
                <a:moveTo>
                  <a:pt x="47794" y="0"/>
                </a:moveTo>
                <a:lnTo>
                  <a:pt x="47794" y="21600"/>
                </a:lnTo>
                <a:lnTo>
                  <a:pt x="46394" y="20200"/>
                </a:lnTo>
                <a:lnTo>
                  <a:pt x="46394" y="1400"/>
                </a:lnTo>
                <a:close/>
              </a:path>
              <a:path fill="darkenLess" w="47794" h="21600">
                <a:moveTo>
                  <a:pt x="4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94" y="20200"/>
                </a:lnTo>
                <a:close/>
              </a:path>
              <a:path fill="lighten" w="4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94" h="21600">
                <a:moveTo>
                  <a:pt x="16891" y="3794"/>
                </a:moveTo>
                <a:lnTo>
                  <a:pt x="30904" y="10800"/>
                </a:lnTo>
                <a:lnTo>
                  <a:pt x="16891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5867280" y="6597720"/>
            <a:ext cx="576360" cy="260280"/>
          </a:xfrm>
          <a:custGeom>
            <a:avLst/>
            <a:gdLst>
              <a:gd name="textAreaLeft" fmla="*/ 28440 w 576360"/>
              <a:gd name="textAreaRight" fmla="*/ 547920 w 576360"/>
              <a:gd name="textAreaTop" fmla="*/ 28440 h 260280"/>
              <a:gd name="textAreaBottom" fmla="*/ 231840 h 260280"/>
            </a:gdLst>
            <a:ahLst/>
            <a:rect l="textAreaLeft" t="textAreaTop" r="textAreaRight" b="textAreaBottom"/>
            <a:pathLst>
              <a:path w="47794" h="21600">
                <a:moveTo>
                  <a:pt x="0" y="0"/>
                </a:moveTo>
                <a:lnTo>
                  <a:pt x="47794" y="0"/>
                </a:lnTo>
                <a:lnTo>
                  <a:pt x="47794" y="21600"/>
                </a:lnTo>
                <a:lnTo>
                  <a:pt x="0" y="21600"/>
                </a:lnTo>
                <a:close/>
              </a:path>
              <a:path fill="lightenLess" w="47794" h="21600">
                <a:moveTo>
                  <a:pt x="0" y="0"/>
                </a:moveTo>
                <a:lnTo>
                  <a:pt x="47794" y="0"/>
                </a:lnTo>
                <a:lnTo>
                  <a:pt x="45432" y="2362"/>
                </a:lnTo>
                <a:lnTo>
                  <a:pt x="2362" y="2362"/>
                </a:lnTo>
                <a:close/>
              </a:path>
              <a:path fill="darken" w="47794" h="21600">
                <a:moveTo>
                  <a:pt x="47794" y="0"/>
                </a:moveTo>
                <a:lnTo>
                  <a:pt x="47794" y="21600"/>
                </a:lnTo>
                <a:lnTo>
                  <a:pt x="45432" y="19238"/>
                </a:lnTo>
                <a:lnTo>
                  <a:pt x="45432" y="2362"/>
                </a:lnTo>
                <a:close/>
              </a:path>
              <a:path fill="darkenLess" w="47794" h="21600">
                <a:moveTo>
                  <a:pt x="47794" y="21600"/>
                </a:moveTo>
                <a:lnTo>
                  <a:pt x="0" y="21600"/>
                </a:lnTo>
                <a:lnTo>
                  <a:pt x="2362" y="19238"/>
                </a:lnTo>
                <a:lnTo>
                  <a:pt x="45432" y="19238"/>
                </a:lnTo>
                <a:close/>
              </a:path>
              <a:path fill="lighten" w="47794" h="21600">
                <a:moveTo>
                  <a:pt x="0" y="21600"/>
                </a:moveTo>
                <a:lnTo>
                  <a:pt x="0" y="0"/>
                </a:lnTo>
                <a:lnTo>
                  <a:pt x="2362" y="2362"/>
                </a:lnTo>
                <a:lnTo>
                  <a:pt x="2362" y="19238"/>
                </a:lnTo>
                <a:close/>
              </a:path>
              <a:path fill="darken" w="47794" h="21600">
                <a:moveTo>
                  <a:pt x="17608" y="4511"/>
                </a:moveTo>
                <a:lnTo>
                  <a:pt x="30187" y="10800"/>
                </a:lnTo>
                <a:lnTo>
                  <a:pt x="17608" y="1708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260280"/>
            <a:ext cx="3168360" cy="1297080"/>
          </a:xfrm>
          <a:prstGeom prst="horizontalScroll">
            <a:avLst>
              <a:gd name="adj" fmla="val 12500"/>
            </a:avLst>
          </a:prstGeom>
          <a:solidFill>
            <a:srgbClr val="ff0000">
              <a:alpha val="6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6360" y="40464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迷你简启体"/>
              </a:rPr>
              <a:t>自学感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404640"/>
            <a:ext cx="1219320" cy="1081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 rot="4469400">
            <a:off x="7148160" y="60120"/>
            <a:ext cx="97164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 rot="1932000">
            <a:off x="7885080" y="333360"/>
            <a:ext cx="971640" cy="137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2924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荔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1628640"/>
            <a:ext cx="360360" cy="3672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3640" y="328464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3640" y="494172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5280" y="184464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141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黑体"/>
              </a:rPr>
              <a:t>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27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黑体"/>
              </a:rPr>
              <a:t>果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3280" y="393372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黑体"/>
              </a:rPr>
              <a:t>生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92720" y="2997360"/>
            <a:ext cx="485640" cy="1512720"/>
          </a:xfrm>
          <a:prstGeom prst="downArrow">
            <a:avLst>
              <a:gd name="adj1" fmla="val 50000"/>
              <a:gd name="adj2" fmla="val 7787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160" y="2276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（主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160" y="4508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（次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1773360"/>
            <a:ext cx="223920" cy="1800000"/>
          </a:xfrm>
          <a:custGeom>
            <a:avLst/>
            <a:gdLst>
              <a:gd name="textAreaLeft" fmla="*/ 0 w 223920"/>
              <a:gd name="textAreaRight" fmla="*/ 80640 w 22392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01200" y="1916280"/>
            <a:ext cx="17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</a:rPr>
              <a:t>1—10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78640" y="443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略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07360" y="227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楷体_GB2312"/>
              </a:rPr>
              <a:t>详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28120" y="5013360"/>
            <a:ext cx="19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</a:rPr>
              <a:t>11—14</a:t>
            </a:r>
            <a:r>
              <a:rPr b="1" lang="zh-CN" sz="2800" spc="-1" strike="noStrike">
                <a:solidFill>
                  <a:srgbClr val="cc3399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2924280"/>
            <a:ext cx="485640" cy="1584360"/>
          </a:xfrm>
          <a:prstGeom prst="downArrow">
            <a:avLst>
              <a:gd name="adj1" fmla="val 50000"/>
              <a:gd name="adj2" fmla="val 81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4869000"/>
            <a:ext cx="50328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708280"/>
            <a:ext cx="50292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4284720" y="6381720"/>
            <a:ext cx="574560" cy="21600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396" h="21600">
                <a:moveTo>
                  <a:pt x="0" y="0"/>
                </a:moveTo>
                <a:lnTo>
                  <a:pt x="57396" y="0"/>
                </a:lnTo>
                <a:lnTo>
                  <a:pt x="57396" y="21600"/>
                </a:lnTo>
                <a:lnTo>
                  <a:pt x="0" y="21600"/>
                </a:lnTo>
                <a:close/>
              </a:path>
              <a:path fill="lightenLess" w="57396" h="21600">
                <a:moveTo>
                  <a:pt x="0" y="0"/>
                </a:moveTo>
                <a:lnTo>
                  <a:pt x="57396" y="0"/>
                </a:lnTo>
                <a:lnTo>
                  <a:pt x="55996" y="1400"/>
                </a:lnTo>
                <a:lnTo>
                  <a:pt x="1400" y="1400"/>
                </a:lnTo>
                <a:close/>
              </a:path>
              <a:path fill="darken" w="57396" h="21600">
                <a:moveTo>
                  <a:pt x="57396" y="0"/>
                </a:moveTo>
                <a:lnTo>
                  <a:pt x="57396" y="21600"/>
                </a:lnTo>
                <a:lnTo>
                  <a:pt x="55996" y="20200"/>
                </a:lnTo>
                <a:lnTo>
                  <a:pt x="55996" y="1400"/>
                </a:lnTo>
                <a:close/>
              </a:path>
              <a:path fill="darkenLess" w="57396" h="21600">
                <a:moveTo>
                  <a:pt x="57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6" y="20200"/>
                </a:lnTo>
                <a:close/>
              </a:path>
              <a:path fill="lighten" w="57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396" h="21600">
                <a:moveTo>
                  <a:pt x="21692" y="10800"/>
                </a:moveTo>
                <a:lnTo>
                  <a:pt x="35705" y="3794"/>
                </a:lnTo>
                <a:lnTo>
                  <a:pt x="3570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4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492360" y="0"/>
            <a:ext cx="2592360" cy="7642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当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16000" cy="836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620640"/>
            <a:ext cx="8547120" cy="4483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阅读课文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2——9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段， 用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分钟完成下列题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）根据文段说明的内容完成图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）这几段文字使用了什么说明顺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）举例说明文中运用了哪些说明方法并分析其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）句中红色的词语能否删去，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荔枝大小，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通常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是直径三四厘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01080" y="177336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3794"/>
                </a:moveTo>
                <a:lnTo>
                  <a:pt x="34013" y="10800"/>
                </a:lnTo>
                <a:lnTo>
                  <a:pt x="20000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4067280" y="6165720"/>
            <a:ext cx="936360" cy="360360"/>
          </a:xfrm>
          <a:custGeom>
            <a:avLst/>
            <a:gdLst>
              <a:gd name="textAreaLeft" fmla="*/ 23040 w 936360"/>
              <a:gd name="textAreaRight" fmla="*/ 913320 w 93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091" h="21600">
                <a:moveTo>
                  <a:pt x="0" y="0"/>
                </a:moveTo>
                <a:lnTo>
                  <a:pt x="56091" y="0"/>
                </a:lnTo>
                <a:lnTo>
                  <a:pt x="56091" y="21600"/>
                </a:lnTo>
                <a:lnTo>
                  <a:pt x="0" y="21600"/>
                </a:lnTo>
                <a:close/>
              </a:path>
              <a:path fill="lightenLess" w="56091" h="21600">
                <a:moveTo>
                  <a:pt x="0" y="0"/>
                </a:moveTo>
                <a:lnTo>
                  <a:pt x="56091" y="0"/>
                </a:lnTo>
                <a:lnTo>
                  <a:pt x="54691" y="1400"/>
                </a:lnTo>
                <a:lnTo>
                  <a:pt x="1400" y="1400"/>
                </a:lnTo>
                <a:close/>
              </a:path>
              <a:path fill="darken" w="56091" h="21600">
                <a:moveTo>
                  <a:pt x="56091" y="0"/>
                </a:moveTo>
                <a:lnTo>
                  <a:pt x="56091" y="21600"/>
                </a:lnTo>
                <a:lnTo>
                  <a:pt x="54691" y="20200"/>
                </a:lnTo>
                <a:lnTo>
                  <a:pt x="54691" y="1400"/>
                </a:lnTo>
                <a:close/>
              </a:path>
              <a:path fill="darkenLess" w="56091" h="21600">
                <a:moveTo>
                  <a:pt x="56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691" y="20200"/>
                </a:lnTo>
                <a:close/>
              </a:path>
              <a:path fill="lighten" w="56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091" h="21600">
                <a:moveTo>
                  <a:pt x="21039" y="3794"/>
                </a:moveTo>
                <a:lnTo>
                  <a:pt x="35052" y="10800"/>
                </a:lnTo>
                <a:lnTo>
                  <a:pt x="21039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 rot="3840000">
            <a:off x="8260560" y="-21240"/>
            <a:ext cx="849240" cy="84456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rId6" action="ppaction://hlinksldjump"/>
          </p:cNvPr>
          <p:cNvSpPr/>
          <p:nvPr/>
        </p:nvSpPr>
        <p:spPr>
          <a:xfrm>
            <a:off x="8101080" y="2276640"/>
            <a:ext cx="720720" cy="288720"/>
          </a:xfrm>
          <a:custGeom>
            <a:avLst/>
            <a:gdLst>
              <a:gd name="textAreaLeft" fmla="*/ 18720 w 720720"/>
              <a:gd name="textAreaRight" fmla="*/ 702000 w 720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3879" h="21600">
                <a:moveTo>
                  <a:pt x="0" y="0"/>
                </a:moveTo>
                <a:lnTo>
                  <a:pt x="53879" y="0"/>
                </a:lnTo>
                <a:lnTo>
                  <a:pt x="53879" y="21600"/>
                </a:lnTo>
                <a:lnTo>
                  <a:pt x="0" y="21600"/>
                </a:lnTo>
                <a:close/>
              </a:path>
              <a:path fill="lightenLess" w="53879" h="21600">
                <a:moveTo>
                  <a:pt x="0" y="0"/>
                </a:moveTo>
                <a:lnTo>
                  <a:pt x="53879" y="0"/>
                </a:lnTo>
                <a:lnTo>
                  <a:pt x="52479" y="1400"/>
                </a:lnTo>
                <a:lnTo>
                  <a:pt x="1400" y="1400"/>
                </a:lnTo>
                <a:close/>
              </a:path>
              <a:path fill="darken" w="53879" h="21600">
                <a:moveTo>
                  <a:pt x="53879" y="0"/>
                </a:moveTo>
                <a:lnTo>
                  <a:pt x="53879" y="21600"/>
                </a:lnTo>
                <a:lnTo>
                  <a:pt x="52479" y="20200"/>
                </a:lnTo>
                <a:lnTo>
                  <a:pt x="52479" y="1400"/>
                </a:lnTo>
                <a:close/>
              </a:path>
              <a:path fill="darkenLess" w="53879" h="21600">
                <a:moveTo>
                  <a:pt x="53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79" y="20200"/>
                </a:lnTo>
                <a:close/>
              </a:path>
              <a:path fill="lighten" w="53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79" h="21600">
                <a:moveTo>
                  <a:pt x="19933" y="3794"/>
                </a:moveTo>
                <a:lnTo>
                  <a:pt x="33946" y="10800"/>
                </a:lnTo>
                <a:lnTo>
                  <a:pt x="1993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44000" y="220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7" action="ppaction://hlinksldjump"/>
          </p:cNvPr>
          <p:cNvSpPr/>
          <p:nvPr/>
        </p:nvSpPr>
        <p:spPr>
          <a:xfrm>
            <a:off x="8101080" y="2708280"/>
            <a:ext cx="718920" cy="289080"/>
          </a:xfrm>
          <a:custGeom>
            <a:avLst/>
            <a:gdLst>
              <a:gd name="textAreaLeft" fmla="*/ 18720 w 718920"/>
              <a:gd name="textAreaRight" fmla="*/ 700200 w 718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678" h="21600">
                <a:moveTo>
                  <a:pt x="0" y="0"/>
                </a:moveTo>
                <a:lnTo>
                  <a:pt x="53678" y="0"/>
                </a:lnTo>
                <a:lnTo>
                  <a:pt x="53678" y="21600"/>
                </a:lnTo>
                <a:lnTo>
                  <a:pt x="0" y="21600"/>
                </a:lnTo>
                <a:close/>
              </a:path>
              <a:path fill="lightenLess" w="53678" h="21600">
                <a:moveTo>
                  <a:pt x="0" y="0"/>
                </a:moveTo>
                <a:lnTo>
                  <a:pt x="53678" y="0"/>
                </a:lnTo>
                <a:lnTo>
                  <a:pt x="52278" y="1400"/>
                </a:lnTo>
                <a:lnTo>
                  <a:pt x="1400" y="1400"/>
                </a:lnTo>
                <a:close/>
              </a:path>
              <a:path fill="darken" w="53678" h="21600">
                <a:moveTo>
                  <a:pt x="53678" y="0"/>
                </a:moveTo>
                <a:lnTo>
                  <a:pt x="53678" y="21600"/>
                </a:lnTo>
                <a:lnTo>
                  <a:pt x="52278" y="20200"/>
                </a:lnTo>
                <a:lnTo>
                  <a:pt x="52278" y="1400"/>
                </a:lnTo>
                <a:close/>
              </a:path>
              <a:path fill="darkenLess" w="53678" h="21600">
                <a:moveTo>
                  <a:pt x="53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278" y="20200"/>
                </a:lnTo>
                <a:close/>
              </a:path>
              <a:path fill="lighten" w="53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678" h="21600">
                <a:moveTo>
                  <a:pt x="19832" y="3794"/>
                </a:moveTo>
                <a:lnTo>
                  <a:pt x="33845" y="10800"/>
                </a:lnTo>
                <a:lnTo>
                  <a:pt x="1983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01080" y="314172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3794"/>
                </a:moveTo>
                <a:lnTo>
                  <a:pt x="34013" y="10800"/>
                </a:lnTo>
                <a:lnTo>
                  <a:pt x="2000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01080" y="357336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3794"/>
                </a:moveTo>
                <a:lnTo>
                  <a:pt x="34013" y="10800"/>
                </a:lnTo>
                <a:lnTo>
                  <a:pt x="2000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72360" y="26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黑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44000" y="3213000"/>
            <a:ext cx="288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4400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黑体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1708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黑体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01080" y="4292640"/>
            <a:ext cx="718920" cy="288720"/>
          </a:xfrm>
          <a:custGeom>
            <a:avLst/>
            <a:gdLst>
              <a:gd name="textAreaLeft" fmla="*/ 18720 w 718920"/>
              <a:gd name="textAreaRight" fmla="*/ 700200 w 7189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3744" h="21600">
                <a:moveTo>
                  <a:pt x="0" y="0"/>
                </a:moveTo>
                <a:lnTo>
                  <a:pt x="53744" y="0"/>
                </a:lnTo>
                <a:lnTo>
                  <a:pt x="53744" y="21600"/>
                </a:lnTo>
                <a:lnTo>
                  <a:pt x="0" y="21600"/>
                </a:lnTo>
                <a:close/>
              </a:path>
              <a:path fill="lightenLess" w="53744" h="21600">
                <a:moveTo>
                  <a:pt x="0" y="0"/>
                </a:moveTo>
                <a:lnTo>
                  <a:pt x="53744" y="0"/>
                </a:lnTo>
                <a:lnTo>
                  <a:pt x="52344" y="1400"/>
                </a:lnTo>
                <a:lnTo>
                  <a:pt x="1400" y="1400"/>
                </a:lnTo>
                <a:close/>
              </a:path>
              <a:path fill="darken" w="53744" h="21600">
                <a:moveTo>
                  <a:pt x="53744" y="0"/>
                </a:moveTo>
                <a:lnTo>
                  <a:pt x="53744" y="21600"/>
                </a:lnTo>
                <a:lnTo>
                  <a:pt x="52344" y="20200"/>
                </a:lnTo>
                <a:lnTo>
                  <a:pt x="52344" y="1400"/>
                </a:lnTo>
                <a:close/>
              </a:path>
              <a:path fill="darkenLess" w="53744" h="21600">
                <a:moveTo>
                  <a:pt x="53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44" y="20200"/>
                </a:lnTo>
                <a:close/>
              </a:path>
              <a:path fill="lighten" w="53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44" h="21600">
                <a:moveTo>
                  <a:pt x="19866" y="3794"/>
                </a:moveTo>
                <a:lnTo>
                  <a:pt x="33879" y="10800"/>
                </a:lnTo>
                <a:lnTo>
                  <a:pt x="19866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8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260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说明方法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844640"/>
            <a:ext cx="266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773360"/>
            <a:ext cx="8748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举例子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：如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P125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，“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世纪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60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年代……；六十克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6450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作用：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这里运用了举例子的说明方法，通过举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广东、四川产的荔枝的重量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的实例对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荔枝的大小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进行说明，使说明更具体，更具有说服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8388360" y="620640"/>
            <a:ext cx="504720" cy="576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64">
                <a:moveTo>
                  <a:pt x="0" y="0"/>
                </a:moveTo>
                <a:lnTo>
                  <a:pt x="21600" y="0"/>
                </a:lnTo>
                <a:lnTo>
                  <a:pt x="21600" y="24664"/>
                </a:lnTo>
                <a:lnTo>
                  <a:pt x="0" y="24664"/>
                </a:lnTo>
                <a:close/>
              </a:path>
              <a:path fill="lightenLess" w="21600" h="24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64">
                <a:moveTo>
                  <a:pt x="21600" y="0"/>
                </a:moveTo>
                <a:lnTo>
                  <a:pt x="21600" y="24664"/>
                </a:lnTo>
                <a:lnTo>
                  <a:pt x="20200" y="23264"/>
                </a:lnTo>
                <a:lnTo>
                  <a:pt x="20200" y="1400"/>
                </a:lnTo>
                <a:close/>
              </a:path>
              <a:path fill="darkenLess" w="21600" h="24664">
                <a:moveTo>
                  <a:pt x="21600" y="24664"/>
                </a:moveTo>
                <a:lnTo>
                  <a:pt x="0" y="24664"/>
                </a:lnTo>
                <a:lnTo>
                  <a:pt x="1400" y="23264"/>
                </a:lnTo>
                <a:lnTo>
                  <a:pt x="20200" y="23264"/>
                </a:lnTo>
                <a:close/>
              </a:path>
              <a:path fill="lighten" w="21600" h="24664">
                <a:moveTo>
                  <a:pt x="0" y="24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64"/>
                </a:lnTo>
                <a:close/>
              </a:path>
              <a:path fill="darken" w="21600" h="24664">
                <a:moveTo>
                  <a:pt x="3794" y="12332"/>
                </a:moveTo>
                <a:lnTo>
                  <a:pt x="17806" y="5325"/>
                </a:lnTo>
                <a:lnTo>
                  <a:pt x="17806" y="193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3" name="chimes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58920" y="765000"/>
            <a:ext cx="1441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3336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说明方法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557360"/>
            <a:ext cx="799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66"/>
                </a:solidFill>
                <a:latin typeface="Arial"/>
                <a:ea typeface="黑体"/>
              </a:rPr>
              <a:t>打比方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：如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P125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第四段“荔枝呈心脏形…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997360"/>
            <a:ext cx="8604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作用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：这里运用了打比方的说明方法，将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荔枝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比作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心脏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，从而形象生动的说明了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荔枝的形状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7885080" y="333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3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24920" cy="6845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5640" y="404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  <a:ea typeface="黑体"/>
              </a:rPr>
              <a:t>说明方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62864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列数字</a:t>
            </a:r>
            <a:r>
              <a:rPr b="1" lang="zh-CN" sz="4800" spc="-1" strike="noStrike">
                <a:solidFill>
                  <a:srgbClr val="339966"/>
                </a:solidFill>
                <a:latin typeface="Arial"/>
                <a:ea typeface="黑体"/>
              </a:rPr>
              <a:t>：如</a:t>
            </a:r>
            <a:r>
              <a:rPr b="1" lang="zh-CN" sz="4800" spc="-1" strike="noStrike">
                <a:solidFill>
                  <a:srgbClr val="339966"/>
                </a:solidFill>
                <a:latin typeface="Arial"/>
                <a:ea typeface="黑体"/>
              </a:rPr>
              <a:t>P125</a:t>
            </a:r>
            <a:r>
              <a:rPr b="1" lang="zh-CN" sz="4800" spc="-1" strike="noStrike">
                <a:solidFill>
                  <a:srgbClr val="339966"/>
                </a:solidFill>
                <a:latin typeface="Arial"/>
                <a:ea typeface="黑体"/>
              </a:rPr>
              <a:t>第五段“荔枝大小…重达四五十克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21300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作用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：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这里运用了列数字的说明方法，用具体的数据对</a:t>
            </a: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黑体"/>
              </a:rPr>
              <a:t>荔枝的大小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加以说明，使说明更准确有说服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8028000" y="404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2" y="3794"/>
                </a:lnTo>
                <a:lnTo>
                  <a:pt x="214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3" name="chimes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260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说明方法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844640"/>
            <a:ext cx="266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77336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引用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0" lang="zh-CN" sz="4800" spc="-1" strike="noStrike">
                <a:solidFill>
                  <a:srgbClr val="339966"/>
                </a:solidFill>
                <a:latin typeface="Arial"/>
                <a:ea typeface="黑体"/>
              </a:rPr>
              <a:t>如</a:t>
            </a:r>
            <a:r>
              <a:rPr b="0" lang="zh-CN" sz="4800" spc="-1" strike="noStrike">
                <a:solidFill>
                  <a:srgbClr val="339966"/>
                </a:solidFill>
                <a:latin typeface="Arial"/>
                <a:ea typeface="黑体"/>
              </a:rPr>
              <a:t>P125</a:t>
            </a:r>
            <a:r>
              <a:rPr b="0" lang="zh-CN" sz="4800" spc="-1" strike="noStrike">
                <a:solidFill>
                  <a:srgbClr val="339966"/>
                </a:solidFill>
                <a:latin typeface="Arial"/>
                <a:ea typeface="黑体"/>
              </a:rPr>
              <a:t>上数第二行，至于整株“……绚丽景色了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6450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作用</a:t>
            </a: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：</a:t>
            </a:r>
            <a:r>
              <a:rPr b="1" lang="zh-CN" sz="4000" spc="-1" strike="noStrike">
                <a:solidFill>
                  <a:srgbClr val="339966"/>
                </a:solidFill>
                <a:latin typeface="Arial"/>
                <a:ea typeface="楷体_GB2312"/>
              </a:rPr>
              <a:t>这里运用了引用的说明方法，引用了大量古诗文，来说明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荔枝的有关知识</a:t>
            </a:r>
            <a:r>
              <a:rPr b="1" lang="zh-CN" sz="4000" spc="-1" strike="noStrike">
                <a:solidFill>
                  <a:srgbClr val="339966"/>
                </a:solidFill>
                <a:latin typeface="Arial"/>
                <a:ea typeface="楷体_GB2312"/>
              </a:rPr>
              <a:t>，既增强了说服力，又增强了文艺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8388360" y="620640"/>
            <a:ext cx="504720" cy="576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64">
                <a:moveTo>
                  <a:pt x="0" y="0"/>
                </a:moveTo>
                <a:lnTo>
                  <a:pt x="21600" y="0"/>
                </a:lnTo>
                <a:lnTo>
                  <a:pt x="21600" y="24664"/>
                </a:lnTo>
                <a:lnTo>
                  <a:pt x="0" y="24664"/>
                </a:lnTo>
                <a:close/>
              </a:path>
              <a:path fill="lightenLess" w="21600" h="24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64">
                <a:moveTo>
                  <a:pt x="21600" y="0"/>
                </a:moveTo>
                <a:lnTo>
                  <a:pt x="21600" y="24664"/>
                </a:lnTo>
                <a:lnTo>
                  <a:pt x="20200" y="23264"/>
                </a:lnTo>
                <a:lnTo>
                  <a:pt x="20200" y="1400"/>
                </a:lnTo>
                <a:close/>
              </a:path>
              <a:path fill="darkenLess" w="21600" h="24664">
                <a:moveTo>
                  <a:pt x="21600" y="24664"/>
                </a:moveTo>
                <a:lnTo>
                  <a:pt x="0" y="24664"/>
                </a:lnTo>
                <a:lnTo>
                  <a:pt x="1400" y="23264"/>
                </a:lnTo>
                <a:lnTo>
                  <a:pt x="20200" y="23264"/>
                </a:lnTo>
                <a:close/>
              </a:path>
              <a:path fill="lighten" w="21600" h="24664">
                <a:moveTo>
                  <a:pt x="0" y="24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64"/>
                </a:lnTo>
                <a:close/>
              </a:path>
              <a:path fill="darken" w="21600" h="24664">
                <a:moveTo>
                  <a:pt x="3794" y="12332"/>
                </a:moveTo>
                <a:lnTo>
                  <a:pt x="17806" y="5325"/>
                </a:lnTo>
                <a:lnTo>
                  <a:pt x="17806" y="193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3" name="chimes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3:31:12Z</dcterms:created>
  <dc:creator>USER</dc:creator>
  <dc:description/>
  <dc:language>en-US</dc:language>
  <cp:lastModifiedBy>zmj</cp:lastModifiedBy>
  <dcterms:modified xsi:type="dcterms:W3CDTF">2009-12-16T08:57:11Z</dcterms:modified>
  <cp:revision>36</cp:revision>
  <dc:subject/>
  <dc:title>幻灯片 1</dc:title>
</cp:coreProperties>
</file>