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9.png" ContentType="image/png"/>
  <Override PartName="/ppt/media/image6.jpeg" ContentType="image/jpeg"/>
  <Override PartName="/ppt/media/image20.png" ContentType="image/pn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whoosh.wav" ContentType="audio/x-wav"/>
  <Override PartName="/ppt/media/image4.png" ContentType="image/png"/>
  <Override PartName="/ppt/media/image27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938-5049-45B0-9C9C-9F3CF550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C9D-FA70-440A-A80C-FC6C0C4E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7B3-A251-4EAE-AB59-05EB82D8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1F7-B220-4814-A195-D600FFDC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283-F216-4680-8226-0317F7BF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42A-F38C-4B78-8023-5FD7E809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5EF-5F2F-49D6-B1D5-2B69E6F4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DA2-9C5F-4041-BE04-1975A9B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EB4-1FAB-4CAA-AE9B-B9775AAF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E92-8C04-4917-B7BA-FA85D83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9A0-FF42-4B53-B367-948A439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A1B-3AB8-4786-8BB6-DC42F6CD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FE82-CD43-4313-A254-88EDDAFA8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04300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771640" y="692280"/>
            <a:ext cx="4440240" cy="120312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99ff33"/>
                </a:solidFill>
                <a:latin typeface="宋体"/>
              </a:rPr>
              <a:t>南州六月荔枝丹</a:t>
            </a:r>
            <a:endParaRPr b="0" lang="en-US" sz="4400" spc="1" strike="noStrike">
              <a:ln w="41400">
                <a:solidFill>
                  <a:srgbClr val="ff6600"/>
                </a:solidFill>
                <a:miter/>
              </a:ln>
              <a:solidFill>
                <a:srgbClr val="99ff33"/>
              </a:solidFill>
              <a:latin typeface="宋体"/>
              <a:ea typeface="宋体"/>
            </a:endParaRPr>
          </a:p>
        </p:txBody>
      </p:sp>
      <p:pic>
        <p:nvPicPr>
          <p:cNvPr id="43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332000" y="2781360"/>
            <a:ext cx="4681440" cy="318600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46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47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2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5280" y="620640"/>
            <a:ext cx="32115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明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5904000" cy="3960720"/>
          </a:xfrm>
          <a:prstGeom prst="rect">
            <a:avLst/>
          </a:prstGeom>
          <a:solidFill>
            <a:srgbClr val="3366ff">
              <a:alpha val="40000"/>
            </a:srgbClr>
          </a:solidFill>
          <a:ln w="25560">
            <a:solidFill>
              <a:srgbClr val="0000ff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数据：运用列数据的方法，能使得事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确凿，更具说服力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举例子：举例说明的方法可以增强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章的厚重感和说服力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比方：能使被说明的事物形象更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生动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用：既增强了文章的文学色彩，又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富了文章的内容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152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57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 rot="1273200">
            <a:off x="6732360" y="907560"/>
            <a:ext cx="1581120" cy="1411560"/>
          </a:xfrm>
          <a:prstGeom prst="rect">
            <a:avLst/>
          </a:prstGeom>
          <a:ln w="255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omb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68000" y="764640"/>
            <a:ext cx="25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生字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6360" y="2420640"/>
            <a:ext cx="6840720" cy="2592360"/>
          </a:xfrm>
          <a:prstGeom prst="rect">
            <a:avLst/>
          </a:prstGeom>
          <a:noFill/>
          <a:ln w="25560">
            <a:solidFill>
              <a:srgbClr val="3333cc"/>
            </a:solidFill>
            <a:prstDash val="lgDashDotDot"/>
            <a:miter/>
          </a:ln>
        </p:spPr>
        <p:txBody>
          <a:bodyPr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褐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h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色     红缯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zē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   醴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l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酪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là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绛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jià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     贮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zh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藏     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ǒ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妃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fē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         瓤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rá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       粤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yu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ná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     襄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xiā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      阙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qu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dà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       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ni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          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jū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）裂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165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56000" y="1916280"/>
            <a:ext cx="6933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古代丝织品的统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生丝织的绸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一天走两天的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一个挨一个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自己受了气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拿别人出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指植物生长新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392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词语解释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兼程</a:t>
            </a: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次第</a:t>
            </a: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迁怒</a:t>
            </a: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萌蘖</a:t>
            </a: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511164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课 文 分 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8920" y="2707920"/>
            <a:ext cx="5688000" cy="2879640"/>
          </a:xfrm>
          <a:prstGeom prst="rect">
            <a:avLst/>
          </a:prstGeom>
          <a:blipFill rotWithShape="0">
            <a:blip r:embed="rId1">
              <a:alphaModFix amt="48000"/>
            </a:blip>
            <a:stretch/>
          </a:blipFill>
          <a:ln w="25560">
            <a:solidFill>
              <a:srgbClr val="003366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本文从哪些方面介绍了有关荔枝的知识？每个方面介绍了哪些具体内容？在熟悉课文的基础上，列出全文的结构提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文章采用了怎样的说明顺序？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flower2"/>
          <p:cNvPicPr/>
          <p:nvPr/>
        </p:nvPicPr>
        <p:blipFill>
          <a:blip r:embed="rId2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flower1"/>
          <p:cNvPicPr/>
          <p:nvPr/>
        </p:nvPicPr>
        <p:blipFill>
          <a:blip r:embed="rId3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180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5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6" name="" descr=""/>
            <p:cNvPicPr/>
            <p:nvPr/>
          </p:nvPicPr>
          <p:blipFill>
            <a:blip r:embed="rId5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 rot="914400">
            <a:off x="6516720" y="765000"/>
            <a:ext cx="1700280" cy="216072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702800" y="785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文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19080" y="1226160"/>
            <a:ext cx="10335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荔枝果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态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919080" y="4031640"/>
            <a:ext cx="10335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、荔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相关知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133720" y="1600200"/>
            <a:ext cx="2361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疑，引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下文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505600" y="2362320"/>
            <a:ext cx="1421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果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态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133720" y="3200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的花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209680" y="4267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的产地分布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209680" y="4952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代的荔枝书谱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09680" y="5562720"/>
            <a:ext cx="480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习性及生长北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顺势提出建议，结束全文。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⒀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647240" y="167652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外部形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44000" y="320040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内部构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629400" y="1066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壳构造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壳颜色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形状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小重量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629400" y="265284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薄膜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果肉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贮藏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果核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057400" y="182880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205740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0574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20574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9"/>
          <p:cNvSpPr/>
          <p:nvPr/>
        </p:nvSpPr>
        <p:spPr>
          <a:xfrm>
            <a:off x="1828800" y="25909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0"/>
          <p:cNvSpPr/>
          <p:nvPr/>
        </p:nvSpPr>
        <p:spPr>
          <a:xfrm>
            <a:off x="4267080" y="26668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4419720" y="19051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4419720" y="1905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419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6553080" y="12952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553080" y="1295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6"/>
          <p:cNvSpPr/>
          <p:nvPr/>
        </p:nvSpPr>
        <p:spPr>
          <a:xfrm>
            <a:off x="6553080" y="1676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65530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6553080" y="2438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6400800" y="190512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6553080" y="28954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6553080" y="2895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2"/>
          <p:cNvSpPr/>
          <p:nvPr/>
        </p:nvSpPr>
        <p:spPr>
          <a:xfrm>
            <a:off x="6553080" y="3276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3"/>
          <p:cNvSpPr/>
          <p:nvPr/>
        </p:nvSpPr>
        <p:spPr>
          <a:xfrm>
            <a:off x="6553080" y="3581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4"/>
          <p:cNvSpPr/>
          <p:nvPr/>
        </p:nvSpPr>
        <p:spPr>
          <a:xfrm>
            <a:off x="65530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5"/>
          <p:cNvSpPr/>
          <p:nvPr/>
        </p:nvSpPr>
        <p:spPr>
          <a:xfrm>
            <a:off x="6400800" y="34290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6"/>
          <p:cNvSpPr/>
          <p:nvPr/>
        </p:nvSpPr>
        <p:spPr>
          <a:xfrm>
            <a:off x="2057400" y="44956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7"/>
          <p:cNvSpPr/>
          <p:nvPr/>
        </p:nvSpPr>
        <p:spPr>
          <a:xfrm>
            <a:off x="205740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8"/>
          <p:cNvSpPr/>
          <p:nvPr/>
        </p:nvSpPr>
        <p:spPr>
          <a:xfrm>
            <a:off x="20574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9"/>
          <p:cNvSpPr/>
          <p:nvPr/>
        </p:nvSpPr>
        <p:spPr>
          <a:xfrm>
            <a:off x="2057400" y="579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0"/>
          <p:cNvSpPr/>
          <p:nvPr/>
        </p:nvSpPr>
        <p:spPr>
          <a:xfrm>
            <a:off x="1828800" y="51814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5486400" y="2057400"/>
            <a:ext cx="4921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2"/>
          <p:cNvSpPr/>
          <p:nvPr/>
        </p:nvSpPr>
        <p:spPr>
          <a:xfrm>
            <a:off x="5486400" y="2819520"/>
            <a:ext cx="4921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3"/>
          <p:cNvSpPr/>
          <p:nvPr/>
        </p:nvSpPr>
        <p:spPr>
          <a:xfrm>
            <a:off x="5715000" y="2514600"/>
            <a:ext cx="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4"/>
          <p:cNvSpPr/>
          <p:nvPr/>
        </p:nvSpPr>
        <p:spPr>
          <a:xfrm>
            <a:off x="380880" y="2514600"/>
            <a:ext cx="4921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5"/>
          <p:cNvSpPr/>
          <p:nvPr/>
        </p:nvSpPr>
        <p:spPr>
          <a:xfrm>
            <a:off x="380880" y="4800600"/>
            <a:ext cx="492120" cy="457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609480" y="2971800"/>
            <a:ext cx="0" cy="1828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7" descr="showimage"/>
          <p:cNvPicPr/>
          <p:nvPr/>
        </p:nvPicPr>
        <p:blipFill>
          <a:blip r:embed="rId1"/>
          <a:stretch/>
        </p:blipFill>
        <p:spPr>
          <a:xfrm>
            <a:off x="463680" y="571680"/>
            <a:ext cx="822240" cy="1071360"/>
          </a:xfrm>
          <a:prstGeom prst="rect">
            <a:avLst/>
          </a:prstGeom>
          <a:ln w="0">
            <a:noFill/>
          </a:ln>
        </p:spPr>
      </p:pic>
      <p:sp>
        <p:nvSpPr>
          <p:cNvPr id="234" name="Line 48"/>
          <p:cNvSpPr/>
          <p:nvPr/>
        </p:nvSpPr>
        <p:spPr>
          <a:xfrm>
            <a:off x="826920" y="1341360"/>
            <a:ext cx="3505320" cy="0"/>
          </a:xfrm>
          <a:prstGeom prst="line">
            <a:avLst/>
          </a:prstGeom>
          <a:ln w="28440">
            <a:solidFill>
              <a:srgbClr val="00ffff"/>
            </a:solidFill>
            <a:miter/>
            <a:headEnd len="lg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1066680" y="685800"/>
            <a:ext cx="0" cy="838080"/>
          </a:xfrm>
          <a:prstGeom prst="line">
            <a:avLst/>
          </a:prstGeom>
          <a:ln cap="rnd" w="381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0"/>
          <p:cNvSpPr/>
          <p:nvPr/>
        </p:nvSpPr>
        <p:spPr>
          <a:xfrm>
            <a:off x="3203640" y="76500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1"/>
          <p:cNvSpPr/>
          <p:nvPr/>
        </p:nvSpPr>
        <p:spPr>
          <a:xfrm>
            <a:off x="8318520" y="1222200"/>
            <a:ext cx="546120" cy="45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一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2"/>
          <p:cNvSpPr/>
          <p:nvPr/>
        </p:nvSpPr>
        <p:spPr>
          <a:xfrm>
            <a:off x="844236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8534520" y="1981080"/>
            <a:ext cx="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4"/>
          <p:cNvSpPr/>
          <p:nvPr/>
        </p:nvSpPr>
        <p:spPr>
          <a:xfrm>
            <a:off x="8003520" y="3200400"/>
            <a:ext cx="911880" cy="71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个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242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7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 rot="1861200">
            <a:off x="7092720" y="4581360"/>
            <a:ext cx="1655640" cy="154476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ircl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lizi4"/>
          <p:cNvPicPr/>
          <p:nvPr/>
        </p:nvPicPr>
        <p:blipFill>
          <a:blip r:embed="rId1"/>
          <a:stretch/>
        </p:blipFill>
        <p:spPr>
          <a:xfrm>
            <a:off x="324000" y="2492280"/>
            <a:ext cx="1996920" cy="2057400"/>
          </a:xfrm>
          <a:prstGeom prst="rect">
            <a:avLst/>
          </a:prstGeom>
          <a:ln w="0">
            <a:noFill/>
          </a:ln>
        </p:spPr>
      </p:pic>
      <p:sp>
        <p:nvSpPr>
          <p:cNvPr id="251" name="Line 3"/>
          <p:cNvSpPr/>
          <p:nvPr/>
        </p:nvSpPr>
        <p:spPr>
          <a:xfrm flipV="1">
            <a:off x="714240" y="1928880"/>
            <a:ext cx="78588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860480" y="1052640"/>
            <a:ext cx="225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常直径三四厘米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重十多克到二十多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温度保持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可贮藏三十天左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221000" y="928800"/>
            <a:ext cx="103356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数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1116000" y="2997000"/>
            <a:ext cx="1714680" cy="237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987640" y="2349360"/>
            <a:ext cx="130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龟 裂 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 线 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假 种 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4221000" y="2287440"/>
            <a:ext cx="10335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9"/>
          <p:cNvSpPr/>
          <p:nvPr/>
        </p:nvSpPr>
        <p:spPr>
          <a:xfrm flipH="1" flipV="1">
            <a:off x="971640" y="3500280"/>
            <a:ext cx="51912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411280" y="3429000"/>
            <a:ext cx="21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古籍、史料、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语，白居易、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渤、杜牧、苏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等人的诗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647600" y="3573360"/>
            <a:ext cx="6069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4427640" y="1052640"/>
            <a:ext cx="73080" cy="1218960"/>
          </a:xfrm>
          <a:custGeom>
            <a:avLst/>
            <a:gdLst>
              <a:gd name="textAreaLeft" fmla="*/ 0 w 73080"/>
              <a:gd name="textAreaRight" fmla="*/ 26280 w 730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4427640" y="2492280"/>
            <a:ext cx="73080" cy="762120"/>
          </a:xfrm>
          <a:custGeom>
            <a:avLst/>
            <a:gdLst>
              <a:gd name="textAreaLeft" fmla="*/ 0 w 73080"/>
              <a:gd name="textAreaRight" fmla="*/ 26280 w 730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4500720" y="3573360"/>
            <a:ext cx="71280" cy="1067040"/>
          </a:xfrm>
          <a:custGeom>
            <a:avLst/>
            <a:gdLst>
              <a:gd name="textAreaLeft" fmla="*/ 0 w 71280"/>
              <a:gd name="textAreaRight" fmla="*/ 2556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4294080" y="4869000"/>
            <a:ext cx="10335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打比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6"/>
          <p:cNvSpPr/>
          <p:nvPr/>
        </p:nvSpPr>
        <p:spPr>
          <a:xfrm>
            <a:off x="395280" y="4941720"/>
            <a:ext cx="401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荔枝壳表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好像龟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突起部分，有的尖锐如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壳如红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甘酸如醴酪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飞焰”“红云”“荷瓣”“桃花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4500720" y="5013360"/>
            <a:ext cx="71280" cy="1143000"/>
          </a:xfrm>
          <a:custGeom>
            <a:avLst/>
            <a:gdLst>
              <a:gd name="textAreaLeft" fmla="*/ 0 w 71280"/>
              <a:gd name="textAreaRight" fmla="*/ 25560 w 71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8"/>
          <p:cNvSpPr/>
          <p:nvPr/>
        </p:nvSpPr>
        <p:spPr>
          <a:xfrm>
            <a:off x="5292720" y="1197000"/>
            <a:ext cx="17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准确、客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具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5148360" y="3429000"/>
            <a:ext cx="20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确凿可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笔活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韵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5364000" y="4941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形象生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易于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文学情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7528320" y="93168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科学性与文学性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8321040" y="3196800"/>
            <a:ext cx="606960" cy="30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科学小品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7164360" y="1413000"/>
            <a:ext cx="144360" cy="4267080"/>
          </a:xfrm>
          <a:custGeom>
            <a:avLst/>
            <a:gdLst>
              <a:gd name="textAreaLeft" fmla="*/ 0 w 144360"/>
              <a:gd name="textAreaRight" fmla="*/ 52200 w 1443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1927800" y="4395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说明方法及其作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5" descr="showimage"/>
          <p:cNvPicPr/>
          <p:nvPr/>
        </p:nvPicPr>
        <p:blipFill>
          <a:blip r:embed="rId2"/>
          <a:stretch/>
        </p:blipFill>
        <p:spPr>
          <a:xfrm>
            <a:off x="539640" y="439560"/>
            <a:ext cx="561960" cy="714600"/>
          </a:xfrm>
          <a:prstGeom prst="rect">
            <a:avLst/>
          </a:prstGeom>
          <a:ln w="0">
            <a:noFill/>
          </a:ln>
        </p:spPr>
      </p:pic>
      <p:sp>
        <p:nvSpPr>
          <p:cNvPr id="274" name="Line 26"/>
          <p:cNvSpPr/>
          <p:nvPr/>
        </p:nvSpPr>
        <p:spPr>
          <a:xfrm>
            <a:off x="250920" y="1014480"/>
            <a:ext cx="472428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  <a:head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1187280" y="727200"/>
            <a:ext cx="0" cy="685800"/>
          </a:xfrm>
          <a:prstGeom prst="line">
            <a:avLst/>
          </a:prstGeom>
          <a:ln cap="rnd" w="381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5219640" y="2637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准确、科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278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83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4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979640" y="620640"/>
            <a:ext cx="6192720" cy="82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文章主要运用了引用的说明方法，下列古诗和文献资料具体说明的对象是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作用看大致可分几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68360" y="6021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说明荔枝的大小重量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970560" y="206064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○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飞焰欲横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7000" y="2421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荔枝成熟时的颜色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5648760" y="1989000"/>
            <a:ext cx="27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盈盈荷瓣风前落，片片桃花雨后娇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795280" y="2349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荔枝壳膜的形状和颜色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970560" y="27813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○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云几万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1201320" y="32130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果实成熟时荔枝林的颜色和形态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500364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○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日而色变，二日而香变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日而味变，四五日外，色香味尽去矣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5587200" y="429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荔枝不耐贮藏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5003640" y="27082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○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密移造化出闽山，禁御新栽荔枝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5861520" y="3068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古代历史上移栽荔枝的情形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682560" y="3645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○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长安回望绣成堆，山顶千门次第开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骑红尘妃子笑，无人知是荔枝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1384200" y="429264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唐玄宗时以飞马运荔枝供宫中享用的情形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682560" y="4653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○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卢浮山下四时春，卢橘杨梅次第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啖荔枝三百颗，不辞长作岭南人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929160" y="53006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3300"/>
                </a:solidFill>
                <a:latin typeface="Arial"/>
              </a:rPr>
              <a:t>（人们对荔枝的喜爱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1547280" y="5661000"/>
            <a:ext cx="29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○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川果树良种图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它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克左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305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0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500"/>
                            </p:stCondLst>
                            <p:childTnLst>
                              <p:par>
                                <p:cTn id="7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500"/>
                            </p:stCondLst>
                            <p:childTnLst>
                              <p:par>
                                <p:cTn id="7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56880" y="69192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引  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04520" y="1773360"/>
            <a:ext cx="4753080" cy="4248000"/>
          </a:xfrm>
          <a:prstGeom prst="rect">
            <a:avLst/>
          </a:prstGeom>
          <a:gradFill rotWithShape="0">
            <a:gsLst>
              <a:gs pos="0">
                <a:srgbClr val="00cc66">
                  <a:alpha val="49019"/>
                </a:srgbClr>
              </a:gs>
              <a:gs pos="100000">
                <a:srgbClr val="005e2f">
                  <a:alpha val="44313"/>
                </a:srgbClr>
              </a:gs>
            </a:gsLst>
            <a:lin ang="10800000"/>
          </a:gradFill>
          <a:ln w="25560">
            <a:solidFill>
              <a:srgbClr val="00330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用诗文，增强文学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“飞焰欲横天”、“红云几万重”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用古籍、史料，增强科学性，使说明有根据，更准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川果树良种图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数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用众多的资料，不仅为了充实内容、增添文采，也是为了纠正历来有关荔枝的记载中不实的或误传的成分，是出于科学性的考虑，是说明的需要，也是体现了本文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科学小品的体裁特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317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22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 rot="1587000">
            <a:off x="6141600" y="692280"/>
            <a:ext cx="1886040" cy="208908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plit dir="in" orient="horz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品味语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32000" y="2133720"/>
            <a:ext cx="3240000" cy="3960720"/>
          </a:xfrm>
          <a:prstGeom prst="rect">
            <a:avLst/>
          </a:prstGeom>
          <a:blipFill rotWithShape="0">
            <a:blip r:embed="rId1">
              <a:alphaModFix amt="43000"/>
            </a:blip>
            <a:stretch/>
          </a:blipFill>
          <a:ln w="19080">
            <a:solidFill>
              <a:srgbClr val="c0000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荔枝呈心脏形、卵圆形或圆形，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通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蒂部大，顶端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蒂部周围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微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突起，称为果肩；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有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边高，一边低。顶端叫果顶，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浑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尖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08720" y="1413000"/>
            <a:ext cx="2881080" cy="1572120"/>
          </a:xfrm>
          <a:prstGeom prst="rect">
            <a:avLst/>
          </a:prstGeom>
          <a:blipFill rotWithShape="0">
            <a:blip r:embed="rId2">
              <a:alphaModFix amt="56000"/>
            </a:blip>
            <a:srcRect/>
            <a:stretch/>
          </a:blipFill>
          <a:ln w="1908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常”一词界定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；“稍”准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了“小”的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64000" y="3789360"/>
            <a:ext cx="2808360" cy="132624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stretch/>
          </a:blipFill>
          <a:ln w="1908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微微”说明了突起的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度；“浑圆”和“尖圆”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明了两种圆的情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27280" y="2276640"/>
            <a:ext cx="1152360" cy="64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356000" y="4508640"/>
            <a:ext cx="93528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7" descr="flower2"/>
          <p:cNvPicPr/>
          <p:nvPr/>
        </p:nvPicPr>
        <p:blipFill>
          <a:blip r:embed="rId4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flower1"/>
          <p:cNvPicPr/>
          <p:nvPr/>
        </p:nvPicPr>
        <p:blipFill>
          <a:blip r:embed="rId5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334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39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0" name="" descr=""/>
            <p:cNvPicPr/>
            <p:nvPr/>
          </p:nvPicPr>
          <p:blipFill>
            <a:blip r:embed="rId7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3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品味语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3456000" cy="3167280"/>
          </a:xfrm>
          <a:prstGeom prst="rect">
            <a:avLst/>
          </a:prstGeom>
          <a:blipFill rotWithShape="0">
            <a:blip r:embed="rId1">
              <a:alphaModFix amt="43000"/>
            </a:blip>
            <a:stretch/>
          </a:blipFill>
          <a:ln w="19080">
            <a:solidFill>
              <a:srgbClr val="c0000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代讲荔枝的书，包括蔡襄的在内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现在知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。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熟的荔枝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多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深红色或紫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1413000"/>
            <a:ext cx="2735280" cy="825480"/>
          </a:xfrm>
          <a:prstGeom prst="rect">
            <a:avLst/>
          </a:prstGeom>
          <a:blipFill rotWithShape="0">
            <a:blip r:embed="rId2">
              <a:alphaModFix amt="56000"/>
            </a:blip>
            <a:srcRect/>
            <a:stretch/>
          </a:blipFill>
          <a:ln w="1908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“现在知道的”加 以限定，使说明更加客观、准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08720" y="3357720"/>
            <a:ext cx="2808360" cy="82548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stretch/>
          </a:blipFill>
          <a:ln w="1908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“大多数”限定范围，不排除特殊情况，使说明更客观、准确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643280" y="2492280"/>
            <a:ext cx="936720" cy="865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43280" y="3933720"/>
            <a:ext cx="93672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flower2"/>
          <p:cNvPicPr/>
          <p:nvPr/>
        </p:nvPicPr>
        <p:blipFill>
          <a:blip r:embed="rId4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flower1"/>
          <p:cNvPicPr/>
          <p:nvPr/>
        </p:nvPicPr>
        <p:blipFill>
          <a:blip r:embed="rId5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350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5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6" name="" descr=""/>
            <p:cNvPicPr/>
            <p:nvPr/>
          </p:nvPicPr>
          <p:blipFill>
            <a:blip r:embed="rId7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5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荔枝特写镜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624000">
            <a:off x="5508720" y="1052280"/>
            <a:ext cx="3313080" cy="248580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922200">
            <a:off x="3564000" y="2852280"/>
            <a:ext cx="3529080" cy="256068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20763000">
            <a:off x="680760" y="2331720"/>
            <a:ext cx="2663640" cy="367344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Picture 7" descr="flower2"/>
          <p:cNvPicPr/>
          <p:nvPr/>
        </p:nvPicPr>
        <p:blipFill>
          <a:blip r:embed="rId4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flower1"/>
          <p:cNvPicPr/>
          <p:nvPr/>
        </p:nvPicPr>
        <p:blipFill>
          <a:blip r:embed="rId5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61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语言的准确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3456000" cy="3527640"/>
          </a:xfrm>
          <a:prstGeom prst="rect">
            <a:avLst/>
          </a:prstGeom>
          <a:solidFill>
            <a:srgbClr val="9966ff">
              <a:alpha val="56000"/>
            </a:srgbClr>
          </a:solidFill>
          <a:ln w="19080">
            <a:solidFill>
              <a:srgbClr val="0000ff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的准确一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现在限定性词语的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上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的准确还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确数、约数词的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 rot="1445400">
            <a:off x="5508720" y="1700280"/>
            <a:ext cx="1728720" cy="230328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60" name="Picture 7" descr="flower2"/>
          <p:cNvPicPr/>
          <p:nvPr/>
        </p:nvPicPr>
        <p:blipFill>
          <a:blip r:embed="rId2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flower1"/>
          <p:cNvPicPr/>
          <p:nvPr/>
        </p:nvPicPr>
        <p:blipFill>
          <a:blip r:embed="rId3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363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68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9" name="" descr=""/>
            <p:cNvPicPr/>
            <p:nvPr/>
          </p:nvPicPr>
          <p:blipFill>
            <a:blip r:embed="rId5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4714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写作特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32000" y="2133360"/>
            <a:ext cx="5472000" cy="3816360"/>
          </a:xfrm>
          <a:prstGeom prst="rect">
            <a:avLst/>
          </a:prstGeom>
          <a:gradFill rotWithShape="0">
            <a:gsLst>
              <a:gs pos="0">
                <a:srgbClr val="0099ff">
                  <a:alpha val="48235"/>
                </a:srgbClr>
              </a:gs>
              <a:gs pos="50000">
                <a:srgbClr val="004675">
                  <a:alpha val="56078"/>
                </a:srgbClr>
              </a:gs>
              <a:gs pos="100000">
                <a:srgbClr val="0099ff">
                  <a:alpha val="48235"/>
                </a:srgbClr>
              </a:gs>
            </a:gsLst>
            <a:lin ang="5400000"/>
          </a:gradFill>
          <a:ln w="25560">
            <a:solidFill>
              <a:srgbClr val="0000ff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条理分明，层次清楚，结构严密，准确抓住事物的特征进行说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引用诗文，生动形象，富于文采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事实确凿，数字具体，科学性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375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80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81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 rot="1297800">
            <a:off x="6227640" y="836280"/>
            <a:ext cx="2160720" cy="17114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heel spokes="1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8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拓展阅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0360" y="1915920"/>
            <a:ext cx="4896000" cy="3816360"/>
          </a:xfrm>
          <a:prstGeom prst="rect">
            <a:avLst/>
          </a:prstGeom>
          <a:solidFill>
            <a:srgbClr val="00ffff">
              <a:alpha val="48000"/>
            </a:srgbClr>
          </a:solidFill>
          <a:ln w="25560">
            <a:solidFill>
              <a:srgbClr val="3366ff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荔枝图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荔枝生巴峡间，树形团团如帷盖，叶如桂，冬青；华如桔，春荣；实如丹，夏熟；朵如葡萄，核如枇杷，壳如红缯，膜如紫绡，瓤肉莹白如冰雪，浆液甘酸如醴酪，大略如彼，其实过之。若离本枝，一日而色变，二日而香变，三日而味变，四五日外，色香味尽去矣。元和十五年夏，南宾守乐天，命工吏图而书之，盖为不识者与识而不及一二三日者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143080" cy="345600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86" name="Picture 7" descr="flower2"/>
          <p:cNvPicPr/>
          <p:nvPr/>
        </p:nvPicPr>
        <p:blipFill>
          <a:blip r:embed="rId2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flower1"/>
          <p:cNvPicPr/>
          <p:nvPr/>
        </p:nvPicPr>
        <p:blipFill>
          <a:blip r:embed="rId3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389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94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5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课文小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5327640" cy="3895920"/>
          </a:xfrm>
          <a:prstGeom prst="rect">
            <a:avLst/>
          </a:prstGeom>
          <a:gradFill rotWithShape="0">
            <a:gsLst>
              <a:gs pos="0">
                <a:srgbClr val="462f75">
                  <a:alpha val="56078"/>
                </a:srgbClr>
              </a:gs>
              <a:gs pos="50000">
                <a:srgbClr val="9966ff">
                  <a:alpha val="48235"/>
                </a:srgbClr>
              </a:gs>
              <a:gs pos="100000">
                <a:srgbClr val="462f75">
                  <a:alpha val="56078"/>
                </a:srgbClr>
              </a:gs>
            </a:gsLst>
            <a:lin ang="5400000"/>
          </a:gradFill>
          <a:ln w="25560">
            <a:solidFill>
              <a:srgbClr val="993366"/>
            </a:solidFill>
            <a:prstDash val="lgDashDotDot"/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质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荔枝图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壳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颜色             果形          大小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膜             肉          不耐贮藏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核             花             产地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品种（图谱）          移植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发展前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4500720" y="256536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4211640" y="4581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1258920" y="306864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2916360" y="306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643280" y="306864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2484360" y="3573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2484360" y="407664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17"/>
          <p:cNvSpPr/>
          <p:nvPr/>
        </p:nvSpPr>
        <p:spPr>
          <a:xfrm flipV="1">
            <a:off x="1258920" y="357336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18"/>
          <p:cNvSpPr/>
          <p:nvPr/>
        </p:nvSpPr>
        <p:spPr>
          <a:xfrm>
            <a:off x="1258920" y="508464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19"/>
          <p:cNvSpPr/>
          <p:nvPr/>
        </p:nvSpPr>
        <p:spPr>
          <a:xfrm>
            <a:off x="1258920" y="407664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0"/>
          <p:cNvSpPr/>
          <p:nvPr/>
        </p:nvSpPr>
        <p:spPr>
          <a:xfrm>
            <a:off x="3924360" y="3573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1"/>
          <p:cNvSpPr/>
          <p:nvPr/>
        </p:nvSpPr>
        <p:spPr>
          <a:xfrm>
            <a:off x="1258920" y="4581360"/>
            <a:ext cx="576360" cy="28908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22"/>
          <p:cNvSpPr/>
          <p:nvPr/>
        </p:nvSpPr>
        <p:spPr>
          <a:xfrm>
            <a:off x="4067280" y="4076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414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9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0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 rot="1004400">
            <a:off x="6588000" y="691920"/>
            <a:ext cx="1828800" cy="24476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plit dir="out" orient="vert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68360" y="76464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作  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4824720" cy="3311640"/>
          </a:xfrm>
          <a:prstGeom prst="rect">
            <a:avLst/>
          </a:prstGeom>
          <a:blipFill rotWithShape="0">
            <a:blip r:embed="rId1">
              <a:alphaModFix amt="48000"/>
            </a:blip>
            <a:stretch/>
          </a:blipFill>
          <a:ln w="25560">
            <a:solidFill>
              <a:srgbClr val="00800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文艺性笔调写一篇短文，介绍你家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出产的一种水果或其他特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要求：抓住事物的特征，准确地介绍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妥善安排文章的结构层次，注意写作顺序；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多种方法说明事物，有意识地打比方、作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，使文章通俗生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．积累并尝试背诵下列古诗文：苏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州一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杜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过华清宫绝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白居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荔枝图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陈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荔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宋徽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宣和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荔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文徵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新荔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7" descr="flower2"/>
          <p:cNvPicPr/>
          <p:nvPr/>
        </p:nvPicPr>
        <p:blipFill>
          <a:blip r:embed="rId2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flower1"/>
          <p:cNvPicPr/>
          <p:nvPr/>
        </p:nvPicPr>
        <p:blipFill>
          <a:blip r:embed="rId3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427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3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2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6300720" y="765000"/>
            <a:ext cx="2143080" cy="345600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trips dir="ru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2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5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6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9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4" dur="1000"/>
                                        <p:tgtEl>
                                          <p:spTgt spid="4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7" dur="1000"/>
                                        <p:tgtEl>
                                          <p:spTgt spid="4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0" dur="10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3" dur="1000"/>
                                        <p:tgtEl>
                                          <p:spTgt spid="4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979640" y="907920"/>
            <a:ext cx="4968720" cy="4672080"/>
          </a:xfrm>
          <a:prstGeom prst="rect">
            <a:avLst/>
          </a:prstGeom>
          <a:gradFill rotWithShape="0">
            <a:gsLst>
              <a:gs pos="0">
                <a:srgbClr val="9966ff">
                  <a:alpha val="27058"/>
                </a:srgbClr>
              </a:gs>
              <a:gs pos="50000">
                <a:srgbClr val="462f75"/>
              </a:gs>
              <a:gs pos="100000">
                <a:srgbClr val="9966ff">
                  <a:alpha val="27058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5400" spc="-1" strike="noStrike">
                <a:solidFill>
                  <a:srgbClr val="ffff00"/>
                </a:solidFill>
                <a:latin typeface="Times New Roman"/>
              </a:rPr>
              <a:t>谢谢大家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zh-CN" sz="5400" spc="-1" strike="noStrike">
                <a:solidFill>
                  <a:srgbClr val="ffff00"/>
                </a:solidFill>
                <a:latin typeface="Times New Roman"/>
              </a:rPr>
              <a:t>再  见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439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4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5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5308560" cy="2521080"/>
          </a:xfrm>
          <a:prstGeom prst="rect">
            <a:avLst/>
          </a:prstGeom>
          <a:gradFill rotWithShape="0">
            <a:gsLst>
              <a:gs pos="0">
                <a:srgbClr val="462f75">
                  <a:alpha val="65098"/>
                </a:srgbClr>
              </a:gs>
              <a:gs pos="100000">
                <a:srgbClr val="9966ff">
                  <a:alpha val="62352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壳如红缯，膜如紫绡，瓤肉莹白如冰雪，浆液甘酸如醴酪 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荔枝图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1660800">
            <a:off x="4356000" y="3645000"/>
            <a:ext cx="2521080" cy="189072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0731800">
            <a:off x="684360" y="3429000"/>
            <a:ext cx="2755800" cy="2055960"/>
          </a:xfrm>
          <a:prstGeom prst="rect">
            <a:avLst/>
          </a:prstGeom>
          <a:ln w="1260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1" name="Picture 7" descr="flower2"/>
          <p:cNvPicPr/>
          <p:nvPr/>
        </p:nvPicPr>
        <p:blipFill>
          <a:blip r:embed="rId3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flower1"/>
          <p:cNvPicPr/>
          <p:nvPr/>
        </p:nvPicPr>
        <p:blipFill>
          <a:blip r:embed="rId4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74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9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55672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  <a:ea typeface="黑体"/>
              </a:rPr>
              <a:t>陈辉（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93160" y="907920"/>
            <a:ext cx="2472480" cy="3567600"/>
          </a:xfrm>
          <a:prstGeom prst="rect">
            <a:avLst/>
          </a:prstGeom>
          <a:solidFill>
            <a:srgbClr val="00ccff">
              <a:alpha val="70000"/>
            </a:srgbClr>
          </a:solidFill>
          <a:ln w="19080">
            <a:solidFill>
              <a:srgbClr val="33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南州六月荔枝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万颗累累蔟更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绛雪艳浮红锦烂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玉壶光莹水晶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高名已许传新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芳味曾经荐大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乌府日长霖暑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几株斜覆石阑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979640" y="765000"/>
            <a:ext cx="25002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荔枝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87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2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 rot="20735400">
            <a:off x="971640" y="3213000"/>
            <a:ext cx="3384360" cy="253836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316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    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4365360" cy="3656160"/>
          </a:xfrm>
          <a:prstGeom prst="rect">
            <a:avLst/>
          </a:prstGeom>
          <a:gradFill rotWithShape="0">
            <a:gsLst>
              <a:gs pos="0">
                <a:srgbClr val="0099ff">
                  <a:alpha val="54117"/>
                </a:srgbClr>
              </a:gs>
              <a:gs pos="100000">
                <a:srgbClr val="004675">
                  <a:alpha val="57254"/>
                </a:srgbClr>
              </a:gs>
            </a:gsLst>
            <a:lin ang="5400000"/>
          </a:gradFill>
          <a:ln w="19080">
            <a:solidFill>
              <a:srgbClr val="3333cc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南  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荔枝的产地，泛指我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南部地区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六  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荔枝的成熟期。这里的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月是指阴历的六月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荔枝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荔枝成熟后的颜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突出了荔枝生态的主要特点产地、成熟期、颜色。充满诗情画意，而且引古诗为题，也与全篇广泛引证的风格统一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100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5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1104000">
            <a:off x="5724360" y="836280"/>
            <a:ext cx="2374920" cy="221760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12320" cy="8037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1911240" y="5105520"/>
            <a:ext cx="4872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2120" y="1295280"/>
            <a:ext cx="8381880" cy="4024800"/>
            <a:chOff x="762120" y="1295280"/>
            <a:chExt cx="8381880" cy="4024800"/>
          </a:xfrm>
        </p:grpSpPr>
        <p:grpSp>
          <p:nvGrpSpPr>
            <p:cNvPr id="111" name=""/>
            <p:cNvGrpSpPr/>
            <p:nvPr/>
          </p:nvGrpSpPr>
          <p:grpSpPr>
            <a:xfrm>
              <a:off x="762120" y="1295280"/>
              <a:ext cx="8381880" cy="4024800"/>
              <a:chOff x="762120" y="1295280"/>
              <a:chExt cx="8381880" cy="4024800"/>
            </a:xfrm>
          </p:grpSpPr>
          <p:sp>
            <p:nvSpPr>
              <p:cNvPr id="112" name=""/>
              <p:cNvSpPr/>
              <p:nvPr/>
            </p:nvSpPr>
            <p:spPr>
              <a:xfrm>
                <a:off x="838080" y="1295280"/>
                <a:ext cx="830592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           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贾祖璋是我国著名的老科普作家，生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             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1901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年，浙江省海宁县人。他著有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《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中国植物图鉴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等专著，他的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《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鸟类概论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，是我国最早的一部现代鸟类学著作，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1931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年出版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2120" y="3276360"/>
                <a:ext cx="685800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                        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解放前，他还出版过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学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、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《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动物珍话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、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《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生活素描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等，解放后出版的有生物科学小品集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《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生物学碎锦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，其中的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《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南州六月荔枝丹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写于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1979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年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5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月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,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选自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《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生物学碎锦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》 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方正姚体"/>
                    <a:ea typeface="方正姚体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858000" y="327636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方正姚体"/>
                  <a:ea typeface="方正姚体"/>
                </a:rPr>
                <a:t>《</a:t>
              </a:r>
              <a:r>
                <a:rPr b="1" lang="zh-CN" sz="3200" spc="-1" strike="noStrike">
                  <a:solidFill>
                    <a:srgbClr val="333399"/>
                  </a:solidFill>
                  <a:latin typeface="方正姚体"/>
                  <a:ea typeface="方正姚体"/>
                </a:rPr>
                <a:t>鸟与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360" y="-223200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15200" y="4343400"/>
            <a:ext cx="1676520" cy="2408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8000" y="5943600"/>
            <a:ext cx="390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3280" y="260280"/>
            <a:ext cx="3211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文体知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58920" y="1484280"/>
            <a:ext cx="5041800" cy="3527280"/>
          </a:xfrm>
          <a:prstGeom prst="rect">
            <a:avLst/>
          </a:prstGeom>
          <a:blipFill rotWithShape="0">
            <a:blip r:embed="rId1">
              <a:alphaModFix amt="54000"/>
            </a:blip>
            <a:stretch/>
          </a:blipFill>
          <a:ln w="19080">
            <a:solidFill>
              <a:srgbClr val="00000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科学小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用文艺性笔调介绍科学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阐述科学道理，使人获得科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知识的同时还能得到某种思想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的陶冶和艺术上的享受的一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知识性、趣味性、通俗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121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6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20238000">
            <a:off x="826920" y="3789000"/>
            <a:ext cx="2379960" cy="221940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Picture 7" descr="flower2"/>
          <p:cNvPicPr/>
          <p:nvPr/>
        </p:nvPicPr>
        <p:blipFill>
          <a:blip r:embed="rId5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flower1"/>
          <p:cNvPicPr/>
          <p:nvPr/>
        </p:nvPicPr>
        <p:blipFill>
          <a:blip r:embed="rId6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1447920"/>
            <a:ext cx="79246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种类：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事物说明文  事理说明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特点：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抓住事物的特征进行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方法：  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下定义  作诠释  打比方    举例子  列数字  作比较  分类别  画图表  作引用  摹状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顺序：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时间 空间 逻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语言：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平实性  生动性  （准确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049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说明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3211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明顺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5904000" cy="46814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prstDash val="lgDashDot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时间顺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——即按事物发展的时间先后次序来说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空间顺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——即按事物空间结构的顺序来说明。如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体——局部          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              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事理顺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依据事物之间或某一事物各部分之间的逻辑关系来说明。如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别    主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要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果    现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本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总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说    简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杂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特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flower2"/>
          <p:cNvPicPr/>
          <p:nvPr/>
        </p:nvPicPr>
        <p:blipFill>
          <a:blip r:embed="rId1"/>
          <a:stretch/>
        </p:blipFill>
        <p:spPr>
          <a:xfrm>
            <a:off x="355680" y="406440"/>
            <a:ext cx="1636560" cy="2158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flower1"/>
          <p:cNvPicPr/>
          <p:nvPr/>
        </p:nvPicPr>
        <p:blipFill>
          <a:blip r:embed="rId2"/>
          <a:stretch/>
        </p:blipFill>
        <p:spPr>
          <a:xfrm>
            <a:off x="6516720" y="4557600"/>
            <a:ext cx="2381040" cy="1895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-34920" y="-27000"/>
            <a:ext cx="9178920" cy="6885000"/>
            <a:chOff x="-34920" y="-27000"/>
            <a:chExt cx="9178920" cy="6885000"/>
          </a:xfrm>
        </p:grpSpPr>
        <p:grpSp>
          <p:nvGrpSpPr>
            <p:cNvPr id="139" name=""/>
            <p:cNvGrpSpPr/>
            <p:nvPr/>
          </p:nvGrpSpPr>
          <p:grpSpPr>
            <a:xfrm>
              <a:off x="-34920" y="-27000"/>
              <a:ext cx="9178920" cy="6885000"/>
              <a:chOff x="-34920" y="-27000"/>
              <a:chExt cx="9178920" cy="6885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-34920" y="-27000"/>
                <a:ext cx="9178920" cy="6885000"/>
                <a:chOff x="-34920" y="-27000"/>
                <a:chExt cx="9178920" cy="6885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0" y="6453360"/>
                  <a:ext cx="9144000" cy="404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高等教育出版社  高等教育电子音像出版社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-34920" y="-27000"/>
                  <a:ext cx="9178920" cy="43164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29200" y="6473880"/>
                  <a:ext cx="36036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4" name=""/>
              <p:cNvSpPr/>
              <p:nvPr/>
            </p:nvSpPr>
            <p:spPr>
              <a:xfrm>
                <a:off x="1612080" y="44280"/>
                <a:ext cx="2954520" cy="307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中等职业教育课程改革国家规划新教材配套多媒体助教光盘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254160" y="-27000"/>
              <a:ext cx="433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rot="1273200">
            <a:off x="6300360" y="620280"/>
            <a:ext cx="1581120" cy="1411200"/>
          </a:xfrm>
          <a:prstGeom prst="rect">
            <a:avLst/>
          </a:prstGeom>
          <a:ln w="255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hecke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0:33:16Z</dcterms:created>
  <dc:creator>czy</dc:creator>
  <dc:description/>
  <dc:language>en-US</dc:language>
  <cp:lastModifiedBy>Lenovo User</cp:lastModifiedBy>
  <dcterms:modified xsi:type="dcterms:W3CDTF">2011-03-13T12:35:13Z</dcterms:modified>
  <cp:revision>433</cp:revision>
  <dc:subject>2.4二次函数的应用（3）</dc:subject>
  <dc:title>浙教版九年级《数学》上册</dc:title>
</cp:coreProperties>
</file>