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16BB-9C8F-48EB-A1A2-33EA6E55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20F9-A420-4C82-98DF-6EE9F703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2DD-23D6-4E4E-A5E2-03626160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22C4-31C2-4504-B73D-F66DFD5A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40B-772D-403F-A0E6-D01CC42B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7E45-036A-4433-82BE-52BDD3F8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06AD-3CFB-4E2D-8E8E-1B1425FF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5D9B-B79F-43FC-8875-4D5316AE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D7BB-74F6-4E96-8A18-CBB84D22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6B6-57E2-468E-B1CC-40D13225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40D-3360-458A-8F44-B6449720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3CC-BDD6-4B9F-9DD3-990C3C88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46BC-0975-4F33-BF14-70D27F0C5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编 号: 550047 　　　&#13;&#10;摄影作者: 　　&#13;&#10;文件名:ywyhym7852.jpg　　&#13;&#10;文件大小:K　　&#13;&#10;高 X 宽:421 X 300　　&#13;&#10;说明:ywyhym7852.jpg"/>
          <p:cNvPicPr/>
          <p:nvPr/>
        </p:nvPicPr>
        <p:blipFill>
          <a:blip r:embed="rId1"/>
          <a:stretch/>
        </p:blipFill>
        <p:spPr>
          <a:xfrm>
            <a:off x="685800" y="0"/>
            <a:ext cx="5572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6724080" y="685800"/>
            <a:ext cx="18262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拟行路难（其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6388200" y="1295280"/>
            <a:ext cx="850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华文新魏"/>
              </a:rPr>
              <a:t>南朝 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·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华文新魏"/>
              </a:rPr>
              <a:t>宋   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华文新魏"/>
              </a:rPr>
              <a:t>鲍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19920" y="4190760"/>
            <a:ext cx="2474640" cy="23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现代双语高二语文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“愁”的原因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行路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明确：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找出诗中表达“愁”的意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明确：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80880" y="68580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隶书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第一二句用了什么表现手法？说明了什么道理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85800" y="28954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运用了借物起兴的表现手法。说明了像水是依照高下不同的地势流向各方一样，人的遭际也是被家庭门第的高低贵贱决定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380880" y="4572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隶书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第三句中的“命”是指什么？结合全诗看，作者对此有怎样的看法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26668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命”指门第决定人生，有什么样的门第就有什么样的遭遇。作者认为非常不公平，但没法改变，只能发出愤怒的控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457200" y="2286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　第五、六句塑造了一个怎样的形象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57200" y="1676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以非常精练的笔法，生动形象地刻画出诗人悲怆难抑的情态。酌酒原为排遣愁绪，然而满怀郁结的悲愁岂是区区杯酒能驱散的？诗人趁着酒意击节高歌，唱起了悲怆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行路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将一腔悲愤倾泻出来。长歌当哭，这是何等悲烈景况。读者从这举杯驱愁却大放悲声的情节中，亦可想见其悲其愁的沉郁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838080" y="5335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第七句写出了什么感情？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914400" y="1828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第七句是对前面几句的总结，诗人对那驱不散的愁苦，实系于对世事的感慨，心并非无知无觉的木石，理的劝喻，酒的麻醉，都不能使心如槁木，用反问的句式，冲决了自我克制的堤防，使全诗的情感达到了高潮。表达了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诗人的抗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第八句写出了什么感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72392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表达的是作者心中的无奈，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岂无敢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越是激昂，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不敢言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痛苦就越是深沉。两句构成了一种鲜明的对照，将诗人</a:t>
            </a:r>
            <a:r>
              <a:rPr b="1" lang="zh-CN" sz="3600" spc="-1" strike="noStrike">
                <a:solidFill>
                  <a:srgbClr val="cc3300"/>
                </a:solidFill>
                <a:latin typeface="隶书"/>
                <a:ea typeface="隶书"/>
              </a:rPr>
              <a:t>忍辱负重、矛盾痛苦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的精神状况表现得淋漓尽致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劝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愁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排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愁   前三句自我克制的痛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寒士不平的悲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倾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愁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愁  最后一句无力抗争无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乱世不保的忧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抓关键词体会全文作者的感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诗人情感变化的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认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认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︱         ︱                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抨击        悲愤            无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1219320" y="24382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66680" y="380880"/>
            <a:ext cx="601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写作特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914400" y="1676520"/>
            <a:ext cx="76201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语言质朴。近乎口语，明白晓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此诗以真情动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音律也很独特。一与三、二与四分别押韵，错落有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533520" y="7621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Arial"/>
                <a:ea typeface="楷体_GB2312"/>
              </a:rPr>
              <a:t>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鲍照，南朝宋文学家。字明远。本籍东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鲍照一生沉沦下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很不得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但他的诗文，在生前就颇负盛名，对后来的作家更产生过重大影响。诗、赋、骈文都不乏名篇，而成就最高的则是诗歌，其中乐府诗在他现存的作品中所占的比重很大，而且多传诵名篇。最有名的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拟行路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首。鲍照擅长诗赋和骈文，尤善乐府，作品风格俊逸，对唐代诗人李白等很有影响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685800" y="16002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Arial"/>
                <a:ea typeface="华文新魏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全诗突出一个“愁”字，所叹者愁，酌酒为消愁，悲歌为断愁，不敢言者更添愁。正如沈德潜所说，此诗“妙在不曾说破，读之自然生愁”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838080" y="457200"/>
            <a:ext cx="381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全诗小结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行路难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金樽清酒斗十千，玉盘珍羞直万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停杯投箸不能食，拔剑四顾心茫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欲渡黄河冰塞川，将登太行雪满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闲来垂钓碧溪上，忽复乘舟梦日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行路难，行路难，多歧路，今安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风破浪会有时，直挂云帆济沧海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98208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鲍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南朝刘宋社会动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怀才不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盛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怀才不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乐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609480" y="1219320"/>
            <a:ext cx="7696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国魏晋南北朝时期，实行门阀制度，造成“上品无寒门，下品无世族”的局面。门阀制度阻塞了寒士的进仕之路，一些才高的寒士自然心怀不平，寒士的不平反映在文学作品中，就成为这个时期文学的一个特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762120" y="53352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背景简介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905120" y="1219320"/>
            <a:ext cx="46479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阅读诗歌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整体感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倾倒水于平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向四处分流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生是即定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么能成天自怨自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喝点酒来宽慰自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路难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gt;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歌唱声因举杯饮酒俞益悲愁而中断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心又不是草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么会没有感情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欲说还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欲行又止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再多说什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知人论世  以意逆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90709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  论世：门第决定人生走向，门阀制度阻塞了寒士的进仕之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  知人：鲍照努力抗争，积极进取，争取机会；一生仕途坎坷，多做小官，怀才不遇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  观图：借酒浇愁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松树：寓意正直高洁的品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孤高正直的内在人格的追求和坚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本文写诗人在门阀制度重压下的怀才不遇，抒发愁苦的感叹，表达了深感世路艰难激发起的愤慨不平之情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本诗的诗眼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明确：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762120" y="2666880"/>
            <a:ext cx="769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华文新魏"/>
              </a:rPr>
              <a:t>　　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新魏"/>
              </a:rPr>
              <a:t>怀才不遇的愤懑之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143000" y="121932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本诗的感情基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用户</cp:lastModifiedBy>
  <dcterms:modified xsi:type="dcterms:W3CDTF">2013-11-12T01:39:24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