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C4B9-75FF-4ECD-891A-A1F375DF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329-5ABE-424B-A79B-4AD29926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9620-B823-49CE-9F22-7391D08C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2D66-E008-4A06-8A57-CA29BF66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82C7-631B-4C6C-A346-25324A3A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BBC8-AA6F-4B94-BABB-B32685A4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D415-6513-4285-ABA1-1B042E57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80C9-D4CE-4B9C-93A5-27F6AF50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6686-9306-413F-A022-64FA156D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9CC4-247B-48C6-9800-CA6BF5DF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4E09-EF39-4108-B2B5-1A17CA96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CDA0-E780-41C7-B29D-D23D0AF0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CFD3-1F9B-4724-BF4B-6A5E59FE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7F65-358A-415A-A818-DF1F4602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0D43-320C-493D-98FC-A9F035E3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5CF6-57DC-431F-9ED4-DE9A9B8A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47A9-72AC-446D-A664-E377D15C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852D3-B087-4C31-9AEE-4514CE7C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F54B7-A408-4B90-AFAB-21FA537A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1A53D-ED8D-48B0-8327-96481C9A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065AA-3E35-49E9-85F2-B4A669F2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D8D15-4028-4C50-AE11-A09ABD66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1992-FE3B-4135-9CF1-AF60B07E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53900-E2EF-4A87-A748-929F5BF2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6148A-7C4E-4C84-9728-A2E8EEA9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6AFBC-DCCA-4D89-B4C0-CF32FCBB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97D88-2FE0-4D32-B434-FC25C75D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25057-762E-4562-B025-8116DDE4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42CA3-9406-401F-886D-50082D91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9B23-C828-4AFB-A71F-7B69F4A8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6BC6-F648-4C6E-8986-169A34F2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A43-D7C6-462C-BF0D-E2CB87FE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FAC9-7100-47B1-8834-5A7B6067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6BA-1D68-44B0-891A-78586E21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246-639E-40DC-B604-27B5C13D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29E-E61E-488D-8324-2ABB77D2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DC03-6470-4BDF-96AB-16B5740B63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CE26-0685-442B-BC69-C7DE21BF011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A222-F1EE-43E6-8B9F-49BBB220C67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&#36951;&#20256;&#30149;.ppt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143000" y="2819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ff00"/>
                </a:solidFill>
                <a:latin typeface="Arial"/>
                <a:ea typeface="楷体"/>
              </a:rPr>
              <a:t>欢迎各位领导和老师的莅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如何四纪为天子，不及卢家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莫愁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莫愁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古时洛阳女子。南朝乐府歌辞《河东之水歌》道：“莫愁十三能织绮，十四采桑南陌头，十五嫁为卢家妇，十六生儿字阿侯。”极写莫愁婚姻的美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为什么当了四十多年皇帝的玄宗，到头来保不住自己的宠妃，反而不如民间夫妇能够白头偕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398280" y="2708280"/>
            <a:ext cx="20091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译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971640" y="260280"/>
            <a:ext cx="655308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海外徒闻更九州，他生未卜此生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徒然听到传说，海外还有九州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来生未可预知，今生就此罢休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空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虎旅传宵柝，无复鸡人报晓筹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空然闻听禁卫军，夜间击打刀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不再有宫中鸡人，报晓敲击更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此日六军同驻马，当时七夕笑牵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六军已经约定，全都驻马不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遥想当年七夕，我们还嗤笑织女牛郎</a:t>
            </a: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如何四纪为天子，不及卢家有莫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如何历经四纪，身份贵为天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却不及卢家夫婿，朝朝夕夕陪伴莫愁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2879640" cy="5976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600" y="31993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海外徒闻更九州，他生未卜此生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64000" y="0"/>
            <a:ext cx="53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说，杨贵妃死后，唐玄宗悲伤不已，就命蜀地方术之士寻找她的魂魄（即招魂）。</a:t>
            </a:r>
            <a:r>
              <a:rPr b="1" lang="zh-CN" sz="2000" spc="-1" strike="noStrike">
                <a:solidFill>
                  <a:srgbClr val="1e1e1e"/>
                </a:solidFill>
                <a:latin typeface="Arial"/>
                <a:ea typeface="楷体_GB2312"/>
              </a:rPr>
              <a:t>玄宗派人招魂，方士回来说“海外”还有“九州”，杨妃生活在那里，信守“世世为夫妻”誓约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说在海外蓬莱仙山找到了杨贵妃，还带回了她头上的饰物。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4581360"/>
            <a:ext cx="540072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空闻海外还有一个九州，来生为夫妻的盟誓能否实现，还渺茫难期，此生夫妻的缘分已经断绝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8360" y="2133720"/>
            <a:ext cx="5327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e1e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1e1e1e"/>
                </a:solidFill>
                <a:latin typeface="宋体"/>
              </a:rPr>
              <a:t>问：这可信吗？哪个词语和句子戳破了这种说法？</a:t>
            </a:r>
            <a:r>
              <a:rPr b="1" lang="zh-CN" sz="2400" spc="-1" strike="noStrike">
                <a:solidFill>
                  <a:srgbClr val="1e1e1e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3141720"/>
            <a:ext cx="540072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e1e1e"/>
                </a:solidFill>
                <a:latin typeface="宋体"/>
              </a:rPr>
              <a:t>不可信，“徒闻”一词否定了方士的话，“他生未卜此生休”，来生微茫难求，但今生一起缘分断绝，已是事实。</a:t>
            </a:r>
            <a:r>
              <a:rPr b="0" lang="zh-CN" sz="2400" spc="-1" strike="noStrike">
                <a:solidFill>
                  <a:srgbClr val="1e1e1e"/>
                </a:solidFill>
                <a:latin typeface="Times New Roman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877400" y="0"/>
            <a:ext cx="403668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空闻虎旅传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宵柝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，无复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鸡人报晓筹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6520" y="907920"/>
            <a:ext cx="10951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楷体_GB2312"/>
              </a:rPr>
              <a:t>夜间巡逻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楷体_GB2312"/>
              </a:rPr>
              <a:t>用的梆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23640" y="549360"/>
            <a:ext cx="1079640" cy="647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907920"/>
            <a:ext cx="47257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楷体_GB2312"/>
              </a:rPr>
              <a:t>汉代制度，宫中不养鸡，而用人传唱报晓，鸡人：宫中掌握时间的卫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楷体_GB2312"/>
              </a:rPr>
              <a:t>筹：更筹，敲击报时用的竹签，这里代指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48360" y="260280"/>
            <a:ext cx="144720" cy="647640"/>
          </a:xfrm>
          <a:custGeom>
            <a:avLst/>
            <a:gdLst>
              <a:gd name="textAreaLeft" fmla="*/ 19080 w 144720"/>
              <a:gd name="textAreaRight" fmla="*/ 125640 w 14472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83840" y="0"/>
            <a:ext cx="14601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空听军队中传来巡夜的梆子声，不再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人传唱报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87640" y="3645000"/>
            <a:ext cx="4824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从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对比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角度来写李、杨爱情悲剧：马嵬兵变之后，唐玄宗这位失去了权势的皇帝，听到的只是军旅的梆声，再也享受不到在长安宫殿里专人报晓的服务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2790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0920" y="189000"/>
            <a:ext cx="8604000" cy="352440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鸡人报晓筹” 反衬“虎旅传宵柝”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昔乐今苦，昔安今危的不同处境和心情已跃然纸上。“虎旅传宵柝”的逃难生活很不安适，这是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一层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“鸡人报晓筹”相映衬，暗示主人公渴望重享昔日的安乐，这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又是一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意思。再用“空闻”和“无复”相呼应，表现那希望已幻灭，为尾联蓄势，这是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第三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虎旅传宵柝”本来是为了巡逻和警卫，而冠以“空闻”，意义就适得其反。从章法上看，“空闻”上承“此生休”，下启“六军同驻马”。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意思是：“虎旅”虽“传宵柝”，却不是为了保卫皇帝和贵妃的安全，而是要发动兵变了。正因为如此，才“无复鸡人报晓筹”，李、杨再不可能享受安适的宫廷生活了。</a:t>
            </a: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16000" y="260280"/>
            <a:ext cx="671832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此日六军同驻马，当时七夕笑牵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5373720"/>
            <a:ext cx="8208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这一天军队发生哗变，停留不前，当时在七夕之夜还曾嘲笑牛郎织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052640"/>
            <a:ext cx="8497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宝十年七月七日夜，唐玄宗和杨贵妃订立盟誓，愿“世世为夫妇”。他们认为天上的牛郎和织女一年只能相会一次，自己则可永世相守，因此“笑牵牛”。现实的情景是军队哗变，“六军不发”，当年盟誓长生殿、嘲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郎织女的赏心乐事，而今都成悲痛，可谓“乐往哀来摧肺肝”！此句依然是从</a:t>
            </a:r>
            <a:r>
              <a:rPr b="1" lang="zh-CN" sz="2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对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角度来写李、杨的爱情悲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e1e1e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1e1e1e"/>
                </a:solidFill>
                <a:latin typeface="Arial"/>
                <a:ea typeface="楷体_GB2312"/>
              </a:rPr>
              <a:t>玄宗以自己和杨妃的朝夕相处讥笑牛郎织女的一年一次的七夕相会，实则写出了玄宗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楷体_GB2312"/>
              </a:rPr>
              <a:t>迷恋情色</a:t>
            </a:r>
            <a:r>
              <a:rPr b="1" lang="zh-CN" sz="2400" spc="-1" strike="noStrike">
                <a:solidFill>
                  <a:srgbClr val="1e1e1e"/>
                </a:solidFill>
                <a:latin typeface="Arial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楷体_GB2312"/>
              </a:rPr>
              <a:t>荒废朝政</a:t>
            </a:r>
            <a:r>
              <a:rPr b="1" lang="zh-CN" sz="2400" spc="-1" strike="noStrike">
                <a:solidFill>
                  <a:srgbClr val="1e1e1e"/>
                </a:solidFill>
                <a:latin typeface="Arial"/>
                <a:ea typeface="楷体_GB2312"/>
              </a:rPr>
              <a:t>，致使战祸发生。眼前是写“六军”同时“驻马”不前，未写不前原因，但原因不甚明了，要求“赐”死杨妃，杨妃是美女，美女自古便有祸水一说，显然前后句是倒行逆施的因果关系。</a:t>
            </a:r>
            <a:r>
              <a:rPr b="0" lang="zh-CN" sz="2400" spc="-1" strike="noStrike">
                <a:solidFill>
                  <a:srgbClr val="1e1e1e"/>
                </a:solidFill>
                <a:latin typeface="Arial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949040" y="122400"/>
            <a:ext cx="403632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如何四纪为天子，不及卢家有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ea typeface="华文新魏"/>
              </a:rPr>
              <a:t>莫愁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00600" y="1403280"/>
            <a:ext cx="1643400" cy="4074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南朝乐府歌辞《河东之水歌》道：“莫愁十三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织绮，十四采桑南陌头。十五嫁为卢家妇，十六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儿字阿侯。”极写莫愁婚姻的幸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72360" y="692280"/>
            <a:ext cx="360360" cy="792000"/>
          </a:xfrm>
          <a:prstGeom prst="downArrow">
            <a:avLst>
              <a:gd name="adj1" fmla="val 50000"/>
              <a:gd name="adj2" fmla="val 54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1125360"/>
            <a:ext cx="574560" cy="503280"/>
          </a:xfrm>
          <a:prstGeom prst="rightArrow">
            <a:avLst>
              <a:gd name="adj1" fmla="val 50000"/>
              <a:gd name="adj2" fmla="val 28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4000" y="2133720"/>
            <a:ext cx="3889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此联点明题旨：如何贵为天子那么多年，却无力保护自己的女人，反而连平常百姓人家的幸福也没有呢？这一反问是全诗的“诗眼”，虽然含蓄却很有力，引导读者深思李、杨悲剧的根源，启发世人记取唐玄宗沉迷情色，荒废朝政，致使国家陷于动荡、人民饱受战乱之苦的历史悲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/>
          </p:cNvPr>
          <p:cNvSpPr/>
          <p:nvPr/>
        </p:nvSpPr>
        <p:spPr>
          <a:xfrm>
            <a:off x="395280" y="189000"/>
            <a:ext cx="8280360" cy="823320"/>
          </a:xfrm>
          <a:prstGeom prst="rect">
            <a:avLst/>
          </a:prstGeom>
          <a:solidFill>
            <a:srgbClr val="99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分析写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49920" y="2781360"/>
            <a:ext cx="1826280" cy="15843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Comic Sans MS"/>
              </a:rPr>
              <a:t>对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55840" y="123660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19640" y="1341360"/>
            <a:ext cx="316836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Comic Sans MS"/>
              </a:rPr>
              <a:t>更九州  他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19640" y="2205000"/>
            <a:ext cx="3168360" cy="581400"/>
          </a:xfrm>
          <a:prstGeom prst="rect">
            <a:avLst/>
          </a:prstGeom>
          <a:solidFill>
            <a:srgbClr val="ffcc99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今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3141720"/>
            <a:ext cx="15112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报晓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48200" y="231624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3141720"/>
            <a:ext cx="14396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笑牵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4000" y="4149720"/>
            <a:ext cx="14396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传宵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31082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4149720"/>
            <a:ext cx="14396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同驻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64000" y="5013360"/>
            <a:ext cx="302400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四纪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92360" y="6021360"/>
            <a:ext cx="30956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卢家莫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46080" y="2276640"/>
            <a:ext cx="1826280" cy="28810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Comic Sans MS"/>
              </a:rPr>
              <a:t>史实因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59280" y="1773360"/>
            <a:ext cx="289080" cy="431640"/>
          </a:xfrm>
          <a:prstGeom prst="upDownArrow">
            <a:avLst>
              <a:gd name="adj1" fmla="val 50000"/>
              <a:gd name="adj2" fmla="val 297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11640" y="3645000"/>
            <a:ext cx="216000" cy="576000"/>
          </a:xfrm>
          <a:prstGeom prst="upDownArrow">
            <a:avLst>
              <a:gd name="adj1" fmla="val 50000"/>
              <a:gd name="adj2" fmla="val 530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6000" y="3645000"/>
            <a:ext cx="217440" cy="576000"/>
          </a:xfrm>
          <a:prstGeom prst="upDownArrow">
            <a:avLst>
              <a:gd name="adj1" fmla="val 50000"/>
              <a:gd name="adj2" fmla="val 527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32360" y="5516640"/>
            <a:ext cx="287280" cy="649080"/>
          </a:xfrm>
          <a:prstGeom prst="upDownArrow">
            <a:avLst>
              <a:gd name="adj1" fmla="val 50000"/>
              <a:gd name="adj2" fmla="val 449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1484280"/>
            <a:ext cx="504720" cy="1297080"/>
          </a:xfrm>
          <a:custGeom>
            <a:avLst/>
            <a:gdLst>
              <a:gd name="textAreaLeft" fmla="*/ 322560 w 504720"/>
              <a:gd name="textAreaRight" fmla="*/ 505080 w 50472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a2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6360" y="3357720"/>
            <a:ext cx="431640" cy="1366560"/>
          </a:xfrm>
          <a:custGeom>
            <a:avLst/>
            <a:gdLst>
              <a:gd name="textAreaLeft" fmla="*/ 275760 w 431640"/>
              <a:gd name="textAreaRight" fmla="*/ 432000 w 431640"/>
              <a:gd name="textAreaTop" fmla="*/ 35640 h 1366560"/>
              <a:gd name="textAreaBottom" fmla="*/ 13309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a2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87640" y="5084640"/>
            <a:ext cx="360360" cy="144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a2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76360" y="1557360"/>
            <a:ext cx="720720" cy="4248000"/>
          </a:xfrm>
          <a:custGeom>
            <a:avLst/>
            <a:gdLst>
              <a:gd name="textAreaLeft" fmla="*/ 460440 w 720720"/>
              <a:gd name="textAreaRight" fmla="*/ 721080 w 72072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88000" y="3213000"/>
            <a:ext cx="576360" cy="1346400"/>
          </a:xfrm>
          <a:custGeom>
            <a:avLst/>
            <a:gdLst>
              <a:gd name="textAreaLeft" fmla="*/ 0 w 576360"/>
              <a:gd name="textAreaRight" fmla="*/ 208080 w 576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65640" y="1341360"/>
            <a:ext cx="1277640" cy="1656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omic Sans MS"/>
              </a:rPr>
              <a:t>虚与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65640" y="3213000"/>
            <a:ext cx="1277640" cy="1584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omic Sans MS"/>
              </a:rPr>
              <a:t>治与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38720" y="4941720"/>
            <a:ext cx="1277640" cy="172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omic Sans MS"/>
              </a:rPr>
              <a:t>尊与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圆角矩形 3"/>
          <p:cNvSpPr/>
          <p:nvPr/>
        </p:nvSpPr>
        <p:spPr>
          <a:xfrm>
            <a:off x="0" y="1676520"/>
            <a:ext cx="2133720" cy="609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马嵬（其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左大括号 5"/>
          <p:cNvSpPr/>
          <p:nvPr/>
        </p:nvSpPr>
        <p:spPr>
          <a:xfrm>
            <a:off x="2133720" y="609480"/>
            <a:ext cx="533160" cy="2743200"/>
          </a:xfrm>
          <a:custGeom>
            <a:avLst/>
            <a:gdLst>
              <a:gd name="textAreaLeft" fmla="*/ 340560 w 533160"/>
              <a:gd name="textAreaRight" fmla="*/ 533520 w 53316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6"/>
          <p:cNvSpPr/>
          <p:nvPr/>
        </p:nvSpPr>
        <p:spPr>
          <a:xfrm>
            <a:off x="2743200" y="380880"/>
            <a:ext cx="1600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玄宗之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7"/>
          <p:cNvSpPr/>
          <p:nvPr/>
        </p:nvSpPr>
        <p:spPr>
          <a:xfrm>
            <a:off x="2743200" y="17524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马嵬之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8"/>
          <p:cNvSpPr/>
          <p:nvPr/>
        </p:nvSpPr>
        <p:spPr>
          <a:xfrm flipH="1">
            <a:off x="2742480" y="3048120"/>
            <a:ext cx="1600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义山之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9"/>
          <p:cNvSpPr/>
          <p:nvPr/>
        </p:nvSpPr>
        <p:spPr>
          <a:xfrm>
            <a:off x="4788000" y="404640"/>
            <a:ext cx="718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首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0"/>
          <p:cNvSpPr/>
          <p:nvPr/>
        </p:nvSpPr>
        <p:spPr>
          <a:xfrm>
            <a:off x="4788000" y="1197000"/>
            <a:ext cx="72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颔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1"/>
          <p:cNvSpPr/>
          <p:nvPr/>
        </p:nvSpPr>
        <p:spPr>
          <a:xfrm>
            <a:off x="4788000" y="2205000"/>
            <a:ext cx="72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颈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圆角矩形 12"/>
          <p:cNvSpPr/>
          <p:nvPr/>
        </p:nvSpPr>
        <p:spPr>
          <a:xfrm>
            <a:off x="7467480" y="1447920"/>
            <a:ext cx="167652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荒淫误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无尽感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3"/>
          <p:cNvSpPr/>
          <p:nvPr/>
        </p:nvSpPr>
        <p:spPr>
          <a:xfrm>
            <a:off x="4788000" y="3068640"/>
            <a:ext cx="72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尾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左大括号 14"/>
          <p:cNvSpPr/>
          <p:nvPr/>
        </p:nvSpPr>
        <p:spPr>
          <a:xfrm>
            <a:off x="4419720" y="1447920"/>
            <a:ext cx="380880" cy="99036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990360"/>
              <a:gd name="textAreaBottom" fmla="*/ 98064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右大括号 15"/>
          <p:cNvSpPr/>
          <p:nvPr/>
        </p:nvSpPr>
        <p:spPr>
          <a:xfrm>
            <a:off x="7010280" y="533520"/>
            <a:ext cx="457200" cy="289548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2895480"/>
              <a:gd name="textAreaBottom" fmla="*/ 288360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2"/>
                  <a:pt x="10800" y="284"/>
                </a:cubicBezTo>
                <a:lnTo>
                  <a:pt x="10800" y="10516"/>
                </a:lnTo>
                <a:cubicBezTo>
                  <a:pt x="10800" y="10658"/>
                  <a:pt x="16200" y="10800"/>
                  <a:pt x="21600" y="10800"/>
                </a:cubicBezTo>
                <a:cubicBezTo>
                  <a:pt x="16200" y="10800"/>
                  <a:pt x="10800" y="10942"/>
                  <a:pt x="10800" y="11084"/>
                </a:cubicBezTo>
                <a:lnTo>
                  <a:pt x="10800" y="21316"/>
                </a:lnTo>
                <a:cubicBezTo>
                  <a:pt x="10800" y="21458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右箭头 14"/>
          <p:cNvSpPr/>
          <p:nvPr/>
        </p:nvSpPr>
        <p:spPr>
          <a:xfrm>
            <a:off x="4495680" y="5335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右箭头 15"/>
          <p:cNvSpPr/>
          <p:nvPr/>
        </p:nvSpPr>
        <p:spPr>
          <a:xfrm>
            <a:off x="4495680" y="31240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五边形 23"/>
          <p:cNvSpPr/>
          <p:nvPr/>
        </p:nvSpPr>
        <p:spPr>
          <a:xfrm>
            <a:off x="304920" y="4343400"/>
            <a:ext cx="1447560" cy="48420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5" y="0"/>
                </a:lnTo>
                <a:lnTo>
                  <a:pt x="21600" y="10800"/>
                </a:lnTo>
                <a:lnTo>
                  <a:pt x="17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马嵬之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五边形 24"/>
          <p:cNvSpPr/>
          <p:nvPr/>
        </p:nvSpPr>
        <p:spPr>
          <a:xfrm>
            <a:off x="3505320" y="4343400"/>
            <a:ext cx="1447560" cy="48420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5" y="0"/>
                </a:lnTo>
                <a:lnTo>
                  <a:pt x="21600" y="10800"/>
                </a:lnTo>
                <a:lnTo>
                  <a:pt x="17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义山之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五边形 25"/>
          <p:cNvSpPr/>
          <p:nvPr/>
        </p:nvSpPr>
        <p:spPr>
          <a:xfrm>
            <a:off x="1905120" y="4343400"/>
            <a:ext cx="1447560" cy="48420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5" y="0"/>
                </a:lnTo>
                <a:lnTo>
                  <a:pt x="21600" y="10800"/>
                </a:lnTo>
                <a:lnTo>
                  <a:pt x="17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玄宗之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6"/>
          <p:cNvSpPr/>
          <p:nvPr/>
        </p:nvSpPr>
        <p:spPr>
          <a:xfrm>
            <a:off x="179280" y="3657600"/>
            <a:ext cx="1725840" cy="337320"/>
          </a:xfrm>
          <a:prstGeom prst="rect">
            <a:avLst/>
          </a:prstGeom>
          <a:solidFill>
            <a:srgbClr val="ffffff">
              <a:alpha val="67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历史发展顺序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7"/>
          <p:cNvSpPr/>
          <p:nvPr/>
        </p:nvSpPr>
        <p:spPr>
          <a:xfrm>
            <a:off x="380880" y="5334120"/>
            <a:ext cx="1524240" cy="337320"/>
          </a:xfrm>
          <a:prstGeom prst="rect">
            <a:avLst/>
          </a:prstGeom>
          <a:solidFill>
            <a:srgbClr val="ffffff">
              <a:alpha val="67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诗歌布局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五边形 28"/>
          <p:cNvSpPr/>
          <p:nvPr/>
        </p:nvSpPr>
        <p:spPr>
          <a:xfrm>
            <a:off x="304920" y="5791320"/>
            <a:ext cx="1447560" cy="48420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5" y="0"/>
                </a:lnTo>
                <a:lnTo>
                  <a:pt x="21600" y="10800"/>
                </a:lnTo>
                <a:lnTo>
                  <a:pt x="17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玄宗之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五边形 29"/>
          <p:cNvSpPr/>
          <p:nvPr/>
        </p:nvSpPr>
        <p:spPr>
          <a:xfrm>
            <a:off x="3581280" y="5791320"/>
            <a:ext cx="1447920" cy="4842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5" y="0"/>
                </a:lnTo>
                <a:lnTo>
                  <a:pt x="21600" y="10800"/>
                </a:lnTo>
                <a:lnTo>
                  <a:pt x="17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义山之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五边形 30"/>
          <p:cNvSpPr/>
          <p:nvPr/>
        </p:nvSpPr>
        <p:spPr>
          <a:xfrm>
            <a:off x="1981080" y="5791320"/>
            <a:ext cx="1447920" cy="4842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5" y="0"/>
                </a:lnTo>
                <a:lnTo>
                  <a:pt x="21600" y="10800"/>
                </a:lnTo>
                <a:lnTo>
                  <a:pt x="17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马嵬之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右大括号 15"/>
          <p:cNvSpPr/>
          <p:nvPr/>
        </p:nvSpPr>
        <p:spPr>
          <a:xfrm>
            <a:off x="5181480" y="4419720"/>
            <a:ext cx="457200" cy="182880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1828800"/>
              <a:gd name="textAreaBottom" fmla="*/ 181692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2"/>
          <p:cNvSpPr/>
          <p:nvPr/>
        </p:nvSpPr>
        <p:spPr>
          <a:xfrm>
            <a:off x="5651640" y="3645000"/>
            <a:ext cx="2971800" cy="947160"/>
          </a:xfrm>
          <a:prstGeom prst="rect">
            <a:avLst/>
          </a:prstGeom>
          <a:solidFill>
            <a:srgbClr val="ffffff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倒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采用倒叙的方法，能增强文章的生动性，使文章产生悬念，更能引人入胜，同时也可以避免叙述的平板和结构的单调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80000" y="404640"/>
            <a:ext cx="122400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荒唐招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80000" y="1185840"/>
            <a:ext cx="122400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剧变出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51640" y="2205000"/>
            <a:ext cx="122544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可笑无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51640" y="3068640"/>
            <a:ext cx="122544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诘责讽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62120" y="533520"/>
            <a:ext cx="6696000" cy="43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6472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赏读背诵这首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Arial"/>
                <a:ea typeface="楷体"/>
              </a:rPr>
              <a:t>四大美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1" i="1" lang="zh-CN" sz="4400" spc="-1" strike="noStrike">
                <a:solidFill>
                  <a:srgbClr val="00ff00"/>
                </a:solidFill>
                <a:latin typeface="Arial"/>
              </a:rPr>
              <a:t>马嵬（其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李商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08720" cy="100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马嵬之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386000"/>
            <a:ext cx="9144000" cy="5472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公元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75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年初夏，安禄山大军逼近长安，继而潼关失守，长安城岌岌可危。在一个阴雨连绵的黎明，唐玄宗携杨贵妃、宰相杨国忠、太子李亨以及诸皇亲国戚、心腹宦官，离开当时世界上最繁华的都市长安，逃往四川。次日晚行至马嵬驿时，护驾军士砍杀了祸国殃民的杨国忠，并要求唐玄宗立即处决杨贵妃。唐玄宗以怎样的心情下令缢死杨贵妃，旁人无法体会，但之后他便让出了皇位，晚年则在难以消解的悔恨忧愁中度过，直到死去。</a:t>
            </a:r>
            <a:r>
              <a:rPr b="0" lang="zh-CN" sz="3200" spc="-1" strike="noStrike">
                <a:solidFill>
                  <a:srgbClr val="ff0066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                                </a:t>
            </a:r>
            <a:r>
              <a:rPr b="0" i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马  嵬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8120" y="1295280"/>
            <a:ext cx="485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海外徒闻更九州，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他生未卜此生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空闻虎旅传宵柝，无复鸡人报晓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此日六军同驻马，当时七夕笑牵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如何四纪为天子，不及卢家有莫愁</a:t>
            </a:r>
            <a:r>
              <a:rPr b="0" lang="zh-CN" sz="4000" spc="-1" strike="noStrike">
                <a:solidFill>
                  <a:srgbClr val="00ff00"/>
                </a:solidFill>
                <a:latin typeface="Arial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2057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"/>
              </a:rPr>
              <a:t>疏</a:t>
            </a:r>
            <a:br>
              <a:rPr sz="6600"/>
            </a:br>
            <a:br>
              <a:rPr sz="6600"/>
            </a:b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"/>
              </a:rPr>
              <a:t>通</a:t>
            </a:r>
            <a:br>
              <a:rPr sz="6600"/>
            </a:br>
            <a:br>
              <a:rPr sz="6600"/>
            </a:b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"/>
              </a:rPr>
              <a:t>文</a:t>
            </a:r>
            <a:br>
              <a:rPr sz="6600"/>
            </a:br>
            <a:br>
              <a:rPr sz="6600"/>
            </a:b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"/>
              </a:rPr>
              <a:t>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海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徒闻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更九州，他生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卜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此生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4365360"/>
            <a:ext cx="8435880" cy="165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海外空闻还有一个九州，来生为夫妇的盟誓能否实现，亦渺茫难期，今生的夫妇缘分已经断绝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916280"/>
            <a:ext cx="720072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徒闻：空闻，没有根据的传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卜：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空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虎旅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宵柝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，无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鸡人报晓筹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虎旅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跟随唐玄宗赴蜀的禁卫军。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宵柝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夜间巡逻时用的梆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鸡人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宫中掌握时间的卫士。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鸡人报晓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汉代制度宫中不养鸡，而用人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唱报晓。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筹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更筹、敲击报时用的竹签。这里代指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5229360"/>
            <a:ext cx="885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黑体"/>
              </a:rPr>
              <a:t>空听军中传来夜巡的梆子声，不再有人传唱报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此日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六军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驻马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当时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七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笑牵牛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362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此日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指事变发生那天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驻马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指军队发生哗变，停留不前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当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指李杨在几年前的七夕订立盟誓，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世世为夫妇”。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笑牵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唐玄宗和杨贵妃认为天上的牛郎织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年只能相会一次，自己则可永世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守，因此“笑牵牛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5157720"/>
            <a:ext cx="87138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黑体"/>
              </a:rPr>
              <a:t>这一天，军队发生哗变，停留不前，当时在七夕之夜还曾嘲笑牵牛织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7T13:56:26Z</dcterms:created>
  <dc:creator>Administrator</dc:creator>
  <dc:description/>
  <dc:language>en-US</dc:language>
  <cp:lastModifiedBy>LBDZ</cp:lastModifiedBy>
  <dcterms:modified xsi:type="dcterms:W3CDTF">2015-04-17T12:36:4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