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  <p:custShowLst>
    <p:custShow name="自定义放映 1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C32-2848-44CF-8F99-4BE10069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C22-3340-4FDD-9D17-B093EA6A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BCB-D769-477E-AAD0-F771E8A7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ADF-AB97-45C9-8009-DADADD9E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5A06-A836-48A9-A4E2-041DA5AC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EF01-25D9-4617-A045-B73F267D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EB87-475F-4B21-B7CB-0FB1C2C5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13A1-1E59-42D5-9F6E-677583D0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BCFC-E2F3-45DC-8875-29C6C9ED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9671-AA0F-4580-B8C3-948A7C30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EDCE-0CD4-4768-A976-9C29F4A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E94-A443-43D6-9D96-EF9CD57C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547D-9B64-4929-8CAD-1E3ABF6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CD85-2148-4BB4-8A44-7084338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1F7A-04D3-4840-9415-B0949DC7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0BB7-E2D3-4F91-834D-E8441E18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6C20-88FB-48FB-8889-D722E530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167-7232-40C1-88D2-57DFE52B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873-6AE1-4510-8ABD-5248EC86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4D6-7803-407D-A175-BF08B581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701-3404-4460-A53A-E6772DF5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469-F24A-455F-82C4-010C74A6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EA5-4AC1-458E-8351-BADE71B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2A7-2178-46F3-9934-6DCD202C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A581-4BE9-4FDC-A156-4B1E9FABFE2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7DD-0D9B-4442-9360-453D6807ACE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&#36951;&#20256;&#30149;.ppt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11280" y="2421000"/>
            <a:ext cx="2952720" cy="581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2421000"/>
            <a:ext cx="2952720" cy="641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16000" y="1484280"/>
            <a:ext cx="6696000" cy="439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472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赏读背诵这首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067280" y="0"/>
            <a:ext cx="50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偶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我是天空的一片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偶尔投影在你的波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你记得也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最好别忘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这交会时互放的光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8360" y="476280"/>
            <a:ext cx="8207280" cy="67068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析写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628640"/>
            <a:ext cx="8820000" cy="2288520"/>
          </a:xfrm>
          <a:prstGeom prst="rect">
            <a:avLst/>
          </a:prstGeom>
          <a:solidFill>
            <a:srgbClr val="8ecfd8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00"/>
                </a:solidFill>
                <a:latin typeface="Comic Sans MS"/>
                <a:ea typeface="幼圆"/>
              </a:rPr>
              <a:t>有人评价这首诗“讽意至深，用笔至细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476280"/>
            <a:ext cx="8207280" cy="67068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析写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7200" y="1700280"/>
            <a:ext cx="2009160" cy="338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Comic Sans MS"/>
              </a:rPr>
              <a:t>用笔至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4000" y="1557360"/>
            <a:ext cx="3529080" cy="825120"/>
          </a:xfrm>
          <a:prstGeom prst="rect">
            <a:avLst/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细小之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2565360"/>
            <a:ext cx="3529080" cy="825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细节描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429000"/>
            <a:ext cx="3529080" cy="825120"/>
          </a:xfrm>
          <a:prstGeom prst="rect">
            <a:avLst/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倒叙手法</a:t>
            </a: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4365720"/>
            <a:ext cx="3529080" cy="825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措辞委婉</a:t>
            </a:r>
            <a:r>
              <a:rPr b="1" lang="zh-CN" sz="4800" spc="-1" strike="noStrike">
                <a:solidFill>
                  <a:srgbClr val="a50021"/>
                </a:solidFill>
                <a:latin typeface="Comic Sans MS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1700280"/>
            <a:ext cx="431640" cy="324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619280" y="616572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  <a:path fill="darken" w="21600" h="37632">
                <a:moveTo>
                  <a:pt x="3794" y="11809"/>
                </a:moveTo>
                <a:lnTo>
                  <a:pt x="17806" y="18816"/>
                </a:lnTo>
                <a:lnTo>
                  <a:pt x="3794" y="25822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40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马  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561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海外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徒闻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更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九州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他生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未卜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此生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休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空闻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虎旅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传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宵柝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无复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鸡人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报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晓筹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此日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六军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同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驻马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时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七夕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笑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牵牛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何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四纪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天子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不及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卢家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莫愁</a:t>
            </a:r>
            <a:r>
              <a:rPr b="1" lang="zh-CN" sz="4000" spc="-1" strike="noStrike">
                <a:solidFill>
                  <a:srgbClr val="00ff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4360" y="2060640"/>
            <a:ext cx="7416720" cy="91476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挖掘意图 </a:t>
            </a: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华文新魏"/>
              </a:rPr>
              <a:t>知人论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16000" y="1209600"/>
            <a:ext cx="7416720" cy="344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187280" y="1601640"/>
            <a:ext cx="6840720" cy="308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042920" y="3114720"/>
            <a:ext cx="7850160" cy="382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971640" y="3500280"/>
            <a:ext cx="74674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6408720" cy="836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楷体"/>
              </a:rPr>
              <a:t>知人论世 意图挖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851280" y="105264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229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942840"/>
            <a:ext cx="9144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李商隐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813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858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他生活在唐帝国日趋衰败的晚唐时代，对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皇帝昏庸，宦官当权，藩镇跋扈，深为不满。热衷政治，企望革新。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受牛李党争影响，始终被排挤，于禄微位卑的幕僚生活中度过一生，四十六岁抑郁而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 flipH="1" rot="10800000">
            <a:off x="611280" y="109080"/>
            <a:ext cx="8064360" cy="341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 flipH="1" rot="10800000">
            <a:off x="539640" y="6308280"/>
            <a:ext cx="8353440" cy="32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564000" y="2133720"/>
            <a:ext cx="2736720" cy="825120"/>
          </a:xfrm>
          <a:prstGeom prst="rect">
            <a:avLst/>
          </a:prstGeom>
          <a:solidFill>
            <a:srgbClr val="703dff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b800"/>
                </a:solidFill>
                <a:latin typeface="Comic Sans MS"/>
              </a:rPr>
              <a:t>辨明态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213000"/>
            <a:ext cx="2736720" cy="82512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b800"/>
                </a:solidFill>
                <a:latin typeface="Comic Sans MS"/>
              </a:rPr>
              <a:t>弄清史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64000" y="4221000"/>
            <a:ext cx="2736720" cy="82512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b800"/>
                </a:solidFill>
                <a:latin typeface="Comic Sans MS"/>
              </a:rPr>
              <a:t>分析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5229360"/>
            <a:ext cx="2736720" cy="82512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b800"/>
                </a:solidFill>
                <a:latin typeface="Comic Sans MS"/>
              </a:rPr>
              <a:t>揣摩意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8080" y="549360"/>
            <a:ext cx="1826280" cy="5616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咏史怀古诗的鉴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1052640"/>
            <a:ext cx="2736720" cy="82512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b800"/>
                </a:solidFill>
                <a:latin typeface="Comic Sans MS"/>
              </a:rPr>
              <a:t>感知词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11280" y="2421000"/>
            <a:ext cx="2952720" cy="581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92720" y="2421000"/>
            <a:ext cx="2952720" cy="641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16000" y="1484280"/>
            <a:ext cx="6696000" cy="439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472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赏读背诵这首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 rot="5400000">
            <a:off x="-288720" y="2528640"/>
            <a:ext cx="4321080" cy="136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马嵬（其二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 rot="5400000">
            <a:off x="2243160" y="4678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李商隐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250920" y="1341360"/>
            <a:ext cx="4048200" cy="190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516200" cy="212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2496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4000" y="333360"/>
            <a:ext cx="8496000" cy="91476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华文行楷"/>
              </a:rPr>
              <a:t>明晰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华文行楷"/>
              </a:rPr>
              <a:t>词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2133720"/>
            <a:ext cx="9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357336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227664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gè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3500280"/>
            <a:ext cx="142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tu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250920" y="1341360"/>
            <a:ext cx="4048200" cy="190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516200" cy="212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2496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8360" y="476280"/>
            <a:ext cx="8207280" cy="91476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理解诗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71640" y="2781360"/>
            <a:ext cx="7345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理解这四联诗的意思吗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40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马  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561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海外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徒闻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更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九州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他生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未卜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此生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休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空闻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虎旅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传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宵柝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无复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鸡人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报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晓筹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此日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六军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同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驻马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时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七夕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笑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牵牛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何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四纪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天子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不及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卢家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莫愁</a:t>
            </a:r>
            <a:r>
              <a:rPr b="1" lang="zh-CN" sz="4000" spc="-1" strike="noStrike">
                <a:solidFill>
                  <a:srgbClr val="00ff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250920" y="1341360"/>
            <a:ext cx="4048200" cy="190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516200" cy="212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2496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8675640" cy="91476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把握情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42920" y="2781360"/>
            <a:ext cx="7129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能解读其中的思想感情吗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/>
          </p:cNvPr>
          <p:cNvSpPr/>
          <p:nvPr/>
        </p:nvSpPr>
        <p:spPr>
          <a:xfrm>
            <a:off x="468360" y="476280"/>
            <a:ext cx="8207280" cy="100584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析写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133720"/>
            <a:ext cx="9144000" cy="1922760"/>
          </a:xfrm>
          <a:prstGeom prst="rect">
            <a:avLst/>
          </a:prstGeom>
          <a:solidFill>
            <a:srgbClr val="8ecfd8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Comic Sans MS"/>
                <a:ea typeface="幼圆"/>
              </a:rPr>
              <a:t>    </a:t>
            </a:r>
            <a:r>
              <a:rPr b="1" lang="zh-CN" sz="6000" spc="-1" strike="noStrike">
                <a:solidFill>
                  <a:srgbClr val="990000"/>
                </a:solidFill>
                <a:latin typeface="Comic Sans MS"/>
                <a:ea typeface="幼圆"/>
              </a:rPr>
              <a:t>从哪些诗句能体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Comic Sans MS"/>
                <a:ea typeface="幼圆"/>
              </a:rPr>
              <a:t>    </a:t>
            </a:r>
            <a:r>
              <a:rPr b="1" lang="zh-CN" sz="6000" spc="-1" strike="noStrike">
                <a:solidFill>
                  <a:srgbClr val="990000"/>
                </a:solidFill>
                <a:latin typeface="Comic Sans MS"/>
                <a:ea typeface="幼圆"/>
              </a:rPr>
              <a:t>出这种情感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5280" y="189000"/>
            <a:ext cx="8280360" cy="823320"/>
          </a:xfrm>
          <a:prstGeom prst="rect">
            <a:avLst/>
          </a:prstGeom>
          <a:solidFill>
            <a:srgbClr val="99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析写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349920" y="2781360"/>
            <a:ext cx="1826280" cy="1584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对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55840" y="1236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19640" y="1341360"/>
            <a:ext cx="3168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更九州  他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2205000"/>
            <a:ext cx="316836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今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3141720"/>
            <a:ext cx="15112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报晓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48200" y="23162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3141720"/>
            <a:ext cx="1439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笑牵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64000" y="4149720"/>
            <a:ext cx="1439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传宵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75480" y="3108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4149720"/>
            <a:ext cx="1439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同驻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5013360"/>
            <a:ext cx="3024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四纪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92360" y="6021360"/>
            <a:ext cx="3095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卢家莫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46080" y="2276640"/>
            <a:ext cx="1826280" cy="2881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史实因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1773360"/>
            <a:ext cx="289080" cy="431640"/>
          </a:xfrm>
          <a:prstGeom prst="upDownArrow">
            <a:avLst>
              <a:gd name="adj1" fmla="val 50000"/>
              <a:gd name="adj2" fmla="val 2972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3645000"/>
            <a:ext cx="216000" cy="576000"/>
          </a:xfrm>
          <a:prstGeom prst="upDownArrow">
            <a:avLst>
              <a:gd name="adj1" fmla="val 50000"/>
              <a:gd name="adj2" fmla="val 5308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3645000"/>
            <a:ext cx="217440" cy="576000"/>
          </a:xfrm>
          <a:prstGeom prst="upDownArrow">
            <a:avLst>
              <a:gd name="adj1" fmla="val 50000"/>
              <a:gd name="adj2" fmla="val 5273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516640"/>
            <a:ext cx="287280" cy="649080"/>
          </a:xfrm>
          <a:prstGeom prst="upDownArrow">
            <a:avLst>
              <a:gd name="adj1" fmla="val 50000"/>
              <a:gd name="adj2" fmla="val 4497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484280"/>
            <a:ext cx="504720" cy="1297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a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3357720"/>
            <a:ext cx="431640" cy="1366560"/>
          </a:xfrm>
          <a:custGeom>
            <a:avLst/>
            <a:gdLst>
              <a:gd name="textAreaLeft" fmla="*/ 275760 w 431640"/>
              <a:gd name="textAreaRight" fmla="*/ 432000 w 431640"/>
              <a:gd name="textAreaTop" fmla="*/ 35640 h 1366560"/>
              <a:gd name="textAreaBottom" fmla="*/ 13309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a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508464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a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76360" y="1557360"/>
            <a:ext cx="720720" cy="4248000"/>
          </a:xfrm>
          <a:custGeom>
            <a:avLst/>
            <a:gdLst>
              <a:gd name="textAreaLeft" fmla="*/ 460440 w 720720"/>
              <a:gd name="textAreaRight" fmla="*/ 721080 w 72072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3213000"/>
            <a:ext cx="576360" cy="1346400"/>
          </a:xfrm>
          <a:custGeom>
            <a:avLst/>
            <a:gdLst>
              <a:gd name="textAreaLeft" fmla="*/ 0 w 576360"/>
              <a:gd name="textAreaRight" fmla="*/ 208080 w 576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65640" y="1341360"/>
            <a:ext cx="1277640" cy="1656000"/>
          </a:xfrm>
          <a:prstGeom prst="rect">
            <a:avLst/>
          </a:prstGeom>
          <a:solidFill>
            <a:srgbClr val="ffb800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虚与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65640" y="3213000"/>
            <a:ext cx="1277640" cy="158436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治与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38720" y="4941720"/>
            <a:ext cx="1277640" cy="17272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尊与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476280"/>
            <a:ext cx="8207280" cy="670680"/>
          </a:xfrm>
          <a:prstGeom prst="rect">
            <a:avLst/>
          </a:prstGeom>
          <a:solidFill>
            <a:srgbClr val="99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析写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628640"/>
            <a:ext cx="8820000" cy="2288520"/>
          </a:xfrm>
          <a:prstGeom prst="rect">
            <a:avLst/>
          </a:prstGeom>
          <a:solidFill>
            <a:srgbClr val="8ecfd8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00"/>
                </a:solidFill>
                <a:latin typeface="Comic Sans MS"/>
                <a:ea typeface="幼圆"/>
              </a:rPr>
              <a:t>在对比反衬中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00"/>
                </a:solidFill>
                <a:latin typeface="Comic Sans MS"/>
                <a:ea typeface="幼圆"/>
              </a:rPr>
              <a:t>会出“讽意至深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3:28:01Z</dcterms:created>
  <dc:creator>lenovo</dc:creator>
  <dc:description/>
  <dc:language>en-US</dc:language>
  <cp:lastModifiedBy>镜泊风</cp:lastModifiedBy>
  <dcterms:modified xsi:type="dcterms:W3CDTF">2012-04-01T02:29:23Z</dcterms:modified>
  <cp:revision>223</cp:revision>
  <dc:subject/>
  <dc:title>幻灯片 1</dc:title>
</cp:coreProperties>
</file>