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BB9-7E67-40B3-A4A0-56B32452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6C3-D181-42B5-9056-E9E727D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8F3-A20A-4554-814F-F580ECE1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110-1955-4B15-BAE5-3EEBE271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E51-0CBE-47C6-BE51-4DBF80B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E3C-0AAF-4497-8D63-1B8791B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F45-8A9A-4DE6-AE5D-8B2F17A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49E-6266-490B-B263-017A1A3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EC7-89C8-44BA-A864-9A692EC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01F-A97A-4E03-A671-7B24364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AF0-6CEB-422C-82F9-C47199E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F16-FDBA-41E9-8B3C-927BE03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AE5-4D4B-4416-AFB0-98421D6DA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 rot="5400000">
            <a:off x="6355440" y="4596480"/>
            <a:ext cx="14000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"/>
              </a:rPr>
              <a:t>李商隐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392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24960" y="260280"/>
            <a:ext cx="850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马嵬（其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此日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六军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驻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当时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七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笑牵牛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此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事变发生那天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驻马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军队发生哗变，停留不前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当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指李杨在几年前的七夕订立盟誓，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世为夫妇”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笑牵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唐玄宗和杨贵妃认为天上的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年只能相会一次，自己则可永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守，因此“笑牵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157720"/>
            <a:ext cx="8713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这一天，军队发生哗变，停留不前，当时在七夕之夜还曾嘲笑牵牛织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如何四纪为天子，不及卢家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莫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541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莫愁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时洛阳女子。南朝乐府歌辞《河东之水歌》道：“莫愁十三能织绮，十四采桑南陌头，十五嫁为卢家妇，十六生儿字阿侯。”极写莫愁婚姻的美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653000"/>
            <a:ext cx="8713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为什么当了四十多年皇帝的玄宗，到头来保不住自己的宠妃，反而不如民间夫妇能够白头偕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具体研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287964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00" y="31993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海外徒闻更九州，他生未卜此生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说，杨贵妃死后，唐玄宗悲伤不已，就命蜀地方术之士寻找她的魂魄（即招魂）。</a:t>
            </a:r>
            <a:r>
              <a:rPr b="1" lang="zh-CN" sz="2000" spc="-1" strike="noStrike">
                <a:solidFill>
                  <a:srgbClr val="1e1e1e"/>
                </a:solidFill>
                <a:latin typeface="Arial"/>
                <a:ea typeface="楷体_GB2312"/>
              </a:rPr>
              <a:t>玄宗派人招魂，方士回来说“海外”还有“九州”，杨妃生活在那里，信守“世世为夫妻”誓约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在海外蓬莱仙山找到了杨贵妃，还带回了她头上的饰物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4581360"/>
            <a:ext cx="54007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空闻海外还有一个九州，来生为夫妻的盟誓能否实现，还渺茫难期，此生夫妻的缘分已经断绝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133720"/>
            <a:ext cx="5327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1e1e1e"/>
                </a:solidFill>
                <a:latin typeface="宋体"/>
              </a:rPr>
              <a:t>问：这可信吗？哪个词语和句子戳破了这种说法？</a:t>
            </a:r>
            <a:r>
              <a:rPr b="1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3141720"/>
            <a:ext cx="54007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e1e"/>
                </a:solidFill>
                <a:latin typeface="宋体"/>
              </a:rPr>
              <a:t>不可信，“徒闻”一词否定了方士的话，“他生未卜此生休”，来生微茫难求，但今生一起缘分断绝，已是事实。</a:t>
            </a:r>
            <a:r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77400" y="0"/>
            <a:ext cx="40366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空闻虎旅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宵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无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鸡人报晓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520" y="907920"/>
            <a:ext cx="10951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夜间巡逻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用的梆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123640" y="549360"/>
            <a:ext cx="107964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907920"/>
            <a:ext cx="4725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汉代制度，宫中不养鸡，而用人传唱报晓，鸡人：宫中掌握时间的卫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筹：更筹，敲击报时用的竹签，这里代指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2602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83840" y="0"/>
            <a:ext cx="14601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空听军队中传来巡夜的梆子声，不再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人传唱报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645000"/>
            <a:ext cx="4824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对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角度来写李、杨爱情悲剧：马嵬兵变之后，唐玄宗这位失去了权势的皇帝，听到的只是军旅的梆声，再也享受不到在长安宫殿里专人报晓的服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279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89000"/>
            <a:ext cx="8604000" cy="30978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鸡人报晓筹” 反衬“虎旅传宵柝”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昔乐今苦，昔安今危的不同处境和心情已跃然纸上。“虎旅传宵柝”的逃难生活很不安适，这是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层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鸡人报晓筹”相映衬，暗示主人公渴望重享昔日的安乐，这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又是一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。再用“空闻”和“无复”相呼应，表现那希望已幻灭，为尾联蓄势，这是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虎旅传宵柝”本来是为了巡逻和警卫，而冠以“空闻”，意义就适得其反。从章法上看，“空闻”上承“此生休”，下启“六军同驻马”。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意思是：“虎旅”虽“传宵柝”，却不是为了保卫皇帝和贵妃的安全，而是要发动兵变了。正因为如此，才“无复鸡人报晓筹”，李、杨再不可能享受安适的宫廷生活了。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260280"/>
            <a:ext cx="67183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此日六军同驻马，当时七夕笑牵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373720"/>
            <a:ext cx="820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这一天军队发生哗变，停留不前，当时在七夕之夜还曾嘲笑牛郎织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52640"/>
            <a:ext cx="849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宝十年七月七日夜，唐玄宗和杨贵妃订立盟誓，愿“世世为夫妇”。他们认为天上的牛郎和织女一年只能相会一次，自己则可永世相守，因此“笑牵牛”。现实的情景是军队哗变，“六军不发”，当年盟誓长生殿、嘲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郎织女的赏心乐事，而今都成悲痛，可谓“乐往哀来摧肺肝”！此句依然是从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对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度来写李、杨的爱情悲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e1e1e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玄宗以自己和杨妃的朝夕相处讥笑牛郎织女的一年一次的七夕相会，实则写出了玄宗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迷恋情色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荒废朝政</a:t>
            </a:r>
            <a:r>
              <a:rPr b="1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，致使战祸发生。眼前是写“六军”同时“驻马”不前，未写不前原因，但原因不甚明了，要求“赐”死杨妃，杨妃是美女，美女自古便有祸水一说，显然前后句是倒行逆施的因果关系。</a:t>
            </a:r>
            <a:r>
              <a:rPr b="0" lang="zh-CN" sz="2400" spc="-1" strike="noStrike">
                <a:solidFill>
                  <a:srgbClr val="1e1e1e"/>
                </a:solidFill>
                <a:latin typeface="Arial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49040" y="122400"/>
            <a:ext cx="40363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如何四纪为天子，不及卢家有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华文新魏"/>
              </a:rPr>
              <a:t>莫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00600" y="1403280"/>
            <a:ext cx="1643400" cy="407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南朝乐府歌辞《河东之水歌》道：“莫愁十三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织绮，十四采桑南陌头。十五嫁为卢家妇，十六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儿字阿侯。”极写莫愁婚姻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69228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1125360"/>
            <a:ext cx="574560" cy="503280"/>
          </a:xfrm>
          <a:prstGeom prst="rightArrow">
            <a:avLst>
              <a:gd name="adj1" fmla="val 50000"/>
              <a:gd name="adj2" fmla="val 28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2133720"/>
            <a:ext cx="388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此联点明题旨：如何贵为天子那么多年，却无力保护自己的女人，反而连平常百姓人家的幸福也没有呢？这一反问是全诗的“诗眼”，虽然含蓄却很有力，引导读者深思李、杨悲剧的根源，启发世人记取唐玄宗沉迷情色，荒废朝政，致使国家陷于动荡、人民饱受战乱之苦的历史悲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98280" y="2708280"/>
            <a:ext cx="2009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内容占位符 2"/>
          <p:cNvSpPr/>
          <p:nvPr/>
        </p:nvSpPr>
        <p:spPr>
          <a:xfrm>
            <a:off x="971640" y="260280"/>
            <a:ext cx="655308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海外徒闻更九州，他生未卜此生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徒然听到传说，海外还有九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来生未可预知，今生就此罢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空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虎旅传宵柝，无复鸡人报晓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空然闻听禁卫军，夜间击打刀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不再有宫中鸡人，报晓敲击更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日六军同驻马，当时七夕笑牵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六军已经约定，全都驻马不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遥想当年七夕，我们还嗤笑织女牛郎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如何四纪为天子，不及卢家有莫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如何历经四纪，身份贵为天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却不及卢家夫婿，朝朝夕夕陪伴莫愁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3"/>
          <p:cNvSpPr/>
          <p:nvPr/>
        </p:nvSpPr>
        <p:spPr>
          <a:xfrm>
            <a:off x="0" y="16765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嵬（其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5"/>
          <p:cNvSpPr/>
          <p:nvPr/>
        </p:nvSpPr>
        <p:spPr>
          <a:xfrm>
            <a:off x="2133720" y="609480"/>
            <a:ext cx="533160" cy="2743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2743200" y="3808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玄宗之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74320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马嵬之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 flipH="1">
            <a:off x="2742480" y="30481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山之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4788000" y="404640"/>
            <a:ext cx="718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首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4788000" y="119700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颔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4788000" y="220500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颈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2"/>
          <p:cNvSpPr/>
          <p:nvPr/>
        </p:nvSpPr>
        <p:spPr>
          <a:xfrm>
            <a:off x="7467480" y="144792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荒淫误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尽感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788000" y="3068640"/>
            <a:ext cx="72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尾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左大括号 14"/>
          <p:cNvSpPr/>
          <p:nvPr/>
        </p:nvSpPr>
        <p:spPr>
          <a:xfrm>
            <a:off x="4419720" y="1447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990360"/>
              <a:gd name="textAreaBottom" fmla="*/ 9806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大括号 15"/>
          <p:cNvSpPr/>
          <p:nvPr/>
        </p:nvSpPr>
        <p:spPr>
          <a:xfrm>
            <a:off x="7010280" y="533520"/>
            <a:ext cx="457200" cy="28954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895480"/>
              <a:gd name="textAreaBottom" fmla="*/ 288360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右箭头 14"/>
          <p:cNvSpPr/>
          <p:nvPr/>
        </p:nvSpPr>
        <p:spPr>
          <a:xfrm>
            <a:off x="4495680" y="533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右箭头 15"/>
          <p:cNvSpPr/>
          <p:nvPr/>
        </p:nvSpPr>
        <p:spPr>
          <a:xfrm>
            <a:off x="4495680" y="3124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23"/>
          <p:cNvSpPr/>
          <p:nvPr/>
        </p:nvSpPr>
        <p:spPr>
          <a:xfrm>
            <a:off x="3049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嵬之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24"/>
          <p:cNvSpPr/>
          <p:nvPr/>
        </p:nvSpPr>
        <p:spPr>
          <a:xfrm>
            <a:off x="35053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山之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25"/>
          <p:cNvSpPr/>
          <p:nvPr/>
        </p:nvSpPr>
        <p:spPr>
          <a:xfrm>
            <a:off x="1905120" y="434340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玄宗之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179280" y="3657600"/>
            <a:ext cx="1725840" cy="33732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历史发展顺序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380880" y="5334120"/>
            <a:ext cx="1524240" cy="33732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诗歌布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8"/>
          <p:cNvSpPr/>
          <p:nvPr/>
        </p:nvSpPr>
        <p:spPr>
          <a:xfrm>
            <a:off x="304920" y="5791320"/>
            <a:ext cx="1447560" cy="4842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玄宗之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9"/>
          <p:cNvSpPr/>
          <p:nvPr/>
        </p:nvSpPr>
        <p:spPr>
          <a:xfrm>
            <a:off x="3581280" y="5791320"/>
            <a:ext cx="1447920" cy="484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山之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边形 30"/>
          <p:cNvSpPr/>
          <p:nvPr/>
        </p:nvSpPr>
        <p:spPr>
          <a:xfrm>
            <a:off x="1981080" y="5791320"/>
            <a:ext cx="1447920" cy="484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5" y="0"/>
                </a:lnTo>
                <a:lnTo>
                  <a:pt x="21600" y="10800"/>
                </a:lnTo>
                <a:lnTo>
                  <a:pt x="17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嵬之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大括号 15"/>
          <p:cNvSpPr/>
          <p:nvPr/>
        </p:nvSpPr>
        <p:spPr>
          <a:xfrm>
            <a:off x="5181480" y="441972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5651640" y="3645000"/>
            <a:ext cx="2971800" cy="94716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倒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用倒叙的方法，能增强文章的生动性，使文章产生悬念，更能引人入胜，同时也可以避免叙述的平板和结构的单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04640"/>
            <a:ext cx="12240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荒唐招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1185840"/>
            <a:ext cx="12240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剧变出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205000"/>
            <a:ext cx="1225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可笑无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3068640"/>
            <a:ext cx="1225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诘责讽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3191926235905682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3059280" y="189000"/>
            <a:ext cx="23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"/>
              </a:rPr>
              <a:t>背景简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92200" y="1274760"/>
            <a:ext cx="801216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李商隐恩师令狐楚仙逝，他送灵回京至马嵬，远望杂乱的长着灌木丛和荒草，有的地方露出黄土，给人一种枯败苍凉之感的马嵬坡，有感而吟《长恨歌》。一边的七师哥于是激义山道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驴背上吟诗，颇有情味，何不以《马嵬》为题，吟咏一首呢？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李商隐于是吟《马嵬》（其一）（其二）两首诗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借古讽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，以唐明皇时期马嵬事件的藩镇之乱讽刺当时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"/>
                <a:hlinkClick r:id="rId3" action="ppaction://hlinksldjump"/>
              </a:rPr>
              <a:t>甘露之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宦官专权。因此这是一首借古讽今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咏史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35280" y="40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比手法及其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3059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海外徒闻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更九州，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他生未卜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此生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空闻虎旅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传宵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无复鸡人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报晓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此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六军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同驻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当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七夕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笑牵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如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四纪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为天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不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卢家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华文新魏"/>
              </a:rPr>
              <a:t>有莫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916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寻仙为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1916280"/>
            <a:ext cx="1441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死别是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1440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（此日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105264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（当时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2708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军中逃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708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宫里为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236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500280"/>
            <a:ext cx="1511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马嵬坡赐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3500280"/>
            <a:ext cx="1512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长生殿盟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149720"/>
            <a:ext cx="1440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天子不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414972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百姓可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40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比手法及其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112536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寻仙为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1125360"/>
            <a:ext cx="1441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死别是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1916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（此日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1916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（当时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2708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军中逃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70828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宫里为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3500280"/>
            <a:ext cx="1511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马嵬坡赐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3500280"/>
            <a:ext cx="1512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长生殿盟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4149720"/>
            <a:ext cx="1440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天子不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4149720"/>
            <a:ext cx="143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百姓可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5013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5373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讽刺：荒淫误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借古讽今，以史为鉴，告诫统治者不要重蹈覆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对比手法，是文学创作中常用的一种表现手法，是把对立的意思或事物、或把事物的两个方面放在一起作比较，让读者在比较中分清好坏、辨别是非。运用这种手法，有利于充分显示事物的矛盾，突出被表现事物的本质特征，加强文章的艺术效果和感染力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848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阅读下面两首唐诗，然后回答问题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湖北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华清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 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吴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四郊飞雪暗云端，唯此宫中落旋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绿树碧檐相掩映，无人知道外边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过华清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李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君王游乐万机轻，一曲霓裳四海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玉辇升天人已尽，故宫惟有树长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两首诗描写了不同时期的华清宫，请指出二者主要运用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哪种相同的表现手法，并作简要说明。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15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581360"/>
            <a:ext cx="8713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两首诗都应用了对比（或对照、映衬）手法（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分）第一首诗宫内宫外（或空间）对比：宫外飞血阴云，分外寒冷；宫内绿树成阴，温暖如春。（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分）第二首今昔（或时间）：昔日霓裳羽衣，歌舞升平；今朝杂树丛生，宫殿荒凉。（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6436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边一首诗，然后回答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画眉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阳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宋体"/>
              </a:rPr>
              <a:t>百啭千声随意移，山花红紫树高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宋体"/>
              </a:rPr>
              <a:t>始知锁向金笼听，不及林间自在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写了几种画眉鸟？是怎样写画眉鸟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3429000"/>
            <a:ext cx="85694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这首诗写了两种画眉鸟，一是林中的，一是笼中的。作者用对比的手法写画眉鸟。前者在林中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随意移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自在啼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，自由自在；后者锁于金笼之中，完全没有自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87280" y="404640"/>
            <a:ext cx="669780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观祈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李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桑条无叶土生烟，箫管迎龙水庙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朱门无处看歌舞，犹恐春阴咽管弦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首诗在表达技巧上有什么突出特点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997360"/>
            <a:ext cx="8209080" cy="157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采用对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前两句写农民春旱祈雨的场面，后两句写朱门看歌舞的情景。前者忧，后者乐。对比鲜明，反差强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诗人的同情与愤慨渗透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87280" y="404640"/>
            <a:ext cx="669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越中览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越王勾践破吴归，义士还家尽锦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宫女如花满春殿，只今惟有鹧鸪飞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这首诗的表现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2997360"/>
            <a:ext cx="8280360" cy="157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这首诗运用了对比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前三句描写昔日繁荣和最后一句描写今日冷落凄凉形成强烈的对比，使读者感受特别深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其中蕴含着诗人深沉的历史思考。也表达了昔盛今衰之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408720" cy="100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马嵬之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386000"/>
            <a:ext cx="8686800" cy="547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元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75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初夏，安禄山大军逼近长安，继而潼关失守，长安城岌岌可危。在一个阴雨连绵的黎明，唐玄宗携杨贵妃、宰相杨国忠、太子李亨以及诸皇亲国戚、心腹宦官，离开当时世界上最繁华的都市长安，逃往四川。次日晚行至马嵬驿时，护驾军士砍杀了祸国殃民的杨国忠，并要求唐玄宗立即处决杨贵妃。唐玄宗以怎样的心情下令缢死杨贵妃，旁人无法体会，但之后他便让出了皇位，晚年则在难以消解的悔恨忧愁中度过，直到死去。</a:t>
            </a:r>
            <a:r>
              <a:rPr b="0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18726145176704186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 rot="5400000">
            <a:off x="287640" y="260100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楷体"/>
              </a:rPr>
              <a:t>甘露之变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楷体"/>
              <a:ea typeface="楷体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84360" y="620640"/>
            <a:ext cx="64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元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83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大和九年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岁的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唐文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大明官紫宸殿和李训等人，试图诛灭宦官，夺回皇帝丧失的权力。随以观露为名，将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仇士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骗至禁卫军的后院欲行刺，后与以仇士良为首的宦官集团发生了激烈冲突，结果李训、王涯、舒元舆、王璠、郭行余、罗立言、李孝本、韩约等朝廷重要官员被宦官杀死，其家人也受到牵连而灭门，株连甚众。史称“甘露之变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1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e1e1e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1e1e1e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1e1e1e"/>
                </a:solidFill>
                <a:latin typeface="黑体"/>
                <a:ea typeface="黑体"/>
              </a:rPr>
              <a:t>这首诗就是作者途经马嵬驿，咏马嵬之变这一历史事件而作</a:t>
            </a:r>
            <a:r>
              <a:rPr b="1" lang="zh-CN" sz="4400" spc="-1" strike="noStrike">
                <a:solidFill>
                  <a:srgbClr val="1e1e1e"/>
                </a:solidFill>
                <a:latin typeface="黑体"/>
                <a:ea typeface="黑体"/>
              </a:rPr>
              <a:t>，哪几句诗写了这一马嵬之变的事件？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789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空闻虎旅传宵柝，不复鸡人报晓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此日六军同驻马，当时七夕笑牵牛。</a:t>
            </a:r>
            <a:r>
              <a:rPr b="1" lang="zh-CN" sz="3600" spc="-1" strike="noStrike">
                <a:solidFill>
                  <a:srgbClr val="1e1e1e"/>
                </a:solidFill>
                <a:latin typeface="Times New Roman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6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e1e1e"/>
                </a:solidFill>
                <a:latin typeface="黑体"/>
                <a:ea typeface="黑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弄清史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马  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海外徒闻更九州，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他生未卜此生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空闻虎旅传宵柝，无复鸡人报晓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此日六军同驻马，当时七夕笑牵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如何四纪为天子，不及卢家有莫愁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疏通文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海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徒闻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更九州，他生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此生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365360"/>
            <a:ext cx="8435880" cy="165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海外空闻还有一个九州，来生为夫妇的盟誓能否实现，亦渺茫难期，今生的夫妇缘分已经断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72007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徒闻：空闻，没有根据的传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卜：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空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虎旅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宵柝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，无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鸡人报晓筹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虎旅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跟随唐玄宗赴蜀的禁卫军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宵柝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巡逻时用的梆子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鸡人报晓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汉代制度宫中不养鸡，而用人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唱报晓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鸡人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宫中掌握时间的卫士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筹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筹、敲击报时用的竹签。这里代指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229360"/>
            <a:ext cx="885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空听军中传来夜巡的梆子声，不再有人传唱报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7:43:42Z</dcterms:created>
  <dc:creator>微软用户</dc:creator>
  <dc:description/>
  <dc:language>en-US</dc:language>
  <cp:lastModifiedBy>zmj</cp:lastModifiedBy>
  <dcterms:modified xsi:type="dcterms:W3CDTF">2013-06-26T02:30:01Z</dcterms:modified>
  <cp:revision>14</cp:revision>
  <dc:subject/>
  <dc:title>     马  嵬</dc:title>
</cp:coreProperties>
</file>