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8DC0-DD0B-483E-A017-2A9BAA7C01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1B9F-5DE7-41F9-8950-B6FB1AFDB3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C5A-51D7-49F1-9D1D-DFF39DBC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5F5-FE62-4060-86A3-FE4E7D02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83E-3C49-4AFA-BD54-593AE851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029-55EB-48F6-B542-7A9D2BCA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D95-8D99-48FC-ACE8-ED15197A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CCD-77C2-4566-885F-80CF5DD1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32F-5447-48FF-AADD-8BA21352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3B0-22CA-4FAF-B964-EA1B6C30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349-36CA-4BD2-AB8D-45324DB6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B61-0A42-4D46-B6D9-606D494E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F5A-929C-4FF6-A53C-5332A06A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8B7-4514-4A71-A290-849FEB4D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D50B-32C0-4075-946E-42ACE14EF5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 txBox="1"/>
          <p:nvPr/>
        </p:nvSpPr>
        <p:spPr>
          <a:xfrm rot="5400000">
            <a:off x="612360" y="2438280"/>
            <a:ext cx="4138560" cy="117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马嵬（其二）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49" name="矩形 2"/>
          <p:cNvSpPr txBox="1"/>
          <p:nvPr/>
        </p:nvSpPr>
        <p:spPr>
          <a:xfrm rot="5400000">
            <a:off x="2830680" y="3999600"/>
            <a:ext cx="2176560" cy="58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李商隐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2293"/>
          <p:cNvSpPr/>
          <p:nvPr/>
        </p:nvSpPr>
        <p:spPr>
          <a:xfrm>
            <a:off x="252360" y="907920"/>
            <a:ext cx="8010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）军营内的声音加上“空闻”和宫廷内声音加上“不复”，又能使人读出玄宗的哪种境遇？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矩形 12294"/>
          <p:cNvSpPr/>
          <p:nvPr/>
        </p:nvSpPr>
        <p:spPr>
          <a:xfrm>
            <a:off x="162000" y="2079720"/>
            <a:ext cx="859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只是听到传来的“宵柝”之声，却不能再听到熟悉的宫内“报晓”声了。显然写出玄宗不在宫内，而身在军营，逃离了皇宫，已在逃难途中，极尽狼狈和慌乱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12295"/>
          <p:cNvSpPr/>
          <p:nvPr/>
        </p:nvSpPr>
        <p:spPr>
          <a:xfrm>
            <a:off x="162000" y="4029120"/>
            <a:ext cx="8851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）“空闻”对“不复”，运用了哪种表现手法？有怎样的艺术效果？</a:t>
            </a:r>
            <a:r>
              <a:rPr b="0" lang="zh-CN" sz="2800" spc="-1" strike="noStrike">
                <a:solidFill>
                  <a:srgbClr val="1e1e1e"/>
                </a:solidFill>
                <a:latin typeface="宋体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矩形 12296"/>
          <p:cNvSpPr/>
          <p:nvPr/>
        </p:nvSpPr>
        <p:spPr>
          <a:xfrm>
            <a:off x="-65160" y="5094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比，突出玄宗的昔安今危，昔乐今苦的生活境遇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3313"/>
          <p:cNvSpPr/>
          <p:nvPr/>
        </p:nvSpPr>
        <p:spPr>
          <a:xfrm>
            <a:off x="297000" y="458640"/>
            <a:ext cx="7920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颈联“此日”和“当时”都是指向时间的，前者指向眼前，后者指向以往。以往生活有什么特点？眼前又遇到了情况？前后又有什么关系？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矩形 13314"/>
          <p:cNvSpPr/>
          <p:nvPr/>
        </p:nvSpPr>
        <p:spPr>
          <a:xfrm>
            <a:off x="162000" y="2033640"/>
            <a:ext cx="85946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往玄宗和杨妃朝夕相处，于是讥笑牛郎织女一年一次的七夕相会。眼前是写“六军”同时“驻马”不前，未写不前原因，但原因不甚明了，要求“赐”死杨妃，杨妃是美女，美女自古便有祸水一说，显然前后句是倒行逆施的因果关系。玄宗迷恋情色，荒废朝政，致使战祸发生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矩形 13315"/>
          <p:cNvSpPr/>
          <p:nvPr/>
        </p:nvSpPr>
        <p:spPr>
          <a:xfrm>
            <a:off x="297000" y="4778280"/>
            <a:ext cx="887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问：颈联在艺术表现手法有何特点？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矩形 13316"/>
          <p:cNvSpPr/>
          <p:nvPr/>
        </p:nvSpPr>
        <p:spPr>
          <a:xfrm>
            <a:off x="2457360" y="540864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1e1e"/>
                </a:solidFill>
                <a:latin typeface="华文新魏"/>
                <a:ea typeface="华文新魏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对比 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4337"/>
          <p:cNvSpPr/>
          <p:nvPr/>
        </p:nvSpPr>
        <p:spPr>
          <a:xfrm>
            <a:off x="341280" y="368280"/>
            <a:ext cx="774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 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杨妃“赐”死后，玄宗异常悲伤，哪些诗句写出了玄宗之悲？</a:t>
            </a:r>
            <a:r>
              <a:rPr b="0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14338"/>
          <p:cNvSpPr/>
          <p:nvPr/>
        </p:nvSpPr>
        <p:spPr>
          <a:xfrm>
            <a:off x="431640" y="1359000"/>
            <a:ext cx="79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海外徒闻更九州，他生未卜此生休。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矩形 14339"/>
          <p:cNvSpPr/>
          <p:nvPr/>
        </p:nvSpPr>
        <p:spPr>
          <a:xfrm>
            <a:off x="162000" y="1898640"/>
            <a:ext cx="8685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）玄宗派人招魂，方士回来说“海外”还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九州”，杨妃生活在那里，信守“世世为夫妻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誓约，这可信吗？哪个词语和句子戳破了这种说法？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矩形 14340"/>
          <p:cNvSpPr/>
          <p:nvPr/>
        </p:nvSpPr>
        <p:spPr>
          <a:xfrm>
            <a:off x="206280" y="3249720"/>
            <a:ext cx="86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可信。“徒闻”一词否定了方士的话，“他生未卜此生休”，来生微茫难求，但今生一起缘分断绝，已是事实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14341"/>
          <p:cNvSpPr/>
          <p:nvPr/>
        </p:nvSpPr>
        <p:spPr>
          <a:xfrm>
            <a:off x="206280" y="4554360"/>
            <a:ext cx="8823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）这样以神仙怪诞和生死轮回来写玄宗痴心梦想，这样写有什么好处？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矩形 14342"/>
          <p:cNvSpPr/>
          <p:nvPr/>
        </p:nvSpPr>
        <p:spPr>
          <a:xfrm>
            <a:off x="252360" y="5556240"/>
            <a:ext cx="8639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杨贵妃之切，故有异常之举。讽刺唐玄宗痴心妄想，也写出了唐玄宗之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5361"/>
          <p:cNvSpPr/>
          <p:nvPr/>
        </p:nvSpPr>
        <p:spPr>
          <a:xfrm>
            <a:off x="252360" y="728640"/>
            <a:ext cx="7424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4</a:t>
            </a:r>
            <a:r>
              <a:rPr b="1" lang="en-US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对于这些情景诗人李商隐发出了什么慨叹？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矩形 15362"/>
          <p:cNvSpPr/>
          <p:nvPr/>
        </p:nvSpPr>
        <p:spPr>
          <a:xfrm>
            <a:off x="130320" y="1314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何四纪为天子，不及卢家有莫愁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15363"/>
          <p:cNvSpPr/>
          <p:nvPr/>
        </p:nvSpPr>
        <p:spPr>
          <a:xfrm>
            <a:off x="297000" y="1965240"/>
            <a:ext cx="6345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）从内容上看前后句有什么特点？</a:t>
            </a:r>
            <a:r>
              <a:rPr b="0" lang="zh-CN" sz="11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15364"/>
          <p:cNvSpPr/>
          <p:nvPr/>
        </p:nvSpPr>
        <p:spPr>
          <a:xfrm>
            <a:off x="252360" y="2484360"/>
            <a:ext cx="73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1e1e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比，贵为天子多年却无力保护心爱女人，寻常百姓却能给莫愁幸福</a:t>
            </a:r>
            <a:r>
              <a:rPr b="1" lang="zh-CN" sz="1100" spc="-1" strike="noStrike">
                <a:solidFill>
                  <a:srgbClr val="ff0000"/>
                </a:solidFill>
                <a:latin typeface="黑体"/>
                <a:ea typeface="黑体"/>
              </a:rPr>
              <a:t> 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5365"/>
          <p:cNvSpPr/>
          <p:nvPr/>
        </p:nvSpPr>
        <p:spPr>
          <a:xfrm>
            <a:off x="206280" y="3429000"/>
            <a:ext cx="5986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）从语气上看又有什么特点？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5366"/>
          <p:cNvSpPr/>
          <p:nvPr/>
        </p:nvSpPr>
        <p:spPr>
          <a:xfrm>
            <a:off x="6372360" y="342900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反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206280" y="4103640"/>
            <a:ext cx="8731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点明题旨：为何贵为天子四十多年，却无力保护自己的女人，反而连平常百姓人家的幸福也没有呢？这一反问虽然含蓄却很有力，启发世人记取唐玄宗沉迷情色，荒废朝政，致使国家陷于动荡、人民饱受战乱之苦的历史悲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6385"/>
          <p:cNvSpPr/>
          <p:nvPr/>
        </p:nvSpPr>
        <p:spPr>
          <a:xfrm>
            <a:off x="206280" y="638280"/>
            <a:ext cx="7470720" cy="186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　　历史事件过程，应先有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马嵬之变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”，而后才有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玄宗之悲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”，最后才有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义山之叹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”，但诗歌在谋篇布局上却不是这样的，说说《马嵬》诗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叙事结构上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6386"/>
          <p:cNvSpPr/>
          <p:nvPr/>
        </p:nvSpPr>
        <p:spPr>
          <a:xfrm>
            <a:off x="387360" y="3924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特点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　　从整体上倒叙使尺幅之间，一波三折；从局部上看倒叙突出因果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630360" y="3249720"/>
            <a:ext cx="69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诗歌布局：玄宗之悲→马嵬之变→义山之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学以致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73756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46600" y="549360"/>
            <a:ext cx="8107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阅读下面两首唐诗，然后回答问题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5920" y="1219320"/>
            <a:ext cx="832644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华清宫                             过华清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吴融                                   李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四郊飞雪暗云端，               君王游乐万机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惟此宫中落便干。               一曲霓裳四海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绿树碧檐相掩映，                玉辇升天人已尽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无人知道外边寒。                故宫唯有树长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问：这两首诗描写了不同时期的华清宫，请指出两者主要运用了哪种相同的表现手法？并作简要分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760" y="69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答案示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05920" y="1995480"/>
            <a:ext cx="8101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首诗都应用了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比（或对照、映衬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手法。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吴诗宫内宫外（或空间）对比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宫外飞雪阴云，分外寒冷；宫内绿树成阴，温暖如春。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李诗今昔（或时间）对比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昔日霓裳羽衣，歌舞升平；今朝杂树丛生，宫殿荒凉。（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279000"/>
            <a:ext cx="80298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阅读下边一首诗，然后回答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0920" y="1267920"/>
            <a:ext cx="8505720" cy="22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　　　　画眉鸟    </a:t>
            </a:r>
            <a:r>
              <a:rPr b="1" lang="zh-CN" sz="2400" spc="-1" strike="noStrike">
                <a:solidFill>
                  <a:srgbClr val="1e1e1e"/>
                </a:solidFill>
                <a:latin typeface="宋体"/>
              </a:rPr>
              <a:t>欧阳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　　　　百啭千声随意移，山花红紫树高低。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　　　　始知锁向金笼听，不及林间自在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这首诗写了几种画眉鸟？是怎样写画眉鸟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20483"/>
          <p:cNvSpPr/>
          <p:nvPr/>
        </p:nvSpPr>
        <p:spPr>
          <a:xfrm>
            <a:off x="297000" y="3743280"/>
            <a:ext cx="85946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这首诗写了两种画眉鸟，一是林中的，一是笼中的。作者用对比的手法写画眉鸟。前者在林中“随意移”、“自在啼”，自由自在；后者锁于金笼之中，完全没有自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6640" y="0"/>
            <a:ext cx="3375000" cy="14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总结对比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7000" y="1268280"/>
            <a:ext cx="8640720" cy="52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、对比的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黑体"/>
              </a:rPr>
              <a:t>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：是把两种对立的人物、事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或同一人物、事物的两个不同方面并举出来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以对照比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、对比的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黑体"/>
              </a:rPr>
              <a:t>作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：主旨更突出，感受更深切，区别更鲜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、鉴赏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黑体"/>
              </a:rPr>
              <a:t>方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、找准对比点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、体会对比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、答题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黑体"/>
              </a:rPr>
              <a:t>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准确指出用了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何种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结合诗句阐释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为什么是用了这种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此手法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表情达意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图片1"/>
          <p:cNvPicPr/>
          <p:nvPr/>
        </p:nvPicPr>
        <p:blipFill>
          <a:blip r:embed="rId1"/>
          <a:stretch/>
        </p:blipFill>
        <p:spPr>
          <a:xfrm>
            <a:off x="606600" y="28440"/>
            <a:ext cx="8537400" cy="685656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1"/>
          <p:cNvSpPr/>
          <p:nvPr/>
        </p:nvSpPr>
        <p:spPr>
          <a:xfrm>
            <a:off x="3105000" y="2548080"/>
            <a:ext cx="44481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5920" y="233280"/>
            <a:ext cx="6408720" cy="100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导入：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马嵬之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公元</a:t>
            </a:r>
            <a:r>
              <a:rPr b="1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756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年初夏，安禄山大军逼近长安，继而潼关失守，长安城岌岌可危。在一个阴雨连绵的黎明，唐玄宗携杨贵妃、宰相杨国忠、太子李亨以及诸皇亲国戚、心腹宦官，离开当时世界上最繁华的都市长安，逃往四川。次日晚行至马嵬驿时，护驾军士砍杀了祸国殃民的杨国忠，并要求唐玄宗立即处决杨贵妃。唐玄宗以怎样的心情下令缢死杨贵妃，旁人无法体会，但之后他便让出了皇位，晚年则在难以消解的悔恨忧愁中度过，直到死去。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2360" y="144000"/>
            <a:ext cx="8639280" cy="67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白居易在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恨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这样描述杨贵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777de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回眸一笑百媚生，六宫粉黛无颜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又这样叙说唐玄宗和杨贵妃的感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777de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天愿作比翼鸟，在地愿为连理枝。              天长地久有时尽，此恨绵绵无绝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杨贵妃被杀的情形，诗歌这样讲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777de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君王掩面救不得，回看血泪相和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杨贵妃去世后，唐玄宗的感受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777de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穷碧落下黄泉，两处茫茫皆不见。         忽闻海上有仙山，山在虚无飘渺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今天我们学习李商隐的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马嵬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，看看李商隐如何评价唐玄宗和杨贵妃的爱情。</a:t>
            </a:r>
            <a:r>
              <a:rPr b="0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初读诗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73382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66280" y="1044720"/>
            <a:ext cx="783108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注意字音字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更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gèng)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九州      宵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柝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(tuò)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晓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筹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chóu)  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纪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为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wé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5920" y="0"/>
            <a:ext cx="8775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r>
              <a:rPr b="1" sz="3600" spc="-1" strike="noStrike">
                <a:solidFill>
                  <a:srgbClr val="ff0000"/>
                </a:solidFill>
                <a:latin typeface="黑体"/>
                <a:ea typeface="黑体"/>
              </a:rPr>
              <a:t>马嵬 </a:t>
            </a:r>
            <a:r>
              <a:rPr b="1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海外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徒闻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更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九州，他生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未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卜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此生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</a:t>
            </a:r>
            <a:r>
              <a:rPr b="1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徒然听到传说，海外还有九州，来生未可预知，今生就此罢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空闻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虎旅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传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宵柝，无复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鸡人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报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晓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</a:t>
            </a:r>
            <a:r>
              <a:rPr b="1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空听到禁卫军夜间巡逻时的梆子声，不再有宫中鸡人，报晓敲击更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此日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军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同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驻马，当时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夕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笑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牵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</a:t>
            </a:r>
            <a:r>
              <a:rPr b="1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这一日六军已经约定，全都驻马不前。遥想当年七夕，我们还嗤笑织女牛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如何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纪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天子，不及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卢家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莫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</a:t>
            </a:r>
            <a:r>
              <a:rPr b="1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如何历经四纪，身份贵为天子，却不及普通百姓夫妻恩爱，长相厮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" y="171900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赏析诗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836640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2289"/>
          <p:cNvSpPr/>
          <p:nvPr/>
        </p:nvSpPr>
        <p:spPr>
          <a:xfrm>
            <a:off x="162000" y="684360"/>
            <a:ext cx="7605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 </a:t>
            </a:r>
            <a:r>
              <a:rPr b="1" lang="en-US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《马嵬》诗是以马嵬事变中玄宗为“六军”所逼，“赐”杨贵妃之死的事件为背景的，哪几句诗写了这一马嵬之变的事件？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2290"/>
          <p:cNvSpPr/>
          <p:nvPr/>
        </p:nvSpPr>
        <p:spPr>
          <a:xfrm>
            <a:off x="252360" y="2214720"/>
            <a:ext cx="828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空闻虎旅传宵柝，不复鸡人报晓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此日六军同驻马，当时七夕笑牵牛。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 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矩形 12291"/>
          <p:cNvSpPr/>
          <p:nvPr/>
        </p:nvSpPr>
        <p:spPr>
          <a:xfrm>
            <a:off x="0" y="3448080"/>
            <a:ext cx="8913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1e1e1e"/>
                </a:solidFill>
                <a:latin typeface="华文中宋"/>
                <a:ea typeface="华文中宋"/>
              </a:rPr>
              <a:t>）颔联“虎旅传宵柝”声音对“鸡人报晓筹”，其声音有什么不同？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矩形 12292"/>
          <p:cNvSpPr/>
          <p:nvPr/>
        </p:nvSpPr>
        <p:spPr>
          <a:xfrm>
            <a:off x="566640" y="4871880"/>
            <a:ext cx="86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前者为军营内的声音，而后者为宫内声音。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 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13:58:22Z</dcterms:created>
  <dc:creator/>
  <dc:description/>
  <cp:keywords/>
  <dc:language>en-US</dc:language>
  <cp:lastModifiedBy>new</cp:lastModifiedBy>
  <dcterms:modified xsi:type="dcterms:W3CDTF">2016-09-14T15:38:02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