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C673-CDDA-4C65-BF66-72E32091F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7527-4039-42E7-B529-9E97FB920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5970-BB53-4646-9432-E66AA2E6D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D757-42F8-496B-88B8-1127AE159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4000" y="5229360"/>
            <a:ext cx="61149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499A-E4D5-4C34-952C-4A74DC573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87C8-10C6-4A68-B6A1-1182D8E82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B665-E446-4939-A5F2-46147DF7C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E723-8692-4DCA-978C-1D09722B0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24000" y="5229360"/>
            <a:ext cx="61149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98D9-E448-437F-B600-2F1A4A95C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53AD-4D0E-4F9F-891D-53D728F46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042D-19A9-4897-B7A6-285487A2E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BF9E-9AF9-4FEF-817F-A2B1A5061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624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2828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BE6-1A22-482B-AC03-88632E8B55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枞阳中学新课改展示课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高中语文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5661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授课人：朱淑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1532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因为国君和社稷都可以改立更换，只有老百姓是不可更换的。所以，百姓最为重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284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诛一夫”的行为，是推翻暴政的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79736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得民心者得天下，失民心者失天下；仁得天下，不仁则失。主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采用对比论证的方式以及比喻论证方式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仿宋_GB2312"/>
              <a:ea typeface="仿宋_GB2312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孟子民本思想内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民为贵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社稷次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君为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民贵君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贼仁者谓之贼，贼义者谓之残，残贼之人谓之一夫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主张“仁义”，反对独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得其民，斯得天下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得其心，斯得民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所欲与之聚之，所恶勿施，尔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（得民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8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624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拓展应用、深化民本思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为人民服务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——毛泽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一定要关心群众生活。这个问题不是说一句话就可以解决的，要做许多踏踏实实的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邓小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我们党必须始终代表中国最广大人民的根本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江泽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党的全部任务和责任就是为人民谋利益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胡锦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13000"/>
            <a:ext cx="7489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探讨生活中孟子民本思想的现代践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001fd04d64920eb2e34b13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385776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00720" y="1557360"/>
            <a:ext cx="266400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春节团拜会上温总理的讲话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797360"/>
            <a:ext cx="73454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我们所做的一切都是为了让人民生活得更加幸福、更有尊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0205899_1536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00000" y="6093000"/>
            <a:ext cx="75614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农业税减免就是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8390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2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21141268265361853" descr=""/>
          <p:cNvPicPr/>
          <p:nvPr/>
        </p:nvPicPr>
        <p:blipFill>
          <a:blip r:embed="rId2"/>
          <a:stretch/>
        </p:blipFill>
        <p:spPr>
          <a:xfrm>
            <a:off x="0" y="0"/>
            <a:ext cx="4492800" cy="5229360"/>
          </a:xfrm>
          <a:prstGeom prst="rect">
            <a:avLst/>
          </a:prstGeom>
          <a:ln w="0">
            <a:noFill/>
          </a:ln>
        </p:spPr>
      </p:pic>
      <p:pic>
        <p:nvPicPr>
          <p:cNvPr id="141" name="Img251938664" descr=""/>
          <p:cNvPicPr/>
          <p:nvPr/>
        </p:nvPicPr>
        <p:blipFill>
          <a:blip r:embed="rId3"/>
          <a:stretch/>
        </p:blipFill>
        <p:spPr>
          <a:xfrm>
            <a:off x="4871880" y="0"/>
            <a:ext cx="4272120" cy="5229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33720" y="5630760"/>
            <a:ext cx="48765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俺也领工资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g20070524090926_103128744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4356000" cy="2951280"/>
          </a:xfrm>
          <a:prstGeom prst="rect">
            <a:avLst/>
          </a:prstGeom>
          <a:ln w="0">
            <a:noFill/>
          </a:ln>
        </p:spPr>
      </p:pic>
      <p:pic>
        <p:nvPicPr>
          <p:cNvPr id="144" name="yy291616461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2924280"/>
          </a:xfrm>
          <a:prstGeom prst="rect">
            <a:avLst/>
          </a:prstGeom>
          <a:ln w="0">
            <a:noFill/>
          </a:ln>
        </p:spPr>
      </p:pic>
      <p:pic>
        <p:nvPicPr>
          <p:cNvPr id="145" name="W020070102269480102618" descr=""/>
          <p:cNvPicPr/>
          <p:nvPr/>
        </p:nvPicPr>
        <p:blipFill>
          <a:blip r:embed="rId4"/>
          <a:stretch/>
        </p:blipFill>
        <p:spPr>
          <a:xfrm>
            <a:off x="0" y="3716280"/>
            <a:ext cx="4211640" cy="3141720"/>
          </a:xfrm>
          <a:prstGeom prst="rect">
            <a:avLst/>
          </a:prstGeom>
          <a:ln w="0">
            <a:noFill/>
          </a:ln>
        </p:spPr>
      </p:pic>
      <p:pic>
        <p:nvPicPr>
          <p:cNvPr id="146" name="xin_122090402144626509031" descr=""/>
          <p:cNvPicPr/>
          <p:nvPr/>
        </p:nvPicPr>
        <p:blipFill>
          <a:blip r:embed="rId5"/>
          <a:stretch/>
        </p:blipFill>
        <p:spPr>
          <a:xfrm>
            <a:off x="4572000" y="371628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87280" y="2924280"/>
            <a:ext cx="7344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不交学费，我又能上学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11" descr=""/>
          <p:cNvPicPr/>
          <p:nvPr/>
        </p:nvPicPr>
        <p:blipFill>
          <a:blip r:embed="rId2"/>
          <a:stretch/>
        </p:blipFill>
        <p:spPr>
          <a:xfrm>
            <a:off x="3635280" y="0"/>
            <a:ext cx="5508720" cy="5661000"/>
          </a:xfrm>
          <a:prstGeom prst="rect">
            <a:avLst/>
          </a:prstGeom>
          <a:ln w="0">
            <a:noFill/>
          </a:ln>
        </p:spPr>
      </p:pic>
      <p:pic>
        <p:nvPicPr>
          <p:cNvPr id="149" name="nwes_20090409110424_25112" descr=""/>
          <p:cNvPicPr/>
          <p:nvPr/>
        </p:nvPicPr>
        <p:blipFill>
          <a:blip r:embed="rId3"/>
          <a:stretch/>
        </p:blipFill>
        <p:spPr>
          <a:xfrm>
            <a:off x="0" y="0"/>
            <a:ext cx="4448160" cy="5661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00000" y="5877000"/>
            <a:ext cx="7201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咱们老百姓啊，今个儿真高兴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2808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五、小结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孟子的民本思想作为我国优秀传统文化的重要组成部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仅在历史上产生过积极影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对今天我们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构建“以人为本”的和谐社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也有重要借鉴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民本思想是中国传统政治文化中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最具进步性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永恒的思想主题。由于民本思想潜在的深层内涵，至今仍能与社会对话，并将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永远闪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着穿越历史的光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1" descr="JJJW_18002.jpg"/>
          <p:cNvPicPr/>
          <p:nvPr/>
        </p:nvPicPr>
        <p:blipFill>
          <a:blip r:embed="rId2"/>
          <a:stretch/>
        </p:blipFill>
        <p:spPr>
          <a:xfrm>
            <a:off x="7093080" y="5229360"/>
            <a:ext cx="20509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444640"/>
            <a:ext cx="7848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975240"/>
            <a:ext cx="85694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得众则得国，失众则失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《礼记 </a:t>
            </a:r>
            <a:r>
              <a:rPr b="0" lang="zh-CN" sz="1800" spc="-1" strike="noStrike">
                <a:solidFill>
                  <a:srgbClr val="0000ff"/>
                </a:solidFill>
                <a:latin typeface="隶书"/>
                <a:ea typeface="隶书"/>
              </a:rPr>
              <a:t>﹒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大学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爱民者强，不爱民者弱。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——《荀子</a:t>
            </a:r>
            <a:r>
              <a:rPr b="0" lang="zh-CN" sz="1800" spc="-1" strike="noStrike">
                <a:solidFill>
                  <a:srgbClr val="0000ff"/>
                </a:solidFill>
                <a:latin typeface="隶书"/>
                <a:ea typeface="隶书"/>
              </a:rPr>
              <a:t>﹒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议兵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1360" y="431640"/>
            <a:ext cx="54734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名言警句，导入新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13200" y="2997360"/>
            <a:ext cx="467280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爱民如身。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——汉 荀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民存则社稷存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民亡则社稷亡。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——唐  魏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724280"/>
            <a:ext cx="867564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民者，天下之本。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——宋 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人聚则强，人散则弱。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——清 魏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68720" cy="4897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2953080" cy="4824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32000" y="2826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民为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324000" y="1341360"/>
            <a:ext cx="796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给蓝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社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稷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    ）                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粢盛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放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    ）                伐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纣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      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弑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君（         ）                 走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圹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     ）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獭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（         ）                 驱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爵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鹯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（         ）                 三年之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艾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胥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（         ）                    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溺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"/>
              </a:rPr>
              <a:t>）</a:t>
            </a:r>
            <a:r>
              <a:rPr b="1" lang="zh-CN" sz="2800" spc="-1" strike="noStrike">
                <a:solidFill>
                  <a:srgbClr val="00b0f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2124000" y="1700280"/>
            <a:ext cx="6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j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796000" y="1700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zī ch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é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124000" y="220500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156360" y="2205000"/>
            <a:ext cx="93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zhò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2195640" y="263700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5940360" y="263700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2197080" y="2997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6445800" y="3068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1"/>
          <p:cNvSpPr/>
          <p:nvPr/>
        </p:nvSpPr>
        <p:spPr>
          <a:xfrm>
            <a:off x="2050920" y="3500280"/>
            <a:ext cx="9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 flipV="1" rot="10570200">
            <a:off x="6803640" y="3499920"/>
            <a:ext cx="8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2217960" y="393372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6227640" y="3716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5"/>
          <p:cNvSpPr/>
          <p:nvPr/>
        </p:nvSpPr>
        <p:spPr>
          <a:xfrm>
            <a:off x="2340000" y="263700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2556000" y="400536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1" descr="JJJW_18002.jpg"/>
          <p:cNvPicPr/>
          <p:nvPr/>
        </p:nvPicPr>
        <p:blipFill>
          <a:blip r:embed="rId2"/>
          <a:stretch/>
        </p:blipFill>
        <p:spPr>
          <a:xfrm>
            <a:off x="6877080" y="4437000"/>
            <a:ext cx="2266920" cy="242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二、自读课文，梳理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4941720"/>
            <a:ext cx="62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为丛驱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释下列描红的词语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民为贵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社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仁者谓之贼，贼义者谓之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残贼之人谓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天下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聚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所恶勿施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其何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21" descr="JJJW_18002.jpg"/>
          <p:cNvPicPr/>
          <p:nvPr/>
        </p:nvPicPr>
        <p:blipFill>
          <a:blip r:embed="rId2"/>
          <a:stretch/>
        </p:blipFill>
        <p:spPr>
          <a:xfrm>
            <a:off x="6877080" y="4437000"/>
            <a:ext cx="2266920" cy="242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410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仁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谓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贼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天下有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虽欲无王，不可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17002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645000"/>
            <a:ext cx="144360" cy="223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916280"/>
            <a:ext cx="144360" cy="914400"/>
          </a:xfrm>
          <a:custGeom>
            <a:avLst/>
            <a:gdLst>
              <a:gd name="textAreaLeft" fmla="*/ 92160 w 144360"/>
              <a:gd name="textAreaRight" fmla="*/ 144360 w 144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3789360"/>
            <a:ext cx="215640" cy="15858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1040 h 1585800"/>
              <a:gd name="textAreaBottom" fmla="*/ 1544760 h 15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557360"/>
            <a:ext cx="457200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有之。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身忧辱，以陷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残贼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仁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谓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王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25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词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21" descr="JJJW_18002.jpg"/>
          <p:cNvPicPr/>
          <p:nvPr/>
        </p:nvPicPr>
        <p:blipFill>
          <a:blip r:embed="rId2"/>
          <a:stretch/>
        </p:blipFill>
        <p:spPr>
          <a:xfrm>
            <a:off x="7451640" y="5373720"/>
            <a:ext cx="1692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8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7993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诸侯危社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何能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之欲王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716280"/>
            <a:ext cx="741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明下列特殊句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祭祀以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为渊驱鱼者，獭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之谓也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1" descr="JJJW_18002.jpg"/>
          <p:cNvPicPr/>
          <p:nvPr/>
        </p:nvPicPr>
        <p:blipFill>
          <a:blip r:embed="rId2"/>
          <a:stretch/>
        </p:blipFill>
        <p:spPr>
          <a:xfrm>
            <a:off x="6877080" y="4437000"/>
            <a:ext cx="22669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34552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注意下列重点语句的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民为贵，社稷次之，君为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贼仁者谓之贼，贼义者谓之残；残贼之人谓之一夫。闻诛一夫纣矣，未闻弑君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译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百姓是最重要的，国家次于百姓，君主的地位更要轻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译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残害仁的人叫贼，残害义的人叫残；残、贼这样的人叫独夫。我只听说杀了独夫纣罢了，没听说臣杀君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45000"/>
            <a:ext cx="86756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欲与之聚之，所恶勿施，尔也。民之归仁也，犹水之就下、兽之走圹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译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们想要的，就给他们积聚起来；他们厌恶的，不加给他们，如此罢了。人民归向于仁，如同水往下方流、野兽奔向旷野一样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624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合作探究，研析课文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孟子为什么说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民为贵，社稷次之，君为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汤放桀，武王伐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是什么行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《孟子•离娄上》选章中孟子是怎样论证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下”与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下”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找出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章中的主旨句，概括孟子民本思想的内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1" descr="JJJW_18002.jpg"/>
          <p:cNvPicPr/>
          <p:nvPr/>
        </p:nvPicPr>
        <p:blipFill>
          <a:blip r:embed="rId2"/>
          <a:stretch/>
        </p:blipFill>
        <p:spPr>
          <a:xfrm>
            <a:off x="7740720" y="5229360"/>
            <a:ext cx="1403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6:12:13Z</dcterms:created>
  <dc:creator>微软用户</dc:creator>
  <dc:description/>
  <dc:language>en-US</dc:language>
  <cp:lastModifiedBy>zmj</cp:lastModifiedBy>
  <dcterms:modified xsi:type="dcterms:W3CDTF">2012-05-17T14:15:10Z</dcterms:modified>
  <cp:revision>20</cp:revision>
  <dc:subject/>
  <dc:title>幻灯片 1</dc:title>
</cp:coreProperties>
</file>