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5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0080" y="271440"/>
            <a:ext cx="8956440" cy="6440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49880" y="5749920"/>
            <a:ext cx="2994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漫画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洗澡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61960" y="1225440"/>
            <a:ext cx="7667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什么是“各美其美、美人之美”？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2133720"/>
            <a:ext cx="7473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【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</a:rPr>
              <a:t>提示</a:t>
            </a: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就是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各种文明教化的人，不仅欣赏本民族的文化，还要发自内心地欣赏异民族的文化；做到不以本民族文化的标准，去评判异民族文化的“优劣”，断定什么是“糟粕”，什么是“精华”。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30360" y="1093680"/>
            <a:ext cx="7599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要达到“各美其美、美人之美”的境界需要世界各国摒弃怎样的心理？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615960" y="2562120"/>
            <a:ext cx="7473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【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</a:rPr>
              <a:t>提示</a:t>
            </a: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需要两个方面的改变：一方面发展中国家需要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抛弃妄自菲薄、盲目崇拜西方或者闭关排外的心理；另一方面发达国家需要克服妄自尊大、热衷于搞“传教”的心理。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514440" y="1122480"/>
            <a:ext cx="817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我们应该如何面对今天的“信息爆炸”和形形色色的“异文化”？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701640" y="2513160"/>
            <a:ext cx="7637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【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</a:rPr>
              <a:t>提示</a:t>
            </a: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】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我们应该用一种理智的、稳健的心态来“欣赏”它。任何一种文明，都有精华和糟粕，所以我们既要“理解”，又要有所“选择”。 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54880" y="4673520"/>
            <a:ext cx="2589120" cy="18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526080" y="4621320"/>
            <a:ext cx="2027520" cy="2027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826920" y="1246320"/>
            <a:ext cx="7282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为什么要“美美与共”？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795240" y="2104920"/>
            <a:ext cx="7794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【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</a:rPr>
              <a:t>提示</a:t>
            </a: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】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是解决全球化和人类不同文明如何相得益彰、共同繁荣的文化心态 ，是人类能够生活在一个“和而不同”的世界上对人们在审美的、人文的层次上提出的精神要求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471600" y="973080"/>
            <a:ext cx="7762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作者运用哪些论证方法进行论证？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9800" y="1797120"/>
            <a:ext cx="81345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【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</a:rPr>
              <a:t>提示</a:t>
            </a: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】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）举例论证。如举唐朝的时候，日本善于“美人之美”，达到了双赢的结果，很好地支持了作者“美美与共”的主张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）引用论证。如倒数第二段引用孔子的哲学思想，告诉人们应该以良好的心态面对异文化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矩形 12" descr=""/>
          <p:cNvPicPr/>
          <p:nvPr/>
        </p:nvPicPr>
        <p:blipFill>
          <a:blip r:embed="rId1"/>
          <a:srcRect l="8617" t="0" r="8737" b="22643"/>
          <a:stretch/>
        </p:blipFill>
        <p:spPr>
          <a:xfrm>
            <a:off x="3338640" y="501480"/>
            <a:ext cx="2660400" cy="80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119240" y="2255760"/>
            <a:ext cx="309600" cy="2754360"/>
          </a:xfrm>
          <a:custGeom>
            <a:avLst/>
            <a:gdLst>
              <a:gd name="textAreaLeft" fmla="*/ 198000 w 309600"/>
              <a:gd name="textAreaRight" fmla="*/ 309960 w 309600"/>
              <a:gd name="textAreaTop" fmla="*/ 71640 h 2754360"/>
              <a:gd name="textAreaBottom" fmla="*/ 2682720 h 27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3087720" y="3149640"/>
            <a:ext cx="135000" cy="1003320"/>
          </a:xfrm>
          <a:custGeom>
            <a:avLst/>
            <a:gdLst>
              <a:gd name="textAreaLeft" fmla="*/ 86400 w 135000"/>
              <a:gd name="textAreaRight" fmla="*/ 135360 w 13500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546200" y="1955880"/>
            <a:ext cx="7404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第一层：提出处理不同文明之间关系的设想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546200" y="3141720"/>
            <a:ext cx="239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第二层：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2930760" y="4660920"/>
            <a:ext cx="41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第三层：呼吁树立“美美与共”的文化心态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3917160" y="2765520"/>
            <a:ext cx="1887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反对两种错误思想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4336560" y="3567240"/>
            <a:ext cx="3058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下面举例分析如何“美美与共”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-237600" y="2722680"/>
            <a:ext cx="14598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美美与共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28840" y="820800"/>
            <a:ext cx="2686320" cy="809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8040" y="1792440"/>
            <a:ext cx="84391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pt-BR" sz="2800" spc="-1" strike="noStrike">
                <a:solidFill>
                  <a:srgbClr val="0000ff"/>
                </a:solidFill>
                <a:latin typeface="宋体"/>
                <a:ea typeface="宋体"/>
              </a:rPr>
              <a:t>2014•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山东卷）用下面的短语组成两副有关春节和端午节的对联。要求：上下联各为七字，语言连贯，符合节日和对联特点，不得重复使用短语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门上桃符   碧波竞舟   江边柳线   青艾驱瘴  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迎春绿   十里欢   耀眼红   千家乐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答：</a:t>
            </a:r>
            <a:r>
              <a:rPr b="1" lang="pt-BR" sz="2800" spc="-1" strike="noStrike">
                <a:solidFill>
                  <a:srgbClr val="0000ff"/>
                </a:solidFill>
                <a:latin typeface="宋体"/>
                <a:ea typeface="宋体"/>
              </a:rPr>
              <a:t>________________________________________</a:t>
            </a:r>
            <a:r>
              <a:rPr b="0" lang="pt-BR" sz="2400" spc="-1" strike="noStrike">
                <a:solidFill>
                  <a:srgbClr val="0000ff"/>
                </a:solidFill>
                <a:latin typeface="宋体"/>
                <a:ea typeface="宋体"/>
              </a:rPr>
              <a:t>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87280" y="1092240"/>
            <a:ext cx="8591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ff"/>
                </a:solidFill>
                <a:latin typeface="楷体_GB2312"/>
              </a:rPr>
              <a:t>【解析】</a:t>
            </a:r>
            <a:r>
              <a:rPr b="1" lang="pt-BR" sz="2800" spc="-1" strike="noStrike">
                <a:solidFill>
                  <a:srgbClr val="ff0000"/>
                </a:solidFill>
                <a:latin typeface="楷体_GB2312"/>
              </a:rPr>
              <a:t>本题考查语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表达的简明、连贯、得体、准确、鲜明、生动的能力。解答本题首先根据节日特点，从节日特有景物、习俗的角度，把所给短语分成两组，然后根据对联特点（对偶、平仄）和语意组合成两副对联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ff"/>
                </a:solidFill>
                <a:latin typeface="楷体_GB2312"/>
              </a:rPr>
              <a:t>答案：</a:t>
            </a:r>
            <a:r>
              <a:rPr b="1" lang="pt-BR" sz="2800" spc="-1" strike="noStrike">
                <a:solidFill>
                  <a:srgbClr val="ff0000"/>
                </a:solidFill>
                <a:latin typeface="楷体_GB2312"/>
              </a:rPr>
              <a:t>春节：江边柳线迎春绿     门上桃符耀眼红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楷体_GB2312"/>
              </a:rPr>
              <a:t>     </a:t>
            </a:r>
            <a:r>
              <a:rPr b="1" lang="pt-BR" sz="2800" spc="-1" strike="noStrike">
                <a:solidFill>
                  <a:srgbClr val="ff0000"/>
                </a:solidFill>
                <a:latin typeface="楷体_GB2312"/>
              </a:rPr>
              <a:t>端午节：青艾驱瘴千家乐    碧波竞舟十里欢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293760" y="2880360"/>
            <a:ext cx="8248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当中国的清明节、端午节、中秋节等传统节日被以法定的形式来强化温习时，情人节、愚人节、圣诞节等外来节日却大肆蔓延。你喜欢中国的节日还是外国的节日？为什么？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请写一段文字表达你的看法。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字以上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8597" t="0" r="8855" b="20662"/>
          <a:stretch/>
        </p:blipFill>
        <p:spPr>
          <a:xfrm>
            <a:off x="3236760" y="846000"/>
            <a:ext cx="259092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09880" y="284040"/>
            <a:ext cx="3035160" cy="960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06520" y="2289240"/>
            <a:ext cx="794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一百次空话，不如一次实干；一百次向往，不如一次行动。</a:t>
            </a:r>
            <a:endParaRPr b="1" lang="en-US" sz="30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40640" y="573876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8"/>
          <p:cNvSpPr/>
          <p:nvPr/>
        </p:nvSpPr>
        <p:spPr>
          <a:xfrm>
            <a:off x="1882800" y="495360"/>
            <a:ext cx="470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黑体"/>
              </a:rPr>
              <a:t>美 美 与 共</a:t>
            </a:r>
            <a:endParaRPr b="1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89200" y="2340000"/>
            <a:ext cx="540864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4235400" y="2473200"/>
            <a:ext cx="44672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费孝通，汉族，江苏吴江（今苏州市吴江区）人。著名社会学家、人类学家、民族学家、社会活动家，中国社会学和人类学的奠基人之一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0560" y="1271520"/>
            <a:ext cx="1874880" cy="565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98400" y="2666880"/>
            <a:ext cx="3059280" cy="372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623880" y="623880"/>
            <a:ext cx="7520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费孝通著述浩繁，其作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乡土中国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江村经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研究中国经济、社会和文化的必读之书，他的主要论著收入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费孝通全集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2480" y="2735280"/>
            <a:ext cx="2913120" cy="396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2749680"/>
            <a:ext cx="289548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608040" y="1903320"/>
            <a:ext cx="8221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课文节选自《“美美与共”和人类文明》一文，是费孝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00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年在“北京论坛”上所作的书面发言。全文共九个部分，课文节选第八部分，并以第八部分的小标题为题目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5320" y="1058760"/>
            <a:ext cx="1878120" cy="565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945480" y="5781600"/>
            <a:ext cx="95400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8"/>
          <p:cNvSpPr/>
          <p:nvPr/>
        </p:nvSpPr>
        <p:spPr>
          <a:xfrm>
            <a:off x="330120" y="592200"/>
            <a:ext cx="93949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北京论坛”由北京大学、韩国高等教育财团和北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京市教育委员会联合创办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004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年，以“文明的和谐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与共同繁荣”为总主题，每年举办一次年会，致力于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推动全球重大人文社会科学问题的研究，促进世界的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学术发展和社会进步，推动文明对话与和谐发展，为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全人类的共同繁荣做出贡献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费孝通先生提出的“各美其美、美人之美、美美与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共、天下大同”是对北京论坛主题的最好解释，也充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分彰显了东方学者对世界文明发展的独特视角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522360" y="2660760"/>
            <a:ext cx="795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谦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   ）和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睦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    ）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糟粕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        ） 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纷至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沓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来（   ）相得益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       ）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576440" y="28018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x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宋体"/>
              </a:rPr>
              <a:t>ù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n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672000" y="28051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m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宋体"/>
              </a:rPr>
              <a:t>ù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796000" y="2859120"/>
            <a:ext cx="14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宋体"/>
              </a:rPr>
              <a:t>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o  p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宋体"/>
              </a:rPr>
              <a:t>ò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595440" y="1728720"/>
            <a:ext cx="243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注字音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0316" t="0" r="8855" b="25960"/>
          <a:stretch/>
        </p:blipFill>
        <p:spPr>
          <a:xfrm>
            <a:off x="3276720" y="887400"/>
            <a:ext cx="2590560" cy="809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2338560" y="34765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宋体"/>
              </a:rPr>
              <a:t>tà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132520" y="3495600"/>
            <a:ext cx="13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zh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宋体"/>
              </a:rPr>
              <a:t>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宋体"/>
              </a:rPr>
              <a:t>ɡ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0" t="0" r="0" b="7167"/>
          <a:stretch/>
        </p:blipFill>
        <p:spPr>
          <a:xfrm>
            <a:off x="5773680" y="4930920"/>
            <a:ext cx="2063880" cy="178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8339" t="-8980" r="8253" b="20132"/>
          <a:stretch/>
        </p:blipFill>
        <p:spPr>
          <a:xfrm>
            <a:off x="3367080" y="615960"/>
            <a:ext cx="2684520" cy="96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00200" y="2216160"/>
            <a:ext cx="8022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本文是针对什么问题展开的？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549360" y="2986200"/>
            <a:ext cx="795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【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</a:rPr>
              <a:t>提示</a:t>
            </a: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】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本文是就如何对待人类不同文明展开的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911320" y="5006880"/>
            <a:ext cx="1851120" cy="18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7400" y="844560"/>
            <a:ext cx="802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作者认为对待人类文明应持怎样的态度？达到怎样的境界？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413080"/>
            <a:ext cx="7473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【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</a:rPr>
              <a:t>提示</a:t>
            </a:r>
            <a:r>
              <a:rPr b="1" lang="en-US" sz="2800" spc="-1" strike="noStrike">
                <a:solidFill>
                  <a:srgbClr val="cc00ff"/>
                </a:solidFill>
                <a:latin typeface="楷体_GB2312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对待人类文明应该“各美其美、美人之美、美美与共”，从而达到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天下大同”的境界。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8:35:16Z</dcterms:created>
  <dc:creator>世纪金榜</dc:creator>
  <dc:description/>
  <dc:language>en-US</dc:language>
  <cp:lastModifiedBy>admin</cp:lastModifiedBy>
  <dcterms:modified xsi:type="dcterms:W3CDTF">2015-03-24T07:41:41Z</dcterms:modified>
  <cp:revision>2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