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A27-AEE9-47A8-8E27-7FDB71F6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94B-C9F5-4B28-BDAF-334221D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3AEAF-B8B7-461C-A9E9-BD276931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D7323-11B5-4E83-95AA-474BD5F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79638-3F82-4E04-AA98-6364BA2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D25A2-839A-439A-AC6D-E13D77B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9EF34-859C-4D33-99A7-BCD8118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F6F9-DBA9-4DFF-A845-9282450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7A4E2-080E-417B-873E-0C9B13C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224CE-525D-4E9C-849D-AAF76783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FDAB1-BE56-4A81-9456-017A50F5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E74F3-FC59-434C-B2E4-294965CE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9E1-64EE-45E4-891A-4AAC9A06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AA567-8099-4A7C-889E-D7A6CF52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25C1A-25DA-48D3-87A6-AB7EC87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78F38-BB23-40BC-AF5A-6A23FBB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7C15C-BE12-495B-8F1B-655BD4F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71371-D06A-4259-B80E-DF6B925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0EFCF-1690-4EF4-AA0C-6934724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625CB-AA22-4D82-B156-11F92DBF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AC668-EB25-4E23-88AB-E3AAF2F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B253-F1F5-4929-9058-8E9CEB56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56918-23FF-4FA7-B948-0293AD1F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4FB-CF97-4B54-B6CC-3E57C4F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B494-2BB3-46BB-BE98-E8E72416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A508-C6FA-44E9-8BC1-D75DA5B5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A5668-16F9-49CB-AE86-A745B786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A825A-F010-476F-A619-459DA561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78E8-472F-48DA-8569-DD8B8BEE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5BFFD-41FF-4D77-A893-B8F95B4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6ADF1-132A-4C89-AF9C-97FD000D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2648-EF80-48EF-82E8-36E81BAD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3992C-2D4F-4773-8462-C6D3C3F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49B0D-19DE-4561-A029-6DF261B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E98E-5AD6-4DF6-8EFC-A67405E6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9033-CAD5-4334-9B9C-30895746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7B389-6036-4F01-8BAE-17AAEAD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F6106-F102-4E3A-9AEE-E3AAEFBA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44D35-0B08-4357-8C4B-A259C65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BEE94-F5F9-4BCF-B608-2344582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DDEF7-DA9F-417F-A546-F6635E71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F0F3D-C466-4489-9E89-FFB31CA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216F-3E70-4779-A2E6-720E90C2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43E55-20B4-48DF-B152-AA50A8D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7F39A-A29B-4F73-B7D8-D364D6D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404-895A-414B-9719-BD8C0619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51B35-8EBD-4A1A-95CF-9D879AF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84873-64A6-465F-A87A-3D6F50B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AA683-623F-438D-8E89-569ED77B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C2812-599F-454D-B641-48A6CC59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99F82-3CFA-416F-8650-10043FB6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D8CEE-B7F8-4193-86D3-93F4A2D8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62701-FCF2-4659-81DA-D097DC8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83EF6-C91F-4409-BEC7-6C0305B1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826D8-D93C-4F82-97F3-752B572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ECACB-AC62-48DC-9D37-CC0D01C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984-A952-4D8A-8CF6-52324F38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52963-EC0F-437B-B9E8-3EE0E19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0830D-C4BF-4CAB-9143-E24663A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89520-6E28-40EF-9B23-8D9D404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F34CA-ACB7-4715-B53F-02633DF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237B0-1DFC-4797-A37C-1E45111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9D466-8831-4645-936B-FB73A019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0BBD7-BD67-4C5F-A36C-C15CFD2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C5CB5-1187-46C0-8D5B-ADFAB8F1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EF71C-5055-4650-8947-E69ED26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53016-74CB-4FC6-8551-9DC0AAE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442-B618-4AC3-9B92-DF43343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14B35-EF18-4C81-9542-F325B466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B5978-AF98-4D58-AD63-865358D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41FC4-6A22-4BAE-A078-65C8BE2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65AED-52DB-4E3E-9ED3-96DAF46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35937-531B-4E54-9BA4-BCE5C5A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41373-55F2-41B0-B305-F949306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C7C27-8668-4996-9633-889339A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DE10D-E523-4BD3-8918-9B03202C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EF1F1-DFDB-470F-A694-70C80A5F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26B79-F503-4014-8795-82BEDD82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8A9C-E203-44E7-AD7C-0859CDC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EDDDD-990D-4C87-B94D-1364680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EC3E3-E3A9-43BC-B814-BD6C0F9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6DEAA-2E89-41E5-99FD-AEF5335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6CF32-3E1B-443A-AE3D-0A32F2F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9CFC6-DDE2-4278-AF01-659509D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6A723-18CC-4015-813E-08DC0C8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BDB6C-1332-45F4-B714-ABCE566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66C35-7499-42AF-A570-E0CBBE4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E9C28-E3A8-4FBB-BAEB-26513EC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251F4-59DD-4D25-AEAC-1B3297DF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B7F0-8287-43CB-85BF-F67E8A59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30F9F-B2A3-4976-AFE5-431A7FC2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C999A-EE58-4816-8087-C1BBA33C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1E01D-0FD0-450B-BB13-B05035D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3B169-14E5-40C2-9DF2-3460C9F9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428B5-2C34-4D9F-8332-E4D5FC42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58D9E-BD7F-4F8E-875C-1813941C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8F08C-16EC-4013-A293-CD93CC0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E64F5-59C2-4E33-A7D9-FA1F347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E1AE4-E3D3-43BF-90DE-5FE7D8E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49B82-1A1C-4BDA-83C2-2E8009C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97B-FFDA-4324-A29D-1700128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93D78-DF4E-4F80-AE11-40681A1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69572-493E-48D3-9420-8DDA347A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BCF5-C0E5-4938-9870-D72C40AB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17CEB-B9C6-441E-92A8-A9C20EAE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03C08-FE0F-4F28-834E-5D6AE9A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E04F1-5EC6-40C0-9474-59E546A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3F987-8B0D-4E72-A554-2F7B3FB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CF47C-7082-4C14-A326-6A727C2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2E206-2982-4B8B-83BC-7099FC3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FB183-E970-4BE8-8CF5-BCA27AF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E14-8305-44EC-B461-D13C08D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76C6-60B6-43EA-8923-FA7DD9E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B1E9E-7C37-495F-A65E-FAB86F0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0E287-3F11-4E53-9E45-47398BC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4649A-778A-4F3B-854F-A560EE2F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CCF37-C5AE-4500-939F-A88A1CF3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D61B9-F6D5-47F5-A26F-E0033BE2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4D7FC-7688-45ED-BAC2-AC320C3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F814B-3F0C-4EBC-89AB-563AAF40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274B6-84D4-4872-8D52-564B88F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A4D3A-D3FE-4F63-AC7C-5A175663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7CD24-205F-4B2D-B7A3-CBE48D8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155-BB61-49CB-AD87-FA0E96A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A79B20-DE58-4F8F-9A0C-3AF46832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7F017-43CD-425C-A153-353385F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4430D-AFB1-4026-8989-D5CA90F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C76EB-65A2-4EA3-AD83-7B4C889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EFF86-4B3C-4FF1-A689-705A7F1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6FEBA-4999-47DC-A59F-A87052DA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599B4-E261-48BF-AD12-ED8947EA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8D493-D4B9-47E2-A3AB-69417CD6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E66A2-7B50-4381-9472-EF38956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6F449-C81F-48FE-BED0-9CBE138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9BE-8094-402A-8193-891A4D8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FE05A-17C9-47D0-9CF6-48A44DB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D5D85-A2A9-47E3-95A9-152C441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9E011-BB2E-45B3-BA76-3C6FC92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B47FF-2C7E-4069-A307-B422557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A9B38-50ED-42C0-8ECC-F53B473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F1BC9-B74D-4653-B652-E9A0BF7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C9F3A-F799-475E-B603-EB40856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2F426-9C5B-44D8-9E0A-7A4BF77E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1E8FB-1933-471C-B5C0-D445D9CC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84969-A80D-4381-B9A9-21D2EAFD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AE45-45EA-4D8A-80F3-ACAE996E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C93A9-0B3A-4558-986E-F889745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13824-19A5-4522-96FD-FFEE6E7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AC3A1-C90B-4E20-B594-49A46A9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E5F49-2739-45E3-93A4-E82EA38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528AF-31E1-46F4-A619-9F6DFEB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C0CD4-AD0D-4815-8C51-FFC20FD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FCE1A-9372-47F6-AA2F-DE224D2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DC164-B225-4F1A-A2FD-F0FE29C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89896-1331-4E00-B342-AF74745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FC872-D9AF-4A92-948B-419A4819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160-E8BE-494E-BF06-76947812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10CE2-8564-4D73-8B44-2365FEB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959A6-E3A9-46FF-BE2F-B5AAC2FE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8382B-C88F-49D1-9647-0EF448B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E4E29-F7C7-4F6A-841C-F70D01DF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C4FED-1FE5-4CD0-88A4-AB36C335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9C6B8-B19D-4953-A37F-4212FE3C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F3FA5-4CB6-4CB1-A363-52A67D3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0AB77-7E1B-4CF3-BF00-AE54265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0D9F4-0AF8-4B89-ADED-AF27AB1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2E9D9-1B50-4F66-BAA8-E3C768F0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B62B-EA98-487E-9BE4-26A4E6C5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DA343-7EA1-4011-A1D6-9669E64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37060-B594-4E34-BE25-6D7E21E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F1B61-611B-4F73-9176-2A7EA9C1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FFC30-9F3A-4D4C-993F-8B085C25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6B808E-952B-4046-AB36-9B32754F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559B2-7C01-4596-AF23-399CBDB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5162D-3CD8-4510-83B7-DC9C80E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4A43F-B771-43B8-9930-203942E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30B1CE-07FF-4968-A8EC-9A4C63D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71A783-7C36-4BFD-95E7-ACF46DF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AE7E-F7FE-42E0-9417-10CFC8F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8A637-1543-48E2-9249-29AAC79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0C3DE-C257-4854-9D21-206D9D4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E9F26-01E9-40D6-AC25-F82022B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5E87E-DFF4-467D-AC19-216E610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F9150-E097-4B5B-801D-02E1FE3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D8BCAB-1A22-4D2C-83FD-F9384777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0F718-C041-40B1-B3BA-DEF06DE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7DCE11-2526-4831-B4CF-8E01C813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576A1C-1028-424F-90F0-BCB9F7E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6051D-6536-4729-8B47-B7516589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7624-A4CA-4CF3-8855-82A6E60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0E852-42BC-4C3D-A44B-850B00D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E4322F-3814-4909-B709-842E376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8252B-846A-403B-A00B-0819BBB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86601-70F1-4580-BCCB-4CB0A22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28118-3606-495D-9203-E8DA022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404F4-1A7C-4ABF-BF51-945A31CC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12C6E0-EB17-4E6A-964D-03C48793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59C0C5-AEB0-4427-B8E6-E5E658B0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07758-DD1C-4B11-A555-3548818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5ADE50-4CDC-42F2-96AF-03B791D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633B-1DB5-4384-8A3B-5F7314D4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056DF-2861-4D7F-AD38-E3AFD9A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CC996C-CF34-415A-A147-2EA5F6F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7FCAA7-E0A2-481C-94C2-8574FD1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10F50-EE9C-4567-9578-C347EB2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7FDEB-2990-4519-8351-F260A41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B5F2C3-90CC-4F04-BD37-2820525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5C149-F910-4B18-8447-3F09BF9B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08EF5-EA5E-4D77-A7B4-9B18068C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261E8-2F56-4C34-A3B1-BDA9F4F6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10C38D-20E4-41C3-AEF0-218BE0A5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0686-0135-4EDF-B441-77851B5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21592C-AE39-4CF0-95DB-D6DC8706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147EC1-E124-499A-9A3A-20BC446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29A749-3F54-4400-835C-A89CFF8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1F85F-C244-4D60-A70F-0E723234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28B272-C059-4714-B3F3-3200A29B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5BEDC7-F862-4182-BEE9-E3D808D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9F541-725F-4200-9067-28D2333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E9299C-683A-4BC8-8338-905CE01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11C782-DDF8-4357-8B57-3DCCE94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E8AA87-0542-455D-86A6-9514D52E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F79-F62D-47CF-99E3-E4F7D21D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9672-3AFD-430F-8E8C-00B1594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37A46F-65E9-430A-AB70-9DB5F78E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886664-4A54-41D2-AC10-DC8D9249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99AA4E-A555-4CC7-BFE3-A341B12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96E7FA-2B9F-4E04-8EA7-52DE9CAB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F5D9D-3FC8-4C44-8A04-8AE7D8C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E8AEF5-DBB8-4E9B-8691-50DD426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18E76C-31F6-4920-BFBD-038FCD1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6C82C-C6D3-4912-B9A3-ABF8DBB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94DFAB-CBD7-4689-ACC9-CA3A332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0FEF7C-17D8-49BF-9AA3-D5E81E9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24B5-0C97-4FB4-8384-56731D0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8746BC-5EEE-4C4D-93BE-90D93B2A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CFC16F-0D48-467B-9640-572C7F13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6AA8C8-457E-4966-A4A1-6601E64A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0F9093-F948-4929-B7F1-0476ECC5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5D95D3-13E8-441A-B55F-239896D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575FCC-7169-436D-B0A1-08B96D2B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5888D6-A168-4C98-98CF-7314077C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B0F923-61D9-43CE-A06C-3FC0CE2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31571E-498D-4D77-B389-1A31179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01741B-4784-43FD-9AC2-68A4256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53A6-63D6-4710-A63C-C8D7055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E3F6C1-06AD-448A-AA15-221447F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348DD9-618A-4BB4-90EC-E1C43FC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0CB261-8649-4300-BDAA-7DD27633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7C9DC-9E6A-491B-AC24-56FCB057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E1B3FC-1AD8-44A9-9EA3-D2086C0E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F8E88C-7125-461C-8C6F-47E8C1C9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FAE147-E1CB-45FD-B921-4A8A0CF9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180065-25EA-4C54-8AA2-38F673B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F566EB-5ED1-4022-98F5-B98C5BED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EAFC4F-43D8-4DC6-8807-73970AC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368E-2B52-4657-B558-63DC48D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D1AA43-D36C-4BB1-B94D-C51E4FAE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A075DB-A46F-4BDB-B77D-44DA4A7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6F0755-4C37-445C-B343-4270E40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C4BB93-FA67-4DB6-B182-00B414B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0E2717-6CA3-4354-AC15-70D504E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C0912B-C87A-4232-AA0C-5FF06B79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A4389-103E-43B8-81CD-FE0481C9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50EE-29E6-4ADC-916E-2DEDCFD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0FB2-E696-418E-9BCF-18BA4DB5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6BCB-F7AC-4048-8541-0DDCF081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DD0E-405B-41CC-AEEF-D28564ED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C91C-71FD-465D-A927-0217AE4D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FD27-4209-4AF9-A18D-C6A4BC61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B3C-4715-43B8-A0B5-39C7AC9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891F-F141-4301-8A84-74341935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ECB71-304D-4C19-A3C6-5B4D8520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0584-DE86-4C26-8831-A18D289E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762E-95D2-4B9F-A65F-499BCAB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7D57-2271-4402-B0FD-86B977B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2E4E-F6BC-4F3F-9A64-861C99D0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17AD-ADB6-4817-867E-3A90AF1A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CF83-5F9F-4301-AC67-152912C0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A54B-D314-41F9-838B-AB68CF4A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6B3E-A15E-4D52-9AE1-A3779042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F55-BE1B-43C8-A979-54DA2F56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7778-42C0-474B-959E-4087297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3B3E-B35E-497A-842F-9A64D9CF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CA85-AA62-4E23-99EC-3430EA6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CBF7-1E02-482E-9337-CAC2AB6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ED5D-02E2-4634-8427-D2A9EC5A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2C4B-DF44-4F3D-B102-AA4FF41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8BB5-4323-42CB-960C-A76ED658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D86F-00F2-42B1-A2E6-613229A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0396-0AA4-4896-8B20-F1DD4E8E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A7CC-1C32-47DC-90C7-CB04EAFE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5D9-4A83-4F4A-AA28-F673130F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83AC-D250-412B-8785-D76D9F0E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C6C50-0FB5-4643-8070-30E5FC62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0066-E89C-4107-AD8F-5D90451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9D03-6E7E-4F6E-BEE5-E273B46C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66BE-FCA1-43EA-8A07-C7C35950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215C-4C00-43C2-A8B7-276DAFA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104D-B705-4430-8361-628C7B2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51BE-E672-4743-9913-3813533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152C6-BB9A-482B-860B-5B7986E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F7A67-708B-4B24-9DFC-A27DA1B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8ED-FC54-4BF1-B047-A092644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31CB-8765-4B67-9E30-288193A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CA01-646C-435D-A7FF-FB5C3CA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D143-8195-4E84-BD17-70778F5F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3F97-ABC8-4B58-9D88-740CB1AA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6F6D-225C-430F-802D-4DD2DE87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9DEE1-B019-41DC-A661-ECB4C60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A8DA-41FD-47A1-83A7-2A7DC4C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DE37-5294-4364-A59C-D80FA1B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389C1-DF0D-482D-AC64-6BBD787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D00D-9C5F-4409-ADC7-5406CBC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DAF-5C04-4DB5-9570-D25E21A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4516-A760-4E21-BFB7-3078BBC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BD444-F9AF-411B-B759-6796327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4BA9-920D-4725-8E8C-7652984E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4A36-0F18-412F-9183-73E64D3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3481-2F95-4679-A749-44346430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A2B0-BB02-47B9-AA65-CDB8B4B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FFC44-D73D-44FB-8484-FECAA7E9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BF4F-754E-4362-AAB7-3CD33C5A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2AD42-2B53-4574-8841-58719255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86B03-C954-4BD6-85A5-DE45CC79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032-8289-4DCD-B189-0B312B5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FB44C-D397-419A-92C4-B098CB8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17EC4-C915-4EB6-B60F-1EB0D275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0EC8-CDC6-4848-BD95-5C9D7CC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947A-5B71-448E-8098-4F64497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4DAA-6A68-47A6-B94B-855FCEF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877B-0DA7-4384-9B7D-7298A2E1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B8AE7-4CFB-4C13-B2DB-364E2BCF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3D3FF-E37D-41D5-A2E2-CF766C7E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3593D-B569-4C6F-A9AC-124396E8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30E68-2AD8-430F-B56B-0AAC1410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25EE-8DC5-4B8E-BE0A-CC4C625B3F00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521-B3F8-46E4-BA89-CCD280A08CF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38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E64-AF6D-4E04-BA9D-08253965751F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8E38-8079-4FEB-A38C-7936361BB4A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0347-47BC-4A20-9DB3-9186D61765F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0DD-DE09-4414-A511-524BBAA6AF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186-0442-48DB-8FBC-3EF2D2D152B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DB97-2636-4639-81A9-A509E10F01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512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4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5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235-C073-4C94-A04D-4CAB0E5EAB0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7A5-DF99-4615-B3D4-1E8E4F436C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560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2841-C8EE-497A-BA4E-46FD03AD41F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D4F-7890-47CC-B1E5-089E41CE7A0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60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6CC-2D8D-4B96-A613-FD18C410812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52CC-1DA3-446D-96AE-9DD5516F05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64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219-694C-4028-BFA1-6AE82A3160A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475-FC41-42DE-B8E3-7B84112EE5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470D-9F46-41EE-988A-6CBC48A9CCD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D11-3C13-4A93-BD7F-D154FE9228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5ED-7BEF-4E6C-ADD8-8594A9E57F5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AC87-8E5B-445D-8F52-381E718735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772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3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287-1D5B-4B8C-A84E-5F2A884927B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6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7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0887-F534-4215-8270-70D62C581C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322-CC5F-4051-83B1-F11D9A2F460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6E3-E4F8-4AE0-9870-C1327766E7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820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8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92C1-A5D9-4571-B797-68B5AED8757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9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0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491C-6E4A-4FE6-B94E-9E6B04234C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86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C8C-866C-483A-B562-9A9AAF8A529F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92B-AE5A-4159-B9F7-224A56B804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90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336-86A9-401C-A9E1-93CF2A2CFA5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5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B94-B411-42C5-AA2D-DD5DAC45FE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3A8-E7F3-4E5E-898D-3E7033F1D4B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0270-2C0C-466C-B193-DB570FAA30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7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8E7B-ADDC-4D5F-B056-BA076D0AC2F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7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7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C128-4027-4F6F-908F-2BD7FFF903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032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1C0-478F-4333-AE76-73EB8BDC78C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2BBD-9EBD-4ACD-9D0D-0032A9A90C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080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01E-B3D6-4290-B6DF-C7EC5B695FE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B595-63CB-46AE-A87E-04A7B94100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12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B17-4D54-4A41-B425-BD452856F2C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CAF-51F4-4C0D-B9FD-033EAC66E9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16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82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7BB-0BB0-4E98-B37A-CD748EA983DC}" type="datetime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83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84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BC05-AD75-4905-9474-8C430AC77137}" type="slidenum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8C4-B0D2-4383-85D8-8EFAFCA0905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0666-8C58-4440-8D9B-EFBCE73F4F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794A-E23B-4DF0-BE11-DF913511A1C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09A6-9439-4561-B921-B6F23181D4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04D-1487-4CD1-98DC-E9EE4FC721A8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E3F-B939-48C1-8CCE-1D09D9731A7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A38-A42B-4951-A7F3-B118A6AEABE0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4A9F-B087-4EA4-ADC5-077F0739206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252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B7B-B786-4966-9AAD-27CBD25BEEF0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34EC-9274-4AE4-934D-AC6AA8780D8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300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9B9-04BD-457D-AFE9-23451771B7B0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362B-469D-4649-9D80-C7360D53043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34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250-1D72-4482-93DF-727598895F5A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BE1-5F7A-4735-B952-2B0868D98EC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204480" y="2865600"/>
            <a:ext cx="54752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费孝通</a:t>
            </a:r>
            <a:endParaRPr b="0" lang="en-US" sz="36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204480" y="1330200"/>
            <a:ext cx="547524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3b70f"/>
                </a:solidFill>
                <a:latin typeface="宋体"/>
                <a:ea typeface="宋体"/>
              </a:rPr>
              <a:t>美美与共</a:t>
            </a:r>
            <a:endParaRPr b="1" lang="en-US" sz="5400" spc="-1" strike="noStrike">
              <a:solidFill>
                <a:srgbClr val="63b70f"/>
              </a:solidFill>
              <a:latin typeface="Arial"/>
            </a:endParaRPr>
          </a:p>
        </p:txBody>
      </p:sp>
      <p:pic>
        <p:nvPicPr>
          <p:cNvPr id="1210" name="流程图: 过程 3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4130640" cy="782640"/>
          </a:xfrm>
          <a:prstGeom prst="rect">
            <a:avLst/>
          </a:prstGeom>
          <a:ln w="0">
            <a:noFill/>
          </a:ln>
        </p:spPr>
      </p:pic>
      <p:sp>
        <p:nvSpPr>
          <p:cNvPr id="1211" name="文本框 4"/>
          <p:cNvSpPr/>
          <p:nvPr/>
        </p:nvSpPr>
        <p:spPr>
          <a:xfrm>
            <a:off x="7610400" y="6396120"/>
            <a:ext cx="147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杜泽平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2017.04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378000" y="407520"/>
            <a:ext cx="8388000" cy="54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讨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：下列历史事件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美美与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吗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师夷长技以制夷”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魏源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海图国志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胡服骑射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战国赵武灵王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郑和下西洋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丝绸之路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0005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a890b"/>
                </a:solidFill>
                <a:latin typeface="宋体"/>
                <a:ea typeface="宋体"/>
              </a:rPr>
              <a:t>文本探究：研读</a:t>
            </a:r>
            <a:r>
              <a:rPr b="1" lang="en-US" sz="3600" spc="-1" strike="noStrike">
                <a:solidFill>
                  <a:srgbClr val="4a890b"/>
                </a:solidFill>
                <a:latin typeface="宋体"/>
                <a:ea typeface="宋体"/>
              </a:rPr>
              <a:t>3-6</a:t>
            </a:r>
            <a:r>
              <a:rPr b="1" lang="zh-CN" sz="3600" spc="-1" strike="noStrike">
                <a:solidFill>
                  <a:srgbClr val="4a890b"/>
                </a:solidFill>
                <a:latin typeface="宋体"/>
                <a:ea typeface="宋体"/>
              </a:rPr>
              <a:t>段</a:t>
            </a:r>
            <a:endParaRPr b="1" lang="en-US" sz="36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400" y="829800"/>
            <a:ext cx="889632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、费老在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说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“要想实现这几句话，还要走很长的路，甚至要付出沉重的代价”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又说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“要达到这样的境界并不容易”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第</a:t>
            </a:r>
            <a:r>
              <a:rPr b="1" lang="en-US" sz="28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3</a:t>
            </a:r>
            <a:r>
              <a:rPr b="1" lang="zh-CN" sz="28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段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为证明实现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美美与共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的艰巨性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论据？论证方法？论证思路？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9" name="矩形 3"/>
          <p:cNvSpPr/>
          <p:nvPr/>
        </p:nvSpPr>
        <p:spPr>
          <a:xfrm>
            <a:off x="135000" y="4033800"/>
            <a:ext cx="1245960" cy="989640"/>
          </a:xfrm>
          <a:prstGeom prst="rect">
            <a:avLst/>
          </a:pr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态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心理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0" name="左大括号 4"/>
          <p:cNvSpPr/>
          <p:nvPr/>
        </p:nvSpPr>
        <p:spPr>
          <a:xfrm>
            <a:off x="1490760" y="3719520"/>
            <a:ext cx="318960" cy="2008080"/>
          </a:xfrm>
          <a:custGeom>
            <a:avLst/>
            <a:gdLst>
              <a:gd name="textAreaLeft" fmla="*/ 203760 w 318960"/>
              <a:gd name="textAreaRight" fmla="*/ 319320 w 318960"/>
              <a:gd name="textAreaTop" fmla="*/ 8280 h 2008080"/>
              <a:gd name="textAreaBottom" fmla="*/ 199980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5"/>
                </a:cubicBezTo>
                <a:lnTo>
                  <a:pt x="10800" y="10636"/>
                </a:lnTo>
                <a:cubicBezTo>
                  <a:pt x="10800" y="10779"/>
                  <a:pt x="5400" y="10921"/>
                  <a:pt x="0" y="10921"/>
                </a:cubicBezTo>
                <a:cubicBezTo>
                  <a:pt x="5400" y="10921"/>
                  <a:pt x="10800" y="11064"/>
                  <a:pt x="10800" y="11206"/>
                </a:cubicBezTo>
                <a:lnTo>
                  <a:pt x="10800" y="21315"/>
                </a:lnTo>
                <a:cubicBezTo>
                  <a:pt x="10800" y="214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f6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TextBox 4"/>
          <p:cNvSpPr/>
          <p:nvPr/>
        </p:nvSpPr>
        <p:spPr>
          <a:xfrm>
            <a:off x="2137680" y="3432240"/>
            <a:ext cx="12474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展中国家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TextBox 5"/>
          <p:cNvSpPr/>
          <p:nvPr/>
        </p:nvSpPr>
        <p:spPr>
          <a:xfrm>
            <a:off x="2097360" y="4378320"/>
            <a:ext cx="1034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达国家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3" name="左大括号 7"/>
          <p:cNvSpPr/>
          <p:nvPr/>
        </p:nvSpPr>
        <p:spPr>
          <a:xfrm>
            <a:off x="3817800" y="331164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f6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4" name="TextBox 7"/>
          <p:cNvSpPr/>
          <p:nvPr/>
        </p:nvSpPr>
        <p:spPr>
          <a:xfrm>
            <a:off x="4682880" y="2903400"/>
            <a:ext cx="2527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自菲薄，盲目崇拜西方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5" name="TextBox 8"/>
          <p:cNvSpPr/>
          <p:nvPr/>
        </p:nvSpPr>
        <p:spPr>
          <a:xfrm>
            <a:off x="4764600" y="3719520"/>
            <a:ext cx="2527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闭关排外，极端仇视西方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TextBox 9"/>
          <p:cNvSpPr/>
          <p:nvPr/>
        </p:nvSpPr>
        <p:spPr>
          <a:xfrm>
            <a:off x="4056480" y="4400640"/>
            <a:ext cx="29102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32a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自尊大，热衷传教推销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7" name="TextBox 5"/>
          <p:cNvSpPr/>
          <p:nvPr/>
        </p:nvSpPr>
        <p:spPr>
          <a:xfrm>
            <a:off x="2225520" y="5222880"/>
            <a:ext cx="14608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历史上的中国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4613400" y="5245200"/>
            <a:ext cx="2483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32a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目崇拜，闭关排外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9" name="直接连接符 15"/>
          <p:cNvSpPr/>
          <p:nvPr/>
        </p:nvSpPr>
        <p:spPr>
          <a:xfrm>
            <a:off x="541440" y="4363920"/>
            <a:ext cx="503280" cy="10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0" name="直接连接符 16"/>
          <p:cNvSpPr/>
          <p:nvPr/>
        </p:nvSpPr>
        <p:spPr>
          <a:xfrm flipV="1">
            <a:off x="412920" y="4435200"/>
            <a:ext cx="631800" cy="888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1" name="右大括号 17"/>
          <p:cNvSpPr/>
          <p:nvPr/>
        </p:nvSpPr>
        <p:spPr>
          <a:xfrm>
            <a:off x="7958160" y="3238560"/>
            <a:ext cx="190440" cy="2495520"/>
          </a:xfrm>
          <a:custGeom>
            <a:avLst/>
            <a:gdLst>
              <a:gd name="textAreaLeft" fmla="*/ 0 w 190440"/>
              <a:gd name="textAreaRight" fmla="*/ 68760 w 190440"/>
              <a:gd name="textAreaTop" fmla="*/ 4680 h 2495520"/>
              <a:gd name="textAreaBottom" fmla="*/ 2490840 h 24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"/>
                  <a:pt x="10800" y="137"/>
                </a:cubicBezTo>
                <a:lnTo>
                  <a:pt x="10800" y="10663"/>
                </a:lnTo>
                <a:cubicBezTo>
                  <a:pt x="10800" y="10732"/>
                  <a:pt x="16200" y="10800"/>
                  <a:pt x="21600" y="10800"/>
                </a:cubicBezTo>
                <a:cubicBezTo>
                  <a:pt x="16200" y="10800"/>
                  <a:pt x="10800" y="10869"/>
                  <a:pt x="10800" y="10937"/>
                </a:cubicBezTo>
                <a:lnTo>
                  <a:pt x="10800" y="21463"/>
                </a:lnTo>
                <a:cubicBezTo>
                  <a:pt x="10800" y="2153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f6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2" name="文本框 18"/>
          <p:cNvSpPr/>
          <p:nvPr/>
        </p:nvSpPr>
        <p:spPr>
          <a:xfrm>
            <a:off x="7675560" y="3703680"/>
            <a:ext cx="1289160" cy="1541520"/>
          </a:xfrm>
          <a:prstGeom prst="rect">
            <a:avLst/>
          </a:pr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举例论证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3" name="矩形 19"/>
          <p:cNvSpPr/>
          <p:nvPr/>
        </p:nvSpPr>
        <p:spPr>
          <a:xfrm>
            <a:off x="38160" y="6021360"/>
            <a:ext cx="9056520" cy="71928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证思路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4" name="文本框 20"/>
          <p:cNvSpPr/>
          <p:nvPr/>
        </p:nvSpPr>
        <p:spPr>
          <a:xfrm>
            <a:off x="1630440" y="6018120"/>
            <a:ext cx="73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由世界到中国，由普遍到具体，最后提出希望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5" name="矩形标注 11"/>
          <p:cNvSpPr/>
          <p:nvPr/>
        </p:nvSpPr>
        <p:spPr>
          <a:xfrm>
            <a:off x="6221520" y="2349360"/>
            <a:ext cx="2887560" cy="574920"/>
          </a:xfrm>
          <a:prstGeom prst="wedgeRectCallout">
            <a:avLst>
              <a:gd name="adj1" fmla="val -52800"/>
              <a:gd name="adj2" fmla="val 84398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各美其美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6" name="矩形标注 14"/>
          <p:cNvSpPr/>
          <p:nvPr/>
        </p:nvSpPr>
        <p:spPr>
          <a:xfrm>
            <a:off x="1216080" y="2855880"/>
            <a:ext cx="2496960" cy="576360"/>
          </a:xfrm>
          <a:prstGeom prst="wedgeRectCallout">
            <a:avLst>
              <a:gd name="adj1" fmla="val 88055"/>
              <a:gd name="adj2" fmla="val 136217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美人之美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 2050"/>
          <p:cNvSpPr/>
          <p:nvPr/>
        </p:nvSpPr>
        <p:spPr>
          <a:xfrm>
            <a:off x="766800" y="3444840"/>
            <a:ext cx="914400" cy="91440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233280" y="150840"/>
            <a:ext cx="871704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段，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从反面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由世界到历史上的中国的错误做法，最后对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今天的中国学术界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提出希望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段，论证的对象可能应该是？论证的角度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具体怎么展开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9" name="左大括号 4"/>
          <p:cNvSpPr/>
          <p:nvPr/>
        </p:nvSpPr>
        <p:spPr>
          <a:xfrm>
            <a:off x="2065320" y="3139920"/>
            <a:ext cx="184320" cy="1447920"/>
          </a:xfrm>
          <a:custGeom>
            <a:avLst/>
            <a:gdLst>
              <a:gd name="textAreaLeft" fmla="*/ 117720 w 184320"/>
              <a:gd name="textAreaRight" fmla="*/ 184680 w 184320"/>
              <a:gd name="textAreaTop" fmla="*/ 4680 h 1447920"/>
              <a:gd name="textAreaBottom" fmla="*/ 144324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693"/>
                </a:lnTo>
                <a:cubicBezTo>
                  <a:pt x="10800" y="10807"/>
                  <a:pt x="5400" y="10921"/>
                  <a:pt x="0" y="10921"/>
                </a:cubicBezTo>
                <a:cubicBezTo>
                  <a:pt x="5400" y="10921"/>
                  <a:pt x="10800" y="11035"/>
                  <a:pt x="10800" y="11149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f6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0" name="TextBox 4"/>
          <p:cNvSpPr/>
          <p:nvPr/>
        </p:nvSpPr>
        <p:spPr>
          <a:xfrm>
            <a:off x="2297160" y="2643120"/>
            <a:ext cx="4578480" cy="54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大力气学习、研究和总结先人的聪明智慧和宝贵经验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1" name="矩形 3"/>
          <p:cNvSpPr/>
          <p:nvPr/>
        </p:nvSpPr>
        <p:spPr>
          <a:xfrm>
            <a:off x="304920" y="3429000"/>
            <a:ext cx="1658880" cy="989640"/>
          </a:xfrm>
          <a:prstGeom prst="rect">
            <a:avLst/>
          </a:pr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今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2" name="TextBox 4"/>
          <p:cNvSpPr/>
          <p:nvPr/>
        </p:nvSpPr>
        <p:spPr>
          <a:xfrm>
            <a:off x="2281320" y="4133880"/>
            <a:ext cx="4594320" cy="54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异文化，用稳健、理智的心态审视，要理解，要选择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3" name="矩形标注 2"/>
          <p:cNvSpPr/>
          <p:nvPr/>
        </p:nvSpPr>
        <p:spPr>
          <a:xfrm>
            <a:off x="7236000" y="2635200"/>
            <a:ext cx="1784160" cy="777960"/>
          </a:xfrm>
          <a:prstGeom prst="wedgeRectCallout">
            <a:avLst>
              <a:gd name="adj1" fmla="val -73208"/>
              <a:gd name="adj2" fmla="val 31430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各美其美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4" name="矩形标注 8"/>
          <p:cNvSpPr/>
          <p:nvPr/>
        </p:nvSpPr>
        <p:spPr>
          <a:xfrm>
            <a:off x="7236000" y="4349880"/>
            <a:ext cx="1784160" cy="777600"/>
          </a:xfrm>
          <a:prstGeom prst="wedgeRectCallout">
            <a:avLst>
              <a:gd name="adj1" fmla="val -73194"/>
              <a:gd name="adj2" fmla="val -24550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美人之美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5" name="矩形 9"/>
          <p:cNvSpPr/>
          <p:nvPr/>
        </p:nvSpPr>
        <p:spPr>
          <a:xfrm>
            <a:off x="4257720" y="3394080"/>
            <a:ext cx="71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宋体"/>
              </a:rPr>
              <a:t>+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6" name="线形标注 1 10"/>
          <p:cNvSpPr/>
          <p:nvPr/>
        </p:nvSpPr>
        <p:spPr>
          <a:xfrm>
            <a:off x="7236000" y="3573360"/>
            <a:ext cx="1785600" cy="611280"/>
          </a:xfrm>
          <a:prstGeom prst="borderCallout1">
            <a:avLst>
              <a:gd name="adj1" fmla="val 18750"/>
              <a:gd name="adj2" fmla="val -8333"/>
              <a:gd name="adj3" fmla="val 52546"/>
              <a:gd name="adj4" fmla="val -128412"/>
            </a:avLst>
          </a:prstGeom>
          <a:solidFill>
            <a:srgbClr val="3f6a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美美与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7" name="矩形标注 11"/>
          <p:cNvSpPr/>
          <p:nvPr/>
        </p:nvSpPr>
        <p:spPr>
          <a:xfrm>
            <a:off x="61920" y="5334120"/>
            <a:ext cx="8958240" cy="610920"/>
          </a:xfrm>
          <a:prstGeom prst="wedgeRectCallout">
            <a:avLst>
              <a:gd name="adj1" fmla="val -4861"/>
              <a:gd name="adj2" fmla="val -85722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辩证的语言范式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8" name="文本框 15"/>
          <p:cNvSpPr/>
          <p:nvPr/>
        </p:nvSpPr>
        <p:spPr>
          <a:xfrm>
            <a:off x="3603600" y="5261040"/>
            <a:ext cx="462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不是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)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，应该用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，而不是用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9" name="矩形 16"/>
          <p:cNvSpPr/>
          <p:nvPr/>
        </p:nvSpPr>
        <p:spPr>
          <a:xfrm>
            <a:off x="1366920" y="6041880"/>
            <a:ext cx="6406920" cy="766800"/>
          </a:xfrm>
          <a:prstGeom prst="rect">
            <a:avLst/>
          </a:prstGeom>
          <a:solidFill>
            <a:srgbClr val="3f6a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对我们写作论述文的启示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150840" y="288720"/>
            <a:ext cx="8880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段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32a0"/>
                </a:solidFill>
                <a:latin typeface="宋体"/>
                <a:ea typeface="宋体"/>
              </a:rPr>
              <a:t>举唐朝时中日文化交流为例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。日本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美人之美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，获得了很多的文化资源，达到了双赢的结果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思考：唐朝时中日文化交流极其繁荣，费老为什么不举出实例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读者意识！！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【课堂练笔】以中学生的视角，以中日文化交流为例，证明</a:t>
            </a:r>
            <a:r>
              <a:rPr b="1" lang="en-US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美人之美</a:t>
            </a:r>
            <a:r>
              <a:rPr b="1" lang="en-US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”</a:t>
            </a:r>
            <a:r>
              <a:rPr b="1" lang="en-US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,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达到双赢</a:t>
            </a:r>
            <a:r>
              <a:rPr b="1" lang="en-US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(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美美与共</a:t>
            </a:r>
            <a:r>
              <a:rPr b="1" lang="en-US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81" name="燕尾形箭头 1"/>
          <p:cNvSpPr/>
          <p:nvPr/>
        </p:nvSpPr>
        <p:spPr>
          <a:xfrm>
            <a:off x="7781760" y="630864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44" y="5400"/>
                </a:ln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16244" y="16200"/>
                </a:lnTo>
                <a:lnTo>
                  <a:pt x="0" y="16200"/>
                </a:lnTo>
                <a:lnTo>
                  <a:pt x="267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fbd8d"/>
              </a:gs>
              <a:gs pos="100000">
                <a:srgbClr val="32a770"/>
              </a:gs>
            </a:gsLst>
            <a:lin ang="5400000"/>
          </a:gradFill>
          <a:ln w="6480">
            <a:solidFill>
              <a:srgbClr val="44b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 txBox="1"/>
          <p:nvPr/>
        </p:nvSpPr>
        <p:spPr>
          <a:xfrm>
            <a:off x="241200" y="257040"/>
            <a:ext cx="858384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段，与十六字箴言中哪四个字有关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32a0"/>
                </a:solidFill>
                <a:latin typeface="宋体"/>
                <a:ea typeface="宋体"/>
              </a:rPr>
              <a:t>美美与共！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概括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段意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论证方法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第七段，概括</a:t>
            </a:r>
            <a:r>
              <a:rPr b="1" lang="zh-CN" sz="3200" spc="-1" strike="noStrike" u="sng">
                <a:solidFill>
                  <a:srgbClr val="2032a0"/>
                </a:solidFill>
                <a:uFillTx/>
                <a:latin typeface="宋体"/>
                <a:ea typeface="宋体"/>
              </a:rPr>
              <a:t>段意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83" name="矩形 3"/>
          <p:cNvSpPr/>
          <p:nvPr/>
        </p:nvSpPr>
        <p:spPr>
          <a:xfrm>
            <a:off x="2266920" y="1757520"/>
            <a:ext cx="6481800" cy="66348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实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美美与共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条件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4" name="矩形 4"/>
          <p:cNvSpPr/>
          <p:nvPr/>
        </p:nvSpPr>
        <p:spPr>
          <a:xfrm>
            <a:off x="2593800" y="2530440"/>
            <a:ext cx="5162760" cy="66348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举例论证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5" name="矩形 5"/>
          <p:cNvSpPr/>
          <p:nvPr/>
        </p:nvSpPr>
        <p:spPr>
          <a:xfrm>
            <a:off x="127080" y="4537080"/>
            <a:ext cx="8843760" cy="209700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提出希望与目标：克服困难，促进人类文化心态的深刻变革（树立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美美与共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文化心态），建设“和而不同”的美好世界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4"/>
          <p:cNvSpPr/>
          <p:nvPr/>
        </p:nvSpPr>
        <p:spPr>
          <a:xfrm>
            <a:off x="187200" y="909720"/>
            <a:ext cx="519768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1-2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提出中心论点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段：例证</a:t>
            </a:r>
            <a:r>
              <a:rPr b="1" lang="en-US" sz="2800" spc="-1" strike="noStrike">
                <a:solidFill>
                  <a:srgbClr val="4547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4547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简略。（反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4-6</a:t>
            </a: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段：正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段：说理分析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宋体"/>
              </a:rPr>
              <a:t>段：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例证，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例，概述</a:t>
            </a:r>
            <a:r>
              <a:rPr b="1" lang="en-US" sz="2800" spc="-1" strike="noStrike">
                <a:solidFill>
                  <a:srgbClr val="4547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较详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段：例证，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例，简略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454749"/>
                </a:solidFill>
                <a:latin typeface="宋体"/>
                <a:ea typeface="宋体"/>
              </a:rPr>
              <a:t>段：提希望，收束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87200" y="109440"/>
            <a:ext cx="4213440" cy="812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向大师学论证</a:t>
            </a:r>
            <a:endParaRPr b="1" lang="en-US" sz="36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88" name="矩形标注 3"/>
          <p:cNvSpPr/>
          <p:nvPr/>
        </p:nvSpPr>
        <p:spPr>
          <a:xfrm>
            <a:off x="4965840" y="431640"/>
            <a:ext cx="3483000" cy="1065240"/>
          </a:xfrm>
          <a:prstGeom prst="wedgeRectCallout">
            <a:avLst>
              <a:gd name="adj1" fmla="val -87453"/>
              <a:gd name="adj2" fmla="val 38379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明确目的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针对性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最好有简要阐释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9" name="右大括号 4"/>
          <p:cNvSpPr/>
          <p:nvPr/>
        </p:nvSpPr>
        <p:spPr>
          <a:xfrm>
            <a:off x="4789440" y="1989000"/>
            <a:ext cx="308160" cy="2961000"/>
          </a:xfrm>
          <a:custGeom>
            <a:avLst/>
            <a:gdLst>
              <a:gd name="textAreaLeft" fmla="*/ 0 w 308160"/>
              <a:gd name="textAreaRight" fmla="*/ 111240 w 308160"/>
              <a:gd name="textAreaTop" fmla="*/ 7920 h 2961000"/>
              <a:gd name="textAreaBottom" fmla="*/ 2953080 h 296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0" name="流程图: 过程 5"/>
          <p:cNvSpPr/>
          <p:nvPr/>
        </p:nvSpPr>
        <p:spPr>
          <a:xfrm>
            <a:off x="5168880" y="1989000"/>
            <a:ext cx="2583000" cy="2952720"/>
          </a:xfrm>
          <a:prstGeom prst="flowChartProcess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证方法多样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正反对比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举例论证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有详有略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理论论证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常态为引证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1" name="左箭头标注 6"/>
          <p:cNvSpPr/>
          <p:nvPr/>
        </p:nvSpPr>
        <p:spPr>
          <a:xfrm rot="16200000">
            <a:off x="7745400" y="2084040"/>
            <a:ext cx="1419120" cy="1235160"/>
          </a:xfrm>
          <a:prstGeom prst="leftArrowCallout">
            <a:avLst>
              <a:gd name="adj1" fmla="val 25002"/>
              <a:gd name="adj2" fmla="val 25000"/>
              <a:gd name="adj3" fmla="val 24995"/>
              <a:gd name="adj4" fmla="val 64983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2" name="文本框 7"/>
          <p:cNvSpPr/>
          <p:nvPr/>
        </p:nvSpPr>
        <p:spPr>
          <a:xfrm>
            <a:off x="7970760" y="2070000"/>
            <a:ext cx="1087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世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3" name="左箭头标注 8"/>
          <p:cNvSpPr/>
          <p:nvPr/>
        </p:nvSpPr>
        <p:spPr>
          <a:xfrm rot="16200000">
            <a:off x="7767720" y="3463920"/>
            <a:ext cx="1341360" cy="123336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64983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文本框 9"/>
          <p:cNvSpPr/>
          <p:nvPr/>
        </p:nvSpPr>
        <p:spPr>
          <a:xfrm>
            <a:off x="7899480" y="3416400"/>
            <a:ext cx="1087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中国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矩形 10"/>
          <p:cNvSpPr/>
          <p:nvPr/>
        </p:nvSpPr>
        <p:spPr>
          <a:xfrm>
            <a:off x="7837560" y="4751280"/>
            <a:ext cx="1217520" cy="81432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世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6" name="矩形 11"/>
          <p:cNvSpPr/>
          <p:nvPr/>
        </p:nvSpPr>
        <p:spPr>
          <a:xfrm>
            <a:off x="3851280" y="5157720"/>
            <a:ext cx="3970440" cy="113508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据后须有分析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段末应有小结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标志词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cxnSp>
        <p:nvCxnSpPr>
          <p:cNvPr id="1297" name="直接箭头连接符 12"/>
          <p:cNvCxnSpPr/>
          <p:nvPr/>
        </p:nvCxnSpPr>
        <p:spPr>
          <a:xfrm>
            <a:off x="3851280" y="4292280"/>
            <a:ext cx="721440" cy="865800"/>
          </a:xfrm>
          <a:prstGeom prst="straightConnector1">
            <a:avLst/>
          </a:prstGeom>
          <a:ln w="19080">
            <a:solidFill>
              <a:srgbClr val="63b70f"/>
            </a:solidFill>
            <a:miter/>
            <a:tailEnd len="med" type="arrow" w="med"/>
          </a:ln>
        </p:spPr>
      </p:cxnSp>
      <p:cxnSp>
        <p:nvCxnSpPr>
          <p:cNvPr id="1298" name="直接箭头连接符 13"/>
          <p:cNvCxnSpPr/>
          <p:nvPr/>
        </p:nvCxnSpPr>
        <p:spPr>
          <a:xfrm>
            <a:off x="2914200" y="4868640"/>
            <a:ext cx="1010520" cy="432360"/>
          </a:xfrm>
          <a:prstGeom prst="straightConnector1">
            <a:avLst/>
          </a:prstGeom>
          <a:ln w="19080">
            <a:solidFill>
              <a:srgbClr val="63b70f"/>
            </a:solidFill>
            <a:miter/>
            <a:tailEnd len="med" type="arrow" w="med"/>
          </a:ln>
        </p:spPr>
      </p:cxnSp>
      <p:cxnSp>
        <p:nvCxnSpPr>
          <p:cNvPr id="1299" name="直接箭头连接符 14"/>
          <p:cNvCxnSpPr/>
          <p:nvPr/>
        </p:nvCxnSpPr>
        <p:spPr>
          <a:xfrm>
            <a:off x="2339640" y="3645000"/>
            <a:ext cx="1656360" cy="1513440"/>
          </a:xfrm>
          <a:prstGeom prst="straightConnector1">
            <a:avLst/>
          </a:prstGeom>
          <a:ln w="19080">
            <a:solidFill>
              <a:srgbClr val="63b7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86840" y="1093680"/>
            <a:ext cx="8788680" cy="42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1.(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比如当今世界上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许多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发展中国家，历史上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大多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遭受过西方殖民主义的欺凌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2.(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目前，这种仇视西方的状况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似乎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已经酝酿成一股社会潮流。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3.(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当时的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日本人是很有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鉴赏力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4.(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段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它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可能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与当前世界上很多人习惯的思维模式和行为方式相抵触。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特别是当触动到某些集团的利益的时候，</a:t>
            </a:r>
            <a:r>
              <a:rPr b="1" lang="zh-CN" sz="2800" spc="-1" strike="noStrike" u="sng">
                <a:solidFill>
                  <a:srgbClr val="b81d08"/>
                </a:solidFill>
                <a:uFillTx/>
                <a:latin typeface="宋体"/>
                <a:ea typeface="宋体"/>
              </a:rPr>
              <a:t>可能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还会受到猛烈的攻击。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1" name="标题 6"/>
          <p:cNvSpPr/>
          <p:nvPr/>
        </p:nvSpPr>
        <p:spPr>
          <a:xfrm>
            <a:off x="187200" y="109440"/>
            <a:ext cx="8790120" cy="812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向大师学论证语言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2" name="Text Box 2"/>
          <p:cNvSpPr/>
          <p:nvPr/>
        </p:nvSpPr>
        <p:spPr>
          <a:xfrm>
            <a:off x="860400" y="5572080"/>
            <a:ext cx="7466040" cy="581400"/>
          </a:xfrm>
          <a:prstGeom prst="rect">
            <a:avLst/>
          </a:prstGeom>
          <a:solidFill>
            <a:srgbClr val="e7c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宋体"/>
              </a:rPr>
              <a:t>论述语言特点之一：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宋体"/>
              </a:rPr>
              <a:t>_  ______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_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3" name="Rectangle 3"/>
          <p:cNvSpPr/>
          <p:nvPr/>
        </p:nvSpPr>
        <p:spPr>
          <a:xfrm>
            <a:off x="5241960" y="55515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准确、严谨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0040" y="114732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希望今天的中国学术界，能够彻底抛弃妄自菲薄、盲目崇拜西方或者妄自尊大、闭关排外的心理。</a:t>
            </a:r>
            <a:br>
              <a:rPr sz="3200"/>
            </a:b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pic>
        <p:nvPicPr>
          <p:cNvPr id="1305" name="Rectangle 3" descr=""/>
          <p:cNvPicPr/>
          <p:nvPr/>
        </p:nvPicPr>
        <p:blipFill>
          <a:blip r:embed="rId1"/>
          <a:stretch/>
        </p:blipFill>
        <p:spPr>
          <a:xfrm>
            <a:off x="5270400" y="4500720"/>
            <a:ext cx="1879560" cy="1346040"/>
          </a:xfrm>
          <a:prstGeom prst="rect">
            <a:avLst/>
          </a:prstGeom>
          <a:ln w="0">
            <a:noFill/>
          </a:ln>
        </p:spPr>
      </p:pic>
      <p:sp>
        <p:nvSpPr>
          <p:cNvPr id="1306" name="Text Box 4"/>
          <p:cNvSpPr/>
          <p:nvPr/>
        </p:nvSpPr>
        <p:spPr>
          <a:xfrm>
            <a:off x="357120" y="464328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宋体"/>
              </a:rPr>
              <a:t>论述语言特点之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500040" y="3073320"/>
            <a:ext cx="84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这些抵制和攻击又算得了什么！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8" name="标题 6"/>
          <p:cNvSpPr/>
          <p:nvPr/>
        </p:nvSpPr>
        <p:spPr>
          <a:xfrm>
            <a:off x="187200" y="109440"/>
            <a:ext cx="8790120" cy="812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向大师学论证语言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0" y="185760"/>
            <a:ext cx="3224160" cy="581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依据文本讨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0" name="Rectangle 3"/>
          <p:cNvSpPr/>
          <p:nvPr/>
        </p:nvSpPr>
        <p:spPr>
          <a:xfrm>
            <a:off x="141120" y="1139760"/>
            <a:ext cx="881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你怎么看待自己的文化基因与外来文化冲突与融合问题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校十博士联名抵制圣诞节。狂欢圣诞节意味着“中国文化的主位性缺失和主体性沉沦”，呼吁“国人慎对圣诞节，走出文化集体无意识，挺立中国文化主体性”，以“唤醒国人、抵御西方文化扩张”。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代汉语词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次收录了西文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马未都撰博文认为“这事我看比钓鱼岛问题还严重，领土的丢失还可以找回来，文化的入侵会深入骨髓，一代人下来，基本上回天无术。”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星巴克入驻灵隐寺。星巴克能否开在灵隐寺？若可行，那么禅茶一味，是否可化为禅咖一味？若不行，上岛咖啡来了行不行？我们究竟反对的是外来文化入侵，还是景区过度商业化？“星巴克焦虑”在哪里？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国产电影保护月【国家电影局口头通知：每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（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）期间，不鼓励引进海外分账大片】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矩形 5"/>
          <p:cNvSpPr/>
          <p:nvPr/>
        </p:nvSpPr>
        <p:spPr>
          <a:xfrm>
            <a:off x="673200" y="1833480"/>
            <a:ext cx="50760" cy="198144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42600" y="406080"/>
            <a:ext cx="490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a890b"/>
                </a:solidFill>
                <a:latin typeface="宋体"/>
                <a:ea typeface="宋体"/>
              </a:rPr>
              <a:t>高山仰止，铭记大师！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825480" y="1190160"/>
            <a:ext cx="787392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费孝通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1910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2005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，江苏吴江人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伦敦大学博士，伦敦大学经济政治学院院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士，联合国大英百科全书奖获得者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学术地位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：著名社会学家、人类学家、民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  <a:ea typeface="宋体"/>
              </a:rPr>
              <a:t>族学家、社会活动家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中国社会学和人类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学的奠基人之一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一生著述浩繁，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《乡土中国》和《江村经济》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是研究中国经济、社会和文化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必读之书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215" name="图片 8" descr=""/>
          <p:cNvPicPr/>
          <p:nvPr/>
        </p:nvPicPr>
        <p:blipFill>
          <a:blip r:embed="rId1"/>
          <a:stretch/>
        </p:blipFill>
        <p:spPr>
          <a:xfrm>
            <a:off x="6981840" y="66600"/>
            <a:ext cx="2139840" cy="2938680"/>
          </a:xfrm>
          <a:prstGeom prst="rect">
            <a:avLst/>
          </a:prstGeom>
          <a:ln w="0">
            <a:noFill/>
          </a:ln>
        </p:spPr>
      </p:pic>
      <p:pic>
        <p:nvPicPr>
          <p:cNvPr id="1216" name="文本框 9" descr=""/>
          <p:cNvPicPr/>
          <p:nvPr/>
        </p:nvPicPr>
        <p:blipFill>
          <a:blip r:embed="rId2"/>
          <a:stretch/>
        </p:blipFill>
        <p:spPr>
          <a:xfrm>
            <a:off x="6981840" y="3002040"/>
            <a:ext cx="2139840" cy="369720"/>
          </a:xfrm>
          <a:prstGeom prst="rect">
            <a:avLst/>
          </a:prstGeom>
          <a:ln w="0">
            <a:noFill/>
          </a:ln>
        </p:spPr>
      </p:pic>
      <p:sp>
        <p:nvSpPr>
          <p:cNvPr id="1217" name="内容占位符 7"/>
          <p:cNvSpPr/>
          <p:nvPr/>
        </p:nvSpPr>
        <p:spPr>
          <a:xfrm>
            <a:off x="825480" y="4923000"/>
            <a:ext cx="7873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政治地位</a:t>
            </a:r>
            <a:r>
              <a:rPr b="1" lang="zh-CN" sz="2400" spc="-1" strike="noStrike">
                <a:solidFill>
                  <a:srgbClr val="303030"/>
                </a:solidFill>
                <a:latin typeface="宋体"/>
                <a:ea typeface="宋体"/>
              </a:rPr>
              <a:t>：第七、八届全国人大常务副委员长，第六届全国全国政协副主席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09680" y="263160"/>
            <a:ext cx="845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890b"/>
                </a:solidFill>
                <a:latin typeface="宋体"/>
                <a:ea typeface="宋体"/>
              </a:rPr>
              <a:t>高山仰止，铭记大师！</a:t>
            </a:r>
            <a:endParaRPr b="1" lang="en-US" sz="4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968040" y="1046160"/>
            <a:ext cx="526716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江村偶读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费孝通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李白六十二，杜甫五十九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我年已古稀，虚度岂可究？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梦回苦日短，碌碌未敢休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文章千古事，万顷一沙鸥。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220" name="文本框 9" descr=""/>
          <p:cNvPicPr/>
          <p:nvPr/>
        </p:nvPicPr>
        <p:blipFill>
          <a:blip r:embed="rId1"/>
          <a:stretch/>
        </p:blipFill>
        <p:spPr>
          <a:xfrm>
            <a:off x="6226200" y="3184560"/>
            <a:ext cx="2806560" cy="492120"/>
          </a:xfrm>
          <a:prstGeom prst="rect">
            <a:avLst/>
          </a:prstGeom>
          <a:ln w="0">
            <a:noFill/>
          </a:ln>
        </p:spPr>
      </p:pic>
      <p:sp>
        <p:nvSpPr>
          <p:cNvPr id="1221" name="内容占位符 7"/>
          <p:cNvSpPr/>
          <p:nvPr/>
        </p:nvSpPr>
        <p:spPr>
          <a:xfrm>
            <a:off x="206280" y="4278240"/>
            <a:ext cx="878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费老的一生，学习、实践、著述，孜孜不倦。费老喜欢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跑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路，他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跑一个地方，写一篇文章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心血凝聚成《行行重行行》，这里充溢一个社会学家的思考，张扬着他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志在富民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的愿望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22" name="图片 2" descr=""/>
          <p:cNvPicPr/>
          <p:nvPr/>
        </p:nvPicPr>
        <p:blipFill>
          <a:blip r:embed="rId2"/>
          <a:stretch/>
        </p:blipFill>
        <p:spPr>
          <a:xfrm>
            <a:off x="6235560" y="1252440"/>
            <a:ext cx="2799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12400" y="364680"/>
            <a:ext cx="70009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a890b"/>
                </a:solidFill>
                <a:latin typeface="宋体"/>
                <a:ea typeface="宋体"/>
              </a:rPr>
              <a:t>关于</a:t>
            </a:r>
            <a:r>
              <a:rPr b="1" lang="en-US" sz="3200" spc="-1" strike="noStrike">
                <a:solidFill>
                  <a:srgbClr val="4a890b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4a890b"/>
                </a:solidFill>
                <a:latin typeface="宋体"/>
                <a:ea typeface="宋体"/>
              </a:rPr>
              <a:t>美美与共</a:t>
            </a:r>
            <a:r>
              <a:rPr b="1" lang="en-US" sz="3200" spc="-1" strike="noStrike">
                <a:solidFill>
                  <a:srgbClr val="4a890b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4a890b"/>
                </a:solidFill>
                <a:latin typeface="宋体"/>
                <a:ea typeface="宋体"/>
              </a:rPr>
              <a:t>的背景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572760" y="1450440"/>
            <a:ext cx="8156520" cy="46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1990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月，日本著名社会学家中根千枝教授和乔健教授在东京召开“东亚社会研究国际研讨会”，为费老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华诞贺寿。在就“人的研究在中国</a:t>
            </a: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个人的经历”主题进行演讲时，费老总结出了极具美感的十六字箴言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各美其美，美人之美，美美与共，天下大同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。这是在提倡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宋体"/>
                <a:ea typeface="宋体"/>
              </a:rPr>
              <a:t>一种平和谦虚的文化心态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，不只适合在审美和人文的高层面上处理民族冲突和文明隔阂，也囊括了我们普通人的待人接物之道和网际交流。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12760" y="534600"/>
            <a:ext cx="700272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a890b"/>
                </a:solidFill>
                <a:latin typeface="宋体"/>
                <a:ea typeface="宋体"/>
              </a:rPr>
              <a:t>语基积累</a:t>
            </a:r>
            <a:endParaRPr b="1" lang="en-US" sz="36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261720" y="1283760"/>
            <a:ext cx="77072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3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一、字音识记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糟粕（       ） 收敛（     ）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酝酿（          ）  纷至沓来（     ）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二、词语解释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和而不同：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3030"/>
                </a:solidFill>
                <a:latin typeface="宋体"/>
                <a:ea typeface="宋体"/>
              </a:rPr>
              <a:t>天下大同：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27" name="Text Box 11"/>
          <p:cNvSpPr/>
          <p:nvPr/>
        </p:nvSpPr>
        <p:spPr>
          <a:xfrm>
            <a:off x="1905120" y="1865160"/>
            <a:ext cx="1730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āopò</a:t>
            </a:r>
            <a:r>
              <a:rPr b="1" lang="en-US" sz="3600" spc="-1" strike="noStrike">
                <a:solidFill>
                  <a:srgbClr val="5f5f5f"/>
                </a:solidFill>
                <a:latin typeface="宋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8" name="Text Box 12"/>
          <p:cNvSpPr/>
          <p:nvPr/>
        </p:nvSpPr>
        <p:spPr>
          <a:xfrm>
            <a:off x="1905120" y="2592360"/>
            <a:ext cx="2162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ùnniànɡ</a:t>
            </a:r>
            <a:r>
              <a:rPr b="1" lang="en-US" sz="3200" spc="-1" strike="noStrike">
                <a:solidFill>
                  <a:srgbClr val="5f5f5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9" name="Text Box 13"/>
          <p:cNvSpPr/>
          <p:nvPr/>
        </p:nvSpPr>
        <p:spPr>
          <a:xfrm>
            <a:off x="4656240" y="1927080"/>
            <a:ext cx="1595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</a:t>
            </a:r>
            <a:r>
              <a:rPr b="0" lang="en-US" sz="3200" spc="-1" strike="noStrike">
                <a:solidFill>
                  <a:srgbClr val="5f5f5f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0" name="矩形标注 8"/>
          <p:cNvSpPr/>
          <p:nvPr/>
        </p:nvSpPr>
        <p:spPr>
          <a:xfrm>
            <a:off x="6615000" y="182520"/>
            <a:ext cx="2416320" cy="2328840"/>
          </a:xfrm>
          <a:prstGeom prst="wedgeRectCallout">
            <a:avLst>
              <a:gd name="adj1" fmla="val -69787"/>
              <a:gd name="adj2" fmla="val 30939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三个形近字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潋滟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眼睑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装殓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1" name="文本框 9"/>
          <p:cNvSpPr/>
          <p:nvPr/>
        </p:nvSpPr>
        <p:spPr>
          <a:xfrm>
            <a:off x="7597800" y="736560"/>
            <a:ext cx="1206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lià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jiǎ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lià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2" name="Text Box 13"/>
          <p:cNvSpPr/>
          <p:nvPr/>
        </p:nvSpPr>
        <p:spPr>
          <a:xfrm>
            <a:off x="6004080" y="2484360"/>
            <a:ext cx="1593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tà</a:t>
            </a:r>
            <a:r>
              <a:rPr b="0" lang="en-US" sz="3200" spc="-1" strike="noStrike">
                <a:solidFill>
                  <a:srgbClr val="5f5f5f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3" name="矩形标注 11"/>
          <p:cNvSpPr/>
          <p:nvPr/>
        </p:nvSpPr>
        <p:spPr>
          <a:xfrm>
            <a:off x="6615000" y="3267000"/>
            <a:ext cx="2303640" cy="774720"/>
          </a:xfrm>
          <a:prstGeom prst="wedgeRectCallout">
            <a:avLst>
              <a:gd name="adj1" fmla="val -92310"/>
              <a:gd name="adj2" fmla="val -81666"/>
            </a:avLst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沓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4" name="文本框 12"/>
          <p:cNvSpPr/>
          <p:nvPr/>
        </p:nvSpPr>
        <p:spPr>
          <a:xfrm>
            <a:off x="8039160" y="3279600"/>
            <a:ext cx="981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dá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5" name="Text Box 13"/>
          <p:cNvSpPr/>
          <p:nvPr/>
        </p:nvSpPr>
        <p:spPr>
          <a:xfrm>
            <a:off x="1946160" y="4443480"/>
            <a:ext cx="693108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和睦相处，但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随便附和苟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。同：苟同。</a:t>
            </a:r>
            <a:r>
              <a:rPr b="0" lang="en-US" sz="2800" spc="-1" strike="noStrike">
                <a:solidFill>
                  <a:srgbClr val="5f5f5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6" name="Text Box 13"/>
          <p:cNvSpPr/>
          <p:nvPr/>
        </p:nvSpPr>
        <p:spPr>
          <a:xfrm>
            <a:off x="1930320" y="5002200"/>
            <a:ext cx="692964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6e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种天下为公，人人平等的社会政治理想。</a:t>
            </a:r>
            <a:r>
              <a:rPr b="0" lang="en-US" sz="2800" spc="-1" strike="noStrike">
                <a:solidFill>
                  <a:srgbClr val="5f5f5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12400" y="297000"/>
            <a:ext cx="700092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a890b"/>
                </a:solidFill>
                <a:latin typeface="宋体"/>
                <a:ea typeface="宋体"/>
              </a:rPr>
              <a:t>文本探究</a:t>
            </a:r>
            <a:endParaRPr b="1" lang="en-US" sz="36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244080" y="1285560"/>
            <a:ext cx="8480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议论文三要素：论点、论据、论证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3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、本文中心论点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1065e"/>
                </a:solidFill>
                <a:uFillTx/>
                <a:latin typeface="宋体"/>
                <a:ea typeface="宋体"/>
              </a:rPr>
              <a:t>各美其美，美人之美，美美与共，天下大同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需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1065e"/>
                </a:solidFill>
                <a:latin typeface="宋体"/>
                <a:ea typeface="宋体"/>
              </a:rPr>
              <a:t>各美其美，美人之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以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1065e"/>
                </a:solidFill>
                <a:latin typeface="宋体"/>
                <a:ea typeface="宋体"/>
              </a:rPr>
              <a:t>美美与共，天下大同</a:t>
            </a:r>
            <a:r>
              <a:rPr b="1" lang="en-US" sz="3200" spc="-1" strike="noStrike">
                <a:solidFill>
                  <a:srgbClr val="01065e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239" name="矩形 1" descr=""/>
          <p:cNvPicPr/>
          <p:nvPr/>
        </p:nvPicPr>
        <p:blipFill>
          <a:blip r:embed="rId1"/>
          <a:stretch/>
        </p:blipFill>
        <p:spPr>
          <a:xfrm>
            <a:off x="7893000" y="2828880"/>
            <a:ext cx="1171800" cy="1200240"/>
          </a:xfrm>
          <a:prstGeom prst="rect">
            <a:avLst/>
          </a:prstGeom>
          <a:ln w="0">
            <a:noFill/>
          </a:ln>
        </p:spPr>
      </p:pic>
      <p:sp>
        <p:nvSpPr>
          <p:cNvPr id="1240" name="文本框 2"/>
          <p:cNvSpPr/>
          <p:nvPr/>
        </p:nvSpPr>
        <p:spPr>
          <a:xfrm>
            <a:off x="1559160" y="3735360"/>
            <a:ext cx="3350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要处理好不同文明之间的关系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36320" y="260280"/>
            <a:ext cx="8342280" cy="14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55b"/>
                </a:solidFill>
                <a:latin typeface="宋体"/>
                <a:ea typeface="宋体"/>
              </a:rPr>
              <a:t>阅读探究：根据</a:t>
            </a:r>
            <a:r>
              <a:rPr b="1" lang="en-US" sz="3200" spc="-1" strike="noStrike">
                <a:solidFill>
                  <a:srgbClr val="0b055b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b055b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b055b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b055b"/>
                </a:solidFill>
                <a:latin typeface="宋体"/>
                <a:ea typeface="宋体"/>
              </a:rPr>
              <a:t>自然段，并运用文化生活与各民族交往的常识，解释十六字箴言。</a:t>
            </a:r>
            <a:br>
              <a:rPr sz="3200"/>
            </a:b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42" name="流程图: 过程 8"/>
          <p:cNvSpPr/>
          <p:nvPr/>
        </p:nvSpPr>
        <p:spPr>
          <a:xfrm>
            <a:off x="517680" y="2603520"/>
            <a:ext cx="8061120" cy="2782800"/>
          </a:xfrm>
          <a:prstGeom prst="flowChartProcess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既认同欣赏本民族文化，又尊重欣赏异民族文化，不同民族各自保持平和、谦逊的心态，相互尊重，相互借鉴，求同存异，就能处理好不同文明之间的关系，共同促进人类文明繁荣进步。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3" name="文本框 3"/>
          <p:cNvSpPr/>
          <p:nvPr/>
        </p:nvSpPr>
        <p:spPr>
          <a:xfrm>
            <a:off x="515880" y="1730520"/>
            <a:ext cx="730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示：目的？前提条件？实现的可能性？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78000" y="407520"/>
            <a:ext cx="8388000" cy="54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讨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：为什么要“各美其美”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每个民族的文化都有自己的精粹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每个民族都应尊重自己民族的文化，培育好、发展好本民族文化。因为在一个民族的历史与现实中，文化起着维系社会生活、维持社会稳定的重要作用，是本民族生存、延续与发展的精神根基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78000" y="407520"/>
            <a:ext cx="8388000" cy="54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讨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：怎样做到“美人之美”？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承认世界文化的多样性，尊重其他民族文化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尊重不同民族的文化，必须遵循不同文化一律平等的原则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在文化交流中，要尊重差异，理解个性，和睦相处，共同促进世界文化的繁荣。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30"/>
                </a:solidFill>
                <a:latin typeface="宋体"/>
                <a:ea typeface="宋体"/>
              </a:rPr>
              <a:t>同时，尊重文化多样性，是发展本民族文化的内在要求。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12:50:07Z</dcterms:created>
  <dc:creator>Administrator</dc:creator>
  <dc:description/>
  <dc:language>en-US</dc:language>
  <cp:lastModifiedBy>dr1927007</cp:lastModifiedBy>
  <dcterms:modified xsi:type="dcterms:W3CDTF">2018-04-17T05:08:08Z</dcterms:modified>
  <cp:revision>14</cp:revision>
  <dc:subject/>
  <dc:title>美美与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