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1.gif" ContentType="image/gif"/>
  <Override PartName="/ppt/media/image4.jpeg" ContentType="image/jpeg"/>
  <Override PartName="/ppt/media/image22.gif" ContentType="image/gif"/>
  <Override PartName="/ppt/media/image13.gif" ContentType="image/gif"/>
  <Override PartName="/ppt/media/image6.jpeg" ContentType="image/jpeg"/>
  <Override PartName="/ppt/media/image25.gif" ContentType="image/gif"/>
  <Override PartName="/ppt/media/image2.gif" ContentType="image/gif"/>
  <Override PartName="/ppt/media/image8.jpeg" ContentType="image/jpeg"/>
  <Override PartName="/ppt/media/image9.gif" ContentType="image/gif"/>
  <Override PartName="/ppt/media/image10.gif" ContentType="image/gif"/>
  <Override PartName="/ppt/media/image3.jpeg" ContentType="image/jpeg"/>
  <Override PartName="/ppt/media/image12.gif" ContentType="image/gif"/>
  <Override PartName="/ppt/media/image30.gif" ContentType="image/gif"/>
  <Override PartName="/ppt/media/image28.gif" ContentType="image/gif"/>
  <Override PartName="/ppt/media/image7.jpeg" ContentType="image/jpeg"/>
  <Override PartName="/ppt/media/image15.gif" ContentType="image/gif"/>
  <Override PartName="/ppt/media/image5.jpeg" ContentType="image/jpeg"/>
  <Override PartName="/ppt/media/image1.gif" ContentType="image/gif"/>
  <Override PartName="/ppt/media/image24.gif" ContentType="image/gif"/>
  <Override PartName="/ppt/media/image14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media/image26.gif" ContentType="image/gif"/>
  <Override PartName="/ppt/media/image27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23A-C9E9-43E7-9D7A-011891CE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E4A-7BFA-4A40-A645-5D2B5323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9AE-614C-41FF-ADE1-E7015DC1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B43-7ECA-40E8-BB3C-8E12D5DA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23D-2E0D-40EF-85E2-47D71B4D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172-3617-45E1-A777-3D36AFFB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4A9-A9C3-4F98-AB4D-E3585418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426-0573-4192-BF88-D080EB1C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F5D-855E-4040-BBE5-802D4B37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DBD-AA9A-4009-9368-69C09CB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7A2-7F9B-45CB-9B06-CFFF7BF7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AE3-7C8D-4E51-9BD4-22C6AC6D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4AD7-4EEF-44B6-B72A-6E2C81C480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前段时间，我们学习了一篇消息，题目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首届诺贝尔奖颁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诺贝尔奖是科学界的最高荣誉。那么，大家知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道世界上第一位两次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得诺贝尔奖的科学家是谁？她就是著名的居里夫人。这节课，我们来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丽的颜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了解居里夫人提炼出镭的过程，感受这位伟大的科学家的人格魅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5" descr="t0110b9a21b18e3b621"/>
          <p:cNvPicPr/>
          <p:nvPr/>
        </p:nvPicPr>
        <p:blipFill>
          <a:blip r:embed="rId1"/>
          <a:stretch/>
        </p:blipFill>
        <p:spPr>
          <a:xfrm>
            <a:off x="0" y="0"/>
            <a:ext cx="1417680" cy="1079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076" descr="t01bef1a65a11508885"/>
          <p:cNvPicPr/>
          <p:nvPr/>
        </p:nvPicPr>
        <p:blipFill>
          <a:blip r:embed="rId2"/>
          <a:stretch/>
        </p:blipFill>
        <p:spPr>
          <a:xfrm>
            <a:off x="5003640" y="6000840"/>
            <a:ext cx="4140360" cy="857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妙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ēi         mià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深奥玄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燥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ào         r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热得难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沥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ì             qī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俗称臭油，有机化合物的混合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骤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hòu        y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猛又急的大雨。比喻声势浩大，发展急速而猛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1267" descr="t0186d50d78f21509b3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窒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hì           x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缺氧或呼吸系统障碍，导致呼吸困难，甚至停止呼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吹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uī        x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夸张地宣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猝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ù            zh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然发生的事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荧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íng      guā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某些物质受光或其他射线照射时所发出的可见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2291" descr="t01bdb661798be37add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疲力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īn        pí      lì        jì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：筋骨；尽：完。形容非常疲乏，一点力气也没有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颜悦色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é      yán    yuè    s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颜：面容；悦：愉快；色：脸色。脸色和霭喜悦。形容和善可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心翼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iǎo    xīn      yì         y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谨慎小心，一点不敢疏忽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3315" descr="t01750bcf59d877307f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介绍居里夫妇研究工作的环境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居里夫妇在科学研究中的艰辛与快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)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居里夫妇提炼出来的“镭”闪射着迷人的光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4339" descr="t011b387393ee93c788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用自己喜欢的方式自由朗读课文，思考本文记述了一件什么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本文记述了居里夫妇在棚屋里用四年时间提取镭的过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5363" descr="t01a5f009956a8795d0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居里夫妇提炼镭的过程可以分为两个阶段，这两个阶段他们是怎样分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一年里，他们共同从事镭和钋的化学离析工作；之后，他们进行了分工，提炼镭的工作由居里夫人一个人来完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7891" descr="t012bbb3ac2ee73033c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默读课文，勾画出描写居里夫人工作的环境的语句，概括环境的特点。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居里夫人工作的环境是娄蒙路的棚屋，这里夏天燥热，冬天寒冷，下雨漏水，下霜可以把人冻僵。她大部分工作，要在院子的露天地里完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居里夫人工作环境简陋、艰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3795" descr="t015d221d98550161cc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居里夫人是怎样工作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她做的是壮工的工作，穿着满是尘污和酸渍的旧工作服，在烟的刺激下，用铁条连续几小时搅动沸腾着的材料。长年累月的工作，一个人搬运容器，移注溶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6867" descr="t01a5f009956a8795d0"/>
          <p:cNvPicPr/>
          <p:nvPr/>
        </p:nvPicPr>
        <p:blipFill>
          <a:blip r:embed="rId1"/>
          <a:stretch/>
        </p:blipFill>
        <p:spPr>
          <a:xfrm>
            <a:off x="0" y="4365720"/>
            <a:ext cx="896472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主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第一自然段中的“艰苦”和“快乐”矛盾吗？为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】不矛盾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艰苦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指居里夫妇工作的环境极其恶劣，夏天燥热，冬天严寒；设备极其简陋，没有排放有害气体的“通风罩”；工作极其繁重，辛苦，使人“筋疲力尽”。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快乐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指居里夫妇对自己所从事的科学事业的热爱，在科学研究中如痴如醉的心态，对科学研究的浓厚兴趣使他们乐此不疲，所以两者并不矛盾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9459" descr="t01681dc9f9801f6c37"/>
          <p:cNvPicPr/>
          <p:nvPr/>
        </p:nvPicPr>
        <p:blipFill>
          <a:blip r:embed="rId1"/>
          <a:stretch/>
        </p:blipFill>
        <p:spPr>
          <a:xfrm>
            <a:off x="4284720" y="1341360"/>
            <a:ext cx="4859280" cy="703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怎样理解比埃尔说的“我希望它有很美丽的颜色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指放射性物质镭，从“希望它有很美丽的颜色”可以体会到他们对科学的向往，对实验前景充满信心和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美丽的颜色”有什么深刻含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是指文中居里夫人提炼的镭略带蓝色荧光的美丽；二是指居里夫人热爱科学、不懈追求、淡泊名利的态度和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20483" descr="4"/>
          <p:cNvPicPr/>
          <p:nvPr/>
        </p:nvPicPr>
        <p:blipFill>
          <a:blip r:embed="rId1"/>
          <a:stretch/>
        </p:blipFill>
        <p:spPr>
          <a:xfrm>
            <a:off x="2484360" y="6381720"/>
            <a:ext cx="6659640" cy="47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63840" y="0"/>
            <a:ext cx="7580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美丽的颜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艾芙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居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timg2"/>
          <p:cNvPicPr/>
          <p:nvPr/>
        </p:nvPicPr>
        <p:blipFill>
          <a:blip r:embed="rId1"/>
          <a:stretch/>
        </p:blipFill>
        <p:spPr>
          <a:xfrm>
            <a:off x="1454040" y="981000"/>
            <a:ext cx="7689960" cy="525636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100"/>
          <p:cNvSpPr/>
          <p:nvPr/>
        </p:nvSpPr>
        <p:spPr>
          <a:xfrm>
            <a:off x="6732720" y="616572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物传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54360" y="2101680"/>
            <a:ext cx="12776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禄丰县彩云中学何春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细读课文，分析居里夫人的形象特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居里夫人是一个热爱科学的人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工作日变成了工作月，工作月变成了工作年，比埃尔和玛丽并没有失掉勇气。这种抵抗他们的材料迷住了他们。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迷住”一词突出表现了居里夫人对科学的痴迷和挚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1507" descr="t016d69497a48f62178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小心翼翼地走上前去找，找到一张有草垫的椅子，坐下了。在黑暗中，在寂静中，两个人的脸都转向这些微光，转向这射线的神秘来源，转向镭，转向他们的镭！玛丽的身体前倾，热切地望着，她此时的姿势，就像一小时前在她睡着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孩子床头看着孩子一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”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前倾”“热切”生动形象地表现了居里夫人对镭的迷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41987" descr="t01111c265b0c57e2ae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居里夫人是一个不怕困难的人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“最困难的，或者说几乎不可能的，乃是离析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小含量的物质，使它从与它密切混合着的杂质中分离出来。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居里夫人选择最困难的工作，付出艰苦的劳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38915" descr="t018e7eb05031aa9536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居里夫人是一个持之以恒、不达目的誓不罢休的人。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工作日变成了工作月，工作月变成了工作年。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这日复一日年复一年中，居里夫人终于提炼出了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39939" descr="t015541dc247caaf7f1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课文大量引用居里夫人的话，找出来读一读，思考这样写有什么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样写，补充了历史细节，展示出真实的心理感受，增强了文章的真实性，使文章的叙述节奏有波澜，使行文更加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5603" descr="t01422a1dddf4c7945d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十二自然段中“但是镭要保持它的神秘性，丝毫不希望人类认识它。”此句运用了什么修辞手法？有什么表达效果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这句话运用了拟人的修辞手法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赋予“镭”以 人的思想情感和性格特征了。生动幽默地表现了“镭”的难以提取，“镭”的发现是一个极其艰辛的过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24579" descr="齿轮"/>
          <p:cNvPicPr/>
          <p:nvPr/>
        </p:nvPicPr>
        <p:blipFill>
          <a:blip r:embed="rId1"/>
          <a:stretch/>
        </p:blipFill>
        <p:spPr>
          <a:xfrm>
            <a:off x="7783560" y="5978520"/>
            <a:ext cx="1360440" cy="8794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4580" descr="齿轮"/>
          <p:cNvPicPr/>
          <p:nvPr/>
        </p:nvPicPr>
        <p:blipFill>
          <a:blip r:embed="rId2"/>
          <a:stretch/>
        </p:blipFill>
        <p:spPr>
          <a:xfrm>
            <a:off x="3492360" y="5978520"/>
            <a:ext cx="1360800" cy="879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723"/>
          <p:cNvSpPr/>
          <p:nvPr/>
        </p:nvSpPr>
        <p:spPr>
          <a:xfrm>
            <a:off x="-727200" y="2060640"/>
            <a:ext cx="1521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美丽的颜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左大括号 30724"/>
          <p:cNvSpPr/>
          <p:nvPr/>
        </p:nvSpPr>
        <p:spPr>
          <a:xfrm>
            <a:off x="684360" y="1197000"/>
            <a:ext cx="1368360" cy="4968720"/>
          </a:xfrm>
          <a:custGeom>
            <a:avLst/>
            <a:gdLst>
              <a:gd name="textAreaLeft" fmla="*/ 874440 w 1368360"/>
              <a:gd name="textAreaRight" fmla="*/ 1368720 w 136836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0725"/>
          <p:cNvSpPr/>
          <p:nvPr/>
        </p:nvSpPr>
        <p:spPr>
          <a:xfrm>
            <a:off x="1763640" y="4046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工作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30726"/>
          <p:cNvSpPr/>
          <p:nvPr/>
        </p:nvSpPr>
        <p:spPr>
          <a:xfrm>
            <a:off x="1619280" y="2924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工作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0727"/>
          <p:cNvSpPr/>
          <p:nvPr/>
        </p:nvSpPr>
        <p:spPr>
          <a:xfrm>
            <a:off x="1619280" y="5425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工作成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左大括号 30729"/>
          <p:cNvSpPr/>
          <p:nvPr/>
        </p:nvSpPr>
        <p:spPr>
          <a:xfrm>
            <a:off x="2987640" y="189000"/>
            <a:ext cx="503280" cy="2016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52200 h 2016000"/>
              <a:gd name="textAreaBottom" fmla="*/ 19638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0730"/>
          <p:cNvSpPr/>
          <p:nvPr/>
        </p:nvSpPr>
        <p:spPr>
          <a:xfrm>
            <a:off x="3348000" y="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简陋棚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731"/>
          <p:cNvSpPr/>
          <p:nvPr/>
        </p:nvSpPr>
        <p:spPr>
          <a:xfrm>
            <a:off x="3276720" y="765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夏天燥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0732"/>
          <p:cNvSpPr/>
          <p:nvPr/>
        </p:nvSpPr>
        <p:spPr>
          <a:xfrm>
            <a:off x="3348000" y="1557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冬天寒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左大括号 30733"/>
          <p:cNvSpPr/>
          <p:nvPr/>
        </p:nvSpPr>
        <p:spPr>
          <a:xfrm>
            <a:off x="2843280" y="2565360"/>
            <a:ext cx="576360" cy="2232000"/>
          </a:xfrm>
          <a:custGeom>
            <a:avLst/>
            <a:gdLst>
              <a:gd name="textAreaLeft" fmla="*/ 368280 w 576360"/>
              <a:gd name="textAreaRight" fmla="*/ 576720 w 576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0734"/>
          <p:cNvSpPr/>
          <p:nvPr/>
        </p:nvSpPr>
        <p:spPr>
          <a:xfrm>
            <a:off x="3348000" y="2421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辛苦劳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0735"/>
          <p:cNvSpPr/>
          <p:nvPr/>
        </p:nvSpPr>
        <p:spPr>
          <a:xfrm>
            <a:off x="3419640" y="335772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经年累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0736"/>
          <p:cNvSpPr/>
          <p:nvPr/>
        </p:nvSpPr>
        <p:spPr>
          <a:xfrm>
            <a:off x="3348000" y="4292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知疲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左大括号 30738"/>
          <p:cNvSpPr/>
          <p:nvPr/>
        </p:nvSpPr>
        <p:spPr>
          <a:xfrm>
            <a:off x="2700360" y="5229360"/>
            <a:ext cx="863640" cy="1628640"/>
          </a:xfrm>
          <a:custGeom>
            <a:avLst/>
            <a:gdLst>
              <a:gd name="textAreaLeft" fmla="*/ 551880 w 863640"/>
              <a:gd name="textAreaRight" fmla="*/ 864000 w 863640"/>
              <a:gd name="textAreaTop" fmla="*/ 42120 h 1628640"/>
              <a:gd name="textAreaBottom" fmla="*/ 1586520 h 162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0739"/>
          <p:cNvSpPr/>
          <p:nvPr/>
        </p:nvSpPr>
        <p:spPr>
          <a:xfrm>
            <a:off x="3492360" y="501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颜色美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0740"/>
          <p:cNvSpPr/>
          <p:nvPr/>
        </p:nvSpPr>
        <p:spPr>
          <a:xfrm>
            <a:off x="3564000" y="602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动发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右大括号 30741"/>
          <p:cNvSpPr/>
          <p:nvPr/>
        </p:nvSpPr>
        <p:spPr>
          <a:xfrm>
            <a:off x="5867280" y="1125360"/>
            <a:ext cx="720720" cy="4967640"/>
          </a:xfrm>
          <a:custGeom>
            <a:avLst/>
            <a:gdLst>
              <a:gd name="textAreaLeft" fmla="*/ 0 w 720720"/>
              <a:gd name="textAreaRight" fmla="*/ 260280 w 720720"/>
              <a:gd name="textAreaTop" fmla="*/ 129240 h 4967640"/>
              <a:gd name="textAreaBottom" fmla="*/ 4838400 h 496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0742"/>
          <p:cNvSpPr/>
          <p:nvPr/>
        </p:nvSpPr>
        <p:spPr>
          <a:xfrm>
            <a:off x="6588000" y="148428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热爱科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0743"/>
          <p:cNvSpPr/>
          <p:nvPr/>
        </p:nvSpPr>
        <p:spPr>
          <a:xfrm>
            <a:off x="6516720" y="321300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畏艰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0744"/>
          <p:cNvSpPr/>
          <p:nvPr/>
        </p:nvSpPr>
        <p:spPr>
          <a:xfrm>
            <a:off x="6516720" y="486900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持之以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30745" descr="三角形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12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了这篇文章，就如同与伟人对话。我们深深地被居里夫人的人格魅力所打动。如果说我们过去没有生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现在我们明确了人生；如果说我们过去一味贪图安逸，现在我们学会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艰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如果说我 们过去只会依赖他人，现在我们懂得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奉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如果说过去我们意志薄弱，现在我们拥有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信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让我们在居里夫人的光辉照耀下，把自己的人生也献给人类的进步 事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6627" descr="t018f0a99de9aeb01c7"/>
          <p:cNvPicPr/>
          <p:nvPr/>
        </p:nvPicPr>
        <p:blipFill>
          <a:blip r:embed="rId1"/>
          <a:stretch/>
        </p:blipFill>
        <p:spPr>
          <a:xfrm>
            <a:off x="0" y="0"/>
            <a:ext cx="1258920" cy="105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延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本文后，谈谈你受到的最大启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受到的最大启发是居里夫人为了科学研究而过着艰苦的家庭生活，却能够以苦为乐，这使我想到了同学们喜欢盲目攀比。不是比学习成绩谁最好，而是比谁的家庭条件好，吃得好，穿的好，从而造成了 学习时间的浪费，我们应该学习居里夫人这种精神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27651" descr="yaya"/>
          <p:cNvPicPr/>
          <p:nvPr/>
        </p:nvPicPr>
        <p:blipFill>
          <a:blip r:embed="rId1"/>
          <a:stretch/>
        </p:blipFill>
        <p:spPr>
          <a:xfrm>
            <a:off x="2484360" y="6021360"/>
            <a:ext cx="933480" cy="836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7652" descr="yaya"/>
          <p:cNvPicPr/>
          <p:nvPr/>
        </p:nvPicPr>
        <p:blipFill>
          <a:blip r:embed="rId2"/>
          <a:stretch/>
        </p:blipFill>
        <p:spPr>
          <a:xfrm>
            <a:off x="5364000" y="6021360"/>
            <a:ext cx="93348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文通过写居里夫人和丈夫在简陋的棚里，怀着热切的好奇心进行辛苦的实验，成功地提取了镭，表明了居里夫人对全新科学领域的好奇与热爱，同时也反映出居里夫人和丈夫坚韧执着的探索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28675" descr="t01c350bd54c0a89380"/>
          <p:cNvPicPr/>
          <p:nvPr/>
        </p:nvPicPr>
        <p:blipFill>
          <a:blip r:embed="rId1"/>
          <a:stretch/>
        </p:blipFill>
        <p:spPr>
          <a:xfrm>
            <a:off x="0" y="5157720"/>
            <a:ext cx="8964720" cy="17002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8676" descr="t01dc4a77fae8beb6e4"/>
          <p:cNvPicPr/>
          <p:nvPr/>
        </p:nvPicPr>
        <p:blipFill>
          <a:blip r:embed="rId2"/>
          <a:stretch/>
        </p:blipFill>
        <p:spPr>
          <a:xfrm>
            <a:off x="0" y="0"/>
            <a:ext cx="1258920" cy="105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3" descr="u=1168693301,313812053&amp;fm=1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44036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居里夫人和丈夫比埃尔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居里在做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3" descr="timg1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43012"/>
          <p:cNvSpPr/>
          <p:nvPr/>
        </p:nvSpPr>
        <p:spPr>
          <a:xfrm>
            <a:off x="0" y="602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居里夫人和两个女儿在一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生字词，了解与作者相关的知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居里夫人工作的环境和提取镭的过程，感受居里夫人的艰辛与快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析居里夫人的性格特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文中多处引用居里夫人的话的作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居里夫人对科学的热爱之情和孜孜不倦的探索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87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背景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玛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居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867—1934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原名玛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斯可罗多夫斯卡，波 兰著名科学家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6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出生在波兰一个知识分子家庭，因嫁给法国科学家皮埃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居里，故称居里夫人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9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在和丈夫共同努力下，发现了新元素钋，同年又发现了镭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居里夫妇共同获得了诺贝尔物理学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6149" descr="t011e9826307dfafaa1"/>
          <p:cNvPicPr/>
          <p:nvPr/>
        </p:nvPicPr>
        <p:blipFill>
          <a:blip r:embed="rId1"/>
          <a:stretch/>
        </p:blipFill>
        <p:spPr>
          <a:xfrm>
            <a:off x="0" y="692280"/>
            <a:ext cx="2627280" cy="4968720"/>
          </a:xfrm>
          <a:prstGeom prst="rect">
            <a:avLst/>
          </a:prstGeom>
          <a:ln w="0">
            <a:noFill/>
          </a:ln>
        </p:spPr>
      </p:pic>
      <p:sp>
        <p:nvSpPr>
          <p:cNvPr id="60" name="矩形 6150"/>
          <p:cNvSpPr/>
          <p:nvPr/>
        </p:nvSpPr>
        <p:spPr>
          <a:xfrm>
            <a:off x="556920" y="5772240"/>
            <a:ext cx="20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皮埃尔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居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0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皮埃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居里遭遇车祸不幸身亡，居里夫人接替丈夫的职位，成为巴黎大学第一位女教授和法国科学院第一个女院士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居里夫人获得诺贝尔化学奖。由于长时间接触放射性物质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3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，这位充满了艰辛和荣誉的居里夫人最终因恶性贫血而去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9222" descr="t01a15bf342f852efea"/>
          <p:cNvPicPr/>
          <p:nvPr/>
        </p:nvPicPr>
        <p:blipFill>
          <a:blip r:embed="rId1"/>
          <a:stretch/>
        </p:blipFill>
        <p:spPr>
          <a:xfrm>
            <a:off x="0" y="0"/>
            <a:ext cx="3029040" cy="5877000"/>
          </a:xfrm>
          <a:prstGeom prst="rect">
            <a:avLst/>
          </a:prstGeom>
          <a:ln w="0">
            <a:noFill/>
          </a:ln>
        </p:spPr>
      </p:pic>
      <p:sp>
        <p:nvSpPr>
          <p:cNvPr id="64" name="矩形 9223"/>
          <p:cNvSpPr/>
          <p:nvPr/>
        </p:nvSpPr>
        <p:spPr>
          <a:xfrm>
            <a:off x="0" y="5950080"/>
            <a:ext cx="26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玛丽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居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75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0000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艾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居里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04—200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居里夫人和皮埃尔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居里的小女儿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居里夫人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作者，优秀的音乐教育家和人物传记作家。曾获得过诺贝尔化学奖的伊雷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居里是她的姐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196" descr="t014752a068bb2d568b"/>
          <p:cNvPicPr/>
          <p:nvPr/>
        </p:nvPicPr>
        <p:blipFill>
          <a:blip r:embed="rId1"/>
          <a:stretch/>
        </p:blipFill>
        <p:spPr>
          <a:xfrm>
            <a:off x="0" y="765000"/>
            <a:ext cx="2771640" cy="6093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8197" descr="t01c1e58abfde53607b"/>
          <p:cNvPicPr/>
          <p:nvPr/>
        </p:nvPicPr>
        <p:blipFill>
          <a:blip r:embed="rId2"/>
          <a:stretch/>
        </p:blipFill>
        <p:spPr>
          <a:xfrm>
            <a:off x="6551640" y="5734080"/>
            <a:ext cx="2592360" cy="79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òu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    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热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à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热           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至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h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息　        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吹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力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沸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è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腾            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ā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u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步           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é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素          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化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éi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ǐ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况          离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0243" descr="t01e2c85fab625c4972"/>
          <p:cNvPicPr/>
          <p:nvPr/>
        </p:nvPicPr>
        <p:blipFill>
          <a:blip r:embed="rId1"/>
          <a:stretch/>
        </p:blipFill>
        <p:spPr>
          <a:xfrm>
            <a:off x="3348000" y="620640"/>
            <a:ext cx="1008000" cy="623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0T08:21:22Z</dcterms:created>
  <dc:creator>未知用户</dc:creator>
  <dc:description/>
  <dc:language>en-US</dc:language>
  <cp:lastModifiedBy>Administrator</cp:lastModifiedBy>
  <dcterms:modified xsi:type="dcterms:W3CDTF">2018-10-08T13:03:03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