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gif" ContentType="image/gif"/>
  <Override PartName="/ppt/media/image24.gif" ContentType="image/gif"/>
  <Override PartName="/ppt/media/image17.png" ContentType="image/png"/>
  <Override PartName="/ppt/media/image23.wmf" ContentType="image/x-wmf"/>
  <Override PartName="/ppt/media/image27.gif" ContentType="image/gif"/>
  <Override PartName="/ppt/media/image25.jpeg" ContentType="image/jpeg"/>
  <Override PartName="/ppt/media/image32.png" ContentType="image/png"/>
  <Override PartName="/ppt/media/image22.gif" ContentType="image/gif"/>
  <Override PartName="/ppt/media/image15.png" ContentType="image/png"/>
  <Override PartName="/ppt/media/image20.gif" ContentType="image/gif"/>
  <Override PartName="/ppt/media/image18.gif" ContentType="image/gif"/>
  <Override PartName="/ppt/media/image14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45.jpeg" ContentType="image/jpeg"/>
  <Override PartName="/ppt/media/image36.png" ContentType="image/png"/>
  <Override PartName="/ppt/media/image39.gif" ContentType="image/gif"/>
  <Override PartName="/ppt/media/image9.gif" ContentType="image/gif"/>
  <Override PartName="/ppt/media/image41.png" ContentType="image/png"/>
  <Override PartName="/ppt/media/image42.jpeg" ContentType="image/jpeg"/>
  <Override PartName="/ppt/media/image11.gif" ContentType="image/gif"/>
  <Override PartName="/ppt/media/image43.jpeg" ContentType="image/jpeg"/>
  <Override PartName="/ppt/media/image44.jpeg" ContentType="image/jpeg"/>
  <Override PartName="/ppt/media/image31.gif" ContentType="image/gif"/>
  <Override PartName="/ppt/media/image46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47.jpeg" ContentType="image/jpeg"/>
  <Override PartName="/ppt/media/image48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38.gif" ContentType="image/gif"/>
  <Override PartName="/ppt/media/image3.png" ContentType="image/png"/>
  <Override PartName="/ppt/media/image33.png" ContentType="image/png"/>
  <Override PartName="/ppt/media/image40.gif" ContentType="image/gif"/>
  <Override PartName="/ppt/media/image37.gif" ContentType="image/gif"/>
  <Override PartName="/ppt/media/image7.gif" ContentType="image/gif"/>
  <Override PartName="/ppt/media/image10.gif" ContentType="image/gif"/>
  <Override PartName="/ppt/media/image35.gif" ContentType="image/gif"/>
  <Override PartName="/ppt/media/image5.gif" ContentType="image/gif"/>
  <Override PartName="/ppt/media/image28.gif" ContentType="image/gif"/>
  <Override PartName="/ppt/media/image34.gif" ContentType="image/gif"/>
  <Override PartName="/ppt/media/image4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BE5-8459-47E2-B6C2-A221D82A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CC8-388B-4ED0-83EF-8ABCFDE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1DE-D978-499A-B0D1-E0E8A595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372-B853-46F3-B626-279F182B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BCCD-84EC-47C6-8902-1E447CB2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1F36-6BCB-4A54-9688-3B924682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447C-30DC-4FBC-857B-B881A113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EC9D-554B-4CF5-9EC5-1E71E801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73A6-D385-4D44-AAF6-25DCA768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7355-CFB5-4D11-BC8F-9867608F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4610-4A52-4A46-800C-274758D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DC7-CE11-416A-A4AD-DDE052A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81ED-BCE9-49B5-B9EC-ECD5727B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3661-2340-458A-8579-25D5222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CD84-A1D6-41F7-B488-82F85710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CD70-4E23-4498-B29E-2DDDC33F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D2DB-E550-4CA9-9227-6B41EB1C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3F2DC-72BC-4D1A-8909-D981050A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5037-219D-48E5-BC3D-798FE12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CA93-4DD2-4439-8335-5EFCF8A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F959-F782-4888-9B7B-3B27CF13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B3BE-4F31-4D1D-B0BE-B2D6B127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7A4-CDE0-42ED-B86B-0656A7D8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9C3F-D7D9-4AAD-89BE-624990E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88BC-A584-4196-9E86-39E55BB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5A72-17D3-4DDE-BB71-DE924DF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BD56-1456-4C25-BCA7-38D167E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BEDD-9CF3-4CA4-AD28-42F7BE97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5901-422B-4C27-B64F-F716F0F8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3645-45C7-4603-ABE1-2DACCC5F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1721A-A4DE-4803-9BCB-DEC82373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A95E-9DED-4FC6-90DA-814792A7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4C32-FF68-4102-A12E-7A822B3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0D6-ABE0-40BA-8DFA-7311EB16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AB8D-33B9-458B-9350-D8246145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60B4-EFB8-462B-85AB-545B5276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7BCC-2D38-4936-8CCD-A8BA22D9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E35C-1330-46B7-AC68-268B6F7E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B4CE-A1C3-4971-A17D-D0836D7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FF40-9025-4B52-AD0B-93ACF0DB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4C4A-0C50-432D-9579-FEF47B52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937F-4B74-4D39-A593-0D80A9B9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9CE8-F364-4124-B0DF-0F546602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F86E0-DE92-45B9-B4EF-0BB4219B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414-9197-4150-B27F-3488893E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235F-517C-4CC4-85A8-D253FBA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D99DC-A62B-4730-A966-CED727A7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BB89-5850-408B-AAFA-5E67D672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A054F-B040-47B1-91E4-A0A4FAE9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A6BC9-4A90-42A5-97D6-8AB087D1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1B026-0AE3-427A-A586-029BC74C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1A145-618A-4D94-9E0F-7874E71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CEC3-CCF3-411C-907F-72C0E3B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4771C-1880-4E04-A19E-E7AC47DA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000AB-5D6B-429E-A427-87439F57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5AE-4514-4C4F-B955-E5534301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33BD-88DD-46CD-8CD3-E82123D0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AC9-803F-47B6-9507-75EF1371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793-3AE0-4380-8D4C-35DBA28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3DA-5028-4873-890F-8B4CB49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1505-2E55-4AD6-941A-048B8E19E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75CB-6193-4BCE-A724-F606B063A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026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3" name="Freeform 1027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028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029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6" name="Freeform 103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03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03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03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03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035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036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037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038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6540-93DC-422A-A96A-DF5061B764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3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30BF-F71E-4EFD-8A36-CC0464E6C39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9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1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C8B3-E96B-4E25-B74C-FBFAF1FBFC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6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4.gif"/><Relationship Id="rId9" Type="http://schemas.openxmlformats.org/officeDocument/2006/relationships/image" Target="../media/image36.png"/><Relationship Id="rId10" Type="http://schemas.openxmlformats.org/officeDocument/2006/relationships/image" Target="../media/image37.gif"/><Relationship Id="rId11" Type="http://schemas.openxmlformats.org/officeDocument/2006/relationships/image" Target="../media/image38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40.gi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hyperlink" Target="http://image.baidu.com/i?ct=503316480&amp;z=0&amp;tn=baiduimagedetail&amp;word=%B2&#1084;%B2%C8%CB&#1464;%BB%D3&amp;in=12169&amp;cl=2&amp;cm=1&amp;sc=0&amp;lm=-1&amp;pn=4&amp;rn=1" TargetMode="External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7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image" Target="../media/image9.gif"/><Relationship Id="rId16" Type="http://schemas.openxmlformats.org/officeDocument/2006/relationships/image" Target="../media/image11.gif"/><Relationship Id="rId17" Type="http://schemas.openxmlformats.org/officeDocument/2006/relationships/image" Target="../media/image12.gif"/><Relationship Id="rId18" Type="http://schemas.openxmlformats.org/officeDocument/2006/relationships/image" Target="../media/image4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14.gif"/><Relationship Id="rId26" Type="http://schemas.openxmlformats.org/officeDocument/2006/relationships/image" Target="../media/image13.gif"/><Relationship Id="rId27" Type="http://schemas.openxmlformats.org/officeDocument/2006/relationships/image" Target="../media/image14.gif"/><Relationship Id="rId28" Type="http://schemas.openxmlformats.org/officeDocument/2006/relationships/image" Target="../media/image14.gif"/><Relationship Id="rId29" Type="http://schemas.openxmlformats.org/officeDocument/2006/relationships/image" Target="../media/image12.gif"/><Relationship Id="rId30" Type="http://schemas.openxmlformats.org/officeDocument/2006/relationships/oleObject" Target="../embeddings/oleObject1.bin"/><Relationship Id="rId31" Type="http://schemas.openxmlformats.org/officeDocument/2006/relationships/image" Target="../media/image15.png"/><Relationship Id="rId32" Type="http://schemas.openxmlformats.org/officeDocument/2006/relationships/oleObject" Target="../embeddings/oleObject2.bin"/><Relationship Id="rId33" Type="http://schemas.openxmlformats.org/officeDocument/2006/relationships/image" Target="../media/image15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1.gif"/><Relationship Id="rId17" Type="http://schemas.openxmlformats.org/officeDocument/2006/relationships/image" Target="../media/image22.gif"/><Relationship Id="rId18" Type="http://schemas.openxmlformats.org/officeDocument/2006/relationships/image" Target="../media/image23.wmf"/><Relationship Id="rId19" Type="http://schemas.openxmlformats.org/officeDocument/2006/relationships/image" Target="../media/image24.gif"/><Relationship Id="rId20" Type="http://schemas.openxmlformats.org/officeDocument/2006/relationships/oleObject" Target="../embeddings/oleObject1.bin"/><Relationship Id="rId21" Type="http://schemas.openxmlformats.org/officeDocument/2006/relationships/image" Target="../media/image15.png"/><Relationship Id="rId22" Type="http://schemas.openxmlformats.org/officeDocument/2006/relationships/oleObject" Target="../embeddings/oleObject2.bin"/><Relationship Id="rId23" Type="http://schemas.openxmlformats.org/officeDocument/2006/relationships/image" Target="../media/image15.png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黑体"/>
                <a:ea typeface="黑体"/>
              </a:rPr>
              <a:t>欢       迎</a:t>
            </a:r>
            <a:br>
              <a:rPr sz="4000"/>
            </a:br>
            <a:r>
              <a:rPr b="1" lang="zh-CN" sz="4000" spc="-1" strike="noStrike">
                <a:solidFill>
                  <a:srgbClr val="ff5050"/>
                </a:solidFill>
                <a:latin typeface="黑体"/>
                <a:ea typeface="黑体"/>
              </a:rPr>
              <a:t>各位领导及老师的光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欢       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聪明、可爱的巫山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七（一）班全体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7640" y="474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13400" y="1773360"/>
            <a:ext cx="729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06400" y="1773360"/>
            <a:ext cx="1826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与被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31068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因为盲孩子受到了“影子”“萤火虫”以及太阳、月亮的关爱、帮助才感受到生活的光明和美好，是爱改变了盲孩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76280"/>
            <a:ext cx="9393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是什么使盲孩子的心情发生了变化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GH_071"/>
          <p:cNvPicPr/>
          <p:nvPr/>
        </p:nvPicPr>
        <p:blipFill>
          <a:blip r:embed="rId1"/>
          <a:srcRect l="0" t="12248" r="0" b="26534"/>
          <a:stretch/>
        </p:blipFill>
        <p:spPr>
          <a:xfrm>
            <a:off x="0" y="-1179360"/>
            <a:ext cx="9144000" cy="842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250920" y="2637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汉仪粗宋简"/>
              </a:rPr>
              <a:t>  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汉仪粗宋简"/>
              </a:rPr>
              <a:t>给别人幸福，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汉仪粗宋简"/>
              </a:rPr>
              <a:t> 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汉仪粗宋简"/>
              </a:rPr>
              <a:t>自己也能获得幸福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003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64560" y="6172200"/>
            <a:ext cx="1279440" cy="685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047680" y="98100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赠人玫瑰         手留余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380360" y="4653000"/>
            <a:ext cx="1763640" cy="2205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348000" y="4941720"/>
            <a:ext cx="752400" cy="5144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2411280" y="5229360"/>
            <a:ext cx="752760" cy="514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1908000" y="5084640"/>
            <a:ext cx="752760" cy="514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900000" y="5589720"/>
            <a:ext cx="792360" cy="423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 flipH="1">
            <a:off x="0" y="5661000"/>
            <a:ext cx="900000" cy="480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4140360" y="5084640"/>
            <a:ext cx="752400" cy="514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0" y="3933720"/>
            <a:ext cx="971640" cy="847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1"/>
          <a:stretch/>
        </p:blipFill>
        <p:spPr>
          <a:xfrm>
            <a:off x="250920" y="2276640"/>
            <a:ext cx="657000" cy="431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2"/>
          <a:stretch/>
        </p:blipFill>
        <p:spPr>
          <a:xfrm>
            <a:off x="6516720" y="1341360"/>
            <a:ext cx="1523880" cy="647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3995640" y="1341360"/>
            <a:ext cx="1524240" cy="6476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4"/>
          <a:stretch/>
        </p:blipFill>
        <p:spPr>
          <a:xfrm>
            <a:off x="250920" y="0"/>
            <a:ext cx="2195280" cy="21956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826920" y="249228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关爱像盲孩子一样的弱者，使他们感受生活的光明和美好，给别人幸福，自己也能获得幸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53080" y="46188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文章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2889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42920" y="2133720"/>
            <a:ext cx="758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*</a:t>
            </a: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如果你是一个“盲孩子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永远不要放弃对光明的追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求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42920" y="4437000"/>
            <a:ext cx="82090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*</a:t>
            </a: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如果能做“影子”和“萤火虫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永远不要吝啬你的爱心和光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71640" y="0"/>
            <a:ext cx="243828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赠言</a:t>
            </a:r>
            <a:endParaRPr b="1" lang="en-US" sz="96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28400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1913040" cy="2374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3360"/>
            <a:ext cx="1944720" cy="23749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4643280" y="333360"/>
            <a:ext cx="1872000" cy="23749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6661080" y="333360"/>
            <a:ext cx="2087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752400" y="0"/>
            <a:ext cx="10810800" cy="12344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162920" y="5486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0"/>
            <a:ext cx="5181480" cy="78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这是心的呼唤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这是爱的奉献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这是人间的春风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这是生命的源泉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再没有心的沙漠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再没有爱的荒原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死神也望而却步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幸福之花处处开遍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只要人人都献出一点爱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世间将变成美好的人间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只要人人都献出一点爱 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世间将变成美好的人间</a:t>
            </a:r>
            <a:r>
              <a:rPr b="1" lang="zh-CN" sz="4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 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838080"/>
            <a:ext cx="91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爱 的 奉 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162920" y="609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867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3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1547640" y="170640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50920" y="549360"/>
            <a:ext cx="1441440" cy="590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57240">
            <a:solidFill>
              <a:srgbClr val="904b0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003827"/>
          <p:cNvPicPr/>
          <p:nvPr/>
        </p:nvPicPr>
        <p:blipFill>
          <a:blip r:embed="rId3"/>
          <a:stretch/>
        </p:blipFill>
        <p:spPr>
          <a:xfrm>
            <a:off x="8317080" y="6021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967120" y="2714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336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1052640"/>
            <a:ext cx="73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ccff"/>
                </a:solidFill>
                <a:latin typeface="Arial"/>
              </a:rPr>
              <a:t>爱表演的你，可以与你的爸爸、妈妈演一演这个课本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ccff"/>
                </a:solidFill>
                <a:latin typeface="Arial"/>
              </a:rPr>
              <a:t>爱唱歌的你，可以唱一唱爱的歌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ccff"/>
                </a:solidFill>
                <a:latin typeface="Arial"/>
              </a:rPr>
              <a:t>爱制作的你，可以把爱的祝愿制成贺卡，送给你的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ccff"/>
                </a:solidFill>
                <a:latin typeface="Arial"/>
              </a:rPr>
              <a:t>爱写作的你，可以创设一个曲折情节，用美的语言，以人间最美的情感为话题完成一篇小练笔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58920" y="333360"/>
            <a:ext cx="117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195264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236000" y="260280"/>
            <a:ext cx="139680" cy="144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8244000" y="260280"/>
            <a:ext cx="257040" cy="228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2556000" y="260280"/>
            <a:ext cx="237960" cy="228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6948360" y="1197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8317080" y="90792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1547640" y="69228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209520" cy="216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2"/>
          <a:stretch/>
        </p:blipFill>
        <p:spPr>
          <a:xfrm>
            <a:off x="5435640" y="69228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3"/>
          <a:stretch/>
        </p:blipFill>
        <p:spPr>
          <a:xfrm>
            <a:off x="900000" y="0"/>
            <a:ext cx="647640" cy="6001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4"/>
          <a:stretch/>
        </p:blipFill>
        <p:spPr>
          <a:xfrm>
            <a:off x="7164360" y="692280"/>
            <a:ext cx="360360" cy="342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5"/>
          <a:stretch/>
        </p:blipFill>
        <p:spPr>
          <a:xfrm>
            <a:off x="755640" y="1341360"/>
            <a:ext cx="237960" cy="228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6"/>
          <a:stretch/>
        </p:blipFill>
        <p:spPr>
          <a:xfrm>
            <a:off x="2916360" y="141300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7"/>
          <a:stretch/>
        </p:blipFill>
        <p:spPr>
          <a:xfrm>
            <a:off x="7308720" y="981000"/>
            <a:ext cx="648000" cy="600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8"/>
          <a:stretch/>
        </p:blipFill>
        <p:spPr>
          <a:xfrm>
            <a:off x="684360" y="90792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9"/>
          <a:stretch/>
        </p:blipFill>
        <p:spPr>
          <a:xfrm>
            <a:off x="1908000" y="1700280"/>
            <a:ext cx="360360" cy="342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0"/>
          <a:stretch/>
        </p:blipFill>
        <p:spPr>
          <a:xfrm>
            <a:off x="3419640" y="260280"/>
            <a:ext cx="360360" cy="343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1"/>
          <a:stretch/>
        </p:blipFill>
        <p:spPr>
          <a:xfrm>
            <a:off x="7667640" y="620640"/>
            <a:ext cx="576360" cy="365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2"/>
          <a:stretch/>
        </p:blipFill>
        <p:spPr>
          <a:xfrm>
            <a:off x="2771640" y="692280"/>
            <a:ext cx="360360" cy="342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3"/>
          <a:stretch/>
        </p:blipFill>
        <p:spPr>
          <a:xfrm>
            <a:off x="0" y="260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4"/>
          <a:stretch/>
        </p:blipFill>
        <p:spPr>
          <a:xfrm>
            <a:off x="3132000" y="54936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5"/>
          <a:stretch/>
        </p:blipFill>
        <p:spPr>
          <a:xfrm>
            <a:off x="3780000" y="620640"/>
            <a:ext cx="460080" cy="460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6"/>
          <a:stretch/>
        </p:blipFill>
        <p:spPr>
          <a:xfrm>
            <a:off x="5292720" y="1268280"/>
            <a:ext cx="525600" cy="498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7"/>
          <a:stretch/>
        </p:blipFill>
        <p:spPr>
          <a:xfrm>
            <a:off x="73087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8"/>
          <a:stretch/>
        </p:blipFill>
        <p:spPr>
          <a:xfrm>
            <a:off x="684360" y="40464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9"/>
          <a:stretch/>
        </p:blipFill>
        <p:spPr>
          <a:xfrm>
            <a:off x="4716360" y="404640"/>
            <a:ext cx="64764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"/>
          <p:cNvGraphicFramePr/>
          <p:nvPr/>
        </p:nvGraphicFramePr>
        <p:xfrm>
          <a:off x="4356000" y="4508640"/>
          <a:ext cx="1298520" cy="23493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356000" y="4508640"/>
                    <a:ext cx="12985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132000" y="4581360"/>
          <a:ext cx="1231920" cy="2276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132000" y="4581360"/>
                    <a:ext cx="123192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 txBox="1"/>
          <p:nvPr/>
        </p:nvSpPr>
        <p:spPr>
          <a:xfrm>
            <a:off x="6481800" y="2278080"/>
            <a:ext cx="262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影子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360" y="2349360"/>
            <a:ext cx="820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盲孩子和他的影子</a:t>
            </a:r>
            <a:endParaRPr b="1" i="1" lang="en-US" sz="96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"/>
          <p:cNvSpPr/>
          <p:nvPr/>
        </p:nvSpPr>
        <p:spPr>
          <a:xfrm>
            <a:off x="6933600" y="39337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-----</a:t>
            </a:r>
            <a:r>
              <a:rPr b="0" lang="zh-CN" sz="3600" spc="-1" strike="noStrike">
                <a:solidFill>
                  <a:srgbClr val="ff7c80"/>
                </a:solidFill>
                <a:latin typeface="Arial"/>
              </a:rPr>
              <a:t>金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2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7200" y="5029200"/>
            <a:ext cx="60156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495680" y="5562720"/>
            <a:ext cx="381240" cy="247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304920" y="4876920"/>
            <a:ext cx="380880" cy="191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6400800" y="5562720"/>
            <a:ext cx="228600" cy="344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7391520" y="5181480"/>
            <a:ext cx="228600" cy="57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1752480" y="3048120"/>
            <a:ext cx="130320" cy="152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1828800" y="2895480"/>
            <a:ext cx="130320" cy="152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1752480" y="3276720"/>
            <a:ext cx="119160" cy="139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1523880" y="3124080"/>
            <a:ext cx="130320" cy="152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1"/>
          <a:stretch/>
        </p:blipFill>
        <p:spPr>
          <a:xfrm>
            <a:off x="1905120" y="3276720"/>
            <a:ext cx="129960" cy="152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1676520" y="3200400"/>
            <a:ext cx="109440" cy="152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600200" y="2819520"/>
            <a:ext cx="195120" cy="2286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4"/>
          <a:stretch/>
        </p:blipFill>
        <p:spPr>
          <a:xfrm>
            <a:off x="1523880" y="2971800"/>
            <a:ext cx="130320" cy="152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5"/>
          <a:stretch/>
        </p:blipFill>
        <p:spPr>
          <a:xfrm>
            <a:off x="1905120" y="3124080"/>
            <a:ext cx="196560" cy="2304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6"/>
          <a:stretch/>
        </p:blipFill>
        <p:spPr>
          <a:xfrm>
            <a:off x="708660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7"/>
          <a:stretch/>
        </p:blipFill>
        <p:spPr>
          <a:xfrm>
            <a:off x="2050920" y="1413000"/>
            <a:ext cx="541440" cy="6094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8"/>
          <a:stretch/>
        </p:blipFill>
        <p:spPr>
          <a:xfrm>
            <a:off x="6012000" y="4869000"/>
            <a:ext cx="990360" cy="1833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9"/>
          <a:stretch/>
        </p:blipFill>
        <p:spPr>
          <a:xfrm>
            <a:off x="6443640" y="5157720"/>
            <a:ext cx="304920" cy="2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4" name="Rectangle 3"/>
          <p:cNvGraphicFramePr/>
          <p:nvPr/>
        </p:nvGraphicFramePr>
        <p:xfrm>
          <a:off x="6443640" y="4869000"/>
          <a:ext cx="1447920" cy="1989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05" name="Rectangle 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443640" y="4869000"/>
                    <a:ext cx="14479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Rectangle 3"/>
          <p:cNvGraphicFramePr/>
          <p:nvPr/>
        </p:nvGraphicFramePr>
        <p:xfrm>
          <a:off x="7696080" y="4869000"/>
          <a:ext cx="1447920" cy="1989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07" name="Rectangle 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696080" y="4869000"/>
                    <a:ext cx="14479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 txBox="1"/>
          <p:nvPr/>
        </p:nvSpPr>
        <p:spPr>
          <a:xfrm>
            <a:off x="2050920" y="2133720"/>
            <a:ext cx="540072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整体感知</a:t>
            </a:r>
            <a:endParaRPr b="1" lang="en-US" sz="8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4000" y="260280"/>
            <a:ext cx="3528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速读课文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4"/>
          <a:stretch/>
        </p:blipFill>
        <p:spPr>
          <a:xfrm>
            <a:off x="7020000" y="836640"/>
            <a:ext cx="5414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0" r="0" b="3337"/>
          <a:stretch/>
        </p:blipFill>
        <p:spPr>
          <a:xfrm>
            <a:off x="-55440" y="0"/>
            <a:ext cx="9451800" cy="6945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89080" y="2590920"/>
            <a:ext cx="5490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58960" y="866880"/>
            <a:ext cx="616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unga"/>
                <a:ea typeface="黑体"/>
              </a:rPr>
              <a:t>用简要的几句话说说，这篇童话讲了一个什么故事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28600" y="198900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盲孩子在他的影子和萤火虫的帮助下，看见了世界，看见了光明；影子同时也变成了一个美丽的孩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41440" cy="6094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372360" y="1052640"/>
            <a:ext cx="5410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831708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800100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26920" y="6922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汉仪雪峰体简"/>
              </a:rPr>
              <a:t>美点寻踪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92360" y="2276640"/>
            <a:ext cx="638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汉仪雪峰体简"/>
              </a:rPr>
              <a:t>    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方正舒体"/>
              </a:rPr>
              <a:t>请同学在文中找出触动你心灵的语句或感悟最深的段落找出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619280" y="1773360"/>
            <a:ext cx="5414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76360" y="620280"/>
            <a:ext cx="20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感受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9640" y="2205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分角色朗读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7-14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段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4-72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段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（要读出语气、节奏、情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3429000"/>
            <a:ext cx="63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7c80"/>
                </a:solidFill>
                <a:latin typeface="Arial"/>
              </a:rPr>
              <a:t>一人读叙述语言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7c80"/>
                </a:solidFill>
                <a:latin typeface="Arial"/>
              </a:rPr>
              <a:t>男生齐读“盲孩子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7c80"/>
                </a:solidFill>
                <a:latin typeface="Arial"/>
              </a:rPr>
              <a:t>的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7c80"/>
                </a:solidFill>
                <a:latin typeface="Arial"/>
              </a:rPr>
              <a:t>女生齐读“影子”的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7c80"/>
                </a:solidFill>
                <a:latin typeface="Arial"/>
              </a:rPr>
              <a:t>全体同学齐读“萤火虫”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108240" y="1700280"/>
            <a:ext cx="349200" cy="393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446040" cy="503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7020000" y="1341360"/>
            <a:ext cx="384120" cy="432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6796080" y="3860640"/>
            <a:ext cx="384120" cy="432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60820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34058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star"/>
          <p:cNvPicPr/>
          <p:nvPr/>
        </p:nvPicPr>
        <p:blipFill>
          <a:blip r:embed="rId2"/>
          <a:stretch/>
        </p:blipFill>
        <p:spPr>
          <a:xfrm>
            <a:off x="4500720" y="692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star"/>
          <p:cNvPicPr/>
          <p:nvPr/>
        </p:nvPicPr>
        <p:blipFill>
          <a:blip r:embed="rId3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star"/>
          <p:cNvPicPr/>
          <p:nvPr/>
        </p:nvPicPr>
        <p:blipFill>
          <a:blip r:embed="rId4"/>
          <a:stretch/>
        </p:blipFill>
        <p:spPr>
          <a:xfrm>
            <a:off x="755640" y="620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900000" y="3357720"/>
            <a:ext cx="763272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找出写盲孩子心情变化的语句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9" name=""/>
          <p:cNvSpPr/>
          <p:nvPr/>
        </p:nvSpPr>
        <p:spPr>
          <a:xfrm>
            <a:off x="1495080" y="11253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5050"/>
                </a:solidFill>
                <a:latin typeface="Arial"/>
              </a:rPr>
              <a:t>探究合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13716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盲孩子心情变化的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900000" y="1628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他的日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很寂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900000" y="234936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盲孩子似乎感受到了光明，看到了色彩，他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很快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900000" y="314172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啊，我看见它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他从来没有这样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快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82692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盲孩子望着他的影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惊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……‘…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真的，我看见你了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826920" y="4581360"/>
            <a:ext cx="46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他看见了周围的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9:27:13Z</dcterms:created>
  <dc:creator>宁波众志航天电脑公司</dc:creator>
  <dc:description/>
  <dc:language>en-US</dc:language>
  <cp:lastModifiedBy>li zhangping</cp:lastModifiedBy>
  <dcterms:modified xsi:type="dcterms:W3CDTF">2008-11-11T07:07:41Z</dcterms:modified>
  <cp:revision>87</cp:revision>
  <dc:subject/>
  <dc:title>幻灯片 1</dc:title>
</cp:coreProperties>
</file>