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8.png" ContentType="image/png"/>
  <Override PartName="/ppt/media/image28.gif" ContentType="image/gif"/>
  <Override PartName="/ppt/media/image14.jpeg" ContentType="image/jpeg"/>
  <Override PartName="/ppt/media/image33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7.png" ContentType="image/png"/>
  <Override PartName="/ppt/media/image36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25.wmf" ContentType="image/x-wmf"/>
  <Override PartName="/ppt/media/image20.png" ContentType="image/png"/>
  <Override PartName="/ppt/media/image2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9255-C289-4BF5-B19D-90C85DB68F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家读得真专注，刘老师要考考你们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家读得真专注，刘老师要考考你们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FD5-ACE9-4BE2-A1DE-691F2E51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7AA-57EF-4E67-B87C-BBA63E32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A32-8AE3-49E9-915E-E3333A9C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5EF-1294-47C3-B1BD-AF802DA4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8555-D49B-45AB-BCF4-C051D1C6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EFF6-8BD7-4717-916B-9638A4E4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DB07-AD25-4B96-94E8-584D2854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1093-300F-4336-AFFC-B51CB711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F968-C439-41AC-94FC-051A30FA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C4D8-5150-418F-8EF2-BE97A10F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D36F-5A8E-44EA-AE05-16B06841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36A-610C-4CB0-B12D-7E514762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C458-3E8F-4C08-937C-F5DECFBD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2904-C982-441C-B1F2-8D2FE9CC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37AC-D7BF-4B2E-901B-77DF6EDB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4077-98C0-40E6-AED1-7AB8B15E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3B6A-4C6E-4387-8A05-0D26F9B3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AC9-4874-4FBE-AFDD-267891B4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4B4-68B4-4A49-AC1E-9A77F31C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E42-9F86-4A7E-9873-F6158B66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13F-7E58-4DDE-AEFD-67984978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8FF-2AA8-4D1C-988F-DB220A0E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49B-BE55-49BA-9A70-15D2561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FDE-4763-41B5-8416-0225E47A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F0A4-0011-47FE-BC08-20ED4EA92B3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77D7-02AA-483A-8304-9D80CACED64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77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398520"/>
            <a:ext cx="9144000" cy="72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2089080" cy="1535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311280" cy="2552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6227640" y="836640"/>
            <a:ext cx="2698920" cy="1655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067280" y="25146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名字叫“蚜虫”，我长得很小很小，比你们吃过的芝麻还小，不过你们别看我小，我的肚子圆圆的，胃口可大了，专门吸食植物的汁液，被我吃过的植物很快就会枯死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77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772080" y="224784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7534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77320" cy="5538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9480" y="571500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可恶的蚜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50920" y="0"/>
            <a:ext cx="83534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她多么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楷体_GB2312"/>
              </a:rPr>
              <a:t>盼（</a:t>
            </a: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楷体_GB2312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楷体_GB2312"/>
              </a:rPr>
              <a:t>n)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楷体_GB2312"/>
              </a:rPr>
              <a:t>望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有医生来给她治病啊</a:t>
            </a: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楷体_GB2312"/>
              </a:rPr>
              <a:t>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cc"/>
                </a:solidFill>
                <a:latin typeface="Arial"/>
                <a:ea typeface="楷体_GB2312"/>
              </a:rPr>
              <a:t>	</a:t>
            </a:r>
            <a:r>
              <a:rPr b="1" lang="en-US" sz="4500" spc="-1" strike="noStrike">
                <a:solidFill>
                  <a:srgbClr val="3333cc"/>
                </a:solidFill>
                <a:latin typeface="Arial"/>
                <a:ea typeface="楷体_GB2312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712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5335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   .  .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50920" y="0"/>
            <a:ext cx="835344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       </a:t>
            </a:r>
            <a:r>
              <a:rPr b="1" lang="zh-CN" sz="4500" spc="-1" strike="noStrike">
                <a:solidFill>
                  <a:srgbClr val="3333cc"/>
                </a:solidFill>
                <a:latin typeface="Arial"/>
                <a:ea typeface="楷体_GB2312"/>
              </a:rPr>
              <a:t>棉花姑娘生病了，叶子上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cc"/>
                </a:solidFill>
                <a:latin typeface="Arial"/>
                <a:ea typeface="楷体_GB2312"/>
              </a:rPr>
              <a:t>许多</a:t>
            </a:r>
            <a:r>
              <a:rPr b="1" lang="zh-CN" sz="4500" spc="-1" strike="noStrike">
                <a:solidFill>
                  <a:srgbClr val="9900cc"/>
                </a:solidFill>
                <a:latin typeface="Arial"/>
                <a:ea typeface="楷体_GB2312"/>
              </a:rPr>
              <a:t>可恶</a:t>
            </a:r>
            <a:r>
              <a:rPr b="1" lang="zh-CN" sz="4500" spc="-1" strike="noStrike">
                <a:solidFill>
                  <a:srgbClr val="3333cc"/>
                </a:solidFill>
                <a:latin typeface="Arial"/>
                <a:ea typeface="楷体_GB2312"/>
              </a:rPr>
              <a:t>的蚜虫。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她多么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楷体_GB2312"/>
              </a:rPr>
              <a:t>盼（</a:t>
            </a: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楷体_GB2312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楷体_GB2312"/>
              </a:rPr>
              <a:t>n)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楷体_GB2312"/>
              </a:rPr>
              <a:t>望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有医生来给她治病啊</a:t>
            </a: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楷体_GB2312"/>
              </a:rPr>
              <a:t>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cc"/>
                </a:solidFill>
                <a:latin typeface="Arial"/>
                <a:ea typeface="楷体_GB2312"/>
              </a:rPr>
              <a:t>	</a:t>
            </a:r>
            <a:r>
              <a:rPr b="1" lang="en-US" sz="4500" spc="-1" strike="noStrike">
                <a:solidFill>
                  <a:srgbClr val="3333cc"/>
                </a:solidFill>
                <a:latin typeface="Arial"/>
                <a:ea typeface="楷体_GB2312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137160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712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2286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10666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137160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49058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-322200" y="620640"/>
            <a:ext cx="205884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0" y="4292640"/>
            <a:ext cx="9143640" cy="2616480"/>
            <a:chOff x="0" y="4292640"/>
            <a:chExt cx="9143640" cy="2616480"/>
          </a:xfrm>
        </p:grpSpPr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0" y="4292640"/>
              <a:ext cx="9143640" cy="26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82760" y="4292640"/>
              <a:ext cx="8299800" cy="18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燕子说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“对不起，我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会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捉空中飞的害虫，你还是请别人帮忙吧！”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905120" y="762120"/>
            <a:ext cx="6122520" cy="2244240"/>
            <a:chOff x="1905120" y="762120"/>
            <a:chExt cx="6122520" cy="2244240"/>
          </a:xfrm>
        </p:grpSpPr>
        <p:pic>
          <p:nvPicPr>
            <p:cNvPr id="253" name="" descr=""/>
            <p:cNvPicPr/>
            <p:nvPr/>
          </p:nvPicPr>
          <p:blipFill>
            <a:blip r:embed="rId4"/>
            <a:stretch/>
          </p:blipFill>
          <p:spPr>
            <a:xfrm>
              <a:off x="1905120" y="841320"/>
              <a:ext cx="6122520" cy="21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304360" y="762120"/>
              <a:ext cx="5590440" cy="18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棉花姑娘说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：“请你帮我捉害虫吧！”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95280" y="6165720"/>
            <a:ext cx="36925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42160" y="49417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1522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燕子飞来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77404E-006 L 0.16284 0.54414 E">
                                      <p:cBhvr>
                                        <p:cTn id="124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rcRect l="0" t="0" r="13623" b="0"/>
          <a:stretch/>
        </p:blipFill>
        <p:spPr>
          <a:xfrm rot="1093200">
            <a:off x="755280" y="2781360"/>
            <a:ext cx="1420920" cy="3384360"/>
          </a:xfrm>
          <a:prstGeom prst="rect">
            <a:avLst/>
          </a:prstGeom>
          <a:ln w="0">
            <a:noFill/>
          </a:ln>
        </p:spPr>
      </p:pic>
      <p:grpSp>
        <p:nvGrpSpPr>
          <p:cNvPr id="260" name=""/>
          <p:cNvGrpSpPr/>
          <p:nvPr/>
        </p:nvGrpSpPr>
        <p:grpSpPr>
          <a:xfrm>
            <a:off x="0" y="838080"/>
            <a:ext cx="8387640" cy="2016000"/>
            <a:chOff x="0" y="838080"/>
            <a:chExt cx="8387640" cy="2016000"/>
          </a:xfrm>
        </p:grpSpPr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0" y="909360"/>
              <a:ext cx="8387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46840" y="838080"/>
              <a:ext cx="7659000" cy="9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棉花姑娘说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：“请你帮我捉害虫吧！”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0" y="4572000"/>
            <a:ext cx="9324720" cy="2601720"/>
            <a:chOff x="0" y="4572000"/>
            <a:chExt cx="9324720" cy="2601720"/>
          </a:xfrm>
        </p:grpSpPr>
        <p:pic>
          <p:nvPicPr>
            <p:cNvPr id="264" name="" descr=""/>
            <p:cNvPicPr/>
            <p:nvPr/>
          </p:nvPicPr>
          <p:blipFill>
            <a:blip r:embed="rId4"/>
            <a:stretch/>
          </p:blipFill>
          <p:spPr>
            <a:xfrm>
              <a:off x="0" y="4572000"/>
              <a:ext cx="9324720" cy="26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2120" y="4572000"/>
              <a:ext cx="846432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啄木鸟说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“对不起，我</a:t>
              </a: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会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捉树干里的害虫，你还是请别人帮忙吧！”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41440" y="6216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0" y="5229360"/>
            <a:ext cx="35496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0"/>
            <a:ext cx="375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啄木鸟飞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2050920" cy="154944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324000" y="685800"/>
            <a:ext cx="8819280" cy="2016000"/>
            <a:chOff x="324000" y="685800"/>
            <a:chExt cx="8819280" cy="201600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324000" y="757080"/>
              <a:ext cx="88192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898920" y="685800"/>
              <a:ext cx="8053200" cy="9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棉花姑娘高兴地说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：“请你帮我捉害虫吧！”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0" y="4572000"/>
            <a:ext cx="9143640" cy="2063520"/>
            <a:chOff x="0" y="4572000"/>
            <a:chExt cx="9143640" cy="2063520"/>
          </a:xfrm>
        </p:grpSpPr>
        <p:pic>
          <p:nvPicPr>
            <p:cNvPr id="275" name="" descr=""/>
            <p:cNvPicPr/>
            <p:nvPr/>
          </p:nvPicPr>
          <p:blipFill>
            <a:blip r:embed="rId4"/>
            <a:stretch/>
          </p:blipFill>
          <p:spPr>
            <a:xfrm>
              <a:off x="0" y="4572000"/>
              <a:ext cx="9143640" cy="20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482760" y="4572000"/>
              <a:ext cx="829980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青蛙说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“对不起，我</a:t>
              </a: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会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捉田里的害虫，你还是请别人帮忙吧！”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292720" y="52293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87840" y="581040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87840" y="5810400"/>
            <a:ext cx="29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6124680"/>
            <a:ext cx="282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68280" y="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青蛙跳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0.01597 -0.10139 L 0.03108 4.07407E-006 L 0.04705 -0.10139 L 0.06302 4.07407E-006 L 0.07795 -0.10139 L 0.09392 4.07407E-006 L 0.10903 -0.10139 L 0.125 4.07407E-006 L 0.14097 -0.10139 L 0.15608 4.07407E-006 L 0.17205 -0.10139 L 0.18698 4.07407E-006 L 0.20295 -0.10139 L 0.21892 4.07407E-006 L 0.23403 -0.10139 L 0.25 4.07407E-006 E">
                                      <p:cBhvr>
                                        <p:cTn id="178" dur="5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8120" y="4876920"/>
            <a:ext cx="3124080" cy="1981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124080" y="4952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  <a:ea typeface="楷体_GB2312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-304920" y="-1219320"/>
            <a:ext cx="9448920" cy="8077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781680" y="3886200"/>
            <a:ext cx="201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</a:rPr>
              <a:t>棉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447920"/>
            <a:ext cx="998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</a:rPr>
              <a:t>请你帮我捉害虫吧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488760" y="533520"/>
            <a:ext cx="2045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忽然，一群圆圆的小虫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来了，很快就把蚜虫吃光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rcRect l="819" t="7782" r="0" b="10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179280" y="189000"/>
            <a:ext cx="7487640" cy="2016000"/>
            <a:chOff x="179280" y="189000"/>
            <a:chExt cx="7487640" cy="201600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179280" y="260280"/>
              <a:ext cx="7487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67440" y="189000"/>
              <a:ext cx="6837480" cy="9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棉花姑娘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惊奇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地问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：“你们是谁呀？”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867280" y="4869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5181480"/>
            <a:ext cx="4572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819" t="7782" r="0" b="10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0" y="4013280"/>
            <a:ext cx="9143280" cy="2844360"/>
            <a:chOff x="0" y="4013280"/>
            <a:chExt cx="9143280" cy="284436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0" y="4013280"/>
              <a:ext cx="9143280" cy="28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31000" y="4098240"/>
              <a:ext cx="8467920" cy="18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虫说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“我们身上有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七个斑点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就像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七颗星星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大家都叫我们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七星瓢虫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867280" y="4869000"/>
            <a:ext cx="273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32000" y="5805360"/>
            <a:ext cx="4572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453440" y="58053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3640" y="6589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2843280" y="4869000"/>
          <a:ext cx="2089080" cy="16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869000"/>
                    <a:ext cx="208908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" name=""/>
          <p:cNvGrpSpPr/>
          <p:nvPr/>
        </p:nvGrpSpPr>
        <p:grpSpPr>
          <a:xfrm>
            <a:off x="2627280" y="620640"/>
            <a:ext cx="5329440" cy="3057480"/>
            <a:chOff x="2627280" y="620640"/>
            <a:chExt cx="5329440" cy="3057480"/>
          </a:xfrm>
        </p:grpSpPr>
        <p:sp>
          <p:nvSpPr>
            <p:cNvPr id="304" name=""/>
            <p:cNvSpPr/>
            <p:nvPr/>
          </p:nvSpPr>
          <p:spPr>
            <a:xfrm>
              <a:off x="2627280" y="620640"/>
              <a:ext cx="5256360" cy="3057480"/>
            </a:xfrm>
            <a:prstGeom prst="wedgeEllipseCallout">
              <a:avLst>
                <a:gd name="adj1" fmla="val -23967"/>
                <a:gd name="adj2" fmla="val 90185"/>
              </a:avLst>
            </a:prstGeom>
            <a:solidFill>
              <a:srgbClr val="ddee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71640" y="1197000"/>
              <a:ext cx="518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们身上有七个斑点，就像七颗星星，大家都叫我们七星瓢虫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44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052720" y="2644920"/>
            <a:ext cx="5040360" cy="1569960"/>
            <a:chOff x="2052720" y="2644920"/>
            <a:chExt cx="5040360" cy="1569960"/>
          </a:xfrm>
        </p:grpSpPr>
        <p:sp>
          <p:nvSpPr>
            <p:cNvPr id="308" name=""/>
            <p:cNvSpPr/>
            <p:nvPr/>
          </p:nvSpPr>
          <p:spPr>
            <a:xfrm>
              <a:off x="2052720" y="2644920"/>
              <a:ext cx="5040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2720" y="2644920"/>
              <a:ext cx="396864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2843280" y="4869000"/>
          <a:ext cx="2089080" cy="16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869000"/>
                    <a:ext cx="208908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40280" y="1676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1752480"/>
            <a:ext cx="518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        ）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63960" y="32004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90920" y="32767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        ）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484360" y="240516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棉花姑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0" t="0" r="15653" b="0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0" y="422100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不久，棉花姑娘的病好了，长出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碧绿碧绿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叶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吐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雪白雪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棉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l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ě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嘴笑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036800" cy="19051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1979640" y="0"/>
            <a:ext cx="3581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我会说！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63640" y="1700280"/>
            <a:ext cx="5410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339933"/>
                </a:solidFill>
                <a:latin typeface="隶书"/>
              </a:rPr>
              <a:t>碧绿碧绿的叶子</a:t>
            </a:r>
            <a:endParaRPr b="0" lang="en-US" sz="1800" spc="-1" strike="noStrike">
              <a:ln w="9360">
                <a:solidFill>
                  <a:srgbClr val="339933"/>
                </a:solidFill>
                <a:miter/>
              </a:ln>
              <a:solidFill>
                <a:srgbClr val="339933"/>
              </a:solidFill>
              <a:latin typeface="隶书"/>
              <a:ea typeface="隶书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676520" y="3962520"/>
            <a:ext cx="6019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雪白雪白的棉花</a:t>
            </a:r>
            <a:endParaRPr b="0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00200" y="2819520"/>
            <a:ext cx="6324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339933"/>
                </a:solidFill>
                <a:latin typeface="隶书"/>
              </a:rPr>
              <a:t>碧绿碧绿的（  ）</a:t>
            </a:r>
            <a:endParaRPr b="0" lang="en-US" sz="1800" spc="-1" strike="noStrike">
              <a:ln w="9360">
                <a:solidFill>
                  <a:srgbClr val="339933"/>
                </a:solidFill>
                <a:miter/>
              </a:ln>
              <a:solidFill>
                <a:srgbClr val="339933"/>
              </a:solidFill>
              <a:latin typeface="隶书"/>
              <a:ea typeface="隶书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676520" y="510552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雪白雪白的（  ） </a:t>
            </a:r>
            <a:endParaRPr b="0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328" name=""/>
          <p:cNvSpPr/>
          <p:nvPr/>
        </p:nvSpPr>
        <p:spPr>
          <a:xfrm>
            <a:off x="6702120" y="2895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青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73520" y="5181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云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332000" y="1700280"/>
            <a:ext cx="7416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火红火红的（     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黑乌黑的（     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b800"/>
                </a:solidFill>
                <a:latin typeface="楷体_GB2312"/>
                <a:ea typeface="楷体_GB2312"/>
              </a:rPr>
              <a:t>金黄金黄的</a:t>
            </a:r>
            <a:r>
              <a:rPr b="1" lang="zh-CN" sz="4800" spc="-1" strike="noStrike">
                <a:solidFill>
                  <a:srgbClr val="ffb800"/>
                </a:solidFill>
                <a:latin typeface="楷体_GB2312"/>
                <a:ea typeface="楷体_GB2312"/>
              </a:rPr>
              <a:t>（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70560" y="1317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16765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太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32760" y="2405160"/>
            <a:ext cx="15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头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13200" y="3429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Arial"/>
              </a:rPr>
              <a:t>稻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484360" y="240516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棉花姑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rcRect l="0" t="0" r="15653" b="0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422100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不久，棉花姑娘的病好了，长出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碧绿碧绿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叶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吐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雪白雪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棉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l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ě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嘴笑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257517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332000" y="260280"/>
            <a:ext cx="56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0  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棉花姑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92200" y="5605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54400" y="55846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赣州市办事处金星小学凌爱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886200" y="533520"/>
            <a:ext cx="4357800" cy="1066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知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5640" y="2421000"/>
            <a:ext cx="770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971800"/>
            <a:ext cx="104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e0e0e"/>
                </a:solidFill>
                <a:latin typeface="Arial"/>
              </a:rPr>
              <a:t>小朋友，你还知道哪些益虫益鸟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0" y="511812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1600" spc="-1" strike="noStrike">
                <a:solidFill>
                  <a:srgbClr val="ff0066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杜鹃是一种夏候鸟，常在多叶的树上不断鸣叫，“布谷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布谷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—”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所以又叫布谷鸟。喜欢吃毛虫，对农林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4636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04920" y="54100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猫头鹰耳孔大，听觉灵敏，适于夜行。多捕食鼠类，是农林益鸟。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9480" y="43275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喜鹊羽毛黑白相间，后面还拖着一条大尾巴。喜鹊每年要吃掉许多蝗虫、松毛虫等害虫，被称为“田野卫士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0" y="48006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螳螂有一对粗壮并带有利齿的前臂，善于捕食蝉、蝇、蝗虫、毛虫等，就是连能飞善蹦的大蝗虫也难逃它的攻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457200" y="475632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身披黄衣裳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,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腰儿细来腿儿长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飞到田间捉害虫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尾巴毒针赛刀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28600" y="493704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一只蜻蜒能在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小时内吃掉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40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只苍蝇或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840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只蚊子。一只蜻蜓幼虫一年能吃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3000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多只蚊子的幼虫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438280" y="0"/>
            <a:ext cx="335304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我知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905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886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492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螳螂能吃蝗虫、甲虫；蟾蜍是人类的好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友；小蜜蜂也是人类的好朋友；猫头鹰能吃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鼠；壁虎能吃蚊子；蜢不怕蛇是人类的好朋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麻雀能帮人类吃掉树上的毛毛虫；穿山甲、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蜓、食蚁兽也是人类的好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484360" y="2405160"/>
            <a:ext cx="4392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14600" y="26668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Arial"/>
              </a:rPr>
              <a:t>怎样保护益虫益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68580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Arial"/>
              </a:rPr>
              <a:t>我会思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979640" y="1341360"/>
            <a:ext cx="6554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0066"/>
                </a:solidFill>
                <a:latin typeface="华文行楷"/>
                <a:ea typeface="华文行楷"/>
              </a:rPr>
              <a:t>再  见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5640" y="453708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067240" y="6095880"/>
            <a:ext cx="851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b200"/>
                </a:solidFill>
                <a:uFillTx/>
                <a:latin typeface="Arial"/>
                <a:ea typeface="华文行楷"/>
                <a:hlinkClick r:id="rId2" action="ppaction://hlinksldjump"/>
              </a:rPr>
              <a:t>返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43480" y="501984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20000" y="5105520"/>
            <a:ext cx="39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仿宋_GB2312"/>
                <a:ea typeface="仿宋_GB2312"/>
              </a:rPr>
              <a:t>2011</a:t>
            </a:r>
            <a:r>
              <a:rPr b="1" lang="zh-CN" sz="6000" spc="-1" strike="noStrike">
                <a:solidFill>
                  <a:srgbClr val="800080"/>
                </a:solidFill>
                <a:latin typeface="仿宋_GB2312"/>
                <a:ea typeface="仿宋_GB2312"/>
              </a:rPr>
              <a:t>年</a:t>
            </a:r>
            <a:r>
              <a:rPr b="1" lang="en-US" sz="6000" spc="-1" strike="noStrike">
                <a:solidFill>
                  <a:srgbClr val="800080"/>
                </a:solidFill>
                <a:latin typeface="仿宋_GB2312"/>
                <a:ea typeface="仿宋_GB2312"/>
              </a:rPr>
              <a:t>5</a:t>
            </a:r>
            <a:r>
              <a:rPr b="1" lang="zh-CN" sz="6000" spc="-1" strike="noStrike">
                <a:solidFill>
                  <a:srgbClr val="800080"/>
                </a:solidFill>
                <a:latin typeface="仿宋_GB2312"/>
                <a:ea typeface="仿宋_GB2312"/>
              </a:rPr>
              <a:t>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0" y="3581280"/>
            <a:ext cx="62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Arial"/>
              </a:rPr>
              <a:t>谢谢指导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2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392200" y="5605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809880" y="28576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9429840" cy="6858000"/>
            <a:chOff x="0" y="0"/>
            <a:chExt cx="9429840" cy="6858000"/>
          </a:xfrm>
        </p:grpSpPr>
        <p:pic>
          <p:nvPicPr>
            <p:cNvPr id="198" name="Picture 3" descr="pic_253054"/>
            <p:cNvPicPr/>
            <p:nvPr/>
          </p:nvPicPr>
          <p:blipFill>
            <a:blip r:embed="rId1"/>
            <a:srcRect l="0" t="50003" r="0" b="0"/>
            <a:stretch/>
          </p:blipFill>
          <p:spPr>
            <a:xfrm>
              <a:off x="0" y="0"/>
              <a:ext cx="94298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4" descr="pic_253054"/>
            <p:cNvPicPr/>
            <p:nvPr/>
          </p:nvPicPr>
          <p:blipFill>
            <a:blip r:embed="rId2"/>
            <a:srcRect l="52128" t="38427" r="21194" b="34721"/>
            <a:stretch/>
          </p:blipFill>
          <p:spPr>
            <a:xfrm>
              <a:off x="4643640" y="0"/>
              <a:ext cx="2714760" cy="271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哎哟.wav" descr=""/>
          <p:cNvPicPr/>
          <p:nvPr/>
        </p:nvPicPr>
        <p:blipFill>
          <a:blip r:embed="rId3"/>
          <a:stretch/>
        </p:blipFill>
        <p:spPr>
          <a:xfrm>
            <a:off x="7929720" y="70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429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09680" y="45720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边读边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0" y="571500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666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棉花姑娘请了谁来帮忙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04920" y="3733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最后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谁治好了棉花姑娘的病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1600200"/>
            <a:ext cx="52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１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棉花姑娘怎么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86200" y="533520"/>
            <a:ext cx="4357800" cy="1066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填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2421000"/>
            <a:ext cx="770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　棉花姑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她请求（　　）、（　　　）和（　　）给自己治病，可是他们都没有帮上忙，最后（　　　　）治好了她的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348000" y="476280"/>
            <a:ext cx="4896000" cy="1066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填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438280"/>
            <a:ext cx="8001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棉花姑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她请求（        ）、（           ）和（        ）给自己治病，可是他们都没有帮上忙，最后（               ）治好了她的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97400" y="26179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病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42560" y="33037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燕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44760" y="32767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啄木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80600" y="3200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4668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85040" y="4648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七星瓢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9-06-05T14:43:38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11</vt:lpwstr>
  </property>
  <property fmtid="{D5CDD505-2E9C-101B-9397-08002B2CF9AE}" pid="3" name="Version">
    <vt:r8>1</vt:r8>
  </property>
</Properties>
</file>