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汉仪菱心体简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汉仪菱心体简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C670-B59E-41F3-AC75-11210701EC3F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C22B-6BCD-441E-AABC-773C2D48E630}" type="slidenum">
              <a:rPr b="0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9E1B-3D0D-461F-A51A-AFA5B3D7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659C-D995-4231-B89C-D5952AB1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9D8BD-189D-437E-9D54-7778CA70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C1045-CD65-41EA-8FBA-0606A86A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3DCC8-93FB-4E16-88BA-95D49A6C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6EE51-5633-402F-90B5-15CB31EF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F4193-6DD7-4322-9510-DF98B97B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EB50D-13FE-4C89-BAD0-52A0E79B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0E070-DC69-4013-9156-F1276661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755E6-D2AE-4E79-84E8-07E3C38C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A34E3-B82D-4D36-A55F-7B979453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AA824-F23A-415A-8EC9-690B38C2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55A-1E05-4B42-9304-D27D7CD9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31EDA-D183-43C9-93F8-BCE587EE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F3FE3-3AA4-42CB-99E7-BD8495B5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5AFF0-1A4F-4622-90FC-4FA32377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1D5F8-CE9D-44C6-8576-1A2B9AEE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BA03A-C44E-4526-A66C-6EE2F4CE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4EAC1-A036-47A7-900A-870CF969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8CDD3-A1D4-40BB-A3AB-C11E0C6C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4C171-5F03-4988-A985-7DF30454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8547F-2553-4CDB-9633-E205100B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1F3BE-9E96-4935-979F-821EC43D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171A-30BC-43E7-A70E-128E6FBF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64498-84D7-4025-88B1-19D96E58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9C142-5566-44EA-AE83-4127E4D1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317AB-1C2D-4134-8AC8-7E44A9C3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DA2C6-E501-4567-8BC6-7031939E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C40DF-DA7E-4648-B200-1F1E9518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7317E-9695-4C5F-933D-AA3B775A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ADDD0-7A5B-45B0-90DD-FBCA8F7F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6E726-8BE6-4F2C-AE54-474096BC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96D76-11F9-4C0D-AD3A-13117D5F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9BED8-A5A2-415B-BFCB-60CC003C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7060-92A3-4F16-BEFA-46B57841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D0558-CD33-423E-9984-D183D599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15105-7D9A-4E83-8D40-EF51E053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3EFDB-1123-491D-B0A1-93E76FF0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98606-E12E-4E84-A76B-D35E4B71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00CF2-8D7C-4AA2-B583-5EEABBB0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6135D-D7F2-4CF6-92BD-90EC6B43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DEC9A-A9D0-487E-9E3C-FDBE23D1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7BA78-47FD-4088-84EE-F2CF3B11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68D6B-E7DE-4DCD-99DE-08922CE4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1A3F6-AA23-434D-9D1E-5839589C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E9D1-125B-4DB9-9DEE-770D0D63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B2BDF-DA81-46C5-9AC7-496521B9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3F4E1-3331-4CF9-9E07-8AC0B067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44B7C-5FA5-48BF-9C29-8E292E53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F1599-C605-42CB-96D0-C0942054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CF0A6-97BC-4AE6-9EC9-EE1FFBE1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5369FC-E439-4299-97B2-3A739032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0F44E-25C6-432A-AF91-9E1DA8B3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7FB3A-848C-4D5E-B842-42666732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E3426-EEB7-4526-8762-9EC597A9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04F48-3BC8-4CA1-9DF6-03A8C8E1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8A70-E00D-4312-94AA-D0EBF361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1D5C8-89FB-4154-AADD-8F29B3EB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4A7F1-4386-4996-80AF-E183106C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06858-4FF6-4493-9C76-8408B566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4A4DB-EE07-45A0-96D9-87124C05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506F2-08FC-4291-A638-1FC3C159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CA90E-843F-4FA4-89C4-AEB4BFF6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32C72-82E8-4BA9-B31B-67F0F8AC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A323-49E6-4469-AC4E-2EA25320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D5C8-49C9-4059-BBB8-AC7F7135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55A7-F4CC-4A69-BD4C-4856AF5F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2826-7FCD-4D7A-A1C5-A5550FE1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D057-C33C-44C6-8942-7918FE46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C88E-2614-47FB-88B8-CD937683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BD69-6C6D-4B84-8D35-0F3C4184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8873-A1F4-4C58-88B1-F5611DD5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3B28-71D0-47F4-8B20-02022EDF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5148-3986-47B1-B652-2A575699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696BA-E423-46BF-A157-32890809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5540F-BC58-49F1-A2D3-E90F32AA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0610E-1205-4CD2-9E53-3B006924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86F50-1417-4DD2-8F15-E0E6E618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E4D92-6BD9-4278-BAE6-12077E97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005-49EB-4B8E-8459-17984BF3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5443C-C2D5-4E0A-87FF-C4512B28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5CD73-6935-4AA1-A588-0DCF681F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52590-AF33-41C8-B86D-76D7BDA8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34C15-52DD-4B5E-8375-29B7CF3C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D55F8-B3DB-4E85-80AB-F673C341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1208D-736B-4A7E-9CB9-23407CD0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21F43-3ED0-4EC7-8202-81A2C153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DBBA7-7E41-45D2-A75C-3910942A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7F478-68DE-49DE-9228-8D398FEB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7C64B-CE59-44B4-B66E-00155CC8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0F3-7723-4951-B770-0AC1EB31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805BA-3530-44AC-B16B-2CB6AD2A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E0AE1-73D6-4986-B9D9-EC2B5B1D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2D943-8CC0-46DB-82BE-B1E378A9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30558-92D4-45A6-BE41-1754D4C2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FED54-66CC-499A-B690-63E82ED5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19CEC-512A-412B-B99B-2DBC830F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1B81D-373C-49AF-AD06-4C9BCE39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A71EC-12B4-44CF-8AC4-2FFC35E7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AC88E-818E-49F0-B42E-50AF28AE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1A00F-EF45-427C-8F91-8B243523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2B7-0DC5-482D-B550-75C1A6E2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5869B-5748-437C-8D9B-F284DE53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18CE4-6009-4136-BFD5-3F130C74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153BF-B4A8-4C4E-AE54-2D9A0C0C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F06F7-F67F-45C7-A7E5-9BBE778F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AE3B9-8FBB-44D4-A47E-49906EA3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24289-838B-42EE-BCA5-8D1A0BB6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586FF-D5E2-4EF8-9944-2A6628AB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24C53-EAAB-4A78-82F4-A5B3BAEB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A2144-9A29-4012-B65C-AA9AD5B8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A77C9-EDC5-4DEF-9682-3EFA1F9D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7D4-AEE5-4368-B0C9-176A2D18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5BEA4-FDA9-41D9-A170-20571CA5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6A45A-5EB0-4487-ADA1-758E2A26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93461-8579-4910-8866-16ACB0E5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96659-2F03-42E9-95D6-0A080E44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576AC-375C-40E5-89C8-779889D5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D2E3B-99C8-4638-9E5E-0CB405A1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CD2DE-9984-43C7-9544-64551B80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F99EA-A707-426B-BEF5-AFEC3C67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FE1AF-9743-4C9E-A5A1-85F26BA9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828B6-A718-4CEF-9B37-4A6C4CEC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07EA-7D05-4E8E-A8F5-8BE4F2AC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C0488-A5C9-4B4E-BD75-462592BD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73D59-B5C6-4CB4-A73B-FB913E78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FCAA5-49F7-42C7-A006-2AB73EB8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77913-CA59-4A72-8939-16D11D5D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5F533-2B48-4DFD-B528-59AF8F62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01931-26FC-45A7-9CF6-D4304200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3747A-B4EE-408F-A220-333E2E06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A7903-8851-42AC-8271-79777911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6E628-0CEC-40B2-B824-B3B66840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439F8-F003-48CC-AB0E-080DBC87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3EFB-E14A-4688-A238-1E4FD5E0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339C4-BAB0-4B40-9363-370E4E2D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459CC-888B-4BCB-A4C3-5EE3D7C9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6F936-DC51-46E9-B063-A3490C4D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8F63D-0356-4C8E-B56A-474F9D9E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C79CB-5F9A-4C82-9D39-AFF1531D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96BDE-DA39-447C-B645-49A46D16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55575-B225-499B-BC6A-FDF8C7B6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EE267-4CB2-4EB4-A820-E8D2F299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8B036-CAF6-42E9-9D9F-066B5BAE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53431-A031-418B-BCA9-7C5CA8C2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C0E-C5AF-4021-A0B2-A2DCF70E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D7E16-75C4-464F-AC31-E13029AC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B025E-2BA5-494C-8A1D-E61D9299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7E657-0BA4-4DCA-A29D-84CD596C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5929A-7A93-4FA1-AA4C-81D60463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FDCF8-75F5-444D-AE48-2F373898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F462D-73AA-4845-B294-2749C37D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F95A0-72FA-4D15-AD0A-E4863E15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4D664-95A6-43BB-938D-03F90A55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26F22-5486-4182-9740-8D8B3CFD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0C744-798C-4E86-95EB-780C8315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汉仪菱心体简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EB7F-CEFF-45DF-8CDB-F84476DF237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1E94-944C-4C91-9190-57C17CC166D8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汉仪菱心体简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5736-C9AB-42AF-B3ED-6FC5FC4A030D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汉仪菱心体简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4BDC-8C72-4ADA-92D8-B6223E515893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汉仪菱心体简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1E49-B228-4F25-9EBD-F1F0B7E46F4D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汉仪菱心体简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3D86-6537-414C-B267-0D80E4A6023C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汉仪菱心体简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6AA7-D743-4E90-A381-F0AC0CD7A9A6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汉仪菱心体简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6DF9-B250-479D-B135-10ACA1D707EA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汉仪菱心体简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A0DB-46CB-4000-90C8-1898E26ED786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汉仪菱心体简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3894-CE3F-4A20-9046-7F2ECD00811A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汉仪菱心体简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1E20-3F75-4D0A-9849-5FF008AF34F4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汉仪菱心体简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0785-3E7F-4D8C-A973-9CB7040D20D2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汉仪菱心体简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8DDF-17EA-4716-BCE8-688BC6231B4E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汉仪菱心体简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菱心体简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汉仪菱心体简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4779-7DE2-4AC8-AAB2-27C5BEC8F18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C63F-69E4-4DC9-BBA3-2E2BCD2F4284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文本框 1"/>
          <p:cNvSpPr/>
          <p:nvPr/>
        </p:nvSpPr>
        <p:spPr>
          <a:xfrm>
            <a:off x="3214800" y="0"/>
            <a:ext cx="60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预习检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2"/>
          <p:cNvSpPr/>
          <p:nvPr/>
        </p:nvSpPr>
        <p:spPr>
          <a:xfrm>
            <a:off x="144360" y="227160"/>
            <a:ext cx="88934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梁  题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   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绢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翰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林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    )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料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峭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    )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簇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拥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漕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舳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 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摄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遒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摩肩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络绎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绝  长而不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冗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矩形 1"/>
          <p:cNvSpPr/>
          <p:nvPr/>
        </p:nvSpPr>
        <p:spPr>
          <a:xfrm>
            <a:off x="700920" y="116064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ià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2"/>
          <p:cNvSpPr/>
          <p:nvPr/>
        </p:nvSpPr>
        <p:spPr>
          <a:xfrm>
            <a:off x="3132720" y="1206360"/>
            <a:ext cx="6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矩形 6"/>
          <p:cNvSpPr/>
          <p:nvPr/>
        </p:nvSpPr>
        <p:spPr>
          <a:xfrm>
            <a:off x="4840920" y="116064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juā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矩形 7"/>
          <p:cNvSpPr/>
          <p:nvPr/>
        </p:nvSpPr>
        <p:spPr>
          <a:xfrm>
            <a:off x="7308360" y="122076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hà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矩形 8"/>
          <p:cNvSpPr/>
          <p:nvPr/>
        </p:nvSpPr>
        <p:spPr>
          <a:xfrm>
            <a:off x="930240" y="181440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hó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矩形 9"/>
          <p:cNvSpPr/>
          <p:nvPr/>
        </p:nvSpPr>
        <p:spPr>
          <a:xfrm>
            <a:off x="3151440" y="1846440"/>
            <a:ext cx="9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qià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矩形 10"/>
          <p:cNvSpPr/>
          <p:nvPr/>
        </p:nvSpPr>
        <p:spPr>
          <a:xfrm>
            <a:off x="5085000" y="184644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矩形 11"/>
          <p:cNvSpPr/>
          <p:nvPr/>
        </p:nvSpPr>
        <p:spPr>
          <a:xfrm>
            <a:off x="7405920" y="1824120"/>
            <a:ext cx="79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á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矩形 12"/>
          <p:cNvSpPr/>
          <p:nvPr/>
        </p:nvSpPr>
        <p:spPr>
          <a:xfrm>
            <a:off x="1008000" y="2487600"/>
            <a:ext cx="12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hú l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矩形 13"/>
          <p:cNvSpPr/>
          <p:nvPr/>
        </p:nvSpPr>
        <p:spPr>
          <a:xfrm>
            <a:off x="3324960" y="2487600"/>
            <a:ext cx="7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tá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矩形 14"/>
          <p:cNvSpPr/>
          <p:nvPr/>
        </p:nvSpPr>
        <p:spPr>
          <a:xfrm>
            <a:off x="5015520" y="245268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sh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15"/>
          <p:cNvSpPr/>
          <p:nvPr/>
        </p:nvSpPr>
        <p:spPr>
          <a:xfrm>
            <a:off x="7346880" y="24271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qiú jì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16"/>
          <p:cNvSpPr/>
          <p:nvPr/>
        </p:nvSpPr>
        <p:spPr>
          <a:xfrm>
            <a:off x="1639440" y="312408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hǒ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17"/>
          <p:cNvSpPr/>
          <p:nvPr/>
        </p:nvSpPr>
        <p:spPr>
          <a:xfrm>
            <a:off x="4208040" y="31240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luò y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18"/>
          <p:cNvSpPr/>
          <p:nvPr/>
        </p:nvSpPr>
        <p:spPr>
          <a:xfrm>
            <a:off x="7913880" y="3124080"/>
            <a:ext cx="10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rŏ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内容占位符 2"/>
          <p:cNvSpPr/>
          <p:nvPr/>
        </p:nvSpPr>
        <p:spPr>
          <a:xfrm>
            <a:off x="-115920" y="1571760"/>
            <a:ext cx="9286920" cy="4952880"/>
          </a:xfrm>
          <a:prstGeom prst="rect">
            <a:avLst/>
          </a:prstGeom>
          <a:solidFill>
            <a:srgbClr val="ffff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手卷 移动视点   结构  手法 写实 历史价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画卷的艺术特色和历史价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文本框 4"/>
          <p:cNvSpPr/>
          <p:nvPr/>
        </p:nvSpPr>
        <p:spPr>
          <a:xfrm>
            <a:off x="1476360" y="1571760"/>
            <a:ext cx="7694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说明内容：  概括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明上河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艺术特色和历史价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标题 1"/>
          <p:cNvSpPr/>
          <p:nvPr/>
        </p:nvSpPr>
        <p:spPr>
          <a:xfrm>
            <a:off x="3000240" y="285840"/>
            <a:ext cx="5072040" cy="691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菱心体简"/>
              </a:rPr>
              <a:t>筛选归纳信息，理清脉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文本框 9"/>
          <p:cNvSpPr/>
          <p:nvPr/>
        </p:nvSpPr>
        <p:spPr>
          <a:xfrm>
            <a:off x="1345680" y="1346040"/>
            <a:ext cx="2288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创作背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文本框 10"/>
          <p:cNvSpPr/>
          <p:nvPr/>
        </p:nvSpPr>
        <p:spPr>
          <a:xfrm>
            <a:off x="2755080" y="2104920"/>
            <a:ext cx="2717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段画卷作者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生平、创作动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文本框 11"/>
          <p:cNvSpPr/>
          <p:nvPr/>
        </p:nvSpPr>
        <p:spPr>
          <a:xfrm>
            <a:off x="1487520" y="2865600"/>
            <a:ext cx="3630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段  画卷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12"/>
          <p:cNvSpPr/>
          <p:nvPr/>
        </p:nvSpPr>
        <p:spPr>
          <a:xfrm>
            <a:off x="1890000" y="5950080"/>
            <a:ext cx="39949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画卷艺术特色和历史价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14"/>
          <p:cNvSpPr/>
          <p:nvPr/>
        </p:nvSpPr>
        <p:spPr>
          <a:xfrm>
            <a:off x="5975640" y="3645000"/>
            <a:ext cx="1247400" cy="520560"/>
          </a:xfrm>
          <a:prstGeom prst="rect">
            <a:avLst/>
          </a:prstGeom>
          <a:solidFill>
            <a:srgbClr val="ddd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开卷：城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15"/>
          <p:cNvSpPr/>
          <p:nvPr/>
        </p:nvSpPr>
        <p:spPr>
          <a:xfrm>
            <a:off x="5521320" y="4532400"/>
            <a:ext cx="3560760" cy="459720"/>
          </a:xfrm>
          <a:prstGeom prst="rect">
            <a:avLst/>
          </a:prstGeom>
          <a:solidFill>
            <a:srgbClr val="ddd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中段（详）：汴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文本框 17"/>
          <p:cNvSpPr/>
          <p:nvPr/>
        </p:nvSpPr>
        <p:spPr>
          <a:xfrm>
            <a:off x="105480" y="2297160"/>
            <a:ext cx="485640" cy="2531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文本框 18"/>
          <p:cNvSpPr/>
          <p:nvPr/>
        </p:nvSpPr>
        <p:spPr>
          <a:xfrm>
            <a:off x="8330400" y="3467160"/>
            <a:ext cx="485640" cy="2531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文本框 20"/>
          <p:cNvSpPr/>
          <p:nvPr/>
        </p:nvSpPr>
        <p:spPr>
          <a:xfrm>
            <a:off x="2843640" y="3833640"/>
            <a:ext cx="17611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第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整体概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文本框 21"/>
          <p:cNvSpPr/>
          <p:nvPr/>
        </p:nvSpPr>
        <p:spPr>
          <a:xfrm>
            <a:off x="2861640" y="4565520"/>
            <a:ext cx="1761120" cy="459720"/>
          </a:xfrm>
          <a:prstGeom prst="rect">
            <a:avLst/>
          </a:prstGeom>
          <a:solidFill>
            <a:srgbClr val="ddd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第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具体分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文本框 22"/>
          <p:cNvSpPr/>
          <p:nvPr/>
        </p:nvSpPr>
        <p:spPr>
          <a:xfrm>
            <a:off x="5978880" y="5264280"/>
            <a:ext cx="1460880" cy="459720"/>
          </a:xfrm>
          <a:prstGeom prst="rect">
            <a:avLst/>
          </a:prstGeom>
          <a:solidFill>
            <a:srgbClr val="ddd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后段：市区街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标题 1"/>
          <p:cNvSpPr/>
          <p:nvPr/>
        </p:nvSpPr>
        <p:spPr>
          <a:xfrm>
            <a:off x="108000" y="0"/>
            <a:ext cx="3240000" cy="69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菱心体简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汉仪菱心体简"/>
              </a:rPr>
              <a:t>梳理文章脉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标题 1"/>
          <p:cNvSpPr/>
          <p:nvPr/>
        </p:nvSpPr>
        <p:spPr>
          <a:xfrm>
            <a:off x="-160200" y="-47520"/>
            <a:ext cx="9082080" cy="109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菱心体简"/>
              </a:rPr>
              <a:t>逻辑顺序和空间顺序相结合，有详有略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菱心体简"/>
              </a:rPr>
              <a:t>做到了层次分明，条理清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7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7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2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标题 4"/>
          <p:cNvSpPr/>
          <p:nvPr/>
        </p:nvSpPr>
        <p:spPr>
          <a:xfrm>
            <a:off x="15840" y="1698480"/>
            <a:ext cx="9144000" cy="2387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汉仪菱心体简"/>
              </a:rPr>
              <a:t>中级挑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细读重点段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副标题 5"/>
          <p:cNvSpPr/>
          <p:nvPr/>
        </p:nvSpPr>
        <p:spPr>
          <a:xfrm>
            <a:off x="2268360" y="314172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汉仪菱心体简"/>
              </a:rPr>
              <a:t>比较品味说明文语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Picture 2" descr="E:\PPT\PPT中国风元素\水墨具体图案\古人.gif"/>
          <p:cNvPicPr/>
          <p:nvPr/>
        </p:nvPicPr>
        <p:blipFill>
          <a:blip r:embed="rId2"/>
          <a:stretch/>
        </p:blipFill>
        <p:spPr>
          <a:xfrm>
            <a:off x="755640" y="1219320"/>
            <a:ext cx="12924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标题 1"/>
          <p:cNvSpPr/>
          <p:nvPr/>
        </p:nvSpPr>
        <p:spPr>
          <a:xfrm>
            <a:off x="2916360" y="189000"/>
            <a:ext cx="482436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 Light"/>
              </a:rPr>
              <a:t>用比较法细读第三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 Light"/>
              </a:rPr>
              <a:t>比较下列几组句子，哪句好？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内容占位符 2"/>
          <p:cNvSpPr/>
          <p:nvPr/>
        </p:nvSpPr>
        <p:spPr>
          <a:xfrm>
            <a:off x="30240" y="2421000"/>
            <a:ext cx="8964360" cy="287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张择端画的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明上河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绢本，设色，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4.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厘米，横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28.7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厘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张择端画的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明上河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， 宽二十多厘米，长五百多厘米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标题 1"/>
          <p:cNvSpPr/>
          <p:nvPr/>
        </p:nvSpPr>
        <p:spPr>
          <a:xfrm>
            <a:off x="2916360" y="189000"/>
            <a:ext cx="482436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 Light"/>
              </a:rPr>
              <a:t>用比较法细读第三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 Light"/>
              </a:rPr>
              <a:t>比较下列几组句子，哪句好？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矩形 1"/>
          <p:cNvSpPr/>
          <p:nvPr/>
        </p:nvSpPr>
        <p:spPr>
          <a:xfrm>
            <a:off x="179280" y="2133720"/>
            <a:ext cx="8964720" cy="201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作品描绘了京城汴梁从城郊、汴河到城内街市的繁华景象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作品描绘了京城汴梁从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城内街市、城郊到汴河的繁华景象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标题 1"/>
          <p:cNvSpPr/>
          <p:nvPr/>
        </p:nvSpPr>
        <p:spPr>
          <a:xfrm>
            <a:off x="2916360" y="189000"/>
            <a:ext cx="482436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 Light"/>
              </a:rPr>
              <a:t>用比较法细读第三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 Light"/>
              </a:rPr>
              <a:t>比较下列几组句子，哪句好？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1"/>
          <p:cNvSpPr/>
          <p:nvPr/>
        </p:nvSpPr>
        <p:spPr>
          <a:xfrm>
            <a:off x="36360" y="1916280"/>
            <a:ext cx="8964720" cy="199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整个长卷犹如一部乐章，由慢板、柔板、逐渐进入快板、紧板，转而进入尾声，留下无尽的回味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整个长卷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人物越来越多，场景越来越多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C:\Users\Soloman\Desktop\荷叶.png"/>
          <p:cNvPicPr/>
          <p:nvPr/>
        </p:nvPicPr>
        <p:blipFill>
          <a:blip r:embed="rId2"/>
          <a:srcRect l="83336" t="36378" r="2292" b="40012"/>
          <a:stretch/>
        </p:blipFill>
        <p:spPr>
          <a:xfrm>
            <a:off x="8028000" y="5514840"/>
            <a:ext cx="1116000" cy="1374840"/>
          </a:xfrm>
          <a:prstGeom prst="rect">
            <a:avLst/>
          </a:prstGeom>
          <a:ln w="0">
            <a:noFill/>
          </a:ln>
        </p:spPr>
      </p:pic>
      <p:sp>
        <p:nvSpPr>
          <p:cNvPr id="619" name="内容占位符 2"/>
          <p:cNvSpPr/>
          <p:nvPr/>
        </p:nvSpPr>
        <p:spPr>
          <a:xfrm>
            <a:off x="0" y="949320"/>
            <a:ext cx="3708360" cy="5981760"/>
          </a:xfrm>
          <a:prstGeom prst="rect">
            <a:avLst/>
          </a:prstGeom>
          <a:solidFill>
            <a:srgbClr val="ddd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张择端画的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清明上河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绢本，设色，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4.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厘米，横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28.7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Calibri"/>
              </a:rPr>
              <a:t>作品描绘了京城汴梁从城郊、汴河到城内街市的繁华景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53735"/>
                </a:solidFill>
                <a:latin typeface="Calibri"/>
              </a:rPr>
              <a:t>整个长卷犹如一部乐章，由慢板、柔板、逐渐进入快板、紧板，转而进入尾声，留下无尽的回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1"/>
          <p:cNvSpPr/>
          <p:nvPr/>
        </p:nvSpPr>
        <p:spPr>
          <a:xfrm>
            <a:off x="5468760" y="3852720"/>
            <a:ext cx="36752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华文行楷"/>
                <a:ea typeface="华文行楷"/>
              </a:rPr>
              <a:t>用“乐章”形容画卷，用音乐的快慢形容画卷的疏密，用了打比方的说明方法，让我们对画卷有了形象的感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2"/>
          <p:cNvSpPr/>
          <p:nvPr/>
        </p:nvSpPr>
        <p:spPr>
          <a:xfrm>
            <a:off x="5468760" y="77760"/>
            <a:ext cx="3365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介绍了画卷基本信息，让我们眼前仿佛有了一个“画框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矩形 3"/>
          <p:cNvSpPr/>
          <p:nvPr/>
        </p:nvSpPr>
        <p:spPr>
          <a:xfrm>
            <a:off x="5500800" y="2214720"/>
            <a:ext cx="36432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f0"/>
                </a:solidFill>
                <a:latin typeface="华文行楷"/>
                <a:ea typeface="华文行楷"/>
              </a:rPr>
              <a:t>概括了画卷内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f0"/>
                </a:solidFill>
                <a:latin typeface="华文行楷"/>
                <a:ea typeface="华文行楷"/>
              </a:rPr>
              <a:t>又总领了第四段各部分的内容。是由概括到具体的逻辑顺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4"/>
          <p:cNvSpPr/>
          <p:nvPr/>
        </p:nvSpPr>
        <p:spPr>
          <a:xfrm>
            <a:off x="3936960" y="5864400"/>
            <a:ext cx="52070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三句话就让我们对画卷有了一个整体的把握，令人叹服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11"/>
          <p:cNvSpPr/>
          <p:nvPr/>
        </p:nvSpPr>
        <p:spPr>
          <a:xfrm>
            <a:off x="3175920" y="565200"/>
            <a:ext cx="1521720" cy="764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内容理解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12"/>
          <p:cNvSpPr/>
          <p:nvPr/>
        </p:nvSpPr>
        <p:spPr>
          <a:xfrm>
            <a:off x="3245760" y="1857240"/>
            <a:ext cx="1521720" cy="1434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结构提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说明顺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13"/>
          <p:cNvSpPr/>
          <p:nvPr/>
        </p:nvSpPr>
        <p:spPr>
          <a:xfrm>
            <a:off x="3162240" y="3568680"/>
            <a:ext cx="1704600" cy="131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语言赏析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写法赏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标题 1"/>
          <p:cNvSpPr/>
          <p:nvPr/>
        </p:nvSpPr>
        <p:spPr>
          <a:xfrm>
            <a:off x="571680" y="1071720"/>
            <a:ext cx="1746000" cy="361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汉仪菱心体简"/>
              </a:rPr>
              <a:t>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汉仪菱心体简"/>
              </a:rPr>
              <a:t>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汉仪菱心体简"/>
              </a:rPr>
              <a:t>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汉仪菱心体简"/>
              </a:rPr>
              <a:t>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汉仪菱心体简"/>
              </a:rPr>
              <a:t>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15"/>
          <p:cNvSpPr/>
          <p:nvPr/>
        </p:nvSpPr>
        <p:spPr>
          <a:xfrm>
            <a:off x="3058200" y="5318280"/>
            <a:ext cx="1400040" cy="70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阅读感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9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标题 4"/>
          <p:cNvSpPr/>
          <p:nvPr/>
        </p:nvSpPr>
        <p:spPr>
          <a:xfrm>
            <a:off x="0" y="2014560"/>
            <a:ext cx="9144000" cy="2387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汉仪菱心体简"/>
              </a:rPr>
              <a:t>还是中级挑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细读重点段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副标题 5"/>
          <p:cNvSpPr/>
          <p:nvPr/>
        </p:nvSpPr>
        <p:spPr>
          <a:xfrm>
            <a:off x="2827440" y="342900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汉仪菱心体简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汉仪菱心体简"/>
              </a:rPr>
              <a:t>学会批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Picture 2" descr="E:\PPT\PPT中国风元素\水墨具体图案\古人.gif"/>
          <p:cNvPicPr/>
          <p:nvPr/>
        </p:nvPicPr>
        <p:blipFill>
          <a:blip r:embed="rId2"/>
          <a:stretch/>
        </p:blipFill>
        <p:spPr>
          <a:xfrm>
            <a:off x="755640" y="1442880"/>
            <a:ext cx="129240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清明上河图第四段配画朗诵.mp4" descr=""/>
          <p:cNvPicPr/>
          <p:nvPr/>
        </p:nvPicPr>
        <p:blipFill>
          <a:blip r:embed="rId2"/>
          <a:stretch/>
        </p:blipFill>
        <p:spPr>
          <a:xfrm>
            <a:off x="-1549440" y="0"/>
            <a:ext cx="12700080" cy="8280360"/>
          </a:xfrm>
          <a:prstGeom prst="rect">
            <a:avLst/>
          </a:prstGeom>
          <a:ln w="0">
            <a:noFill/>
          </a:ln>
        </p:spPr>
      </p:pic>
      <p:sp>
        <p:nvSpPr>
          <p:cNvPr id="633" name="矩形 2"/>
          <p:cNvSpPr/>
          <p:nvPr/>
        </p:nvSpPr>
        <p:spPr>
          <a:xfrm>
            <a:off x="-108000" y="-19080"/>
            <a:ext cx="915192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批注法细读第四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 Light"/>
              </a:rPr>
              <a:t>对照图片找出第四段相应的内容，选择自己最喜欢的一个层次进行品读批注 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400" nodeType="clickEffect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3" dur="1" fill="hold"/>
                                        <p:tgtEl>
                                          <p:spTgt spid="6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C:\Users\Soloman\Desktop\荷叶.png"/>
          <p:cNvPicPr/>
          <p:nvPr/>
        </p:nvPicPr>
        <p:blipFill>
          <a:blip r:embed="rId1"/>
          <a:srcRect l="83336" t="36378" r="2292" b="40012"/>
          <a:stretch/>
        </p:blipFill>
        <p:spPr>
          <a:xfrm>
            <a:off x="8028000" y="5514840"/>
            <a:ext cx="1116000" cy="1374840"/>
          </a:xfrm>
          <a:prstGeom prst="rect">
            <a:avLst/>
          </a:prstGeom>
          <a:ln w="0">
            <a:noFill/>
          </a:ln>
        </p:spPr>
      </p:pic>
      <p:sp>
        <p:nvSpPr>
          <p:cNvPr id="635" name="矩形 1"/>
          <p:cNvSpPr/>
          <p:nvPr/>
        </p:nvSpPr>
        <p:spPr>
          <a:xfrm>
            <a:off x="5468760" y="3852720"/>
            <a:ext cx="36752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华文行楷"/>
                <a:ea typeface="华文行楷"/>
              </a:rPr>
              <a:t>用“乐章”比喻画卷，用音乐的快慢形容画卷的疏密，用了打比方的说明方法，让我们对画卷有了形象的感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矩形 2"/>
          <p:cNvSpPr/>
          <p:nvPr/>
        </p:nvSpPr>
        <p:spPr>
          <a:xfrm>
            <a:off x="5468760" y="77760"/>
            <a:ext cx="3365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介绍了画卷基本信息，让我们眼前仿佛有了一个“画框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矩形 3"/>
          <p:cNvSpPr/>
          <p:nvPr/>
        </p:nvSpPr>
        <p:spPr>
          <a:xfrm>
            <a:off x="5500800" y="2214720"/>
            <a:ext cx="36432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f0"/>
                </a:solidFill>
                <a:latin typeface="华文行楷"/>
                <a:ea typeface="华文行楷"/>
              </a:rPr>
              <a:t>概括了画卷内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f0"/>
                </a:solidFill>
                <a:latin typeface="华文行楷"/>
                <a:ea typeface="华文行楷"/>
              </a:rPr>
              <a:t>又总领了第四段各层次的内容。是由概括到具体的逻辑顺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4"/>
          <p:cNvSpPr/>
          <p:nvPr/>
        </p:nvSpPr>
        <p:spPr>
          <a:xfrm>
            <a:off x="3936960" y="5864400"/>
            <a:ext cx="52070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三句话就让我们对画卷有了一个整体的把握，令人叹服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文本框 11"/>
          <p:cNvSpPr/>
          <p:nvPr/>
        </p:nvSpPr>
        <p:spPr>
          <a:xfrm>
            <a:off x="3175920" y="565200"/>
            <a:ext cx="1521720" cy="764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内容理解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文本框 12"/>
          <p:cNvSpPr/>
          <p:nvPr/>
        </p:nvSpPr>
        <p:spPr>
          <a:xfrm>
            <a:off x="3245760" y="1857240"/>
            <a:ext cx="1521720" cy="1434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结构提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说明顺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文本框 13"/>
          <p:cNvSpPr/>
          <p:nvPr/>
        </p:nvSpPr>
        <p:spPr>
          <a:xfrm>
            <a:off x="3162240" y="3568680"/>
            <a:ext cx="1704600" cy="131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语言赏析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写法赏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标题 1"/>
          <p:cNvSpPr/>
          <p:nvPr/>
        </p:nvSpPr>
        <p:spPr>
          <a:xfrm>
            <a:off x="571680" y="1071720"/>
            <a:ext cx="1746000" cy="361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汉仪菱心体简"/>
              </a:rPr>
              <a:t>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汉仪菱心体简"/>
              </a:rPr>
              <a:t>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汉仪菱心体简"/>
              </a:rPr>
              <a:t>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汉仪菱心体简"/>
              </a:rPr>
              <a:t>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汉仪菱心体简"/>
              </a:rPr>
              <a:t>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文本框 15"/>
          <p:cNvSpPr/>
          <p:nvPr/>
        </p:nvSpPr>
        <p:spPr>
          <a:xfrm>
            <a:off x="3058200" y="5318280"/>
            <a:ext cx="1400040" cy="70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阅读感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8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文本框 1"/>
          <p:cNvSpPr/>
          <p:nvPr/>
        </p:nvSpPr>
        <p:spPr>
          <a:xfrm>
            <a:off x="1499400" y="1382760"/>
            <a:ext cx="182664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看意思说成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1"/>
          <p:cNvSpPr/>
          <p:nvPr/>
        </p:nvSpPr>
        <p:spPr>
          <a:xfrm>
            <a:off x="2413080" y="254160"/>
            <a:ext cx="60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预习检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文本框 3"/>
          <p:cNvSpPr/>
          <p:nvPr/>
        </p:nvSpPr>
        <p:spPr>
          <a:xfrm>
            <a:off x="1207800" y="2340000"/>
            <a:ext cx="28630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爬山过水，形容旅途艰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4"/>
          <p:cNvSpPr/>
          <p:nvPr/>
        </p:nvSpPr>
        <p:spPr>
          <a:xfrm>
            <a:off x="779760" y="4022640"/>
            <a:ext cx="1643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船只收首衔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5"/>
          <p:cNvSpPr/>
          <p:nvPr/>
        </p:nvSpPr>
        <p:spPr>
          <a:xfrm>
            <a:off x="3279960" y="3164040"/>
            <a:ext cx="3664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人、车等）往来不断，前后相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文本框 6"/>
          <p:cNvSpPr/>
          <p:nvPr/>
        </p:nvSpPr>
        <p:spPr>
          <a:xfrm>
            <a:off x="3021120" y="5084640"/>
            <a:ext cx="91224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肩挨肩，脚碰脚。形容人很多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很拥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文本框 7"/>
          <p:cNvSpPr/>
          <p:nvPr/>
        </p:nvSpPr>
        <p:spPr>
          <a:xfrm>
            <a:off x="6837480" y="223524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跋山涉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矩形 8"/>
          <p:cNvSpPr/>
          <p:nvPr/>
        </p:nvSpPr>
        <p:spPr>
          <a:xfrm>
            <a:off x="7485840" y="3132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络绎不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矩形 9"/>
          <p:cNvSpPr/>
          <p:nvPr/>
        </p:nvSpPr>
        <p:spPr>
          <a:xfrm>
            <a:off x="7485840" y="3960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舳舻相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矩形 10"/>
          <p:cNvSpPr/>
          <p:nvPr/>
        </p:nvSpPr>
        <p:spPr>
          <a:xfrm>
            <a:off x="7495200" y="5040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摩肩接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矩形 2"/>
          <p:cNvSpPr/>
          <p:nvPr/>
        </p:nvSpPr>
        <p:spPr>
          <a:xfrm>
            <a:off x="-15840" y="549360"/>
            <a:ext cx="9153360" cy="131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词语品读法反复读第四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美读第（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）段中的四字短语，品味四字短语的典雅、生动、精练之美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内容占位符 2"/>
          <p:cNvSpPr/>
          <p:nvPr/>
        </p:nvSpPr>
        <p:spPr>
          <a:xfrm>
            <a:off x="-14400" y="0"/>
            <a:ext cx="9037800" cy="667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城郊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个四字短语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疏林薄雾    农舍田畴   春寒料峭   踏青扫墓  长途跋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汴河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个四字短语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繁华情景  舳舻相接  结构精美  宛如飞虹 车水马龙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热闹非凡  呼唤叫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握篙盘索  呼应相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挥臂助阵   过往行人  无暇一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城内街市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个四字短语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高大雄伟  街道纵横    房屋林立  各行各业    无所不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罗锦布匹   沉檀香料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香烛纸马   医药门诊  大车修理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看相算命   修面整容  一应俱全    应有尽有   士农工商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摩肩接踵  络绎不绝   男女老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文本框 1"/>
          <p:cNvSpPr/>
          <p:nvPr/>
        </p:nvSpPr>
        <p:spPr>
          <a:xfrm>
            <a:off x="4211640" y="1584360"/>
            <a:ext cx="431640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逼真的描摹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动之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矩形 2"/>
          <p:cNvSpPr/>
          <p:nvPr/>
        </p:nvSpPr>
        <p:spPr>
          <a:xfrm>
            <a:off x="3919680" y="7920"/>
            <a:ext cx="446868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文言的味道   典雅之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矩形 5"/>
          <p:cNvSpPr/>
          <p:nvPr/>
        </p:nvSpPr>
        <p:spPr>
          <a:xfrm>
            <a:off x="4700520" y="3807000"/>
            <a:ext cx="432288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繁华的展现    精练之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矩形 1"/>
          <p:cNvSpPr/>
          <p:nvPr/>
        </p:nvSpPr>
        <p:spPr>
          <a:xfrm>
            <a:off x="971640" y="1677960"/>
            <a:ext cx="6264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文本框 1"/>
          <p:cNvSpPr/>
          <p:nvPr/>
        </p:nvSpPr>
        <p:spPr>
          <a:xfrm>
            <a:off x="1581120" y="222120"/>
            <a:ext cx="78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自问：这节你解决了以下问题吗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Picture 2" descr="E:\PPT\PPT中国风元素\水墨具体图案\古人.gif"/>
          <p:cNvPicPr/>
          <p:nvPr/>
        </p:nvPicPr>
        <p:blipFill>
          <a:blip r:embed="rId2"/>
          <a:stretch/>
        </p:blipFill>
        <p:spPr>
          <a:xfrm>
            <a:off x="971640" y="155520"/>
            <a:ext cx="600120" cy="1332000"/>
          </a:xfrm>
          <a:prstGeom prst="rect">
            <a:avLst/>
          </a:prstGeom>
          <a:ln w="0">
            <a:noFill/>
          </a:ln>
        </p:spPr>
      </p:pic>
      <p:sp>
        <p:nvSpPr>
          <p:cNvPr id="652" name="标题 1"/>
          <p:cNvSpPr/>
          <p:nvPr/>
        </p:nvSpPr>
        <p:spPr>
          <a:xfrm>
            <a:off x="163440" y="1752480"/>
            <a:ext cx="8982000" cy="955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汉仪菱心体简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汉仪菱心体简"/>
              </a:rPr>
              <a:t>本文是如何做到条理分明、细腻具体，又是如何挖掘出画面背后的社会历史内涵的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文本框 3"/>
          <p:cNvSpPr/>
          <p:nvPr/>
        </p:nvSpPr>
        <p:spPr>
          <a:xfrm>
            <a:off x="176040" y="3021120"/>
            <a:ext cx="898380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汉仪菱心体简"/>
              </a:rPr>
              <a:t>本文是自读课文，要学会通过写批注的方式完成自读，锻炼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文本框 1"/>
          <p:cNvSpPr/>
          <p:nvPr/>
        </p:nvSpPr>
        <p:spPr>
          <a:xfrm flipH="1">
            <a:off x="539640" y="1773360"/>
            <a:ext cx="432000" cy="253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推荐书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文本框 2"/>
          <p:cNvSpPr/>
          <p:nvPr/>
        </p:nvSpPr>
        <p:spPr>
          <a:xfrm>
            <a:off x="3210480" y="1495440"/>
            <a:ext cx="3213360" cy="3080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《 〈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清明上河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〉 》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的故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《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解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〈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清明上河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〉 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《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谜一样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〈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清明上河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〉 》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3"/>
          <p:cNvSpPr/>
          <p:nvPr/>
        </p:nvSpPr>
        <p:spPr>
          <a:xfrm>
            <a:off x="1146240" y="284040"/>
            <a:ext cx="145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作业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文本框 2"/>
          <p:cNvSpPr/>
          <p:nvPr/>
        </p:nvSpPr>
        <p:spPr>
          <a:xfrm>
            <a:off x="1155240" y="19080"/>
            <a:ext cx="27468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推荐书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中外绘画名作八十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矩形 3"/>
          <p:cNvSpPr/>
          <p:nvPr/>
        </p:nvSpPr>
        <p:spPr>
          <a:xfrm>
            <a:off x="243000" y="1844640"/>
            <a:ext cx="45720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1111"/>
                </a:solidFill>
                <a:latin typeface="Arial"/>
              </a:rPr>
              <a:t>本书选取中外绘画名作８０幅，由国内著名美术评论家加以讲解、评析。所选画作包括各个民族、各个时代、各个流派的传世经典。精彩纷呈，风格卓异。配以深入浅出的鉴赏文字和丰厚翔实的背景资料，娓娓道来，引领你体验艺术之流的微妙律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bbbb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矩形 4"/>
          <p:cNvSpPr/>
          <p:nvPr/>
        </p:nvSpPr>
        <p:spPr>
          <a:xfrm>
            <a:off x="5076720" y="404640"/>
            <a:ext cx="3797280" cy="5277600"/>
          </a:xfrm>
          <a:prstGeom prst="rect">
            <a:avLst/>
          </a:prstGeom>
          <a:solidFill>
            <a:srgbClr val="f0f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目录  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· · · · · 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说话的袍子</a:t>
            </a:r>
            <a:br>
              <a:rPr sz="2000"/>
            </a:b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胸有成竹郑板桥</a:t>
            </a:r>
            <a:br>
              <a:rPr sz="2000"/>
            </a:b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春云浮空，流水行地</a:t>
            </a:r>
            <a:br>
              <a:rPr sz="2000"/>
            </a:b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高贵的单纯，静穆的伟大</a:t>
            </a:r>
            <a:br>
              <a:rPr sz="2000"/>
            </a:b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德国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丢勒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四使徒</a:t>
            </a:r>
            <a:br>
              <a:rPr sz="2000"/>
            </a:b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艺术故宫</a:t>
            </a:r>
            <a:br>
              <a:rPr sz="2000"/>
            </a:b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油画的跨越</a:t>
            </a: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世纪外国绘画</a:t>
            </a:r>
            <a:br>
              <a:rPr sz="2000"/>
            </a:b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马蒂斯和野兽派</a:t>
            </a:r>
            <a:br>
              <a:rPr sz="2000"/>
            </a:b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西方现代绘画欣赏</a:t>
            </a:r>
            <a:br>
              <a:rPr sz="2000"/>
            </a:b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独具风格的中国油画</a:t>
            </a:r>
            <a:br>
              <a:rPr sz="2000"/>
            </a:b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东方艺术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――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隋唐美术</a:t>
            </a:r>
            <a:br>
              <a:rPr sz="2000"/>
            </a:b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关于主题性绘画的对话</a:t>
            </a:r>
            <a:br>
              <a:rPr sz="2000"/>
            </a:b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消费社会清澈回音（张晓凌）</a:t>
            </a:r>
            <a:br>
              <a:rPr sz="2000"/>
            </a:b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中华民族优秀的文化结晶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―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国画</a:t>
            </a:r>
            <a:br>
              <a:rPr sz="2000"/>
            </a:b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“自娱”与“遣怀”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――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闺阁画家与妓女画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图片 1" descr=""/>
          <p:cNvPicPr/>
          <p:nvPr/>
        </p:nvPicPr>
        <p:blipFill>
          <a:blip r:embed="rId1"/>
          <a:stretch/>
        </p:blipFill>
        <p:spPr>
          <a:xfrm>
            <a:off x="31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1" name="文本框 43013"/>
          <p:cNvSpPr/>
          <p:nvPr/>
        </p:nvSpPr>
        <p:spPr>
          <a:xfrm>
            <a:off x="558720" y="549360"/>
            <a:ext cx="335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777777"/>
                </a:solidFill>
                <a:latin typeface="迷你简习字"/>
                <a:ea typeface="Arial"/>
              </a:rPr>
              <a:t>谢谢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矩形 1"/>
          <p:cNvSpPr/>
          <p:nvPr/>
        </p:nvSpPr>
        <p:spPr>
          <a:xfrm>
            <a:off x="1619280" y="2060640"/>
            <a:ext cx="626436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梦回繁华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图片 4100" descr="虹桥45 拷贝"/>
          <p:cNvPicPr/>
          <p:nvPr/>
        </p:nvPicPr>
        <p:blipFill>
          <a:blip r:embed="rId2"/>
          <a:stretch/>
        </p:blipFill>
        <p:spPr>
          <a:xfrm>
            <a:off x="0" y="3500280"/>
            <a:ext cx="9036000" cy="3486240"/>
          </a:xfrm>
          <a:prstGeom prst="rect">
            <a:avLst/>
          </a:prstGeom>
          <a:ln w="0">
            <a:noFill/>
          </a:ln>
        </p:spPr>
      </p:pic>
      <p:sp>
        <p:nvSpPr>
          <p:cNvPr id="569" name="矩形 1"/>
          <p:cNvSpPr/>
          <p:nvPr/>
        </p:nvSpPr>
        <p:spPr>
          <a:xfrm>
            <a:off x="3170520" y="378936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汉仪菱心体简"/>
                <a:ea typeface="华文行楷"/>
              </a:rPr>
              <a:t>作者：毛宁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矩形 1"/>
          <p:cNvSpPr/>
          <p:nvPr/>
        </p:nvSpPr>
        <p:spPr>
          <a:xfrm>
            <a:off x="971640" y="1677960"/>
            <a:ext cx="6264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文本框 1"/>
          <p:cNvSpPr/>
          <p:nvPr/>
        </p:nvSpPr>
        <p:spPr>
          <a:xfrm>
            <a:off x="1979640" y="466560"/>
            <a:ext cx="579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学习本课要解决的问题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2" descr="E:\PPT\PPT中国风元素\水墨具体图案\古人.gif"/>
          <p:cNvPicPr/>
          <p:nvPr/>
        </p:nvPicPr>
        <p:blipFill>
          <a:blip r:embed="rId2"/>
          <a:stretch/>
        </p:blipFill>
        <p:spPr>
          <a:xfrm>
            <a:off x="971640" y="155520"/>
            <a:ext cx="600120" cy="1332000"/>
          </a:xfrm>
          <a:prstGeom prst="rect">
            <a:avLst/>
          </a:prstGeom>
          <a:ln w="0">
            <a:noFill/>
          </a:ln>
        </p:spPr>
      </p:pic>
      <p:sp>
        <p:nvSpPr>
          <p:cNvPr id="573" name="标题 1"/>
          <p:cNvSpPr/>
          <p:nvPr/>
        </p:nvSpPr>
        <p:spPr>
          <a:xfrm>
            <a:off x="163440" y="1752480"/>
            <a:ext cx="8982000" cy="955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汉仪菱心体简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汉仪菱心体简"/>
              </a:rPr>
              <a:t>本文是如何做到条理分明、细腻具体，又是如何挖掘出画面背后的社会历史内涵的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文本框 3"/>
          <p:cNvSpPr/>
          <p:nvPr/>
        </p:nvSpPr>
        <p:spPr>
          <a:xfrm>
            <a:off x="176040" y="3021120"/>
            <a:ext cx="8983800" cy="947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汉仪菱心体简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汉仪菱心体简"/>
              </a:rPr>
              <a:t>本文是自读课文，要学会通过写批注的方式完成自读，锻炼能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标题 4"/>
          <p:cNvSpPr/>
          <p:nvPr/>
        </p:nvSpPr>
        <p:spPr>
          <a:xfrm>
            <a:off x="15840" y="1571760"/>
            <a:ext cx="9144000" cy="3152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汉仪菱心体简"/>
              </a:rPr>
              <a:t>初级挑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汉仪菱心体简"/>
              </a:rPr>
              <a:t>浏览全篇内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副标题 5"/>
          <p:cNvSpPr/>
          <p:nvPr/>
        </p:nvSpPr>
        <p:spPr>
          <a:xfrm>
            <a:off x="2195640" y="3897360"/>
            <a:ext cx="914400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汉仪菱心体简"/>
              </a:rPr>
              <a:t>筛选归纳信息，理清脉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2" descr="E:\PPT\PPT中国风元素\水墨具体图案\古人.gif"/>
          <p:cNvPicPr/>
          <p:nvPr/>
        </p:nvPicPr>
        <p:blipFill>
          <a:blip r:embed="rId2"/>
          <a:stretch/>
        </p:blipFill>
        <p:spPr>
          <a:xfrm>
            <a:off x="601560" y="907920"/>
            <a:ext cx="1440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内容占位符 2"/>
          <p:cNvSpPr/>
          <p:nvPr/>
        </p:nvSpPr>
        <p:spPr>
          <a:xfrm>
            <a:off x="-71280" y="2182680"/>
            <a:ext cx="9286560" cy="4486320"/>
          </a:xfrm>
          <a:prstGeom prst="rect">
            <a:avLst/>
          </a:prstGeom>
          <a:solidFill>
            <a:srgbClr val="ffff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词或句子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北宋 城市 汴梁 商业手工业繁荣  文化生活活跃  绘画题材扩展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张择端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清明上河图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便是北宋风俗画作品中最具代表性的一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1"/>
          <p:cNvSpPr/>
          <p:nvPr/>
        </p:nvSpPr>
        <p:spPr>
          <a:xfrm>
            <a:off x="0" y="1211400"/>
            <a:ext cx="9144000" cy="5205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方法指导：找出各段中的关键词（语段或句群中的中心词）或句子。（注意不要语意重复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2"/>
          <p:cNvSpPr/>
          <p:nvPr/>
        </p:nvSpPr>
        <p:spPr>
          <a:xfrm>
            <a:off x="1582560" y="2182680"/>
            <a:ext cx="7632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说明内容：介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清明上河图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创作背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标题 1"/>
          <p:cNvSpPr/>
          <p:nvPr/>
        </p:nvSpPr>
        <p:spPr>
          <a:xfrm>
            <a:off x="3000240" y="142920"/>
            <a:ext cx="5072040" cy="69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菱心体简"/>
              </a:rPr>
              <a:t>筛选归纳信息，理清脉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标题 1"/>
          <p:cNvSpPr/>
          <p:nvPr/>
        </p:nvSpPr>
        <p:spPr>
          <a:xfrm>
            <a:off x="3143160" y="142920"/>
            <a:ext cx="3240000" cy="69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菱心体简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汉仪菱心体简"/>
              </a:rPr>
              <a:t>梳理文章脉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内容占位符 2"/>
          <p:cNvSpPr/>
          <p:nvPr/>
        </p:nvSpPr>
        <p:spPr>
          <a:xfrm>
            <a:off x="133200" y="1571760"/>
            <a:ext cx="9010800" cy="3843360"/>
          </a:xfrm>
          <a:prstGeom prst="rect">
            <a:avLst/>
          </a:prstGeom>
          <a:solidFill>
            <a:srgbClr val="ffff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张择端  造假象，掩盖内忧外患  回首故土  梦回繁华的写照     特殊意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4"/>
          <p:cNvSpPr/>
          <p:nvPr/>
        </p:nvSpPr>
        <p:spPr>
          <a:xfrm>
            <a:off x="1787400" y="1571760"/>
            <a:ext cx="7356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说明内容：介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清明上河图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作者生平和创作原因（动机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标题 1"/>
          <p:cNvSpPr/>
          <p:nvPr/>
        </p:nvSpPr>
        <p:spPr>
          <a:xfrm>
            <a:off x="3000240" y="142920"/>
            <a:ext cx="5072040" cy="69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菱心体简"/>
              </a:rPr>
              <a:t>筛选归纳信息，理清脉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内容占位符 2"/>
          <p:cNvSpPr/>
          <p:nvPr/>
        </p:nvSpPr>
        <p:spPr>
          <a:xfrm>
            <a:off x="-115920" y="1571760"/>
            <a:ext cx="9286920" cy="4952880"/>
          </a:xfrm>
          <a:prstGeom prst="rect">
            <a:avLst/>
          </a:prstGeom>
          <a:solidFill>
            <a:srgbClr val="ffff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绢本  设色  纵  横 描绘汴梁景象 整个长卷如乐章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画卷材质，色调，纵横，内容，整体感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4"/>
          <p:cNvSpPr/>
          <p:nvPr/>
        </p:nvSpPr>
        <p:spPr>
          <a:xfrm>
            <a:off x="1787400" y="1571760"/>
            <a:ext cx="7032600" cy="52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矩形 1"/>
          <p:cNvSpPr/>
          <p:nvPr/>
        </p:nvSpPr>
        <p:spPr>
          <a:xfrm>
            <a:off x="3130200" y="1571760"/>
            <a:ext cx="457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说明内容：介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明上河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整体外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标题 1"/>
          <p:cNvSpPr/>
          <p:nvPr/>
        </p:nvSpPr>
        <p:spPr>
          <a:xfrm>
            <a:off x="3000240" y="142920"/>
            <a:ext cx="5072040" cy="69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菱心体简"/>
              </a:rPr>
              <a:t>筛选归纳信息，理清脉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内容占位符 2"/>
          <p:cNvSpPr/>
          <p:nvPr/>
        </p:nvSpPr>
        <p:spPr>
          <a:xfrm>
            <a:off x="-115920" y="1571760"/>
            <a:ext cx="9286920" cy="4952880"/>
          </a:xfrm>
          <a:prstGeom prst="rect">
            <a:avLst/>
          </a:prstGeom>
          <a:solidFill>
            <a:srgbClr val="ffff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开卷处 汴京近郊 中段 汴河两岸  后段  市区街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三层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明上河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具体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4"/>
          <p:cNvSpPr/>
          <p:nvPr/>
        </p:nvSpPr>
        <p:spPr>
          <a:xfrm>
            <a:off x="1500120" y="1643040"/>
            <a:ext cx="76438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说明内容： 具体介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清明上河图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画面内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标题 1"/>
          <p:cNvSpPr/>
          <p:nvPr/>
        </p:nvSpPr>
        <p:spPr>
          <a:xfrm>
            <a:off x="2571840" y="142920"/>
            <a:ext cx="5072040" cy="69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菱心体简"/>
              </a:rPr>
              <a:t>筛选归纳信息，理清脉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1T04:44:23Z</dcterms:created>
  <dc:creator>Administrator</dc:creator>
  <dc:description/>
  <cp:keywords/>
  <dc:language>en-US</dc:language>
  <cp:lastModifiedBy>微软用户</cp:lastModifiedBy>
  <dcterms:modified xsi:type="dcterms:W3CDTF">2019-01-29T06:57:43Z</dcterms:modified>
  <cp:revision>1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89</vt:lpwstr>
  </property>
</Properties>
</file>