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35.jpeg" ContentType="image/jpeg"/>
  <Override PartName="/ppt/media/image28.png" ContentType="image/png"/>
  <Override PartName="/ppt/media/image7.jpeg" ContentType="image/jpeg"/>
  <Override PartName="/ppt/media/image20.png" ContentType="image/png"/>
  <Override PartName="/ppt/media/image27.jpeg" ContentType="image/jpeg"/>
  <Override PartName="/ppt/media/image18.png" ContentType="image/png"/>
  <Override PartName="/ppt/media/image6.jpeg" ContentType="image/jpeg"/>
  <Override PartName="/ppt/media/image33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comments/comment35.xml" ContentType="application/vnd.openxmlformats-officedocument.presentationml.comments+xml"/>
  <Override PartName="/ppt/comments/comment4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presProps" Target="presProps.xml"/><Relationship Id="rId72" Type="http://schemas.openxmlformats.org/officeDocument/2006/relationships/commentAuthors" Target="commentAuthors.xml"/>
</Relationships>
</file>

<file path=ppt/comments/comment35.xml><?xml version="1.0" encoding="utf-8"?>
<p:cmLst xmlns:p="http://schemas.openxmlformats.org/presentationml/2006/main">
  <p:cm authorId="0" dt="2011-02-22T20:26:33.776000000" idx="1">
    <p:pos x="10" y="10"/>
    <p:text/>
  </p:cm>
</p:cmLst>
</file>

<file path=ppt/comments/comment41.xml><?xml version="1.0" encoding="utf-8"?>
<p:cmLst xmlns:p="http://schemas.openxmlformats.org/presentationml/2006/main">
  <p:cm authorId="0" dt="2011-02-22T20:26:37.146000000" idx="2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B850-3642-4782-A0F0-0C5727B3A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7898-280D-415A-95F5-60581D065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鼠标点击生字，依次出现该字的拼音和组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86EF-CD49-4D20-8D4B-D9684C3E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ABE1-EB53-4129-A4EE-24DE9962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5B9D0-8902-408B-9409-7ACA95DE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FB8DF-D33A-47D7-BD57-510E675C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949A2-F7D3-4D67-B253-6069ED28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835EF-0405-4454-BAEF-D84F8283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4FED1-6EE2-4675-9E99-730ABB5D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C7F4D-AECF-44E3-8218-68916A33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7595D-8868-4F98-B487-5C634C46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92C75-6AFE-4903-9BCA-BCF28211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1D5E3-1A2A-4B8F-AE12-4B9C1F34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685EB-65DE-4B14-BB96-35856472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90ED-52AD-4F36-AEA8-3E9A9A880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80949-DC2E-4A7A-9C11-C66601F3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5FEB8-2641-4A0B-9C5A-835183A4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AF187-4C4E-46D5-8505-F790BD2B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94EAD-00FB-4C48-A48D-DCF7357E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13B48-A258-455D-BACC-03AC035A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0BA57-0DCE-4B14-92F1-CDE3B04B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D615F-4177-4362-AA95-ABCEAACC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8AB73-4A20-4DB9-83E0-A3BA5BEB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9223D-8F40-4CAA-9DE7-2E630CDF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7DDE4-C244-4C7D-83C1-A8F9C3C9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CACD-594A-4A04-8E3A-2EF58A4F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86F51-5C3B-406A-9EB1-64C0AD26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BF6B1-29DB-4DD8-8881-4417F138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1DF53-D2F1-4620-A6FA-0A1BAC61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3E734-25C6-492C-A8D1-695E49EB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C9777-CFB8-4006-9040-EB86FDF0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06E98-41EC-4A06-B72A-5ACC3DA4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B0B90-7DEF-421F-9FD6-941FC0D9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2E507-1947-4FB2-9050-313C2B38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D7938-2F30-4394-A3D0-18616ABA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6B21F-C616-449F-A486-8BAB6FD7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2C00-0259-4FBA-B55D-4EFC6A85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1EC9D-8FB8-44B6-80AF-4C0A961D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DD257-9732-4717-B42A-A95DE23F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0AEF0-4D54-47B1-BB45-E147B331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24464-6B1E-4894-9759-729C18DF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C68AC-0A8F-45EF-8383-8616FE5B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AED97-1BC1-46CC-8F1A-2171E44A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BAA10-70A3-47A6-B468-D5E74786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D3CDC-786A-4FC0-B93A-2993C432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66C69-ADB8-4FCB-BAC8-3E7C195A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644E0-388A-44B1-A0F1-FC42B118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A261-6C34-4F83-9A1B-70AEAB73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41F46F-FA08-4B24-8970-C5388865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F84A70-F905-43AA-A39E-144CBB77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75AC3-8D22-4E81-89C2-AC55FD1D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03F4C-17B6-4F2E-8EBF-0029B58D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97F03-D9DA-4F1B-AE45-3C811712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E2F003-C2A7-456E-8AFD-D3EB72B2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3F7B03-1EB8-4370-800D-024CBDBB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941DB3-E5A8-43BD-BA9A-AB19B0AA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4439BF-B782-42F7-B770-EBE1A09E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C32F61-4997-4AE6-B4A0-1132B61B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BBE0-F58B-4F3A-B9C8-6AB60D81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AFD91F-4D27-471E-930B-2ADE841E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8012AE-28D4-45B7-B82A-298E5493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553715-F026-4C50-8225-A274DAF5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0455A-978C-4086-BBCB-E19768D7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18E147-0A6E-4E96-B2A1-0B170D46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87771B-358F-4FDF-AA1F-24E0A574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677199-4DD3-4E78-933F-03CF506F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4A28-E128-4B7A-A95F-6C03555C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1D3E-29F7-4ED3-A4BD-B6DE7107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2910-DB7B-41F4-B462-4B87C943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740B-0239-48CF-A170-F8CE145E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0A6A-FBD2-489D-B79A-B0F545FE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EFF7-0AF7-41FF-8730-31AAFD6B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816D-FD05-48C6-A42D-5503680D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515F-C5FB-45F9-B2A2-BAB64ABD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95E0-7CBE-4927-80E8-65E33647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2D2B-F535-4540-AEEF-86F764A0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9E37E-623C-41BE-96F2-3AF0E395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F0E19-6819-40E4-8E26-BC28F7E4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A1549-1B63-4549-951F-F26C7424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A9CDD-B86F-473E-B9BA-290DF9D5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E4669-8CD3-4635-90B9-EE27775F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37B0-3F15-43EA-BB99-EAC29C37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C00A9-AFDD-4F73-992B-D1C0A512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A8F62-4FCE-49D3-B0A8-B9166D56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DC93B-AE4F-4C0C-B28D-36F8EE8A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52631-7FA1-465B-87DA-E66D62A7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3F63E-174B-4F74-A4E3-EBC74166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A429C-E362-418B-B835-0AAB2FC8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20939-4333-4766-B19C-D20B548D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F0B5D-A37F-4123-B16E-323AD109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01D6C-A2E4-4BD9-9B1B-DAD04775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3CB01-D440-4293-BC6F-872942AA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273F-20E2-47CC-B776-D4EBEC21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69671-A67E-4C85-8C0B-5A7A53F0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33C50-285C-463F-A9EB-AB04ADF3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D64C6-F488-4636-8AF6-3F11FCF1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D1A86-2948-4DA9-A6C4-9397201C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4E44F-478A-46C4-943C-F0EF70AF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34940-6744-410A-A27B-1E57FF5E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EF13E-BF73-46AC-9ADB-D1840F3B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022F6-0159-4710-94CA-02888C7E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CA725-97EC-4652-973F-347AF03B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14902-3E23-4D90-ADA8-A4C0B00A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F12C-3241-4FBC-AEB5-0597BB20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F252B-8421-4552-A6A8-2A455E0C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894D4-FE02-42D2-AE75-E10D135C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40DFE-9025-425A-BFD0-4233504C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AD3AB-EBAE-48E1-9972-2050A100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F36B5-FBDF-4E0C-89D9-3DA14C37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05713-511E-4707-A7F0-0447AD24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E12BB-8835-442A-BD2D-AF106086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B1F64-C87F-4F2D-ADC9-E3525D21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6D2EF-927D-491E-A3B3-05467DBB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93BCB-8A2C-4C70-A25E-E575DC7A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F1E1-C7D5-4906-B960-BA46FDBD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55F75-0D98-4FC6-B81B-CB89FDCD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1350A-DBBA-4EA4-A858-27A9269D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487C5-576E-47C0-BC1C-7CA2DAA5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72422-B9AC-4A9F-852D-D0F35FB5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A0CF8-7E2C-497F-9E37-2FB10F9E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8BB71-0FED-42A6-88BA-9918144C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DDE06-9570-4AA7-89FC-AF5DF98A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27753-289F-42D9-B96A-7464B816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D20A0-A0DD-4DB5-993F-8AAB8898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39677-0D52-40F4-A413-8FA5A8A5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9D20-DAE0-49AE-85DE-1C304B64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7CAF3-57FB-4205-A29E-528CF9B9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F6FD6-25A3-4BA8-BA38-EE3E3E3A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813C1-2F8D-44C8-AB55-2BFDAE09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346F4-8B5F-4B4C-9ACB-3D1523C2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58238-7476-487F-9276-F937DBA7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A5514-DC18-42A1-953A-ADC6574D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D7802-9A28-4311-BBC8-86690DAC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707B3-C99D-433C-AACE-6E92A62F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CE0EE-D0A8-4DFC-A323-9049F9EB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FA6C9-DB40-4612-B1A0-279DE391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3F83-408A-45DC-98C6-46D01B7E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55943-9803-4712-9D67-AB0BC79A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CA6B3-476B-425D-8A7C-55FBC219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71070-5C2A-49D4-B282-378A00B3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8B604-3416-43F9-80D5-07B43104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4AD47-2E53-4F90-83DD-6B119A26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FF399-C58A-4571-A763-63313DC1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F172B-ADF1-4A67-A285-AD17DB58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9B3BA-6BF4-4228-A0CD-90F72B56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4636D-3683-4201-88CC-042A4A7B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C8D44-5FFD-4926-92D7-D5CCCD76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3FDE-DE06-4C2F-B830-2193520E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4F023-8D46-4298-B279-F1B98223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4C057-3161-4564-B08E-980D31A4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C06B3-7D1B-49CA-880B-83940462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8E9AD-0AD4-433F-BD2B-E60AA65B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BB525-643B-4C68-9A60-9C11899A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56676-903D-4528-A45F-0654D54C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7F662-5FA1-48F1-824E-CB282286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E9B26-F4B6-4DAD-A13C-46F48044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8329D-64CF-4FF0-8974-6403F743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C9FE7-8A7D-4ECB-A2E5-0D2ABE5F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C19E-511C-46E0-BDC6-067EBD548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官方logo"/>
          <p:cNvPicPr/>
          <p:nvPr/>
        </p:nvPicPr>
        <p:blipFill>
          <a:blip r:embed="rId3"/>
          <a:stretch/>
        </p:blipFill>
        <p:spPr>
          <a:xfrm>
            <a:off x="0" y="6153120"/>
            <a:ext cx="146700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A74C-7664-4649-AE30-3BF08BBCD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EB2A-839B-4E21-8731-68B150FF6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7775-1845-448C-B05A-E50D86161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46DD-93E2-4D00-ACBF-BE533E96F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6CC1-B90F-4EEC-9B76-5AF240DFF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884C-8D9E-4A3A-89F3-32B5E2BC1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9A46-98C6-463E-A37F-3D7A477EA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2189-66FF-40E7-A061-697F05556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7114-63C6-42C3-A8AC-0EA5EC2C3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962E-1547-4523-8479-E796A7E97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3648-A3D8-452D-9F80-745488E3A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E6C7-119C-4D0D-A62D-F98A73DD7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comments" Target="../comments/comment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comments" Target="../comments/comment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igyuwen.com/ziyuanxiazai/dianzishu/shijiewenxue/20070202/332840.html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pl.xzcn.com/book/item/34070/crossin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zzmmttm.vip.sina.com/dashihuiben2.htm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zbama.com/bookReview/book/383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dushu.com/book/11050183/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858000" cy="17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同学们平常你们觉得写作文最难的是什么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4"/>
          <p:cNvSpPr/>
          <p:nvPr/>
        </p:nvSpPr>
        <p:spPr>
          <a:xfrm>
            <a:off x="533520" y="288756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你们觉得难，并不奇怪，因为法国著名作家莫泊桑在年轻时对写作跟你们有着同样的感受，于是他就去请教福楼拜，在福楼拜的指导下，他终于成了法国著名的作家。今天，我们也跟着莫泊桑一起去拜师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15ba1ac04c553d6bb219a8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5" descr="1103747"/>
          <p:cNvPicPr/>
          <p:nvPr/>
        </p:nvPicPr>
        <p:blipFill>
          <a:blip r:embed="rId2"/>
          <a:stretch/>
        </p:blipFill>
        <p:spPr>
          <a:xfrm>
            <a:off x="684360" y="0"/>
            <a:ext cx="3333600" cy="47433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6" descr="1939653"/>
          <p:cNvPicPr/>
          <p:nvPr/>
        </p:nvPicPr>
        <p:blipFill>
          <a:blip r:embed="rId3"/>
          <a:stretch/>
        </p:blipFill>
        <p:spPr>
          <a:xfrm>
            <a:off x="4140360" y="260280"/>
            <a:ext cx="4608360" cy="4608720"/>
          </a:xfrm>
          <a:prstGeom prst="rect">
            <a:avLst/>
          </a:prstGeom>
          <a:ln w="0">
            <a:noFill/>
          </a:ln>
        </p:spPr>
      </p:pic>
      <p:sp>
        <p:nvSpPr>
          <p:cNvPr id="580" name="WordArt 7"/>
          <p:cNvSpPr txBox="1"/>
          <p:nvPr/>
        </p:nvSpPr>
        <p:spPr>
          <a:xfrm>
            <a:off x="539640" y="5445000"/>
            <a:ext cx="3672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ffff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包法利夫人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581" name="WordArt 8"/>
          <p:cNvGrpSpPr/>
          <p:nvPr/>
        </p:nvGrpSpPr>
        <p:grpSpPr>
          <a:xfrm>
            <a:off x="4932360" y="5230800"/>
            <a:ext cx="2882880" cy="932040"/>
            <a:chOff x="4932360" y="5230800"/>
            <a:chExt cx="2882880" cy="932040"/>
          </a:xfrm>
        </p:grpSpPr>
        <p:pic>
          <p:nvPicPr>
            <p:cNvPr id="582" name="WordArt 8" descr=""/>
            <p:cNvPicPr/>
            <p:nvPr/>
          </p:nvPicPr>
          <p:blipFill>
            <a:blip r:embed="rId6"/>
            <a:stretch/>
          </p:blipFill>
          <p:spPr>
            <a:xfrm>
              <a:off x="4932360" y="5231880"/>
              <a:ext cx="2882880" cy="9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4932360" y="5230800"/>
              <a:ext cx="287964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情感教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4"/>
          <p:cNvSpPr/>
          <p:nvPr/>
        </p:nvSpPr>
        <p:spPr>
          <a:xfrm>
            <a:off x="12193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26668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40384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56386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71629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揣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9"/>
          <p:cNvSpPr/>
          <p:nvPr/>
        </p:nvSpPr>
        <p:spPr>
          <a:xfrm>
            <a:off x="11430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简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0"/>
          <p:cNvSpPr/>
          <p:nvPr/>
        </p:nvSpPr>
        <p:spPr>
          <a:xfrm>
            <a:off x="25909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吆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1"/>
          <p:cNvSpPr/>
          <p:nvPr/>
        </p:nvSpPr>
        <p:spPr>
          <a:xfrm>
            <a:off x="39625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烙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2"/>
          <p:cNvSpPr/>
          <p:nvPr/>
        </p:nvSpPr>
        <p:spPr>
          <a:xfrm>
            <a:off x="5105520" y="44197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孜孜不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71629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揣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1219320" y="22096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lò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266688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y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6"/>
          <p:cNvSpPr/>
          <p:nvPr/>
        </p:nvSpPr>
        <p:spPr>
          <a:xfrm>
            <a:off x="39625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là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7"/>
          <p:cNvSpPr/>
          <p:nvPr/>
        </p:nvSpPr>
        <p:spPr>
          <a:xfrm>
            <a:off x="55627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z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8"/>
          <p:cNvSpPr/>
          <p:nvPr/>
        </p:nvSpPr>
        <p:spPr>
          <a:xfrm>
            <a:off x="69343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chuǎ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9"/>
          <p:cNvSpPr/>
          <p:nvPr/>
        </p:nvSpPr>
        <p:spPr>
          <a:xfrm>
            <a:off x="1143000" y="30481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20"/>
          <p:cNvSpPr/>
          <p:nvPr/>
        </p:nvSpPr>
        <p:spPr>
          <a:xfrm>
            <a:off x="1143000" y="21337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21"/>
          <p:cNvSpPr/>
          <p:nvPr/>
        </p:nvSpPr>
        <p:spPr>
          <a:xfrm>
            <a:off x="1066680" y="42670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2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生字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23" descr="复件 思考"/>
          <p:cNvPicPr/>
          <p:nvPr/>
        </p:nvPicPr>
        <p:blipFill>
          <a:blip r:embed="rId1"/>
          <a:stretch/>
        </p:blipFill>
        <p:spPr>
          <a:xfrm>
            <a:off x="1295280" y="990720"/>
            <a:ext cx="965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228600" y="1219320"/>
            <a:ext cx="8534520" cy="3822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孜孜不倦   焦急万分  直截了当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万般无奈   富丽堂皇  滔滔不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全神贯注   烈日炎炎  狂风暴雨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烙印     揣摩   简陋    吆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3" descr="dongtian2_0109"/>
          <p:cNvPicPr/>
          <p:nvPr/>
        </p:nvPicPr>
        <p:blipFill>
          <a:blip r:embed="rId1"/>
          <a:stretch/>
        </p:blipFill>
        <p:spPr>
          <a:xfrm>
            <a:off x="7391520" y="5334120"/>
            <a:ext cx="1447560" cy="1249200"/>
          </a:xfrm>
          <a:prstGeom prst="rect">
            <a:avLst/>
          </a:prstGeom>
          <a:ln w="0">
            <a:noFill/>
          </a:ln>
        </p:spPr>
      </p:pic>
      <p:sp>
        <p:nvSpPr>
          <p:cNvPr id="606" name="文本框 1"/>
          <p:cNvSpPr/>
          <p:nvPr/>
        </p:nvSpPr>
        <p:spPr>
          <a:xfrm>
            <a:off x="6553080" y="7174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j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文本框 3"/>
          <p:cNvSpPr/>
          <p:nvPr/>
        </p:nvSpPr>
        <p:spPr>
          <a:xfrm>
            <a:off x="6972480" y="7254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380880" y="304920"/>
            <a:ext cx="8763120" cy="5121360"/>
            <a:chOff x="380880" y="304920"/>
            <a:chExt cx="8763120" cy="5121360"/>
          </a:xfrm>
        </p:grpSpPr>
        <p:sp>
          <p:nvSpPr>
            <p:cNvPr id="609" name="Text Box 3"/>
            <p:cNvSpPr/>
            <p:nvPr/>
          </p:nvSpPr>
          <p:spPr>
            <a:xfrm>
              <a:off x="380880" y="304920"/>
              <a:ext cx="8763120" cy="512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9999"/>
                  </a:solidFill>
                  <a:latin typeface="Arial"/>
                </a:rPr>
                <a:t>酷爱    单调     简陋    吆喝    孜孜不倦    焦急万分    直截了当  烙印    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9999"/>
                  </a:solidFill>
                  <a:latin typeface="Arial"/>
                </a:rPr>
                <a:t>咖啡    本质     揣摩    富丽堂皇    滔滔不绝    全神贯注   万般无奈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 Box 4"/>
            <p:cNvSpPr/>
            <p:nvPr/>
          </p:nvSpPr>
          <p:spPr>
            <a:xfrm>
              <a:off x="609480" y="11430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ā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5"/>
            <p:cNvSpPr/>
            <p:nvPr/>
          </p:nvSpPr>
          <p:spPr>
            <a:xfrm>
              <a:off x="1447920" y="1143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2"/>
          <p:cNvSpPr/>
          <p:nvPr/>
        </p:nvSpPr>
        <p:spPr>
          <a:xfrm>
            <a:off x="228600" y="13716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第一段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  <a:ea typeface="黑体"/>
              </a:rPr>
              <a:t>(1):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写       为了使     具有特色，拜       为师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380880" y="28195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第二段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  <a:ea typeface="黑体"/>
              </a:rPr>
              <a:t>(2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～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  <a:ea typeface="黑体"/>
              </a:rPr>
              <a:t>9):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写莫泊桑向        请教，       悉心指导，莫泊桑铭记在心，勤于观察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152280" y="4800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第三段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  <a:ea typeface="黑体"/>
              </a:rPr>
              <a:t>(10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228600" y="304920"/>
            <a:ext cx="76201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同学们通读课文，给课文分段并概括大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6" descr="dongtian2_0109"/>
          <p:cNvPicPr/>
          <p:nvPr/>
        </p:nvPicPr>
        <p:blipFill>
          <a:blip r:embed="rId1"/>
          <a:stretch/>
        </p:blipFill>
        <p:spPr>
          <a:xfrm>
            <a:off x="7391520" y="5334120"/>
            <a:ext cx="1447560" cy="1249200"/>
          </a:xfrm>
          <a:prstGeom prst="rect">
            <a:avLst/>
          </a:prstGeom>
          <a:ln w="0">
            <a:noFill/>
          </a:ln>
        </p:spPr>
      </p:pic>
      <p:sp>
        <p:nvSpPr>
          <p:cNvPr id="617" name="文本框 1"/>
          <p:cNvSpPr/>
          <p:nvPr/>
        </p:nvSpPr>
        <p:spPr>
          <a:xfrm>
            <a:off x="3200400" y="139716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莫泊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文本框 2"/>
          <p:cNvSpPr/>
          <p:nvPr/>
        </p:nvSpPr>
        <p:spPr>
          <a:xfrm>
            <a:off x="6172200" y="139716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作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文本框 3"/>
          <p:cNvSpPr/>
          <p:nvPr/>
        </p:nvSpPr>
        <p:spPr>
          <a:xfrm>
            <a:off x="2708280" y="196200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福楼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文本框 4"/>
          <p:cNvSpPr/>
          <p:nvPr/>
        </p:nvSpPr>
        <p:spPr>
          <a:xfrm>
            <a:off x="2714760" y="4846680"/>
            <a:ext cx="56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写莫泊桑经过努力，终于写出         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5"/>
          <p:cNvSpPr/>
          <p:nvPr/>
        </p:nvSpPr>
        <p:spPr>
          <a:xfrm>
            <a:off x="5829480" y="287496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福楼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6"/>
          <p:cNvSpPr/>
          <p:nvPr/>
        </p:nvSpPr>
        <p:spPr>
          <a:xfrm>
            <a:off x="1405080" y="3357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福楼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文本框 7"/>
          <p:cNvSpPr/>
          <p:nvPr/>
        </p:nvSpPr>
        <p:spPr>
          <a:xfrm>
            <a:off x="3768840" y="5438880"/>
            <a:ext cx="43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了许多有影响的名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文本框 7"/>
          <p:cNvSpPr/>
          <p:nvPr/>
        </p:nvSpPr>
        <p:spPr>
          <a:xfrm>
            <a:off x="2854440" y="6086520"/>
            <a:ext cx="34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莫泊桑拜师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文本框 8"/>
          <p:cNvSpPr/>
          <p:nvPr/>
        </p:nvSpPr>
        <p:spPr>
          <a:xfrm>
            <a:off x="6324480" y="2608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9"/>
          <p:cNvSpPr/>
          <p:nvPr/>
        </p:nvSpPr>
        <p:spPr>
          <a:xfrm>
            <a:off x="5548320" y="20239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莫泊桑拜师的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10"/>
          <p:cNvSpPr/>
          <p:nvPr/>
        </p:nvSpPr>
        <p:spPr>
          <a:xfrm>
            <a:off x="3701880" y="3978360"/>
            <a:ext cx="39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莫泊桑拜师的经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4"/>
          <p:cNvSpPr/>
          <p:nvPr/>
        </p:nvSpPr>
        <p:spPr>
          <a:xfrm>
            <a:off x="914400" y="15238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听课文朗读后，说说从哪些词语可以看出莫泊桑从小就热爱写作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1523880" y="335268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他年轻时酷爱写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7"/>
          <p:cNvSpPr/>
          <p:nvPr/>
        </p:nvSpPr>
        <p:spPr>
          <a:xfrm>
            <a:off x="3886200" y="4038480"/>
            <a:ext cx="15228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8"/>
          <p:cNvSpPr/>
          <p:nvPr/>
        </p:nvSpPr>
        <p:spPr>
          <a:xfrm>
            <a:off x="4267080" y="4038480"/>
            <a:ext cx="15264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3"/>
          <p:cNvSpPr/>
          <p:nvPr/>
        </p:nvSpPr>
        <p:spPr>
          <a:xfrm>
            <a:off x="1676520" y="46483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说说你对带点词语的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8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1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4"/>
          <p:cNvSpPr/>
          <p:nvPr/>
        </p:nvSpPr>
        <p:spPr>
          <a:xfrm>
            <a:off x="952560" y="838080"/>
            <a:ext cx="7162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自由读第一段并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莫泊桑为什么要拜师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838080" y="26668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他年轻时酷爱写作，可作品都平平常常。莫泊桑很着急，于是，他去请福楼拜指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3"/>
          <p:cNvSpPr/>
          <p:nvPr/>
        </p:nvSpPr>
        <p:spPr>
          <a:xfrm>
            <a:off x="457200" y="44197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宋体"/>
              </a:rPr>
              <a:t>     </a:t>
            </a:r>
            <a:r>
              <a:rPr b="0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莫泊桑面对自己的作品平平常常，没有什么特色，他的心情怎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文本框 4"/>
          <p:cNvSpPr/>
          <p:nvPr/>
        </p:nvSpPr>
        <p:spPr>
          <a:xfrm>
            <a:off x="6210360" y="572616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焦急万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文本框 1"/>
          <p:cNvSpPr/>
          <p:nvPr/>
        </p:nvSpPr>
        <p:spPr>
          <a:xfrm>
            <a:off x="1371600" y="31240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节课我们收获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2"/>
          <p:cNvSpPr/>
          <p:nvPr/>
        </p:nvSpPr>
        <p:spPr>
          <a:xfrm>
            <a:off x="647640" y="13352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2"/>
          <p:cNvSpPr/>
          <p:nvPr/>
        </p:nvSpPr>
        <p:spPr>
          <a:xfrm>
            <a:off x="495360" y="15908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请同学们默读第</a:t>
            </a:r>
            <a:r>
              <a:rPr b="1" lang="en-US" sz="3600" spc="-1" strike="noStrike">
                <a:solidFill>
                  <a:srgbClr val="8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至</a:t>
            </a:r>
            <a:r>
              <a:rPr b="1" lang="en-US" sz="3600" spc="-1" strike="noStrike">
                <a:solidFill>
                  <a:srgbClr val="8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自然段，说说这一部分主要写什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1022400" y="3429000"/>
            <a:ext cx="6629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莫泊桑几次去福楼拜家中求教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用自己的话说说求教的经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685800" y="45720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1"/>
          <p:cNvSpPr/>
          <p:nvPr/>
        </p:nvSpPr>
        <p:spPr>
          <a:xfrm>
            <a:off x="990720" y="4572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"/>
          <p:cNvPicPr/>
          <p:nvPr/>
        </p:nvPicPr>
        <p:blipFill>
          <a:blip r:embed="rId1"/>
          <a:srcRect l="13457" t="48597" r="11423" b="7898"/>
          <a:stretch/>
        </p:blipFill>
        <p:spPr>
          <a:xfrm>
            <a:off x="1981080" y="2438280"/>
            <a:ext cx="5029200" cy="3411720"/>
          </a:xfrm>
          <a:prstGeom prst="rect">
            <a:avLst/>
          </a:prstGeom>
          <a:ln w="0">
            <a:noFill/>
          </a:ln>
        </p:spPr>
      </p:pic>
      <p:pic>
        <p:nvPicPr>
          <p:cNvPr id="544" name="WordArt 3" descr=""/>
          <p:cNvPicPr/>
          <p:nvPr/>
        </p:nvPicPr>
        <p:blipFill>
          <a:blip r:embed="rId2"/>
          <a:stretch/>
        </p:blipFill>
        <p:spPr>
          <a:xfrm>
            <a:off x="1695600" y="1133640"/>
            <a:ext cx="5321160" cy="80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矩形 1"/>
          <p:cNvSpPr/>
          <p:nvPr/>
        </p:nvSpPr>
        <p:spPr>
          <a:xfrm>
            <a:off x="838080" y="1600200"/>
            <a:ext cx="70866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同学们，今天我们继续来学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课，请大家齐读课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莫泊桑拜师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文本框 2"/>
          <p:cNvSpPr/>
          <p:nvPr/>
        </p:nvSpPr>
        <p:spPr>
          <a:xfrm>
            <a:off x="685800" y="4876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通过上节课的学习，我们知道莫泊桑是向谁拜师求教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矩形 1"/>
          <p:cNvSpPr/>
          <p:nvPr/>
        </p:nvSpPr>
        <p:spPr>
          <a:xfrm>
            <a:off x="609480" y="2590920"/>
            <a:ext cx="777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知道莫泊桑向福楼拜请教了三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重点学习莫泊桑向福楼拜请教的经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文本框 2"/>
          <p:cNvSpPr/>
          <p:nvPr/>
        </p:nvSpPr>
        <p:spPr>
          <a:xfrm>
            <a:off x="685800" y="14479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学习目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3"/>
          <p:cNvSpPr/>
          <p:nvPr/>
        </p:nvSpPr>
        <p:spPr>
          <a:xfrm>
            <a:off x="2971800" y="38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457200" y="1295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请同学们默读第</a:t>
            </a:r>
            <a:r>
              <a:rPr b="1" lang="en-US" sz="3600" spc="-1" strike="noStrike">
                <a:solidFill>
                  <a:srgbClr val="8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至</a:t>
            </a:r>
            <a:r>
              <a:rPr b="1" lang="en-US" sz="3600" spc="-1" strike="noStrike">
                <a:solidFill>
                  <a:srgbClr val="8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自然段，说说这一部分主要写什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1295280" y="28954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莫泊桑几次去福楼拜家中求教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685800" y="45720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 Box 5"/>
          <p:cNvSpPr/>
          <p:nvPr/>
        </p:nvSpPr>
        <p:spPr>
          <a:xfrm>
            <a:off x="457200" y="1295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请同学们默读第</a:t>
            </a:r>
            <a:r>
              <a:rPr b="1" lang="en-US" sz="3600" spc="-1" strike="noStrike">
                <a:solidFill>
                  <a:srgbClr val="8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至</a:t>
            </a:r>
            <a:r>
              <a:rPr b="1" lang="en-US" sz="3600" spc="-1" strike="noStrike">
                <a:solidFill>
                  <a:srgbClr val="8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自然段，说说这一部分主要写什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1295280" y="2895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写莫泊桑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三次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去福楼拜家中求教的情况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685800" y="45720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你认为莫泊桑的三次拜师中，哪次最精彩，选择你认为最精彩的一次，读一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一次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</a:t>
            </a:r>
            <a:r>
              <a:rPr b="1" lang="en-US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一天，莫泊桑带着自已写的文章，去请福楼拜指导。他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坦白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地说：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老师，我已经读了很多书，为什么写出来的文章总感到不生动呢？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个问题很简单，是你的功夫还不到家。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福楼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直截了当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地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那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怎样才能使功夫到家呢？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莫泊桑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急切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地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就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肯吃苦，勤练习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你家门前不是天天都有马车经过吗？你就站在门口，把每天看到的情况，都详详细细地记录下来，而且要长期记下去。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2"/>
          <p:cNvSpPr/>
          <p:nvPr/>
        </p:nvSpPr>
        <p:spPr>
          <a:xfrm>
            <a:off x="457200" y="228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怎样才能使工夫到家呢？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莫泊桑急切地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WordArt 3"/>
          <p:cNvSpPr txBox="1"/>
          <p:nvPr/>
        </p:nvSpPr>
        <p:spPr>
          <a:xfrm>
            <a:off x="609480" y="16002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思考：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609480" y="2362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从“急切”读出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5"/>
          <p:cNvSpPr/>
          <p:nvPr/>
        </p:nvSpPr>
        <p:spPr>
          <a:xfrm>
            <a:off x="457200" y="2080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                                                                   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急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6"/>
          <p:cNvSpPr/>
          <p:nvPr/>
        </p:nvSpPr>
        <p:spPr>
          <a:xfrm>
            <a:off x="762120" y="2971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从“急切”读出了莫泊桑急于寻求提高自己写作功力的有效途径，心情迫切，说明他好学上进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7"/>
          <p:cNvSpPr/>
          <p:nvPr/>
        </p:nvSpPr>
        <p:spPr>
          <a:xfrm>
            <a:off x="685800" y="38862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老师所说的功夫指的是什么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8"/>
          <p:cNvSpPr/>
          <p:nvPr/>
        </p:nvSpPr>
        <p:spPr>
          <a:xfrm>
            <a:off x="914400" y="4495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肯吃苦，勤练习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0"/>
          <p:cNvSpPr/>
          <p:nvPr/>
        </p:nvSpPr>
        <p:spPr>
          <a:xfrm>
            <a:off x="914400" y="56545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角色朗读把这一次拜师的情景展现出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6" dur="20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6" dur="10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1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2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3" descr="dongtian2_0109"/>
          <p:cNvPicPr/>
          <p:nvPr/>
        </p:nvPicPr>
        <p:blipFill>
          <a:blip r:embed="rId2"/>
          <a:stretch/>
        </p:blipFill>
        <p:spPr>
          <a:xfrm>
            <a:off x="7315200" y="5222880"/>
            <a:ext cx="1523880" cy="131616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4"/>
          <p:cNvSpPr/>
          <p:nvPr/>
        </p:nvSpPr>
        <p:spPr>
          <a:xfrm>
            <a:off x="609480" y="91440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回顾：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莫泊桑第一次拜师，福楼拜都说了些什么？所说的话中哪句话最关键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5"/>
          <p:cNvSpPr/>
          <p:nvPr/>
        </p:nvSpPr>
        <p:spPr>
          <a:xfrm>
            <a:off x="515880" y="2138400"/>
            <a:ext cx="861048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这个问题很简单，是你的功夫还不到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6"/>
          <p:cNvSpPr/>
          <p:nvPr/>
        </p:nvSpPr>
        <p:spPr>
          <a:xfrm>
            <a:off x="331920" y="383364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8"/>
          <p:cNvSpPr/>
          <p:nvPr/>
        </p:nvSpPr>
        <p:spPr>
          <a:xfrm>
            <a:off x="571680" y="300204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福楼拜是针对什么说这句话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9"/>
          <p:cNvSpPr/>
          <p:nvPr/>
        </p:nvSpPr>
        <p:spPr>
          <a:xfrm>
            <a:off x="393840" y="468936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从他直截了当地说，可以看出福楼拜是一个怎样的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10"/>
          <p:cNvSpPr/>
          <p:nvPr/>
        </p:nvSpPr>
        <p:spPr>
          <a:xfrm>
            <a:off x="914400" y="35323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针对莫泊桑的问题“读了很多书可写出来的文章总感到不生动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3280" y="765000"/>
            <a:ext cx="6553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个问题很简单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是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功夫还不到家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2114640" y="1628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功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693720" y="4699080"/>
            <a:ext cx="66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就要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肯吃苦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勤练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家门前不是天天都有马车经过吗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你就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站在门口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,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把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每天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看到的情况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,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都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详详细细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记录下来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,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而且要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长期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记下去。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1692360" y="5516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6" descr="dongtian2_0109"/>
          <p:cNvPicPr/>
          <p:nvPr/>
        </p:nvPicPr>
        <p:blipFill>
          <a:blip r:embed="rId1"/>
          <a:stretch/>
        </p:blipFill>
        <p:spPr>
          <a:xfrm>
            <a:off x="7391520" y="5334120"/>
            <a:ext cx="1447560" cy="1249200"/>
          </a:xfrm>
          <a:prstGeom prst="rect">
            <a:avLst/>
          </a:prstGeom>
          <a:ln w="0">
            <a:noFill/>
          </a:ln>
        </p:spPr>
      </p:pic>
      <p:sp>
        <p:nvSpPr>
          <p:cNvPr id="677" name="文本框 1"/>
          <p:cNvSpPr/>
          <p:nvPr/>
        </p:nvSpPr>
        <p:spPr>
          <a:xfrm>
            <a:off x="1523880" y="2428920"/>
            <a:ext cx="53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里的“功夫”指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矩形 2"/>
          <p:cNvSpPr/>
          <p:nvPr/>
        </p:nvSpPr>
        <p:spPr>
          <a:xfrm>
            <a:off x="6099120" y="3116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写作的本领、基本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矩形 3"/>
          <p:cNvSpPr/>
          <p:nvPr/>
        </p:nvSpPr>
        <p:spPr>
          <a:xfrm>
            <a:off x="717480" y="37972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福楼拜认为必须怎样做才能使功夫到家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二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第二天，莫泊桑真的站在家门口，看了一天大街上来来往往的马车，可是一无所获。接着，他又连续看了两天，还是没有什么发现。万般无奈，莫泊桑只得再次来到老师家。他一进门就说：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按照您的教导，看了几天马车，没看出什么特殊的东西，那么单调，没有什么好写的。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文本框 1"/>
          <p:cNvSpPr/>
          <p:nvPr/>
        </p:nvSpPr>
        <p:spPr>
          <a:xfrm>
            <a:off x="2819520" y="609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课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"/>
          <p:cNvSpPr/>
          <p:nvPr/>
        </p:nvSpPr>
        <p:spPr>
          <a:xfrm>
            <a:off x="838080" y="353232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学会本课生字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3"/>
          <p:cNvSpPr/>
          <p:nvPr/>
        </p:nvSpPr>
        <p:spPr>
          <a:xfrm>
            <a:off x="304920" y="157464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4"/>
          <p:cNvSpPr/>
          <p:nvPr/>
        </p:nvSpPr>
        <p:spPr>
          <a:xfrm>
            <a:off x="838080" y="43434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能了解课文大意给课文分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5"/>
          <p:cNvSpPr/>
          <p:nvPr/>
        </p:nvSpPr>
        <p:spPr>
          <a:xfrm>
            <a:off x="838080" y="27417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了解人物莫泊桑和福楼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1042920" y="62064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457200" y="30492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不，不不！怎么能说没有什么东西好写呢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那富丽堂皇的马车，跟装饰简陋的马车是一样的走法吗？烈日炎炎下的马车是怎样走的？狂风暴雨中的马车是怎样走的？马车上坡时，马怎样用力？车下坡时，赶车人怎样吆喝？他的表情是什么样的？这一些你都能写得清楚吗？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你看，怎么会没有什么好写呢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2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152280" y="8380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3" descr="dongtian2_0109"/>
          <p:cNvPicPr/>
          <p:nvPr/>
        </p:nvPicPr>
        <p:blipFill>
          <a:blip r:embed="rId2"/>
          <a:stretch/>
        </p:blipFill>
        <p:spPr>
          <a:xfrm>
            <a:off x="7162920" y="5105520"/>
            <a:ext cx="1600200" cy="138096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4"/>
          <p:cNvSpPr/>
          <p:nvPr/>
        </p:nvSpPr>
        <p:spPr>
          <a:xfrm>
            <a:off x="762120" y="83808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回顾：莫泊桑第二次拜师， 福楼拜都说了些什么？所说的话中哪句话最关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5"/>
          <p:cNvSpPr/>
          <p:nvPr/>
        </p:nvSpPr>
        <p:spPr>
          <a:xfrm>
            <a:off x="762120" y="2438280"/>
            <a:ext cx="7619760" cy="764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　　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黑体"/>
              </a:rPr>
              <a:t>不，不不！怎么能说没有什么东西好写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6"/>
          <p:cNvSpPr/>
          <p:nvPr/>
        </p:nvSpPr>
        <p:spPr>
          <a:xfrm>
            <a:off x="762120" y="39625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7"/>
          <p:cNvSpPr/>
          <p:nvPr/>
        </p:nvSpPr>
        <p:spPr>
          <a:xfrm>
            <a:off x="914400" y="403848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福楼拜是在什么情况下说这句话的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8"/>
          <p:cNvSpPr/>
          <p:nvPr/>
        </p:nvSpPr>
        <p:spPr>
          <a:xfrm>
            <a:off x="914400" y="49608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莫泊桑是怎样的心情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9"/>
          <p:cNvSpPr/>
          <p:nvPr/>
        </p:nvSpPr>
        <p:spPr>
          <a:xfrm>
            <a:off x="762120" y="59641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黑体"/>
              </a:rPr>
              <a:t>③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同学们有感情地齐读这句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7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2"/>
          <p:cNvSpPr/>
          <p:nvPr/>
        </p:nvSpPr>
        <p:spPr>
          <a:xfrm>
            <a:off x="1042920" y="9079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那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富丽堂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的马车，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装饰简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的马车是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华文新魏"/>
              </a:rPr>
              <a:t>一样的走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971640" y="249228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烈日炎炎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的马车是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华文新魏"/>
              </a:rPr>
              <a:t>怎样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的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狂风暴雨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的马车是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华文新魏"/>
              </a:rPr>
              <a:t>怎样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1042920" y="414972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马车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上坡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，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华文新魏"/>
              </a:rPr>
              <a:t>马怎样用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？车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下坡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，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华文新魏"/>
              </a:rPr>
              <a:t>赶车人怎样吆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？他的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华文新魏"/>
              </a:rPr>
              <a:t>表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是什么样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2" descr="f07ad3d9bc3a7cefcd1166b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能，因为这些问句描写的情况是安排好了的，它的范围由大到小，由简到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精到细一步一步的描写越来越细致，不能调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马车外形    环境    上坡下坡    赶车人    表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些问句能掉换位置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val 5"/>
          <p:cNvSpPr/>
          <p:nvPr/>
        </p:nvSpPr>
        <p:spPr>
          <a:xfrm>
            <a:off x="0" y="260280"/>
            <a:ext cx="2664000" cy="11527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WordArt 6"/>
          <p:cNvSpPr txBox="1"/>
          <p:nvPr/>
        </p:nvSpPr>
        <p:spPr>
          <a:xfrm>
            <a:off x="324000" y="476280"/>
            <a:ext cx="187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提问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9" name="AutoShape 7"/>
          <p:cNvSpPr/>
          <p:nvPr/>
        </p:nvSpPr>
        <p:spPr>
          <a:xfrm>
            <a:off x="2195640" y="450864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gradFill rotWithShape="0">
            <a:gsLst>
              <a:gs pos="0">
                <a:srgbClr val="ffffff"/>
              </a:gs>
              <a:gs pos="5000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8"/>
          <p:cNvSpPr/>
          <p:nvPr/>
        </p:nvSpPr>
        <p:spPr>
          <a:xfrm>
            <a:off x="3492360" y="450864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9"/>
          <p:cNvSpPr/>
          <p:nvPr/>
        </p:nvSpPr>
        <p:spPr>
          <a:xfrm>
            <a:off x="5508720" y="450864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10"/>
          <p:cNvSpPr/>
          <p:nvPr/>
        </p:nvSpPr>
        <p:spPr>
          <a:xfrm>
            <a:off x="7236000" y="450864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2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不，不不！怎么能说没有什么好写的呢？”从一个感叹号和一个问号，你又读懂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3"/>
          <p:cNvSpPr/>
          <p:nvPr/>
        </p:nvSpPr>
        <p:spPr>
          <a:xfrm>
            <a:off x="152280" y="11430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8000"/>
                </a:solidFill>
                <a:latin typeface="宋体"/>
              </a:rPr>
              <a:t>三个“不”中可以看出福楼拜首先以三个“不”字毫不留情地否定了莫泊桑的错误看法，特别是后两个“不”字连用并辅之以感叹号，加重了否定语气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4"/>
          <p:cNvSpPr/>
          <p:nvPr/>
        </p:nvSpPr>
        <p:spPr>
          <a:xfrm>
            <a:off x="152280" y="26668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那富丽堂皇的马车，跟装饰简陋的马车是一样的走法吗？烈日炎炎下的马车是怎样走的？狂风暴雨中的马车是怎样走的？车上坡时，马怎样用力？车下坡时，赶车人怎样吆喝？他的表情是什么样的？这一些你都能写得清楚吗？你看，怎么会没有什么好写呢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5"/>
          <p:cNvSpPr/>
          <p:nvPr/>
        </p:nvSpPr>
        <p:spPr>
          <a:xfrm>
            <a:off x="0" y="4648320"/>
            <a:ext cx="9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看到的马车和莫泊桑看到的一样吗？怎么会有这么大的差异呢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6"/>
          <p:cNvSpPr/>
          <p:nvPr/>
        </p:nvSpPr>
        <p:spPr>
          <a:xfrm>
            <a:off x="152280" y="518148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8000"/>
                </a:solidFill>
                <a:latin typeface="宋体"/>
              </a:rPr>
              <a:t>老师不仅是看马车，他还看到了不同样子的马车，不同天气下的马车，走不同的路的马车，甚至还看到了驾车人的表情。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7"/>
          <p:cNvSpPr/>
          <p:nvPr/>
        </p:nvSpPr>
        <p:spPr>
          <a:xfrm>
            <a:off x="2305440" y="4647240"/>
            <a:ext cx="38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从福楼拜滔滔不绝的话语中感受到了什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8"/>
          <p:cNvSpPr/>
          <p:nvPr/>
        </p:nvSpPr>
        <p:spPr>
          <a:xfrm>
            <a:off x="3091320" y="533304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循循善诱 既严肃又耐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5" dur="10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0" dur="2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4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49" dur="2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三次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从此，莫泊桑天天在大门口，全神贯注地观察过往的马车，从中获得了丰富的材料，写了一些作品。于是，他再一次去请福楼拜指导。</a:t>
            </a:r>
            <a:br>
              <a:rPr sz="3200"/>
            </a:br>
            <a:r>
              <a:rPr b="1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2"/>
          <p:cNvSpPr/>
          <p:nvPr/>
        </p:nvSpPr>
        <p:spPr>
          <a:xfrm>
            <a:off x="1042920" y="1700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华文新魏"/>
              </a:rPr>
              <a:t>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青年人贵在坚持，才气就是坚持写作的结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3"/>
          <p:cNvSpPr/>
          <p:nvPr/>
        </p:nvSpPr>
        <p:spPr>
          <a:xfrm>
            <a:off x="971640" y="335772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华文新魏"/>
              </a:rPr>
              <a:t>   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对你所要写的东西，光仔细观察还不够，还要能发现别人没有发现和没有写过的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3" descr="dongtian2_0109"/>
          <p:cNvPicPr/>
          <p:nvPr/>
        </p:nvPicPr>
        <p:blipFill>
          <a:blip r:embed="rId2"/>
          <a:stretch/>
        </p:blipFill>
        <p:spPr>
          <a:xfrm>
            <a:off x="7315200" y="5222880"/>
            <a:ext cx="1523880" cy="1316160"/>
          </a:xfrm>
          <a:prstGeom prst="rect">
            <a:avLst/>
          </a:prstGeom>
          <a:ln w="0">
            <a:noFill/>
          </a:ln>
        </p:spPr>
      </p:pic>
      <p:sp>
        <p:nvSpPr>
          <p:cNvPr id="715" name="Text Box 4"/>
          <p:cNvSpPr/>
          <p:nvPr/>
        </p:nvSpPr>
        <p:spPr>
          <a:xfrm>
            <a:off x="609480" y="91440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回顾：莫泊桑第三次拜师，福楼拜都说了些什么？所说的话中哪句话最关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533520" y="2438280"/>
            <a:ext cx="8458200" cy="7034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对你所要写的东西，光仔细观察还不够，还要能发现别人没有发现和没有写过的特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"/>
          <p:cNvSpPr/>
          <p:nvPr/>
        </p:nvSpPr>
        <p:spPr>
          <a:xfrm>
            <a:off x="685800" y="48006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7"/>
          <p:cNvSpPr/>
          <p:nvPr/>
        </p:nvSpPr>
        <p:spPr>
          <a:xfrm>
            <a:off x="609480" y="4572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文中哪些话分别是围绕这句话来写的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8"/>
          <p:cNvSpPr/>
          <p:nvPr/>
        </p:nvSpPr>
        <p:spPr>
          <a:xfrm>
            <a:off x="609480" y="53038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这些语句再次说明福楼拜是一个什么样的人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2"/>
          <p:cNvSpPr/>
          <p:nvPr/>
        </p:nvSpPr>
        <p:spPr>
          <a:xfrm>
            <a:off x="762120" y="76212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华文新魏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福楼拜认真地看了几篇，脸上露出了微笑，说：“这些作品，表明你有了进步。但青年人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贵在坚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，才气就是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坚持写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的结果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3">
            <a:hlinkClick r:id="" action="ppaction://hlinkshowjump?jump=previousslide"/>
          </p:cNvPr>
          <p:cNvSpPr/>
          <p:nvPr/>
        </p:nvSpPr>
        <p:spPr>
          <a:xfrm>
            <a:off x="7885080" y="54450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4" descr="dongtian2_0109"/>
          <p:cNvPicPr/>
          <p:nvPr/>
        </p:nvPicPr>
        <p:blipFill>
          <a:blip r:embed="rId1"/>
          <a:stretch/>
        </p:blipFill>
        <p:spPr>
          <a:xfrm>
            <a:off x="7315200" y="5222880"/>
            <a:ext cx="152388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WordArt 2"/>
          <p:cNvSpPr txBox="1"/>
          <p:nvPr/>
        </p:nvSpPr>
        <p:spPr>
          <a:xfrm>
            <a:off x="3429000" y="320364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第三次求教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4" name="Text Box 3"/>
          <p:cNvSpPr/>
          <p:nvPr/>
        </p:nvSpPr>
        <p:spPr>
          <a:xfrm>
            <a:off x="228600" y="1522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青年人贵在坚持，才气就是坚持写作的结果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4"/>
          <p:cNvSpPr/>
          <p:nvPr/>
        </p:nvSpPr>
        <p:spPr>
          <a:xfrm>
            <a:off x="304920" y="762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华文行楷"/>
                <a:ea typeface="华文行楷"/>
              </a:rPr>
              <a:t>1</a:t>
            </a:r>
            <a:r>
              <a:rPr b="1" lang="zh-CN" sz="2400" spc="-1" strike="noStrike">
                <a:solidFill>
                  <a:srgbClr val="008000"/>
                </a:solidFill>
                <a:latin typeface="华文行楷"/>
                <a:ea typeface="华文行楷"/>
              </a:rPr>
              <a:t>、从这句话我们能够联想到哪些四字词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5"/>
          <p:cNvSpPr/>
          <p:nvPr/>
        </p:nvSpPr>
        <p:spPr>
          <a:xfrm>
            <a:off x="762120" y="13716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坚持不懈   持之以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380880" y="20574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华文行楷"/>
                <a:ea typeface="华文行楷"/>
              </a:rPr>
              <a:t>2</a:t>
            </a:r>
            <a:r>
              <a:rPr b="1" lang="zh-CN" sz="2400" spc="-1" strike="noStrike">
                <a:solidFill>
                  <a:srgbClr val="008000"/>
                </a:solidFill>
                <a:latin typeface="华文行楷"/>
                <a:ea typeface="华文行楷"/>
              </a:rPr>
              <a:t>、这句话的含义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7"/>
          <p:cNvSpPr/>
          <p:nvPr/>
        </p:nvSpPr>
        <p:spPr>
          <a:xfrm>
            <a:off x="685800" y="25909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我们所说的妙手</a:t>
            </a:r>
            <a:r>
              <a:rPr b="1" lang="en-US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就是有才气的人</a:t>
            </a:r>
            <a:r>
              <a:rPr b="1" lang="en-US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而妙手的偶得</a:t>
            </a:r>
            <a:r>
              <a:rPr b="1" lang="en-US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当是厚积薄发的结果</a:t>
            </a:r>
            <a:r>
              <a:rPr b="1" lang="en-US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平时不断的积累</a:t>
            </a:r>
            <a:r>
              <a:rPr b="1" lang="en-US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才使得他们在适当的时候能够灵思泉涌</a:t>
            </a:r>
            <a:r>
              <a:rPr b="1" lang="en-US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展身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8"/>
          <p:cNvSpPr/>
          <p:nvPr/>
        </p:nvSpPr>
        <p:spPr>
          <a:xfrm>
            <a:off x="45720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对你所要写的东西，光仔细观察还不够，还要能发现别人没有发现和没有写过的特点。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9"/>
          <p:cNvSpPr/>
          <p:nvPr/>
        </p:nvSpPr>
        <p:spPr>
          <a:xfrm>
            <a:off x="533520" y="47242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华文行楷"/>
                <a:ea typeface="华文行楷"/>
              </a:rPr>
              <a:t>1</a:t>
            </a:r>
            <a:r>
              <a:rPr b="1" lang="zh-CN" sz="2400" spc="-1" strike="noStrike">
                <a:solidFill>
                  <a:srgbClr val="008000"/>
                </a:solidFill>
                <a:latin typeface="华文行楷"/>
                <a:ea typeface="华文行楷"/>
              </a:rPr>
              <a:t>、这句话告诉了我们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0"/>
          <p:cNvSpPr/>
          <p:nvPr/>
        </p:nvSpPr>
        <p:spPr>
          <a:xfrm>
            <a:off x="762120" y="53341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我们在观察事物的时候不仅要仔细，还要用心揣摩，体会他们的独特之处，抓住他们的精神本质。写作要避免拾人牙慧、陈辞滥调、鹦鹉学舌、人云亦云、毫无特色的毛病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3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5" dur="1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5" dur="10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0" dur="10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0" dur="5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文本框 1"/>
          <p:cNvSpPr/>
          <p:nvPr/>
        </p:nvSpPr>
        <p:spPr>
          <a:xfrm>
            <a:off x="304920" y="6094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读了课题你有什么疑问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3"/>
          <p:cNvSpPr/>
          <p:nvPr/>
        </p:nvSpPr>
        <p:spPr>
          <a:xfrm>
            <a:off x="914400" y="22860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莫泊桑是个怎样的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4"/>
          <p:cNvSpPr/>
          <p:nvPr/>
        </p:nvSpPr>
        <p:spPr>
          <a:xfrm>
            <a:off x="990720" y="34830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请教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5"/>
          <p:cNvSpPr/>
          <p:nvPr/>
        </p:nvSpPr>
        <p:spPr>
          <a:xfrm>
            <a:off x="1066680" y="46544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“师”是谁，怎么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3" descr="dongtian2_0109"/>
          <p:cNvPicPr/>
          <p:nvPr/>
        </p:nvPicPr>
        <p:blipFill>
          <a:blip r:embed="rId2"/>
          <a:stretch/>
        </p:blipFill>
        <p:spPr>
          <a:xfrm>
            <a:off x="7315200" y="5222880"/>
            <a:ext cx="1523880" cy="1316160"/>
          </a:xfrm>
          <a:prstGeom prst="rect">
            <a:avLst/>
          </a:prstGeom>
          <a:ln w="0">
            <a:noFill/>
          </a:ln>
        </p:spPr>
      </p:pic>
      <p:sp>
        <p:nvSpPr>
          <p:cNvPr id="734" name="Text Box 4"/>
          <p:cNvSpPr/>
          <p:nvPr/>
        </p:nvSpPr>
        <p:spPr>
          <a:xfrm>
            <a:off x="304920" y="138744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课文写莫泊桑拜师的经过，共写了他三次求教的情况，着重写了师生二人的对话，从他们的对话中我们看出什么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5"/>
          <p:cNvSpPr/>
          <p:nvPr/>
        </p:nvSpPr>
        <p:spPr>
          <a:xfrm>
            <a:off x="762120" y="33526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黑体"/>
              </a:rPr>
              <a:t>⑴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师生二人一个善教一个勤学的特点。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6"/>
          <p:cNvSpPr/>
          <p:nvPr/>
        </p:nvSpPr>
        <p:spPr>
          <a:xfrm>
            <a:off x="762120" y="4237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黑体"/>
              </a:rPr>
              <a:t>⑵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从他们的对话中，我们懂得勤奋练习仔细观察、用心揣摩、不断积累是提高写作水平的必由之路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要牢牢记住提高写作水平的必由之路：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①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仔细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②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发现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③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善于写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④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贵在坚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Picture 2" descr="b866282d6de9966e359bf73a"/>
          <p:cNvPicPr/>
          <p:nvPr/>
        </p:nvPicPr>
        <p:blipFill>
          <a:blip r:embed="rId1"/>
          <a:stretch/>
        </p:blipFill>
        <p:spPr>
          <a:xfrm>
            <a:off x="-541440" y="0"/>
            <a:ext cx="10514160" cy="7147080"/>
          </a:xfrm>
          <a:prstGeom prst="rect">
            <a:avLst/>
          </a:prstGeom>
          <a:ln w="0">
            <a:noFill/>
          </a:ln>
        </p:spPr>
      </p:pic>
      <p:sp>
        <p:nvSpPr>
          <p:cNvPr id="739" name="WordArt 3"/>
          <p:cNvSpPr txBox="1"/>
          <p:nvPr/>
        </p:nvSpPr>
        <p:spPr>
          <a:xfrm rot="5400000">
            <a:off x="4758840" y="2449440"/>
            <a:ext cx="2530440" cy="1320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观察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40" name="Line 4"/>
          <p:cNvSpPr/>
          <p:nvPr/>
        </p:nvSpPr>
        <p:spPr>
          <a:xfrm>
            <a:off x="3780000" y="620640"/>
            <a:ext cx="115236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5"/>
          <p:cNvSpPr/>
          <p:nvPr/>
        </p:nvSpPr>
        <p:spPr>
          <a:xfrm flipH="1">
            <a:off x="4355640" y="2997360"/>
            <a:ext cx="57636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WordArt 6"/>
          <p:cNvSpPr txBox="1"/>
          <p:nvPr/>
        </p:nvSpPr>
        <p:spPr>
          <a:xfrm>
            <a:off x="2484360" y="620640"/>
            <a:ext cx="86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宋体"/>
              </a:rPr>
              <a:t>勤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宋体"/>
              <a:ea typeface="宋体"/>
            </a:endParaRPr>
          </a:p>
        </p:txBody>
      </p:sp>
      <p:sp>
        <p:nvSpPr>
          <p:cNvPr id="743" name="WordArt 7"/>
          <p:cNvSpPr txBox="1"/>
          <p:nvPr/>
        </p:nvSpPr>
        <p:spPr>
          <a:xfrm>
            <a:off x="2484360" y="2637000"/>
            <a:ext cx="865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宋体"/>
              </a:rPr>
              <a:t>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宋体"/>
              <a:ea typeface="宋体"/>
            </a:endParaRPr>
          </a:p>
        </p:txBody>
      </p:sp>
      <p:sp>
        <p:nvSpPr>
          <p:cNvPr id="744" name="WordArt 8"/>
          <p:cNvSpPr txBox="1"/>
          <p:nvPr/>
        </p:nvSpPr>
        <p:spPr>
          <a:xfrm>
            <a:off x="2484360" y="4869000"/>
            <a:ext cx="935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宋体"/>
              </a:rPr>
              <a:t>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2" descr="636b494e92ae007ab2de05c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拜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莫泊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焦急万分虚心求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一无所获再次求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全神贯注坚持观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勤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福楼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吃苦勤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有很多好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发现不同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善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2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0" dur="5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7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7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7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7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2"/>
          <p:cNvSpPr/>
          <p:nvPr/>
        </p:nvSpPr>
        <p:spPr>
          <a:xfrm>
            <a:off x="304920" y="4572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齐读最后一段并思考：莫泊桑经过自己努力最后是否成功了？画出文中相关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Group 3"/>
          <p:cNvGrpSpPr/>
          <p:nvPr/>
        </p:nvGrpSpPr>
        <p:grpSpPr>
          <a:xfrm>
            <a:off x="990720" y="2057400"/>
            <a:ext cx="7315200" cy="1523880"/>
            <a:chOff x="990720" y="2057400"/>
            <a:chExt cx="7315200" cy="1523880"/>
          </a:xfrm>
        </p:grpSpPr>
        <p:sp>
          <p:nvSpPr>
            <p:cNvPr id="751" name="Text Box 4"/>
            <p:cNvSpPr/>
            <p:nvPr/>
          </p:nvSpPr>
          <p:spPr>
            <a:xfrm>
              <a:off x="990720" y="2057400"/>
              <a:ext cx="731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　　他仔细观察，用心揣摩，积累了许多素材，终于写出了不少有世界影响的名著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5"/>
            <p:cNvSpPr/>
            <p:nvPr/>
          </p:nvSpPr>
          <p:spPr>
            <a:xfrm>
              <a:off x="1828800" y="2666880"/>
              <a:ext cx="6248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6"/>
            <p:cNvSpPr/>
            <p:nvPr/>
          </p:nvSpPr>
          <p:spPr>
            <a:xfrm>
              <a:off x="1066680" y="3124080"/>
              <a:ext cx="7010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7"/>
            <p:cNvSpPr/>
            <p:nvPr/>
          </p:nvSpPr>
          <p:spPr>
            <a:xfrm>
              <a:off x="1066680" y="3581280"/>
              <a:ext cx="1524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Text Box 8"/>
          <p:cNvSpPr/>
          <p:nvPr/>
        </p:nvSpPr>
        <p:spPr>
          <a:xfrm>
            <a:off x="1066680" y="45720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同学们有感情地读一读这句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4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Text Box 2"/>
          <p:cNvSpPr/>
          <p:nvPr/>
        </p:nvSpPr>
        <p:spPr>
          <a:xfrm>
            <a:off x="1042920" y="1700280"/>
            <a:ext cx="741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结尾：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新魏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莫泊桑把老师的话牢牢记在心头，更加勤奋努力。他仔细观察，用心揣摩，积累了许多素材，终于写出了不少有世界影响的名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3"/>
          <p:cNvSpPr/>
          <p:nvPr/>
        </p:nvSpPr>
        <p:spPr>
          <a:xfrm>
            <a:off x="971640" y="335772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华文新魏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1042920" y="1700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华文新魏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3"/>
          <p:cNvSpPr/>
          <p:nvPr/>
        </p:nvSpPr>
        <p:spPr>
          <a:xfrm>
            <a:off x="971640" y="1557360"/>
            <a:ext cx="7704000" cy="2893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阅读着莫泊桑泊桑拜师的经历 ，我们再来看看他的成长足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新魏"/>
              </a:rPr>
              <a:t>骑马出去一圈，一两个钟头之后回来，记下看到的一切，按此方法锻炼观察力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新魏"/>
              </a:rPr>
              <a:t>     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华文新魏"/>
              </a:rPr>
              <a:t>1873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新魏"/>
              </a:rPr>
              <a:t>年拜福楼拜为师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华文新魏"/>
              </a:rPr>
              <a:t>1880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新魏"/>
              </a:rPr>
              <a:t>年正式发表作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年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新魏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新魏"/>
              </a:rPr>
              <a:t>     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华文新魏"/>
              </a:rPr>
              <a:t>13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新魏"/>
              </a:rPr>
              <a:t>岁开始写作    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华文新魏"/>
              </a:rPr>
              <a:t>30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新魏"/>
              </a:rPr>
              <a:t>岁登上世界文坛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新魏"/>
              </a:rPr>
              <a:t>17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4"/>
          <p:cNvSpPr/>
          <p:nvPr/>
        </p:nvSpPr>
        <p:spPr>
          <a:xfrm>
            <a:off x="4932360" y="400536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5"/>
          <p:cNvSpPr/>
          <p:nvPr/>
        </p:nvSpPr>
        <p:spPr>
          <a:xfrm>
            <a:off x="3851280" y="501336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2"/>
          <p:cNvSpPr/>
          <p:nvPr/>
        </p:nvSpPr>
        <p:spPr>
          <a:xfrm>
            <a:off x="1042920" y="1773360"/>
            <a:ext cx="7416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、学了本文，看到这些数据后，你有什么收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、福楼拜是一位怎样的老师？莫泊桑是怎样一位学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3" descr="拓展学习"/>
          <p:cNvPicPr/>
          <p:nvPr/>
        </p:nvPicPr>
        <p:blipFill>
          <a:blip r:embed="rId1"/>
          <a:stretch/>
        </p:blipFill>
        <p:spPr>
          <a:xfrm>
            <a:off x="611280" y="981000"/>
            <a:ext cx="193500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2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3" descr="dongtian2_0109"/>
          <p:cNvPicPr/>
          <p:nvPr/>
        </p:nvPicPr>
        <p:blipFill>
          <a:blip r:embed="rId2"/>
          <a:stretch/>
        </p:blipFill>
        <p:spPr>
          <a:xfrm>
            <a:off x="7315200" y="5222880"/>
            <a:ext cx="1523880" cy="1316160"/>
          </a:xfrm>
          <a:prstGeom prst="rect">
            <a:avLst/>
          </a:prstGeom>
          <a:ln w="0">
            <a:noFill/>
          </a:ln>
        </p:spPr>
      </p:pic>
      <p:sp>
        <p:nvSpPr>
          <p:cNvPr id="766" name="Text Box 4"/>
          <p:cNvSpPr/>
          <p:nvPr/>
        </p:nvSpPr>
        <p:spPr>
          <a:xfrm>
            <a:off x="762120" y="2590920"/>
            <a:ext cx="647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黑体"/>
              </a:rPr>
              <a:t>说说他们各是什么样的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5" descr="女孩"/>
          <p:cNvPicPr/>
          <p:nvPr/>
        </p:nvPicPr>
        <p:blipFill>
          <a:blip r:embed="rId3"/>
          <a:stretch/>
        </p:blipFill>
        <p:spPr>
          <a:xfrm>
            <a:off x="7010280" y="1447920"/>
            <a:ext cx="103032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幼圆"/>
              </a:rPr>
              <a:t>莫泊桑特点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幼圆"/>
              </a:rPr>
              <a:t>：虚心求教、对写                 作                   作有浓厚兴趣、刻苦好学、坚持               坚持不懈、有上进心与认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幼圆"/>
              </a:rPr>
              <a:t>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幼圆"/>
              </a:rPr>
              <a:t>态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4" descr="4b690b24189b0e08d5074242"/>
          <p:cNvPicPr/>
          <p:nvPr/>
        </p:nvPicPr>
        <p:blipFill>
          <a:blip r:embed="rId1"/>
          <a:stretch/>
        </p:blipFill>
        <p:spPr>
          <a:xfrm>
            <a:off x="0" y="1628640"/>
            <a:ext cx="2952720" cy="44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3"/>
          <p:cNvSpPr/>
          <p:nvPr/>
        </p:nvSpPr>
        <p:spPr>
          <a:xfrm>
            <a:off x="2590920" y="213372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4"/>
          <p:cNvSpPr/>
          <p:nvPr/>
        </p:nvSpPr>
        <p:spPr>
          <a:xfrm>
            <a:off x="3581280" y="1523880"/>
            <a:ext cx="4648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莫泊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8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9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后半期法国优秀的批判现实主义作家。一生创作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长篇小说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部中短篇小说，他的文学成就以短篇小说最为突出，是与契诃夫和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亨利并列的世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短篇小说之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对后世产生极大影响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著名作品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项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羊脂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俊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WordArt 25"/>
          <p:cNvSpPr txBox="1"/>
          <p:nvPr/>
        </p:nvSpPr>
        <p:spPr>
          <a:xfrm>
            <a:off x="685800" y="380880"/>
            <a:ext cx="2666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隶书"/>
              </a:rPr>
              <a:t>走近莫泊桑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隶书"/>
              <a:ea typeface="隶书"/>
            </a:endParaRPr>
          </a:p>
        </p:txBody>
      </p:sp>
      <p:pic>
        <p:nvPicPr>
          <p:cNvPr id="557" name="Picture 32" descr="98307af0be02b4ea7931aab9"/>
          <p:cNvPicPr/>
          <p:nvPr/>
        </p:nvPicPr>
        <p:blipFill>
          <a:blip r:embed="rId1"/>
          <a:stretch/>
        </p:blipFill>
        <p:spPr>
          <a:xfrm>
            <a:off x="990720" y="1905120"/>
            <a:ext cx="2581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幼圆"/>
              </a:rPr>
              <a:t>福楼拜特点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幼圆"/>
              </a:rPr>
              <a:t>：对年轻人热情提携、循循善诱、倾尽所学，耐心善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5" descr="fuloubai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 Box 4"/>
          <p:cNvSpPr/>
          <p:nvPr/>
        </p:nvSpPr>
        <p:spPr>
          <a:xfrm>
            <a:off x="990720" y="16002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说说他们各是什么样的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5"/>
          <p:cNvSpPr/>
          <p:nvPr/>
        </p:nvSpPr>
        <p:spPr>
          <a:xfrm>
            <a:off x="1905120" y="259092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Arial"/>
                <a:ea typeface="隶书"/>
              </a:rPr>
              <a:t>莫泊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6"/>
          <p:cNvSpPr/>
          <p:nvPr/>
        </p:nvSpPr>
        <p:spPr>
          <a:xfrm>
            <a:off x="4724280" y="259092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Arial"/>
                <a:ea typeface="隶书"/>
              </a:rPr>
              <a:t>福楼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隶书"/>
              </a:rPr>
              <a:t>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7"/>
          <p:cNvSpPr/>
          <p:nvPr/>
        </p:nvSpPr>
        <p:spPr>
          <a:xfrm>
            <a:off x="1143000" y="38386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莫泊桑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虚心好学、勤学苦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8"/>
          <p:cNvSpPr/>
          <p:nvPr/>
        </p:nvSpPr>
        <p:spPr>
          <a:xfrm>
            <a:off x="1143000" y="46483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福楼拜：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循循善诱、关心后辈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9" descr="女孩"/>
          <p:cNvPicPr/>
          <p:nvPr/>
        </p:nvPicPr>
        <p:blipFill>
          <a:blip r:embed="rId1"/>
          <a:stretch/>
        </p:blipFill>
        <p:spPr>
          <a:xfrm>
            <a:off x="7010280" y="1447920"/>
            <a:ext cx="103032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4"/>
          <p:cNvSpPr/>
          <p:nvPr/>
        </p:nvSpPr>
        <p:spPr>
          <a:xfrm>
            <a:off x="1219320" y="2394000"/>
            <a:ext cx="693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文章主要写从小酷爱写作的莫泊桑为了能够写出好作品，拜福楼拜为师，福楼拜给予悉心指导的事，表现了莫泊桑对所酷爱的事业执著追求的精神和福楼拜循循善诱、关心后辈的名师风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WordArt 5"/>
          <p:cNvSpPr txBox="1"/>
          <p:nvPr/>
        </p:nvSpPr>
        <p:spPr>
          <a:xfrm>
            <a:off x="2209680" y="15238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隶书"/>
              </a:rPr>
              <a:t>课文小结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隶书"/>
              <a:ea typeface="隶书"/>
            </a:endParaRPr>
          </a:p>
        </p:txBody>
      </p:sp>
      <p:pic>
        <p:nvPicPr>
          <p:cNvPr id="783" name="Picture 6" descr="书１"/>
          <p:cNvPicPr/>
          <p:nvPr/>
        </p:nvPicPr>
        <p:blipFill>
          <a:blip r:embed="rId1"/>
          <a:stretch/>
        </p:blipFill>
        <p:spPr>
          <a:xfrm>
            <a:off x="1143000" y="1523880"/>
            <a:ext cx="83808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Picture 2" descr="2009612093320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了今天的内容，我知道了莫泊桑拜师拜了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，第一次去是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第二次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第三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看出莫泊桑是个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人，福楼拜亦是一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好老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4"/>
          <p:cNvSpPr/>
          <p:nvPr/>
        </p:nvSpPr>
        <p:spPr>
          <a:xfrm>
            <a:off x="2411280" y="189000"/>
            <a:ext cx="3851280" cy="1512720"/>
          </a:xfrm>
          <a:prstGeom prst="ellipse">
            <a:avLst/>
          </a:prstGeom>
          <a:gradFill rotWithShape="0">
            <a:gsLst>
              <a:gs pos="0">
                <a:srgbClr val="ed69ed"/>
              </a:gs>
              <a:gs pos="50000">
                <a:srgbClr val="ffffff"/>
              </a:gs>
              <a:gs pos="100000">
                <a:srgbClr val="ed69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WordArt 5"/>
          <p:cNvSpPr txBox="1"/>
          <p:nvPr/>
        </p:nvSpPr>
        <p:spPr>
          <a:xfrm>
            <a:off x="3059280" y="476280"/>
            <a:ext cx="23763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测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8" name="Line 6"/>
          <p:cNvSpPr/>
          <p:nvPr/>
        </p:nvSpPr>
        <p:spPr>
          <a:xfrm>
            <a:off x="6732720" y="256536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7"/>
          <p:cNvSpPr/>
          <p:nvPr/>
        </p:nvSpPr>
        <p:spPr>
          <a:xfrm>
            <a:off x="971640" y="3068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8"/>
          <p:cNvSpPr/>
          <p:nvPr/>
        </p:nvSpPr>
        <p:spPr>
          <a:xfrm>
            <a:off x="4932360" y="306864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9"/>
          <p:cNvSpPr/>
          <p:nvPr/>
        </p:nvSpPr>
        <p:spPr>
          <a:xfrm>
            <a:off x="1042920" y="37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0"/>
          <p:cNvSpPr/>
          <p:nvPr/>
        </p:nvSpPr>
        <p:spPr>
          <a:xfrm>
            <a:off x="3564000" y="37162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1"/>
          <p:cNvSpPr/>
          <p:nvPr/>
        </p:nvSpPr>
        <p:spPr>
          <a:xfrm>
            <a:off x="4427640" y="4292640"/>
            <a:ext cx="40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2"/>
          <p:cNvSpPr/>
          <p:nvPr/>
        </p:nvSpPr>
        <p:spPr>
          <a:xfrm>
            <a:off x="1042920" y="486900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3"/>
          <p:cNvSpPr/>
          <p:nvPr/>
        </p:nvSpPr>
        <p:spPr>
          <a:xfrm>
            <a:off x="8028000" y="479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14"/>
          <p:cNvSpPr/>
          <p:nvPr/>
        </p:nvSpPr>
        <p:spPr>
          <a:xfrm>
            <a:off x="1042920" y="5445000"/>
            <a:ext cx="46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3564000" y="335772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1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2"/>
          <p:cNvSpPr/>
          <p:nvPr/>
        </p:nvSpPr>
        <p:spPr>
          <a:xfrm>
            <a:off x="152280" y="1628640"/>
            <a:ext cx="8686800" cy="436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莫泊桑拜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文中，我们认识了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　　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莫泊桑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　　　　　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福楼拜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从莫泊桑拜师学写作的经历中，我懂得了：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　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﹑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　　　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　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是提高写作水平的关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3"/>
          <p:cNvSpPr/>
          <p:nvPr/>
        </p:nvSpPr>
        <p:spPr>
          <a:xfrm>
            <a:off x="755640" y="765000"/>
            <a:ext cx="13874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练习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WordArt 4"/>
          <p:cNvSpPr txBox="1"/>
          <p:nvPr/>
        </p:nvSpPr>
        <p:spPr>
          <a:xfrm>
            <a:off x="2286000" y="2514600"/>
            <a:ext cx="49528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再 见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ebaf6857892da566d00906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3" descr="2920883"/>
          <p:cNvPicPr/>
          <p:nvPr/>
        </p:nvPicPr>
        <p:blipFill>
          <a:blip r:embed="rId2"/>
          <a:stretch/>
        </p:blipFill>
        <p:spPr>
          <a:xfrm>
            <a:off x="5580000" y="0"/>
            <a:ext cx="4248360" cy="4838760"/>
          </a:xfrm>
          <a:prstGeom prst="rect">
            <a:avLst/>
          </a:prstGeom>
          <a:ln w="0">
            <a:noFill/>
          </a:ln>
        </p:spPr>
      </p:pic>
      <p:sp>
        <p:nvSpPr>
          <p:cNvPr id="560" name="WordArt 6"/>
          <p:cNvSpPr txBox="1"/>
          <p:nvPr/>
        </p:nvSpPr>
        <p:spPr>
          <a:xfrm>
            <a:off x="611280" y="5516640"/>
            <a:ext cx="143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f200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一生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fff200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1" name="WordArt 7"/>
          <p:cNvSpPr txBox="1"/>
          <p:nvPr/>
        </p:nvSpPr>
        <p:spPr>
          <a:xfrm>
            <a:off x="3492360" y="5589720"/>
            <a:ext cx="187488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羊脂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2" name="WordArt 8"/>
          <p:cNvSpPr txBox="1"/>
          <p:nvPr/>
        </p:nvSpPr>
        <p:spPr>
          <a:xfrm>
            <a:off x="6084720" y="5516640"/>
            <a:ext cx="2843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8b049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的叔叔于勒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8b049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6" descr="22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4103640" cy="61912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7" descr="152701504075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0"/>
            <a:ext cx="3124080" cy="31687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8" descr="dashi1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05520" y="3174840"/>
            <a:ext cx="292248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5" descr="75394181170939169-f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04640"/>
            <a:ext cx="4176720" cy="60897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6" descr="1047581407284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404640"/>
            <a:ext cx="410508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3505320" y="1066680"/>
            <a:ext cx="47242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福楼拜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21-18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法国重要的批判现实主义作家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2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出生在卢昂一个著名的外科医生家庭。其作品反映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48-187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间法国的时代风貌，揭露了丑恶鄙俗的资产阶级社会。他的“客观而无动于衷”的创作理论和精雕细刻的艺术风格，在法国文学史上独树一帜。著名作品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法利夫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感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WordArt 3"/>
          <p:cNvSpPr txBox="1"/>
          <p:nvPr/>
        </p:nvSpPr>
        <p:spPr>
          <a:xfrm>
            <a:off x="838080" y="457200"/>
            <a:ext cx="233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福楼拜简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74" name="Picture 4" descr="%B8%A3%C2%A5%B0%DD"/>
          <p:cNvPicPr/>
          <p:nvPr/>
        </p:nvPicPr>
        <p:blipFill>
          <a:blip r:embed="rId1"/>
          <a:stretch/>
        </p:blipFill>
        <p:spPr>
          <a:xfrm>
            <a:off x="1066680" y="2209680"/>
            <a:ext cx="2389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</dc:creator>
  <dc:description/>
  <dc:language>en-US</dc:language>
  <cp:lastModifiedBy>pc</cp:lastModifiedBy>
  <dcterms:modified xsi:type="dcterms:W3CDTF">2015-04-22T00:08:28Z</dcterms:modified>
  <cp:revision>1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