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8B6EA-0D43-487C-98BC-FF856B433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7D880-2066-4529-80B6-506E074F6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1C95A-57EA-4B8D-8590-EF6CE013C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14575-1EEF-46CE-9655-F9E975669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70B63-822D-47FF-8883-54305425A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3335B-DE5B-4360-BC21-0D7F1A980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A1AD6-3E1B-47BE-ADF0-2109380AC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DD7E5-B1C6-49C8-A294-614741C15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98A11-67D3-4FBA-AE68-2DF90F951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C3CAD-3247-4B32-8D6B-B2FECD673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B9BAB-441B-4B3E-81C6-FB6808889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95BFA-ED09-4681-B9F8-E0D77CE94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4F9A8-EF7E-4690-A4B9-007256EE938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1ydt.com/video/vb_show/Vbox_2111/1A0A283B_1_1.htm" TargetMode="External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1ydt.com/video/vb_show/Vbox_2111/1A0A283B_1_1.htm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hyperlink" Target="http://www.1ydt.com/video/vb_show/Vbox_2111/1A0A283B_1_1.htm" TargetMode="External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13457" t="48597" r="11423" b="7898"/>
          <a:stretch/>
        </p:blipFill>
        <p:spPr>
          <a:xfrm>
            <a:off x="1828800" y="685800"/>
            <a:ext cx="5029200" cy="41911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1828800" y="533520"/>
            <a:ext cx="487692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莫 泊 桑 拜 师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43" name=""/>
          <p:cNvSpPr/>
          <p:nvPr/>
        </p:nvSpPr>
        <p:spPr>
          <a:xfrm>
            <a:off x="3886200" y="5029200"/>
            <a:ext cx="13651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点此播放视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643280" cy="717408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5003640" y="907920"/>
            <a:ext cx="374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华文新魏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788000" y="380880"/>
            <a:ext cx="4356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莫泊桑——“短篇小说之王”，他一生写的短篇小说将近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300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篇，其中《项链《我的叔叔于勒》都是脍炙人口的名篇。他的小说构思别具匠心，情节变化多端，描写生动细致，刻画人情世态惟妙惟肖，令人读后回味无穷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048120" y="6477120"/>
            <a:ext cx="1365120" cy="2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点此播放视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rcRect l="0" t="1168" r="0" b="6968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7315200" y="5222880"/>
            <a:ext cx="1523880" cy="131616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990720" y="1600200"/>
            <a:ext cx="647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说说他们各是什么样的人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2590920"/>
            <a:ext cx="3352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800000"/>
                </a:solidFill>
                <a:latin typeface="Arial"/>
                <a:ea typeface="隶书"/>
              </a:rPr>
              <a:t>莫泊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724280" y="2590920"/>
            <a:ext cx="3353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800000"/>
                </a:solidFill>
                <a:latin typeface="Arial"/>
                <a:ea typeface="隶书"/>
              </a:rPr>
              <a:t>福楼</a:t>
            </a:r>
            <a:r>
              <a:rPr b="1" lang="zh-CN" sz="4400" spc="-1" strike="noStrike">
                <a:solidFill>
                  <a:srgbClr val="800000"/>
                </a:solidFill>
                <a:latin typeface="Arial"/>
                <a:ea typeface="隶书"/>
              </a:rPr>
              <a:t>拜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85800" y="383868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66"/>
                </a:solidFill>
                <a:latin typeface="Arial"/>
                <a:ea typeface="黑体"/>
              </a:rPr>
              <a:t>莫泊桑：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虚心好学、勤学苦练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85800" y="464832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66"/>
                </a:solidFill>
                <a:latin typeface="黑体"/>
                <a:ea typeface="黑体"/>
              </a:rPr>
              <a:t>福楼拜：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循循善诱、关心后辈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7010280" y="1447920"/>
            <a:ext cx="1030320" cy="113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rcRect l="0" t="1168" r="0" b="6968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7315200" y="5222880"/>
            <a:ext cx="1523880" cy="131616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1143000" y="2892600"/>
            <a:ext cx="7315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3600" spc="-1" strike="noStrike">
                <a:solidFill>
                  <a:srgbClr val="800000"/>
                </a:solidFill>
                <a:latin typeface="Arial"/>
              </a:rPr>
              <a:t>学习了这篇课文，你受到了什么启发？你打算今后怎样向莫泊桑学习？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2324160" y="2038320"/>
            <a:ext cx="186696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讨论交流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1143000" y="1994040"/>
            <a:ext cx="1104840" cy="52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rcRect l="0" t="0" r="0" b="833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 txBox="1"/>
          <p:nvPr/>
        </p:nvSpPr>
        <p:spPr>
          <a:xfrm>
            <a:off x="4495680" y="1676520"/>
            <a:ext cx="37339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9cc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谢谢</a:t>
            </a: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9cc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!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99cc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16" name=""/>
          <p:cNvSpPr/>
          <p:nvPr/>
        </p:nvSpPr>
        <p:spPr>
          <a:xfrm>
            <a:off x="4800600" y="5562720"/>
            <a:ext cx="1365120" cy="2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点此播放视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981080" y="990720"/>
            <a:ext cx="4724640" cy="49528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4643280" y="765000"/>
            <a:ext cx="38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-152280" y="1143000"/>
            <a:ext cx="1539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609480"/>
            <a:ext cx="2438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cc0000"/>
                </a:solidFill>
                <a:latin typeface="Arial"/>
              </a:rPr>
              <a:t>福楼拜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181480" y="1066680"/>
            <a:ext cx="136548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点此播放视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-457200" y="-1143000"/>
            <a:ext cx="9600840" cy="7695360"/>
            <a:chOff x="-457200" y="-1143000"/>
            <a:chExt cx="9600840" cy="7695360"/>
          </a:xfrm>
        </p:grpSpPr>
        <p:pic>
          <p:nvPicPr>
            <p:cNvPr id="50" name="" descr=""/>
            <p:cNvPicPr/>
            <p:nvPr/>
          </p:nvPicPr>
          <p:blipFill>
            <a:blip r:embed="rId1"/>
            <a:srcRect l="0" t="1168" r="0" b="69683"/>
            <a:stretch/>
          </p:blipFill>
          <p:spPr>
            <a:xfrm>
              <a:off x="-457200" y="-1143000"/>
              <a:ext cx="9600840" cy="7683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" descr=""/>
            <p:cNvPicPr/>
            <p:nvPr/>
          </p:nvPicPr>
          <p:blipFill>
            <a:blip r:embed="rId2"/>
            <a:stretch/>
          </p:blipFill>
          <p:spPr>
            <a:xfrm>
              <a:off x="7736400" y="5277960"/>
              <a:ext cx="1241280" cy="127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" name=""/>
          <p:cNvSpPr/>
          <p:nvPr/>
        </p:nvSpPr>
        <p:spPr>
          <a:xfrm>
            <a:off x="1066680" y="838080"/>
            <a:ext cx="7239240" cy="32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三次拜师，每次莫泊桑是如何请教的？福楼拜都说了些什么？结果如何？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4343400"/>
            <a:ext cx="7696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066680" y="0"/>
            <a:ext cx="5867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800000"/>
                </a:solidFill>
                <a:latin typeface="Arial"/>
                <a:ea typeface="黑体"/>
              </a:rPr>
              <a:t>    </a:t>
            </a:r>
            <a:r>
              <a:rPr b="0" lang="zh-CN" sz="4800" spc="-1" strike="noStrike">
                <a:solidFill>
                  <a:srgbClr val="800000"/>
                </a:solidFill>
                <a:latin typeface="Arial"/>
                <a:ea typeface="黑体"/>
              </a:rPr>
              <a:t>自</a:t>
            </a:r>
            <a:r>
              <a:rPr b="1" lang="zh-CN" sz="4800" spc="-1" strike="noStrike">
                <a:solidFill>
                  <a:srgbClr val="800000"/>
                </a:solidFill>
                <a:latin typeface="Arial"/>
              </a:rPr>
              <a:t>读课文，要求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-304920" y="0"/>
            <a:ext cx="2133720" cy="17510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7696080" y="57913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3886200" y="5029200"/>
            <a:ext cx="13651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点此播放视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" restart="whenNotActive" nodeType="interactiveSeq" fill="hold">
                <p:stCondLst>
                  <p:cond evt="onClick">
                    <p:tgtEl>
                      <p:spTgt spid="56"/>
                    </p:tgtEl>
                  </p:cond>
                </p:stCondLst>
                <p:childTnLst>
                  <p:par>
                    <p:cTn id="14" fill="hold">
                      <p:stCondLst>
                        <p:cond evt="onClick">
                          <p:tgtEl>
                            <p:spTgt spid="56"/>
                          </p:tgtEl>
                        </p:cond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283088" fill="hold"/>
                                        <p:tgtEl>
                                          <p:spTgt spid="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"/>
          <p:cNvGrpSpPr/>
          <p:nvPr/>
        </p:nvGrpSpPr>
        <p:grpSpPr>
          <a:xfrm>
            <a:off x="-457200" y="-1143000"/>
            <a:ext cx="9600840" cy="7695360"/>
            <a:chOff x="-457200" y="-1143000"/>
            <a:chExt cx="9600840" cy="7695360"/>
          </a:xfrm>
        </p:grpSpPr>
        <p:pic>
          <p:nvPicPr>
            <p:cNvPr id="59" name="" descr=""/>
            <p:cNvPicPr/>
            <p:nvPr/>
          </p:nvPicPr>
          <p:blipFill>
            <a:blip r:embed="rId1"/>
            <a:srcRect l="0" t="1168" r="0" b="69683"/>
            <a:stretch/>
          </p:blipFill>
          <p:spPr>
            <a:xfrm>
              <a:off x="-457200" y="-1143000"/>
              <a:ext cx="9600840" cy="7683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" name="" descr=""/>
            <p:cNvPicPr/>
            <p:nvPr/>
          </p:nvPicPr>
          <p:blipFill>
            <a:blip r:embed="rId2"/>
            <a:stretch/>
          </p:blipFill>
          <p:spPr>
            <a:xfrm>
              <a:off x="7736400" y="5277960"/>
              <a:ext cx="1241280" cy="127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" name=""/>
          <p:cNvSpPr/>
          <p:nvPr/>
        </p:nvSpPr>
        <p:spPr>
          <a:xfrm>
            <a:off x="1066680" y="838080"/>
            <a:ext cx="7239240" cy="32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三次拜师，每次莫泊桑是如何请教的？福楼拜都说了些什么？结果如何？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5800" y="4343400"/>
            <a:ext cx="7696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66680" y="0"/>
            <a:ext cx="5867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800000"/>
                </a:solidFill>
                <a:latin typeface="Arial"/>
                <a:ea typeface="黑体"/>
              </a:rPr>
              <a:t>    </a:t>
            </a:r>
            <a:r>
              <a:rPr b="0" lang="zh-CN" sz="4800" spc="-1" strike="noStrike">
                <a:solidFill>
                  <a:srgbClr val="800000"/>
                </a:solidFill>
                <a:latin typeface="Arial"/>
                <a:ea typeface="黑体"/>
              </a:rPr>
              <a:t>自</a:t>
            </a:r>
            <a:r>
              <a:rPr b="1" lang="zh-CN" sz="4800" spc="-1" strike="noStrike">
                <a:solidFill>
                  <a:srgbClr val="800000"/>
                </a:solidFill>
                <a:latin typeface="Arial"/>
              </a:rPr>
              <a:t>读课文，要求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-304920" y="0"/>
            <a:ext cx="213372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rcRect l="0" t="1168" r="0" b="69683"/>
          <a:stretch/>
        </p:blipFill>
        <p:spPr>
          <a:xfrm>
            <a:off x="-685800" y="19080"/>
            <a:ext cx="9829800" cy="68389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7543800" y="5435640"/>
            <a:ext cx="1295280" cy="111744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-380880" y="1143000"/>
            <a:ext cx="975348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    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自己读第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至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5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自然段，说说你有什么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发现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-228600" y="326880"/>
            <a:ext cx="1600200" cy="144648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3886200" y="5029200"/>
            <a:ext cx="13651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点此播放视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rcRect l="0" t="1168" r="0" b="69683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7315200" y="5222880"/>
            <a:ext cx="1523880" cy="13161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609480" y="1295280"/>
            <a:ext cx="815364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这个问题很简单，是你的功夫还不到家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。</a:t>
            </a:r>
            <a:br>
              <a:rPr sz="32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33520" y="3733920"/>
            <a:ext cx="8076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66"/>
                </a:solidFill>
                <a:latin typeface="Arial"/>
              </a:rPr>
              <a:t>          </a:t>
            </a:r>
            <a:r>
              <a:rPr b="0" lang="zh-CN" sz="4800" spc="-1" strike="noStrike">
                <a:solidFill>
                  <a:srgbClr val="ff3300"/>
                </a:solidFill>
                <a:latin typeface="Arial"/>
                <a:ea typeface="隶书"/>
              </a:rPr>
              <a:t>（勤学苦练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33520" y="2895480"/>
            <a:ext cx="815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Arial"/>
              </a:rPr>
              <a:t>那——怎样才能使功夫到家呢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809880" y="5562720"/>
            <a:ext cx="1365480" cy="2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点此播放视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-457200" y="-1143000"/>
            <a:ext cx="9600840" cy="7695360"/>
            <a:chOff x="-457200" y="-1143000"/>
            <a:chExt cx="9600840" cy="7695360"/>
          </a:xfrm>
        </p:grpSpPr>
        <p:pic>
          <p:nvPicPr>
            <p:cNvPr id="77" name="" descr=""/>
            <p:cNvPicPr/>
            <p:nvPr/>
          </p:nvPicPr>
          <p:blipFill>
            <a:blip r:embed="rId1"/>
            <a:srcRect l="0" t="1168" r="0" b="69683"/>
            <a:stretch/>
          </p:blipFill>
          <p:spPr>
            <a:xfrm>
              <a:off x="-457200" y="-1143000"/>
              <a:ext cx="9600840" cy="7683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" name="" descr=""/>
            <p:cNvPicPr/>
            <p:nvPr/>
          </p:nvPicPr>
          <p:blipFill>
            <a:blip r:embed="rId2"/>
            <a:stretch/>
          </p:blipFill>
          <p:spPr>
            <a:xfrm>
              <a:off x="7736400" y="5277960"/>
              <a:ext cx="1241280" cy="127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9" name=""/>
          <p:cNvSpPr/>
          <p:nvPr/>
        </p:nvSpPr>
        <p:spPr>
          <a:xfrm>
            <a:off x="1066680" y="838080"/>
            <a:ext cx="7239240" cy="21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4343400"/>
            <a:ext cx="7696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752480" y="1447920"/>
            <a:ext cx="6172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800000"/>
                </a:solidFill>
                <a:latin typeface="Arial"/>
                <a:ea typeface="黑体"/>
              </a:rPr>
              <a:t>    </a:t>
            </a:r>
            <a:r>
              <a:rPr b="0" lang="zh-CN" sz="4800" spc="-1" strike="noStrike">
                <a:solidFill>
                  <a:srgbClr val="800000"/>
                </a:solidFill>
                <a:latin typeface="Arial"/>
                <a:ea typeface="黑体"/>
              </a:rPr>
              <a:t>自</a:t>
            </a:r>
            <a:r>
              <a:rPr b="1" lang="zh-CN" sz="4800" spc="-1" strike="noStrike">
                <a:solidFill>
                  <a:srgbClr val="800000"/>
                </a:solidFill>
                <a:latin typeface="Arial"/>
              </a:rPr>
              <a:t>由第</a:t>
            </a:r>
            <a:r>
              <a:rPr b="1" lang="zh-CN" sz="4800" spc="-1" strike="noStrike">
                <a:solidFill>
                  <a:srgbClr val="800000"/>
                </a:solidFill>
                <a:latin typeface="Arial"/>
              </a:rPr>
              <a:t>7</a:t>
            </a:r>
            <a:r>
              <a:rPr b="1" lang="zh-CN" sz="4800" spc="-1" strike="noStrike">
                <a:solidFill>
                  <a:srgbClr val="800000"/>
                </a:solidFill>
                <a:latin typeface="Arial"/>
              </a:rPr>
              <a:t>自然段，说说你有什么发现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-304920" y="0"/>
            <a:ext cx="213372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rcRect l="0" t="1168" r="0" b="6968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7315200" y="5222880"/>
            <a:ext cx="1523880" cy="131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609480" y="129528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年轻人贵在坚持，才起就是坚持写作的结果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4114800"/>
            <a:ext cx="7238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85800" y="4800600"/>
            <a:ext cx="8001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80880" y="2590920"/>
            <a:ext cx="822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对你所要写的东西，光仔细观察还不够，还要能发现别人没有发现和没有写过的特点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rcRect l="0" t="1168" r="0" b="69683"/>
          <a:stretch/>
        </p:blipFill>
        <p:spPr>
          <a:xfrm>
            <a:off x="-22860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7315200" y="5222880"/>
            <a:ext cx="1523880" cy="13161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380880" y="1447920"/>
            <a:ext cx="838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457200" y="838080"/>
            <a:ext cx="7315200" cy="1523880"/>
            <a:chOff x="457200" y="838080"/>
            <a:chExt cx="7315200" cy="1523880"/>
          </a:xfrm>
        </p:grpSpPr>
        <p:sp>
          <p:nvSpPr>
            <p:cNvPr id="93" name=""/>
            <p:cNvSpPr/>
            <p:nvPr/>
          </p:nvSpPr>
          <p:spPr>
            <a:xfrm>
              <a:off x="457200" y="838080"/>
              <a:ext cx="7315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　　他仔细观察，用心揣摩，积累了许多素材，终于写出了不少有世界影响的名著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295280" y="1447560"/>
              <a:ext cx="62485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33160" y="1904760"/>
              <a:ext cx="70106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33160" y="2361960"/>
              <a:ext cx="15242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istrator</cp:lastModifiedBy>
  <dcterms:modified xsi:type="dcterms:W3CDTF">2013-06-05T09:22:09Z</dcterms:modified>
  <cp:revision>9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