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2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1-02-22T20:26:33.776000000" idx="1">
    <p:pos x="10" y="10"/>
    <p:text/>
  </p:cm>
</p:cmLst>
</file>

<file path=ppt/comments/comment17.xml><?xml version="1.0" encoding="utf-8"?>
<p:cmLst xmlns:p="http://schemas.openxmlformats.org/presentationml/2006/main">
  <p:cm authorId="0" dt="2011-02-22T20:26:37.146000000" idx="2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0C4-20C0-4BEC-8575-F55DFF82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E20-B0AE-4C00-B112-FC72BB0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BEC-32E6-4B76-94B7-A15B2D31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AA9-6FF4-4605-ACFC-781FB305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D2AA-4BEF-4568-A2BF-7A722563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1C8-E846-461B-8329-7CBCE0D6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10CE-5BF0-4592-8783-D181807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1DA1-FA80-4562-941C-81D3FCC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2D9-5AB5-4487-8F23-0D81CA2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F19D-DF45-459C-8D93-B9C35AA4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93B-B3FC-4571-B71E-1FCBBEF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440-205E-41D1-BE30-65E5FE73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7ADA-5509-4712-95C1-E80409C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D6A6-EFC0-44EA-BF27-873023B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9253-7434-4F57-99C0-B19AC0A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7C5-DA16-423A-AE87-23DE99A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49F-2D48-4F50-8DC9-372E91B6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C3D-F0BA-454A-A763-16C4776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1B8-7A52-41FC-981A-1E39EF8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B87-A2A2-48C4-A1D3-5F2C95F4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06D-88E3-4B51-83A9-B554B7B6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03D-887C-409A-B347-9C3A7C0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D65-8FE8-47BE-8682-AD2BBEF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CFB-CE9E-49BE-BF64-F3A3809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1D3-AA2E-4D44-8B34-EF4C3309231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6C64-BD4B-4971-89FF-03E062550FF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video" Target="file:///tmp/home/.config/libreoffice/4/user/gallery/&#24050;&#24405;&#19979;&#30340;&#22768;&#38899;" TargetMode="External"/><Relationship Id="rId5" Type="http://schemas.microsoft.com/office/2007/relationships/media" Target="file:///tmp/home/.config/libreoffice/4/user/gallery/&#24050;&#24405;&#19979;&#30340;&#22768;&#38899;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00360" y="2637000"/>
            <a:ext cx="3611520" cy="96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1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莫泊桑拜师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052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七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、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，不不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怎么能说没有什么东西好写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那富丽堂皇的马车，跟装饰简陋的马车是一样的走法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烈日炎炎下的马车是怎样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狂风暴雨中的马车是怎样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马车上坡时，马怎样用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车下坡时，赶车人怎样吆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他的表情是什么样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这一些你都能写得清楚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你看，怎么会没有什么好写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次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从此，莫泊桑天天在大门口，全神贯注地观察过往的马车，从中获得了丰富的材料，写了一些作品。于是，他再一次去请福楼拜指导。</a:t>
            </a:r>
            <a:br>
              <a:rPr sz="3200"/>
            </a:b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青年人贵在坚持，才气就是坚持写作的结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对你所要写的东西，光仔细观察还不够，还要能发现别人没有发现和没有写过的特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170028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结尾：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莫泊桑把老师的话牢牢记在心头，更加勤奋努力。他仔细观察，用心揣摩，积累了许多素材，终于写出了不少有世界影响的名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3357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557360"/>
            <a:ext cx="7704000" cy="2893320"/>
          </a:xfrm>
          <a:prstGeom prst="rect">
            <a:avLst/>
          </a:prstGeom>
          <a:noFill/>
          <a:ln w="3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阅读着莫泊桑泊桑拜师的经历 ，我们再来看看他的成长足迹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骑马出去一圈，一两个钟头之后回来，记下看到的一切，按此方法锻炼观察力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87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年拜福楼拜为师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88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年正式发表作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1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岁开始写作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岁登上世界文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005360"/>
            <a:ext cx="18716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5013360"/>
            <a:ext cx="2376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2920" y="1773360"/>
            <a:ext cx="74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学了本文，看到这些数据后，你有什么收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福楼拜是一位怎样的老师？莫泊桑是怎样一位学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小练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观察老师抓住特点试说一段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要牢牢记住提高写作水平的必由之路：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①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仔细观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②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发现特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③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善于写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④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贵在坚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03640" y="2708280"/>
            <a:ext cx="300492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2708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说一说课文主要写了什么内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1967040" cy="3279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1197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复习巩固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700360" y="2637000"/>
            <a:ext cx="3611520" cy="96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1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莫泊桑拜师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305080" cy="345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5280" y="1628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福楼拜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中叶法国重要的批判现实主义作家，其作品反映了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48-187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间法国的时代风貌，揭露了丑恶鄙俗的资产阶级社会。他的“客观而无动于衷”的创作理论和精雕细刻的艺术风格，在法国文学史上独树一帜。著名作品有《包法利夫人》、《情感教育》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14632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360" y="1844640"/>
            <a:ext cx="48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后半期法国优秀的批判现实主义作家。一生创作了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部长篇小说和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5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篇中短篇小说，他的文学成就以短篇小说最为突出，被誉为“短篇小说之王”，对后世产生极大影响。著名作品有《项链》、《羊脂球》、《俊友》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作探究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三次分别得到老师的哪些指点呢？从中得到了什么启发和收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学生以小组为单位自学，要求在认真阅读的基础上，抓重点词语品析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一天，莫泊桑带着自已写的文章，去请福楼拜指导。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坦白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说：“老师，我已经读了很多书，为什么写出来的文章总感到不生动呢？”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“这个问题很简单，是你的功夫还不到家。”福楼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截了当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“那——怎样才能使功夫到家呢？”莫泊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切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“这就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吃苦，勤练习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你家门前不是天天都有马车经过吗？你就站在门口，把每天看到的情况，都详详细细地记录下来，而且要长期记下去。”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第二天，莫泊桑真的站在家门口，看了一天大街上来来往往的马车，可是一无所获。接着，他又连续看了两天，还是没有发现什么。万般无奈，莫泊桑只得再次来到老师家。他一进门就说：“我按照您的教导，看了几天马画，没看出什么特殊的东西，那么单调，没有什么好写的。”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0:38:26Z</dcterms:created>
  <dc:creator>微软用户</dc:creator>
  <dc:description/>
  <dc:language>en-US</dc:language>
  <cp:lastModifiedBy>微软用户</cp:lastModifiedBy>
  <dcterms:modified xsi:type="dcterms:W3CDTF">2017-03-18T13:53:57Z</dcterms:modified>
  <cp:revision>42</cp:revision>
  <dc:subject/>
  <dc:title>幻灯片 1</dc:title>
</cp:coreProperties>
</file>