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645-3A2E-4597-8B06-0BB8C8A4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AF8-F5D4-4BE0-A4D6-5C2732E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C3D-A0CE-4EF2-86B2-50B2F7EE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D49-15C5-4C89-92C6-CD6FEA29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1B5-95A5-4C8E-9109-A2BE0677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367-0044-4CA7-8675-6ECF1A3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344-FB46-4874-A142-3EB297A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394-2489-48E9-B272-9C2ACAA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CD5-39B7-4D63-91DD-CE19DA1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396-7B25-422F-B68A-D16CFCB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A73-5CBF-41BF-8D16-504763E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A25-3BD9-4955-8CA8-A3EE20D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CDC4-D7E0-4293-A19D-C9E15C3AB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2637000"/>
            <a:ext cx="3611520" cy="96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1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莫泊桑拜师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052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教版 六年级 语文 下册 第六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162864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了一会儿，都德也来了。他一来就谈起巴黎的事情，讲叙着这个贪图享受、寻欢作乐并十分活跃和愉快的巴黎。他只用几句话，就勾画出某人滑稽的轮廓。他用他那独特的、具有南方风味和吸引人的讽刺口吻谈论着一切事物和一切人…… 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他的头很小却很漂亮，乌木色的浓密卷发从头上一直披到肩上，和卷曲的胡须连成一片；他习惯用手捋着自己的胡子尖。他的眼睛像切开的长缝，眯缝着，但却从中射出一道墨一样的黑光。也许是由于过度近视，他的眼光有时很模糊；讲话时调子有些像唱歌。他举止活跃，手势生动，具有一切南方人的特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42920" y="263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小练笔：学了本文后，你有什么收获？观察马路上来往的行人和车辆，抓住特点试写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03640" y="2708280"/>
            <a:ext cx="3004920" cy="14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141300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会生字，理解生词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、有感情地朗读课文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莫泊桑拜师的故事，知道，仔细观察、不断积累、勤奋练习是提高写作水平的必由之路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课文内容，感受福楼拜的循循善诱和莫泊桑虚心好学、勤学苦练的精神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981000"/>
            <a:ext cx="252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学习目标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305080" cy="345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5280" y="1628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福楼拜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中叶法国重要的批判现实主义作家，其作品反映了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48-187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间法国的时代风貌，揭露了丑恶鄙俗的资产阶级社会。他的“客观而无动于衷”的创作理论和精雕细刻的艺术风格，在法国文学史上独树一帜。著名作品有《包法利夫人》、《情感教育》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146320" cy="324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92360" y="1844640"/>
            <a:ext cx="48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莫泊桑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后半期法国优秀的批判现实主义作家。一生创作了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部长篇小说和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5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篇中短篇小说，他的文学成就以短篇小说最为突出，被誉为“短篇小说之王”，对后世产生极大影响。著名作品有《项链》、《羊脂球》、《俊友》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4000" y="2060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用自己喜欢的方式读课文，想想课文主要写了什么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177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，不不！怎么能说没有什么东西好写呢？那富丽堂皇的马车，跟装饰简陋的马车是一样的走法吗？烈日炎炎下的马车是怎样走的？狂风暴雨中的马车是怎样走的？马车上坡时，马怎样用力？车下坡时，赶车人怎样吆喝？他的表情是什么样的？这一些你都能写得清楚吗？你看，怎么会没有什么好写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2060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那富丽堂皇的马车，跟装饰简陋的马车是一样的走法吗？烈日炎炎下的马车是怎样走的？狂风暴雨中的马车是怎样走的？马车上坡时，马怎样用力？车下坡时，赶车人怎样吆喝？他的表情是什么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青年人贵在坚持，才气就是坚持写作的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对你所要写的东西，光仔细观察还不够，还要能发现别人没有发现和没有写过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1484280"/>
            <a:ext cx="7777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福楼拜家的星期天 （节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屠格涅夫仰坐在一个沙发上，用一种轻轻并有点犹豫的声调慢慢地讲着；但是不管什么事情一经他的嘴讲出，就都带上非凡的魅力和极大的趣味。福楼拜转动着蓝色的大眼睛盯着朋友这张白晳的脸，十分钦佩地听着。当他回答时，他的嗓音特别洪亮，仿佛在他那古高卢斗士式的大胡须下面吹响一把军号。他们的谈话很少涉及日常琐事，总是围绕着文学史方面的事件。屠格涅夫也常常带来一些外文书籍，并非常流利地翻译一些歌德和普希金的诗句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1935360" cy="478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0:38:26Z</dcterms:created>
  <dc:creator>微软用户</dc:creator>
  <dc:description/>
  <dc:language>en-US</dc:language>
  <cp:lastModifiedBy>番茄花园</cp:lastModifiedBy>
  <dcterms:modified xsi:type="dcterms:W3CDTF">2011-11-17T05:53:40Z</dcterms:modified>
  <cp:revision>11</cp:revision>
  <dc:subject/>
  <dc:title>幻灯片 1</dc:title>
</cp:coreProperties>
</file>